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0.gif" ContentType="image/gif"/>
  <Override PartName="/ppt/media/image8.jpeg" ContentType="image/jpeg"/>
  <Override PartName="/ppt/media/image11.png" ContentType="image/png"/>
  <Override PartName="/ppt/media/image19.jpeg" ContentType="image/jpeg"/>
  <Override PartName="/ppt/media/image17.gif" ContentType="image/gif"/>
  <Override PartName="/ppt/media/image2.jpeg" ContentType="image/jpeg"/>
  <Override PartName="/ppt/media/image15.jpeg" ContentType="image/jpeg"/>
  <Override PartName="/ppt/media/image1.gif" ContentType="image/gif"/>
  <Override PartName="/ppt/media/image7.png" ContentType="image/png"/>
  <Override PartName="/ppt/media/image6.png" ContentType="image/png"/>
  <Override PartName="/ppt/media/image3.gif" ContentType="image/gif"/>
  <Override PartName="/ppt/media/image4.jpeg" ContentType="image/jpeg"/>
  <Override PartName="/ppt/media/image13.gif" ContentType="image/gif"/>
  <Override PartName="/ppt/media/image16.png" ContentType="image/png"/>
  <Override PartName="/ppt/media/image18.wmf" ContentType="image/x-wmf"/>
  <Override PartName="/ppt/media/image5.jpeg" ContentType="image/jpeg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DA41-2FEC-4B4B-BB93-01DF34851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2198-B50F-48A3-9162-FF7AB2CD8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DE31-5CD1-49FA-B499-243FB52D1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C51A-BD71-4A5B-98D4-DF080BAAA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7833-CB38-4640-93F6-F8AE87516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837D-5302-47E7-B6D4-D83D47D30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4E00-2A54-4D18-9A3F-5C096EACC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7CBE-4D48-43A8-969B-309B14361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7EAB-CAAC-4248-99FF-ED8AE90E0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1CAD-0699-47DF-A642-00D13A156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40F1-A311-4732-9BFC-9DC9E8AB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C083-8871-482C-B7E5-4847BCC2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1E71C-B92A-4218-9981-838377D5D2E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image" Target="../media/image18.wmf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24000" y="4292640"/>
            <a:ext cx="8496000" cy="24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cc99ff"/>
                </a:solidFill>
                <a:latin typeface="华文新魏"/>
              </a:rPr>
              <a:t>大家好！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cc99ff"/>
              </a:solidFill>
              <a:latin typeface="华文新魏"/>
              <a:ea typeface="华文新魏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145440" cy="6912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84360" y="1916280"/>
            <a:ext cx="77752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4800" spc="-1" strike="noStrike">
                <a:solidFill>
                  <a:srgbClr val="ff33cc"/>
                </a:solidFill>
                <a:latin typeface="Arial"/>
              </a:rPr>
              <a:t>街坊劝他说：“赶快把羊圈修一修，堵上那个窟窿吧。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4800" spc="-1" strike="noStrike">
                <a:solidFill>
                  <a:srgbClr val="3333ff"/>
                </a:solidFill>
                <a:latin typeface="Arial"/>
              </a:rPr>
              <a:t>他说：“羊已经丢了，还修羊圈干什么呢？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0" y="692280"/>
            <a:ext cx="3672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读一读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68360" y="1790640"/>
            <a:ext cx="856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3333ff"/>
                </a:solidFill>
                <a:latin typeface="Arial"/>
              </a:rPr>
              <a:t>他很后悔，不该不接受街坊的劝告，心想，现在修还不晚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5280" y="3301920"/>
            <a:ext cx="871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Arial"/>
              </a:rPr>
              <a:t>        </a:t>
            </a:r>
            <a:r>
              <a:rPr b="1" lang="zh-CN" sz="4800" spc="-1" strike="noStrike">
                <a:solidFill>
                  <a:srgbClr val="3333ff"/>
                </a:solidFill>
                <a:latin typeface="Arial"/>
              </a:rPr>
              <a:t>他赶快堵上那个窟窿，把羊圈修得结结实实的。从此，他的羊再也没丢过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6480" y="4772160"/>
            <a:ext cx="144360" cy="144360"/>
          </a:xfrm>
          <a:prstGeom prst="ellipse">
            <a:avLst/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51280" y="4772160"/>
            <a:ext cx="144360" cy="144360"/>
          </a:xfrm>
          <a:prstGeom prst="ellipse">
            <a:avLst/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427640" y="4757760"/>
            <a:ext cx="144360" cy="144360"/>
          </a:xfrm>
          <a:prstGeom prst="ellipse">
            <a:avLst/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76720" y="4743360"/>
            <a:ext cx="144720" cy="144720"/>
          </a:xfrm>
          <a:prstGeom prst="ellipse">
            <a:avLst/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36960" y="4008600"/>
            <a:ext cx="144360" cy="144360"/>
          </a:xfrm>
          <a:prstGeom prst="ellipse">
            <a:avLst/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14760" y="3994200"/>
            <a:ext cx="144720" cy="144360"/>
          </a:xfrm>
          <a:prstGeom prst="ellipse">
            <a:avLst/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629080" y="360360"/>
            <a:ext cx="4319280" cy="18255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600360" y="1486080"/>
            <a:ext cx="252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9900"/>
                </a:solidFill>
                <a:latin typeface="Arial"/>
                <a:ea typeface="楷体_GB2312"/>
              </a:rPr>
              <a:t>小辩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26920" y="2494080"/>
            <a:ext cx="1209960" cy="1511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-58651920" y="-84348720"/>
            <a:ext cx="15321240" cy="137574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900000" y="4365720"/>
            <a:ext cx="1216080" cy="10922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411280" y="4438800"/>
            <a:ext cx="644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8000"/>
                </a:solidFill>
                <a:latin typeface="Arial"/>
              </a:rPr>
              <a:t>我不喜欢养羊人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11280" y="2781360"/>
            <a:ext cx="565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ff"/>
                </a:solidFill>
                <a:latin typeface="Arial"/>
              </a:rPr>
              <a:t>我喜欢养羊人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ee6"/>
          </a:solidFill>
          <a:ln w="9360">
            <a:solidFill>
              <a:srgbClr val="fafd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27000"/>
            <a:ext cx="3132000" cy="23493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rcRect l="0" t="39189" r="0" b="0"/>
          <a:stretch/>
        </p:blipFill>
        <p:spPr>
          <a:xfrm>
            <a:off x="0" y="4654440"/>
            <a:ext cx="3132000" cy="22305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rcRect l="0" t="0" r="0" b="9196"/>
          <a:stretch/>
        </p:blipFill>
        <p:spPr>
          <a:xfrm>
            <a:off x="0" y="2448000"/>
            <a:ext cx="3132000" cy="21333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276720" y="1628640"/>
            <a:ext cx="5580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cc"/>
                </a:solidFill>
                <a:latin typeface="Arial"/>
              </a:rPr>
              <a:t>       </a:t>
            </a:r>
            <a:r>
              <a:rPr b="0" lang="zh-CN" sz="6000" spc="-1" strike="noStrike">
                <a:solidFill>
                  <a:srgbClr val="ff33cc"/>
                </a:solidFill>
                <a:latin typeface="Arial"/>
              </a:rPr>
              <a:t>这些窟窿就像是我们同学身上的缺点，又该怎么办呢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 rot="19648800">
            <a:off x="601200" y="3693960"/>
            <a:ext cx="4176720" cy="2089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796120" y="6553080"/>
            <a:ext cx="34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教学资源网整理发布：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Http://www.21jiao.ne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10091" r="0" b="0"/>
          <a:stretch/>
        </p:blipFill>
        <p:spPr>
          <a:xfrm>
            <a:off x="1332000" y="0"/>
            <a:ext cx="651672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 rot="4755600">
            <a:off x="1824840" y="3510360"/>
            <a:ext cx="3121200" cy="10843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 rot="16200000">
            <a:off x="2159640" y="2817000"/>
            <a:ext cx="4105440" cy="1440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rcRect l="0" t="37309" r="0" b="0"/>
          <a:stretch/>
        </p:blipFill>
        <p:spPr>
          <a:xfrm>
            <a:off x="0" y="4869000"/>
            <a:ext cx="2711520" cy="1989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rcRect l="9222" t="0" r="0" b="20270"/>
          <a:stretch/>
        </p:blipFill>
        <p:spPr>
          <a:xfrm>
            <a:off x="6300720" y="4984920"/>
            <a:ext cx="2843280" cy="18730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124000" y="1969920"/>
            <a:ext cx="5472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0" spc="-1" strike="noStrike">
                <a:solidFill>
                  <a:srgbClr val="3333ff"/>
                </a:solidFill>
                <a:latin typeface="Arial"/>
              </a:rPr>
              <a:t>窟 窿</a:t>
            </a:r>
            <a:endParaRPr b="0" lang="en-US" sz="1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92360" y="804960"/>
            <a:ext cx="1873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ff33cc"/>
                </a:solidFill>
                <a:latin typeface="Arial"/>
              </a:rPr>
              <a:t>kū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1440" y="804960"/>
            <a:ext cx="3635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ff33cc"/>
                </a:solidFill>
                <a:latin typeface="Arial"/>
              </a:rPr>
              <a:t>long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7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5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395280" y="549360"/>
                <a:ext cx="8280360" cy="718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5400000">
                <a:off x="-71640" y="3176280"/>
                <a:ext cx="5472000" cy="792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1187280" y="0"/>
              <a:ext cx="360072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 txBox="1"/>
            <p:nvPr/>
          </p:nvSpPr>
          <p:spPr>
            <a:xfrm>
              <a:off x="1374840" y="231840"/>
              <a:ext cx="3168720" cy="517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黑体"/>
                </a:rPr>
                <a:t>识字乐园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黑体"/>
                <a:ea typeface="黑体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468360" y="1700280"/>
            <a:ext cx="7993080" cy="40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3333ff"/>
                </a:solidFill>
                <a:latin typeface="Arial"/>
              </a:rPr>
              <a:t>羊圈   窟窿   叼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3333ff"/>
                </a:solidFill>
                <a:latin typeface="Arial"/>
              </a:rPr>
              <a:t>街坊   劝告   后悔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1001880"/>
            <a:ext cx="67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5400" spc="-1" strike="noStrike">
                <a:solidFill>
                  <a:srgbClr val="ff0066"/>
                </a:solidFill>
                <a:latin typeface="Arial"/>
              </a:rPr>
              <a:t>juàn    kū long   diā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2708280"/>
            <a:ext cx="67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0920" y="3645000"/>
            <a:ext cx="84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zh-CN" sz="5400" spc="-1" strike="noStrike">
                <a:solidFill>
                  <a:srgbClr val="ff0066"/>
                </a:solidFill>
                <a:latin typeface="Arial"/>
              </a:rPr>
              <a:t>jiē fang  quàn              hu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-7920" y="12600"/>
            <a:ext cx="9144000" cy="6858000"/>
            <a:chOff x="-7920" y="12600"/>
            <a:chExt cx="9144000" cy="6858000"/>
          </a:xfrm>
        </p:grpSpPr>
        <p:grpSp>
          <p:nvGrpSpPr>
            <p:cNvPr id="68" name=""/>
            <p:cNvGrpSpPr/>
            <p:nvPr/>
          </p:nvGrpSpPr>
          <p:grpSpPr>
            <a:xfrm>
              <a:off x="-7920" y="12600"/>
              <a:ext cx="9144000" cy="6858000"/>
              <a:chOff x="-7920" y="12600"/>
              <a:chExt cx="9144000" cy="6858000"/>
            </a:xfrm>
          </p:grpSpPr>
          <p:pic>
            <p:nvPicPr>
              <p:cNvPr id="6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-7920" y="12600"/>
                <a:ext cx="91440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" name=""/>
              <p:cNvSpPr/>
              <p:nvPr/>
            </p:nvSpPr>
            <p:spPr>
              <a:xfrm>
                <a:off x="387360" y="561960"/>
                <a:ext cx="8280360" cy="718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5400000">
                <a:off x="-79560" y="3188880"/>
                <a:ext cx="5472000" cy="792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2" name="" descr=""/>
            <p:cNvPicPr/>
            <p:nvPr/>
          </p:nvPicPr>
          <p:blipFill>
            <a:blip r:embed="rId2"/>
            <a:stretch/>
          </p:blipFill>
          <p:spPr>
            <a:xfrm>
              <a:off x="1179360" y="12600"/>
              <a:ext cx="360072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 txBox="1"/>
            <p:nvPr/>
          </p:nvSpPr>
          <p:spPr>
            <a:xfrm>
              <a:off x="1366920" y="244440"/>
              <a:ext cx="3168720" cy="517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黑体"/>
                </a:rPr>
                <a:t>识字乐园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黑体"/>
                <a:ea typeface="黑体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460440" y="1712880"/>
            <a:ext cx="7993080" cy="40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3333ff"/>
                </a:solidFill>
                <a:latin typeface="Arial"/>
              </a:rPr>
              <a:t>羊圈   窟窿   叼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3333ff"/>
                </a:solidFill>
                <a:latin typeface="Arial"/>
              </a:rPr>
              <a:t>街坊   劝告   后悔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 rot="3519600">
            <a:off x="4707000" y="4085640"/>
            <a:ext cx="1114560" cy="10969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68360" y="549360"/>
            <a:ext cx="655164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7294680" y="403200"/>
            <a:ext cx="176364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9900"/>
                </a:solidFill>
                <a:latin typeface="华文新魏"/>
              </a:rPr>
              <a:t>读一读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9900"/>
              </a:solidFill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9900"/>
                </a:solidFill>
                <a:latin typeface="华文新魏"/>
              </a:rPr>
              <a:t>想一想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9900"/>
              </a:solidFill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9900"/>
                </a:solidFill>
                <a:latin typeface="华文新魏"/>
              </a:rPr>
              <a:t>议一议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9900"/>
              </a:solidFill>
              <a:latin typeface="华文新魏"/>
              <a:ea typeface="华文新魏"/>
            </a:endParaRPr>
          </a:p>
        </p:txBody>
      </p:sp>
      <p:sp>
        <p:nvSpPr>
          <p:cNvPr id="80" name=""/>
          <p:cNvSpPr/>
          <p:nvPr/>
        </p:nvSpPr>
        <p:spPr>
          <a:xfrm>
            <a:off x="3132000" y="1125360"/>
            <a:ext cx="41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cc"/>
                </a:solidFill>
                <a:latin typeface="Arial"/>
              </a:rPr>
              <a:t>我们一起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476360" y="549360"/>
            <a:ext cx="1655640" cy="1655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2556000" y="41497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539640" y="2349360"/>
            <a:ext cx="792360" cy="7477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332000" y="2205000"/>
            <a:ext cx="60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ff"/>
                </a:solidFill>
                <a:latin typeface="Arial"/>
              </a:rPr>
              <a:t>我用     表示明白的地方，我愿意告诉你。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525600" y="4105440"/>
            <a:ext cx="792000" cy="747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258920" y="4005360"/>
            <a:ext cx="60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00"/>
                </a:solidFill>
                <a:latin typeface="Arial"/>
              </a:rPr>
              <a:t>我用    表示我不懂的问题，我需要你的帮助。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27280" y="2492280"/>
            <a:ext cx="936720" cy="216000"/>
          </a:xfrm>
          <a:custGeom>
            <a:avLst/>
            <a:gdLst/>
            <a:ahLst/>
            <a:rect l="l" t="t" r="r" b="b"/>
            <a:pathLst>
              <a:path w="590" h="136">
                <a:moveTo>
                  <a:pt x="0" y="136"/>
                </a:moveTo>
                <a:cubicBezTo>
                  <a:pt x="11" y="68"/>
                  <a:pt x="23" y="0"/>
                  <a:pt x="46" y="0"/>
                </a:cubicBezTo>
                <a:cubicBezTo>
                  <a:pt x="69" y="0"/>
                  <a:pt x="113" y="136"/>
                  <a:pt x="136" y="136"/>
                </a:cubicBezTo>
                <a:cubicBezTo>
                  <a:pt x="159" y="136"/>
                  <a:pt x="159" y="0"/>
                  <a:pt x="182" y="0"/>
                </a:cubicBezTo>
                <a:cubicBezTo>
                  <a:pt x="205" y="0"/>
                  <a:pt x="249" y="136"/>
                  <a:pt x="272" y="136"/>
                </a:cubicBezTo>
                <a:cubicBezTo>
                  <a:pt x="295" y="136"/>
                  <a:pt x="295" y="0"/>
                  <a:pt x="318" y="0"/>
                </a:cubicBezTo>
                <a:cubicBezTo>
                  <a:pt x="341" y="0"/>
                  <a:pt x="386" y="136"/>
                  <a:pt x="409" y="136"/>
                </a:cubicBezTo>
                <a:cubicBezTo>
                  <a:pt x="432" y="136"/>
                  <a:pt x="431" y="0"/>
                  <a:pt x="454" y="0"/>
                </a:cubicBezTo>
                <a:cubicBezTo>
                  <a:pt x="477" y="0"/>
                  <a:pt x="522" y="136"/>
                  <a:pt x="545" y="136"/>
                </a:cubicBezTo>
                <a:cubicBezTo>
                  <a:pt x="568" y="136"/>
                  <a:pt x="583" y="23"/>
                  <a:pt x="590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3T12:55:05Z</dcterms:created>
  <dc:creator>李华</dc:creator>
  <dc:description/>
  <dc:language>en-US</dc:language>
  <cp:lastModifiedBy>User</cp:lastModifiedBy>
  <dcterms:modified xsi:type="dcterms:W3CDTF">2014-12-04T14:28:29Z</dcterms:modified>
  <cp:revision>14</cp:revision>
  <dc:subject/>
  <dc:title>幻灯片 1</dc:title>
</cp:coreProperties>
</file>