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9.png" ContentType="image/png"/>
  <Override PartName="/ppt/media/image17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119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6B6A-1575-4F33-AC88-1C107078B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43CA-1355-403D-9732-6B0446B7A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B155E0-A9F5-4A41-8E6B-F2BD63D27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53C944-A4AB-40BC-BBF9-7B81E4296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00B0B5-02E6-42AC-B21A-2277523AB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B07FA2-147E-4362-9D5A-DEAD3C9A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A4823D-5485-4F4A-AA03-E1618E28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24193D-85A6-480D-B532-3A2CB72C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523DB0-69FD-4BB2-BDF7-8F7B83C04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2001CA-DF0E-4D36-8CC2-D540EF420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3FC736-B491-4723-822A-9CF90E5BA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47F8CA5-6354-4BAF-9EEC-C69EBF630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823F-CB5B-443C-BF68-C5B85E3DA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DA98C3D-E6F8-4F42-BFF3-511ADAC88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82FE633-DACC-4406-832F-89F0C00F5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F517D94-8C16-4A00-A8B5-7BE7CE729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340F0D0-ABE0-4A07-802C-1C099D7DC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69A71FF-BA75-40D8-9EE4-C659BE900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EBA6216-1F07-45F3-8643-DB0E439C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E20A677-5951-4D90-8272-DFB84374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06BD8C4-B689-4237-82CD-F3F2A2F3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13FC58A-DD44-4BEB-9175-6102D3BBF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8657871-DBBA-4174-96F9-7510103D8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9C02-33B2-420E-803D-01E756D5B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849295F-7D59-4A11-BA3A-05C8C6469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D19A312-30DF-4B5F-85B2-FA5ABD122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16462C7-C5C8-4402-AFBA-D5B2B61B0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9A87FCC-887B-4C9C-B0BF-8F2CEAC9C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3660AB5-FF67-4545-B1BE-28C1CDE21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8C81821-D381-414C-A6D6-B3E68E207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ED9DFE7-7C93-4E06-8B48-DC62F357C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CA58FE5-FA8D-48B3-B1DE-0C168E06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6CBC3B6-76ED-4762-AC4B-2CCC1F85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0ED10B0-982F-4668-8E95-9BEBFFF6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55F27-ABEB-4C5A-991A-672065FAE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E92F7D4-2993-447A-83B3-ECCC97C73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8F6AF22-3517-4839-973B-EA1E99847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2DD3F1D-8B8C-4B85-B17E-EF5571C97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4DD7D48-C687-4BA5-988A-D87E6AF3D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9D68A71-70DA-4791-8F99-3EA16485B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032E576-2860-4AAA-AF76-F7EC18E91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7920F7E-3710-41BE-B70C-65A2A9C40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08A62D5-5DC1-4A40-8D4F-4B1C60B8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B7CB235-C5E3-468D-8B6C-9CDBB7834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1A472AC-2092-4C4D-9C3C-0AC83C00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705D5-0A5B-483A-A7F6-45271FB6F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EEAFC3E-5C21-469D-96D0-4D8CFBA3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541B874-16E2-4402-9435-62EE76EE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201BFA7-D741-416F-83C8-D1409DCD0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D58F706-B1DD-4815-93F1-EAB60B4E9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240CF11-D941-4C70-9B2C-FF0A9FDAF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21C3DEC-112A-44B6-8657-C083CFFB0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F68F844-2B5A-4B48-8C18-FF46C747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8E2BFCF-78FA-4025-9A57-A4C82B159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121CA41-B2B4-4770-A87E-9BC73C3DF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3BA240F-8048-4947-AA2D-4400B5CEA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8AA60-1FAA-40E7-84D3-95E4A463F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642F79B-F506-4C4D-8990-807F22EE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34239E6-28A9-41BD-B35E-F5BFB029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ED5B322-0984-4069-BD67-74D13CD0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CCE92AC-C533-428A-BEF9-C64764D2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282A22C-3F14-4086-81C0-942BD264A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168BA95-AA40-4417-9850-159FCB5B4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668C5DA-BA1E-4A3B-BD3A-7CE2D8D39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6626C52-49BA-4E22-A970-E9E78C610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E882585-4B06-452E-90D0-092475EB6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E79522D-EA02-4C99-9DFD-EE3364FE0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22E1B-1D28-40B3-B4B9-12F2A8B42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547875E-9912-40B3-8B62-4B955048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DCF48CC-4F43-4EFF-AEA4-60B683C59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1F3EDEA-7696-4EC9-8C9F-46FCD6377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10B81C4-68EA-48AD-BF31-1D6CCFF6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2192AB2-6736-4EE5-B87C-7AC306A7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7B0ED04-54E8-45B2-893F-59B86352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0E3D184-1932-483A-A311-943C18C7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228062C-EC36-43A5-B6F0-1A7D7E69B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868A60E-2674-4D9D-BC0E-A2353EB4E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16E4E-2CD1-4DA1-8A05-63BC2966D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74F9F-2900-4F31-AB22-8775CE6AC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9D0DA-754E-4B46-8E6F-638EE45B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DC4A-CA85-45D6-9852-9003D38E8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3238E-2A1F-4C7F-9835-343F5F23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C9E7B-F16A-4055-950F-7E4407D4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12E06-3F71-4E25-9AA3-2B3849801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AB9BE-EE1C-4BC6-8A52-DE5901CE6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CB5A0-4E0D-4B76-B6B6-528FD8233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C34A2-EBEA-4987-9064-298A1F08B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3734C-7161-4046-A727-028767964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4F2BD-5300-4199-A00D-3F3E066A2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B170C-3CD4-4952-A535-04EDAA2C4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3C95C-C56C-4B1E-A287-504701A1C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41D4-0669-45B7-AFF4-9A2D47098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F75B2-F3E1-4BC0-B064-F79BA39EC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396CB-10A2-4DBC-A9BF-6958E981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553DC-B7B7-4B0C-B8A7-342CC689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5692F-59F6-45F1-B726-96D39188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66F1D-AF76-49A7-AC84-65AE7BC97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AFF03-A84F-4E61-A23D-EF73DD3A9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EF07B-7B37-42EA-89D3-4FF5F42A7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463BE0-36D9-4832-83C0-C10A26264BF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1414B4-050D-40AB-AFD7-7807DA05F84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DB8366-9C6D-424A-A06B-E984A4AE74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B925-D927-48D2-9401-55CDD8C3B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B54DA1-2923-4B1E-ACE0-32CE986DB9C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81D640-60B2-4C0D-BD75-7F55B6E3C65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B03F33-A3AE-4E9B-ACAD-252B6150BCF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7BD50E-CE79-4798-99FD-79FDF57F0E8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8EA3F9-38D8-4E34-A680-40FC989405E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63F909-EED3-4FF0-AD82-B624500FA6B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B278E4-8B3E-4A1F-9853-E69BCB2709B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24AF75-746F-46D0-BC9E-3096B9CFA06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33E692-5D8B-466C-92A0-D4694BB4045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33BD4C-010E-4DA7-97C1-5889F31F6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1E99-E15D-457B-85AF-1776094F0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E45388-39A7-4CF8-BA5A-0DA53E901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3DD22A-7647-4DA1-8F9F-62B27A20B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FC7DFB-ACC7-4F3D-BA3E-B808D19B0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C436CE-0CD1-41E5-892B-9492A5A98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2B36CF-68CB-40A8-A238-3D8D9CDDC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9F7A02-83FA-46FA-8D32-4F8E58B3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7548F8-2CDD-4E30-88D1-2A89B046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1228EA-73BE-41C1-B680-03570D1E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8DA137-5B1C-4E28-80BA-84ECDD0D6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A69125-A5A4-4610-999F-8A04064B3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B2E0-8C92-4F27-9889-B23BBC001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DDDCA8-E7DE-4AAE-86CF-168BB1E98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254503-BFAB-4EFE-BDFD-07C45C218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469EEA-6BB0-4E0C-9CCA-3064F0A06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898494-5F30-4F8F-A715-AF07AA0D9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D35971-6B63-4704-8E88-DE7990135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467D96-AF8C-4CC7-B2A6-A40E4B083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E7A681-83C4-4D96-A3B6-BB5684D6A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EE3633-458D-427D-A3BF-312117DC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B7728C-212F-4D75-9ABB-43A93468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DDEC43-67E9-43CB-836B-07B719EA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59A9-C248-4D7B-8C1E-02EAFE0E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2AEBBE-E7EF-4B80-B169-8E8DC5D28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E5B0AA-6882-4E82-8B89-08E645560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3F8CBE-0A3C-46FE-B98D-C19E78FE8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05DE97-9DC4-4E8C-BE99-0A75D1D47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ACEC23-E02D-4EFA-9D10-F779CF9F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83C076-6D23-4878-8E41-AE6925F11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792EB1-3710-4E6A-824A-2E7598EAB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E237A9-1892-4268-BC82-6A851DEE9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607A0D-5BFD-4DE0-9656-94B467474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16F61E-1F4C-4E9F-86DE-E67C84D2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60A5-B724-4229-93CE-511534F7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D392E6-F506-4D79-870C-3F2D5A69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65527E-1444-4AF0-B739-7FA290C7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86DC63-B97D-4BFF-A1F7-6872287BF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C8B717-6D6E-4086-825B-1254FED96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4EEA6B-F574-4ACB-A2D3-62C2F4751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FB5771-CB42-484D-865F-B469716FC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612598-5D87-4657-84D0-AE36EBF83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67CBD2-815A-4ED5-A9CD-B8BD80B3D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DD35DA-F19D-438B-B6C3-6418E1723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D20787-0F92-44BE-9C44-C4F62BDDE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2A97-DCAA-4E80-874F-80A0776B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47C573-F99F-474D-9FB2-4CCC9FC7C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7394DA-DF1A-41A1-8861-AEC34729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384692-7629-4577-8765-1A5679DA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063EB5-14DD-46A4-BCE7-FF2BEF43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68F428-54BA-464D-AC2A-081FD95DC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62F364-88DB-4DE2-88A1-3110DD79E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20699F-E474-4408-A4FB-BAD17FC95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CAE81C-F01B-42E0-AF15-F21546C9E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982E04-E478-4CB3-A8AE-ECB39C52E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2C5A6F-96FC-469F-ADAC-90BEF1E7B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572080"/>
            <a:ext cx="21337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6B3DB-46D7-4F8A-878E-FF5E8A6B04B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572080"/>
            <a:ext cx="289584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572080"/>
            <a:ext cx="21337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439D0-1173-40D2-B0E4-32EB863E11C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9360" y="5629320"/>
            <a:ext cx="9172440" cy="490320"/>
          </a:xfrm>
          <a:prstGeom prst="rect">
            <a:avLst/>
          </a:prstGeom>
          <a:solidFill>
            <a:srgbClr val="4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8" descr="1"/>
          <p:cNvPicPr/>
          <p:nvPr/>
        </p:nvPicPr>
        <p:blipFill>
          <a:blip r:embed="rId2"/>
          <a:stretch/>
        </p:blipFill>
        <p:spPr>
          <a:xfrm>
            <a:off x="5508720" y="5122800"/>
            <a:ext cx="3587760" cy="86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7"/>
          </p:nvPr>
        </p:nvSpPr>
        <p:spPr>
          <a:xfrm>
            <a:off x="45684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CBA75-6DD5-42CB-9D28-73EB9EB9C1F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8"/>
          </p:nvPr>
        </p:nvSpPr>
        <p:spPr>
          <a:xfrm>
            <a:off x="3124080" y="567216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9"/>
          </p:nvPr>
        </p:nvSpPr>
        <p:spPr>
          <a:xfrm>
            <a:off x="655272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0A149-E156-404E-BFDD-37D38868999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0"/>
          </p:nvPr>
        </p:nvSpPr>
        <p:spPr>
          <a:xfrm>
            <a:off x="45684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4BE7D-2188-4F8C-8EEA-1580A7281C4E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1"/>
          </p:nvPr>
        </p:nvSpPr>
        <p:spPr>
          <a:xfrm>
            <a:off x="3124080" y="567216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2"/>
          </p:nvPr>
        </p:nvSpPr>
        <p:spPr>
          <a:xfrm>
            <a:off x="655272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C5E17-910C-41B9-B9C3-FF988D1B173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3"/>
          </p:nvPr>
        </p:nvSpPr>
        <p:spPr>
          <a:xfrm>
            <a:off x="45684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D7A3A-D2C1-4E63-A94A-C63161402FF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4"/>
          </p:nvPr>
        </p:nvSpPr>
        <p:spPr>
          <a:xfrm>
            <a:off x="3124080" y="567216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5"/>
          </p:nvPr>
        </p:nvSpPr>
        <p:spPr>
          <a:xfrm>
            <a:off x="655272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1DDC1-61DA-4B99-BC64-9433FA7F85E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36"/>
          </p:nvPr>
        </p:nvSpPr>
        <p:spPr>
          <a:xfrm>
            <a:off x="45684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C1582-D0FA-492F-BA39-D86A3652494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7"/>
          </p:nvPr>
        </p:nvSpPr>
        <p:spPr>
          <a:xfrm>
            <a:off x="3124080" y="567216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8"/>
          </p:nvPr>
        </p:nvSpPr>
        <p:spPr>
          <a:xfrm>
            <a:off x="655272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CCF40-389A-4D64-ACB3-09E36368CAD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39"/>
          </p:nvPr>
        </p:nvSpPr>
        <p:spPr>
          <a:xfrm>
            <a:off x="45684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2737F-41A3-42E7-9015-5AEDFCC69D2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40"/>
          </p:nvPr>
        </p:nvSpPr>
        <p:spPr>
          <a:xfrm>
            <a:off x="3124080" y="567216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41"/>
          </p:nvPr>
        </p:nvSpPr>
        <p:spPr>
          <a:xfrm>
            <a:off x="655272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02253-8251-4842-B84C-6E8FE40F712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5573520"/>
            <a:ext cx="21337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CC749-DEDA-427B-A6DD-B9962B95480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5573520"/>
            <a:ext cx="289584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5573520"/>
            <a:ext cx="21337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1D42C-2FE1-44B9-AF5D-63CAD14DE92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9248F-14A6-4E80-81E4-7DB89547900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567216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EB129-7F10-4F71-8BB6-2100EA9997B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0"/>
          </p:nvPr>
        </p:nvSpPr>
        <p:spPr>
          <a:xfrm>
            <a:off x="3124080" y="5573520"/>
            <a:ext cx="289584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1"/>
          </p:nvPr>
        </p:nvSpPr>
        <p:spPr>
          <a:xfrm>
            <a:off x="6552720" y="5573520"/>
            <a:ext cx="21337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F151F-2657-47FA-BA27-0F8DBF352C8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2"/>
          </p:nvPr>
        </p:nvSpPr>
        <p:spPr>
          <a:xfrm>
            <a:off x="45684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A383C-A3DF-4E8F-BF8E-FB391421E41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3"/>
          </p:nvPr>
        </p:nvSpPr>
        <p:spPr>
          <a:xfrm>
            <a:off x="3124080" y="567216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4"/>
          </p:nvPr>
        </p:nvSpPr>
        <p:spPr>
          <a:xfrm>
            <a:off x="655272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C68D-8F30-46D4-805F-ADBD073638B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5"/>
          </p:nvPr>
        </p:nvSpPr>
        <p:spPr>
          <a:xfrm>
            <a:off x="45684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FD7BB-9435-4BD7-9381-D96753BB9E3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6"/>
          </p:nvPr>
        </p:nvSpPr>
        <p:spPr>
          <a:xfrm>
            <a:off x="3124080" y="567216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7"/>
          </p:nvPr>
        </p:nvSpPr>
        <p:spPr>
          <a:xfrm>
            <a:off x="655272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BCFB6-FCD2-46D5-9966-98A9167124A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8"/>
          </p:nvPr>
        </p:nvSpPr>
        <p:spPr>
          <a:xfrm>
            <a:off x="45684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47E77-1221-4C27-A979-563E2080EF9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9"/>
          </p:nvPr>
        </p:nvSpPr>
        <p:spPr>
          <a:xfrm>
            <a:off x="3124080" y="567216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0"/>
          </p:nvPr>
        </p:nvSpPr>
        <p:spPr>
          <a:xfrm>
            <a:off x="655272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F2626-0DE8-4A66-A1CA-C3AEADDAA45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1"/>
          </p:nvPr>
        </p:nvSpPr>
        <p:spPr>
          <a:xfrm>
            <a:off x="45684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1F01C-ADC7-4AF5-9231-5DA64F0BBB1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2"/>
          </p:nvPr>
        </p:nvSpPr>
        <p:spPr>
          <a:xfrm>
            <a:off x="3124080" y="567216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3"/>
          </p:nvPr>
        </p:nvSpPr>
        <p:spPr>
          <a:xfrm>
            <a:off x="655272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42703-B866-446C-8E94-3DB227A8E86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4"/>
          </p:nvPr>
        </p:nvSpPr>
        <p:spPr>
          <a:xfrm>
            <a:off x="45684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96947-D410-4CE5-82D4-66D69697EB2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5"/>
          </p:nvPr>
        </p:nvSpPr>
        <p:spPr>
          <a:xfrm>
            <a:off x="3124080" y="567216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6"/>
          </p:nvPr>
        </p:nvSpPr>
        <p:spPr>
          <a:xfrm>
            <a:off x="655272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F36D2-80F3-4B36-ADC8-5A54EBFB6C1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矩形 8"/>
          <p:cNvSpPr/>
          <p:nvPr/>
        </p:nvSpPr>
        <p:spPr>
          <a:xfrm>
            <a:off x="1547640" y="2698920"/>
            <a:ext cx="648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131640" y="3703320"/>
            <a:ext cx="5324760" cy="12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紧急事态应冷静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</a:rPr>
              <a:t>——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微软雅黑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触电急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4"/>
          <p:cNvSpPr/>
          <p:nvPr/>
        </p:nvSpPr>
        <p:spPr>
          <a:xfrm>
            <a:off x="0" y="0"/>
            <a:ext cx="9144000" cy="3273480"/>
          </a:xfrm>
          <a:prstGeom prst="rect">
            <a:avLst/>
          </a:prstGeom>
          <a:solidFill>
            <a:srgbClr val="3333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5"/>
          <p:cNvSpPr/>
          <p:nvPr/>
        </p:nvSpPr>
        <p:spPr>
          <a:xfrm rot="21240000">
            <a:off x="4043520" y="826920"/>
            <a:ext cx="47797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9933"/>
                </a:solidFill>
                <a:latin typeface="Curlz MT"/>
              </a:rPr>
              <a:t>安全教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6" descr="Kids (3)"/>
          <p:cNvPicPr/>
          <p:nvPr/>
        </p:nvPicPr>
        <p:blipFill>
          <a:blip r:embed="rId4"/>
          <a:stretch/>
        </p:blipFill>
        <p:spPr>
          <a:xfrm>
            <a:off x="0" y="1332000"/>
            <a:ext cx="4268880" cy="2832120"/>
          </a:xfrm>
          <a:prstGeom prst="rect">
            <a:avLst/>
          </a:prstGeom>
          <a:ln w="0">
            <a:noFill/>
          </a:ln>
        </p:spPr>
      </p:pic>
      <p:pic>
        <p:nvPicPr>
          <p:cNvPr id="580" name="图片 21" descr="康轩标志.png"/>
          <p:cNvPicPr/>
          <p:nvPr/>
        </p:nvPicPr>
        <p:blipFill>
          <a:blip r:embed="rId5"/>
          <a:stretch/>
        </p:blipFill>
        <p:spPr>
          <a:xfrm>
            <a:off x="171360" y="152280"/>
            <a:ext cx="1279440" cy="22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Group 14"/>
          <p:cNvGrpSpPr/>
          <p:nvPr/>
        </p:nvGrpSpPr>
        <p:grpSpPr>
          <a:xfrm>
            <a:off x="4716360" y="133200"/>
            <a:ext cx="3671640" cy="2987640"/>
            <a:chOff x="4716360" y="133200"/>
            <a:chExt cx="3671640" cy="2987640"/>
          </a:xfrm>
        </p:grpSpPr>
        <p:pic>
          <p:nvPicPr>
            <p:cNvPr id="655" name="Picture 12" descr="t01390963b764844d01"/>
            <p:cNvPicPr/>
            <p:nvPr/>
          </p:nvPicPr>
          <p:blipFill>
            <a:blip r:embed="rId1"/>
            <a:stretch/>
          </p:blipFill>
          <p:spPr>
            <a:xfrm>
              <a:off x="4716360" y="133200"/>
              <a:ext cx="3671640" cy="249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6" name="Rectangle 13"/>
            <p:cNvSpPr/>
            <p:nvPr/>
          </p:nvSpPr>
          <p:spPr>
            <a:xfrm>
              <a:off x="4716360" y="2631240"/>
              <a:ext cx="3671640" cy="489600"/>
            </a:xfrm>
            <a:prstGeom prst="rect">
              <a:avLst/>
            </a:prstGeom>
            <a:solidFill>
              <a:srgbClr val="cfdef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手机引电，雨天户外勿打电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7" name="Group 16"/>
          <p:cNvGrpSpPr/>
          <p:nvPr/>
        </p:nvGrpSpPr>
        <p:grpSpPr>
          <a:xfrm>
            <a:off x="457200" y="133200"/>
            <a:ext cx="3754080" cy="2987640"/>
            <a:chOff x="457200" y="133200"/>
            <a:chExt cx="3754080" cy="2987640"/>
          </a:xfrm>
        </p:grpSpPr>
        <p:pic>
          <p:nvPicPr>
            <p:cNvPr id="658" name="Picture 10" descr="37FB67B68E507DE6C709815FAA11214E"/>
            <p:cNvPicPr/>
            <p:nvPr/>
          </p:nvPicPr>
          <p:blipFill>
            <a:blip r:embed="rId2"/>
            <a:srcRect l="12299" t="5556" r="12299" b="14852"/>
            <a:stretch/>
          </p:blipFill>
          <p:spPr>
            <a:xfrm>
              <a:off x="457200" y="133200"/>
              <a:ext cx="3754080" cy="249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Rectangle 15"/>
            <p:cNvSpPr/>
            <p:nvPr/>
          </p:nvSpPr>
          <p:spPr>
            <a:xfrm>
              <a:off x="457200" y="2624760"/>
              <a:ext cx="3754080" cy="496080"/>
            </a:xfrm>
            <a:prstGeom prst="rect">
              <a:avLst/>
            </a:prstGeom>
            <a:solidFill>
              <a:srgbClr val="cfdef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雷雨时不要游泳划船垂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AutoShape 18"/>
          <p:cNvSpPr/>
          <p:nvPr/>
        </p:nvSpPr>
        <p:spPr>
          <a:xfrm>
            <a:off x="4419720" y="29066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1" name="Group 23"/>
          <p:cNvGrpSpPr/>
          <p:nvPr/>
        </p:nvGrpSpPr>
        <p:grpSpPr>
          <a:xfrm>
            <a:off x="457200" y="3211560"/>
            <a:ext cx="3754080" cy="2908080"/>
            <a:chOff x="457200" y="3211560"/>
            <a:chExt cx="3754080" cy="2908080"/>
          </a:xfrm>
        </p:grpSpPr>
        <p:pic>
          <p:nvPicPr>
            <p:cNvPr id="662" name="Picture 21" descr=""/>
            <p:cNvPicPr/>
            <p:nvPr/>
          </p:nvPicPr>
          <p:blipFill>
            <a:blip r:embed="rId3"/>
            <a:srcRect l="7426" t="45108" r="77433" b="34277"/>
            <a:stretch/>
          </p:blipFill>
          <p:spPr>
            <a:xfrm>
              <a:off x="457200" y="3211560"/>
              <a:ext cx="3754080" cy="25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3" name="Rectangle 22"/>
            <p:cNvSpPr/>
            <p:nvPr/>
          </p:nvSpPr>
          <p:spPr>
            <a:xfrm>
              <a:off x="457200" y="5770440"/>
              <a:ext cx="3754080" cy="349200"/>
            </a:xfrm>
            <a:prstGeom prst="rect">
              <a:avLst/>
            </a:prstGeom>
            <a:solidFill>
              <a:srgbClr val="cfdef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半截电线电缆，切勿赤手触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4" name="Group 27"/>
          <p:cNvGrpSpPr/>
          <p:nvPr/>
        </p:nvGrpSpPr>
        <p:grpSpPr>
          <a:xfrm>
            <a:off x="4716360" y="3354480"/>
            <a:ext cx="3671640" cy="2765160"/>
            <a:chOff x="4716360" y="3354480"/>
            <a:chExt cx="3671640" cy="2765160"/>
          </a:xfrm>
        </p:grpSpPr>
        <p:pic>
          <p:nvPicPr>
            <p:cNvPr id="665" name="Picture 25" descr="1464653531529922"/>
            <p:cNvPicPr/>
            <p:nvPr/>
          </p:nvPicPr>
          <p:blipFill>
            <a:blip r:embed="rId4"/>
            <a:stretch/>
          </p:blipFill>
          <p:spPr>
            <a:xfrm>
              <a:off x="4724280" y="3354480"/>
              <a:ext cx="3663720" cy="24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6" name="Rectangle 26"/>
            <p:cNvSpPr/>
            <p:nvPr/>
          </p:nvSpPr>
          <p:spPr>
            <a:xfrm>
              <a:off x="4716360" y="5770440"/>
              <a:ext cx="3671640" cy="349200"/>
            </a:xfrm>
            <a:prstGeom prst="rect">
              <a:avLst/>
            </a:prstGeom>
            <a:solidFill>
              <a:srgbClr val="cfdef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高压电旁勿玩耍，安全警示多留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2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提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家庭用电保安全，预防为主是关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事故专找马大哈，发生火灾就傻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电路老化早更换，负荷超载多隐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绿色产品节能源，无毒无害无污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购物存好发货票，合法消费学维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使用电式热水器，断电洗浴才保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巡回检查睡觉前，关好门窗关开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Picture 9" descr="8086494_141843605199_2"/>
          <p:cNvPicPr/>
          <p:nvPr/>
        </p:nvPicPr>
        <p:blipFill>
          <a:blip r:embed="rId1"/>
          <a:srcRect l="5541" t="7391" r="7031" b="15364"/>
          <a:stretch/>
        </p:blipFill>
        <p:spPr>
          <a:xfrm>
            <a:off x="5867280" y="1042920"/>
            <a:ext cx="32767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77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9" dur="770" fill="hold"/>
                                        <p:tgtEl>
                                          <p:spTgt spid="6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1" dur="77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3" dur="77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80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80"/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6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6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80"/>
                                        <p:tgtEl>
                                          <p:spTgt spid="6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6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6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80"/>
                                        <p:tgtEl>
                                          <p:spTgt spid="6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6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6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80"/>
                                        <p:tgtEl>
                                          <p:spTgt spid="6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、触电急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130400"/>
            <a:ext cx="822960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使触电者脱离电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抢救触电者的第一步就是使触电者尽快脱离电源，主要方法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Picture 7" descr=""/>
          <p:cNvPicPr/>
          <p:nvPr/>
        </p:nvPicPr>
        <p:blipFill>
          <a:blip r:embed="rId1"/>
          <a:srcRect l="43987" t="49719" r="29105" b="16734"/>
          <a:stretch/>
        </p:blipFill>
        <p:spPr>
          <a:xfrm>
            <a:off x="4910040" y="4203720"/>
            <a:ext cx="3519720" cy="181296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8" descr=""/>
          <p:cNvPicPr/>
          <p:nvPr/>
        </p:nvPicPr>
        <p:blipFill>
          <a:blip r:embed="rId2"/>
          <a:srcRect l="43559" t="13757" r="27903" b="52695"/>
          <a:stretch/>
        </p:blipFill>
        <p:spPr>
          <a:xfrm>
            <a:off x="4716360" y="2273400"/>
            <a:ext cx="3662640" cy="181296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9" descr=""/>
          <p:cNvPicPr/>
          <p:nvPr/>
        </p:nvPicPr>
        <p:blipFill>
          <a:blip r:embed="rId3"/>
          <a:srcRect l="11976" t="49719" r="59864" b="16734"/>
          <a:stretch/>
        </p:blipFill>
        <p:spPr>
          <a:xfrm>
            <a:off x="684360" y="4203720"/>
            <a:ext cx="3682800" cy="181296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0" descr=""/>
          <p:cNvPicPr/>
          <p:nvPr/>
        </p:nvPicPr>
        <p:blipFill>
          <a:blip r:embed="rId4"/>
          <a:srcRect l="12050" t="13757" r="59252" b="52695"/>
          <a:stretch/>
        </p:blipFill>
        <p:spPr>
          <a:xfrm>
            <a:off x="539640" y="2344680"/>
            <a:ext cx="382752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3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6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、触电急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对触电者进行急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当触电者脱离电源后，应根据触电者的具体情况迅速对症救护，力争在触电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分钟内进行正确地救治。，在触电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分钟内进行救治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％以上的患者会有良好的效果，而超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分钟再开始救治，可能就为时已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WordArt 4"/>
          <p:cNvSpPr txBox="1"/>
          <p:nvPr/>
        </p:nvSpPr>
        <p:spPr>
          <a:xfrm>
            <a:off x="2195640" y="3924360"/>
            <a:ext cx="3384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黄金一分钟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、触电急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324000" y="1265400"/>
            <a:ext cx="836280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触电者脱离电源后，一般会出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种症状，应分别进行正确的救治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①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神志清醒，四肢麻木者，应扶到清凉通风处，让其安静休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②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严重灼伤者，应立即送往医院诊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③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神志昏迷，但还有心跳呼吸者，应将其仰卧，解开衣服，保持周围空气流通，严密观察触电者，并迅速拨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急救电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④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呼吸停止，心脏暂时停止跳动，但尚未真正死亡者，应迅速对其进行心肺复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现实案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印度北部城市坎普尔一座火车站上演了一幕让人“惊呆”的急救场面：一只猴子用一系列急救动作，唤醒因触电而失去知觉的同伴。一只猴子在火车站因触碰高压电线而失去知觉，晕倒在铁轨间。另一只猴子赶来后，抬起同伴，摇晃并拍打它的身体，用嘴咬它的头，还把它浸到一个水坑中。大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分钟后，触电的猴子睁开了眼睛，并摇摇晃晃站了起来，带着满身泥水和同伴一起离开了铁轨。在它们离开后不久，一列火车到站，停在了它们之前所在的轨道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WordArt 5"/>
          <p:cNvSpPr txBox="1"/>
          <p:nvPr/>
        </p:nvSpPr>
        <p:spPr>
          <a:xfrm>
            <a:off x="2484360" y="539640"/>
            <a:ext cx="58755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印度一只猴子成功急救触电昏倒同伴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77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1" dur="770" fill="hold"/>
                                        <p:tgtEl>
                                          <p:spTgt spid="6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3" dur="77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5" dur="77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案例分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分析： 人类会用心肺复苏术来抢救生命，猴子作为灵长类动物，天生对其也略懂一二。印度的这只猴子就通过这一系列急救措施唤醒了触电的同伴。 所以，我们在面对触电事故时也要沉着面对，运用科学的方法对触电者进行急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77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2" dur="770" fill="hold"/>
                                        <p:tgtEl>
                                          <p:spTgt spid="6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4" dur="77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6" dur="77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模拟练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777240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做一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教师与学生利用教室、操场，配合假人或木块进行触电急救演习，训练学生的应变反应能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将全班分为几个小组，要求每个小组排练一段触电急救情景小剧场，让观看者寻找场景中是否存在错误行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77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0" dur="770" fill="hold"/>
                                        <p:tgtEl>
                                          <p:spTgt spid="6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2" dur="77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4" dur="77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1" dur="8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2" dur="8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9" dur="80"/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5" dur="80"/>
                                        <p:tgtEl>
                                          <p:spTgt spid="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80"/>
                                        <p:tgtEl>
                                          <p:spTgt spid="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模拟练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想一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如果触电者的心跳和呼吸都已停止，那么应该采取什么方法来挽救触电者的生命？对没有呼吸但心脏有跳动的触电者又该怎样救助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发现有人触电，周围没有合适的绝缘物可用时，该怎么救助触电者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3" dur="80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4" dur="80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80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1" dur="80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80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7" dur="80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8" dur="80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80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Picture 2" descr="1"/>
          <p:cNvPicPr/>
          <p:nvPr/>
        </p:nvPicPr>
        <p:blipFill>
          <a:blip r:embed="rId1"/>
          <a:stretch/>
        </p:blipFill>
        <p:spPr>
          <a:xfrm rot="420000">
            <a:off x="1044360" y="831960"/>
            <a:ext cx="1457280" cy="215244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3" descr="2"/>
          <p:cNvPicPr/>
          <p:nvPr/>
        </p:nvPicPr>
        <p:blipFill>
          <a:blip r:embed="rId2"/>
          <a:stretch/>
        </p:blipFill>
        <p:spPr>
          <a:xfrm>
            <a:off x="6432480" y="3116160"/>
            <a:ext cx="981000" cy="1857600"/>
          </a:xfrm>
          <a:prstGeom prst="rect">
            <a:avLst/>
          </a:prstGeom>
          <a:ln w="0">
            <a:noFill/>
          </a:ln>
        </p:spPr>
      </p:pic>
      <p:sp>
        <p:nvSpPr>
          <p:cNvPr id="692" name="Rectangle 4"/>
          <p:cNvSpPr/>
          <p:nvPr/>
        </p:nvSpPr>
        <p:spPr>
          <a:xfrm>
            <a:off x="2502000" y="1887480"/>
            <a:ext cx="4446360" cy="1287360"/>
          </a:xfrm>
          <a:prstGeom prst="rect">
            <a:avLst/>
          </a:prstGeom>
          <a:solidFill>
            <a:srgbClr val="333333">
              <a:alpha val="80000"/>
            </a:srgbClr>
          </a:solidFill>
          <a:ln cap="rnd" w="255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Curlz MT"/>
                <a:ea typeface="方正稚艺简体"/>
              </a:rPr>
              <a:t>谢谢观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21" descr="康轩标志.png"/>
          <p:cNvPicPr/>
          <p:nvPr/>
        </p:nvPicPr>
        <p:blipFill>
          <a:blip r:embed="rId3"/>
          <a:stretch/>
        </p:blipFill>
        <p:spPr>
          <a:xfrm>
            <a:off x="-6480" y="0"/>
            <a:ext cx="1285920" cy="22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 Box 4"/>
          <p:cNvSpPr/>
          <p:nvPr/>
        </p:nvSpPr>
        <p:spPr>
          <a:xfrm>
            <a:off x="684360" y="43488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Arial"/>
                <a:ea typeface="微软雅黑"/>
              </a:rPr>
              <a:t>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6"/>
          <p:cNvSpPr/>
          <p:nvPr/>
        </p:nvSpPr>
        <p:spPr>
          <a:xfrm>
            <a:off x="-9360" y="5629320"/>
            <a:ext cx="9172440" cy="490320"/>
          </a:xfrm>
          <a:prstGeom prst="rect">
            <a:avLst/>
          </a:prstGeom>
          <a:solidFill>
            <a:srgbClr val="4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7"/>
          <p:cNvSpPr/>
          <p:nvPr/>
        </p:nvSpPr>
        <p:spPr>
          <a:xfrm>
            <a:off x="6480" y="885960"/>
            <a:ext cx="91566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Group 36"/>
          <p:cNvGrpSpPr/>
          <p:nvPr/>
        </p:nvGrpSpPr>
        <p:grpSpPr>
          <a:xfrm>
            <a:off x="1619280" y="1604880"/>
            <a:ext cx="5357520" cy="1021680"/>
            <a:chOff x="1619280" y="1604880"/>
            <a:chExt cx="5357520" cy="1021680"/>
          </a:xfrm>
        </p:grpSpPr>
        <p:grpSp>
          <p:nvGrpSpPr>
            <p:cNvPr id="585" name="Group 27"/>
            <p:cNvGrpSpPr/>
            <p:nvPr/>
          </p:nvGrpSpPr>
          <p:grpSpPr>
            <a:xfrm>
              <a:off x="1619280" y="1604880"/>
              <a:ext cx="979920" cy="1021680"/>
              <a:chOff x="1619280" y="1604880"/>
              <a:chExt cx="979920" cy="1021680"/>
            </a:xfrm>
          </p:grpSpPr>
          <p:sp>
            <p:nvSpPr>
              <p:cNvPr id="586" name="AutoShape 3"/>
              <p:cNvSpPr/>
              <p:nvPr/>
            </p:nvSpPr>
            <p:spPr>
              <a:xfrm>
                <a:off x="1619280" y="1604880"/>
                <a:ext cx="979920" cy="102168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6600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7" name="Picture 9" descr="1"/>
              <p:cNvPicPr/>
              <p:nvPr/>
            </p:nvPicPr>
            <p:blipFill>
              <a:blip r:embed="rId1"/>
              <a:stretch/>
            </p:blipFill>
            <p:spPr>
              <a:xfrm>
                <a:off x="1763280" y="1696680"/>
                <a:ext cx="707760" cy="842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88" name="Line 13"/>
            <p:cNvSpPr/>
            <p:nvPr/>
          </p:nvSpPr>
          <p:spPr>
            <a:xfrm>
              <a:off x="2605680" y="2127960"/>
              <a:ext cx="742320" cy="0"/>
            </a:xfrm>
            <a:prstGeom prst="line">
              <a:avLst/>
            </a:prstGeom>
            <a:ln cap="rnd" w="9360">
              <a:solidFill>
                <a:srgbClr val="ff66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AutoShape 14"/>
            <p:cNvSpPr/>
            <p:nvPr/>
          </p:nvSpPr>
          <p:spPr>
            <a:xfrm>
              <a:off x="3348360" y="1964520"/>
              <a:ext cx="3628440" cy="341280"/>
            </a:xfrm>
            <a:custGeom>
              <a:avLst/>
              <a:gdLst>
                <a:gd name="textAreaLeft" fmla="*/ 0 w 3628440"/>
                <a:gd name="textAreaRight" fmla="*/ 3628800 w 3628440"/>
                <a:gd name="textAreaTop" fmla="*/ 0 h 341280"/>
                <a:gd name="textAreaBottom" fmla="*/ 341640 h 3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120" y="0"/>
                  </a:lnTo>
                  <a:lnTo>
                    <a:pt x="21600" y="10800"/>
                  </a:lnTo>
                  <a:lnTo>
                    <a:pt x="1912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cap="rnd" w="9360">
              <a:solidFill>
                <a:srgbClr val="b2b2b2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一、预防触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Group 30"/>
          <p:cNvGrpSpPr/>
          <p:nvPr/>
        </p:nvGrpSpPr>
        <p:grpSpPr>
          <a:xfrm>
            <a:off x="2068560" y="2955960"/>
            <a:ext cx="5455800" cy="1061640"/>
            <a:chOff x="2068560" y="2955960"/>
            <a:chExt cx="5455800" cy="1061640"/>
          </a:xfrm>
        </p:grpSpPr>
        <p:sp>
          <p:nvSpPr>
            <p:cNvPr id="591" name="AutoShape 2"/>
            <p:cNvSpPr/>
            <p:nvPr/>
          </p:nvSpPr>
          <p:spPr>
            <a:xfrm>
              <a:off x="2068560" y="2955960"/>
              <a:ext cx="996480" cy="10616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99cc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2" name="Picture 10" descr="2"/>
            <p:cNvPicPr/>
            <p:nvPr/>
          </p:nvPicPr>
          <p:blipFill>
            <a:blip r:embed="rId2"/>
            <a:stretch/>
          </p:blipFill>
          <p:spPr>
            <a:xfrm>
              <a:off x="2200320" y="3133440"/>
              <a:ext cx="76356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Line 15"/>
            <p:cNvSpPr/>
            <p:nvPr/>
          </p:nvSpPr>
          <p:spPr>
            <a:xfrm>
              <a:off x="3071880" y="3490560"/>
              <a:ext cx="753480" cy="0"/>
            </a:xfrm>
            <a:prstGeom prst="line">
              <a:avLst/>
            </a:prstGeom>
            <a:ln cap="rnd" w="9360">
              <a:solidFill>
                <a:srgbClr val="99cc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AutoShape 16"/>
            <p:cNvSpPr/>
            <p:nvPr/>
          </p:nvSpPr>
          <p:spPr>
            <a:xfrm>
              <a:off x="3834000" y="3321000"/>
              <a:ext cx="3690360" cy="353160"/>
            </a:xfrm>
            <a:custGeom>
              <a:avLst/>
              <a:gdLst>
                <a:gd name="textAreaLeft" fmla="*/ 0 w 3690360"/>
                <a:gd name="textAreaRight" fmla="*/ 3690720 w 3690360"/>
                <a:gd name="textAreaTop" fmla="*/ 0 h 353160"/>
                <a:gd name="textAreaBottom" fmla="*/ 353520 h 35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120" y="0"/>
                  </a:lnTo>
                  <a:lnTo>
                    <a:pt x="21600" y="10800"/>
                  </a:lnTo>
                  <a:lnTo>
                    <a:pt x="1912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cap="rnd" w="9360">
              <a:solidFill>
                <a:srgbClr val="b2b2b2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二、触电急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5" name="Picture 8" descr="1"/>
          <p:cNvPicPr/>
          <p:nvPr/>
        </p:nvPicPr>
        <p:blipFill>
          <a:blip r:embed="rId3"/>
          <a:stretch/>
        </p:blipFill>
        <p:spPr>
          <a:xfrm>
            <a:off x="5575320" y="0"/>
            <a:ext cx="358776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情景再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265400"/>
            <a:ext cx="822960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现在，随着智能手机的普及，手机已经成为人们生活的必需品。然而，就是与人最为“亲密”的手机，却屡屡导致意外事故的发生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5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日，在浙江义乌某公司员工宿舍内，一名躺在床上的男子被发现触电身亡，他的手中攥着一部正在充电的手机。类似的悲剧并非第一次发生，据媒体报道，手机充电引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事故已经多次发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那么，如何正确用电避免意外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发生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WordArt 5"/>
          <p:cNvSpPr txBox="1"/>
          <p:nvPr/>
        </p:nvSpPr>
        <p:spPr>
          <a:xfrm>
            <a:off x="2700360" y="473040"/>
            <a:ext cx="4619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边充电边玩手机，你还敢吗？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99" name="Picture 7" descr="20151201012416_95100"/>
          <p:cNvPicPr/>
          <p:nvPr/>
        </p:nvPicPr>
        <p:blipFill>
          <a:blip r:embed="rId1"/>
          <a:stretch/>
        </p:blipFill>
        <p:spPr>
          <a:xfrm>
            <a:off x="5357880" y="3270240"/>
            <a:ext cx="351324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77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" dur="770" fill="hold"/>
                                        <p:tgtEl>
                                          <p:spTgt spid="5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" dur="77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" dur="77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8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800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800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800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预防触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随着生活水平的不断提高，生活中用电的地方越来越多，我们越来越离不开电。但是，如果不能做到安全用电，就可能发生触电的危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们有必要掌握以下基本的安全用电常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室内防触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室内用电注意事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3"/>
          <p:cNvGrpSpPr/>
          <p:nvPr/>
        </p:nvGrpSpPr>
        <p:grpSpPr>
          <a:xfrm>
            <a:off x="357120" y="58680"/>
            <a:ext cx="3898440" cy="3029040"/>
            <a:chOff x="357120" y="58680"/>
            <a:chExt cx="3898440" cy="3029040"/>
          </a:xfrm>
        </p:grpSpPr>
        <p:pic>
          <p:nvPicPr>
            <p:cNvPr id="604" name="Picture 11" descr="126638_20150708103317673200_1"/>
            <p:cNvPicPr/>
            <p:nvPr/>
          </p:nvPicPr>
          <p:blipFill>
            <a:blip r:embed="rId1"/>
            <a:srcRect l="15974" t="13402" r="29833" b="13365"/>
            <a:stretch/>
          </p:blipFill>
          <p:spPr>
            <a:xfrm>
              <a:off x="357120" y="58680"/>
              <a:ext cx="3898440" cy="263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Rectangle 12"/>
            <p:cNvSpPr/>
            <p:nvPr/>
          </p:nvSpPr>
          <p:spPr>
            <a:xfrm>
              <a:off x="357120" y="2697480"/>
              <a:ext cx="3898440" cy="390240"/>
            </a:xfrm>
            <a:prstGeom prst="rect">
              <a:avLst/>
            </a:prstGeom>
            <a:solidFill>
              <a:srgbClr val="cfdef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使用电器要把手擦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Group 17"/>
          <p:cNvGrpSpPr/>
          <p:nvPr/>
        </p:nvGrpSpPr>
        <p:grpSpPr>
          <a:xfrm>
            <a:off x="4611600" y="-12600"/>
            <a:ext cx="3960720" cy="3090240"/>
            <a:chOff x="4611600" y="-12600"/>
            <a:chExt cx="3960720" cy="3090240"/>
          </a:xfrm>
        </p:grpSpPr>
        <p:pic>
          <p:nvPicPr>
            <p:cNvPr id="607" name="Picture 15" descr="126638_20150708103322457200_1"/>
            <p:cNvPicPr/>
            <p:nvPr/>
          </p:nvPicPr>
          <p:blipFill>
            <a:blip r:embed="rId2"/>
            <a:srcRect l="23361" t="8517" r="22278" b="16671"/>
            <a:stretch/>
          </p:blipFill>
          <p:spPr>
            <a:xfrm>
              <a:off x="4611600" y="-12600"/>
              <a:ext cx="3960720" cy="272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Rectangle 16"/>
            <p:cNvSpPr/>
            <p:nvPr/>
          </p:nvSpPr>
          <p:spPr>
            <a:xfrm>
              <a:off x="4611600" y="2714040"/>
              <a:ext cx="3960720" cy="363600"/>
            </a:xfrm>
            <a:prstGeom prst="rect">
              <a:avLst/>
            </a:prstGeom>
            <a:solidFill>
              <a:srgbClr val="cfdef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人走关灯断电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Group 21"/>
          <p:cNvGrpSpPr/>
          <p:nvPr/>
        </p:nvGrpSpPr>
        <p:grpSpPr>
          <a:xfrm>
            <a:off x="357120" y="3274920"/>
            <a:ext cx="3898800" cy="2865240"/>
            <a:chOff x="357120" y="3274920"/>
            <a:chExt cx="3898800" cy="2865240"/>
          </a:xfrm>
        </p:grpSpPr>
        <p:pic>
          <p:nvPicPr>
            <p:cNvPr id="610" name="Picture 19" descr="126638_20150708103318855200_1"/>
            <p:cNvPicPr/>
            <p:nvPr/>
          </p:nvPicPr>
          <p:blipFill>
            <a:blip r:embed="rId3"/>
            <a:srcRect l="5889" t="8517" r="14723" b="8369"/>
            <a:stretch/>
          </p:blipFill>
          <p:spPr>
            <a:xfrm>
              <a:off x="357120" y="3274920"/>
              <a:ext cx="3898800" cy="260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Rectangle 20"/>
            <p:cNvSpPr/>
            <p:nvPr/>
          </p:nvSpPr>
          <p:spPr>
            <a:xfrm>
              <a:off x="357120" y="5879160"/>
              <a:ext cx="3898800" cy="261000"/>
            </a:xfrm>
            <a:prstGeom prst="rect">
              <a:avLst/>
            </a:prstGeom>
            <a:solidFill>
              <a:srgbClr val="cfdef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发现问题速断电，不可用水灭火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Group 29"/>
          <p:cNvGrpSpPr/>
          <p:nvPr/>
        </p:nvGrpSpPr>
        <p:grpSpPr>
          <a:xfrm>
            <a:off x="4754520" y="3274920"/>
            <a:ext cx="3960360" cy="2760480"/>
            <a:chOff x="4754520" y="3274920"/>
            <a:chExt cx="3960360" cy="2760480"/>
          </a:xfrm>
        </p:grpSpPr>
        <p:grpSp>
          <p:nvGrpSpPr>
            <p:cNvPr id="613" name="Group 25"/>
            <p:cNvGrpSpPr/>
            <p:nvPr/>
          </p:nvGrpSpPr>
          <p:grpSpPr>
            <a:xfrm>
              <a:off x="4754520" y="3274920"/>
              <a:ext cx="3960000" cy="2760480"/>
              <a:chOff x="4754520" y="3274920"/>
              <a:chExt cx="3960000" cy="2760480"/>
            </a:xfrm>
          </p:grpSpPr>
          <p:pic>
            <p:nvPicPr>
              <p:cNvPr id="614" name="Picture 23" descr="54348_500x500"/>
              <p:cNvPicPr/>
              <p:nvPr/>
            </p:nvPicPr>
            <p:blipFill>
              <a:blip r:embed="rId4"/>
              <a:stretch/>
            </p:blipFill>
            <p:spPr>
              <a:xfrm>
                <a:off x="4754520" y="3274920"/>
                <a:ext cx="3960000" cy="243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5" name="Rectangle 24"/>
              <p:cNvSpPr/>
              <p:nvPr/>
            </p:nvSpPr>
            <p:spPr>
              <a:xfrm>
                <a:off x="4754520" y="5711760"/>
                <a:ext cx="3960000" cy="323640"/>
              </a:xfrm>
              <a:prstGeom prst="rect">
                <a:avLst/>
              </a:prstGeom>
              <a:solidFill>
                <a:srgbClr val="cfdef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安全家电放心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6" name="Text Box 26"/>
            <p:cNvSpPr/>
            <p:nvPr/>
          </p:nvSpPr>
          <p:spPr>
            <a:xfrm>
              <a:off x="5026320" y="3582720"/>
              <a:ext cx="1292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0000"/>
                  </a:solidFill>
                  <a:latin typeface="Arial"/>
                </a:rPr>
                <a:t>厂家授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Text Box 27"/>
            <p:cNvSpPr/>
            <p:nvPr/>
          </p:nvSpPr>
          <p:spPr>
            <a:xfrm>
              <a:off x="5443560" y="4136760"/>
              <a:ext cx="1292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0000"/>
                  </a:solidFill>
                  <a:latin typeface="Arial"/>
                </a:rPr>
                <a:t>防伪标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 Box 28"/>
            <p:cNvSpPr/>
            <p:nvPr/>
          </p:nvSpPr>
          <p:spPr>
            <a:xfrm>
              <a:off x="6939360" y="3400200"/>
              <a:ext cx="177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0000"/>
                  </a:solidFill>
                  <a:latin typeface="Arial"/>
                </a:rPr>
                <a:t>国家标准认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预防触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室内防触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室内用电常见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7" descr="29613168_1386949195561_1024x1024"/>
          <p:cNvPicPr/>
          <p:nvPr/>
        </p:nvPicPr>
        <p:blipFill>
          <a:blip r:embed="rId1"/>
          <a:stretch/>
        </p:blipFill>
        <p:spPr>
          <a:xfrm>
            <a:off x="447840" y="2340000"/>
            <a:ext cx="4052880" cy="2703600"/>
          </a:xfrm>
          <a:prstGeom prst="rect">
            <a:avLst/>
          </a:prstGeom>
          <a:ln w="0">
            <a:noFill/>
          </a:ln>
        </p:spPr>
      </p:pic>
      <p:sp>
        <p:nvSpPr>
          <p:cNvPr id="622" name="Rectangle 8"/>
          <p:cNvSpPr/>
          <p:nvPr/>
        </p:nvSpPr>
        <p:spPr>
          <a:xfrm>
            <a:off x="447840" y="5043600"/>
            <a:ext cx="4052880" cy="422280"/>
          </a:xfrm>
          <a:prstGeom prst="rect">
            <a:avLst/>
          </a:prstGeom>
          <a:solidFill>
            <a:srgbClr val="cfde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电脑电器远离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" name="Group 13"/>
          <p:cNvGrpSpPr/>
          <p:nvPr/>
        </p:nvGrpSpPr>
        <p:grpSpPr>
          <a:xfrm>
            <a:off x="4957920" y="2340000"/>
            <a:ext cx="3906720" cy="3029040"/>
            <a:chOff x="4957920" y="2340000"/>
            <a:chExt cx="3906720" cy="3029040"/>
          </a:xfrm>
        </p:grpSpPr>
        <p:pic>
          <p:nvPicPr>
            <p:cNvPr id="624" name="Picture 10" descr="t013d3295526b6120c7"/>
            <p:cNvPicPr/>
            <p:nvPr/>
          </p:nvPicPr>
          <p:blipFill>
            <a:blip r:embed="rId2"/>
            <a:srcRect l="0" t="0" r="0" b="6466"/>
            <a:stretch/>
          </p:blipFill>
          <p:spPr>
            <a:xfrm>
              <a:off x="4957920" y="2340000"/>
              <a:ext cx="3906720" cy="25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" name="Rectangle 11"/>
            <p:cNvSpPr/>
            <p:nvPr/>
          </p:nvSpPr>
          <p:spPr>
            <a:xfrm>
              <a:off x="5046840" y="4935600"/>
              <a:ext cx="3728880" cy="433440"/>
            </a:xfrm>
            <a:prstGeom prst="rect">
              <a:avLst/>
            </a:prstGeom>
            <a:solidFill>
              <a:srgbClr val="cfdef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校园勿用电热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Group 26"/>
          <p:cNvGrpSpPr/>
          <p:nvPr/>
        </p:nvGrpSpPr>
        <p:grpSpPr>
          <a:xfrm>
            <a:off x="5219640" y="3460680"/>
            <a:ext cx="3467160" cy="2658600"/>
            <a:chOff x="5219640" y="3460680"/>
            <a:chExt cx="3467160" cy="2658600"/>
          </a:xfrm>
        </p:grpSpPr>
        <p:pic>
          <p:nvPicPr>
            <p:cNvPr id="628" name="Picture 24" descr="126638_20150708103318958200_1"/>
            <p:cNvPicPr/>
            <p:nvPr/>
          </p:nvPicPr>
          <p:blipFill>
            <a:blip r:embed="rId1"/>
            <a:srcRect l="17252" t="8517" r="17252" b="16671"/>
            <a:stretch/>
          </p:blipFill>
          <p:spPr>
            <a:xfrm>
              <a:off x="5219640" y="3460680"/>
              <a:ext cx="3467160" cy="23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Rectangle 25"/>
            <p:cNvSpPr/>
            <p:nvPr/>
          </p:nvSpPr>
          <p:spPr>
            <a:xfrm>
              <a:off x="5219640" y="5854320"/>
              <a:ext cx="3467160" cy="264960"/>
            </a:xfrm>
            <a:prstGeom prst="rect">
              <a:avLst/>
            </a:prstGeom>
            <a:solidFill>
              <a:srgbClr val="cfdef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搬动家电要断电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Group 30"/>
          <p:cNvGrpSpPr/>
          <p:nvPr/>
        </p:nvGrpSpPr>
        <p:grpSpPr>
          <a:xfrm>
            <a:off x="5219640" y="244440"/>
            <a:ext cx="3467160" cy="2946600"/>
            <a:chOff x="5219640" y="244440"/>
            <a:chExt cx="3467160" cy="2946600"/>
          </a:xfrm>
        </p:grpSpPr>
        <p:pic>
          <p:nvPicPr>
            <p:cNvPr id="631" name="Picture 28" descr="126638_20150708103315675200_1"/>
            <p:cNvPicPr/>
            <p:nvPr/>
          </p:nvPicPr>
          <p:blipFill>
            <a:blip r:embed="rId2"/>
            <a:srcRect l="14723" t="8517" r="22278" b="15018"/>
            <a:stretch/>
          </p:blipFill>
          <p:spPr>
            <a:xfrm>
              <a:off x="5219640" y="244440"/>
              <a:ext cx="3467160" cy="26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Rectangle 29"/>
            <p:cNvSpPr/>
            <p:nvPr/>
          </p:nvSpPr>
          <p:spPr>
            <a:xfrm>
              <a:off x="5219640" y="2850840"/>
              <a:ext cx="3467160" cy="340200"/>
            </a:xfrm>
            <a:prstGeom prst="rect">
              <a:avLst/>
            </a:prstGeom>
            <a:solidFill>
              <a:srgbClr val="cfdef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插座避免多家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34"/>
          <p:cNvGrpSpPr/>
          <p:nvPr/>
        </p:nvGrpSpPr>
        <p:grpSpPr>
          <a:xfrm>
            <a:off x="887400" y="3460680"/>
            <a:ext cx="3623760" cy="2658600"/>
            <a:chOff x="887400" y="3460680"/>
            <a:chExt cx="3623760" cy="2658600"/>
          </a:xfrm>
        </p:grpSpPr>
        <p:pic>
          <p:nvPicPr>
            <p:cNvPr id="634" name="Picture 32" descr="2009042015372875"/>
            <p:cNvPicPr/>
            <p:nvPr/>
          </p:nvPicPr>
          <p:blipFill>
            <a:blip r:embed="rId3"/>
            <a:srcRect l="15237" t="8982" r="10702" b="8924"/>
            <a:stretch/>
          </p:blipFill>
          <p:spPr>
            <a:xfrm>
              <a:off x="887400" y="3460680"/>
              <a:ext cx="3623760" cy="229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Rectangle 33"/>
            <p:cNvSpPr/>
            <p:nvPr/>
          </p:nvSpPr>
          <p:spPr>
            <a:xfrm>
              <a:off x="887400" y="5751000"/>
              <a:ext cx="3623760" cy="368280"/>
            </a:xfrm>
            <a:prstGeom prst="rect">
              <a:avLst/>
            </a:prstGeom>
            <a:solidFill>
              <a:srgbClr val="cfdef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湿衣服不可用电暖气烘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6" name="Group 38"/>
          <p:cNvGrpSpPr/>
          <p:nvPr/>
        </p:nvGrpSpPr>
        <p:grpSpPr>
          <a:xfrm>
            <a:off x="887400" y="0"/>
            <a:ext cx="3539880" cy="3191040"/>
            <a:chOff x="887400" y="0"/>
            <a:chExt cx="3539880" cy="3191040"/>
          </a:xfrm>
        </p:grpSpPr>
        <p:pic>
          <p:nvPicPr>
            <p:cNvPr id="637" name="Picture 36" descr="2014072112064410210"/>
            <p:cNvPicPr/>
            <p:nvPr/>
          </p:nvPicPr>
          <p:blipFill>
            <a:blip r:embed="rId4"/>
            <a:srcRect l="6741" t="0" r="20243" b="0"/>
            <a:stretch/>
          </p:blipFill>
          <p:spPr>
            <a:xfrm>
              <a:off x="887400" y="0"/>
              <a:ext cx="3539880" cy="281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Rectangle 37"/>
            <p:cNvSpPr/>
            <p:nvPr/>
          </p:nvSpPr>
          <p:spPr>
            <a:xfrm>
              <a:off x="887400" y="2816280"/>
              <a:ext cx="3539880" cy="374760"/>
            </a:xfrm>
            <a:prstGeom prst="rect">
              <a:avLst/>
            </a:prstGeom>
            <a:solidFill>
              <a:srgbClr val="cfdef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严禁私接电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预防触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户外防触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户外注意事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1" name="Group 9"/>
          <p:cNvGrpSpPr/>
          <p:nvPr/>
        </p:nvGrpSpPr>
        <p:grpSpPr>
          <a:xfrm>
            <a:off x="611280" y="2340000"/>
            <a:ext cx="4105080" cy="2868480"/>
            <a:chOff x="611280" y="2340000"/>
            <a:chExt cx="4105080" cy="2868480"/>
          </a:xfrm>
        </p:grpSpPr>
        <p:pic>
          <p:nvPicPr>
            <p:cNvPr id="642" name="Picture 7" descr="327394_700135"/>
            <p:cNvPicPr/>
            <p:nvPr/>
          </p:nvPicPr>
          <p:blipFill>
            <a:blip r:embed="rId1"/>
            <a:srcRect l="0" t="0" r="0" b="8874"/>
            <a:stretch/>
          </p:blipFill>
          <p:spPr>
            <a:xfrm>
              <a:off x="611280" y="2340000"/>
              <a:ext cx="4105080" cy="24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Rectangle 8"/>
            <p:cNvSpPr/>
            <p:nvPr/>
          </p:nvSpPr>
          <p:spPr>
            <a:xfrm>
              <a:off x="611280" y="4788000"/>
              <a:ext cx="4105080" cy="420480"/>
            </a:xfrm>
            <a:prstGeom prst="rect">
              <a:avLst/>
            </a:prstGeom>
            <a:solidFill>
              <a:srgbClr val="cfdef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晴天晾衣晒被远离电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4" name="Group 13"/>
          <p:cNvGrpSpPr/>
          <p:nvPr/>
        </p:nvGrpSpPr>
        <p:grpSpPr>
          <a:xfrm>
            <a:off x="5210280" y="960480"/>
            <a:ext cx="3476520" cy="4248000"/>
            <a:chOff x="5210280" y="960480"/>
            <a:chExt cx="3476520" cy="4248000"/>
          </a:xfrm>
        </p:grpSpPr>
        <p:pic>
          <p:nvPicPr>
            <p:cNvPr id="645" name="Picture 11" descr="t015fdba71e0416ab0d"/>
            <p:cNvPicPr/>
            <p:nvPr/>
          </p:nvPicPr>
          <p:blipFill>
            <a:blip r:embed="rId2"/>
            <a:stretch/>
          </p:blipFill>
          <p:spPr>
            <a:xfrm>
              <a:off x="5210280" y="960480"/>
              <a:ext cx="3476520" cy="38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6" name="Rectangle 12"/>
            <p:cNvSpPr/>
            <p:nvPr/>
          </p:nvSpPr>
          <p:spPr>
            <a:xfrm>
              <a:off x="5210280" y="4770360"/>
              <a:ext cx="3476520" cy="438120"/>
            </a:xfrm>
            <a:prstGeom prst="rect">
              <a:avLst/>
            </a:prstGeom>
            <a:solidFill>
              <a:srgbClr val="cfdef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电闪雷鸣快进屋，勿躲树下等雷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预防触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户外防触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户外常见触电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9" name="Group 10"/>
          <p:cNvGrpSpPr/>
          <p:nvPr/>
        </p:nvGrpSpPr>
        <p:grpSpPr>
          <a:xfrm>
            <a:off x="3924360" y="755640"/>
            <a:ext cx="3809880" cy="4422960"/>
            <a:chOff x="3924360" y="755640"/>
            <a:chExt cx="3809880" cy="4422960"/>
          </a:xfrm>
        </p:grpSpPr>
        <p:pic>
          <p:nvPicPr>
            <p:cNvPr id="650" name="Picture 8" descr="00301610946_d08f8618"/>
            <p:cNvPicPr/>
            <p:nvPr/>
          </p:nvPicPr>
          <p:blipFill>
            <a:blip r:embed="rId1"/>
            <a:stretch/>
          </p:blipFill>
          <p:spPr>
            <a:xfrm>
              <a:off x="3924360" y="755640"/>
              <a:ext cx="3809880" cy="395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Rectangle 9"/>
            <p:cNvSpPr/>
            <p:nvPr/>
          </p:nvSpPr>
          <p:spPr>
            <a:xfrm>
              <a:off x="3924360" y="4711680"/>
              <a:ext cx="3809880" cy="466920"/>
            </a:xfrm>
            <a:prstGeom prst="rect">
              <a:avLst/>
            </a:prstGeom>
            <a:solidFill>
              <a:srgbClr val="cfdef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钓鱼玩耍放风筝，远离电线无险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ppt宝藏</dc:creator>
  <dc:description/>
  <cp:keywords/>
  <dc:language>en-US</dc:language>
  <cp:lastModifiedBy>m1508027</cp:lastModifiedBy>
  <dcterms:modified xsi:type="dcterms:W3CDTF">2016-07-12T06:13:37Z</dcterms:modified>
  <cp:revision>57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039</vt:lpwstr>
  </property>
</Properties>
</file>