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9.png" ContentType="image/png"/>
  <Override PartName="/ppt/media/image22.jpeg" ContentType="image/jpeg"/>
  <Override PartName="/ppt/media/image23.jpeg" ContentType="image/jpeg"/>
  <Override PartName="/ppt/media/image24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08A-BD31-424F-9770-5B1F78E9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E27-1BBF-4A13-921F-4D7CC465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7A8192-25CB-49C3-9D52-0182AD0E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3296C8-E3B5-452D-A5C3-245622AC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A34084-BA1D-46F0-97CA-4FE5961F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C01C76-FAB4-4DE3-AAF2-1DE59332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50ED21-2E0E-44C7-B50C-6BD5BC38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DC90B2-68F9-4577-8138-E544583D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E8DE0B-A0AA-41C8-A975-1BBEB068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25DE16-853A-41BB-9E70-908A1844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6CB471-B533-4B8D-83F8-B0BB1245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10C0E6-4701-400C-AC58-F1FABD6E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B0C-1743-4A96-B84D-6968488F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4D91AC-94BC-4A9C-94C7-48122DB4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B9D794-39F8-4412-A498-F1B09706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908331-8168-4026-BD4A-A4C73422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AEEEB6-007E-43F4-959F-13281234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830E80-5109-47AA-82C7-9EE8CE54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0C7D72-EEFD-44B2-A963-CC4CF5A6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B2E1F5-18D8-480A-BBAD-5F291210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9ADAE2-1D8A-4083-A55B-C22AEC0F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66C053-0F30-49F6-9482-5AA3BF9B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F8D468-47AE-4A71-B343-B1B067A0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BF6-B584-4617-A6AF-2F03F909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1FB1BA-ECF3-4A94-BAE3-051B7EBE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A740BE-C321-4BDE-ABBB-F692905C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998071-FFCC-4853-9B8D-969DD2C2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83BCAA-B14B-44D5-88F9-783BF38C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2CC7AF-F74B-4388-A549-8163CD0C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861D54-DFD8-4E54-A220-BC74D3B9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445636-788B-4B37-A02D-B8416FD6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5BD90D-B0F9-42AB-AD08-E5DBC40E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97E4AC-8159-4A34-AECE-1FBF928C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F9E1B0-D6BB-499E-9526-CCA868B1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FC9E-5572-4B5D-87EE-6E8BC318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5D300D-1687-4CB2-8D58-F09FAE8A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76C58C-60EC-4058-ACDE-1394313C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E45774-59EA-4E86-88C7-E8EA762D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040AB1-4329-4396-9101-0A6876DF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703657-DBEA-4A2C-B0AB-4D7EFB63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193FF0-C8A9-4383-809A-0513D17B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4B16D3-7664-4A23-AA4B-2DFA5B59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A35621-1993-4F01-9DCA-E983CA2E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5DAD2C-DD4F-4211-AB6D-A209300B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278220-1F21-4D52-9D9C-AD77292D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04B1-E379-43B3-AE5D-DA6D0F20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C2D9FF-5DBD-4D2B-A60A-8A357246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D84C55-BF45-496A-992D-53018B46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73C6E9-6E74-4731-94C7-C80B1449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3C06E8-C893-423E-8034-171A3287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3275C0-DD77-4C1D-A014-69A69573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A85DB6-06E0-4F8D-96E7-01080F66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262B59-6818-41A0-B0D4-884A8101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CAEC0D-84D7-44BF-86F5-D4F0D056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912A85-5AE9-4EAF-BD1A-779B4D83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364B92-F5D4-469C-AF50-B4B61B65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EC99-66FA-4AB5-A48E-485599E7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89D614-ECEE-4204-A906-8D2C6D42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9DF609-84D1-4BED-A011-158BB878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44ED24-0D07-4982-BF54-B438A709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74E8A1-B137-4A12-86CD-2215FEB5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061873-4041-4412-94C4-AF63DB75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560EA1-9261-44D4-874F-C4CBAF22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89C6F1-3327-4CAE-A094-AD319086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79F8-E25E-4E3A-9F6D-3E819AE2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DCF2-7A72-4CE0-9A03-E313BC43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CA17-E844-4F0F-8007-83D62A15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641E-ADC0-41B1-9BD7-52E3B83E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1D5-0AE6-4F62-B96A-801D1602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D458-73DD-4D09-9EA3-E15039EA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69E0-AFFA-4B61-8ACC-FF6A7FF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9DD5-FD43-4683-B78A-7CECA0A7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ADA1-706A-4675-84F6-EF1FED53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CFFF-60C3-4BBC-B456-F7E38689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F077E-D103-494F-8257-1798FB6343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4F457-8FFE-4BD9-80E7-5CFFBE34FA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DD963-47ED-4B8F-AB00-53C0C61855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06C2F-16DE-458B-BACF-8FF1FACE8E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0C9DE-1756-41EA-A800-5F50E5EDE0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424-4E4B-4423-AB89-B6FD05E3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61C3F-C21F-440D-964C-465AF1AAFF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F6F00-2670-4A8C-B9A0-D86622214A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C4D9F-8B66-4460-8BC6-3E95D5CB3F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30A5C-B989-4464-9722-6656CE90FE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CFA45-1BA1-41C8-9570-57F3E0CCEC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E04E6-C801-4BC8-947C-9F172472EF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6FF82-2295-4E71-9215-982D2BB83D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59F493-8C24-4B95-84A4-D37049AA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44FE1-5DC3-44D5-8474-E2BF77DB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4260F-88D1-442C-93B5-AB743588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973-0E60-4753-B1FE-BFD669CB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7EBED0-88A7-4B1E-B174-70E8FD03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B21A2-93EB-4623-8EE6-1D4A5D25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58AAD-C1A2-4502-8268-CD7A953B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21602-C43C-43E7-B3DB-21B2930B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D6FF24-908A-4427-9418-7FABCF4E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8C25A9-2F3D-4F4C-A211-61F1A2D8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0F3DC-5B58-455A-B933-25E07A00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6BA7B8-F4BE-4621-B075-95FFD3FD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16D05-FAD2-4A3F-ADC2-A4EE9A5E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3216B-237B-4C34-9CD5-8692182B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005-4079-422F-B766-C64A0B44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3515F-3383-4687-8CB8-B03F0979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C54C0-E74C-4734-9FA8-9E8E17D9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7579D-AF5D-44DE-8973-321C2214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670B9-0F85-4336-A512-EBAE59AD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04C5F-1F44-492B-92C1-CC14F728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2BFFF-767F-4574-B99D-FF1D12CB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3227F-F815-4111-B8B5-C8513D8B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A80CE-4206-4294-AA67-166AE733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7E059-0FBD-45DB-913F-021CF9E9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4CBEBC-7B93-41DE-A12C-F0A0A30C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2A7-4DBD-4167-BBAA-F3171776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99CB6-6EDB-451D-A4EF-390A872B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CED0EA-AE7F-486A-847F-444F9376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1D5D2D-DF2D-49D6-B8DB-AD900B28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B6D05-D986-4E5C-AD77-9C4A8411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27536-09FD-4013-B42D-4C278588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89B8D-57E7-42E5-99AC-5F698187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7B8EE4-D28C-4003-ACFB-E974140F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2C700-E1E5-493E-AD90-B2DFE88C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8D9387-AD92-4899-BE13-9410D305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1DFB40-570A-42E0-BE6E-8CEC21FD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974-5D3B-4AFC-A58A-E5DAE591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3A401C-0509-407D-911A-C857251C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E76EDF-174F-40CD-9B6E-E17993AF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75E87-0871-45E2-B1CA-2B0268B1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57820-6FBD-4E6F-A4FC-A88BAC8F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52420-BF02-4EAE-8656-06963C3D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F9CF17-C10C-4186-AD1D-4FB0A901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4E93D9-F8E4-4C94-8503-2B1EC704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154B9-7A7C-48F5-B5B7-EF4597CF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3CD078-C069-444B-85AE-8A922F32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4FB67-1239-4D0B-96BD-1213DC86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2A2-3F86-4E7C-818B-223C5CC6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FD10A7-C49D-4C06-8698-C104FA5E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7EE8A4-75B6-48E8-8E4E-3B92C121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C03A5A-C58C-4067-B61E-D779A7CC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86FC2-4BBE-48FF-82D5-6D8298F4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8114A-4B87-4367-9A3F-D11CBDBC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631307-5E19-4ECF-B104-FFB0B0C7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2B102D-23B3-44EF-AE5E-11DEA01E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E43768-008E-4619-A50C-E0ECAD47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B8FEEA-03BD-47BE-9C9C-9D4E519D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D174CD-5BF4-4617-917C-6CAEFE45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D30-84DF-4B05-8B42-9B94E6EF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0BAB33-6BBE-46AE-BAC6-E24C7C35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C2A0CA-388B-4C55-A6F9-F95098DF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AC294D-6EED-48A8-94D0-8C410203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53883D-8157-4B3B-94B8-DC4DA2B7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CFDEEA-D463-451A-8AF4-522CFF29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675FC7-1046-4BD2-A72F-F01ED3B2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8B7BB5-CB83-4F27-A387-413B1ED1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CE33A5-FA79-4904-ACF5-81C515D2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D0C362-18FE-46F2-936D-016DB235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6535E5-8762-4A70-9C13-099557FE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9A31-9BD9-493E-8DFB-96ECFAF95C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A0E8-0A0B-4548-B66F-CCE131EADB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0805-BE7B-4A4C-86AE-098774E29D1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A840-96C8-4D20-B6AF-57499959E2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85A4-85C2-4AAD-8E39-6F3A79C685D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6223-7D8E-4D9E-94E7-D509AB774D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3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2AD9-218E-4162-91C2-A3D72C24DD9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4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5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6979-F4F3-4BA2-98B9-A5FF2C46C6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6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7BAD-B41D-48E2-AAD5-A9661DBF669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7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8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27C8-9C1D-425F-9908-7506D9FF7A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F9E5-5DB9-42C7-B16F-9F2D3767AD8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DA4E-E470-41DA-9C14-CAF8BFAEEE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30B3-67AE-444E-AF86-092ABAA739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D29A-3DE5-4A6A-AEF4-B8D9A7165E7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BFD1-568D-413D-A0F0-A68A4FC6E2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2B0C-8BC5-4A18-9DFF-F3BB7F10D36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7F87-48F5-4BB6-BDC5-353CEC0315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50F5-A5D3-4F7F-92FC-B2CBD7C6086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3DFB-FD4C-4E45-BDDB-F71E57D446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BAEF-7DF6-48BC-9441-899227D82E2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A8DA-B8A7-4BE6-957F-5136983817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9451-6A5E-4D3C-8E3A-2CA5046F39D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23A9-5781-401C-B710-993CEC699C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2F6A-753C-4802-A188-60D70A08838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A997-0E3E-4101-AE04-2B4B18C0C8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8"/>
          <p:cNvSpPr/>
          <p:nvPr/>
        </p:nvSpPr>
        <p:spPr>
          <a:xfrm>
            <a:off x="1547640" y="269892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131640" y="3780000"/>
            <a:ext cx="4892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虚拟世界必谨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——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网络游戏勿沉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0"/>
            <a:ext cx="9144000" cy="3273480"/>
          </a:xfrm>
          <a:prstGeom prst="rect">
            <a:avLst/>
          </a:prstGeom>
          <a:solidFill>
            <a:srgbClr val="3333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 rot="21240000">
            <a:off x="4043520" y="826920"/>
            <a:ext cx="4779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33"/>
                </a:solidFill>
                <a:latin typeface="Curlz MT"/>
              </a:rPr>
              <a:t>安全教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Kids (3)"/>
          <p:cNvPicPr/>
          <p:nvPr/>
        </p:nvPicPr>
        <p:blipFill>
          <a:blip r:embed="rId2"/>
          <a:stretch/>
        </p:blipFill>
        <p:spPr>
          <a:xfrm>
            <a:off x="0" y="1332000"/>
            <a:ext cx="4268880" cy="283212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21" descr="康轩标志.png"/>
          <p:cNvPicPr/>
          <p:nvPr/>
        </p:nvPicPr>
        <p:blipFill>
          <a:blip r:embed="rId3"/>
          <a:stretch/>
        </p:blipFill>
        <p:spPr>
          <a:xfrm>
            <a:off x="171360" y="152280"/>
            <a:ext cx="1279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一、正确看待网络游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、网络游戏成瘾的坏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道德认知模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因为玩网络游戏，引发道德失范，行为越轨，甚至违法犯罪的问题逐渐增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53058967"/>
          <p:cNvPicPr/>
          <p:nvPr/>
        </p:nvPicPr>
        <p:blipFill>
          <a:blip r:embed="rId1"/>
          <a:stretch/>
        </p:blipFill>
        <p:spPr>
          <a:xfrm>
            <a:off x="0" y="3059280"/>
            <a:ext cx="4643280" cy="30859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2" descr="20140730703"/>
          <p:cNvPicPr/>
          <p:nvPr/>
        </p:nvPicPr>
        <p:blipFill>
          <a:blip r:embed="rId2"/>
          <a:stretch/>
        </p:blipFill>
        <p:spPr>
          <a:xfrm>
            <a:off x="4643280" y="2957400"/>
            <a:ext cx="45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一、正确看待网络游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、网络游戏成瘾的坏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影响学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学生沉迷网络游戏，影响学业，甚至可能厌恶现实学习生活，逃学辍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" descr="7916797080802675290"/>
          <p:cNvPicPr/>
          <p:nvPr/>
        </p:nvPicPr>
        <p:blipFill>
          <a:blip r:embed="rId1"/>
          <a:srcRect l="0" t="0" r="0" b="13734"/>
          <a:stretch/>
        </p:blipFill>
        <p:spPr>
          <a:xfrm>
            <a:off x="3276720" y="2668680"/>
            <a:ext cx="56196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一、正确看待网络游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、网络游戏成瘾的坏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影响家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家庭若出现网络成瘾的孩子，将家无宁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5" descr="333-150FQ142394a"/>
          <p:cNvPicPr/>
          <p:nvPr/>
        </p:nvPicPr>
        <p:blipFill>
          <a:blip r:embed="rId1"/>
          <a:stretch/>
        </p:blipFill>
        <p:spPr>
          <a:xfrm>
            <a:off x="0" y="2843280"/>
            <a:ext cx="4476600" cy="3252600"/>
          </a:xfrm>
          <a:prstGeom prst="rect">
            <a:avLst/>
          </a:prstGeom>
          <a:ln w="0">
            <a:noFill/>
          </a:ln>
        </p:spPr>
      </p:pic>
      <p:sp>
        <p:nvSpPr>
          <p:cNvPr id="594" name="AutoShape 7"/>
          <p:cNvSpPr/>
          <p:nvPr/>
        </p:nvSpPr>
        <p:spPr>
          <a:xfrm>
            <a:off x="4419720" y="29066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9"/>
          <p:cNvSpPr/>
          <p:nvPr/>
        </p:nvSpPr>
        <p:spPr>
          <a:xfrm>
            <a:off x="4419720" y="29066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11" descr="6618356fh741e7b71da96&amp;690"/>
          <p:cNvPicPr/>
          <p:nvPr/>
        </p:nvPicPr>
        <p:blipFill>
          <a:blip r:embed="rId2"/>
          <a:stretch/>
        </p:blipFill>
        <p:spPr>
          <a:xfrm>
            <a:off x="4476600" y="2843280"/>
            <a:ext cx="46674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一、正确看待网络游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、网络游戏成瘾的坏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违法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学生做事不成熟、不理智，缺乏控制力，网络成瘾的人为了获得足够金钱上网，容易做出诈骗、抢劫、盗窃等违法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EF5B081BAF81A825095E3D7002D8A7CC"/>
          <p:cNvPicPr/>
          <p:nvPr/>
        </p:nvPicPr>
        <p:blipFill>
          <a:blip r:embed="rId1"/>
          <a:stretch/>
        </p:blipFill>
        <p:spPr>
          <a:xfrm>
            <a:off x="2340000" y="3075120"/>
            <a:ext cx="4500360" cy="30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二、戒除网瘾的有效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、教育疏导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将苦恼告知朋友、家长、老师，请他们协助进行积极正面教育，自我反省，认清危害，从心理上矫正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5" descr="50741-15053110310I02"/>
          <p:cNvPicPr/>
          <p:nvPr/>
        </p:nvPicPr>
        <p:blipFill>
          <a:blip r:embed="rId1"/>
          <a:srcRect l="0" t="0" r="0" b="11126"/>
          <a:stretch/>
        </p:blipFill>
        <p:spPr>
          <a:xfrm>
            <a:off x="2627280" y="2771640"/>
            <a:ext cx="519120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二、接触网瘾的有效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、时间控制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在朋友、家人的监督下严格控制上网时间，循序渐进，慢慢消除对网络游戏的依赖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7" descr="eaaf2affjw1etgcyfcajzj20gc08bweq"/>
          <p:cNvPicPr/>
          <p:nvPr/>
        </p:nvPicPr>
        <p:blipFill>
          <a:blip r:embed="rId1"/>
          <a:stretch/>
        </p:blipFill>
        <p:spPr>
          <a:xfrm>
            <a:off x="1692360" y="2970360"/>
            <a:ext cx="619272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二、接触网瘾的有效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、奖励惩戒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自我制定切实可行的奖惩措施，以此消除网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6" descr="49-12050G033561D"/>
          <p:cNvPicPr/>
          <p:nvPr/>
        </p:nvPicPr>
        <p:blipFill>
          <a:blip r:embed="rId1"/>
          <a:srcRect l="3613" t="0" r="13251" b="1163"/>
          <a:stretch/>
        </p:blipFill>
        <p:spPr>
          <a:xfrm>
            <a:off x="0" y="2627280"/>
            <a:ext cx="4140360" cy="31496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154256nt8lo3ny601ltby6"/>
          <p:cNvPicPr/>
          <p:nvPr/>
        </p:nvPicPr>
        <p:blipFill>
          <a:blip r:embed="rId2"/>
          <a:stretch/>
        </p:blipFill>
        <p:spPr>
          <a:xfrm>
            <a:off x="4356000" y="2627280"/>
            <a:ext cx="47880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现实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马云教育儿子，帮助儿子脱离网瘾的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5"/>
          <p:cNvSpPr/>
          <p:nvPr/>
        </p:nvSpPr>
        <p:spPr>
          <a:xfrm>
            <a:off x="4419720" y="29066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7"/>
          <p:cNvSpPr/>
          <p:nvPr/>
        </p:nvSpPr>
        <p:spPr>
          <a:xfrm>
            <a:off x="4419720" y="29066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9" descr="ee0dc94e9258d109a77422f5d358ccbf6d814dbf"/>
          <p:cNvPicPr/>
          <p:nvPr/>
        </p:nvPicPr>
        <p:blipFill>
          <a:blip r:embed="rId1"/>
          <a:stretch/>
        </p:blipFill>
        <p:spPr>
          <a:xfrm>
            <a:off x="5299200" y="2124000"/>
            <a:ext cx="3387600" cy="381636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10"/>
          <p:cNvSpPr/>
          <p:nvPr/>
        </p:nvSpPr>
        <p:spPr>
          <a:xfrm>
            <a:off x="1835280" y="2411280"/>
            <a:ext cx="3463920" cy="1729080"/>
          </a:xfrm>
          <a:prstGeom prst="wedgeEllipseCallout">
            <a:avLst>
              <a:gd name="adj1" fmla="val 72685"/>
              <a:gd name="adj2" fmla="val 1884"/>
            </a:avLst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块钱给你，去网吧玩三天三夜回来，然后告诉我一个玩游戏的好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现实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分析：网络没有带来实际益处，反而造成自身伤害，学生应以健康、休闲、绿色的网络游戏方式缓解压力，上网有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5"/>
          <p:cNvSpPr/>
          <p:nvPr/>
        </p:nvSpPr>
        <p:spPr>
          <a:xfrm>
            <a:off x="4419720" y="29066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7"/>
          <p:cNvSpPr/>
          <p:nvPr/>
        </p:nvSpPr>
        <p:spPr>
          <a:xfrm>
            <a:off x="4419720" y="29066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11"/>
          <p:cNvGrpSpPr/>
          <p:nvPr/>
        </p:nvGrpSpPr>
        <p:grpSpPr>
          <a:xfrm>
            <a:off x="1832040" y="2268360"/>
            <a:ext cx="5175360" cy="3507120"/>
            <a:chOff x="1832040" y="2268360"/>
            <a:chExt cx="5175360" cy="3507120"/>
          </a:xfrm>
        </p:grpSpPr>
        <p:pic>
          <p:nvPicPr>
            <p:cNvPr id="621" name="Picture 9" descr="1-130R3101234102"/>
            <p:cNvPicPr/>
            <p:nvPr/>
          </p:nvPicPr>
          <p:blipFill>
            <a:blip r:embed="rId1"/>
            <a:stretch/>
          </p:blipFill>
          <p:spPr>
            <a:xfrm>
              <a:off x="1832040" y="2268360"/>
              <a:ext cx="5175360" cy="350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Rectangle 10"/>
            <p:cNvSpPr/>
            <p:nvPr/>
          </p:nvSpPr>
          <p:spPr>
            <a:xfrm>
              <a:off x="5219640" y="5148360"/>
              <a:ext cx="1787760" cy="62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AutoShape 12"/>
          <p:cNvSpPr/>
          <p:nvPr/>
        </p:nvSpPr>
        <p:spPr>
          <a:xfrm>
            <a:off x="1832040" y="2556000"/>
            <a:ext cx="1660320" cy="655560"/>
          </a:xfrm>
          <a:prstGeom prst="wedgeEllipseCallout">
            <a:avLst>
              <a:gd name="adj1" fmla="val 45699"/>
              <a:gd name="adj2" fmla="val 54601"/>
            </a:avLst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累死我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模拟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042920"/>
            <a:ext cx="82296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进行测试，看看自己是否患有“网络成瘾症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每个月上网时间超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4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小时，即每天超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小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头脑中一直浮现和网络有关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无法控制自己上网的冲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无法上网，就会感到烦躁不安或情绪低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将上网作为解脱痛苦的唯一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4"/>
          <p:cNvSpPr/>
          <p:nvPr/>
        </p:nvSpPr>
        <p:spPr>
          <a:xfrm>
            <a:off x="684360" y="4348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Arial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-9360" y="5629320"/>
            <a:ext cx="917244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"/>
          <p:cNvSpPr/>
          <p:nvPr/>
        </p:nvSpPr>
        <p:spPr>
          <a:xfrm>
            <a:off x="6480" y="885960"/>
            <a:ext cx="9156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36"/>
          <p:cNvGrpSpPr/>
          <p:nvPr/>
        </p:nvGrpSpPr>
        <p:grpSpPr>
          <a:xfrm>
            <a:off x="1550880" y="1547640"/>
            <a:ext cx="5541840" cy="1163160"/>
            <a:chOff x="1550880" y="1547640"/>
            <a:chExt cx="5541840" cy="1163160"/>
          </a:xfrm>
        </p:grpSpPr>
        <p:grpSp>
          <p:nvGrpSpPr>
            <p:cNvPr id="542" name="Group 27"/>
            <p:cNvGrpSpPr/>
            <p:nvPr/>
          </p:nvGrpSpPr>
          <p:grpSpPr>
            <a:xfrm>
              <a:off x="1550880" y="1547640"/>
              <a:ext cx="1013400" cy="1163160"/>
              <a:chOff x="1550880" y="1547640"/>
              <a:chExt cx="1013400" cy="1163160"/>
            </a:xfrm>
          </p:grpSpPr>
          <p:sp>
            <p:nvSpPr>
              <p:cNvPr id="543" name="AutoShape 3"/>
              <p:cNvSpPr/>
              <p:nvPr/>
            </p:nvSpPr>
            <p:spPr>
              <a:xfrm>
                <a:off x="1550880" y="1547640"/>
                <a:ext cx="1013400" cy="11631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6600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4" name="Picture 9" descr="1"/>
              <p:cNvPicPr/>
              <p:nvPr/>
            </p:nvPicPr>
            <p:blipFill>
              <a:blip r:embed="rId1"/>
              <a:stretch/>
            </p:blipFill>
            <p:spPr>
              <a:xfrm>
                <a:off x="1699920" y="1652040"/>
                <a:ext cx="731880" cy="958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5" name="Line 13"/>
            <p:cNvSpPr/>
            <p:nvPr/>
          </p:nvSpPr>
          <p:spPr>
            <a:xfrm>
              <a:off x="2571480" y="2143080"/>
              <a:ext cx="767880" cy="0"/>
            </a:xfrm>
            <a:prstGeom prst="line">
              <a:avLst/>
            </a:prstGeom>
            <a:ln cap="rnd" w="93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14"/>
            <p:cNvSpPr/>
            <p:nvPr/>
          </p:nvSpPr>
          <p:spPr>
            <a:xfrm>
              <a:off x="3339360" y="1957320"/>
              <a:ext cx="3753360" cy="388800"/>
            </a:xfrm>
            <a:custGeom>
              <a:avLst/>
              <a:gdLst>
                <a:gd name="textAreaLeft" fmla="*/ 0 w 3753360"/>
                <a:gd name="textAreaRight" fmla="*/ 3753720 w 37533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20" y="0"/>
                  </a:lnTo>
                  <a:lnTo>
                    <a:pt x="21600" y="10800"/>
                  </a:lnTo>
                  <a:lnTo>
                    <a:pt x="1912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936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一、正确看待网络游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30"/>
          <p:cNvGrpSpPr/>
          <p:nvPr/>
        </p:nvGrpSpPr>
        <p:grpSpPr>
          <a:xfrm>
            <a:off x="1835280" y="3060720"/>
            <a:ext cx="5760720" cy="1174320"/>
            <a:chOff x="1835280" y="3060720"/>
            <a:chExt cx="5760720" cy="1174320"/>
          </a:xfrm>
        </p:grpSpPr>
        <p:sp>
          <p:nvSpPr>
            <p:cNvPr id="548" name="AutoShape 2"/>
            <p:cNvSpPr/>
            <p:nvPr/>
          </p:nvSpPr>
          <p:spPr>
            <a:xfrm>
              <a:off x="1835280" y="3060720"/>
              <a:ext cx="1052280" cy="11743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99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Picture 10" descr="2"/>
            <p:cNvPicPr/>
            <p:nvPr/>
          </p:nvPicPr>
          <p:blipFill>
            <a:blip r:embed="rId2"/>
            <a:stretch/>
          </p:blipFill>
          <p:spPr>
            <a:xfrm>
              <a:off x="1974240" y="3256920"/>
              <a:ext cx="80604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Line 15"/>
            <p:cNvSpPr/>
            <p:nvPr/>
          </p:nvSpPr>
          <p:spPr>
            <a:xfrm>
              <a:off x="2894760" y="3651840"/>
              <a:ext cx="795600" cy="0"/>
            </a:xfrm>
            <a:prstGeom prst="line">
              <a:avLst/>
            </a:prstGeom>
            <a:ln cap="rnd" w="936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16"/>
            <p:cNvSpPr/>
            <p:nvPr/>
          </p:nvSpPr>
          <p:spPr>
            <a:xfrm>
              <a:off x="3699360" y="3464640"/>
              <a:ext cx="3896640" cy="390600"/>
            </a:xfrm>
            <a:custGeom>
              <a:avLst/>
              <a:gdLst>
                <a:gd name="textAreaLeft" fmla="*/ 0 w 3896640"/>
                <a:gd name="textAreaRight" fmla="*/ 3897000 w 389664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20" y="0"/>
                  </a:lnTo>
                  <a:lnTo>
                    <a:pt x="21600" y="10800"/>
                  </a:lnTo>
                  <a:lnTo>
                    <a:pt x="1912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936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二、接触网瘾的有效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2" name="Picture 8" descr="1"/>
          <p:cNvPicPr/>
          <p:nvPr/>
        </p:nvPicPr>
        <p:blipFill>
          <a:blip r:embed="rId3"/>
          <a:stretch/>
        </p:blipFill>
        <p:spPr>
          <a:xfrm>
            <a:off x="5575320" y="0"/>
            <a:ext cx="35877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模拟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50752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6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对家人或亲友隐瞒迷恋网络的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7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因迷恋网络而面临失学或人际关系等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8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明知上网投入大量金钱、时间和精力，但仍然投入上网无法自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9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因长时间迷恋网络导致睡眠节奏紊乱，如昼夜颠倒、倦怠、颤抖、视力减退、头痛、头晕、食欲不振等身体症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333399"/>
                </a:solidFill>
                <a:latin typeface="隶书"/>
                <a:ea typeface="隶书"/>
              </a:rPr>
              <a:t>对照上述标准，如果你有上述</a:t>
            </a:r>
            <a:r>
              <a:rPr b="0" lang="en-US" sz="2400" spc="-1" strike="noStrike">
                <a:solidFill>
                  <a:srgbClr val="333399"/>
                </a:solidFill>
                <a:latin typeface="隶书"/>
                <a:ea typeface="隶书"/>
              </a:rPr>
              <a:t>5 </a:t>
            </a:r>
            <a:r>
              <a:rPr b="0" lang="zh-CN" sz="2400" spc="-1" strike="noStrike">
                <a:solidFill>
                  <a:srgbClr val="333399"/>
                </a:solidFill>
                <a:latin typeface="隶书"/>
                <a:ea typeface="隶书"/>
              </a:rPr>
              <a:t>项或</a:t>
            </a:r>
            <a:r>
              <a:rPr b="0" lang="en-US" sz="2400" spc="-1" strike="noStrike">
                <a:solidFill>
                  <a:srgbClr val="333399"/>
                </a:solidFill>
                <a:latin typeface="隶书"/>
                <a:ea typeface="隶书"/>
              </a:rPr>
              <a:t>5 </a:t>
            </a:r>
            <a:r>
              <a:rPr b="0" lang="zh-CN" sz="2400" spc="-1" strike="noStrike">
                <a:solidFill>
                  <a:srgbClr val="333399"/>
                </a:solidFill>
                <a:latin typeface="隶书"/>
                <a:ea typeface="隶书"/>
              </a:rPr>
              <a:t>项以上的表现，那请小心，你已经患上了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隶书"/>
              </a:rPr>
              <a:t>“</a:t>
            </a:r>
            <a:r>
              <a:rPr b="0" lang="zh-CN" sz="2400" spc="-1" strike="noStrike">
                <a:solidFill>
                  <a:srgbClr val="333399"/>
                </a:solidFill>
                <a:latin typeface="隶书"/>
                <a:ea typeface="隶书"/>
              </a:rPr>
              <a:t>网络成瘾症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隶书"/>
              </a:rPr>
              <a:t>”</a:t>
            </a:r>
            <a:r>
              <a:rPr b="0" lang="zh-CN" sz="24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模拟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042920"/>
            <a:ext cx="82296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经过测试，如果自己已经患上“网络成瘾症”，请制定计划戒除网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5"/>
          <p:cNvSpPr/>
          <p:nvPr/>
        </p:nvSpPr>
        <p:spPr>
          <a:xfrm>
            <a:off x="4419720" y="29066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7" descr="03353985"/>
          <p:cNvPicPr/>
          <p:nvPr/>
        </p:nvPicPr>
        <p:blipFill>
          <a:blip r:embed="rId1"/>
          <a:srcRect l="0" t="0" r="0" b="5298"/>
          <a:stretch/>
        </p:blipFill>
        <p:spPr>
          <a:xfrm>
            <a:off x="2700360" y="2050920"/>
            <a:ext cx="4475160" cy="3811680"/>
          </a:xfrm>
          <a:prstGeom prst="rect">
            <a:avLst/>
          </a:prstGeom>
          <a:ln w="0">
            <a:noFill/>
          </a:ln>
        </p:spPr>
      </p:pic>
      <p:sp>
        <p:nvSpPr>
          <p:cNvPr id="632" name="WordArt 9"/>
          <p:cNvSpPr txBox="1"/>
          <p:nvPr/>
        </p:nvSpPr>
        <p:spPr>
          <a:xfrm rot="360600">
            <a:off x="4211280" y="3211200"/>
            <a:ext cx="2376360" cy="2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戒除网瘾计划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1"/>
          <p:cNvPicPr/>
          <p:nvPr/>
        </p:nvPicPr>
        <p:blipFill>
          <a:blip r:embed="rId1"/>
          <a:stretch/>
        </p:blipFill>
        <p:spPr>
          <a:xfrm rot="420000">
            <a:off x="1044360" y="831960"/>
            <a:ext cx="1457280" cy="21524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2"/>
          <p:cNvPicPr/>
          <p:nvPr/>
        </p:nvPicPr>
        <p:blipFill>
          <a:blip r:embed="rId2"/>
          <a:stretch/>
        </p:blipFill>
        <p:spPr>
          <a:xfrm>
            <a:off x="6432480" y="3116160"/>
            <a:ext cx="981000" cy="185760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4"/>
          <p:cNvSpPr/>
          <p:nvPr/>
        </p:nvSpPr>
        <p:spPr>
          <a:xfrm>
            <a:off x="2502000" y="1887480"/>
            <a:ext cx="4446360" cy="1287360"/>
          </a:xfrm>
          <a:prstGeom prst="rect">
            <a:avLst/>
          </a:prstGeom>
          <a:solidFill>
            <a:srgbClr val="333333">
              <a:alpha val="80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urlz MT"/>
                <a:ea typeface="方正稚艺简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图片 21" descr="康轩标志.png"/>
          <p:cNvPicPr/>
          <p:nvPr/>
        </p:nvPicPr>
        <p:blipFill>
          <a:blip r:embed="rId3"/>
          <a:stretch/>
        </p:blipFill>
        <p:spPr>
          <a:xfrm>
            <a:off x="-6480" y="0"/>
            <a:ext cx="12859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情景再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265400"/>
            <a:ext cx="843588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小锡的读书成绩一般，但篮球打得很好。他以体育特长生的身份被高中录取。住校期间，父母每月都会给他四五百元的生活费。开始，他生活节俭，生活费足够自用。但好景不长，他迷上了网络游戏。从开始偶尔光顾，到后来天天泡吧，直至通宵作战。小锡沉浸在网游的打打杀杀中无法自拔。由于网吧消费高，他很快就遭遇了“经济危机”。他不敢向父母要钱，只能向同学借钱，结果，欠得钱越来越多。当同学们催小锡还钱受到网游中肆意砍杀的血腥刺激，在市区的繁华街道，“抢劫”一名年轻女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一、正确看待网络游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适量地玩网络游戏可以放松身心，缓解压力，但过于沉迷网络游戏，就会影响工作学习。我们应该正确对待它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网络"/>
          <p:cNvPicPr/>
          <p:nvPr/>
        </p:nvPicPr>
        <p:blipFill>
          <a:blip r:embed="rId1"/>
          <a:srcRect l="0" t="0" r="0" b="3562"/>
          <a:stretch/>
        </p:blipFill>
        <p:spPr>
          <a:xfrm>
            <a:off x="3635280" y="2311560"/>
            <a:ext cx="4753080" cy="380808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5"/>
          <p:cNvSpPr/>
          <p:nvPr/>
        </p:nvSpPr>
        <p:spPr>
          <a:xfrm>
            <a:off x="826920" y="3060720"/>
            <a:ext cx="2808360" cy="2016000"/>
          </a:xfrm>
          <a:prstGeom prst="rightArrowCallout">
            <a:avLst>
              <a:gd name="adj1" fmla="val 25002"/>
              <a:gd name="adj2" fmla="val 25000"/>
              <a:gd name="adj3" fmla="val 23217"/>
              <a:gd name="adj4" fmla="val 66667"/>
            </a:avLst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隶书"/>
              </a:rPr>
              <a:t>网络游戏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隶书"/>
              </a:rPr>
              <a:t>放松身心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隶书"/>
              </a:rPr>
              <a:t>缓解压力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隶书"/>
              </a:rPr>
              <a:t>锻炼头脑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一、正确看待网络游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47880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、网络游戏的好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结识新朋友，学会人际交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增强团队合作意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锻炼头脑，提高思考能力和应变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11640" y="1834920"/>
            <a:ext cx="518472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缓解压力，平复心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增强自信心和优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学会积极、坚强心态面对困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09121713163e6f020b456ba5c5"/>
          <p:cNvPicPr/>
          <p:nvPr/>
        </p:nvPicPr>
        <p:blipFill>
          <a:blip r:embed="rId1"/>
          <a:srcRect l="0" t="6977" r="0" b="13917"/>
          <a:stretch/>
        </p:blipFill>
        <p:spPr>
          <a:xfrm>
            <a:off x="3924360" y="3348000"/>
            <a:ext cx="5472000" cy="27288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cr0406ga01s"/>
          <p:cNvPicPr/>
          <p:nvPr/>
        </p:nvPicPr>
        <p:blipFill>
          <a:blip r:embed="rId2"/>
          <a:stretch/>
        </p:blipFill>
        <p:spPr>
          <a:xfrm>
            <a:off x="114480" y="3564000"/>
            <a:ext cx="3809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一、正确看待网络游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、网络游戏成瘾的坏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因涉世未深，自控力差，在校生很容易被网络游戏迷惑、奴役，造成身心伤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网瘾"/>
          <p:cNvPicPr/>
          <p:nvPr/>
        </p:nvPicPr>
        <p:blipFill>
          <a:blip r:embed="rId1"/>
          <a:stretch/>
        </p:blipFill>
        <p:spPr>
          <a:xfrm>
            <a:off x="227160" y="2970360"/>
            <a:ext cx="4619520" cy="2762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网瘾"/>
          <p:cNvPicPr/>
          <p:nvPr/>
        </p:nvPicPr>
        <p:blipFill>
          <a:blip r:embed="rId2"/>
          <a:stretch/>
        </p:blipFill>
        <p:spPr>
          <a:xfrm>
            <a:off x="4846680" y="2916360"/>
            <a:ext cx="42973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一、正确看待网络游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、网络游戏成瘾的坏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伤害身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网吧环境不好影响身体，长时间上网也会伤害身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img201201231839492"/>
          <p:cNvPicPr/>
          <p:nvPr/>
        </p:nvPicPr>
        <p:blipFill>
          <a:blip r:embed="rId1"/>
          <a:stretch/>
        </p:blipFill>
        <p:spPr>
          <a:xfrm>
            <a:off x="457200" y="2690640"/>
            <a:ext cx="3753000" cy="3429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17563_20150424100445_rlypb"/>
          <p:cNvPicPr/>
          <p:nvPr/>
        </p:nvPicPr>
        <p:blipFill>
          <a:blip r:embed="rId2"/>
          <a:stretch/>
        </p:blipFill>
        <p:spPr>
          <a:xfrm>
            <a:off x="4427640" y="2922480"/>
            <a:ext cx="44654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小故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42920"/>
            <a:ext cx="82296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某校学生小彬在网吧上网玩游戏时，突然晕倒并抽搐，出现嘴唇发黑等症状，后经抢救无效死亡。经法医鉴定，小彬属于猝死。据介绍，小彬近期连续数晚玩游戏或看小说直到次日凌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4419720" y="29066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7"/>
          <p:cNvSpPr/>
          <p:nvPr/>
        </p:nvSpPr>
        <p:spPr>
          <a:xfrm>
            <a:off x="4419720" y="29066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9"/>
          <p:cNvSpPr/>
          <p:nvPr/>
        </p:nvSpPr>
        <p:spPr>
          <a:xfrm>
            <a:off x="4419720" y="29066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11" descr="661c50111c5fa3aa27ee95e92ab8bbfb"/>
          <p:cNvPicPr/>
          <p:nvPr/>
        </p:nvPicPr>
        <p:blipFill>
          <a:blip r:embed="rId1"/>
          <a:stretch/>
        </p:blipFill>
        <p:spPr>
          <a:xfrm>
            <a:off x="4067280" y="2906640"/>
            <a:ext cx="49053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一、正确看待网络游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1156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、网络游戏成瘾的坏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心理异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沉湎于网络游戏，会减少现实生活中的人际交流，导致性情孤僻，甚至患上“电脑自闭症”。同时网络游戏容易影响少男少女心理，出现不良心理反应，甚至一些游戏带有色情倾向，严重玷污少男少女心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jhwl"/>
          <p:cNvPicPr/>
          <p:nvPr/>
        </p:nvPicPr>
        <p:blipFill>
          <a:blip r:embed="rId1"/>
          <a:srcRect l="0" t="0" r="0" b="11114"/>
          <a:stretch/>
        </p:blipFill>
        <p:spPr>
          <a:xfrm>
            <a:off x="4967280" y="3497400"/>
            <a:ext cx="4176720" cy="2622240"/>
          </a:xfrm>
          <a:prstGeom prst="rect">
            <a:avLst/>
          </a:prstGeom>
          <a:ln w="0">
            <a:noFill/>
          </a:ln>
        </p:spPr>
      </p:pic>
      <p:sp>
        <p:nvSpPr>
          <p:cNvPr id="581" name="AutoShape 8"/>
          <p:cNvSpPr/>
          <p:nvPr/>
        </p:nvSpPr>
        <p:spPr>
          <a:xfrm>
            <a:off x="4419720" y="29066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0" descr="521ffe4b055a0194"/>
          <p:cNvPicPr/>
          <p:nvPr/>
        </p:nvPicPr>
        <p:blipFill>
          <a:blip r:embed="rId2"/>
          <a:stretch/>
        </p:blipFill>
        <p:spPr>
          <a:xfrm>
            <a:off x="0" y="3497400"/>
            <a:ext cx="3608280" cy="2685960"/>
          </a:xfrm>
          <a:prstGeom prst="rect">
            <a:avLst/>
          </a:prstGeom>
          <a:ln w="0">
            <a:noFill/>
          </a:ln>
        </p:spPr>
      </p:pic>
      <p:sp>
        <p:nvSpPr>
          <p:cNvPr id="583" name="AutoShape 11"/>
          <p:cNvSpPr/>
          <p:nvPr/>
        </p:nvSpPr>
        <p:spPr>
          <a:xfrm>
            <a:off x="3090960" y="3992400"/>
            <a:ext cx="1328760" cy="992520"/>
          </a:xfrm>
          <a:prstGeom prst="wedgeEllipseCallout">
            <a:avLst>
              <a:gd name="adj1" fmla="val -74777"/>
              <a:gd name="adj2" fmla="val -29324"/>
            </a:avLst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我习惯背负着孤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pt宝藏</dc:creator>
  <dc:description/>
  <cp:keywords/>
  <dc:language>en-US</dc:language>
  <cp:lastModifiedBy>m1508027</cp:lastModifiedBy>
  <dcterms:modified xsi:type="dcterms:W3CDTF">2016-07-11T03:50:14Z</dcterms:modified>
  <cp:revision>6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</Properties>
</file>