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FAC-A06E-4E1B-AD6E-1783A00E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4A9-4BB3-4F89-A9FD-297B3709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54FC1B-6FF2-461E-9049-4D6D4642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0A2A51-CFDE-47D8-A747-5D65EE93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186473-9731-445E-BFD3-114DDBC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8AFF6-5547-43F6-95EC-E588A99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AED33-D68C-4418-9013-5FF1EA1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FBC41-EFCA-4776-8E67-10848CE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F6A68-486E-494C-A206-9A55938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6F5892-79B9-4B87-9730-D5E22F15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F4C70-254B-4E11-BB8E-A1A44BF9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F5162-1A6E-4E1C-915B-ACAC8285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925-03DB-4F97-A1C2-B944295F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F8DB0-EA3E-4FC0-AB20-93982D8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9EE02A-A08D-4E09-A606-17C7D32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96FAF-BE82-44FC-8EDF-BBC1A390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EFD7E-7330-44EF-842A-3D0D296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D2DE46-CEF3-4801-A964-C6B774E3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A95A9B-A312-4E00-9512-661D6E5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DBF16-3D4C-4941-97E8-BB2A24B1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C7DC65-7D2C-4F06-86D1-4A82CEA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1AFB9C-080A-4AAC-ABEF-30C98027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7D5B0B-9DA9-4294-9B74-79A7BE1E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16D-11C2-41BA-9E52-3CE57BFA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ECB05-2BA8-49B7-B742-A6C07005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DC035D-8B3D-4ADE-8AA4-17EA4D16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8CF9B-E441-4B88-863E-A11FBC73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13CA4C-903F-44D4-9261-0C1989E0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296E6B-5839-47B2-A840-DF4C74FA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79FADB-3591-4391-AF5F-77212963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FCDBD7-148A-4165-88CD-7271176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AF1918-041B-4A94-BCC8-05B1098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B4C8CD-7095-493B-A819-5486758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0B49F5-03C1-4AE0-9795-3FFBF48A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691C-6D6E-422D-BB9E-6BB3BB1F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CBEB5F-365A-411B-B60B-B444CCFE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C347CA-0E02-4CFF-A122-0FAEDB3C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546BB7-BD32-4933-9F4E-69161A38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C9BDBB-4A26-4BE8-96C1-7497779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957028-D376-4E64-A11E-A089684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85D3B9-36D4-4E8F-B766-40D8921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25E3F4-94FA-4B3F-A78A-F014836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EB1DB1-0168-424A-8F79-AF624D7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51204F-D062-4284-A6B1-BAAF70E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A81E97-B147-4B55-8061-5B860F20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C681-FBF3-4C2D-B633-7FDB176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4C61AC-2BC9-4B23-8485-958F894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177E40-F0E6-49E8-BC00-55ECBBF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9587B1-EF91-4D6D-BD9E-E75DDCFF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5C3715-5862-46AD-BDC9-2041FBC5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35449E-4654-4756-8BB7-933EB326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75DF09-D3E9-4FA3-BAAA-D6B3807A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4D063B-7779-4B82-8526-B6074572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A96E80-03AF-42A1-8D01-52E295F4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9F49FE-C9E7-4CED-AD9F-99FC9CD4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17EAB6-1F19-4203-B4B9-A36F5733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4368-AF93-4F32-815E-8FFEDFB2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F70637-0CF6-4163-8D91-A95993DD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62490B-F067-4BF1-8BBB-249B8A85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AFC5AF-2799-423F-997E-13DB4C8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12BB36-7F28-4AFF-8A4B-4B4F620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E7FC2B-36F2-460B-A53C-5277AA3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203AD1-F5B7-41A6-A640-1E653C4E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8B3369-0427-4F05-B2CE-92CBAD3E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0C1C1E-E981-4496-88D0-ECDA951C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C2F562-CAB1-4082-B39E-4820DA03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B937DA-4C2C-42F4-B209-06CDD07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AFA-74C3-4BB0-90D5-7AE6F741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1C7748-36DC-421D-9BE5-64ADEF2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349364-B01A-419B-BFC7-AF0D54D0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C2BBCD-1ED0-42A5-A1D7-5FE30BDE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16CFB9-BDA7-47CE-979B-F648358C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81057E-033F-43F9-AB1A-B6C15623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60E99D-8A73-4801-9DAE-B4B318E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1FEF86-DC75-49E6-9A10-D26AC188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908CBA-E58E-4623-9E6F-7D2512DD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63C701-BFB1-41D1-A6B4-2E935F95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83F-DD8D-42D5-A5B2-57954DEC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0EC9-E4E0-43F0-87D2-0657BA7D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75D6-9944-490A-9559-5C5008D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556-80DB-4C90-8377-9A39AE95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AA1A-D722-49E3-8913-58A4F37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8C23-177D-4B9E-9602-9528794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1287-638A-4C15-8C81-517CBE99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CD87-F8D2-4843-861B-E23C2D93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9B37-1939-4EA3-A33E-60395800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266B-994B-449F-8451-26139799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96D1-B123-4154-A7F5-A12D90A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03C1-C5DD-4DA6-A4F2-267442A0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E1AB-780A-42A0-A400-AE3D513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34DA-A86C-4630-B6BB-3D2101CE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2A3-BDF8-411E-8F35-A8C65818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A992-758A-4643-98E7-CDF6213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D1F1-6510-47D6-B6BB-A077F354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6601-12A5-40C0-86B6-7DEB74E5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FA30-0665-4201-AA71-3A23740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D481-4D5B-4FB0-BF86-E5BC95C8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993E-AD56-4C32-AE6C-9BFEA7B8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A0C7-53AC-4752-A30B-302E4889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435C6-BBE6-4150-A87B-FC087C0ECA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B9539-888A-4ABA-AB0A-11F335A0E2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0F03A-26C7-4163-B6B4-6D693E9BF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723-9790-4F80-9460-23AE1889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67630-D3C9-42AC-884F-5D2738CC9B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5D7FA-2FB1-49B6-8DB0-BEE2B3B854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5F445-D663-44FA-8634-CCD02E6C80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77131-52B4-4F87-838C-C73DF41A0D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09AE6-B5DD-4660-A8F5-DFB9BDE13B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C6729-9AE4-4D5D-ABF9-308FF2917F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51AF3-A878-4C82-AE6A-517E19E06A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ED2A6-7812-4675-AF09-3A406596EA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64A84-7997-42E8-BB61-37A52EC0CD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2B5DC-F5FC-41CE-AACB-F1B9CD36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CBA-9F2C-4597-BBEC-1E8CF37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F8164-9E3A-468C-AF39-F6AF0725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419F8-3682-4C45-98A7-9D96525D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0B48A-70C3-4D1A-9963-EC6FAB08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5F1F0-CF81-451F-B82D-BFEE7735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FF6C4-6FF5-4592-888F-57B69364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65E29-B1DB-4B03-8C34-DD116FCF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E3B84-92FD-4CA4-AEBA-BB35FEE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9C90C-8EF8-445A-B3E7-0D17BDE9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960AB-FFF8-4D5B-B294-E3BD2985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91E82-D199-40D3-84A0-8D6ABA6A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683-F58F-4E13-9733-389641F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69ECB-5DA0-464F-A1F9-72FC92F7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3FE3A-2449-46CE-9D6C-64393A50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C5C35-F003-4A3B-B67F-7D1DB0C6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11FFF-73F7-4615-A1CF-645514DC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8FAAE-E5E1-4B2E-89A3-9D21EE2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4D4B2-0C44-4417-B216-A396CEBA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87DE6-692A-4F8B-BC4E-F7522A59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4F1A1-C897-47DD-9259-38F7A20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2A31B-9DBC-40D6-9E21-8E7ADF4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63009-8DD0-4228-AC04-73B8AC3B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778-A4B5-4534-867E-0C6B7CD9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27081-C9FC-4E84-A70F-E6B6F0DB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E9F6D-1A8A-466D-89E7-3DD18873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7AB41-719A-45B4-A485-0EDC0DF3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14F73-F009-4F58-A112-F653607A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E42FA-7C96-4369-8F70-17D6B381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4ACEF-423D-46B6-95BB-9389D94E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16B45-A9FC-47AF-8FA6-1F89033A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3EFE7-92F0-4EF4-8EDC-0B836A0A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45A17-2A59-4069-94A7-A1AEBD3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81B09-290F-45DF-9BDC-88D307CC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027-2760-4809-91DC-FA00249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AFD49-388C-4BB5-BB72-44148201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FF96B-29BE-40D3-9FFD-FCCE881D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D9E9C-6099-49AB-B3B9-DFCAC56F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DBE07-364C-464A-BA1B-0D8E04A8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4EADF-1644-4E93-97F1-582B7F3A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06694-AF84-4285-8955-EA1576EC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62B3A-7A09-4E97-8414-6E5484CB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A4D448-5C2F-4265-BAFB-DF88DCFF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5F30A-06A0-4D4F-9384-4B660760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8F3BBF-0A68-498F-BE53-51F8BC5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E73-B0EE-4D35-9632-801495E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BEA93-AF5B-4D05-9D71-9EA33D7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FD73C-913D-426A-87E8-5CA8F443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86A66-B555-40EC-A3C8-A5DDC30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E73DF2-FEF9-45FB-B04E-5181316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939AE-5812-43E5-ADAD-51032080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D0356B-0E48-4132-9AB0-AA0B9145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0EFF8-B3FC-4466-BD71-EF93F402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583AD-CF7D-484C-97F9-0363D1A9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1A416C-FC86-44A5-9B02-A84814B1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A2663-EAA5-4EFB-B8B6-9D8575D9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2606-8396-496D-B162-B5862472AD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A698-8F28-45D4-9952-6B71C287B2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3FAB-6533-4B40-A544-302E88B9D8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2115-4013-48B1-8922-4ED56233DE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7D6-5437-41A4-BF46-DC8B0AD6EDC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E3B1-97FF-419F-A9A6-0199B8AE1A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635D-54A9-4856-B43B-E1F993AD21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5523-DA7F-48C3-BCB1-22B871218E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914-3A71-4BF7-B4F2-44A44E54CA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245-2C7D-4064-BBFC-7685D77F8B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3BD5-2187-4ECB-8909-75E974884DA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E2BE-B93A-4682-A835-FDE6F1DB4A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6BD-9BFA-476C-81AF-3F055DCF75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5A8-FCA7-42B3-B1AB-63D4A47EA5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E71-E277-422E-A764-8C3A06C4DC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AB5E-989E-41EE-A2B8-8B51DF15F5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1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8991-D7C5-4057-841A-05034EACF2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E7C-6462-4BBA-BE09-9F37548DCCE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CFD8-014E-49EB-96AF-0B22243D11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044A-A050-4D82-BAD0-8A0F7636AF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7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EC49-C406-4EE7-9E75-1170B0D04F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85DF-737E-4DDD-965F-D12D402418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574E-2E1B-470F-BFA6-E2F3DF567C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F9D-BBE7-416E-8180-72E2E33C107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F730-D6CA-44A6-BC78-7FCB06DB80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9B94-F812-4339-A385-E58AB8DF5E4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E6C9-97FE-422B-A4C9-7090121DF9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131640" y="3780000"/>
            <a:ext cx="4892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虚拟世界必谨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网络交友要慎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 rot="21240000">
            <a:off x="4043520" y="826920"/>
            <a:ext cx="4779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Curlz MT"/>
              </a:rPr>
              <a:t>安全教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Kids (3)"/>
          <p:cNvPicPr/>
          <p:nvPr/>
        </p:nvPicPr>
        <p:blipFill>
          <a:blip r:embed="rId1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1" descr="康轩标志.png"/>
          <p:cNvPicPr/>
          <p:nvPr/>
        </p:nvPicPr>
        <p:blipFill>
          <a:blip r:embed="rId2"/>
          <a:stretch/>
        </p:blipFill>
        <p:spPr>
          <a:xfrm>
            <a:off x="171360" y="152280"/>
            <a:ext cx="127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害主要体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遭遇网络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网络虚拟性给网络交友带来意外危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微信诈骗"/>
          <p:cNvPicPr/>
          <p:nvPr/>
        </p:nvPicPr>
        <p:blipFill>
          <a:blip r:embed="rId1"/>
          <a:stretch/>
        </p:blipFill>
        <p:spPr>
          <a:xfrm>
            <a:off x="971640" y="248436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见的网络交友诈骗模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骗财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探家境，骗见面，抢夺诈骗财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res01_attpic_brief"/>
          <p:cNvPicPr/>
          <p:nvPr/>
        </p:nvPicPr>
        <p:blipFill>
          <a:blip r:embed="rId1"/>
          <a:srcRect l="0" t="0" r="0" b="5311"/>
          <a:stretch/>
        </p:blipFill>
        <p:spPr>
          <a:xfrm>
            <a:off x="826920" y="238608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75564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青平时喜欢上网聊天。几个月前，李青通过交友软件与自称王强的网友相识，两个人聊得十分投机，很快便相约见面。见面当天，两人一起吃饭、看电影、打电动，相处非常开心，并且整个过程都是王强主动付款。后来，王强提出带李青去买衣服。李青没有多想便与王强去了商场。可是，在李青去试衣间时，王强拎着李青的包消失了。包里装有一部最新款的手机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00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现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684360" y="3489480"/>
            <a:ext cx="5409720" cy="2630160"/>
            <a:chOff x="684360" y="3489480"/>
            <a:chExt cx="5409720" cy="2630160"/>
          </a:xfrm>
        </p:grpSpPr>
        <p:pic>
          <p:nvPicPr>
            <p:cNvPr id="638" name="Picture 5" descr="16%281%29"/>
            <p:cNvPicPr/>
            <p:nvPr/>
          </p:nvPicPr>
          <p:blipFill>
            <a:blip r:embed="rId1"/>
            <a:srcRect l="0" t="0" r="37244" b="47313"/>
            <a:stretch/>
          </p:blipFill>
          <p:spPr>
            <a:xfrm>
              <a:off x="684360" y="3489480"/>
              <a:ext cx="4732560" cy="26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AutoShape 6"/>
            <p:cNvSpPr/>
            <p:nvPr/>
          </p:nvSpPr>
          <p:spPr>
            <a:xfrm>
              <a:off x="3679200" y="3489480"/>
              <a:ext cx="2414880" cy="1448280"/>
            </a:xfrm>
            <a:prstGeom prst="cloudCallout">
              <a:avLst>
                <a:gd name="adj1" fmla="val -61333"/>
                <a:gd name="adj2" fmla="val 32634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你说你爱我的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说好要等我的，把钱还给我！！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见的网络交友诈骗模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骗色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三种方式迷惑对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称帅哥或温柔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伪装成浪漫体贴温柔型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称豪门子弟或成功人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诱骗不谙世事、憧憬爱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爱慕虚荣的年轻女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9"/>
          <p:cNvGrpSpPr/>
          <p:nvPr/>
        </p:nvGrpSpPr>
        <p:grpSpPr>
          <a:xfrm>
            <a:off x="4876920" y="1116000"/>
            <a:ext cx="3809880" cy="3738600"/>
            <a:chOff x="4876920" y="1116000"/>
            <a:chExt cx="3809880" cy="3738600"/>
          </a:xfrm>
        </p:grpSpPr>
        <p:pic>
          <p:nvPicPr>
            <p:cNvPr id="643" name="Picture 6" descr="1433987086585"/>
            <p:cNvPicPr/>
            <p:nvPr/>
          </p:nvPicPr>
          <p:blipFill>
            <a:blip r:embed="rId1"/>
            <a:stretch/>
          </p:blipFill>
          <p:spPr>
            <a:xfrm>
              <a:off x="4876920" y="1116000"/>
              <a:ext cx="380988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7"/>
            <p:cNvSpPr/>
            <p:nvPr/>
          </p:nvSpPr>
          <p:spPr>
            <a:xfrm>
              <a:off x="7451640" y="165096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好帅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8"/>
            <p:cNvSpPr/>
            <p:nvPr/>
          </p:nvSpPr>
          <p:spPr>
            <a:xfrm>
              <a:off x="5364000" y="1560600"/>
              <a:ext cx="11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妹妹约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92360"/>
            <a:ext cx="4583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的张丽在网上认识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的王超。两人情投意合，整天有说不完的话。两人网聊三个多月后见面并发生了性关系。此后，王超就不再搭理张丽。张丽发信息、打电话均联系不到王超。对于王超的其他个人信息，张丽却一无所知。这时，张丽才意识到自己被骗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4"/>
          <p:cNvSpPr/>
          <p:nvPr/>
        </p:nvSpPr>
        <p:spPr>
          <a:xfrm>
            <a:off x="1908000" y="-209520"/>
            <a:ext cx="3529080" cy="1901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骗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2015113152428830"/>
          <p:cNvPicPr/>
          <p:nvPr/>
        </p:nvPicPr>
        <p:blipFill>
          <a:blip r:embed="rId1"/>
          <a:stretch/>
        </p:blipFill>
        <p:spPr>
          <a:xfrm>
            <a:off x="5040360" y="1403280"/>
            <a:ext cx="4103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见的网络交友诈骗模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骗财骗色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欺骗缺乏自我保护意识的网友，甚至实施违法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1" descr="002M57B8zy6NoMhFnu5ed"/>
          <p:cNvPicPr/>
          <p:nvPr/>
        </p:nvPicPr>
        <p:blipFill>
          <a:blip r:embed="rId1"/>
          <a:stretch/>
        </p:blipFill>
        <p:spPr>
          <a:xfrm>
            <a:off x="826920" y="2411280"/>
            <a:ext cx="3384720" cy="2967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4" descr="8851179_770678"/>
          <p:cNvPicPr/>
          <p:nvPr/>
        </p:nvPicPr>
        <p:blipFill>
          <a:blip r:embed="rId2"/>
          <a:stretch/>
        </p:blipFill>
        <p:spPr>
          <a:xfrm>
            <a:off x="4500720" y="2411280"/>
            <a:ext cx="435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晓宇在网上认识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的高力，两个人的聊天涉及到隐私话题。当对方询问晓宇的真实姓名、电话、住址时，毫无防备的晓宇如实相告了。三天后，两人聊天时，高力提出让晓宇拍裸照给他看，否则就把以前的聊天记录及晓宇的真实信息公之于众。非常害怕的晓宇就用手机拍了裸照给高力。谁知，看过照片后的高力变本加厉，要来找晓宇，并要求晓宇提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00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路费，否则就把裸照公布到网上。几天后，高力来到晓宇家楼下。随晓宇上楼取钱时，高力又提出不坐电梯走楼梯，并在楼道内强奸了晓宇。一个星期后，晓宇还是在网上发现了自己的裸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述事例都在现实中上演过，网络的广泛性让我们能够接触到各式各样人群，涉世未深的学生容易由于好奇心或急于寻找爱情而受到诱惑与欺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见面邀约需谨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慎重对待一认识就要求见面的人，其次，无论网上关系多甜蜜，见面仍需要彼此了解的过程，应保持矜持谨慎，最大限度保护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WordArt 6"/>
          <p:cNvSpPr txBox="1"/>
          <p:nvPr/>
        </p:nvSpPr>
        <p:spPr>
          <a:xfrm>
            <a:off x="1600200" y="3575160"/>
            <a:ext cx="5943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网友约你见面，你会怎么做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探听真实信息别上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网络是虚拟的，不要随意暴露自己真实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6" descr="t011b82f32c78b96921"/>
          <p:cNvPicPr/>
          <p:nvPr/>
        </p:nvPicPr>
        <p:blipFill>
          <a:blip r:embed="rId1"/>
          <a:srcRect l="0" t="5991" r="0" b="0"/>
          <a:stretch/>
        </p:blipFill>
        <p:spPr>
          <a:xfrm>
            <a:off x="971640" y="2484360"/>
            <a:ext cx="39607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1406520" y="1392120"/>
            <a:ext cx="4901760" cy="878760"/>
            <a:chOff x="1406520" y="1392120"/>
            <a:chExt cx="4901760" cy="878760"/>
          </a:xfrm>
        </p:grpSpPr>
        <p:grpSp>
          <p:nvGrpSpPr>
            <p:cNvPr id="585" name="Group 27"/>
            <p:cNvGrpSpPr/>
            <p:nvPr/>
          </p:nvGrpSpPr>
          <p:grpSpPr>
            <a:xfrm>
              <a:off x="1406520" y="1392120"/>
              <a:ext cx="896760" cy="878760"/>
              <a:chOff x="1406520" y="1392120"/>
              <a:chExt cx="896760" cy="878760"/>
            </a:xfrm>
          </p:grpSpPr>
          <p:sp>
            <p:nvSpPr>
              <p:cNvPr id="586" name="AutoShape 3"/>
              <p:cNvSpPr/>
              <p:nvPr/>
            </p:nvSpPr>
            <p:spPr>
              <a:xfrm>
                <a:off x="1406520" y="1392120"/>
                <a:ext cx="896760" cy="878760"/>
              </a:xfrm>
              <a:prstGeom prst="hexagon">
                <a:avLst>
                  <a:gd name="adj" fmla="val 25512"/>
                  <a:gd name="vf" fmla="val 115470"/>
                </a:avLst>
              </a:prstGeom>
              <a:solidFill>
                <a:srgbClr val="ff66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7" name="Picture 9" descr="1"/>
              <p:cNvPicPr/>
              <p:nvPr/>
            </p:nvPicPr>
            <p:blipFill>
              <a:blip r:embed="rId1"/>
              <a:stretch/>
            </p:blipFill>
            <p:spPr>
              <a:xfrm>
                <a:off x="1538280" y="1470960"/>
                <a:ext cx="647280" cy="72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8" name="Line 13"/>
            <p:cNvSpPr/>
            <p:nvPr/>
          </p:nvSpPr>
          <p:spPr>
            <a:xfrm>
              <a:off x="2309040" y="1842120"/>
              <a:ext cx="679320" cy="0"/>
            </a:xfrm>
            <a:prstGeom prst="line">
              <a:avLst/>
            </a:prstGeom>
            <a:ln cap="rnd" w="9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4"/>
            <p:cNvSpPr/>
            <p:nvPr/>
          </p:nvSpPr>
          <p:spPr>
            <a:xfrm>
              <a:off x="2988720" y="1701720"/>
              <a:ext cx="3319560" cy="293760"/>
            </a:xfrm>
            <a:custGeom>
              <a:avLst/>
              <a:gdLst>
                <a:gd name="textAreaLeft" fmla="*/ 0 w 3319560"/>
                <a:gd name="textAreaRight" fmla="*/ 3319920 w 33195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一、网络交友的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30"/>
          <p:cNvGrpSpPr/>
          <p:nvPr/>
        </p:nvGrpSpPr>
        <p:grpSpPr>
          <a:xfrm>
            <a:off x="2079720" y="2556000"/>
            <a:ext cx="4908240" cy="933120"/>
            <a:chOff x="2079720" y="2556000"/>
            <a:chExt cx="4908240" cy="933120"/>
          </a:xfrm>
        </p:grpSpPr>
        <p:sp>
          <p:nvSpPr>
            <p:cNvPr id="591" name="AutoShape 2"/>
            <p:cNvSpPr/>
            <p:nvPr/>
          </p:nvSpPr>
          <p:spPr>
            <a:xfrm>
              <a:off x="2079720" y="2556000"/>
              <a:ext cx="896400" cy="933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99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Picture 10" descr="2"/>
            <p:cNvPicPr/>
            <p:nvPr/>
          </p:nvPicPr>
          <p:blipFill>
            <a:blip r:embed="rId2"/>
            <a:stretch/>
          </p:blipFill>
          <p:spPr>
            <a:xfrm>
              <a:off x="2198160" y="2711880"/>
              <a:ext cx="68688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Line 15"/>
            <p:cNvSpPr/>
            <p:nvPr/>
          </p:nvSpPr>
          <p:spPr>
            <a:xfrm>
              <a:off x="2982240" y="3025800"/>
              <a:ext cx="677880" cy="0"/>
            </a:xfrm>
            <a:prstGeom prst="line">
              <a:avLst/>
            </a:prstGeom>
            <a:ln cap="rnd" w="936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16"/>
            <p:cNvSpPr/>
            <p:nvPr/>
          </p:nvSpPr>
          <p:spPr>
            <a:xfrm>
              <a:off x="3668040" y="2876760"/>
              <a:ext cx="3319920" cy="310320"/>
            </a:xfrm>
            <a:custGeom>
              <a:avLst/>
              <a:gdLst>
                <a:gd name="textAreaLeft" fmla="*/ 0 w 3319920"/>
                <a:gd name="textAreaRight" fmla="*/ 3320280 w 331992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二、网络交友的危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31"/>
          <p:cNvGrpSpPr/>
          <p:nvPr/>
        </p:nvGrpSpPr>
        <p:grpSpPr>
          <a:xfrm>
            <a:off x="2700360" y="3774960"/>
            <a:ext cx="4860720" cy="867960"/>
            <a:chOff x="2700360" y="3774960"/>
            <a:chExt cx="4860720" cy="867960"/>
          </a:xfrm>
        </p:grpSpPr>
        <p:sp>
          <p:nvSpPr>
            <p:cNvPr id="596" name="AutoShape 11"/>
            <p:cNvSpPr/>
            <p:nvPr/>
          </p:nvSpPr>
          <p:spPr>
            <a:xfrm>
              <a:off x="2700360" y="3774960"/>
              <a:ext cx="893880" cy="867960"/>
            </a:xfrm>
            <a:prstGeom prst="hexagon">
              <a:avLst>
                <a:gd name="adj" fmla="val 25747"/>
                <a:gd name="vf" fmla="val 115470"/>
              </a:avLst>
            </a:prstGeom>
            <a:solidFill>
              <a:srgbClr val="33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12" descr="3"/>
            <p:cNvPicPr/>
            <p:nvPr/>
          </p:nvPicPr>
          <p:blipFill>
            <a:blip r:embed="rId3"/>
            <a:stretch/>
          </p:blipFill>
          <p:spPr>
            <a:xfrm>
              <a:off x="2953440" y="3862440"/>
              <a:ext cx="423720" cy="75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Line 17"/>
            <p:cNvSpPr/>
            <p:nvPr/>
          </p:nvSpPr>
          <p:spPr>
            <a:xfrm>
              <a:off x="3574800" y="4215240"/>
              <a:ext cx="677160" cy="1440"/>
            </a:xfrm>
            <a:prstGeom prst="line">
              <a:avLst/>
            </a:prstGeom>
            <a:ln cap="rnd" w="9360">
              <a:solidFill>
                <a:srgbClr val="33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6"/>
            <p:cNvSpPr/>
            <p:nvPr/>
          </p:nvSpPr>
          <p:spPr>
            <a:xfrm>
              <a:off x="4251960" y="4078080"/>
              <a:ext cx="3309120" cy="288720"/>
            </a:xfrm>
            <a:custGeom>
              <a:avLst/>
              <a:gdLst>
                <a:gd name="textAreaLeft" fmla="*/ 0 w 3309120"/>
                <a:gd name="textAreaRight" fmla="*/ 3309480 w 3309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三、预防网络交友的危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Picture 8" descr="1"/>
          <p:cNvPicPr/>
          <p:nvPr/>
        </p:nvPicPr>
        <p:blipFill>
          <a:blip r:embed="rId4"/>
          <a:stretch/>
        </p:blipFill>
        <p:spPr>
          <a:xfrm>
            <a:off x="5575320" y="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反复推敲聊天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留心聊天内容，观察对方是否撒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6" descr="04"/>
          <p:cNvPicPr/>
          <p:nvPr/>
        </p:nvPicPr>
        <p:blipFill>
          <a:blip r:embed="rId1"/>
          <a:srcRect l="0" t="0" r="0" b="14432"/>
          <a:stretch/>
        </p:blipFill>
        <p:spPr>
          <a:xfrm>
            <a:off x="900000" y="2368440"/>
            <a:ext cx="4476960" cy="30974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8"/>
          <p:cNvSpPr/>
          <p:nvPr/>
        </p:nvSpPr>
        <p:spPr>
          <a:xfrm>
            <a:off x="5580000" y="2050920"/>
            <a:ext cx="2952720" cy="1441440"/>
          </a:xfrm>
          <a:prstGeom prst="cloudCallout">
            <a:avLst>
              <a:gd name="adj1" fmla="val -55375"/>
              <a:gd name="adj2" fmla="val 36782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次才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，今天就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谨慎处理金钱请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切忌盲目汇款，以防受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21729016718956"/>
          <p:cNvPicPr/>
          <p:nvPr/>
        </p:nvPicPr>
        <p:blipFill>
          <a:blip r:embed="rId1"/>
          <a:stretch/>
        </p:blipFill>
        <p:spPr>
          <a:xfrm>
            <a:off x="762120" y="2317680"/>
            <a:ext cx="417024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不要仓促约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约见网友应首先了解对方真是情况，不要被动仓促赴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1446593081549812"/>
          <p:cNvPicPr/>
          <p:nvPr/>
        </p:nvPicPr>
        <p:blipFill>
          <a:blip r:embed="rId1"/>
          <a:stretch/>
        </p:blipFill>
        <p:spPr>
          <a:xfrm>
            <a:off x="1187280" y="2414520"/>
            <a:ext cx="4104000" cy="305136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6"/>
          <p:cNvSpPr/>
          <p:nvPr/>
        </p:nvSpPr>
        <p:spPr>
          <a:xfrm>
            <a:off x="-181080" y="2340000"/>
            <a:ext cx="2098800" cy="1297080"/>
          </a:xfrm>
          <a:prstGeom prst="wedgeEllipseCallout">
            <a:avLst>
              <a:gd name="adj1" fmla="val 63009"/>
              <a:gd name="adj2" fmla="val 39962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好不容易约出来，现在别想跑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20141126153329_EBmP5"/>
          <p:cNvPicPr/>
          <p:nvPr/>
        </p:nvPicPr>
        <p:blipFill>
          <a:blip r:embed="rId2"/>
          <a:stretch/>
        </p:blipFill>
        <p:spPr>
          <a:xfrm>
            <a:off x="5796000" y="2414520"/>
            <a:ext cx="28908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慎选约见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约见网友，应选择人流量大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7" descr="1708bfa3d4b0de0e01aa22dc0848025b4a27c107"/>
          <p:cNvPicPr/>
          <p:nvPr/>
        </p:nvPicPr>
        <p:blipFill>
          <a:blip r:embed="rId1"/>
          <a:stretch/>
        </p:blipFill>
        <p:spPr>
          <a:xfrm>
            <a:off x="0" y="3059280"/>
            <a:ext cx="5508720" cy="3060360"/>
          </a:xfrm>
          <a:prstGeom prst="rect">
            <a:avLst/>
          </a:prstGeom>
          <a:ln w="0">
            <a:noFill/>
          </a:ln>
        </p:spPr>
      </p:pic>
      <p:sp>
        <p:nvSpPr>
          <p:cNvPr id="679" name="AutoShape 9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97164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友见面，应尽量选择白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晚上见面，一定要灯火通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群密集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5" descr="%B7%A2%B9%E2%B5%C4%B5%E7%B5%C6%C5%DD%CE%A2%D0%A6-13120569"/>
          <p:cNvPicPr/>
          <p:nvPr/>
        </p:nvPicPr>
        <p:blipFill>
          <a:blip r:embed="rId1"/>
          <a:srcRect l="0" t="0" r="8412" b="0"/>
          <a:stretch/>
        </p:blipFill>
        <p:spPr>
          <a:xfrm>
            <a:off x="5958000" y="611280"/>
            <a:ext cx="2728800" cy="32036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31085510"/>
          <p:cNvPicPr/>
          <p:nvPr/>
        </p:nvPicPr>
        <p:blipFill>
          <a:blip r:embed="rId2"/>
          <a:stretch/>
        </p:blipFill>
        <p:spPr>
          <a:xfrm>
            <a:off x="0" y="2916360"/>
            <a:ext cx="5292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避免私车出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陌生网友见面，应尽量选择公共交通工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8"/>
          <p:cNvGrpSpPr/>
          <p:nvPr/>
        </p:nvGrpSpPr>
        <p:grpSpPr>
          <a:xfrm>
            <a:off x="527040" y="2262240"/>
            <a:ext cx="4601880" cy="3203640"/>
            <a:chOff x="527040" y="2262240"/>
            <a:chExt cx="4601880" cy="3203640"/>
          </a:xfrm>
        </p:grpSpPr>
        <p:pic>
          <p:nvPicPr>
            <p:cNvPr id="687" name="Picture 5" descr="7916541994104261743"/>
            <p:cNvPicPr/>
            <p:nvPr/>
          </p:nvPicPr>
          <p:blipFill>
            <a:blip r:embed="rId1"/>
            <a:stretch/>
          </p:blipFill>
          <p:spPr>
            <a:xfrm>
              <a:off x="527040" y="2262240"/>
              <a:ext cx="460188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AutoShape 7"/>
            <p:cNvSpPr/>
            <p:nvPr/>
          </p:nvSpPr>
          <p:spPr>
            <a:xfrm>
              <a:off x="2594160" y="2700360"/>
              <a:ext cx="922680" cy="647640"/>
            </a:xfrm>
            <a:prstGeom prst="wedgeEllipseCallout">
              <a:avLst>
                <a:gd name="adj1" fmla="val 19300"/>
                <a:gd name="adj2" fmla="val 63481"/>
              </a:avLst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救命啊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预防网络交友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感知不安，尽快离开，摆脱危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约见前应告知朋友父母，并准备好通讯工具，以便随时可以求助，若发生不安事情，应寻找借口尽快离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5" descr="2934349b033b5bb57c4d893433d3d539b700bc66"/>
          <p:cNvPicPr/>
          <p:nvPr/>
        </p:nvPicPr>
        <p:blipFill>
          <a:blip r:embed="rId1"/>
          <a:stretch/>
        </p:blipFill>
        <p:spPr>
          <a:xfrm>
            <a:off x="826920" y="2703600"/>
            <a:ext cx="3240360" cy="27622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20150817101521_7674"/>
          <p:cNvPicPr/>
          <p:nvPr/>
        </p:nvPicPr>
        <p:blipFill>
          <a:blip r:embed="rId2"/>
          <a:stretch/>
        </p:blipFill>
        <p:spPr>
          <a:xfrm>
            <a:off x="4437000" y="2703600"/>
            <a:ext cx="4249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虚拟社交依赖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判断“虚拟社交依赖症”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于沉迷网络社交游戏而出现焦虑、抑郁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恐惧、 强迫或神经衰弱等症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② 由于社会功能受损或具有无法摆脱的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痛苦， 促使其主动求医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③ 上述两点持续三个月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WordArt 4"/>
          <p:cNvSpPr txBox="1"/>
          <p:nvPr/>
        </p:nvSpPr>
        <p:spPr>
          <a:xfrm>
            <a:off x="4356000" y="236520"/>
            <a:ext cx="3024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拓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虚拟社交依赖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6868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避免“虚拟社交依赖症”的方法</a:t>
            </a:r>
            <a:br>
              <a:rPr sz="20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进行自我检测。不盲目地相信媒体报道，随便给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己扣上心理疾病的帽子，引发不必要的压力和恐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当认为自己沉迷社交网站时要提高警惕。此时，多外出与现实生活中的朋友交往，避免进一步的沉迷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发现无法控制自己的行为，应尽快咨询专业的心理医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 就医过程保持良好的心态。心理问题并不等于精神问题，不要夸大严重性，增加心理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4"/>
          <p:cNvSpPr txBox="1"/>
          <p:nvPr/>
        </p:nvSpPr>
        <p:spPr>
          <a:xfrm>
            <a:off x="4356000" y="236520"/>
            <a:ext cx="3024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拓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实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77580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微信交友邂逅“富商”，银行女白领莉莉（化名）以为自己即将嫁入豪门，结果却被骗财骗色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案例分析：理智的人应分清现实与幻想，不要轻易迷失自己，要脚踏实地生活，才不会轻易上当受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景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独自一人在外工作的孙慧娟今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，在当地从事小商品批发。某天下午，孙慧娟通过某社交软件认识了张明。两人开始聊天后，孙慧娟当天就同意了见面。但孙慧娟不知道张明坐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牢，且刚刚刑满出狱。见面当天，孙慧娟去了张明家，她当时携带着名牌手机，品牌笔记本电脑，佩戴着价值不菲的黄金首饰，钱包里还有现金和银行卡。两人见面后便发生了性关系。事后，张明因为钱财起了歹意。他掐住孙慧娟的脖子，在逼她说出银行卡密码后掐死了她。当晚，张明拿着孙慧娟的卡在附近的自动取款机取走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珊的网友刚和她开始聊天就索要她的照片，她立刻把自己的照片发给了对方。（ 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7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的苏珊和网友约定，周日去爬山。 （ 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友给苏珊发了一张不良图片，她立刻把那个网友给删掉了。 （  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92b1OOOPIC43"/>
          <p:cNvPicPr/>
          <p:nvPr/>
        </p:nvPicPr>
        <p:blipFill>
          <a:blip r:embed="rId1"/>
          <a:srcRect l="19768" t="26336" r="16284" b="15196"/>
          <a:stretch/>
        </p:blipFill>
        <p:spPr>
          <a:xfrm>
            <a:off x="4943520" y="2911320"/>
            <a:ext cx="4200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末，苏珊在家和网友聊天，网友向她索取家庭地址，要邮寄礼物给她，苏珊拒绝了。 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珊为了与网友联系方便，把自己家的电话号码告诉了对方。 （ 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珊的生日快到了，她的网友约她一起过生日，苏珊立刻同意了。 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8"/>
          <p:cNvGrpSpPr/>
          <p:nvPr/>
        </p:nvGrpSpPr>
        <p:grpSpPr>
          <a:xfrm>
            <a:off x="2050920" y="0"/>
            <a:ext cx="3456000" cy="1501920"/>
            <a:chOff x="2050920" y="0"/>
            <a:chExt cx="3456000" cy="1501920"/>
          </a:xfrm>
        </p:grpSpPr>
        <p:pic>
          <p:nvPicPr>
            <p:cNvPr id="707" name="Picture 5" descr="280082-140925100500"/>
            <p:cNvPicPr/>
            <p:nvPr/>
          </p:nvPicPr>
          <p:blipFill>
            <a:blip r:embed="rId1"/>
            <a:srcRect l="5747" t="7609" r="73052" b="70598"/>
            <a:stretch/>
          </p:blipFill>
          <p:spPr>
            <a:xfrm>
              <a:off x="3851280" y="6480"/>
              <a:ext cx="16556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7" descr="2015082635125025"/>
            <p:cNvPicPr/>
            <p:nvPr/>
          </p:nvPicPr>
          <p:blipFill>
            <a:blip r:embed="rId2"/>
            <a:srcRect l="43274" t="67813" r="46362" b="13426"/>
            <a:stretch/>
          </p:blipFill>
          <p:spPr>
            <a:xfrm>
              <a:off x="2050920" y="0"/>
              <a:ext cx="1800360" cy="150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65120" y="1428480"/>
            <a:ext cx="4827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社交网络已经遍布我们周围，我们也越来越依赖它。但是，我们应该怎样正确运用社交网络丰富我们的生活，而不陷入诈骗的漩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6" descr="ruan-300x277"/>
          <p:cNvPicPr/>
          <p:nvPr/>
        </p:nvPicPr>
        <p:blipFill>
          <a:blip r:embed="rId1"/>
          <a:stretch/>
        </p:blipFill>
        <p:spPr>
          <a:xfrm>
            <a:off x="5508720" y="1692360"/>
            <a:ext cx="28573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图片 21" descr="康轩标志.png"/>
          <p:cNvPicPr/>
          <p:nvPr/>
        </p:nvPicPr>
        <p:blipFill>
          <a:blip r:embed="rId3"/>
          <a:stretch/>
        </p:blipFill>
        <p:spPr>
          <a:xfrm>
            <a:off x="-6480" y="0"/>
            <a:ext cx="1285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络交友的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265040"/>
            <a:ext cx="82296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广阔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破地域限制，四海之内皆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19193918_142536402791_2"/>
          <p:cNvPicPr/>
          <p:nvPr/>
        </p:nvPicPr>
        <p:blipFill>
          <a:blip r:embed="rId1"/>
          <a:srcRect l="0" t="0" r="0" b="7005"/>
          <a:stretch/>
        </p:blipFill>
        <p:spPr>
          <a:xfrm>
            <a:off x="1476360" y="2536920"/>
            <a:ext cx="40323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络交友的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265040"/>
            <a:ext cx="82296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便捷性与经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视频、语音等手段交流更便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7" descr="sl0912ml0xg"/>
          <p:cNvPicPr/>
          <p:nvPr/>
        </p:nvPicPr>
        <p:blipFill>
          <a:blip r:embed="rId1"/>
          <a:stretch/>
        </p:blipFill>
        <p:spPr>
          <a:xfrm>
            <a:off x="1403280" y="230976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611" name="AutoShape 8"/>
          <p:cNvSpPr/>
          <p:nvPr/>
        </p:nvSpPr>
        <p:spPr>
          <a:xfrm>
            <a:off x="5076720" y="2700360"/>
            <a:ext cx="2448000" cy="1295280"/>
          </a:xfrm>
          <a:prstGeom prst="wedgeEllipseCallout">
            <a:avLst>
              <a:gd name="adj1" fmla="val -48768"/>
              <a:gd name="adj2" fmla="val 61643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没关系，有网络这样聊天不用再花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络交友的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265040"/>
            <a:ext cx="82296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隐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网络隐蔽更易让人敞开心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14"/>
          <p:cNvGrpSpPr/>
          <p:nvPr/>
        </p:nvGrpSpPr>
        <p:grpSpPr>
          <a:xfrm>
            <a:off x="1187280" y="2124000"/>
            <a:ext cx="4248360" cy="3178080"/>
            <a:chOff x="1187280" y="2124000"/>
            <a:chExt cx="4248360" cy="3178080"/>
          </a:xfrm>
        </p:grpSpPr>
        <p:pic>
          <p:nvPicPr>
            <p:cNvPr id="616" name="Picture 10" descr="74330urir795"/>
            <p:cNvPicPr/>
            <p:nvPr/>
          </p:nvPicPr>
          <p:blipFill>
            <a:blip r:embed="rId1"/>
            <a:stretch/>
          </p:blipFill>
          <p:spPr>
            <a:xfrm>
              <a:off x="1187280" y="2124000"/>
              <a:ext cx="4248360" cy="31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13"/>
            <p:cNvSpPr/>
            <p:nvPr/>
          </p:nvSpPr>
          <p:spPr>
            <a:xfrm>
              <a:off x="4193640" y="4617360"/>
              <a:ext cx="1241640" cy="684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Picture 16" descr="6ebaadfadeebef13"/>
          <p:cNvPicPr/>
          <p:nvPr/>
        </p:nvPicPr>
        <p:blipFill>
          <a:blip r:embed="rId2"/>
          <a:stretch/>
        </p:blipFill>
        <p:spPr>
          <a:xfrm>
            <a:off x="5435640" y="2124000"/>
            <a:ext cx="3251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网络交友的危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网络交友诈骗频繁发生，严重影响到使用者的人身、财产安全。缺乏辨别能力的在校生更要提高警惕，认识到网络交友的危害，避免受到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5" descr="11027786_571093"/>
          <p:cNvPicPr/>
          <p:nvPr/>
        </p:nvPicPr>
        <p:blipFill>
          <a:blip r:embed="rId1"/>
          <a:stretch/>
        </p:blipFill>
        <p:spPr>
          <a:xfrm>
            <a:off x="971640" y="2543040"/>
            <a:ext cx="425916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害主要体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离群孤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沉迷网络，减少与周围朋友沟通，久而久之性格孤僻，远离人群，不善与人交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学生上网"/>
          <p:cNvPicPr/>
          <p:nvPr/>
        </p:nvPicPr>
        <p:blipFill>
          <a:blip r:embed="rId1"/>
          <a:srcRect l="0" t="5709" r="0" b="6638"/>
          <a:stretch/>
        </p:blipFill>
        <p:spPr>
          <a:xfrm>
            <a:off x="826920" y="2806560"/>
            <a:ext cx="4465800" cy="33130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5"/>
          <p:cNvSpPr/>
          <p:nvPr/>
        </p:nvSpPr>
        <p:spPr>
          <a:xfrm>
            <a:off x="5292720" y="2806560"/>
            <a:ext cx="2735280" cy="1008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我就是喜欢上网，我有一大堆网友，不需要同学交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害主要体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耽误学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过多的时间和精力投入网络交友，耽误学习，影响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9" descr="20110601083846188"/>
          <p:cNvPicPr/>
          <p:nvPr/>
        </p:nvPicPr>
        <p:blipFill>
          <a:blip r:embed="rId1"/>
          <a:srcRect l="0" t="0" r="0" b="10301"/>
          <a:stretch/>
        </p:blipFill>
        <p:spPr>
          <a:xfrm>
            <a:off x="684360" y="2340000"/>
            <a:ext cx="483552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pt宝藏</dc:creator>
  <dc:description/>
  <cp:keywords/>
  <dc:language>en-US</dc:language>
  <cp:lastModifiedBy>m1508027</cp:lastModifiedBy>
  <dcterms:modified xsi:type="dcterms:W3CDTF">2016-07-11T03:49:40Z</dcterms:modified>
  <cp:revision>5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