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0BD5-5975-4214-BA2E-522539F2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4FED-73A9-4658-B00D-A212A230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087D1A-C1CF-43BA-A362-C22B1557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CE003D-12A3-4E7E-A631-D367C82A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67C09B-F581-4FA8-B952-4F697644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D45480-82A4-4E96-A6C7-8BB93F29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115751-AD75-4CBB-BDCE-F1633D12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688610-8C8A-4451-8A3C-B7359BC4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59F659-C058-4A21-B150-72CF2102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BDF913-C998-4CB6-B692-F19F8BEA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83ECFC-5F10-4F55-AE47-089B6A7C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A0606D-F77A-480A-B469-59B3BB62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A33D-B797-415A-81B1-E39C7854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24A4ED-85C5-442E-B2B8-E0E3B511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FE7C88-AD23-460C-B9E5-1658063E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72727C-20D1-47CD-A461-8FF17168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05E69F-369E-4057-AFEE-542FAD0B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C9A8A7-C8D8-457D-B3B1-D4605D80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013317-4862-4F54-9EEC-3F3FD37E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3100A9-6CCB-4C66-930A-FB940DAB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A71FA1-EDF9-4EE2-B060-436FC6AA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69A3E0-55B7-4733-8F77-9C07DED2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C95C39-CCEB-42AC-A7EA-7A0839BB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DCCB-0BC1-492B-ADD5-F1F125BA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2F620C-4E1F-4306-8A97-BF7FA23A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701D4E-4890-4776-9E6A-1DE5AA76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013324-2095-4FAA-A7C1-AEC41530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E7EA70-C60F-4017-807D-18B5A9EA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5F060D-C1DD-4F59-B90A-6B10658C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1E9BDA-27F6-4221-BE63-424DBE93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D5EAA9-4D1B-4479-832C-3C9916EC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823CCB-B3C1-4C96-BB28-1CFB7BB2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2D2C1E-48EE-4955-A16F-4BFAD672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68A009-012D-420A-A6EE-B3CC5FCF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19F4-6E81-4AF2-BBD0-BA60C9C8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33641E-6FE6-49B0-AA4B-F85B86FB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C7F7AD-6607-44F4-B886-01EC7F7B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359618-07DA-4715-AB69-2B49182B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FEAB97-2134-4CC7-AF99-2C2ED5B0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841F2B-F470-412F-8A15-B495F031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8DEB64-86D0-40F6-B0FA-C5E1B4DD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C2F42A-3F37-40B2-8BAF-7E9777C5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9EB58F-5965-4E69-AAAE-25D829B4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F8F0E5-4811-4B17-BE66-F0BF4328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7B6F0D-99CD-4450-9D03-7E4D7A5F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58CE-0634-413C-819B-A0F1727E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EE4CE9-B496-4343-82BA-F425C2D9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8682B4-7C33-4893-8974-72A22FB4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40A1DF-9714-4124-B33D-F45F08AE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8E76A4-F803-48E3-A06F-025D39DA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463D32-ECEA-4FEE-B8A6-771648D9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08BF5A-922B-41FF-9318-AB0E12F0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6965E7-D41E-406C-BCDD-D64B8C15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24472D-2844-4B72-BF72-2B99D3DF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254309-9FFD-41E9-B85D-6F35BCB7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2535B2-566F-47A3-8F24-55FF3595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3FD7-B17D-4980-9D0A-A42A3A8C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671509-BCF0-4EB0-B972-CFBD6598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E0E909-B0AE-4CFF-9A04-122AE2B3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6CFA8F-E8C6-4AD4-BB36-4D500F89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E0BA4F-6520-44C3-B971-4A29F2F1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2E397A-0133-4508-A823-B34D3833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231600-4E1B-497B-AF41-F45C0F15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56252E-29AD-4736-A823-004C92E5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B32985-816B-42A6-8204-70A5F447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16440D-8091-4AB0-B51B-40069DAA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A9C796-5079-4B31-A5AF-3556D5E2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9249-434E-42AA-94CD-52387617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1DD7F0-DDD1-4C63-BE3A-70C7332C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828979-09B0-4671-A5EE-B82C081B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81B1787-D1BA-4866-AD33-6F96CB16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1CA6D3F-48A4-46FB-A784-1CB2CFAB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98AFF6-260A-4677-A657-2C5A3BA6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71EBC2-6BA2-41E6-AB57-9A0A05BB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56CA461-69BB-4C18-BFB8-30D3AF5A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4C506E-3B5E-49DC-BEA4-D61CC75A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7145D8-2C61-4B62-A17F-542CDB11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ABDB-1B02-4441-ADDB-61B3F7BF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AEA5-0D7C-4DED-81BF-7C5B5B06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A958-A63F-4C72-B5A2-78209AAC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FCF-FABD-43BD-B86E-421B3FA5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7CE4-999E-40D9-B8F7-731AAC98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0DEF-8206-417E-A822-DEC1FCC7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8AAF-BB26-4EFA-BEFF-A84EE4EB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9BE9-1AEF-4023-BAF6-1B3413FE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7A10-7EB8-4481-8EF5-260A33F2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5B929-44B5-4D11-9357-AE67D036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02D94-C6EE-49DC-AE81-5A0EC1B2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D75C5-4C03-4177-AAE4-A8262BE3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79E72-33C0-40CB-89C7-FF96CFFA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81D80-CA8E-44BD-8AD2-06B3A075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55E-2A4C-4330-A46F-4A8A5051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6342E-DE9B-40BF-BED2-063F6C17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4F698-C7CD-44E4-921F-7ADA68EA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909C5-8413-4649-B65D-5A06763C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BDEF3-B29B-473B-8EEB-1FEE6567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CFF85-BAE6-4CB8-A06D-CCEA9D0C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A1884-6CAF-4FE2-8359-45121DCD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42152-CA17-4255-B4F8-03193D23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4FEA0C-DD4C-4101-AF30-7481512870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66A280-6FA2-43B0-B1E1-A6B405F4B8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ACB8E7-9982-43F3-9950-B48A66901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3755-3CEE-4FBA-8E90-5A2EF76E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BD1F26-55BE-427B-8DFB-1108EB38D58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2766D9-1E3D-4A41-BB43-12885E4987D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DAF134-BC60-401F-B51B-7377F2F641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CBAB68-5CEE-4500-82D1-2C0D7B91C3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FBC517-C85D-4AC1-A726-6378525BE2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FA1877-A7DE-4CFC-B328-6EC3BC53A3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D087A5-162B-47E1-B684-FDE20D09D9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87CB36-DABD-40FB-B7C9-57A5C355E5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1FE0C5-E7A1-4663-AD2F-F450A5E78D4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D1790B-8F81-4A75-9025-FD4AB99C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3FF8-B850-42EF-85F8-E8153F9E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597C24-E3BF-4390-989D-91D84596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578E0C-9F12-4BAF-82C1-801183DF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E25D2F-19E2-40D6-8DC3-CE5A7525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16C405-6E1C-4B97-93C3-D7F2567B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1F0128-A44C-4244-9E7B-0A9C05E8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2B7119-92F7-49A1-952D-A982F750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EF26EC-E895-4276-AEA8-43EF69CA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43581B-EAF5-4879-A9F2-A68B5799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B59FA1-6497-4DE8-92DB-AB4CED1F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4E566-957B-4EB2-B459-77E8313E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B7F-74D8-4A03-9102-CF4E930C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E6ED78-55A5-4A88-8B57-27AA1944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F076CA-D9DA-4CCB-84DD-4B510518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7FAC79-F9F5-4DDB-951C-8A37931D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9BCA7B-34E3-408F-ADE3-21DD9949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A4D414-33E8-408F-90A8-CC56CAB0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08AA20-77DC-4D41-8D9F-CF9BEE34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AF6B33-A15C-4E90-80D9-858DF5AA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B65BAF-FBED-4896-AB23-E40CB715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2AE205-B937-47E5-80F5-E4727C7A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5A7275-2D72-4959-9336-F6E06780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6D60-AE25-4C83-8EB2-BC9C3DEA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BBA568-26EB-41EB-94A9-9C9D7CDF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F27348-3A56-4DBE-8C0C-31336BD0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9ED0F-3BA7-478B-93AE-72A089EB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53C6EC-CCA2-4BB5-81DD-4A90610B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692EE9-79C6-44B9-B2D7-07762640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BF2558-D617-4B69-B6FA-852D4135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F97197-6716-4CAD-BCC4-5676CD5E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7E89DA-2A6F-4ABE-BC1F-46C662A5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F91875-3803-4346-83A6-28A52DDF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601A10-AB5B-4D85-BB6E-6D9D151C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226C-412F-4D6E-A424-46460F21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B78C7F-E631-46C1-B8CD-5EDBDA2D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9EBECE-7A8C-4400-9A6E-F84D06D6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8FD0CC-E60D-47E2-A0C5-1B707568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891E53-AF4D-4E70-BE92-BF78C4D6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1CA7E9-0028-4317-AA47-278F8136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8DBD32-5BB4-4369-9DC1-A824B989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05085A-71F0-4B92-8C66-4AA118FE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5D2686-CBF8-40FE-A63E-AB1CB87E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85C3E4-E399-41AB-8C38-7573827C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5071FD-CB79-4C46-B212-5DEBFCCC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EAE2-77FC-4910-AA97-5311BCD0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1AD9F2-B637-4060-B3EF-BE363BEB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B7C1FD-D2FD-49E2-B89A-80202505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CB2DBD-FBAF-4A1B-A2FC-079A07E7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25C790-4A9D-4E0B-AAFC-C65AF00C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27C585-85F4-4960-86C6-FB550A0C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7DC433-5FDC-4D8E-BFF8-356A0384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3DF9AB-9320-4A0C-B323-A111BE3F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5629B9-A672-4B98-9A40-8179F14F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D89ABA-A04B-4149-9301-8DEE5F8A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929D09-6E7B-46C8-AA53-7186F361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0D6F-50A2-4449-AF60-38B2B97E7CA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DFA8-4676-4466-B449-40BE062509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9360" y="5629320"/>
            <a:ext cx="9172440" cy="490320"/>
          </a:xfrm>
          <a:prstGeom prst="rect">
            <a:avLst/>
          </a:pr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1"/>
          <p:cNvPicPr/>
          <p:nvPr/>
        </p:nvPicPr>
        <p:blipFill>
          <a:blip r:embed="rId2"/>
          <a:stretch/>
        </p:blipFill>
        <p:spPr>
          <a:xfrm>
            <a:off x="5508720" y="5122800"/>
            <a:ext cx="358776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7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412A-58D8-4A1A-B890-D12757A5E55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8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9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6BEA-8365-4DDD-9A53-17469E5283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0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DA38-5F71-49B9-B633-4334081DC3F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1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2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0989-F564-431C-98B4-D4EEE124BC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3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1CB6-2FDF-4D73-8E8F-6CD2B26CA2D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4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5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C67A-0AD9-4D7D-BC68-D437A31A52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6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677F-2E90-4F21-824A-6FE27FB9501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7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8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7B44-0261-4ACD-AF7E-D29CEAB69B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9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704B-6764-4836-A0DD-55659E99347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0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1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16E7-BC69-4A71-9997-FDB5943CC6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7553-9BD9-467E-BAEC-30D17A81FC8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21CE-A7B5-4AE3-A78F-110F3E7D6F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C0FD-9742-442E-848E-BB0B23155BD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2B90-7B48-4AA4-A1E2-FED1549EBE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0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1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05A5-E236-41A4-95DC-F07807C22E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2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EB15-05F9-4037-8454-47DFAA0B3A3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3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4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2703-80D3-4E4C-A785-D1CE3E7C99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5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6F63-1016-4B9F-84CF-E45B0B94B7C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6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7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7592-7C0A-40C6-B507-7B64C884BD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8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E1DD-13F3-41C7-8677-3E0BD92465C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9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0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DFE4-26D8-4CEA-8DCB-81E2DE1A5D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1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C01C-375A-4DD0-A955-29B6ED61C75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2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3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AB2B-9653-4E44-BFD2-0D221C6388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4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DECD-852F-43C0-AEF7-D485BFF221C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5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6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F2B4-BDE3-4A45-98DF-BDFC8EDE6E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矩形 8"/>
          <p:cNvSpPr/>
          <p:nvPr/>
        </p:nvSpPr>
        <p:spPr>
          <a:xfrm>
            <a:off x="1547640" y="269892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71520" y="3975120"/>
            <a:ext cx="5027400" cy="13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紧急事态应冷静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——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火灾急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0" y="0"/>
            <a:ext cx="9144000" cy="3273480"/>
          </a:xfrm>
          <a:prstGeom prst="rect">
            <a:avLst/>
          </a:prstGeom>
          <a:solidFill>
            <a:srgbClr val="3333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 rot="21240000">
            <a:off x="4043520" y="826920"/>
            <a:ext cx="4779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33"/>
                </a:solidFill>
                <a:latin typeface="Curlz MT"/>
              </a:rPr>
              <a:t>安全教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6" descr="Kids (3)"/>
          <p:cNvPicPr/>
          <p:nvPr/>
        </p:nvPicPr>
        <p:blipFill>
          <a:blip r:embed="rId2"/>
          <a:stretch/>
        </p:blipFill>
        <p:spPr>
          <a:xfrm>
            <a:off x="0" y="1332000"/>
            <a:ext cx="4268880" cy="283212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21" descr="康轩标志.png"/>
          <p:cNvPicPr/>
          <p:nvPr/>
        </p:nvPicPr>
        <p:blipFill>
          <a:blip r:embed="rId3"/>
          <a:stretch/>
        </p:blipFill>
        <p:spPr>
          <a:xfrm>
            <a:off x="171360" y="152280"/>
            <a:ext cx="12794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小锦囊：灭火器的正确使用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7" descr="201103021321597904"/>
          <p:cNvPicPr/>
          <p:nvPr/>
        </p:nvPicPr>
        <p:blipFill>
          <a:blip r:embed="rId1"/>
          <a:stretch/>
        </p:blipFill>
        <p:spPr>
          <a:xfrm>
            <a:off x="826920" y="1265400"/>
            <a:ext cx="6553440" cy="4410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8" descr="ldpi_756395_2b69d4a90-9272-4669-8a54-726ef344587b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457200" y="414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6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火灾自救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042920"/>
            <a:ext cx="82296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大火自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屋外着火，被困屋内的自救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4" descr=""/>
          <p:cNvPicPr/>
          <p:nvPr/>
        </p:nvPicPr>
        <p:blipFill>
          <a:blip r:embed="rId1"/>
          <a:srcRect l="22570" t="26698" r="22290" b="9936"/>
          <a:stretch/>
        </p:blipFill>
        <p:spPr>
          <a:xfrm>
            <a:off x="684360" y="1979640"/>
            <a:ext cx="71276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楼层高者，切不可用绳索从窗户逃生自救，以防坠落。此时应远离火源，并选择合适的房间，向外呼救，等待救援。火灾中大部分人是死于窒息。因为洗手间空间小，且大多没有窗户，所以最好不要选择躲在其中。选择的房间应最靠近主干道，且必须有窗户，窗户最好没有安装防盗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进入这个房间后，先关闭房门，再使用胶带封闭能看见的所有空调出风口，最后砸碎窗户玻璃。如果多人被困，可以同时进行上述动作。如果窗户是钢化玻璃，可以用尖锐的器皿对准钢化玻璃的四个角（最薄弱的地方）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77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770" fill="hold"/>
                                        <p:tgtEl>
                                          <p:spTgt spid="6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7" descr="616eec0dx955c634d578c&amp;690"/>
          <p:cNvPicPr/>
          <p:nvPr/>
        </p:nvPicPr>
        <p:blipFill>
          <a:blip r:embed="rId1"/>
          <a:stretch/>
        </p:blipFill>
        <p:spPr>
          <a:xfrm>
            <a:off x="457200" y="0"/>
            <a:ext cx="764388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火灾自救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火自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身处火场内的自救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5" descr=""/>
          <p:cNvPicPr/>
          <p:nvPr/>
        </p:nvPicPr>
        <p:blipFill>
          <a:blip r:embed="rId1"/>
          <a:srcRect l="18230" t="26796" r="24102" b="42151"/>
          <a:stretch/>
        </p:blipFill>
        <p:spPr>
          <a:xfrm>
            <a:off x="457200" y="2454120"/>
            <a:ext cx="785988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4" descr=""/>
          <p:cNvPicPr/>
          <p:nvPr/>
        </p:nvPicPr>
        <p:blipFill>
          <a:blip r:embed="rId1"/>
          <a:srcRect l="20551" t="60187" r="22419" b="9828"/>
          <a:stretch/>
        </p:blipFill>
        <p:spPr>
          <a:xfrm>
            <a:off x="457200" y="0"/>
            <a:ext cx="7715160" cy="30654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5" descr=""/>
          <p:cNvPicPr/>
          <p:nvPr/>
        </p:nvPicPr>
        <p:blipFill>
          <a:blip r:embed="rId2"/>
          <a:srcRect l="20400" t="39232" r="22290" b="30404"/>
          <a:stretch/>
        </p:blipFill>
        <p:spPr>
          <a:xfrm>
            <a:off x="457200" y="3065400"/>
            <a:ext cx="77151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8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8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小锦囊：消防栓的正确使用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5" descr="ldpi_756395_2b69d4a90-9272-4669-8a54-726ef344587b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57200" y="414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" descr=""/>
          <p:cNvPicPr/>
          <p:nvPr/>
        </p:nvPicPr>
        <p:blipFill>
          <a:blip r:embed="rId2"/>
          <a:srcRect l="22570" t="24193" r="22290" b="41299"/>
          <a:stretch/>
        </p:blipFill>
        <p:spPr>
          <a:xfrm>
            <a:off x="611280" y="15796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77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" dur="770" fill="hold"/>
                                        <p:tgtEl>
                                          <p:spTgt spid="6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实案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5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 中午，惠东义乌商品城发生火灾。当时，陈宝仪和两位同学正在商品城内的影院观看电影，对外界的情况毫无察觉。突然影院的屏幕突然变黑，随后几名工作人员冲进来大喊：“着火了，快跑！”她们跑出影院后却发现外面已经被浓烟封住了出路，楼梯也走不通，最后只好选择躲进厕所。厕所挤满了人，陈宝怡将买来的衣服打湿后捂住口鼻，等待救援。期间，不少人试图用手机向外界求救。在被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小时左右，现场浓烟弥漫，陆续有人晕倒。此时，消防员也正在向陈宝仪等人接近。在听到外面传来声响后，陈宝仪用力拍打厕所门。消防员循声找来，最终将被困人员救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6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案例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陈宝仪在这次火灾中能够幸免于难，靠的是自己的沉着冷静和火灾自救常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WordArt 4"/>
          <p:cNvSpPr txBox="1"/>
          <p:nvPr/>
        </p:nvSpPr>
        <p:spPr>
          <a:xfrm>
            <a:off x="826920" y="2340000"/>
            <a:ext cx="684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①</a:t>
            </a: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通道不通，及时躲到厕所，用衣服打湿捂住口鼻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7" name="WordArt 6"/>
          <p:cNvSpPr txBox="1"/>
          <p:nvPr/>
        </p:nvSpPr>
        <p:spPr>
          <a:xfrm>
            <a:off x="457200" y="3660840"/>
            <a:ext cx="8229600" cy="98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②</a:t>
            </a: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听到门外声响，不是大声呼救，而是拍打厕所门，发出响声求救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8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8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拟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77724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用现成教室、教学楼等，教师与学生一起演习火灾逃生，训练学生的应变反应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77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5" dur="770" fill="hold"/>
                                        <p:tgtEl>
                                          <p:spTgt spid="6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7" dur="77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9" dur="77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4"/>
          <p:cNvSpPr/>
          <p:nvPr/>
        </p:nvSpPr>
        <p:spPr>
          <a:xfrm>
            <a:off x="684360" y="43488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Arial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-9360" y="5629320"/>
            <a:ext cx="9172440" cy="490320"/>
          </a:xfrm>
          <a:prstGeom prst="rect">
            <a:avLst/>
          </a:pr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7"/>
          <p:cNvSpPr/>
          <p:nvPr/>
        </p:nvSpPr>
        <p:spPr>
          <a:xfrm>
            <a:off x="6480" y="885960"/>
            <a:ext cx="9156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36"/>
          <p:cNvGrpSpPr/>
          <p:nvPr/>
        </p:nvGrpSpPr>
        <p:grpSpPr>
          <a:xfrm>
            <a:off x="1619280" y="1604880"/>
            <a:ext cx="4901760" cy="885240"/>
            <a:chOff x="1619280" y="1604880"/>
            <a:chExt cx="4901760" cy="885240"/>
          </a:xfrm>
        </p:grpSpPr>
        <p:grpSp>
          <p:nvGrpSpPr>
            <p:cNvPr id="585" name="Group 27"/>
            <p:cNvGrpSpPr/>
            <p:nvPr/>
          </p:nvGrpSpPr>
          <p:grpSpPr>
            <a:xfrm>
              <a:off x="1619280" y="1604880"/>
              <a:ext cx="896760" cy="885240"/>
              <a:chOff x="1619280" y="1604880"/>
              <a:chExt cx="896760" cy="885240"/>
            </a:xfrm>
          </p:grpSpPr>
          <p:sp>
            <p:nvSpPr>
              <p:cNvPr id="586" name="AutoShape 3"/>
              <p:cNvSpPr/>
              <p:nvPr/>
            </p:nvSpPr>
            <p:spPr>
              <a:xfrm>
                <a:off x="1619280" y="1604880"/>
                <a:ext cx="896760" cy="885240"/>
              </a:xfrm>
              <a:prstGeom prst="hexagon">
                <a:avLst>
                  <a:gd name="adj" fmla="val 25325"/>
                  <a:gd name="vf" fmla="val 115470"/>
                </a:avLst>
              </a:prstGeom>
              <a:solidFill>
                <a:srgbClr val="ff6600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7" name="Picture 9" descr="1"/>
              <p:cNvPicPr/>
              <p:nvPr/>
            </p:nvPicPr>
            <p:blipFill>
              <a:blip r:embed="rId1"/>
              <a:stretch/>
            </p:blipFill>
            <p:spPr>
              <a:xfrm>
                <a:off x="1751040" y="1684440"/>
                <a:ext cx="647280" cy="72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8" name="Line 13"/>
            <p:cNvSpPr/>
            <p:nvPr/>
          </p:nvSpPr>
          <p:spPr>
            <a:xfrm>
              <a:off x="2521800" y="2058120"/>
              <a:ext cx="679320" cy="0"/>
            </a:xfrm>
            <a:prstGeom prst="line">
              <a:avLst/>
            </a:prstGeom>
            <a:ln cap="rnd" w="936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14"/>
            <p:cNvSpPr/>
            <p:nvPr/>
          </p:nvSpPr>
          <p:spPr>
            <a:xfrm>
              <a:off x="3201480" y="1916640"/>
              <a:ext cx="3319560" cy="295920"/>
            </a:xfrm>
            <a:custGeom>
              <a:avLst/>
              <a:gdLst>
                <a:gd name="textAreaLeft" fmla="*/ 0 w 3319560"/>
                <a:gd name="textAreaRight" fmla="*/ 3319920 w 3319560"/>
                <a:gd name="textAreaTop" fmla="*/ 0 h 295920"/>
                <a:gd name="textAreaBottom" fmla="*/ 296280 h 29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20" y="0"/>
                  </a:lnTo>
                  <a:lnTo>
                    <a:pt x="21600" y="10800"/>
                  </a:lnTo>
                  <a:lnTo>
                    <a:pt x="1912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936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一、预防火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30"/>
          <p:cNvGrpSpPr/>
          <p:nvPr/>
        </p:nvGrpSpPr>
        <p:grpSpPr>
          <a:xfrm>
            <a:off x="2068560" y="2955960"/>
            <a:ext cx="4908240" cy="934560"/>
            <a:chOff x="2068560" y="2955960"/>
            <a:chExt cx="4908240" cy="934560"/>
          </a:xfrm>
        </p:grpSpPr>
        <p:sp>
          <p:nvSpPr>
            <p:cNvPr id="591" name="AutoShape 2"/>
            <p:cNvSpPr/>
            <p:nvPr/>
          </p:nvSpPr>
          <p:spPr>
            <a:xfrm>
              <a:off x="2068560" y="2955960"/>
              <a:ext cx="896400" cy="93456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99cc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2" name="Picture 10" descr="2"/>
            <p:cNvPicPr/>
            <p:nvPr/>
          </p:nvPicPr>
          <p:blipFill>
            <a:blip r:embed="rId2"/>
            <a:stretch/>
          </p:blipFill>
          <p:spPr>
            <a:xfrm>
              <a:off x="2187000" y="3112200"/>
              <a:ext cx="686880" cy="5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Line 15"/>
            <p:cNvSpPr/>
            <p:nvPr/>
          </p:nvSpPr>
          <p:spPr>
            <a:xfrm>
              <a:off x="2971080" y="3426480"/>
              <a:ext cx="677880" cy="0"/>
            </a:xfrm>
            <a:prstGeom prst="line">
              <a:avLst/>
            </a:prstGeom>
            <a:ln cap="rnd" w="936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16"/>
            <p:cNvSpPr/>
            <p:nvPr/>
          </p:nvSpPr>
          <p:spPr>
            <a:xfrm>
              <a:off x="3656880" y="3277440"/>
              <a:ext cx="3319920" cy="310680"/>
            </a:xfrm>
            <a:custGeom>
              <a:avLst/>
              <a:gdLst>
                <a:gd name="textAreaLeft" fmla="*/ 0 w 3319920"/>
                <a:gd name="textAreaRight" fmla="*/ 3320280 w 331992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20" y="0"/>
                  </a:lnTo>
                  <a:lnTo>
                    <a:pt x="21600" y="10800"/>
                  </a:lnTo>
                  <a:lnTo>
                    <a:pt x="1912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936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二、火灾自救方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5" name="Picture 8" descr="1"/>
          <p:cNvPicPr/>
          <p:nvPr/>
        </p:nvPicPr>
        <p:blipFill>
          <a:blip r:embed="rId3"/>
          <a:stretch/>
        </p:blipFill>
        <p:spPr>
          <a:xfrm>
            <a:off x="5575320" y="0"/>
            <a:ext cx="358776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拟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遇到突发火灾，我们应该如何自救和互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1"/>
          <p:cNvPicPr/>
          <p:nvPr/>
        </p:nvPicPr>
        <p:blipFill>
          <a:blip r:embed="rId1"/>
          <a:stretch/>
        </p:blipFill>
        <p:spPr>
          <a:xfrm rot="420000">
            <a:off x="1044360" y="831960"/>
            <a:ext cx="1457280" cy="21524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3" descr="2"/>
          <p:cNvPicPr/>
          <p:nvPr/>
        </p:nvPicPr>
        <p:blipFill>
          <a:blip r:embed="rId2"/>
          <a:stretch/>
        </p:blipFill>
        <p:spPr>
          <a:xfrm>
            <a:off x="6432480" y="3116160"/>
            <a:ext cx="981000" cy="185760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4"/>
          <p:cNvSpPr/>
          <p:nvPr/>
        </p:nvSpPr>
        <p:spPr>
          <a:xfrm>
            <a:off x="2502000" y="1887480"/>
            <a:ext cx="4446360" cy="1287360"/>
          </a:xfrm>
          <a:prstGeom prst="rect">
            <a:avLst/>
          </a:prstGeom>
          <a:solidFill>
            <a:srgbClr val="333333">
              <a:alpha val="80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urlz MT"/>
                <a:ea typeface="方正稚艺简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图片 21" descr="康轩标志.png"/>
          <p:cNvPicPr/>
          <p:nvPr/>
        </p:nvPicPr>
        <p:blipFill>
          <a:blip r:embed="rId3"/>
          <a:stretch/>
        </p:blipFill>
        <p:spPr>
          <a:xfrm>
            <a:off x="-6480" y="0"/>
            <a:ext cx="128592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景再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6840" y="1547640"/>
            <a:ext cx="537228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15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年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月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日 天津滨海新区一处集装箱码头发生爆炸。爆炸现场火光冲天，现场附近火焰四溅。面对火灾，消防员们含泪告别家人与朋友，带着责任与使命，毫不迟疑地大步迈进火场，只给我们留下坚决的背影，这是世界上最帅的逆行！我们在等待，等待逆行后的身影重新出现，期待看到他们虽然疲惫却依旧挺拔的身影，看到他们虽然满脸漆黑却依旧坚毅的笑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但我们更应该从根本上杜绝火灾隐患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WordArt 5"/>
          <p:cNvSpPr txBox="1"/>
          <p:nvPr/>
        </p:nvSpPr>
        <p:spPr>
          <a:xfrm>
            <a:off x="5472000" y="468360"/>
            <a:ext cx="32148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最帅的逆行！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99" name="Picture 7" descr="86f142a98226cffc226a1b2abb014a90f703ea1e"/>
          <p:cNvPicPr/>
          <p:nvPr/>
        </p:nvPicPr>
        <p:blipFill>
          <a:blip r:embed="rId3"/>
          <a:srcRect l="0" t="0" r="0" b="12024"/>
          <a:stretch/>
        </p:blipFill>
        <p:spPr>
          <a:xfrm>
            <a:off x="5977080" y="1265400"/>
            <a:ext cx="270972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5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一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存在哪些火灾隐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5" descr="a446cf5494eef01fdfa076d5e3fe9925bd317db7"/>
          <p:cNvPicPr/>
          <p:nvPr/>
        </p:nvPicPr>
        <p:blipFill>
          <a:blip r:embed="rId1"/>
          <a:stretch/>
        </p:blipFill>
        <p:spPr>
          <a:xfrm>
            <a:off x="0" y="1265400"/>
            <a:ext cx="9144000" cy="48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6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预防火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16080"/>
            <a:ext cx="868680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 预防校园火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首先应了解身处的宿舍是否存在火灾隐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乱接电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在宿舍吸烟，更不躺在床上吸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乱扔烟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在床上、被窝玩笔记本电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使用热得快、电水壶等设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擅自使用电炉、酒精炉等器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⑦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在宿舍焚烧物品，存放易燃易爆物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⑧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灯不要靠近枕头和被褥，且台灯上不挂衣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13" descr="28b1OOOPIC2e"/>
          <p:cNvPicPr/>
          <p:nvPr/>
        </p:nvPicPr>
        <p:blipFill>
          <a:blip r:embed="rId1"/>
          <a:srcRect l="6324" t="10108" r="0" b="8830"/>
          <a:stretch/>
        </p:blipFill>
        <p:spPr>
          <a:xfrm>
            <a:off x="5724360" y="2050920"/>
            <a:ext cx="34196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预防火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13040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预防家庭火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4" descr=""/>
          <p:cNvPicPr/>
          <p:nvPr/>
        </p:nvPicPr>
        <p:blipFill>
          <a:blip r:embed="rId1"/>
          <a:srcRect l="21781" t="31713" r="21795" b="14567"/>
          <a:stretch/>
        </p:blipFill>
        <p:spPr>
          <a:xfrm>
            <a:off x="133200" y="1558800"/>
            <a:ext cx="90108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小锦囊：煤气泄漏正确的自救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822960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发现煤气泄漏，首先，打开窗户，确保室内人员不会因为缺氧晕倒。其次，关掉煤气总阀。最后，拿起手机到户外拨打报警电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煤气泄漏发生在干燥的冬季，请步伐平稳、缓慢地走出家门，以防毛衣上携带的静电成为爆炸的起火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若条件允许，可以在室内安装气体泄漏报警器。它响亮的蜂鸣可以提醒室内人员。当你听见蜂鸣响声时，千万不要开灯，不要接打电话，这都可能导致爆炸，危及生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6" descr="ldpi_756395_2b69d4a90-9272-4669-8a54-726ef344587b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57200" y="414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77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770" fill="hold"/>
                                        <p:tgtEl>
                                          <p:spTgt spid="6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火灾自救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小火自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身边突然有小火苗蹿出，不要惊慌失措，应快速反应，扑灭火苗。具体的灭火措施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7"/>
          <p:cNvGrpSpPr/>
          <p:nvPr/>
        </p:nvGrpSpPr>
        <p:grpSpPr>
          <a:xfrm>
            <a:off x="1403280" y="2987640"/>
            <a:ext cx="2734920" cy="2622240"/>
            <a:chOff x="1403280" y="2987640"/>
            <a:chExt cx="2734920" cy="2622240"/>
          </a:xfrm>
        </p:grpSpPr>
        <p:pic>
          <p:nvPicPr>
            <p:cNvPr id="616" name="Picture 5" descr="555be4b53c374"/>
            <p:cNvPicPr/>
            <p:nvPr/>
          </p:nvPicPr>
          <p:blipFill>
            <a:blip r:embed="rId1"/>
            <a:stretch/>
          </p:blipFill>
          <p:spPr>
            <a:xfrm>
              <a:off x="1403280" y="2987640"/>
              <a:ext cx="2734920" cy="22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Rectangle 6"/>
            <p:cNvSpPr/>
            <p:nvPr/>
          </p:nvSpPr>
          <p:spPr>
            <a:xfrm>
              <a:off x="1403280" y="5206680"/>
              <a:ext cx="2734920" cy="403200"/>
            </a:xfrm>
            <a:prstGeom prst="rect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床单被褥起火用水扑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10"/>
          <p:cNvGrpSpPr/>
          <p:nvPr/>
        </p:nvGrpSpPr>
        <p:grpSpPr>
          <a:xfrm>
            <a:off x="5148360" y="2843280"/>
            <a:ext cx="2801880" cy="2622600"/>
            <a:chOff x="5148360" y="2843280"/>
            <a:chExt cx="2801880" cy="2622600"/>
          </a:xfrm>
        </p:grpSpPr>
        <p:pic>
          <p:nvPicPr>
            <p:cNvPr id="619" name="Picture 8" descr="t01a615c39e54bf5388"/>
            <p:cNvPicPr/>
            <p:nvPr/>
          </p:nvPicPr>
          <p:blipFill>
            <a:blip r:embed="rId2"/>
            <a:stretch/>
          </p:blipFill>
          <p:spPr>
            <a:xfrm>
              <a:off x="5148360" y="2843280"/>
              <a:ext cx="2801880" cy="22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Rectangle 9"/>
            <p:cNvSpPr/>
            <p:nvPr/>
          </p:nvSpPr>
          <p:spPr>
            <a:xfrm>
              <a:off x="5148360" y="5062680"/>
              <a:ext cx="2801880" cy="403200"/>
            </a:xfrm>
            <a:prstGeom prst="rect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电器着火要迅速切断电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火灾自救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小火自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身边突然有小火苗蹿出，不要惊慌失措，应快速反应，扑灭火苗。具体的灭火措施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10"/>
          <p:cNvGrpSpPr/>
          <p:nvPr/>
        </p:nvGrpSpPr>
        <p:grpSpPr>
          <a:xfrm>
            <a:off x="900000" y="2716200"/>
            <a:ext cx="3384360" cy="2950920"/>
            <a:chOff x="900000" y="2716200"/>
            <a:chExt cx="3384360" cy="2950920"/>
          </a:xfrm>
        </p:grpSpPr>
        <p:pic>
          <p:nvPicPr>
            <p:cNvPr id="624" name="Picture 11" descr="201501121747486447"/>
            <p:cNvPicPr/>
            <p:nvPr/>
          </p:nvPicPr>
          <p:blipFill>
            <a:blip r:embed="rId1"/>
            <a:stretch/>
          </p:blipFill>
          <p:spPr>
            <a:xfrm>
              <a:off x="900000" y="2716200"/>
              <a:ext cx="3384360" cy="24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Rectangle 12"/>
            <p:cNvSpPr/>
            <p:nvPr/>
          </p:nvSpPr>
          <p:spPr>
            <a:xfrm>
              <a:off x="900000" y="5180040"/>
              <a:ext cx="3384360" cy="487080"/>
            </a:xfrm>
            <a:prstGeom prst="rect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油锅起火应关火盖上锅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13"/>
          <p:cNvGrpSpPr/>
          <p:nvPr/>
        </p:nvGrpSpPr>
        <p:grpSpPr>
          <a:xfrm>
            <a:off x="4941720" y="2641680"/>
            <a:ext cx="3744720" cy="3025440"/>
            <a:chOff x="4941720" y="2641680"/>
            <a:chExt cx="3744720" cy="3025440"/>
          </a:xfrm>
        </p:grpSpPr>
        <p:pic>
          <p:nvPicPr>
            <p:cNvPr id="627" name="Picture 14" descr="002hdIL3ty6FtCpqf3Zf3"/>
            <p:cNvPicPr/>
            <p:nvPr/>
          </p:nvPicPr>
          <p:blipFill>
            <a:blip r:embed="rId2"/>
            <a:stretch/>
          </p:blipFill>
          <p:spPr>
            <a:xfrm>
              <a:off x="4941720" y="2641680"/>
              <a:ext cx="3744720" cy="25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Rectangle 15"/>
            <p:cNvSpPr/>
            <p:nvPr/>
          </p:nvSpPr>
          <p:spPr>
            <a:xfrm>
              <a:off x="4941720" y="5199840"/>
              <a:ext cx="3744720" cy="467280"/>
            </a:xfrm>
            <a:prstGeom prst="rect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Arial"/>
                </a:rPr>
                <a:t>身上起火应迅速用东西扑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pt宝藏</dc:creator>
  <dc:description/>
  <cp:keywords/>
  <dc:language>en-US</dc:language>
  <cp:lastModifiedBy>m1508027</cp:lastModifiedBy>
  <dcterms:modified xsi:type="dcterms:W3CDTF">2016-07-12T06:11:22Z</dcterms:modified>
  <cp:revision>55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9</vt:lpwstr>
  </property>
</Properties>
</file>