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D42F-C440-4F85-87D0-5F0679E9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EB33-56D6-4BAD-9E09-2A4E6DBF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7A15-BA1B-4257-B290-81D2CE94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050B-BFC3-4F67-A8E5-E3DF46CE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3A63-180B-4289-9A5E-9F57D1F0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5DB1-45EA-4CFE-AE8F-8991C126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ECF8-01E7-4A8F-8654-5E13ECE1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10E0-0052-4EFA-A85F-F8D28D07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20FF-58CD-47B5-A0FC-6A977E0E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DE08-C111-463D-9FE6-AFCA2D08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2AB7-900C-48EB-A655-A28546F7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395A-3B36-4B0B-8188-B70DCD72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BC3B-0266-4F38-AAAE-186E95D9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BE43-F01C-4D49-B902-7C391EC9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95D2-065C-406A-ADFC-8AB7231D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BEFE-19E6-4B61-9E68-E573A78C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856F-0326-4A7C-9E1B-F7B73F99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09AB-A71E-40D2-B8A6-935971FB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29B6-C450-4A8B-A963-611084EC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B8F0-71EE-4F0B-9C8C-97711941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056-67D6-4592-80F0-0517B917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BFD9-DD94-4067-87C3-2976029D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F3F5-7DBB-4F62-BB96-7EE9F240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9F83-84A4-4439-B95E-AF6BE3B0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204D-5EE6-49F7-B900-E7B5ADB6A46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7000-6721-4FED-8E4B-F257147D57F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57000"/>
            <a:ext cx="80629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Arial"/>
                <a:ea typeface="华文新魏"/>
              </a:rPr>
              <a:t>家园共育</a:t>
            </a:r>
            <a:br>
              <a:rPr sz="7200"/>
            </a:b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—谈幼儿园教师家长关系的处理</a:t>
            </a:r>
            <a:r>
              <a:rPr b="0" lang="zh-CN" sz="3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508640"/>
            <a:ext cx="64008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cc33"/>
                </a:solidFill>
                <a:latin typeface="Arial"/>
                <a:ea typeface="楷体_GB2312"/>
              </a:rPr>
              <a:t>楚雄州幼儿园   金凤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cc33"/>
                </a:solidFill>
                <a:latin typeface="Arial"/>
                <a:ea typeface="楷体_GB2312"/>
              </a:rPr>
              <a:t>2012</a:t>
            </a:r>
            <a:r>
              <a:rPr b="1" i="1" lang="zh-CN" sz="2800" spc="-1" strike="noStrike">
                <a:solidFill>
                  <a:srgbClr val="33cc33"/>
                </a:solidFill>
                <a:latin typeface="Arial"/>
                <a:ea typeface="楷体_GB2312"/>
              </a:rPr>
              <a:t>年</a:t>
            </a:r>
            <a:r>
              <a:rPr b="1" i="1" lang="zh-CN" sz="2800" spc="-1" strike="noStrike">
                <a:solidFill>
                  <a:srgbClr val="33cc33"/>
                </a:solidFill>
                <a:latin typeface="Arial"/>
                <a:ea typeface="楷体_GB2312"/>
              </a:rPr>
              <a:t>1</a:t>
            </a:r>
            <a:r>
              <a:rPr b="1" i="1" lang="zh-CN" sz="2800" spc="-1" strike="noStrike">
                <a:solidFill>
                  <a:srgbClr val="33cc33"/>
                </a:solidFill>
                <a:latin typeface="Arial"/>
                <a:ea typeface="楷体_GB2312"/>
              </a:rPr>
              <a:t>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7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7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7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与家长谈话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选择时机，场地：避开家长高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注意说话的态度和语气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多听家长的愿望、需求、意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&lt;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三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&gt;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分类处理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对症下药、药到病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50920" y="2565360"/>
            <a:ext cx="2476440" cy="1876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500720" y="2781360"/>
            <a:ext cx="2476440" cy="2289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3059280" y="2637000"/>
            <a:ext cx="16477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3316"/>
                </a:solidFill>
                <a:latin typeface="Arial"/>
              </a:rPr>
              <a:t>常见的三种类型：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、弱势类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、常规类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、刺头（钉子户）类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ff"/>
                </a:solidFill>
                <a:latin typeface="Arial"/>
              </a:rPr>
              <a:t>注意与家长沟通的语言艺术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5616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Arial"/>
              </a:rPr>
              <a:t>用平和的语气，委婉的态度，一分为二的观点与家长交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Arial"/>
              </a:rPr>
              <a:t>语言得体、有分寸，称呼得当 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Arial"/>
              </a:rPr>
              <a:t>先讲优点，后讲缺点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Arial"/>
              </a:rPr>
              <a:t>言行、动作恰当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Arial"/>
              </a:rPr>
              <a:t>忌：告状式、教训式语气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964720" y="1773360"/>
            <a:ext cx="179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6666ff"/>
              </a:solidFill>
              <a:latin typeface="Arial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-819000"/>
            <a:ext cx="9144000" cy="7677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-747720"/>
            <a:ext cx="85406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3316"/>
                </a:solidFill>
                <a:latin typeface="Arial"/>
              </a:rPr>
              <a:t>注意在与家长沟通时的情感、态度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31640" y="549360"/>
            <a:ext cx="69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尊重家长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真诚与家长交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细心听取家长的意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换位思考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多途径与家长沟通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7345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通过家教园地与家长进行沟通、交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（温馨提示、请您帮忙、家长信箱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组织“快乐星期天”活动，增进与家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的沟通、交流（郊游、登山、农家乐、游乐场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利用现代化技术途径与家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进行沟通、交流。（短讯、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QQ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群、邮箱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-252360" y="-387360"/>
            <a:ext cx="9793080" cy="7245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964872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3316"/>
                </a:solidFill>
                <a:latin typeface="Arial"/>
              </a:rPr>
              <a:t>与家长沟通的方法：</a:t>
            </a:r>
            <a:br>
              <a:rPr sz="4000"/>
            </a:br>
            <a:br>
              <a:rPr sz="4000"/>
            </a:b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一句话沟通法：利用接孩子环节用一两句简洁明了的话向家长反映情况。</a:t>
            </a:r>
            <a:br>
              <a:rPr sz="2000"/>
            </a:b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（常规类家长）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真情感动法：孩子发展中没什么太大的问题，家长总有许多的不放心。</a:t>
            </a:r>
            <a:br>
              <a:rPr sz="2000"/>
            </a:b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（弱势类、刺头类）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3212640"/>
            <a:ext cx="85406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3316"/>
                </a:solidFill>
                <a:latin typeface="Arial"/>
              </a:rPr>
              <a:t>注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3316"/>
                </a:solidFill>
                <a:latin typeface="Arial"/>
              </a:rPr>
              <a:t>特殊事件主动、坦诚与家长沟通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3316"/>
                </a:solidFill>
                <a:latin typeface="Arial"/>
              </a:rPr>
              <a:t>保护家庭隐私，保护孩子的自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549360"/>
            <a:ext cx="85406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3316"/>
                </a:solidFill>
                <a:latin typeface="Arial"/>
              </a:rPr>
              <a:t>沟 通 的 策 略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根据家长性别的不同，选择不同的沟通策略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根据家长年龄的不同，选择不同的沟通策略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根据家长对孩子的期望值，选择不同的沟通策略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根据家长的受教育程度，选择不同的沟通策略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根据孩子的个人状况，选择不同的沟通策略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549360"/>
            <a:ext cx="85406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3316"/>
                </a:solidFill>
                <a:latin typeface="Arial"/>
              </a:rPr>
              <a:t>沟 通 的 策 略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7799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以交流孩子情况为主的沟通策略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以反映孩子问题为主的沟通策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以布置配合工作为主的沟通策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孩子在幼儿园出现事故时的沟通策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家长误解情绪过激时的沟通策略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共     勉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19280" y="1599840"/>
            <a:ext cx="6192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对人的工作是最复杂的事。千变万化、形形色色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本着：真诚、公正、人性、合理合法的原则，与家长交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工作的过程就是学的过程，是自己事业的第一步，主观上为幼儿园、客观上就是为自己。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3316"/>
                </a:solidFill>
                <a:latin typeface="Arial"/>
              </a:rPr>
              <a:t>幼儿教师：心存理想蓝天，工作脚踏实地，有善良心地。</a:t>
            </a:r>
            <a:r>
              <a:rPr b="0" lang="zh-CN" sz="2400" spc="-1" strike="noStrike">
                <a:solidFill>
                  <a:srgbClr val="e4331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                                  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请批评指正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                                          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谢谢大家！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06" dur="2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08" dur="2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10" dur="2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教师处理家长关系是一门艺术、是一门学问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842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Arial"/>
                <a:ea typeface="华文新魏"/>
              </a:rPr>
              <a:t>教育角度：处理好家长关系，与家长有效沟通，积极寻找教育幼 儿的最佳切入点，从而提高教育质量，发展幼儿个性，充分利用家长资，为幼儿园的发展服务，为幼儿教育服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Arial"/>
                <a:ea typeface="华文新魏"/>
              </a:rPr>
              <a:t>教师角度：可以提高教师的教育素质，树立良好的教师“口碑”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Arial"/>
                <a:ea typeface="华文新魏"/>
              </a:rPr>
              <a:t>幼儿园发展的角度：显得犹为重要，教师好—幼儿园好，宣传幼儿园，扩大社会声誉，影响生源，决定幼儿园的生存和发展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cc"/>
                </a:solidFill>
                <a:latin typeface="Arial"/>
              </a:rPr>
              <a:t>一、幼儿园教师家长关系的处理方式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、集中型处理：家长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、日常型处理：每天接送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、分类处理：个别谈话、家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&lt;</a:t>
            </a: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一</a:t>
            </a: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&gt;</a:t>
            </a: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集中型处理（家长会）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      ①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新生家长会：仪容仪表、教师服务承诺、                      个人自我介绍、园长气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微笑、阳光、亲和、干练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严禁：严肃、呆板、说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               ②</a:t>
            </a: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班级家长会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会前准备非常重要：查保教理论资料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                       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掌握孩子年龄特点、拟提纲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                           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该说什么，不该说什么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                       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（ 专业、言简意赅、短而精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          ③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隔代家长会”（爷爷奶奶辈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播放电影、视频孩子对老师的关爱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先感动他们，再提要求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cc"/>
                </a:solidFill>
                <a:latin typeface="Arial"/>
              </a:rPr>
              <a:t>④</a:t>
            </a:r>
            <a:r>
              <a:rPr b="0" lang="zh-CN" sz="4400" spc="-1" strike="noStrike">
                <a:solidFill>
                  <a:srgbClr val="0066cc"/>
                </a:solidFill>
                <a:latin typeface="Arial"/>
              </a:rPr>
              <a:t>毕业生家长会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7993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请毕业生家长发言、毕业的优秀学生到会发言、送礼物（孩子在园的活动、表演、学习、生活、玩耍的有意义的视频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DV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、纪念照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组织有意义的感恩系列活动：唱歌、表演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朗诵、献花、种纪念树、签名留念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cc33"/>
                </a:solidFill>
                <a:latin typeface="Arial"/>
              </a:rPr>
              <a:t>&lt;</a:t>
            </a:r>
            <a:r>
              <a:rPr b="0" lang="zh-CN" sz="4400" spc="-1" strike="noStrike">
                <a:solidFill>
                  <a:srgbClr val="33cc33"/>
                </a:solidFill>
                <a:latin typeface="Arial"/>
              </a:rPr>
              <a:t>二</a:t>
            </a:r>
            <a:r>
              <a:rPr b="0" lang="zh-CN" sz="4400" spc="-1" strike="noStrike">
                <a:solidFill>
                  <a:srgbClr val="33cc33"/>
                </a:solidFill>
                <a:latin typeface="Arial"/>
              </a:rPr>
              <a:t>&gt;</a:t>
            </a:r>
            <a:r>
              <a:rPr b="0" lang="zh-CN" sz="4400" spc="-1" strike="noStrike">
                <a:solidFill>
                  <a:srgbClr val="33cc33"/>
                </a:solidFill>
                <a:latin typeface="Arial"/>
              </a:rPr>
              <a:t>日常处理方式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家长看到的一刹那，决定你一日的工作成效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把好两个重要环节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、朝迎（晨接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第一关：幼儿园大门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礼仪、微笑、阳光、温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第二关：教室门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热情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自信</a:t>
            </a:r>
            <a:r>
              <a:rPr b="0" lang="zh-CN" sz="3200" spc="-1" strike="noStrike">
                <a:solidFill>
                  <a:srgbClr val="e43316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微笑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平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职业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同意</a:t>
            </a:r>
            <a:r>
              <a:rPr b="0" lang="zh-CN" sz="3200" spc="-1" strike="noStrike">
                <a:solidFill>
                  <a:srgbClr val="e43316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干练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精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、晚送（孩子离园）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3316"/>
                </a:solidFill>
                <a:latin typeface="Arial"/>
              </a:rPr>
              <a:t>离开一天的家长，迫不及待见到孩子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3316"/>
                </a:solidFill>
                <a:latin typeface="Arial"/>
              </a:rPr>
              <a:t>看：家长首先看孩子是否毫发无损，是否开心有笑脸、孩子的仪容仪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3316"/>
                </a:solidFill>
                <a:latin typeface="Arial"/>
              </a:rPr>
              <a:t>问：学什么、吃什么、老师批评你了吗，其他孩子欺负你吗，玩得开心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66ff"/>
                </a:solidFill>
                <a:latin typeface="Arial"/>
              </a:rPr>
              <a:t>              </a:t>
            </a:r>
            <a:r>
              <a:rPr b="0" lang="zh-CN" sz="4400" spc="-1" strike="noStrike">
                <a:solidFill>
                  <a:srgbClr val="6666ff"/>
                </a:solidFill>
                <a:latin typeface="Arial"/>
              </a:rPr>
              <a:t>保障晚送成功的三个环节：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生活整理</a:t>
            </a: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清洁手和脸、梳头、整理衣裤、鞋子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② </a:t>
            </a: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一日美好生活回忆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不是全部重复，只 强化重要事项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   ③ </a:t>
            </a: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调动幼儿快乐情绪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游戏、滑稽表演、趣味儿歌、模仿游戏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66cc"/>
                </a:solidFill>
                <a:latin typeface="Arial"/>
              </a:rPr>
              <a:t>笑话、幽默小故事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06:54:42Z</dcterms:created>
  <dc:creator>猪猪猫.CN</dc:creator>
  <dc:description/>
  <dc:language>en-US</dc:language>
  <cp:lastModifiedBy>用户州幼儿园</cp:lastModifiedBy>
  <dcterms:modified xsi:type="dcterms:W3CDTF">2012-01-08T13:41:59Z</dcterms:modified>
  <cp:revision>23</cp:revision>
  <dc:subject/>
  <dc:title>中国幼儿园博览会暨优质品牌幼儿园创建与发展研讨会 </dc:title>
</cp:coreProperties>
</file>