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E2D-1220-479D-ABC3-3F38319E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F02-D8C0-4AE0-A55C-DA1373FF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2ED-26A6-4F68-93E5-010EE852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4DA-6B44-487C-8521-CC8AAB14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BC1-4536-43FE-BD08-C8E63267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585-2F3C-422A-8993-F17A9815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6B7-FE87-4442-AACB-C08928B9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46E-DF77-4A2C-97D2-780806FD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B32-B4D5-41BC-8333-83BC303F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05A-FAD2-473D-8F6A-590DE19B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8FD-3A53-4107-8D30-6F7AE9C8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742-9EF2-4177-AB0E-704F28E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0B77-31B8-4DE0-84E6-482FC2F190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724360" y="3414600"/>
            <a:ext cx="42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071720" y="2565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016440" y="2805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21520" y="2276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7375680" y="2781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403280" y="170028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62120" y="318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769760" y="4627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877000" y="2755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554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816520" y="57340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64000" y="1413000"/>
            <a:ext cx="34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588000" y="4076640"/>
            <a:ext cx="22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08000" y="350208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39800" y="57801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372360" y="59500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ppt宝藏</dc:creator>
  <dc:description/>
  <cp:keywords/>
  <dc:language>en-US</dc:language>
  <cp:lastModifiedBy>clf2015</cp:lastModifiedBy>
  <cp:lastPrinted>1899-12-30T00:00:00Z</cp:lastPrinted>
  <dcterms:modified xsi:type="dcterms:W3CDTF">2015-09-08T07:20:48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