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22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.png" ContentType="image/png"/>
  <Override PartName="/ppt/media/image9.png" ContentType="image/png"/>
  <Override PartName="/ppt/media/image44.jpeg" ContentType="image/jpeg"/>
  <Override PartName="/ppt/media/image30.gif" ContentType="image/gif"/>
  <Override PartName="/ppt/media/image8.png" ContentType="image/png"/>
  <Override PartName="/ppt/media/image14.jpeg" ContentType="image/jpeg"/>
  <Override PartName="/ppt/media/image28.gif" ContentType="image/gif"/>
  <Override PartName="/ppt/media/image37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39.wmf" ContentType="image/x-wmf"/>
  <Override PartName="/ppt/media/image41.png" ContentType="image/png"/>
  <Override PartName="/ppt/media/image40.png" ContentType="image/png"/>
  <Override PartName="/ppt/media/image45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5.png" ContentType="image/png"/>
  <Override PartName="/ppt/media/image43.jpeg" ContentType="image/jpeg"/>
  <Override PartName="/ppt/media/image33.jpeg" ContentType="image/jpeg"/>
  <Override PartName="/ppt/media/image4.gif" ContentType="image/gif"/>
  <Override PartName="/ppt/media/image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00C-C7A0-4999-90E9-C5220FF3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CC5-3487-4237-B028-F5C26312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B80-DBE5-4A24-973F-6A319C56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EC8-B070-4DD5-81DD-3120FACE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BC7B-2F52-444F-BDF2-648E6E9B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355D-4E25-449E-8641-20F56359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568E-5C76-4B7E-8E8A-8253B120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0515-C9C6-47BA-8B7B-4E5DFE32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0DAB-9604-4DBE-9388-775C59BF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A067-3D2C-4521-A0EE-D18A25B0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DC77-04DE-4968-870F-B2BD6817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92B-745E-41AC-B647-C4D06DDF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4705-6F83-49B7-9005-3829E5DC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6A67-1B99-483A-903E-9CEC9F67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5077-AF47-4C29-8AF9-CB9CAF14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D4A4-6AAA-4AD6-AE88-B7B1DBFB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F5B0-0E19-4616-A4D8-BAD734BA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21621-21AB-43A5-84E8-1E739145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BFF95-F82A-41BA-9751-0C864D5A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0267F-552E-485B-BD91-9E6DEDE5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97AA-D129-4DEB-AC84-4F89A4D1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34387-864C-4C0A-9E43-AAE3057B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765-AB63-4B18-9892-FC0F506C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46B9-1941-445E-A8E1-4B6BC1A2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3A693-514A-4097-90FB-843DEF8C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C2D8-D329-4C9C-A5A5-D1F92815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E6D53-F754-47D8-A823-54749C99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5A3BC-490C-4D99-A682-B212B619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6120-590F-45A0-9A56-49DBAF70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53282-83B0-4FB7-8873-B24D2345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C9F-8C72-4FA2-A6F0-D4A38260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F09-361A-46BB-B589-CA83A423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E2D-1819-4554-8A61-669D0EBC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B69-E1D1-4312-9DAC-330722E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2F8-F41A-4857-9490-79C82D04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413-DC33-447D-9F7D-D0ED7439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0E9A-92A8-4550-B255-A843B711B0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63F7-C7BC-4435-A815-F05A649FD4C1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20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20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B545-C464-4EEF-848B-1CD566F43B74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8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slide" Target="slide23.xml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4.pn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4.pn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" Target="slide3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" Target="slide3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340000" y="342900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金秋，门已打开！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87280" y="5300640"/>
            <a:ext cx="705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进入高中，你准备好了没有？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900000" y="3079080"/>
            <a:ext cx="7489800" cy="642600"/>
          </a:xfrm>
          <a:prstGeom prst="rect">
            <a:avLst/>
          </a:prstGeom>
          <a:solidFill>
            <a:srgbClr val="ffff99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文的魅力在于读和写。当你静下心来，烹一壶清茶，煮一杯咖啡，放一曲悠扬的音乐，打开书卷，书中世界，洋洋大观，尽收眼底，可观宇宙之大，可察品类之盛，可神交于古人，可觅知音于今人，岂不雅哉？岂不乐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16000" y="1805760"/>
            <a:ext cx="7153200" cy="3385800"/>
          </a:xfrm>
          <a:prstGeom prst="rect">
            <a:avLst/>
          </a:prstGeom>
          <a:solidFill>
            <a:srgbClr val="ffff99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可以畅叙幽情，写可以净化心灵，升华理想，写可以感化同类，启迪世人，写可以展露才华，获得知音，写甚至可以写出百世之典范：“盖文章，经国之大业，不朽之盛事”，当自己的文章能为老百姓做点什么的时候，这就是“不朽之盛事”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484360" y="2852640"/>
            <a:ext cx="261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50920" y="1073160"/>
            <a:ext cx="6761160" cy="2139840"/>
            <a:chOff x="250920" y="1073160"/>
            <a:chExt cx="6761160" cy="2139840"/>
          </a:xfrm>
        </p:grpSpPr>
        <p:pic>
          <p:nvPicPr>
            <p:cNvPr id="310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1073160"/>
              <a:ext cx="676116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82560" y="1436760"/>
              <a:ext cx="590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Arial"/>
                  <a:ea typeface="方正舒体"/>
                </a:rPr>
                <a:t>丰富生命内蕴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635280" y="620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我读小说是为了使自己更悲观。我不想变成畜生， 很大程度上要靠优美小说保护我的人性， 使我在衣食无忧一帆风顺中也有机会心情黯淡、绝望、眼泪汪汪。 一想起自己就觉得比别人善良、敏感、多情以及深沉。 这就是我的阅读趣味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613240" cy="340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6012000" y="3573360"/>
            <a:ext cx="2582640" cy="28400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0" y="404640"/>
            <a:ext cx="5924520" cy="647640"/>
            <a:chOff x="0" y="404640"/>
            <a:chExt cx="5924520" cy="647640"/>
          </a:xfrm>
        </p:grpSpPr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0" y="404640"/>
              <a:ext cx="56721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>
              <a:hlinkClick r:id="rId4" action="ppaction://hlinksldjump"/>
            </p:cNvPr>
            <p:cNvSpPr/>
            <p:nvPr/>
          </p:nvSpPr>
          <p:spPr>
            <a:xfrm>
              <a:off x="395280" y="477720"/>
              <a:ext cx="552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你表达了自己，你才获得生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050920" y="1989000"/>
            <a:ext cx="4176720" cy="2520720"/>
            <a:chOff x="2050920" y="1989000"/>
            <a:chExt cx="4176720" cy="2520720"/>
          </a:xfrm>
        </p:grpSpPr>
        <p:sp>
          <p:nvSpPr>
            <p:cNvPr id="320" name=""/>
            <p:cNvSpPr/>
            <p:nvPr/>
          </p:nvSpPr>
          <p:spPr>
            <a:xfrm>
              <a:off x="2050920" y="1989000"/>
              <a:ext cx="4176720" cy="2520720"/>
            </a:xfrm>
            <a:prstGeom prst="cloudCallout">
              <a:avLst>
                <a:gd name="adj1" fmla="val 50152"/>
                <a:gd name="adj2" fmla="val 75662"/>
              </a:avLst>
            </a:prstGeom>
            <a:solidFill>
              <a:srgbClr val="cc99ff">
                <a:alpha val="62000"/>
              </a:srgbClr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97080" y="2563920"/>
              <a:ext cx="200952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b7c1e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表达自我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3059280" y="-334800"/>
            <a:ext cx="5689440" cy="5411520"/>
            <a:chOff x="3059280" y="-334800"/>
            <a:chExt cx="5689440" cy="5411520"/>
          </a:xfrm>
        </p:grpSpPr>
        <p:sp>
          <p:nvSpPr>
            <p:cNvPr id="326" name=""/>
            <p:cNvSpPr/>
            <p:nvPr/>
          </p:nvSpPr>
          <p:spPr>
            <a:xfrm>
              <a:off x="3059280" y="765000"/>
              <a:ext cx="5689440" cy="28083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79680" y="836640"/>
              <a:ext cx="2313360" cy="32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春日宴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绿酒一杯歌一遍，再拜陈三愿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愿郎君千岁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愿妾身长健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三愿如同梁上燕，岁岁长相见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94880" y="-334800"/>
              <a:ext cx="1277640" cy="54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长命女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·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春日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                  </a:t>
              </a:r>
              <a:r>
                <a:rPr b="1" lang="zh-CN" sz="2000" spc="-1" strike="noStrike">
                  <a:solidFill>
                    <a:srgbClr val="40458c"/>
                  </a:solidFill>
                  <a:latin typeface="Arial"/>
                  <a:ea typeface="楷体_GB2312"/>
                </a:rPr>
                <a:t>冯延巳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755640" y="143640"/>
            <a:ext cx="3600360" cy="5070240"/>
            <a:chOff x="755640" y="143640"/>
            <a:chExt cx="3600360" cy="5070240"/>
          </a:xfrm>
        </p:grpSpPr>
        <p:sp>
          <p:nvSpPr>
            <p:cNvPr id="333" name=""/>
            <p:cNvSpPr/>
            <p:nvPr/>
          </p:nvSpPr>
          <p:spPr>
            <a:xfrm>
              <a:off x="755640" y="260280"/>
              <a:ext cx="3600360" cy="4392720"/>
            </a:xfrm>
            <a:prstGeom prst="verticalScrol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55200" y="143640"/>
              <a:ext cx="2008800" cy="50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门对青山摇钱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户迎绿水聚宝盆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00200" y="1752480"/>
            <a:ext cx="46483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热爱语文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692360" y="3500280"/>
            <a:ext cx="5943600" cy="14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学好语文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70560" y="4782960"/>
            <a:ext cx="4465440" cy="19591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2852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6804000" y="1341360"/>
            <a:ext cx="16556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学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867280" y="2205000"/>
            <a:ext cx="151128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无涯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4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-108000" y="5715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684360" y="3078000"/>
            <a:ext cx="4895640" cy="20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何作舟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95280" y="260280"/>
            <a:ext cx="8070840" cy="311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619280" y="2060640"/>
            <a:ext cx="5761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语文的魅力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55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468360" y="5950080"/>
            <a:ext cx="8286840" cy="311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611280" y="692280"/>
            <a:ext cx="360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开学第一课：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兴趣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2916360" y="765000"/>
            <a:ext cx="5451480" cy="657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方法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352" name=""/>
          <p:cNvSpPr/>
          <p:nvPr/>
        </p:nvSpPr>
        <p:spPr>
          <a:xfrm>
            <a:off x="3181320" y="2162160"/>
            <a:ext cx="547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积累（背、默、抄、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81320" y="3075120"/>
            <a:ext cx="5962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顿悟（悟性、思考、灵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81320" y="3867120"/>
            <a:ext cx="563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创造（写作、读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-900000" y="-677880"/>
            <a:ext cx="10045440" cy="75358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习惯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2050920" y="1773360"/>
            <a:ext cx="5451480" cy="657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坚持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0200" cy="6937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2340000" y="404640"/>
            <a:ext cx="5451480" cy="657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信心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96440" cy="7115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34440" y="31240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学会积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3352680" cy="292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482560" y="380880"/>
            <a:ext cx="40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学 会 欣 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0" y="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029200" y="152388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24240" y="327960"/>
            <a:ext cx="164340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学会写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492360" y="3716280"/>
            <a:ext cx="53755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 </a:t>
            </a:r>
            <a:r>
              <a:rPr b="0" lang="zh-CN" sz="106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规 范 字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355920" cy="4419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00720" y="1700280"/>
            <a:ext cx="287964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书写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119700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现代汉语词典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古汉语常用字字典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90720" y="304920"/>
            <a:ext cx="53337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必备工具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8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4861080" y="5138640"/>
            <a:ext cx="3714480" cy="58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24000" y="327600"/>
            <a:ext cx="8712000" cy="18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　　语文学科的魅力在于语音的抑扬顿挫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文字的象形意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词语的丰富多彩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话语的妙趣横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6920" y="1697040"/>
            <a:ext cx="5689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－－朱学坤《语文的魅力 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48067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42764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411280" y="981000"/>
            <a:ext cx="6337440" cy="5256360"/>
          </a:xfrm>
          <a:prstGeom prst="parallelogram">
            <a:avLst>
              <a:gd name="adj" fmla="val 30142"/>
            </a:avLst>
          </a:prstGeom>
          <a:solidFill>
            <a:srgbClr val="666699"/>
          </a:solidFill>
          <a:ln w="12600">
            <a:solidFill>
              <a:srgbClr val="333399"/>
            </a:solidFill>
            <a:miter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89480" y="1773360"/>
            <a:ext cx="2009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个年轻的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股蕴藏的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坛原封的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个未完成的理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正待燃烧的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99ff"/>
                </a:solidFill>
                <a:latin typeface="Tahoma"/>
                <a:ea typeface="华文行楷"/>
              </a:rPr>
              <a:t>蕾</a:t>
            </a:r>
            <a:endParaRPr b="0" lang="en-US" sz="15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-108000" y="270828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个年轻的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股蕴藏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坛原封的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个未完成的理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正待燃烧的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55280" y="212724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邹荻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1800360" y="2725560"/>
            <a:ext cx="5508720" cy="4132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619280" y="40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季姬寂，集鸡，鸡即棘鸡。棘鸡饥叽，季姬及箕稷济鸡。鸡既济，跻姬笈，季姬忌，急咭鸡，鸡急，继圾几，季姬急，即籍箕击鸡，箕疾击几 伎，伎即齑，鸡叽集几基，季姬急极屐击鸡，鸡既殛，季姬激，即记《季姬击鸡记》。（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78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2708280"/>
            <a:ext cx="51134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季姬感到寂寞，罗集了一些鸡来养，是那种出自荆棘丛中的野鸡。野鸡饿了叫叽叽，季姬就拿竹箕中的小米喂它们。鸡吃饱了，跳到季姬的书箱上，季姬怕脏，忙叱赶鸡，鸡吓急了，就接着跳到几桌上，季姬更着急了，就借竹箕为赶鸡的工具，投击野鸡，竹箕得投速很快，却打中了几桌上的陶伎俑，那陶伎俑掉到地下，竟粉碎了。季姬眼一瞧，鸡躲在几桌下乱叫，季姬一怒之下，脱下木屐鞋来打鸡，把鸡打死了。想着养鸡的经过，季姬激动起来，就写了这篇《 季 姬 击 鸡 记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39640" y="189000"/>
            <a:ext cx="1019160" cy="2232000"/>
            <a:chOff x="539640" y="189000"/>
            <a:chExt cx="1019160" cy="2232000"/>
          </a:xfrm>
        </p:grpSpPr>
        <p:pic>
          <p:nvPicPr>
            <p:cNvPr id="264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39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39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267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字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 txBox="1"/>
          <p:nvPr/>
        </p:nvSpPr>
        <p:spPr>
          <a:xfrm rot="5400000">
            <a:off x="4747680" y="2238120"/>
            <a:ext cx="4255920" cy="11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黑体"/>
              </a:rPr>
              <a:t>屡战屡败的曾国藩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716360" y="5157720"/>
            <a:ext cx="3934080" cy="647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579680" y="380880"/>
            <a:ext cx="4000320" cy="581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885080" y="-9360"/>
            <a:ext cx="2068560" cy="68673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2068560" cy="6867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826920" y="0"/>
            <a:ext cx="2068560" cy="6867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179280" y="-9360"/>
            <a:ext cx="2068560" cy="6867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007000" y="2868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愁断肝肠无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04200" y="6494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天长夜短门半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3840" y="2868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小姐等到月斜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67600" y="6494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山高路远没口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28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字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秦观的回环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2043720"/>
            <a:ext cx="5904000" cy="350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    赏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　　     花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时　  　　　　归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醒　　  　　　　　去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微　　　　　　马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　  　　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酒   飞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08000" y="3718080"/>
            <a:ext cx="3024000" cy="302400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290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楷体_GB2312"/>
                </a:rPr>
                <a:t>句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3708360" y="1341360"/>
            <a:ext cx="3044880" cy="309564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3203640" y="907920"/>
            <a:ext cx="4465440" cy="4022640"/>
            <a:chOff x="3203640" y="907920"/>
            <a:chExt cx="4465440" cy="4022640"/>
          </a:xfrm>
        </p:grpSpPr>
        <p:sp>
          <p:nvSpPr>
            <p:cNvPr id="294" name=""/>
            <p:cNvSpPr/>
            <p:nvPr/>
          </p:nvSpPr>
          <p:spPr>
            <a:xfrm>
              <a:off x="3203640" y="907920"/>
              <a:ext cx="4465440" cy="402264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11640" y="1484280"/>
              <a:ext cx="2793600" cy="33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可以清心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以清心也可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清心也可以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心也可以清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也可以清心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3657600" cy="4919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-304920" y="2859120"/>
            <a:ext cx="5651640" cy="399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4479840" y="333360"/>
          <a:ext cx="3187800" cy="652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9840" y="333360"/>
                    <a:ext cx="318780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301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篇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45:30Z</dcterms:created>
  <dc:creator>xzmgq</dc:creator>
  <dc:description/>
  <dc:language>en-US</dc:language>
  <cp:lastModifiedBy>未知用户</cp:lastModifiedBy>
  <dcterms:modified xsi:type="dcterms:W3CDTF">2010-08-28T05:37:25Z</dcterms:modified>
  <cp:revision>76</cp:revision>
  <dc:subject/>
  <dc:title>萌</dc:title>
</cp:coreProperties>
</file>