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3.jpeg" ContentType="image/jpeg"/>
  <Override PartName="/ppt/media/image27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893C-8DCB-4821-BD9A-D9BAF9BABF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9D3-B48B-4447-A194-ADF2E079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D31-4822-444E-A711-DA6FDE10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322-E6CF-444B-AD5E-B3DD47F0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87F-7F4C-4414-B1D8-7AD7737F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1CE9-E606-4432-BB5D-8007985F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50E-B1E6-43EF-A9F3-751ACAD4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8172-A40D-4561-837E-E47514FC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57AD-B27E-4E09-841E-1246C87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9808-860D-4B42-A14E-799AB261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F3E-8E62-4696-9F1B-4E28E331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7130-BABA-4AE5-A3A4-D5A01E7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D3C-F997-4204-85A5-7CB78DC6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E6E2-E69A-4548-898C-5A9B9BD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52BA-90DD-4CAB-81C0-91623BA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B53D-D86F-4A72-A429-864CC66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B93E-38D1-41D6-A303-F03E2BD9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0276-1494-4866-8F49-0A5F8965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DF89-77C1-4EB3-B847-60AC1BBC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2D0C-EAE9-4E5B-907F-7843FB5E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44D8-3663-4C16-9FBB-16D141E2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3EBF-0CBD-462B-BDDB-A0B97E88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9CA3-E509-4D25-8A93-8866EA8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B41-CBFA-4603-A7DB-B998F55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6388-6664-4C02-94F9-DD9E6DB9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894B-550F-47B6-B6CF-6A74CCB2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8805-278C-4159-8E42-BF36DA90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AAE9-5B9B-47AA-A871-685F274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E8C9-5FC7-4DF9-8C3E-5EF24FBC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09B6-922C-4E8D-B52F-CF1558B9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12C6-2F0E-49D1-BC6B-4D37B47F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9332-407B-4E1E-B0EF-3A49F3F8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6F4B-04D8-46C8-B1EC-81F12378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EF51-D714-4041-B315-72F589B9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869-565F-44F7-9A3A-6A77754B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02B6-FAC2-4AD5-BF4F-3DC0F24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7EA8-B8D3-41A1-830B-91A9AF20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5E91-6EE9-426F-BB1C-4ED2D8C6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502C-227E-42D8-8374-A14E6926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EE4D-549D-4499-9AE2-6F9F583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088A-BA36-4358-A2F0-97BEFFB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8D66-9C11-484A-B628-AA8E53D1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F2FB-4935-4BA7-8FE1-BAF241DA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0BBFA-7480-4FCD-80F2-8285CD68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E31D-226E-4110-B91D-1D66B1F9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A70-6E80-405E-9766-016DDF4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86341-06D0-4514-ACEF-1FA39820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00178-6325-4BBB-B3F3-107FE85D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A94F-C9C8-49E2-8222-61D65D66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E700-D6D7-4CC3-BCBC-E1DD9E27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5BFA9-CF9B-4B0E-8504-632A3056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B704-E104-4A64-BEC7-372D41F2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E50B-C102-4FD7-855F-F6B6E2BE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5E119-FAA9-41D1-A9E5-0ACFC97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57403-E901-4034-81D9-DD71DD67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B56EA-CD69-4644-B5C1-841E2DF4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983-7406-46F0-A5BF-8EC24C30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B6BC-EAB3-4536-A5CF-5748213B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B4E1-2228-4F80-8622-EE3B2441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32FB-4066-4E42-8A1E-6936A335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E38D8-C2E8-4F70-B67A-CC86E999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4AD5A-2ECD-4BC9-8A7A-A8E59D2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0DE9-4006-47E7-8041-7C65F522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477A6-2FDA-4D0E-AB98-949A383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C855-0B40-407C-940F-75622DE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3541-F3AB-4C1F-AAF7-659CCF46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08DC-531F-44A9-9845-61CEDDB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998-1765-462B-98E7-2BBF2E6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CC63B-3972-4F70-9DA0-E0D2A836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C8F56-4DF7-41BD-9247-EADA547C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E95D-3B5F-4D0A-877A-9C8DD624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2CB3A-8887-4D64-81DA-A088191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01013-D716-48DB-83B8-ADBEDD5C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50B32-225F-49E6-887E-72341E1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7B63F-BC82-4B78-81BA-7253F832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D1C3-E2F7-4A44-8EE6-9333C671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89AC-A13E-4D9F-A146-30F456C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8894E-6B8C-49D6-9F6E-7B8D017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8DC-398F-40CB-9758-9005B8F9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A6AA-7155-4BA5-B8CD-35CBB13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C1A28-0616-47F9-A587-8A42447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908C-AC3D-4AA0-B34A-DCCA371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74801-B641-43BD-9CFA-82E5301B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BDA0-5E06-44B4-A371-5C3BB338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3633E-F5C4-42EA-A256-9DA28BBF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0D4BB-59D4-4B83-A3AD-4E8FBD6C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868E-387C-4F0E-B772-5398FFC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1D9A7-FC5E-453E-8529-D71FC9C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15E3-7292-423E-90B9-0A95891C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D9C-3B1F-4E3B-A28F-DBF5C39F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9BB34-C6A7-4914-8CD0-60DA66A7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36B3F-FED8-4732-9476-4820EB0E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E2DA-791E-435B-B02D-1884E11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0EF62-D900-41D0-B886-59836EC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D718F-3DAC-40D9-824B-AAA1447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14A9F-A413-430A-A168-B56E3CAD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47ED6-86DF-4FCD-A9F1-8B72EEF5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3831-5336-4E6C-804E-349DA03F9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AC61-1A4F-46CF-B9F5-9F9308E4F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4" name="未知"/>
              <p:cNvSpPr/>
              <p:nvPr/>
            </p:nvSpPr>
            <p:spPr>
              <a:xfrm>
                <a:off x="2220840" y="1771560"/>
                <a:ext cx="446868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384120" y="1817640"/>
                <a:ext cx="875016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3755880" y="1693800"/>
                <a:ext cx="222084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6786360" y="3224160"/>
                <a:ext cx="199404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8" name=""/>
              <p:cNvSpPr/>
              <p:nvPr/>
            </p:nvSpPr>
            <p:spPr>
              <a:xfrm rot="6798600">
                <a:off x="97200" y="6161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798600">
                <a:off x="51120" y="6157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6798600">
                <a:off x="792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999400">
                <a:off x="330120" y="6163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999400">
                <a:off x="287280" y="617148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249600">
                <a:off x="24012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237600">
                <a:off x="19404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380200">
                <a:off x="574560" y="6139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380200">
                <a:off x="525960" y="61444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583000">
                <a:off x="478080" y="6152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737200">
                <a:off x="427320" y="6160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4715400">
                <a:off x="81792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4924800">
                <a:off x="77004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4924800">
                <a:off x="722520" y="6106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041200">
                <a:off x="67500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816600">
                <a:off x="1053000" y="59698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3816600">
                <a:off x="1005480" y="5998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104000">
                <a:off x="959040" y="60159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324800">
                <a:off x="911520" y="60364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367800">
                <a:off x="126720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367800">
                <a:off x="1224360" y="586980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367800">
                <a:off x="118116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816600">
                <a:off x="1137240" y="5925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02200">
                <a:off x="1426680" y="5724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707200">
                <a:off x="1389240" y="5753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707200">
                <a:off x="1348200" y="578232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308600">
                <a:off x="1689120" y="543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69800">
                <a:off x="1860120" y="5119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733800">
                <a:off x="1832040" y="52009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306000">
                <a:off x="1922040" y="491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1599400"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119400">
                <a:off x="1936440" y="4748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19400">
                <a:off x="1936440" y="47865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630400">
                <a:off x="1925280" y="4546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30400">
                <a:off x="1929960" y="458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793600">
                <a:off x="1934640" y="46278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055600">
                <a:off x="1849320" y="43290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257800">
                <a:off x="1866600" y="4368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257800">
                <a:off x="1895040" y="44370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257600">
                <a:off x="1695600" y="411156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6575400">
                <a:off x="-344520" y="498132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8642600">
                <a:off x="1438920" y="39232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42600">
                <a:off x="1475640" y="3943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7961000">
                <a:off x="1249920" y="3848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7961000">
                <a:off x="1292760" y="3861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085200">
                <a:off x="1328040" y="3872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379200">
                <a:off x="1367640" y="3891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261400">
                <a:off x="1029600" y="38012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349600">
                <a:off x="1073520" y="38102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349600">
                <a:off x="1121040" y="3818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611200">
                <a:off x="1169280" y="3825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6737600">
                <a:off x="797400" y="379944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926600">
                <a:off x="84528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953000">
                <a:off x="892800" y="3791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019600">
                <a:off x="94212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404600">
                <a:off x="562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39000">
                <a:off x="6102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311000">
                <a:off x="662400" y="3814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34600">
                <a:off x="711720" y="3807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467400">
                <a:off x="326160" y="389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5379200">
                <a:off x="375120" y="3883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5489000">
                <a:off x="421200" y="3867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680400">
                <a:off x="462240" y="3849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223600">
                <a:off x="6840" y="4043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4431200">
                <a:off x="100440" y="39927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4797200">
                <a:off x="145080" y="3969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797200">
                <a:off x="187920" y="3953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142200">
                <a:off x="237240" y="393084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283800">
                <a:off x="54720" y="44420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908800">
                <a:off x="317160" y="62150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245200">
                <a:off x="572400" y="61801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805200">
                <a:off x="1063080" y="59976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060000">
                <a:off x="1290240" y="58546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431200">
                <a:off x="-28440" y="3978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5193200">
                <a:off x="215640" y="38624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629000">
                <a:off x="709200" y="37522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923200">
                <a:off x="1172160" y="378540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8411000">
                <a:off x="1378440" y="38552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871400">
                <a:off x="1820880" y="42674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0427600">
                <a:off x="1901520" y="4453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845800">
                <a:off x="1933200" y="46515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1312000">
                <a:off x="1925280" y="4867560"/>
                <a:ext cx="2649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96600">
                <a:off x="1787040" y="5297760"/>
                <a:ext cx="238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30240" y="432144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154080" y="4208760"/>
                <a:ext cx="160200" cy="1411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1492200" y="44164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1425600" y="431172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44800">
                <a:off x="1868400" y="508176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6001400">
                <a:off x="460440" y="37872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 rot="18742800">
                <a:off x="980280" y="56347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9915200">
                <a:off x="469800" y="483696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759E-080B-44D9-B54A-84F0628109D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2220840" y="1771560"/>
                <a:ext cx="446868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384120" y="1817640"/>
                <a:ext cx="875016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3755880" y="1693800"/>
                <a:ext cx="222084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6786360" y="3224160"/>
                <a:ext cx="199404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0" name=""/>
              <p:cNvSpPr/>
              <p:nvPr/>
            </p:nvSpPr>
            <p:spPr>
              <a:xfrm rot="6798600">
                <a:off x="97200" y="6161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6798600">
                <a:off x="51120" y="6157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6798600">
                <a:off x="792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999400">
                <a:off x="330120" y="6163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999400">
                <a:off x="287280" y="617148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249600">
                <a:off x="24012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237600">
                <a:off x="19404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380200">
                <a:off x="574560" y="6139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380200">
                <a:off x="525960" y="61444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583000">
                <a:off x="478080" y="6152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737200">
                <a:off x="427320" y="6160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4715400">
                <a:off x="81792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924800">
                <a:off x="77004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4924800">
                <a:off x="722520" y="6106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041200">
                <a:off x="67500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816600">
                <a:off x="1053000" y="59698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816600">
                <a:off x="1005480" y="5998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104000">
                <a:off x="959040" y="60159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324800">
                <a:off x="911520" y="60364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367800">
                <a:off x="126720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224360" y="586980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367800">
                <a:off x="118116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816600">
                <a:off x="1137240" y="5925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02200">
                <a:off x="1426680" y="5724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707200">
                <a:off x="1389240" y="5753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707200">
                <a:off x="1348200" y="578232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08600">
                <a:off x="1689120" y="543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69800">
                <a:off x="1860120" y="5119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3800">
                <a:off x="1832040" y="52009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306000">
                <a:off x="1922040" y="491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599400"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19400">
                <a:off x="1936440" y="4748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119400">
                <a:off x="1936440" y="47865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630400">
                <a:off x="1925280" y="4546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630400">
                <a:off x="1929960" y="458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793600">
                <a:off x="1934640" y="46278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055600">
                <a:off x="1849320" y="43290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257800">
                <a:off x="1866600" y="4368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7800">
                <a:off x="1895040" y="44370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257600">
                <a:off x="1695600" y="411156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6575400">
                <a:off x="-344520" y="498132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8642600">
                <a:off x="1438920" y="39232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475640" y="3943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961000">
                <a:off x="1249920" y="3848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961000">
                <a:off x="1292760" y="3861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085200">
                <a:off x="1328040" y="3872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379200">
                <a:off x="1367640" y="3891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261400">
                <a:off x="1029600" y="38012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349600">
                <a:off x="1073520" y="38102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349600">
                <a:off x="1121040" y="3818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611200">
                <a:off x="1169280" y="3825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737600">
                <a:off x="797400" y="379944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926600">
                <a:off x="84528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6953000">
                <a:off x="892800" y="3791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019600">
                <a:off x="94212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404600">
                <a:off x="562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239000">
                <a:off x="6102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311000">
                <a:off x="662400" y="3814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34600">
                <a:off x="711720" y="3807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5467400">
                <a:off x="326160" y="389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379200">
                <a:off x="375120" y="3883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489000">
                <a:off x="421200" y="3867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680400">
                <a:off x="462240" y="3849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4223600">
                <a:off x="6840" y="4043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431200">
                <a:off x="100440" y="39927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797200">
                <a:off x="145080" y="3969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797200">
                <a:off x="187920" y="3953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142200">
                <a:off x="237240" y="393084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283800">
                <a:off x="54720" y="44420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5908800">
                <a:off x="317160" y="62150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5245200">
                <a:off x="572400" y="61801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805200">
                <a:off x="1063080" y="59976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060000">
                <a:off x="1290240" y="58546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431200">
                <a:off x="-28440" y="3978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5193200">
                <a:off x="215640" y="38624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629000">
                <a:off x="709200" y="37522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923200">
                <a:off x="1172160" y="378540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8411000">
                <a:off x="1378440" y="38552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871400">
                <a:off x="1820880" y="42674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0427600">
                <a:off x="1901520" y="4453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0845800">
                <a:off x="1933200" y="46515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312000">
                <a:off x="1925280" y="4867560"/>
                <a:ext cx="2649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696600">
                <a:off x="1787040" y="5297760"/>
                <a:ext cx="238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>
                <a:off x="30240" y="432144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>
                <a:off x="154080" y="4208760"/>
                <a:ext cx="160200" cy="1411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>
                <a:off x="1492200" y="44164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>
                <a:off x="1425600" y="431172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44800">
                <a:off x="1868400" y="508176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6001400">
                <a:off x="460440" y="37872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rot="18742800">
                <a:off x="980280" y="56347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9915200">
                <a:off x="469800" y="483696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EA1E-2D33-4E77-B6DB-57DC6758C3AE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AF2-8BF3-4518-8111-ADA8B6813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E9B-4DED-4F27-A9CB-813E9747A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47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60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C1F8-F4E9-4151-8F19-3020EB4B4150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27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40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59E-DDDE-4BB0-BE46-71A65ACE42E3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4572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二年级（</a:t>
            </a: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371600" y="533520"/>
            <a:ext cx="51055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回家作业一定有的，我希望每位家长每天抽出一点时间给孩子检查然后再签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一、是作业是否完成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二、是作业是否正确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>
            <a:hlinkClick r:id="rId1" action="ppaction://hlinksldjump"/>
          </p:cNvPr>
          <p:cNvSpPr/>
          <p:nvPr/>
        </p:nvSpPr>
        <p:spPr>
          <a:xfrm>
            <a:off x="7924680" y="57913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8a95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阅读情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阅读是非常重要的，可以提高孩子的识字量，提高孩子的理解能力，提高孩子的写作能力。孩子阅读什么，需要在家长的指导和监督。可以去买，可以去书店看，也可以去借。家长要督促孩子每周熟背老师指定的古诗、佳句、成语。孩子通过大量阅读，可以提高孩子的综合能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、抓作业。要规定孩子放学后必须做完作业，必须检查。口头作业、复习、预习作业也不容草率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、抓态度。要求学习专心、细心，勇于克服学习中的困难。书写要工整、清洁、准确，不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虎头蛇尾”或“龙飞凤舞”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、抓技能。如想问题、做作业时，要求准确而迅速，在质中求快；语言表达务求清楚、生动，口头背诵务求熟练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87280" y="549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给家长的建议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无标题w"/>
          <p:cNvPicPr/>
          <p:nvPr/>
        </p:nvPicPr>
        <p:blipFill>
          <a:blip r:embed="rId2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"/>
          <p:cNvSpPr/>
          <p:nvPr/>
        </p:nvSpPr>
        <p:spPr>
          <a:xfrm>
            <a:off x="1763640" y="189000"/>
            <a:ext cx="64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安全教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由于我校门前各种车辆来来往往。在学校里，我们每天都会叮嘱学生，反复强调，注意安全，增强自我保护意识，校内外不做危险游戏，上学、放学路上不逗留，不玩耍，放学后要直接回家，相信各位家长和我们一样关心孩子的安全。所以需要家长的密切配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无标题w"/>
          <p:cNvPicPr/>
          <p:nvPr/>
        </p:nvPicPr>
        <p:blipFill>
          <a:blip r:embed="rId2"/>
          <a:stretch/>
        </p:blipFill>
        <p:spPr>
          <a:xfrm>
            <a:off x="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3"/>
          <p:cNvSpPr/>
          <p:nvPr/>
        </p:nvSpPr>
        <p:spPr>
          <a:xfrm>
            <a:off x="1835280" y="4941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1979640" y="907920"/>
            <a:ext cx="5635440" cy="3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安全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故意的事决不能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无意的事尽量少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注意的事一定要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3"/>
          <p:cNvSpPr/>
          <p:nvPr/>
        </p:nvSpPr>
        <p:spPr>
          <a:xfrm>
            <a:off x="-457200" y="5335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培养良好的品德习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感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勇敢面对自己的错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谦虚礼让，尊敬长辈，爱护幼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诚实不说谎，答应的事说到做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培养良好的学习习惯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兴趣是最大的学习动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课认真听，课后认真记，注重对知识的积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养成每天阅读的习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好每次作业，改掉粗心的习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确看待“分数”，学会全面评价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培养良好生活习惯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合理安排作息时间学会珍惜时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全面吸收营养，坚持锻炼身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迷恋电脑游戏，知道学习的重要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立自理，抓紧时间完成每天应该做的事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3"/>
          <p:cNvSpPr/>
          <p:nvPr/>
        </p:nvSpPr>
        <p:spPr>
          <a:xfrm>
            <a:off x="0" y="457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培养良好的社交能力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0" y="15238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动关心帮助他人，与他们和谐相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耐心倾听他们讲话，学会赞美他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努力锻炼口头表达能力，培养自己的竞争意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和小动物成为好朋友，学会保护自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bj0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7"/>
          <p:cNvSpPr/>
          <p:nvPr/>
        </p:nvSpPr>
        <p:spPr>
          <a:xfrm>
            <a:off x="2484360" y="333360"/>
            <a:ext cx="64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全班优秀学生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李新遥 何永鹏 吴清琳 姬慧敏 郭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朱明月 李金达 朱宇璇 张秀齐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马晓莉 赵学昌 克里木丁 穆晓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龚恒强 李锦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399960" y="1094040"/>
            <a:ext cx="1521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2484360" y="2997360"/>
            <a:ext cx="6659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优秀班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班长：何永鹏 李新遥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姬慧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学习委员：吴清琳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2340000" y="4869000"/>
            <a:ext cx="680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班级之星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李新遥 何永鹏 吴清琳 姬慧敏朱明月 李金达 朱宇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马晓莉 赵学昌 海玉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1692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 柴 小 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话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094858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13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990720" y="21337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行楷"/>
              </a:rPr>
              <a:t>沟通，从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行楷"/>
              </a:rPr>
              <a:t>开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914400" y="612720"/>
            <a:ext cx="609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ff"/>
                </a:solidFill>
                <a:latin typeface="华文新魏"/>
                <a:ea typeface="华文新魏"/>
              </a:rPr>
              <a:t>学生成绩优异的原因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态度端正，勤奋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方法比较好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制力强，善于思考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长的支持与鼓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609480" y="380880"/>
            <a:ext cx="7848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进生存在的问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 有个别同学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习惯较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平常听课容易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课堂学习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效率较低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个别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业写不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有的甚至忘记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 txBox="1"/>
          <p:nvPr/>
        </p:nvSpPr>
        <p:spPr>
          <a:xfrm>
            <a:off x="838080" y="1447920"/>
            <a:ext cx="7543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3c145"/>
                    </a:gs>
                    <a:gs pos="100000">
                      <a:srgbClr val="5a5c6c"/>
                    </a:gs>
                  </a:gsLst>
                  <a:lin ang="8100000"/>
                </a:gradFill>
                <a:latin typeface="华文新魏"/>
              </a:rPr>
              <a:t>班级管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5a5c6c"/>
                  </a:gs>
                </a:gsLst>
                <a:lin ang="8100000"/>
              </a:gradFill>
              <a:latin typeface="华文新魏"/>
              <a:ea typeface="华文新魏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371600" y="12952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62120" y="762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我们班共有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名学生，大部分同学学习还是比较努力，整体成绩处于中上水平。孩子毕竟还是孩子，他们的自我约束力还比较差，缺乏持之以恒的耐力，在学习的过程中还会出现这样那样的问题，这就需要我们在座的各位家长和老师密切的配合起来共同努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133720" y="1905120"/>
            <a:ext cx="25905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洗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剪指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刷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换衣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个人卫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>
            <a:hlinkClick r:id="rId2" action="ppaction://hlinksldjump"/>
          </p:cNvPr>
          <p:cNvSpPr/>
          <p:nvPr/>
        </p:nvSpPr>
        <p:spPr>
          <a:xfrm>
            <a:off x="7772400" y="55627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820000" cy="5832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142920" y="692280"/>
            <a:ext cx="9001080" cy="5832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1258920" y="782640"/>
            <a:ext cx="6842160" cy="574200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200581285945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5"/>
          <p:cNvSpPr/>
          <p:nvPr/>
        </p:nvSpPr>
        <p:spPr>
          <a:xfrm>
            <a:off x="971640" y="1341360"/>
            <a:ext cx="7488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孩子是我们永远的希望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教育孩子是我们共同的责任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就让我们携起手来，一起为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子的健康成长而努力吧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无标题w"/>
          <p:cNvPicPr/>
          <p:nvPr/>
        </p:nvPicPr>
        <p:blipFill>
          <a:blip r:embed="rId2"/>
          <a:stretch/>
        </p:blipFill>
        <p:spPr>
          <a:xfrm>
            <a:off x="11916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4"/>
          <p:cNvSpPr/>
          <p:nvPr/>
        </p:nvSpPr>
        <p:spPr>
          <a:xfrm>
            <a:off x="1492200" y="1466640"/>
            <a:ext cx="765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尊敬的各位家长：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你们好！首先，感谢大家在百忙之中能抽出宝贵的时间来参加这次活动。单从这一点就可以看出你们对自己子女的关心，对我们学校工作的支持，对我们教育工作的最大帮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为什么这么说呢？因为我觉得家长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的真正意义在于给孩子鼓励，在孩子们心中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来参加家长会，也就是对他们的关心，对他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的爱，他们会感到无比骄傲、幸福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1600200" y="2205000"/>
            <a:ext cx="69105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  <a:ea typeface="黑体"/>
              </a:rPr>
              <a:t>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 txBox="1"/>
          <p:nvPr/>
        </p:nvSpPr>
        <p:spPr>
          <a:xfrm>
            <a:off x="900000" y="907920"/>
            <a:ext cx="6408720" cy="303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  谢 大 家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1183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无标题w"/>
          <p:cNvPicPr/>
          <p:nvPr/>
        </p:nvPicPr>
        <p:blipFill>
          <a:blip r:embed="rId2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3"/>
          <p:cNvSpPr/>
          <p:nvPr/>
        </p:nvSpPr>
        <p:spPr>
          <a:xfrm>
            <a:off x="1258920" y="1773360"/>
            <a:ext cx="709308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今天的会议有五项议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、是孩子的学习习惯方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二、是孩子们安全方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、是结合孩子们的表现，从整体上互相交流     几点教育建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、是共同探讨孩子的教育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五、个人卫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520" y="-666720"/>
            <a:ext cx="8215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692360" y="1628640"/>
            <a:ext cx="6335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优秀作品朗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无标题w"/>
          <p:cNvPicPr/>
          <p:nvPr/>
        </p:nvPicPr>
        <p:blipFill>
          <a:blip r:embed="rId2"/>
          <a:stretch/>
        </p:blipFill>
        <p:spPr>
          <a:xfrm>
            <a:off x="0" y="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3"/>
          <p:cNvSpPr/>
          <p:nvPr/>
        </p:nvSpPr>
        <p:spPr>
          <a:xfrm>
            <a:off x="1116000" y="33336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、学习习惯方面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预习、口头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课前预习非常重要，预习充分了，孩子们上课时学习的劲头也足了，因为我在上课时都要检查孩子们对生字的认识，以及课文朗读情况。但我们家长也不可能一直陪着孩子读，所以我想，你可以先让孩子自己读，先读两遍，最后一遍让孩子读给你听，这遍你要认真听，如果有错你就要及时指正，并让孩子重读。我们一定要让孩子养成良好的预习习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课堂表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我们班的课堂纪律总体较好，大部分的学生都能坐端正认真听讲，积极与老师互动。但还有一些孩子上课做小动作、画画、说悄悄话、开小差走神。他们的课堂纪律需要进一步强化、规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作业书写情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家庭作业是对学习的巩固，家长应该非常重视。有些家长积极配合并督促孩子认真写书写家庭作业，字写 得不好，要求孩子擦掉重写。我们的孩子年纪小，培养的开始应带有一定的强制性，即具体要求、具体督促、具体检查。有些家长要求一大堆，却不认真检查落实，时间长了，孩子摸透了家长的脾气，进而钻了家长的空子。只有对孩子要求具体，检查认真，才能使孩子感觉家长要求的严肃性，进而约束自己把要求化为行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1:53:05Z</dcterms:created>
  <dc:creator>12</dc:creator>
  <dc:description/>
  <cp:keywords/>
  <dc:language>en-US</dc:language>
  <cp:lastModifiedBy>微软用户</cp:lastModifiedBy>
  <cp:lastPrinted>1899-12-30T00:00:00Z</cp:lastPrinted>
  <dcterms:modified xsi:type="dcterms:W3CDTF">2013-05-09T15:11:19Z</dcterms:modified>
  <cp:revision>1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