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A3E9-C821-4918-9042-0F0BC506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0560" y="393984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ECC7-F40C-491E-B61B-F832E32C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7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40EB-AC8E-4B30-B3EC-D55C3598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1999-343F-4926-B22A-7D9B9B29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3EEC9-7EA8-459E-9A43-94291017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54D88-EC17-42E5-94B0-A87DBA6D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E8DE3-56CE-49E6-9F1C-4DFB0FF9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1075C-37AA-4683-AE66-682ED9DA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08337-60C8-41A9-82E1-74970F0E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0560" y="286920"/>
            <a:ext cx="8251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B7339-5C54-46B3-8B6F-329E0035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B5DED-364A-4714-8BAB-9971ED31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20DD-8580-4913-AC84-26D6AE04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7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A3941-E462-4AF8-B812-A0B97B9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CB94E-9FB5-419B-9207-9B755A1F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0560" y="393984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16F69-9BFA-4C25-93F0-B964A730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7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57A2C-9228-47E3-9EA3-07DA403D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0692B-9081-4989-B816-C9374D22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492D-B82F-4015-A3FD-A631044C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5ECD-AB12-467F-B32E-BB7E124E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EFB8-9E24-4806-896D-B10C8CC0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0560" y="286920"/>
            <a:ext cx="8251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772D-472B-4E26-8718-C0CA4F67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50AB-E447-4345-8DD9-BEA8BF7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7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B08F-A895-414C-BA9D-2F28E4F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B05C-1AB1-4FF0-A7D1-AD99526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7480" y="2152800"/>
            <a:ext cx="7749360" cy="136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c8c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c8c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86080" y="1785600"/>
            <a:ext cx="5714640" cy="14695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5400" spc="-1" strike="noStrike">
                <a:solidFill>
                  <a:srgbClr val="fff2ee"/>
                </a:solidFill>
                <a:latin typeface="Arial"/>
                <a:ea typeface="Calibri"/>
              </a:rPr>
              <a:t>Power Point </a:t>
            </a:r>
            <a:br>
              <a:rPr sz="4860"/>
            </a:br>
            <a:r>
              <a:rPr b="1" lang="en-GB" sz="3959" spc="-1" strike="noStrike">
                <a:solidFill>
                  <a:srgbClr val="000000"/>
                </a:solidFill>
                <a:latin typeface="Arial"/>
                <a:ea typeface="Calibri"/>
              </a:rPr>
              <a:t>Template</a:t>
            </a:r>
            <a:endParaRPr b="0" lang="en-US" sz="3959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3429000" y="3753000"/>
            <a:ext cx="3746160" cy="46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240" cy="6429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959" spc="-1" strike="noStrike">
                <a:solidFill>
                  <a:srgbClr val="fff2ee"/>
                </a:solidFill>
                <a:latin typeface="Arial"/>
                <a:ea typeface="Calibri"/>
              </a:rPr>
              <a:t>Block Diagram</a:t>
            </a:r>
            <a:endParaRPr b="0" lang="en-US" sz="3959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85" name="图示 14"/>
          <p:cNvGrpSpPr/>
          <p:nvPr/>
        </p:nvGrpSpPr>
        <p:grpSpPr>
          <a:xfrm>
            <a:off x="1219320" y="1820520"/>
            <a:ext cx="6705000" cy="3298320"/>
            <a:chOff x="1219320" y="1820520"/>
            <a:chExt cx="6705000" cy="3298320"/>
          </a:xfrm>
        </p:grpSpPr>
        <p:sp>
          <p:nvSpPr>
            <p:cNvPr id="86" name="自选图形6"/>
            <p:cNvSpPr/>
            <p:nvPr/>
          </p:nvSpPr>
          <p:spPr>
            <a:xfrm>
              <a:off x="1219320" y="2357280"/>
              <a:ext cx="1893240" cy="156096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89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自选图形7"/>
            <p:cNvSpPr/>
            <p:nvPr/>
          </p:nvSpPr>
          <p:spPr>
            <a:xfrm>
              <a:off x="2319120" y="3218040"/>
              <a:ext cx="1900080" cy="1900800"/>
            </a:xfrm>
            <a:prstGeom prst="leftCircularArrow">
              <a:avLst>
                <a:gd name="adj1" fmla="val 2177"/>
                <a:gd name="adj2" fmla="val 261911"/>
                <a:gd name="adj3" fmla="val 2037422"/>
                <a:gd name="adj4" fmla="val 9024489"/>
                <a:gd name="adj5" fmla="val 2540"/>
              </a:avLst>
            </a:prstGeom>
            <a:solidFill>
              <a:srgbClr val="48a3bd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组4"/>
            <p:cNvGrpSpPr/>
            <p:nvPr/>
          </p:nvGrpSpPr>
          <p:grpSpPr>
            <a:xfrm>
              <a:off x="1640160" y="3946680"/>
              <a:ext cx="1682280" cy="668880"/>
              <a:chOff x="1640160" y="3946680"/>
              <a:chExt cx="1682280" cy="668880"/>
            </a:xfrm>
          </p:grpSpPr>
          <p:sp>
            <p:nvSpPr>
              <p:cNvPr id="89" name="自选图形5"/>
              <p:cNvSpPr/>
              <p:nvPr/>
            </p:nvSpPr>
            <p:spPr>
              <a:xfrm>
                <a:off x="1640160" y="3946680"/>
                <a:ext cx="1682280" cy="668880"/>
              </a:xfrm>
              <a:prstGeom prst="roundRect">
                <a:avLst>
                  <a:gd name="adj" fmla="val 10000"/>
                </a:avLst>
              </a:prstGeom>
              <a:solidFill>
                <a:srgbClr val="388294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文本框5"/>
              <p:cNvSpPr/>
              <p:nvPr/>
            </p:nvSpPr>
            <p:spPr>
              <a:xfrm>
                <a:off x="1659960" y="3966120"/>
                <a:ext cx="1643040" cy="6296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20880" rIns="20880" tIns="14040" bIns="14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59"/>
                  </a:spcAft>
                  <a:tabLst>
                    <a:tab algn="l" pos="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is a Design Digital Content &amp; Contents mall developed by Guild Design Inc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组5"/>
            <p:cNvGrpSpPr/>
            <p:nvPr/>
          </p:nvGrpSpPr>
          <p:grpSpPr>
            <a:xfrm>
              <a:off x="3520440" y="2719800"/>
              <a:ext cx="1892520" cy="1560960"/>
              <a:chOff x="3520440" y="2719800"/>
              <a:chExt cx="1892520" cy="1560960"/>
            </a:xfrm>
          </p:grpSpPr>
          <p:sp>
            <p:nvSpPr>
              <p:cNvPr id="92" name="自选图形8"/>
              <p:cNvSpPr/>
              <p:nvPr/>
            </p:nvSpPr>
            <p:spPr>
              <a:xfrm>
                <a:off x="3520440" y="2719800"/>
                <a:ext cx="1892520" cy="1560960"/>
              </a:xfrm>
              <a:prstGeom prst="roundRect">
                <a:avLst>
                  <a:gd name="adj" fmla="val 10000"/>
                </a:avLst>
              </a:prstGeom>
              <a:solidFill>
                <a:srgbClr val="ffffff">
                  <a:alpha val="89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文本框4"/>
              <p:cNvSpPr/>
              <p:nvPr/>
            </p:nvSpPr>
            <p:spPr>
              <a:xfrm>
                <a:off x="3556800" y="3090600"/>
                <a:ext cx="1820160" cy="11541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39960" rIns="39960" tIns="39960" bIns="39960" anchor="t">
                <a:noAutofit/>
              </a:bodyPr>
              <a:p>
                <a:pPr lvl="1" marL="228600" indent="-228600">
                  <a:lnSpc>
                    <a:spcPct val="90000"/>
                  </a:lnSpc>
                  <a:spcAft>
                    <a:spcPts val="374"/>
                  </a:spcAft>
                  <a:buClr>
                    <a:srgbClr val="000000"/>
                  </a:buClr>
                  <a:buFont typeface="Symbol" charset="2"/>
                  <a:buChar char=""/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dd your tex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自选图形4"/>
            <p:cNvSpPr/>
            <p:nvPr/>
          </p:nvSpPr>
          <p:spPr>
            <a:xfrm>
              <a:off x="4603680" y="1820520"/>
              <a:ext cx="2142000" cy="2142720"/>
            </a:xfrm>
            <a:prstGeom prst="circularArrow">
              <a:avLst>
                <a:gd name="adj1" fmla="val 1931"/>
                <a:gd name="adj2" fmla="val 231038"/>
                <a:gd name="adj3" fmla="val 19593451"/>
                <a:gd name="adj4" fmla="val 12575511"/>
                <a:gd name="adj5" fmla="val 2253"/>
              </a:avLst>
            </a:prstGeom>
            <a:solidFill>
              <a:srgbClr val="bed9e4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组2"/>
            <p:cNvGrpSpPr/>
            <p:nvPr/>
          </p:nvGrpSpPr>
          <p:grpSpPr>
            <a:xfrm>
              <a:off x="3940920" y="2385000"/>
              <a:ext cx="1682280" cy="668880"/>
              <a:chOff x="3940920" y="2385000"/>
              <a:chExt cx="1682280" cy="668880"/>
            </a:xfrm>
          </p:grpSpPr>
          <p:sp>
            <p:nvSpPr>
              <p:cNvPr id="96" name="自选图形1"/>
              <p:cNvSpPr/>
              <p:nvPr/>
            </p:nvSpPr>
            <p:spPr>
              <a:xfrm>
                <a:off x="3940920" y="2385000"/>
                <a:ext cx="1682280" cy="668880"/>
              </a:xfrm>
              <a:prstGeom prst="roundRect">
                <a:avLst>
                  <a:gd name="adj" fmla="val 10000"/>
                </a:avLst>
              </a:prstGeom>
              <a:solidFill>
                <a:srgbClr val="88bdce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文本框1"/>
              <p:cNvSpPr/>
              <p:nvPr/>
            </p:nvSpPr>
            <p:spPr>
              <a:xfrm>
                <a:off x="3960360" y="2404800"/>
                <a:ext cx="1643040" cy="6296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20880" rIns="20880" tIns="14040" bIns="14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59"/>
                  </a:spcAft>
                  <a:tabLst>
                    <a:tab algn="l" pos="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it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1"/>
            <p:cNvGrpSpPr/>
            <p:nvPr/>
          </p:nvGrpSpPr>
          <p:grpSpPr>
            <a:xfrm>
              <a:off x="5821200" y="2719800"/>
              <a:ext cx="1892520" cy="1560960"/>
              <a:chOff x="5821200" y="2719800"/>
              <a:chExt cx="1892520" cy="1560960"/>
            </a:xfrm>
          </p:grpSpPr>
          <p:sp>
            <p:nvSpPr>
              <p:cNvPr id="99" name="自选图形2"/>
              <p:cNvSpPr/>
              <p:nvPr/>
            </p:nvSpPr>
            <p:spPr>
              <a:xfrm>
                <a:off x="5821200" y="2719800"/>
                <a:ext cx="1892520" cy="1560960"/>
              </a:xfrm>
              <a:prstGeom prst="roundRect">
                <a:avLst>
                  <a:gd name="adj" fmla="val 10000"/>
                </a:avLst>
              </a:prstGeom>
              <a:solidFill>
                <a:srgbClr val="ffffff">
                  <a:alpha val="89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文本框3"/>
              <p:cNvSpPr/>
              <p:nvPr/>
            </p:nvSpPr>
            <p:spPr>
              <a:xfrm>
                <a:off x="5857200" y="2755800"/>
                <a:ext cx="1820160" cy="11541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39960" rIns="39960" tIns="39960" bIns="39960" anchor="t">
                <a:noAutofit/>
              </a:bodyPr>
              <a:p>
                <a:pPr lvl="1" marL="228600" indent="-228600">
                  <a:lnSpc>
                    <a:spcPct val="90000"/>
                  </a:lnSpc>
                  <a:spcAft>
                    <a:spcPts val="374"/>
                  </a:spcAft>
                  <a:buClr>
                    <a:srgbClr val="000000"/>
                  </a:buClr>
                  <a:buFont typeface="Symbol" charset="2"/>
                  <a:buChar char=""/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dd your tex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28600" indent="-228600">
                  <a:lnSpc>
                    <a:spcPct val="90000"/>
                  </a:lnSpc>
                  <a:spcAft>
                    <a:spcPts val="374"/>
                  </a:spcAft>
                  <a:buClr>
                    <a:srgbClr val="000000"/>
                  </a:buClr>
                  <a:buFont typeface="Symbol" charset="2"/>
                  <a:buChar char=""/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dd your tex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3"/>
            <p:cNvGrpSpPr/>
            <p:nvPr/>
          </p:nvGrpSpPr>
          <p:grpSpPr>
            <a:xfrm>
              <a:off x="6241320" y="3946680"/>
              <a:ext cx="1683000" cy="668880"/>
              <a:chOff x="6241320" y="3946680"/>
              <a:chExt cx="1683000" cy="668880"/>
            </a:xfrm>
          </p:grpSpPr>
          <p:sp>
            <p:nvSpPr>
              <p:cNvPr id="102" name="自选图形3"/>
              <p:cNvSpPr/>
              <p:nvPr/>
            </p:nvSpPr>
            <p:spPr>
              <a:xfrm>
                <a:off x="6241320" y="3946680"/>
                <a:ext cx="1683000" cy="668880"/>
              </a:xfrm>
              <a:prstGeom prst="roundRect">
                <a:avLst>
                  <a:gd name="adj" fmla="val 10000"/>
                </a:avLst>
              </a:prstGeom>
              <a:solidFill>
                <a:srgbClr val="88bdce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文本框2"/>
              <p:cNvSpPr/>
              <p:nvPr/>
            </p:nvSpPr>
            <p:spPr>
              <a:xfrm>
                <a:off x="6261120" y="3966120"/>
                <a:ext cx="1643760" cy="6296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20880" rIns="20880" tIns="14040" bIns="14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59"/>
                  </a:spcAft>
                  <a:tabLst>
                    <a:tab algn="l" pos="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it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040"/>
            <a:ext cx="8229240" cy="11426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2ee"/>
                </a:solidFill>
                <a:latin typeface="Arial"/>
                <a:ea typeface="Calibri"/>
              </a:rPr>
              <a:t>Block Diagram</a:t>
            </a: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105" name="图示 11"/>
          <p:cNvGrpSpPr/>
          <p:nvPr/>
        </p:nvGrpSpPr>
        <p:grpSpPr>
          <a:xfrm>
            <a:off x="2237040" y="1694880"/>
            <a:ext cx="3907440" cy="3888000"/>
            <a:chOff x="2237040" y="1694880"/>
            <a:chExt cx="3907440" cy="3888000"/>
          </a:xfrm>
        </p:grpSpPr>
        <p:grpSp>
          <p:nvGrpSpPr>
            <p:cNvPr id="106" name="组2"/>
            <p:cNvGrpSpPr/>
            <p:nvPr/>
          </p:nvGrpSpPr>
          <p:grpSpPr>
            <a:xfrm>
              <a:off x="2583360" y="1902600"/>
              <a:ext cx="3353760" cy="3353760"/>
              <a:chOff x="2583360" y="1902600"/>
              <a:chExt cx="3353760" cy="3353760"/>
            </a:xfrm>
          </p:grpSpPr>
          <p:sp>
            <p:nvSpPr>
              <p:cNvPr id="107" name="椭圆2"/>
              <p:cNvSpPr/>
              <p:nvPr/>
            </p:nvSpPr>
            <p:spPr>
              <a:xfrm>
                <a:off x="2583360" y="1902600"/>
                <a:ext cx="3353760" cy="3353760"/>
              </a:xfrm>
              <a:prstGeom prst="pie">
                <a:avLst>
                  <a:gd name="adj1" fmla="val 16200000"/>
                  <a:gd name="adj2" fmla="val 1800000"/>
                </a:avLst>
              </a:prstGeom>
              <a:solidFill>
                <a:srgbClr val="c0514e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文本框3"/>
              <p:cNvSpPr/>
              <p:nvPr/>
            </p:nvSpPr>
            <p:spPr>
              <a:xfrm>
                <a:off x="4350960" y="2612880"/>
                <a:ext cx="1197360" cy="9979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65880" bIns="65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0"/>
                  </a:spcAft>
                  <a:tabLst>
                    <a:tab algn="l" pos="0"/>
                  </a:tabLst>
                </a:pPr>
                <a:r>
                  <a:rPr b="0" lang="en-US" sz="52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est</a:t>
                </a:r>
                <a:endParaRPr b="0" lang="en-US" sz="5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3"/>
            <p:cNvGrpSpPr/>
            <p:nvPr/>
          </p:nvGrpSpPr>
          <p:grpSpPr>
            <a:xfrm>
              <a:off x="2513880" y="2021760"/>
              <a:ext cx="3353760" cy="3353760"/>
              <a:chOff x="2513880" y="2021760"/>
              <a:chExt cx="3353760" cy="3353760"/>
            </a:xfrm>
          </p:grpSpPr>
          <p:sp>
            <p:nvSpPr>
              <p:cNvPr id="110" name="椭圆3"/>
              <p:cNvSpPr/>
              <p:nvPr/>
            </p:nvSpPr>
            <p:spPr>
              <a:xfrm>
                <a:off x="2513880" y="2021760"/>
                <a:ext cx="3353760" cy="3353760"/>
              </a:xfrm>
              <a:prstGeom prst="pie">
                <a:avLst>
                  <a:gd name="adj1" fmla="val 1800000"/>
                  <a:gd name="adj2" fmla="val 9000000"/>
                </a:avLst>
              </a:prstGeom>
              <a:solidFill>
                <a:srgbClr val="bd9a51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文本框2"/>
              <p:cNvSpPr/>
              <p:nvPr/>
            </p:nvSpPr>
            <p:spPr>
              <a:xfrm>
                <a:off x="3312720" y="4197960"/>
                <a:ext cx="1796040" cy="87768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65880" bIns="65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0"/>
                  </a:spcAft>
                  <a:tabLst>
                    <a:tab algn="l" pos="0"/>
                  </a:tabLst>
                </a:pPr>
                <a:r>
                  <a:rPr b="0" lang="en-US" sz="52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est</a:t>
                </a:r>
                <a:endParaRPr b="0" lang="en-US" sz="5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1"/>
            <p:cNvGrpSpPr/>
            <p:nvPr/>
          </p:nvGrpSpPr>
          <p:grpSpPr>
            <a:xfrm>
              <a:off x="2444760" y="1902600"/>
              <a:ext cx="3353760" cy="3353760"/>
              <a:chOff x="2444760" y="1902600"/>
              <a:chExt cx="3353760" cy="3353760"/>
            </a:xfrm>
          </p:grpSpPr>
          <p:sp>
            <p:nvSpPr>
              <p:cNvPr id="113" name="椭圆1"/>
              <p:cNvSpPr/>
              <p:nvPr/>
            </p:nvSpPr>
            <p:spPr>
              <a:xfrm>
                <a:off x="2444760" y="1902600"/>
                <a:ext cx="3353760" cy="3353760"/>
              </a:xfrm>
              <a:prstGeom prst="pie">
                <a:avLst>
                  <a:gd name="adj1" fmla="val 9000000"/>
                  <a:gd name="adj2" fmla="val 16200000"/>
                </a:avLst>
              </a:prstGeom>
              <a:solidFill>
                <a:srgbClr val="9abb57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文本框1"/>
              <p:cNvSpPr/>
              <p:nvPr/>
            </p:nvSpPr>
            <p:spPr>
              <a:xfrm>
                <a:off x="2833200" y="2612880"/>
                <a:ext cx="1197360" cy="9979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65880" bIns="65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0"/>
                  </a:spcAft>
                  <a:tabLst>
                    <a:tab algn="l" pos="0"/>
                  </a:tabLst>
                </a:pPr>
                <a:r>
                  <a:rPr b="0" lang="en-US" sz="52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est</a:t>
                </a:r>
                <a:endParaRPr b="0" lang="en-US" sz="5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自选图形3"/>
            <p:cNvSpPr/>
            <p:nvPr/>
          </p:nvSpPr>
          <p:spPr>
            <a:xfrm>
              <a:off x="2376000" y="1694880"/>
              <a:ext cx="3768480" cy="3768840"/>
            </a:xfrm>
            <a:prstGeom prst="circularArrow">
              <a:avLst>
                <a:gd name="adj1" fmla="val 5085"/>
                <a:gd name="adj2" fmla="val 327528"/>
                <a:gd name="adj3" fmla="val 1472472"/>
                <a:gd name="adj4" fmla="val 16199432"/>
                <a:gd name="adj5" fmla="val 5932"/>
              </a:avLst>
            </a:prstGeom>
            <a:solidFill>
              <a:srgbClr val="c0514e"/>
            </a:solidFill>
            <a:ln w="12700">
              <a:noFill/>
            </a:ln>
            <a:effectLst>
              <a:outerShdw blurRad="39960" dir="5400000" dist="23040">
                <a:srgbClr val="000000">
                  <a:alpha val="35000"/>
                </a:srgbClr>
              </a:outerShdw>
            </a:effectLst>
            <a:scene3d>
              <a:camera prst="legacyObliqueTopRight"/>
              <a:lightRig dir="b" rig="legacyFlat3"/>
            </a:scene3d>
            <a:sp3d prstMaterial="legacy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自选图形2"/>
            <p:cNvSpPr/>
            <p:nvPr/>
          </p:nvSpPr>
          <p:spPr>
            <a:xfrm>
              <a:off x="2306160" y="1814040"/>
              <a:ext cx="3768840" cy="3768840"/>
            </a:xfrm>
            <a:prstGeom prst="circularArrow">
              <a:avLst>
                <a:gd name="adj1" fmla="val 5085"/>
                <a:gd name="adj2" fmla="val 327528"/>
                <a:gd name="adj3" fmla="val 8671970"/>
                <a:gd name="adj4" fmla="val 1800502"/>
                <a:gd name="adj5" fmla="val 5932"/>
              </a:avLst>
            </a:prstGeom>
            <a:solidFill>
              <a:srgbClr val="bd9a51"/>
            </a:solidFill>
            <a:ln w="12700">
              <a:noFill/>
            </a:ln>
            <a:effectLst>
              <a:outerShdw blurRad="39960" dir="5400000" dist="23040">
                <a:srgbClr val="000000">
                  <a:alpha val="35000"/>
                </a:srgbClr>
              </a:outerShdw>
            </a:effectLst>
            <a:scene3d>
              <a:camera prst="legacyObliqueTopRight"/>
              <a:lightRig dir="b" rig="legacyFlat3"/>
            </a:scene3d>
            <a:sp3d prstMaterial="legacy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自选图形1"/>
            <p:cNvSpPr/>
            <p:nvPr/>
          </p:nvSpPr>
          <p:spPr>
            <a:xfrm>
              <a:off x="2237040" y="1694880"/>
              <a:ext cx="3768480" cy="3768840"/>
            </a:xfrm>
            <a:prstGeom prst="circularArrow">
              <a:avLst>
                <a:gd name="adj1" fmla="val 5085"/>
                <a:gd name="adj2" fmla="val 327528"/>
                <a:gd name="adj3" fmla="val 15873039"/>
                <a:gd name="adj4" fmla="val 9000000"/>
                <a:gd name="adj5" fmla="val 5932"/>
              </a:avLst>
            </a:prstGeom>
            <a:solidFill>
              <a:srgbClr val="9abb57"/>
            </a:solidFill>
            <a:ln w="12700">
              <a:noFill/>
            </a:ln>
            <a:effectLst>
              <a:outerShdw blurRad="39960" dir="5400000" dist="23040">
                <a:srgbClr val="000000">
                  <a:alpha val="35000"/>
                </a:srgbClr>
              </a:outerShdw>
            </a:effectLst>
            <a:scene3d>
              <a:camera prst="legacyObliqueTopRight"/>
              <a:lightRig dir="b" rig="legacyFlat3"/>
            </a:scene3d>
            <a:sp3d prstMaterial="legacy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42760" y="2130480"/>
            <a:ext cx="5815080" cy="14695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5400" spc="-1" strike="noStrike">
                <a:solidFill>
                  <a:srgbClr val="fff2ee"/>
                </a:solidFill>
                <a:latin typeface="Arial"/>
                <a:ea typeface="Calibri"/>
              </a:rPr>
              <a:t>Thank You!</a:t>
            </a:r>
            <a:endParaRPr b="0" lang="en-US" sz="5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3714840" y="3643560"/>
            <a:ext cx="3746160" cy="46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5040"/>
            <a:ext cx="8229240" cy="11426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buNone/>
            </a:pPr>
            <a:endParaRPr b="1" lang="en-US" sz="4400" spc="-1" strike="noStrike">
              <a:solidFill>
                <a:srgbClr val="fff0e7"/>
              </a:solidFill>
              <a:latin typeface="Calibri"/>
              <a:ea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9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resentation">
  <a:themeElements>
    <a:clrScheme name="Presentation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sentation">
  <a:themeElements>
    <a:clrScheme name="Presentation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18Z</dcterms:created>
  <dc:creator>YlmF</dc:creator>
  <dc:description/>
  <dc:language>en-US</dc:language>
  <cp:lastModifiedBy>Administrator</cp:lastModifiedBy>
  <dcterms:modified xsi:type="dcterms:W3CDTF">2015-03-25T09:05:03Z</dcterms:modified>
  <cp:revision>0</cp:revision>
  <dc:subject/>
  <dc:title>Power Point  Template</dc:title>
</cp:coreProperties>
</file>