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6586-B702-469A-9131-B027BEE0D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9E10-B4D5-4A78-85FC-0301643D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DE49-1347-4CF2-869E-82EE12668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CBFE-2B0B-461E-A486-17D86BC2C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D62D-DD94-450B-90D8-FA48EF96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95C3-7A3C-4029-914C-A5A898FA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3EB8-A948-49C2-A113-BB9231E1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A3A5-1369-440D-A4CE-9A517EA2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4DB8-B518-416D-B413-BCF3C2FE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1183-2B39-4AFF-8EF5-C443EC74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3719-5D0A-4497-80B2-7C66470B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32F3-A4A9-40F3-9534-C602FBBE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D4AB-1C81-4249-9E53-DF82EFBB98A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2T17:46:36Z</dcterms:created>
  <dc:creator>somebody</dc:creator>
  <dc:description/>
  <dc:language>en-US</dc:language>
  <cp:lastModifiedBy>somebody</cp:lastModifiedBy>
  <dcterms:modified xsi:type="dcterms:W3CDTF">2012-06-22T17:46:46Z</dcterms:modified>
  <cp:revision>1</cp:revision>
  <dc:subject/>
  <dc:title>幻灯片 1</dc:title>
</cp:coreProperties>
</file>