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%E7%83%9F%E8%8A%B1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explode.wav" ContentType="audio/x-wav"/>
  <Override PartName="/ppt/media/image7.png" ContentType="image/png"/>
  <Override PartName="/ppt/media/image8.png" ContentType="image/png"/>
  <Override PartName="/ppt/media/image9.png" ContentType="image/png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103-1E1B-4B11-8A84-C745B009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109-A675-400B-817A-EE2FCE21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E67-9914-4A57-B064-2CA1BF71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946-5E42-41FD-9509-81270A75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01C-8E6F-49FA-BB49-0D1E75EF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CCD-7569-4FF5-A894-1147C786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F4A-D1AE-4F17-91CF-00806505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A01-77C5-45C3-A819-E508C571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D47-E732-455B-87BD-DD4006C4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C57-47B9-46A7-A55D-5A4D51C5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A99-5DD3-4A56-87D7-C6D9C6DD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C6D-AD57-41F7-8E08-CE62111C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1E66-E5BA-44D3-BDC8-81B1031E86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0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6.png"/><Relationship Id="rId27" Type="http://schemas.openxmlformats.org/officeDocument/2006/relationships/image" Target="../media/image10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9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10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audio" Target="../media/push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audio" Target="../media/&#28895;&#33457;.WAV"/><Relationship Id="rId48" Type="http://schemas.openxmlformats.org/officeDocument/2006/relationships/audio" Target="../media/explode.wav"/><Relationship Id="rId49" Type="http://schemas.openxmlformats.org/officeDocument/2006/relationships/audio" Target="../media/explode.wav"/><Relationship Id="rId50" Type="http://schemas.openxmlformats.org/officeDocument/2006/relationships/audio" Target="../media/explode.wav"/><Relationship Id="rId51" Type="http://schemas.openxmlformats.org/officeDocument/2006/relationships/audio" Target="../media/&#28895;&#33457;.WAV"/><Relationship Id="rId52" Type="http://schemas.openxmlformats.org/officeDocument/2006/relationships/audio" Target="../media/explode.wav"/><Relationship Id="rId53" Type="http://schemas.openxmlformats.org/officeDocument/2006/relationships/audio" Target="../media/explode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push.wav"/><Relationship Id="rId59" Type="http://schemas.openxmlformats.org/officeDocument/2006/relationships/audio" Target="../media/explode.wav"/><Relationship Id="rId60" Type="http://schemas.openxmlformats.org/officeDocument/2006/relationships/audio" Target="../media/push.wav"/><Relationship Id="rId61" Type="http://schemas.openxmlformats.org/officeDocument/2006/relationships/audio" Target="../media/explode.wav"/><Relationship Id="rId62" Type="http://schemas.openxmlformats.org/officeDocument/2006/relationships/audio" Target="../media/push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0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6.png"/><Relationship Id="rId27" Type="http://schemas.openxmlformats.org/officeDocument/2006/relationships/image" Target="../media/image10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9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10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audio" Target="../media/push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audio" Target="../media/&#28895;&#33457;.WAV"/><Relationship Id="rId48" Type="http://schemas.openxmlformats.org/officeDocument/2006/relationships/audio" Target="../media/explode.wav"/><Relationship Id="rId49" Type="http://schemas.openxmlformats.org/officeDocument/2006/relationships/audio" Target="../media/explode.wav"/><Relationship Id="rId50" Type="http://schemas.openxmlformats.org/officeDocument/2006/relationships/audio" Target="../media/explode.wav"/><Relationship Id="rId51" Type="http://schemas.openxmlformats.org/officeDocument/2006/relationships/audio" Target="../media/&#28895;&#33457;.WAV"/><Relationship Id="rId52" Type="http://schemas.openxmlformats.org/officeDocument/2006/relationships/audio" Target="../media/explode.wav"/><Relationship Id="rId53" Type="http://schemas.openxmlformats.org/officeDocument/2006/relationships/audio" Target="../media/explode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push.wav"/><Relationship Id="rId59" Type="http://schemas.openxmlformats.org/officeDocument/2006/relationships/audio" Target="../media/explode.wav"/><Relationship Id="rId60" Type="http://schemas.openxmlformats.org/officeDocument/2006/relationships/audio" Target="../media/push.wav"/><Relationship Id="rId61" Type="http://schemas.openxmlformats.org/officeDocument/2006/relationships/audio" Target="../media/explode.wav"/><Relationship Id="rId62" Type="http://schemas.openxmlformats.org/officeDocument/2006/relationships/audio" Target="../media/push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0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6.png"/><Relationship Id="rId27" Type="http://schemas.openxmlformats.org/officeDocument/2006/relationships/image" Target="../media/image10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9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10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audio" Target="../media/push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audio" Target="../media/&#28895;&#33457;.WAV"/><Relationship Id="rId48" Type="http://schemas.openxmlformats.org/officeDocument/2006/relationships/audio" Target="../media/explode.wav"/><Relationship Id="rId49" Type="http://schemas.openxmlformats.org/officeDocument/2006/relationships/audio" Target="../media/explode.wav"/><Relationship Id="rId50" Type="http://schemas.openxmlformats.org/officeDocument/2006/relationships/audio" Target="../media/explode.wav"/><Relationship Id="rId51" Type="http://schemas.openxmlformats.org/officeDocument/2006/relationships/audio" Target="../media/&#28895;&#33457;.WAV"/><Relationship Id="rId52" Type="http://schemas.openxmlformats.org/officeDocument/2006/relationships/audio" Target="../media/explode.wav"/><Relationship Id="rId53" Type="http://schemas.openxmlformats.org/officeDocument/2006/relationships/audio" Target="../media/explode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push.wav"/><Relationship Id="rId59" Type="http://schemas.openxmlformats.org/officeDocument/2006/relationships/audio" Target="../media/explode.wav"/><Relationship Id="rId60" Type="http://schemas.openxmlformats.org/officeDocument/2006/relationships/audio" Target="../media/push.wav"/><Relationship Id="rId61" Type="http://schemas.openxmlformats.org/officeDocument/2006/relationships/audio" Target="../media/explode.wav"/><Relationship Id="rId62" Type="http://schemas.openxmlformats.org/officeDocument/2006/relationships/audio" Target="../media/push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360" y="476280"/>
            <a:ext cx="1683000" cy="1797120"/>
            <a:chOff x="3492360" y="476280"/>
            <a:chExt cx="1683000" cy="1797120"/>
          </a:xfrm>
        </p:grpSpPr>
        <p:pic>
          <p:nvPicPr>
            <p:cNvPr id="42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3492360" y="480600"/>
              <a:ext cx="1683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546000" y="476280"/>
              <a:ext cx="157140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"/>
          <p:cNvGrpSpPr/>
          <p:nvPr/>
        </p:nvGrpSpPr>
        <p:grpSpPr>
          <a:xfrm>
            <a:off x="3419640" y="692280"/>
            <a:ext cx="2006280" cy="2016000"/>
            <a:chOff x="3419640" y="692280"/>
            <a:chExt cx="2006280" cy="201600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419640" y="692280"/>
              <a:ext cx="2006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596400" y="969840"/>
              <a:ext cx="161424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4284720" y="476280"/>
            <a:ext cx="1752480" cy="1942920"/>
            <a:chOff x="4284720" y="476280"/>
            <a:chExt cx="1752480" cy="1942920"/>
          </a:xfrm>
        </p:grpSpPr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4284720" y="476280"/>
              <a:ext cx="17524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4411440" y="734760"/>
              <a:ext cx="148320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椭圆 2"/>
          <p:cNvSpPr/>
          <p:nvPr/>
        </p:nvSpPr>
        <p:spPr>
          <a:xfrm>
            <a:off x="4603680" y="1413000"/>
            <a:ext cx="4464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03600" y="765000"/>
            <a:ext cx="2120400" cy="2016000"/>
            <a:chOff x="3603600" y="765000"/>
            <a:chExt cx="2120400" cy="2016000"/>
          </a:xfrm>
        </p:grpSpPr>
        <p:pic>
          <p:nvPicPr>
            <p:cNvPr id="52" name="Picture 18" descr="未标题-17"/>
            <p:cNvPicPr/>
            <p:nvPr/>
          </p:nvPicPr>
          <p:blipFill>
            <a:blip r:embed="rId7"/>
            <a:stretch/>
          </p:blipFill>
          <p:spPr>
            <a:xfrm>
              <a:off x="3603600" y="765000"/>
              <a:ext cx="2120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9" descr="未标题-9"/>
            <p:cNvPicPr/>
            <p:nvPr/>
          </p:nvPicPr>
          <p:blipFill>
            <a:blip r:embed="rId8"/>
            <a:stretch/>
          </p:blipFill>
          <p:spPr>
            <a:xfrm>
              <a:off x="3755520" y="826920"/>
              <a:ext cx="186120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2003400" y="1341360"/>
            <a:ext cx="168480" cy="5808240"/>
            <a:chOff x="2003400" y="1341360"/>
            <a:chExt cx="168480" cy="5808240"/>
          </a:xfrm>
        </p:grpSpPr>
        <p:pic>
          <p:nvPicPr>
            <p:cNvPr id="55" name="Picture 14" descr="11996副本"/>
            <p:cNvPicPr/>
            <p:nvPr/>
          </p:nvPicPr>
          <p:blipFill>
            <a:blip r:embed="rId9"/>
            <a:srcRect l="59971" t="77630" r="20130" b="70"/>
            <a:stretch/>
          </p:blipFill>
          <p:spPr>
            <a:xfrm>
              <a:off x="2003400" y="1583280"/>
              <a:ext cx="16848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11996副本"/>
            <p:cNvPicPr/>
            <p:nvPr/>
          </p:nvPicPr>
          <p:blipFill>
            <a:blip r:embed="rId10"/>
            <a:srcRect l="60000" t="23204" r="21176" b="69"/>
            <a:stretch/>
          </p:blipFill>
          <p:spPr>
            <a:xfrm>
              <a:off x="2062440" y="1341360"/>
              <a:ext cx="59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1585800" y="549360"/>
            <a:ext cx="2028960" cy="2231640"/>
            <a:chOff x="1585800" y="549360"/>
            <a:chExt cx="2028960" cy="2231640"/>
          </a:xfrm>
        </p:grpSpPr>
        <p:pic>
          <p:nvPicPr>
            <p:cNvPr id="58" name="" descr=""/>
            <p:cNvPicPr/>
            <p:nvPr/>
          </p:nvPicPr>
          <p:blipFill>
            <a:blip r:embed="rId11"/>
            <a:stretch/>
          </p:blipFill>
          <p:spPr>
            <a:xfrm>
              <a:off x="15858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2"/>
            <a:stretch/>
          </p:blipFill>
          <p:spPr>
            <a:xfrm>
              <a:off x="16333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808200" y="765000"/>
            <a:ext cx="1871280" cy="2023920"/>
            <a:chOff x="808200" y="765000"/>
            <a:chExt cx="1871280" cy="2023920"/>
          </a:xfrm>
        </p:grpSpPr>
        <p:pic>
          <p:nvPicPr>
            <p:cNvPr id="61" name="" descr=""/>
            <p:cNvPicPr/>
            <p:nvPr/>
          </p:nvPicPr>
          <p:blipFill>
            <a:blip r:embed="rId13"/>
            <a:stretch/>
          </p:blipFill>
          <p:spPr>
            <a:xfrm>
              <a:off x="8082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4"/>
            <a:stretch/>
          </p:blipFill>
          <p:spPr>
            <a:xfrm>
              <a:off x="8755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947880" y="549360"/>
            <a:ext cx="2231640" cy="2184120"/>
            <a:chOff x="947880" y="549360"/>
            <a:chExt cx="2231640" cy="2184120"/>
          </a:xfrm>
        </p:grpSpPr>
        <p:pic>
          <p:nvPicPr>
            <p:cNvPr id="64" name="Picture 18" descr="未标题-17"/>
            <p:cNvPicPr/>
            <p:nvPr/>
          </p:nvPicPr>
          <p:blipFill>
            <a:blip r:embed="rId15"/>
            <a:stretch/>
          </p:blipFill>
          <p:spPr>
            <a:xfrm>
              <a:off x="9478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9" descr="未标题-9"/>
            <p:cNvPicPr/>
            <p:nvPr/>
          </p:nvPicPr>
          <p:blipFill>
            <a:blip r:embed="rId16"/>
            <a:stretch/>
          </p:blipFill>
          <p:spPr>
            <a:xfrm>
              <a:off x="11077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6940440" y="1341360"/>
            <a:ext cx="142920" cy="5808240"/>
            <a:chOff x="6940440" y="1341360"/>
            <a:chExt cx="142920" cy="5808240"/>
          </a:xfrm>
        </p:grpSpPr>
        <p:pic>
          <p:nvPicPr>
            <p:cNvPr id="67" name="Picture 14" descr="11996副本"/>
            <p:cNvPicPr/>
            <p:nvPr/>
          </p:nvPicPr>
          <p:blipFill>
            <a:blip r:embed="rId17"/>
            <a:srcRect l="59971" t="77630" r="20130" b="70"/>
            <a:stretch/>
          </p:blipFill>
          <p:spPr>
            <a:xfrm>
              <a:off x="6940440" y="1583280"/>
              <a:ext cx="14292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5" descr="11996副本"/>
            <p:cNvPicPr/>
            <p:nvPr/>
          </p:nvPicPr>
          <p:blipFill>
            <a:blip r:embed="rId18"/>
            <a:srcRect l="60000" t="23204" r="21176" b="69"/>
            <a:stretch/>
          </p:blipFill>
          <p:spPr>
            <a:xfrm>
              <a:off x="6990480" y="1341360"/>
              <a:ext cx="50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07000" y="549360"/>
            <a:ext cx="2028960" cy="2231640"/>
            <a:chOff x="6507000" y="549360"/>
            <a:chExt cx="2028960" cy="2231640"/>
          </a:xfrm>
        </p:grpSpPr>
        <p:pic>
          <p:nvPicPr>
            <p:cNvPr id="70" name="" descr=""/>
            <p:cNvPicPr/>
            <p:nvPr/>
          </p:nvPicPr>
          <p:blipFill>
            <a:blip r:embed="rId19"/>
            <a:stretch/>
          </p:blipFill>
          <p:spPr>
            <a:xfrm>
              <a:off x="65070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0"/>
            <a:stretch/>
          </p:blipFill>
          <p:spPr>
            <a:xfrm>
              <a:off x="65545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5729400" y="765000"/>
            <a:ext cx="1871280" cy="2023920"/>
            <a:chOff x="5729400" y="765000"/>
            <a:chExt cx="1871280" cy="2023920"/>
          </a:xfrm>
        </p:grpSpPr>
        <p:pic>
          <p:nvPicPr>
            <p:cNvPr id="73" name="" descr=""/>
            <p:cNvPicPr/>
            <p:nvPr/>
          </p:nvPicPr>
          <p:blipFill>
            <a:blip r:embed="rId21"/>
            <a:stretch/>
          </p:blipFill>
          <p:spPr>
            <a:xfrm>
              <a:off x="57294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2"/>
            <a:stretch/>
          </p:blipFill>
          <p:spPr>
            <a:xfrm>
              <a:off x="57967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5869080" y="549360"/>
            <a:ext cx="2231640" cy="2184120"/>
            <a:chOff x="5869080" y="549360"/>
            <a:chExt cx="2231640" cy="2184120"/>
          </a:xfrm>
        </p:grpSpPr>
        <p:pic>
          <p:nvPicPr>
            <p:cNvPr id="76" name="Picture 18" descr="未标题-17"/>
            <p:cNvPicPr/>
            <p:nvPr/>
          </p:nvPicPr>
          <p:blipFill>
            <a:blip r:embed="rId23"/>
            <a:stretch/>
          </p:blipFill>
          <p:spPr>
            <a:xfrm>
              <a:off x="58690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9" descr="未标题-9"/>
            <p:cNvPicPr/>
            <p:nvPr/>
          </p:nvPicPr>
          <p:blipFill>
            <a:blip r:embed="rId24"/>
            <a:stretch/>
          </p:blipFill>
          <p:spPr>
            <a:xfrm>
              <a:off x="60289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7" descr="未标题-1"/>
          <p:cNvPicPr/>
          <p:nvPr/>
        </p:nvPicPr>
        <p:blipFill>
          <a:blip r:embed="rId25"/>
          <a:stretch/>
        </p:blipFill>
        <p:spPr>
          <a:xfrm>
            <a:off x="468360" y="260280"/>
            <a:ext cx="2636640" cy="24624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811600" y="57240"/>
            <a:ext cx="2520360" cy="2552400"/>
            <a:chOff x="2811600" y="57240"/>
            <a:chExt cx="2520360" cy="2552400"/>
          </a:xfrm>
        </p:grpSpPr>
        <p:pic>
          <p:nvPicPr>
            <p:cNvPr id="80" name="Picture 12" descr="未标题-9"/>
            <p:cNvPicPr/>
            <p:nvPr/>
          </p:nvPicPr>
          <p:blipFill>
            <a:blip r:embed="rId26"/>
            <a:stretch/>
          </p:blipFill>
          <p:spPr>
            <a:xfrm>
              <a:off x="2811600" y="57240"/>
              <a:ext cx="252036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3" descr="未标题-11"/>
            <p:cNvPicPr/>
            <p:nvPr/>
          </p:nvPicPr>
          <p:blipFill>
            <a:blip r:embed="rId27"/>
            <a:stretch/>
          </p:blipFill>
          <p:spPr>
            <a:xfrm>
              <a:off x="2902320" y="57240"/>
              <a:ext cx="2388240" cy="25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5994360" y="-31680"/>
            <a:ext cx="2720520" cy="2544480"/>
            <a:chOff x="5994360" y="-31680"/>
            <a:chExt cx="2720520" cy="2544480"/>
          </a:xfrm>
        </p:grpSpPr>
        <p:pic>
          <p:nvPicPr>
            <p:cNvPr id="83" name="Picture 18" descr="未标题-17"/>
            <p:cNvPicPr/>
            <p:nvPr/>
          </p:nvPicPr>
          <p:blipFill>
            <a:blip r:embed="rId28"/>
            <a:stretch/>
          </p:blipFill>
          <p:spPr>
            <a:xfrm>
              <a:off x="5994360" y="-31680"/>
              <a:ext cx="2720520" cy="25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9" descr="未标题-9"/>
            <p:cNvPicPr/>
            <p:nvPr/>
          </p:nvPicPr>
          <p:blipFill>
            <a:blip r:embed="rId29"/>
            <a:stretch/>
          </p:blipFill>
          <p:spPr>
            <a:xfrm>
              <a:off x="6189480" y="46800"/>
              <a:ext cx="2387880" cy="244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7048440" y="861840"/>
            <a:ext cx="1682640" cy="1797120"/>
            <a:chOff x="7048440" y="861840"/>
            <a:chExt cx="1682640" cy="1797120"/>
          </a:xfrm>
        </p:grpSpPr>
        <p:pic>
          <p:nvPicPr>
            <p:cNvPr id="86" name="Picture 7" descr="未标题-1"/>
            <p:cNvPicPr/>
            <p:nvPr/>
          </p:nvPicPr>
          <p:blipFill>
            <a:blip r:embed="rId30"/>
            <a:stretch/>
          </p:blipFill>
          <p:spPr>
            <a:xfrm>
              <a:off x="7048440" y="866160"/>
              <a:ext cx="168264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1"/>
            <a:stretch/>
          </p:blipFill>
          <p:spPr>
            <a:xfrm>
              <a:off x="7102080" y="861840"/>
              <a:ext cx="157104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3860640" y="692280"/>
            <a:ext cx="2006640" cy="2016000"/>
            <a:chOff x="3860640" y="692280"/>
            <a:chExt cx="2006640" cy="2016000"/>
          </a:xfrm>
        </p:grpSpPr>
        <p:pic>
          <p:nvPicPr>
            <p:cNvPr id="89" name="" descr=""/>
            <p:cNvPicPr/>
            <p:nvPr/>
          </p:nvPicPr>
          <p:blipFill>
            <a:blip r:embed="rId32"/>
            <a:stretch/>
          </p:blipFill>
          <p:spPr>
            <a:xfrm>
              <a:off x="3860640" y="692280"/>
              <a:ext cx="20066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3"/>
            <a:stretch/>
          </p:blipFill>
          <p:spPr>
            <a:xfrm>
              <a:off x="4037400" y="969840"/>
              <a:ext cx="161460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826920" y="765000"/>
            <a:ext cx="1752840" cy="1943280"/>
            <a:chOff x="826920" y="765000"/>
            <a:chExt cx="1752840" cy="1943280"/>
          </a:xfrm>
        </p:grpSpPr>
        <p:pic>
          <p:nvPicPr>
            <p:cNvPr id="92" name="" descr=""/>
            <p:cNvPicPr/>
            <p:nvPr/>
          </p:nvPicPr>
          <p:blipFill>
            <a:blip r:embed="rId34"/>
            <a:stretch/>
          </p:blipFill>
          <p:spPr>
            <a:xfrm>
              <a:off x="826920" y="765000"/>
              <a:ext cx="17528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5"/>
            <a:stretch/>
          </p:blipFill>
          <p:spPr>
            <a:xfrm>
              <a:off x="953640" y="1023480"/>
              <a:ext cx="148356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椭圆 2"/>
          <p:cNvSpPr/>
          <p:nvPr/>
        </p:nvSpPr>
        <p:spPr>
          <a:xfrm>
            <a:off x="1692360" y="1700280"/>
            <a:ext cx="4428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2"/>
          <p:cNvSpPr/>
          <p:nvPr/>
        </p:nvSpPr>
        <p:spPr>
          <a:xfrm>
            <a:off x="481968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"/>
          <p:cNvSpPr/>
          <p:nvPr/>
        </p:nvSpPr>
        <p:spPr>
          <a:xfrm>
            <a:off x="788364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87640" y="260280"/>
            <a:ext cx="2028960" cy="2231640"/>
            <a:chOff x="2987640" y="260280"/>
            <a:chExt cx="2028960" cy="2231640"/>
          </a:xfrm>
        </p:grpSpPr>
        <p:pic>
          <p:nvPicPr>
            <p:cNvPr id="98" name="" descr=""/>
            <p:cNvPicPr/>
            <p:nvPr/>
          </p:nvPicPr>
          <p:blipFill>
            <a:blip r:embed="rId36"/>
            <a:stretch/>
          </p:blipFill>
          <p:spPr>
            <a:xfrm>
              <a:off x="2987640" y="30348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7"/>
            <a:stretch/>
          </p:blipFill>
          <p:spPr>
            <a:xfrm>
              <a:off x="3035160" y="26028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3059280" y="333360"/>
            <a:ext cx="1871280" cy="2023560"/>
            <a:chOff x="3059280" y="333360"/>
            <a:chExt cx="1871280" cy="2023560"/>
          </a:xfrm>
        </p:grpSpPr>
        <p:pic>
          <p:nvPicPr>
            <p:cNvPr id="101" name="" descr=""/>
            <p:cNvPicPr/>
            <p:nvPr/>
          </p:nvPicPr>
          <p:blipFill>
            <a:blip r:embed="rId38"/>
            <a:stretch/>
          </p:blipFill>
          <p:spPr>
            <a:xfrm>
              <a:off x="3059280" y="333360"/>
              <a:ext cx="1871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9"/>
            <a:stretch/>
          </p:blipFill>
          <p:spPr>
            <a:xfrm>
              <a:off x="3126600" y="333360"/>
              <a:ext cx="1773360" cy="20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2771640" y="260280"/>
            <a:ext cx="2231640" cy="2184120"/>
            <a:chOff x="2771640" y="260280"/>
            <a:chExt cx="2231640" cy="2184120"/>
          </a:xfrm>
        </p:grpSpPr>
        <p:pic>
          <p:nvPicPr>
            <p:cNvPr id="104" name="Picture 18" descr="未标题-17"/>
            <p:cNvPicPr/>
            <p:nvPr/>
          </p:nvPicPr>
          <p:blipFill>
            <a:blip r:embed="rId40"/>
            <a:stretch/>
          </p:blipFill>
          <p:spPr>
            <a:xfrm>
              <a:off x="2771640" y="26028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9" descr="未标题-9"/>
            <p:cNvPicPr/>
            <p:nvPr/>
          </p:nvPicPr>
          <p:blipFill>
            <a:blip r:embed="rId41"/>
            <a:stretch/>
          </p:blipFill>
          <p:spPr>
            <a:xfrm>
              <a:off x="2931480" y="32760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10693440" y="7677000"/>
            <a:ext cx="504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素材风暴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AE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视频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PSD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矢量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Flash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图片素材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PS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插件：</a:t>
            </a:r>
            <a:r>
              <a:rPr b="0" lang="en-US" sz="100" spc="-1" strike="noStrike">
                <a:solidFill>
                  <a:srgbClr val="969696"/>
                </a:solidFill>
                <a:latin typeface="Arial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>
                                  <p:stCondLst>
                                    <p:cond delay="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1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1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%E7%83%9F%E8%8A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9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%E7%83%9F%E8%8A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2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3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4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4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49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5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5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6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61111E-006 -4.44444E-006 C 0.01146 0.00209 0.05122 0.00718 0.06927 0.0132 C 0.08733 0.01922 0.10035 0.03195 0.10851 0.03681 E">
                                      <p:cBhvr>
                                        <p:cTn id="16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6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61111E-006 -2.22222E-006 C -0.00937 0.00047 -0.03836 0.00209 -0.05625 0.00278 C -0.07413 0.00347 -0.09461 0.00417 -0.10694 0.00463 C -0.11927 0.00509 -0.12552 0.00509 -0.13038 0.00509 E">
                                      <p:cBhvr>
                                        <p:cTn id="17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6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92360" y="476280"/>
            <a:ext cx="1683000" cy="1797120"/>
            <a:chOff x="3492360" y="476280"/>
            <a:chExt cx="1683000" cy="1797120"/>
          </a:xfrm>
        </p:grpSpPr>
        <p:pic>
          <p:nvPicPr>
            <p:cNvPr id="109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3492360" y="480600"/>
              <a:ext cx="1683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3546000" y="476280"/>
              <a:ext cx="157140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3419640" y="692280"/>
            <a:ext cx="2006280" cy="2016000"/>
            <a:chOff x="3419640" y="692280"/>
            <a:chExt cx="2006280" cy="20160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3419640" y="692280"/>
              <a:ext cx="2006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3596400" y="969840"/>
              <a:ext cx="161424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4284720" y="476280"/>
            <a:ext cx="1752480" cy="1942920"/>
            <a:chOff x="4284720" y="476280"/>
            <a:chExt cx="1752480" cy="1942920"/>
          </a:xfrm>
        </p:grpSpPr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4284720" y="476280"/>
              <a:ext cx="17524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>
              <a:off x="4411440" y="734760"/>
              <a:ext cx="148320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椭圆 2"/>
          <p:cNvSpPr/>
          <p:nvPr/>
        </p:nvSpPr>
        <p:spPr>
          <a:xfrm>
            <a:off x="4603680" y="1413000"/>
            <a:ext cx="4464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03600" y="765000"/>
            <a:ext cx="2120400" cy="2016000"/>
            <a:chOff x="3603600" y="765000"/>
            <a:chExt cx="2120400" cy="2016000"/>
          </a:xfrm>
        </p:grpSpPr>
        <p:pic>
          <p:nvPicPr>
            <p:cNvPr id="119" name="Picture 18" descr="未标题-17"/>
            <p:cNvPicPr/>
            <p:nvPr/>
          </p:nvPicPr>
          <p:blipFill>
            <a:blip r:embed="rId7"/>
            <a:stretch/>
          </p:blipFill>
          <p:spPr>
            <a:xfrm>
              <a:off x="3603600" y="765000"/>
              <a:ext cx="2120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9" descr="未标题-9"/>
            <p:cNvPicPr/>
            <p:nvPr/>
          </p:nvPicPr>
          <p:blipFill>
            <a:blip r:embed="rId8"/>
            <a:stretch/>
          </p:blipFill>
          <p:spPr>
            <a:xfrm>
              <a:off x="3755520" y="826920"/>
              <a:ext cx="186120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2003400" y="1341360"/>
            <a:ext cx="168480" cy="5808240"/>
            <a:chOff x="2003400" y="1341360"/>
            <a:chExt cx="168480" cy="5808240"/>
          </a:xfrm>
        </p:grpSpPr>
        <p:pic>
          <p:nvPicPr>
            <p:cNvPr id="122" name="Picture 14" descr="11996副本"/>
            <p:cNvPicPr/>
            <p:nvPr/>
          </p:nvPicPr>
          <p:blipFill>
            <a:blip r:embed="rId9"/>
            <a:srcRect l="59971" t="77630" r="20130" b="70"/>
            <a:stretch/>
          </p:blipFill>
          <p:spPr>
            <a:xfrm>
              <a:off x="2003400" y="1583280"/>
              <a:ext cx="16848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5" descr="11996副本"/>
            <p:cNvPicPr/>
            <p:nvPr/>
          </p:nvPicPr>
          <p:blipFill>
            <a:blip r:embed="rId10"/>
            <a:srcRect l="60000" t="23204" r="21176" b="69"/>
            <a:stretch/>
          </p:blipFill>
          <p:spPr>
            <a:xfrm>
              <a:off x="2062440" y="1341360"/>
              <a:ext cx="59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1585800" y="549360"/>
            <a:ext cx="2028960" cy="2231640"/>
            <a:chOff x="1585800" y="549360"/>
            <a:chExt cx="2028960" cy="2231640"/>
          </a:xfrm>
        </p:grpSpPr>
        <p:pic>
          <p:nvPicPr>
            <p:cNvPr id="125" name="" descr=""/>
            <p:cNvPicPr/>
            <p:nvPr/>
          </p:nvPicPr>
          <p:blipFill>
            <a:blip r:embed="rId11"/>
            <a:stretch/>
          </p:blipFill>
          <p:spPr>
            <a:xfrm>
              <a:off x="15858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2"/>
            <a:stretch/>
          </p:blipFill>
          <p:spPr>
            <a:xfrm>
              <a:off x="16333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808200" y="765000"/>
            <a:ext cx="1871280" cy="2023920"/>
            <a:chOff x="808200" y="765000"/>
            <a:chExt cx="1871280" cy="2023920"/>
          </a:xfrm>
        </p:grpSpPr>
        <p:pic>
          <p:nvPicPr>
            <p:cNvPr id="128" name="" descr=""/>
            <p:cNvPicPr/>
            <p:nvPr/>
          </p:nvPicPr>
          <p:blipFill>
            <a:blip r:embed="rId13"/>
            <a:stretch/>
          </p:blipFill>
          <p:spPr>
            <a:xfrm>
              <a:off x="8082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4"/>
            <a:stretch/>
          </p:blipFill>
          <p:spPr>
            <a:xfrm>
              <a:off x="8755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947880" y="549360"/>
            <a:ext cx="2231640" cy="2184120"/>
            <a:chOff x="947880" y="549360"/>
            <a:chExt cx="2231640" cy="2184120"/>
          </a:xfrm>
        </p:grpSpPr>
        <p:pic>
          <p:nvPicPr>
            <p:cNvPr id="131" name="Picture 18" descr="未标题-17"/>
            <p:cNvPicPr/>
            <p:nvPr/>
          </p:nvPicPr>
          <p:blipFill>
            <a:blip r:embed="rId15"/>
            <a:stretch/>
          </p:blipFill>
          <p:spPr>
            <a:xfrm>
              <a:off x="9478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9" descr="未标题-9"/>
            <p:cNvPicPr/>
            <p:nvPr/>
          </p:nvPicPr>
          <p:blipFill>
            <a:blip r:embed="rId16"/>
            <a:stretch/>
          </p:blipFill>
          <p:spPr>
            <a:xfrm>
              <a:off x="11077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6940440" y="1341360"/>
            <a:ext cx="142920" cy="5808240"/>
            <a:chOff x="6940440" y="1341360"/>
            <a:chExt cx="142920" cy="5808240"/>
          </a:xfrm>
        </p:grpSpPr>
        <p:pic>
          <p:nvPicPr>
            <p:cNvPr id="134" name="Picture 14" descr="11996副本"/>
            <p:cNvPicPr/>
            <p:nvPr/>
          </p:nvPicPr>
          <p:blipFill>
            <a:blip r:embed="rId17"/>
            <a:srcRect l="59971" t="77630" r="20130" b="70"/>
            <a:stretch/>
          </p:blipFill>
          <p:spPr>
            <a:xfrm>
              <a:off x="6940440" y="1583280"/>
              <a:ext cx="14292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5" descr="11996副本"/>
            <p:cNvPicPr/>
            <p:nvPr/>
          </p:nvPicPr>
          <p:blipFill>
            <a:blip r:embed="rId18"/>
            <a:srcRect l="60000" t="23204" r="21176" b="69"/>
            <a:stretch/>
          </p:blipFill>
          <p:spPr>
            <a:xfrm>
              <a:off x="6990480" y="1341360"/>
              <a:ext cx="50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6507000" y="549360"/>
            <a:ext cx="2028960" cy="2231640"/>
            <a:chOff x="6507000" y="549360"/>
            <a:chExt cx="2028960" cy="2231640"/>
          </a:xfrm>
        </p:grpSpPr>
        <p:pic>
          <p:nvPicPr>
            <p:cNvPr id="137" name="" descr=""/>
            <p:cNvPicPr/>
            <p:nvPr/>
          </p:nvPicPr>
          <p:blipFill>
            <a:blip r:embed="rId19"/>
            <a:stretch/>
          </p:blipFill>
          <p:spPr>
            <a:xfrm>
              <a:off x="65070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0"/>
            <a:stretch/>
          </p:blipFill>
          <p:spPr>
            <a:xfrm>
              <a:off x="65545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5729400" y="765000"/>
            <a:ext cx="1871280" cy="2023920"/>
            <a:chOff x="5729400" y="765000"/>
            <a:chExt cx="1871280" cy="2023920"/>
          </a:xfrm>
        </p:grpSpPr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57294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57967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5869080" y="549360"/>
            <a:ext cx="2231640" cy="2184120"/>
            <a:chOff x="5869080" y="549360"/>
            <a:chExt cx="2231640" cy="2184120"/>
          </a:xfrm>
        </p:grpSpPr>
        <p:pic>
          <p:nvPicPr>
            <p:cNvPr id="143" name="Picture 18" descr="未标题-17"/>
            <p:cNvPicPr/>
            <p:nvPr/>
          </p:nvPicPr>
          <p:blipFill>
            <a:blip r:embed="rId23"/>
            <a:stretch/>
          </p:blipFill>
          <p:spPr>
            <a:xfrm>
              <a:off x="58690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9" descr="未标题-9"/>
            <p:cNvPicPr/>
            <p:nvPr/>
          </p:nvPicPr>
          <p:blipFill>
            <a:blip r:embed="rId24"/>
            <a:stretch/>
          </p:blipFill>
          <p:spPr>
            <a:xfrm>
              <a:off x="60289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7" descr="未标题-1"/>
          <p:cNvPicPr/>
          <p:nvPr/>
        </p:nvPicPr>
        <p:blipFill>
          <a:blip r:embed="rId25"/>
          <a:stretch/>
        </p:blipFill>
        <p:spPr>
          <a:xfrm>
            <a:off x="468360" y="260280"/>
            <a:ext cx="2636640" cy="24624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2811600" y="57240"/>
            <a:ext cx="2520360" cy="2552400"/>
            <a:chOff x="2811600" y="57240"/>
            <a:chExt cx="2520360" cy="2552400"/>
          </a:xfrm>
        </p:grpSpPr>
        <p:pic>
          <p:nvPicPr>
            <p:cNvPr id="147" name="Picture 12" descr="未标题-9"/>
            <p:cNvPicPr/>
            <p:nvPr/>
          </p:nvPicPr>
          <p:blipFill>
            <a:blip r:embed="rId26"/>
            <a:stretch/>
          </p:blipFill>
          <p:spPr>
            <a:xfrm>
              <a:off x="2811600" y="57240"/>
              <a:ext cx="252036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3" descr="未标题-11"/>
            <p:cNvPicPr/>
            <p:nvPr/>
          </p:nvPicPr>
          <p:blipFill>
            <a:blip r:embed="rId27"/>
            <a:stretch/>
          </p:blipFill>
          <p:spPr>
            <a:xfrm>
              <a:off x="2902320" y="57240"/>
              <a:ext cx="2388240" cy="25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5994360" y="-31680"/>
            <a:ext cx="2720520" cy="2544480"/>
            <a:chOff x="5994360" y="-31680"/>
            <a:chExt cx="2720520" cy="2544480"/>
          </a:xfrm>
        </p:grpSpPr>
        <p:pic>
          <p:nvPicPr>
            <p:cNvPr id="150" name="Picture 18" descr="未标题-17"/>
            <p:cNvPicPr/>
            <p:nvPr/>
          </p:nvPicPr>
          <p:blipFill>
            <a:blip r:embed="rId28"/>
            <a:stretch/>
          </p:blipFill>
          <p:spPr>
            <a:xfrm>
              <a:off x="5994360" y="-31680"/>
              <a:ext cx="2720520" cy="25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9" descr="未标题-9"/>
            <p:cNvPicPr/>
            <p:nvPr/>
          </p:nvPicPr>
          <p:blipFill>
            <a:blip r:embed="rId29"/>
            <a:stretch/>
          </p:blipFill>
          <p:spPr>
            <a:xfrm>
              <a:off x="6189480" y="46800"/>
              <a:ext cx="2387880" cy="244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7048440" y="861840"/>
            <a:ext cx="1682640" cy="1797120"/>
            <a:chOff x="7048440" y="861840"/>
            <a:chExt cx="1682640" cy="1797120"/>
          </a:xfrm>
        </p:grpSpPr>
        <p:pic>
          <p:nvPicPr>
            <p:cNvPr id="153" name="Picture 7" descr="未标题-1"/>
            <p:cNvPicPr/>
            <p:nvPr/>
          </p:nvPicPr>
          <p:blipFill>
            <a:blip r:embed="rId30"/>
            <a:stretch/>
          </p:blipFill>
          <p:spPr>
            <a:xfrm>
              <a:off x="7048440" y="866160"/>
              <a:ext cx="168264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1"/>
            <a:stretch/>
          </p:blipFill>
          <p:spPr>
            <a:xfrm>
              <a:off x="7102080" y="861840"/>
              <a:ext cx="157104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3860640" y="692280"/>
            <a:ext cx="2006640" cy="2016000"/>
            <a:chOff x="3860640" y="692280"/>
            <a:chExt cx="2006640" cy="2016000"/>
          </a:xfrm>
        </p:grpSpPr>
        <p:pic>
          <p:nvPicPr>
            <p:cNvPr id="156" name="" descr=""/>
            <p:cNvPicPr/>
            <p:nvPr/>
          </p:nvPicPr>
          <p:blipFill>
            <a:blip r:embed="rId32"/>
            <a:stretch/>
          </p:blipFill>
          <p:spPr>
            <a:xfrm>
              <a:off x="3860640" y="692280"/>
              <a:ext cx="20066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3"/>
            <a:stretch/>
          </p:blipFill>
          <p:spPr>
            <a:xfrm>
              <a:off x="4037400" y="969840"/>
              <a:ext cx="161460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826920" y="765000"/>
            <a:ext cx="1752840" cy="1943280"/>
            <a:chOff x="826920" y="765000"/>
            <a:chExt cx="1752840" cy="1943280"/>
          </a:xfrm>
        </p:grpSpPr>
        <p:pic>
          <p:nvPicPr>
            <p:cNvPr id="159" name="" descr=""/>
            <p:cNvPicPr/>
            <p:nvPr/>
          </p:nvPicPr>
          <p:blipFill>
            <a:blip r:embed="rId34"/>
            <a:stretch/>
          </p:blipFill>
          <p:spPr>
            <a:xfrm>
              <a:off x="826920" y="765000"/>
              <a:ext cx="17528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5"/>
            <a:stretch/>
          </p:blipFill>
          <p:spPr>
            <a:xfrm>
              <a:off x="953640" y="1023480"/>
              <a:ext cx="148356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椭圆 2"/>
          <p:cNvSpPr/>
          <p:nvPr/>
        </p:nvSpPr>
        <p:spPr>
          <a:xfrm>
            <a:off x="1692360" y="1700280"/>
            <a:ext cx="4428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"/>
          <p:cNvSpPr/>
          <p:nvPr/>
        </p:nvSpPr>
        <p:spPr>
          <a:xfrm>
            <a:off x="481968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"/>
          <p:cNvSpPr/>
          <p:nvPr/>
        </p:nvSpPr>
        <p:spPr>
          <a:xfrm>
            <a:off x="788364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987640" y="260280"/>
            <a:ext cx="2028960" cy="2231640"/>
            <a:chOff x="2987640" y="260280"/>
            <a:chExt cx="2028960" cy="2231640"/>
          </a:xfrm>
        </p:grpSpPr>
        <p:pic>
          <p:nvPicPr>
            <p:cNvPr id="165" name="" descr=""/>
            <p:cNvPicPr/>
            <p:nvPr/>
          </p:nvPicPr>
          <p:blipFill>
            <a:blip r:embed="rId36"/>
            <a:stretch/>
          </p:blipFill>
          <p:spPr>
            <a:xfrm>
              <a:off x="2987640" y="30348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7"/>
            <a:stretch/>
          </p:blipFill>
          <p:spPr>
            <a:xfrm>
              <a:off x="3035160" y="26028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3059280" y="333360"/>
            <a:ext cx="1871280" cy="2023560"/>
            <a:chOff x="3059280" y="333360"/>
            <a:chExt cx="1871280" cy="2023560"/>
          </a:xfrm>
        </p:grpSpPr>
        <p:pic>
          <p:nvPicPr>
            <p:cNvPr id="168" name="" descr=""/>
            <p:cNvPicPr/>
            <p:nvPr/>
          </p:nvPicPr>
          <p:blipFill>
            <a:blip r:embed="rId38"/>
            <a:stretch/>
          </p:blipFill>
          <p:spPr>
            <a:xfrm>
              <a:off x="3059280" y="333360"/>
              <a:ext cx="1871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39"/>
            <a:stretch/>
          </p:blipFill>
          <p:spPr>
            <a:xfrm>
              <a:off x="3126600" y="333360"/>
              <a:ext cx="1773360" cy="20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2771640" y="260280"/>
            <a:ext cx="2231640" cy="2184120"/>
            <a:chOff x="2771640" y="260280"/>
            <a:chExt cx="2231640" cy="2184120"/>
          </a:xfrm>
        </p:grpSpPr>
        <p:pic>
          <p:nvPicPr>
            <p:cNvPr id="171" name="Picture 18" descr="未标题-17"/>
            <p:cNvPicPr/>
            <p:nvPr/>
          </p:nvPicPr>
          <p:blipFill>
            <a:blip r:embed="rId40"/>
            <a:stretch/>
          </p:blipFill>
          <p:spPr>
            <a:xfrm>
              <a:off x="2771640" y="26028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9" descr="未标题-9"/>
            <p:cNvPicPr/>
            <p:nvPr/>
          </p:nvPicPr>
          <p:blipFill>
            <a:blip r:embed="rId41"/>
            <a:stretch/>
          </p:blipFill>
          <p:spPr>
            <a:xfrm>
              <a:off x="2931480" y="32760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1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1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%E7%83%9F%E8%8A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%E7%83%9F%E8%8A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2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3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4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4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49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5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5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6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61111E-006 -4.44444E-006 C 0.01146 0.00209 0.05122 0.00718 0.06927 0.0132 C 0.08733 0.01922 0.10035 0.03195 0.10851 0.03681 E">
                                      <p:cBhvr>
                                        <p:cTn id="34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6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5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61111E-006 -2.22222E-006 C -0.00937 0.00047 -0.03836 0.00209 -0.05625 0.00278 C -0.07413 0.00347 -0.09461 0.00417 -0.10694 0.00463 C -0.11927 0.00509 -0.12552 0.00509 -0.13038 0.00509 E">
                                      <p:cBhvr>
                                        <p:cTn id="35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6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492360" y="476280"/>
            <a:ext cx="1683000" cy="1797120"/>
            <a:chOff x="3492360" y="476280"/>
            <a:chExt cx="1683000" cy="1797120"/>
          </a:xfrm>
        </p:grpSpPr>
        <p:pic>
          <p:nvPicPr>
            <p:cNvPr id="174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3492360" y="480600"/>
              <a:ext cx="1683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3546000" y="476280"/>
              <a:ext cx="157140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3419640" y="692280"/>
            <a:ext cx="2006280" cy="2016000"/>
            <a:chOff x="3419640" y="692280"/>
            <a:chExt cx="2006280" cy="201600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3419640" y="692280"/>
              <a:ext cx="2006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3596400" y="969840"/>
              <a:ext cx="161424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4284720" y="476280"/>
            <a:ext cx="1752480" cy="1942920"/>
            <a:chOff x="4284720" y="476280"/>
            <a:chExt cx="1752480" cy="1942920"/>
          </a:xfrm>
        </p:grpSpPr>
        <p:pic>
          <p:nvPicPr>
            <p:cNvPr id="180" name="" descr=""/>
            <p:cNvPicPr/>
            <p:nvPr/>
          </p:nvPicPr>
          <p:blipFill>
            <a:blip r:embed="rId5"/>
            <a:stretch/>
          </p:blipFill>
          <p:spPr>
            <a:xfrm>
              <a:off x="4284720" y="476280"/>
              <a:ext cx="17524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6"/>
            <a:stretch/>
          </p:blipFill>
          <p:spPr>
            <a:xfrm>
              <a:off x="4411440" y="734760"/>
              <a:ext cx="148320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椭圆 2"/>
          <p:cNvSpPr/>
          <p:nvPr/>
        </p:nvSpPr>
        <p:spPr>
          <a:xfrm>
            <a:off x="4603680" y="1413000"/>
            <a:ext cx="4464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603600" y="765000"/>
            <a:ext cx="2120400" cy="2016000"/>
            <a:chOff x="3603600" y="765000"/>
            <a:chExt cx="2120400" cy="2016000"/>
          </a:xfrm>
        </p:grpSpPr>
        <p:pic>
          <p:nvPicPr>
            <p:cNvPr id="184" name="Picture 18" descr="未标题-17"/>
            <p:cNvPicPr/>
            <p:nvPr/>
          </p:nvPicPr>
          <p:blipFill>
            <a:blip r:embed="rId7"/>
            <a:stretch/>
          </p:blipFill>
          <p:spPr>
            <a:xfrm>
              <a:off x="3603600" y="765000"/>
              <a:ext cx="2120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9" descr="未标题-9"/>
            <p:cNvPicPr/>
            <p:nvPr/>
          </p:nvPicPr>
          <p:blipFill>
            <a:blip r:embed="rId8"/>
            <a:stretch/>
          </p:blipFill>
          <p:spPr>
            <a:xfrm>
              <a:off x="3755520" y="826920"/>
              <a:ext cx="186120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"/>
          <p:cNvGrpSpPr/>
          <p:nvPr/>
        </p:nvGrpSpPr>
        <p:grpSpPr>
          <a:xfrm>
            <a:off x="2003400" y="1341360"/>
            <a:ext cx="168480" cy="5808240"/>
            <a:chOff x="2003400" y="1341360"/>
            <a:chExt cx="168480" cy="5808240"/>
          </a:xfrm>
        </p:grpSpPr>
        <p:pic>
          <p:nvPicPr>
            <p:cNvPr id="187" name="Picture 14" descr="11996副本"/>
            <p:cNvPicPr/>
            <p:nvPr/>
          </p:nvPicPr>
          <p:blipFill>
            <a:blip r:embed="rId9"/>
            <a:srcRect l="59971" t="77630" r="20130" b="70"/>
            <a:stretch/>
          </p:blipFill>
          <p:spPr>
            <a:xfrm>
              <a:off x="2003400" y="1583280"/>
              <a:ext cx="16848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5" descr="11996副本"/>
            <p:cNvPicPr/>
            <p:nvPr/>
          </p:nvPicPr>
          <p:blipFill>
            <a:blip r:embed="rId10"/>
            <a:srcRect l="60000" t="23204" r="21176" b="69"/>
            <a:stretch/>
          </p:blipFill>
          <p:spPr>
            <a:xfrm>
              <a:off x="2062440" y="1341360"/>
              <a:ext cx="59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1585800" y="549360"/>
            <a:ext cx="2028960" cy="2231640"/>
            <a:chOff x="1585800" y="549360"/>
            <a:chExt cx="2028960" cy="2231640"/>
          </a:xfrm>
        </p:grpSpPr>
        <p:pic>
          <p:nvPicPr>
            <p:cNvPr id="190" name="" descr=""/>
            <p:cNvPicPr/>
            <p:nvPr/>
          </p:nvPicPr>
          <p:blipFill>
            <a:blip r:embed="rId11"/>
            <a:stretch/>
          </p:blipFill>
          <p:spPr>
            <a:xfrm>
              <a:off x="15858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2"/>
            <a:stretch/>
          </p:blipFill>
          <p:spPr>
            <a:xfrm>
              <a:off x="16333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808200" y="765000"/>
            <a:ext cx="1871280" cy="2023920"/>
            <a:chOff x="808200" y="765000"/>
            <a:chExt cx="1871280" cy="2023920"/>
          </a:xfrm>
        </p:grpSpPr>
        <p:pic>
          <p:nvPicPr>
            <p:cNvPr id="193" name="" descr=""/>
            <p:cNvPicPr/>
            <p:nvPr/>
          </p:nvPicPr>
          <p:blipFill>
            <a:blip r:embed="rId13"/>
            <a:stretch/>
          </p:blipFill>
          <p:spPr>
            <a:xfrm>
              <a:off x="8082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4"/>
            <a:stretch/>
          </p:blipFill>
          <p:spPr>
            <a:xfrm>
              <a:off x="8755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947880" y="549360"/>
            <a:ext cx="2231640" cy="2184120"/>
            <a:chOff x="947880" y="549360"/>
            <a:chExt cx="2231640" cy="2184120"/>
          </a:xfrm>
        </p:grpSpPr>
        <p:pic>
          <p:nvPicPr>
            <p:cNvPr id="196" name="Picture 18" descr="未标题-17"/>
            <p:cNvPicPr/>
            <p:nvPr/>
          </p:nvPicPr>
          <p:blipFill>
            <a:blip r:embed="rId15"/>
            <a:stretch/>
          </p:blipFill>
          <p:spPr>
            <a:xfrm>
              <a:off x="9478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9" descr="未标题-9"/>
            <p:cNvPicPr/>
            <p:nvPr/>
          </p:nvPicPr>
          <p:blipFill>
            <a:blip r:embed="rId16"/>
            <a:stretch/>
          </p:blipFill>
          <p:spPr>
            <a:xfrm>
              <a:off x="11077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6940440" y="1341360"/>
            <a:ext cx="142920" cy="5808240"/>
            <a:chOff x="6940440" y="1341360"/>
            <a:chExt cx="142920" cy="5808240"/>
          </a:xfrm>
        </p:grpSpPr>
        <p:pic>
          <p:nvPicPr>
            <p:cNvPr id="199" name="Picture 14" descr="11996副本"/>
            <p:cNvPicPr/>
            <p:nvPr/>
          </p:nvPicPr>
          <p:blipFill>
            <a:blip r:embed="rId17"/>
            <a:srcRect l="59971" t="77630" r="20130" b="70"/>
            <a:stretch/>
          </p:blipFill>
          <p:spPr>
            <a:xfrm>
              <a:off x="6940440" y="1583280"/>
              <a:ext cx="14292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5" descr="11996副本"/>
            <p:cNvPicPr/>
            <p:nvPr/>
          </p:nvPicPr>
          <p:blipFill>
            <a:blip r:embed="rId18"/>
            <a:srcRect l="60000" t="23204" r="21176" b="69"/>
            <a:stretch/>
          </p:blipFill>
          <p:spPr>
            <a:xfrm>
              <a:off x="6990480" y="1341360"/>
              <a:ext cx="50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6507000" y="549360"/>
            <a:ext cx="2028960" cy="2231640"/>
            <a:chOff x="6507000" y="549360"/>
            <a:chExt cx="2028960" cy="2231640"/>
          </a:xfrm>
        </p:grpSpPr>
        <p:pic>
          <p:nvPicPr>
            <p:cNvPr id="202" name="" descr=""/>
            <p:cNvPicPr/>
            <p:nvPr/>
          </p:nvPicPr>
          <p:blipFill>
            <a:blip r:embed="rId19"/>
            <a:stretch/>
          </p:blipFill>
          <p:spPr>
            <a:xfrm>
              <a:off x="65070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0"/>
            <a:stretch/>
          </p:blipFill>
          <p:spPr>
            <a:xfrm>
              <a:off x="65545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5729400" y="765000"/>
            <a:ext cx="1871280" cy="2023920"/>
            <a:chOff x="5729400" y="765000"/>
            <a:chExt cx="1871280" cy="2023920"/>
          </a:xfrm>
        </p:grpSpPr>
        <p:pic>
          <p:nvPicPr>
            <p:cNvPr id="205" name="" descr=""/>
            <p:cNvPicPr/>
            <p:nvPr/>
          </p:nvPicPr>
          <p:blipFill>
            <a:blip r:embed="rId21"/>
            <a:stretch/>
          </p:blipFill>
          <p:spPr>
            <a:xfrm>
              <a:off x="57294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2"/>
            <a:stretch/>
          </p:blipFill>
          <p:spPr>
            <a:xfrm>
              <a:off x="57967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5869080" y="549360"/>
            <a:ext cx="2231640" cy="2184120"/>
            <a:chOff x="5869080" y="549360"/>
            <a:chExt cx="2231640" cy="2184120"/>
          </a:xfrm>
        </p:grpSpPr>
        <p:pic>
          <p:nvPicPr>
            <p:cNvPr id="208" name="Picture 18" descr="未标题-17"/>
            <p:cNvPicPr/>
            <p:nvPr/>
          </p:nvPicPr>
          <p:blipFill>
            <a:blip r:embed="rId23"/>
            <a:stretch/>
          </p:blipFill>
          <p:spPr>
            <a:xfrm>
              <a:off x="58690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9" descr="未标题-9"/>
            <p:cNvPicPr/>
            <p:nvPr/>
          </p:nvPicPr>
          <p:blipFill>
            <a:blip r:embed="rId24"/>
            <a:stretch/>
          </p:blipFill>
          <p:spPr>
            <a:xfrm>
              <a:off x="60289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Picture 7" descr="未标题-1"/>
          <p:cNvPicPr/>
          <p:nvPr/>
        </p:nvPicPr>
        <p:blipFill>
          <a:blip r:embed="rId25"/>
          <a:stretch/>
        </p:blipFill>
        <p:spPr>
          <a:xfrm>
            <a:off x="468360" y="260280"/>
            <a:ext cx="2636640" cy="246240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2811600" y="57240"/>
            <a:ext cx="2520360" cy="2552400"/>
            <a:chOff x="2811600" y="57240"/>
            <a:chExt cx="2520360" cy="2552400"/>
          </a:xfrm>
        </p:grpSpPr>
        <p:pic>
          <p:nvPicPr>
            <p:cNvPr id="212" name="Picture 12" descr="未标题-9"/>
            <p:cNvPicPr/>
            <p:nvPr/>
          </p:nvPicPr>
          <p:blipFill>
            <a:blip r:embed="rId26"/>
            <a:stretch/>
          </p:blipFill>
          <p:spPr>
            <a:xfrm>
              <a:off x="2811600" y="57240"/>
              <a:ext cx="252036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3" descr="未标题-11"/>
            <p:cNvPicPr/>
            <p:nvPr/>
          </p:nvPicPr>
          <p:blipFill>
            <a:blip r:embed="rId27"/>
            <a:stretch/>
          </p:blipFill>
          <p:spPr>
            <a:xfrm>
              <a:off x="2902320" y="57240"/>
              <a:ext cx="2388240" cy="25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5994360" y="-31680"/>
            <a:ext cx="2720520" cy="2544480"/>
            <a:chOff x="5994360" y="-31680"/>
            <a:chExt cx="2720520" cy="2544480"/>
          </a:xfrm>
        </p:grpSpPr>
        <p:pic>
          <p:nvPicPr>
            <p:cNvPr id="215" name="Picture 18" descr="未标题-17"/>
            <p:cNvPicPr/>
            <p:nvPr/>
          </p:nvPicPr>
          <p:blipFill>
            <a:blip r:embed="rId28"/>
            <a:stretch/>
          </p:blipFill>
          <p:spPr>
            <a:xfrm>
              <a:off x="5994360" y="-31680"/>
              <a:ext cx="2720520" cy="25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9" descr="未标题-9"/>
            <p:cNvPicPr/>
            <p:nvPr/>
          </p:nvPicPr>
          <p:blipFill>
            <a:blip r:embed="rId29"/>
            <a:stretch/>
          </p:blipFill>
          <p:spPr>
            <a:xfrm>
              <a:off x="6189480" y="46800"/>
              <a:ext cx="2387880" cy="244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7048440" y="861840"/>
            <a:ext cx="1682640" cy="1797120"/>
            <a:chOff x="7048440" y="861840"/>
            <a:chExt cx="1682640" cy="1797120"/>
          </a:xfrm>
        </p:grpSpPr>
        <p:pic>
          <p:nvPicPr>
            <p:cNvPr id="218" name="Picture 7" descr="未标题-1"/>
            <p:cNvPicPr/>
            <p:nvPr/>
          </p:nvPicPr>
          <p:blipFill>
            <a:blip r:embed="rId30"/>
            <a:stretch/>
          </p:blipFill>
          <p:spPr>
            <a:xfrm>
              <a:off x="7048440" y="866160"/>
              <a:ext cx="168264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1"/>
            <a:stretch/>
          </p:blipFill>
          <p:spPr>
            <a:xfrm>
              <a:off x="7102080" y="861840"/>
              <a:ext cx="157104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3860640" y="692280"/>
            <a:ext cx="2006640" cy="2016000"/>
            <a:chOff x="3860640" y="692280"/>
            <a:chExt cx="2006640" cy="2016000"/>
          </a:xfrm>
        </p:grpSpPr>
        <p:pic>
          <p:nvPicPr>
            <p:cNvPr id="221" name="" descr=""/>
            <p:cNvPicPr/>
            <p:nvPr/>
          </p:nvPicPr>
          <p:blipFill>
            <a:blip r:embed="rId32"/>
            <a:stretch/>
          </p:blipFill>
          <p:spPr>
            <a:xfrm>
              <a:off x="3860640" y="692280"/>
              <a:ext cx="20066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3"/>
            <a:stretch/>
          </p:blipFill>
          <p:spPr>
            <a:xfrm>
              <a:off x="4037400" y="969840"/>
              <a:ext cx="161460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"/>
          <p:cNvGrpSpPr/>
          <p:nvPr/>
        </p:nvGrpSpPr>
        <p:grpSpPr>
          <a:xfrm>
            <a:off x="826920" y="765000"/>
            <a:ext cx="1752840" cy="1943280"/>
            <a:chOff x="826920" y="765000"/>
            <a:chExt cx="1752840" cy="1943280"/>
          </a:xfrm>
        </p:grpSpPr>
        <p:pic>
          <p:nvPicPr>
            <p:cNvPr id="224" name="" descr=""/>
            <p:cNvPicPr/>
            <p:nvPr/>
          </p:nvPicPr>
          <p:blipFill>
            <a:blip r:embed="rId34"/>
            <a:stretch/>
          </p:blipFill>
          <p:spPr>
            <a:xfrm>
              <a:off x="826920" y="765000"/>
              <a:ext cx="17528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5"/>
            <a:stretch/>
          </p:blipFill>
          <p:spPr>
            <a:xfrm>
              <a:off x="953640" y="1023480"/>
              <a:ext cx="148356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椭圆 2"/>
          <p:cNvSpPr/>
          <p:nvPr/>
        </p:nvSpPr>
        <p:spPr>
          <a:xfrm>
            <a:off x="1692360" y="1700280"/>
            <a:ext cx="4428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"/>
          <p:cNvSpPr/>
          <p:nvPr/>
        </p:nvSpPr>
        <p:spPr>
          <a:xfrm>
            <a:off x="481968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2"/>
          <p:cNvSpPr/>
          <p:nvPr/>
        </p:nvSpPr>
        <p:spPr>
          <a:xfrm>
            <a:off x="788364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987640" y="260280"/>
            <a:ext cx="2028960" cy="2231640"/>
            <a:chOff x="2987640" y="260280"/>
            <a:chExt cx="2028960" cy="2231640"/>
          </a:xfrm>
        </p:grpSpPr>
        <p:pic>
          <p:nvPicPr>
            <p:cNvPr id="230" name="" descr=""/>
            <p:cNvPicPr/>
            <p:nvPr/>
          </p:nvPicPr>
          <p:blipFill>
            <a:blip r:embed="rId36"/>
            <a:stretch/>
          </p:blipFill>
          <p:spPr>
            <a:xfrm>
              <a:off x="2987640" y="30348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7"/>
            <a:stretch/>
          </p:blipFill>
          <p:spPr>
            <a:xfrm>
              <a:off x="3035160" y="26028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3059280" y="333360"/>
            <a:ext cx="1871280" cy="2023560"/>
            <a:chOff x="3059280" y="333360"/>
            <a:chExt cx="1871280" cy="2023560"/>
          </a:xfrm>
        </p:grpSpPr>
        <p:pic>
          <p:nvPicPr>
            <p:cNvPr id="233" name="" descr=""/>
            <p:cNvPicPr/>
            <p:nvPr/>
          </p:nvPicPr>
          <p:blipFill>
            <a:blip r:embed="rId38"/>
            <a:stretch/>
          </p:blipFill>
          <p:spPr>
            <a:xfrm>
              <a:off x="3059280" y="333360"/>
              <a:ext cx="1871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9"/>
            <a:stretch/>
          </p:blipFill>
          <p:spPr>
            <a:xfrm>
              <a:off x="3126600" y="333360"/>
              <a:ext cx="1773360" cy="20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2771640" y="260280"/>
            <a:ext cx="2231640" cy="2184120"/>
            <a:chOff x="2771640" y="260280"/>
            <a:chExt cx="2231640" cy="2184120"/>
          </a:xfrm>
        </p:grpSpPr>
        <p:pic>
          <p:nvPicPr>
            <p:cNvPr id="236" name="Picture 18" descr="未标题-17"/>
            <p:cNvPicPr/>
            <p:nvPr/>
          </p:nvPicPr>
          <p:blipFill>
            <a:blip r:embed="rId40"/>
            <a:stretch/>
          </p:blipFill>
          <p:spPr>
            <a:xfrm>
              <a:off x="2771640" y="26028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9" descr="未标题-9"/>
            <p:cNvPicPr/>
            <p:nvPr/>
          </p:nvPicPr>
          <p:blipFill>
            <a:blip r:embed="rId41"/>
            <a:stretch/>
          </p:blipFill>
          <p:spPr>
            <a:xfrm>
              <a:off x="2931480" y="32760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9">
                                  <p:stCondLst>
                                    <p:cond delay="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1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9">
                                  <p:stCondLst>
                                    <p:cond delay="1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%E7%83%9F%E8%8A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9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%E7%83%9F%E8%8A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2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3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9">
                                  <p:stCondLst>
                                    <p:cond delay="4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4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49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9">
                                  <p:stCondLst>
                                    <p:cond delay="5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5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6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61111E-006 -4.44444E-006 C 0.01146 0.00209 0.05122 0.00718 0.06927 0.0132 C 0.08733 0.01922 0.10035 0.03195 0.10851 0.03681 E">
                                      <p:cBhvr>
                                        <p:cTn id="51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6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5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61111E-006 -2.22222E-006 C -0.00937 0.00047 -0.03836 0.00209 -0.05625 0.00278 C -0.07413 0.00347 -0.09461 0.00417 -0.10694 0.00463 C -0.11927 0.00509 -0.12552 0.00509 -0.13038 0.00509 E">
                                      <p:cBhvr>
                                        <p:cTn id="52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6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1:52:27Z</dcterms:created>
  <dc:creator>cjq</dc:creator>
  <dc:description/>
  <cp:keywords/>
  <dc:language>en-US</dc:language>
  <cp:lastModifiedBy>admin</cp:lastModifiedBy>
  <cp:lastPrinted>1899-12-30T00:00:00Z</cp:lastPrinted>
  <dcterms:modified xsi:type="dcterms:W3CDTF">2015-03-24T02:59:29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