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9FAA-C905-4E2B-A297-CC9A02EA1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3CA4-C50B-4CDF-A4AE-79ADB2047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EFC4-A426-4A0B-B6A9-002D1EF6FC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E206-7E73-4569-A746-6973F2222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5952-BD16-4EBC-929F-AE86867EB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68E5-D566-46A0-9484-EFC320804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CC69-157D-403B-97FC-83C9286ED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6852-7C4D-4AD8-9880-16A505F9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8BEB-779E-4021-9B62-0DE54D7E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B790-F646-4CD0-B408-8DB72F7C3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3CB1-1300-46D0-9C83-295F9744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898A-DF9E-4B1E-9EC5-266916AF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8B5-6451-44B1-A522-6B40865A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43D-D9C7-4AAA-A97D-6B6D15D5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4EFB-B614-40FC-A04B-54197098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806B-85DD-487D-9B11-19FDB37B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346-70E7-4149-A1F9-5EBD8581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71A-43C8-4B52-8091-2E24EAF3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A5B-C46C-4AEA-B22B-D36E649C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AE98-16A6-439B-8D2E-B7004F945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4" descr=""/>
          <p:cNvPicPr/>
          <p:nvPr/>
        </p:nvPicPr>
        <p:blipFill>
          <a:blip r:embed="rId1"/>
          <a:stretch/>
        </p:blipFill>
        <p:spPr>
          <a:xfrm>
            <a:off x="209520" y="476280"/>
            <a:ext cx="8934480" cy="554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4284720" y="2293920"/>
            <a:ext cx="484344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476360" y="288144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愚人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pril Fool's Day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）节  愚人节较普遍的说法是起源于法国。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56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年；法国首先采用新改革的纪年法格里历（即目前通用的公历），以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为一年之始。但一些因循守旧的人反对这种改革，依然按照旧历固执地在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这一天送礼品，庆祝新年。主张改革的人对这些守旧者的做法大加嘲弄。聪明滑稽的人在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就给他们送假礼品，邀请他们参加假招待会，并把上当受骗的保守分子称为“四月傻瓜”或“上钩的鱼”。从此人们在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便互相愚弄，成为法国流行的风俗。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世纪初，愚人节习俗传到英国，接着又被英国的早期移民带到了美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4"/>
          <a:stretch/>
        </p:blipFill>
        <p:spPr>
          <a:xfrm>
            <a:off x="684360" y="1916280"/>
            <a:ext cx="7723080" cy="925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3647160" y="1963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愚人节的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3959280" cy="925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10724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整蛊妙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9640" y="26370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的愚人节又要到了，愚人节最典型的活动就是大家互相开玩笑，用假话捉弄对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的人把细线拴着的钱包丢在大街上，自己在暗处拉着线的另一端。一旦有人捡起钱包，他们就出其不意地猛然把钱包拽走。还有人把砖头放在破帽子下面搁在马路当中，然后等着看谁来了会踢它。小孩儿们会告诉父母说自己的书包破了个洞，或者脸上有个黑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大人俯身来看时，他们就一边喊着“四月傻瓜”，一边笑着跑开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5"/>
          <a:stretch/>
        </p:blipFill>
        <p:spPr>
          <a:xfrm>
            <a:off x="5148360" y="1967040"/>
            <a:ext cx="3430440" cy="3767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6"/>
          <a:stretch/>
        </p:blipFill>
        <p:spPr>
          <a:xfrm>
            <a:off x="5213520" y="2205000"/>
            <a:ext cx="3174840" cy="2583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2742840" y="57466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Arial"/>
              </a:rPr>
              <a:t>新招 奇招 怪招 请问度娘去吧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3959280" cy="925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724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整蛊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5"/>
          <a:stretch/>
        </p:blipFill>
        <p:spPr>
          <a:xfrm>
            <a:off x="1671480" y="3164040"/>
            <a:ext cx="2324160" cy="2209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6"/>
          <a:stretch/>
        </p:blipFill>
        <p:spPr>
          <a:xfrm>
            <a:off x="5043600" y="3078000"/>
            <a:ext cx="2336760" cy="2222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7"/>
          <a:stretch/>
        </p:blipFill>
        <p:spPr>
          <a:xfrm>
            <a:off x="-684360" y="2997360"/>
            <a:ext cx="101617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3959280" cy="925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10724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整蛊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5"/>
          <a:stretch/>
        </p:blipFill>
        <p:spPr>
          <a:xfrm>
            <a:off x="1658880" y="3068640"/>
            <a:ext cx="2336760" cy="2336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6"/>
          <a:stretch/>
        </p:blipFill>
        <p:spPr>
          <a:xfrm>
            <a:off x="5076720" y="3068640"/>
            <a:ext cx="2336760" cy="233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7"/>
          <a:stretch/>
        </p:blipFill>
        <p:spPr>
          <a:xfrm>
            <a:off x="-684360" y="2997360"/>
            <a:ext cx="101617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6"/>
          <p:cNvSpPr/>
          <p:nvPr/>
        </p:nvSpPr>
        <p:spPr>
          <a:xfrm>
            <a:off x="2392560" y="32846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东坡下载站搜集整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28:57Z</dcterms:created>
  <dc:creator/>
  <dc:description/>
  <cp:keywords/>
  <dc:language>en-US</dc:language>
  <cp:lastModifiedBy>Sky123.Org</cp:lastModifiedBy>
  <dcterms:modified xsi:type="dcterms:W3CDTF">2015-03-27T01:03:21Z</dcterms:modified>
  <cp:revision>86</cp:revision>
  <dc:subject/>
  <dc:title>ppt.glzy8.com提供海量PPT模板免费下载！</dc:title>
</cp:coreProperties>
</file>