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C3D-B07A-4BED-B3BC-7D23C467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7AE-1034-47D7-921D-7DA2BCBA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CA2-D73B-47C3-83F5-BBFB7B1C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536-AC9C-4DE7-A97A-DBAC19ED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3C2-5B60-4358-AFF0-F43A930F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548-C826-4F1A-935D-C360A541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A04-4DDB-4A2F-B1EE-C627453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30C-C88F-4531-9723-4485724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5B1-E27C-4D98-8C0A-B6DCBF1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1BA-CD1F-41EA-8E79-6AC39E9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E6F-A840-4898-AD77-613D674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3D2-4B07-4BA3-97BC-AF9813D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754-A79E-4CBE-A543-B7E2C2C47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41120" cy="453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-506520" y="5646600"/>
            <a:ext cx="1016028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684360" y="5715000"/>
            <a:ext cx="784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292720" y="69228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388360" y="414972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pc</dc:creator>
  <dc:description/>
  <cp:keywords/>
  <dc:language>en-US</dc:language>
  <cp:lastModifiedBy>admin</cp:lastModifiedBy>
  <cp:lastPrinted>1899-12-30T00:00:00Z</cp:lastPrinted>
  <dcterms:modified xsi:type="dcterms:W3CDTF">2015-03-17T01:44:35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