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0430-0963-4969-A131-F952A7DD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CE21-2DD4-42CA-939F-22D500D1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6D2A3-958B-4333-A6F9-45F8E66C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56CF8-6C8E-4BB8-ADF1-6C781834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AF3D7-315E-47FA-B6FF-C01C2BAB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66D9D-AEA1-4D10-AB50-F817D0F9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80627-6ADC-4796-87D2-04768888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1DF43-4496-4F7B-9F6D-AE324523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94145-F6D8-4F38-BBC7-41D17CC4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E8FCE-7D12-463A-ADA9-9F1ABB35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FCFAE-26B4-49D1-9DF3-603ADBE1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39417-B56C-4A69-AD30-DFCF8414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13EB-5D3E-4E02-919B-94941E78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8FB2F-4521-4CAF-815A-741926FC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A65B2-6F45-4C6B-8EB0-438DE657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54A68-6F7A-49EE-BF0D-FD957E7D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F2BDC-B95D-4203-88BD-AAB4EEC1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4ACD8-F9EC-4A10-B588-DBEB5AA9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97E32-C042-41B0-8242-F922B634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E4247-26BA-4CEB-AC0F-F2ECDDF8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F9733-847A-4E56-B425-C3A43E5C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9666B-4075-4BD2-BD58-D51CF4A1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23D11-872C-4E1F-84A3-0CF36CF8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1E56-9CC4-488F-880F-23431687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5D670-B146-45B9-BAD7-4F9C5AFD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71BEA-59BB-43FB-80C7-C833068F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07653-2263-45EB-BB24-0ED779E2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81694-0728-4801-BE56-C131DA9D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5442F-BED1-4990-AF1A-7BC908BC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A48AC-4827-45C2-BD85-A2A56294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7BF50-682F-4EF6-9E61-53769E89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ECC4B-19C2-4FC2-B427-E74DE692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853F2-EE87-40AC-80A3-9A10B953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7DCD8-B038-4E11-AAFC-1409852A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E635-9703-4446-876C-85B5FB28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9FD8C-0BD0-4603-B382-94B52896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D1894-28F6-4656-9DD0-CAC07666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B613F-D15B-4C1A-9CE3-49FC4FA0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CBB75-1962-439E-8863-6ED05428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38CA1-4EFC-498B-82AD-24F126C5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D2685-D2DE-4615-9F1E-19225ABC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19148-D4CC-4636-ADB5-9020BE9E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86D62-0B9B-4322-B340-15F12C9C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804B9-67B7-49F0-800D-BCD74CD5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6E17F-A901-43C9-ABC9-7EAA952A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BD87-A518-4FDF-9CC2-B98325F6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F6048-CB6C-4910-916D-5A216F6C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B2ABC-4D1C-4923-851E-003D89C4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D2842-4696-4C88-BF1A-BFC5D81B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4A4C6-BD30-401C-B208-9A83A462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66020-BCE7-465B-ADF9-8C884844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232D-AF11-46A3-B951-F422A822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4BDD-0522-47D3-AF08-53BE0624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4720-1968-41B1-AAB0-6B1124A4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6F72-732A-467D-8995-D6444185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98A5-6807-4BD9-A939-A7EEE58E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8F60-8D86-4C9A-9D7F-7BB8FB9A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CE48-ECF1-4426-ABE9-9F90BCD2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7DA0-3260-4363-870F-EEE19546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3069-F1EA-4EF7-8151-EE94B209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D02E-6BE1-4E0D-817C-7C3950B7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310C-F3A0-4032-8184-2101E16C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A663A-2FBD-4605-BAF4-50FC8F47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0F790-95FF-47FC-BCB9-2ACEEE23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72711-09C5-470B-A39B-28DE74C5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B3C9D-373B-4698-9C71-15D215FE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B5F47-1502-448A-B4C4-A7838F73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A0AE-BB4E-456A-BE36-AA2E9AED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E5F35-9005-4A8A-8588-DCC9CCAB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5FFD1-A5E2-4437-A5DC-97B80EEE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59832-9EF3-4329-9C0B-0CEC1DA3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BC679-BDD8-4432-9A88-43D2E0A9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675FC-D3A1-47EC-BE92-FD1CCF99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FCC79-668C-4373-B6FF-C9C07FF8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78707-D85B-409A-BE9C-22F8A0B9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E90E1-2544-4E34-9B62-5CE822DA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1829E-FF83-48D6-A2E9-4910C359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375D4-2813-4BAE-88E5-A4221A19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C599-8FF3-494B-B3CF-352620D5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C4EF2-A33B-4FA0-B73E-A3112118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AD5AB-67FE-4AD1-982F-3682CC84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52FC0-32E6-4F74-B82D-75AA120B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81441-0A7F-4ED7-AA78-D1F06765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F5507-2B14-4B8D-A4CD-2A3BADDB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BD7A9-1D04-480B-BC42-621F2EE7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0CF09-8D65-461C-AE5B-E692F91C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06DA0-79ED-44FF-987C-EBBF8C98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7F650-B41F-49DE-BF7A-B75F8ED8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C3780-A44E-4A04-B5B0-3B1B887C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3B75-3199-48BF-9AC7-8A267CDF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5558F-55D9-4D52-BAA2-B1DF9C19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7D76F-8432-4501-AA70-4E6A25C1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B2F49-0EBD-4DA2-9C30-966F6043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D58D4-62F9-4859-91B0-3BD2FD9A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B3425-163F-4EFD-8100-455490A3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033EC-2D99-447F-896C-D99D2455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F0AFD-A1DA-4899-8DEC-AA1C3ADE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70937-9FF0-44EF-8BEC-B14495A2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8E1AA-8B8D-4527-81B1-8E0A3FC0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DAAB7-D0BE-4B42-82C2-7A9375C4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F3DB-1FDD-466E-9492-828523DE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70EAB-12D4-403D-8E1D-89C8A6FA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736BC-8184-438B-B5C8-83517D09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8CF88-3BF0-4C2D-9859-56103BAB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8B508-DE6D-4650-A2FE-40C4EE97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8B78C-2321-4F31-9930-0F2EDF49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795CD-DEEB-4963-BA9C-07552627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589C9-E35A-4AD1-80C3-CE0E60FE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E8945-9FEF-4003-BFFF-E7E71EFB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AB861-556C-4306-931A-9B2D65C6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F13B1-3DCC-41D7-958C-DDE361B9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56C2-3AD1-4073-B0D2-46E9891D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49CFC-94B8-41FB-9C53-A4D910D8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CDBEF-F59E-4F90-9577-7422FA5A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5FE44-C5AA-4B04-9F60-A13FE939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F8CFE-4B49-4FB8-99E3-FD014C17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66F3C-3E77-4FFC-BD17-9D5DA12F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C3B24-D1EE-47AF-AB30-D7FE824E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03733-4292-4B21-BC2B-B06BF4F9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42B1D-A456-408F-8A69-BED40449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54782-EBD9-4644-A706-92073A22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2F370-0703-4433-ADB6-F2BD1C30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EF76-2696-4289-AC6D-69AB30EF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EE301-E653-4B58-A75A-80F8F0EB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A2D04-C9EF-4416-B15C-F2CCED2F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9DEA0-E639-44CA-A158-00512254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1B218-E57E-4B57-94DA-47EA69AF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77158-7BA4-45B6-986F-F8132B1C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C6E04-F019-45C7-B493-A701C891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7DD9D-D669-4623-83E5-1AC31BC4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C1CE5-F703-4DD0-B60F-05EDA2B1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65E85-8D86-4DAD-B06D-61D1DA20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F5B5B-5961-41AC-8D6A-87FF393D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9BBB-D68A-4D8D-AC9A-EF2CD090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05CC9-FB79-4EFA-A188-2ED28635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9D7D8-2C7D-49BD-9F38-A57BD4B2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DE80F-1B7B-4779-8977-1C286CE0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B6443-945B-4A43-B9DA-C5B38ADA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91035-CB1D-45ED-B04A-5C3580FF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11BA6-9A89-4F9C-B6D1-285969EB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606B5-AC9E-42E0-9CE9-3116DCC9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BC2A4-1E5C-49B0-A504-9B84A28A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8B534-65C4-4956-A78C-51812C44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C9E74-B5C5-42C5-96BE-441BDED2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0191-D7A7-4304-866E-63D408C1DB5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669B-117E-4703-A0D9-22E8A31E103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3FA2-EE29-4A29-A9AE-F635CD53DE1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BD7C-78C6-44E0-A575-93C3A6C7B2F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9E8B-3F67-4E06-B31B-F605826F972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1093-482B-4540-9256-88D368A3329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0D41-6D1A-4246-8E69-79D0A7D7FCF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7898-631D-4140-BB55-0E274BBAC60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07CF-9524-4D42-8459-269E213C469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C0F0-38FF-4640-A5B5-4F87CE4FBD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6D3C-CA01-4A62-A7CD-BD3FEE08329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4A99-412D-4E65-B397-69260806C36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9798-89BE-4A33-B7BA-0BACE55EA34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7DDA-95C5-49AE-983F-9EBFA5362C8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F30F-EE1A-4B01-9C56-AE6D33B9D0A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B023-7790-4D42-A2A5-9B219C88EE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B39B-D9EE-44F0-A464-B67F095CBD9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7D57-7930-401C-B3BF-D066C371C2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3E3F-3419-44A6-AF4D-0E5ED7D2704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0CC8-5DC8-4E5A-9C81-E91BEDBEBE0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4FD2-213A-4907-B608-CD949316362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A1B8-F6A7-4EF3-BE07-B10DDFA0F4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D034-76C9-4052-BE16-FEEE6935A7C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B300-94B6-404B-AD84-02421AB64AA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13"/>
          <p:cNvSpPr/>
          <p:nvPr/>
        </p:nvSpPr>
        <p:spPr>
          <a:xfrm>
            <a:off x="942840" y="3168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1440" y="936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"/>
          <p:cNvPicPr/>
          <p:nvPr/>
        </p:nvPicPr>
        <p:blipFill>
          <a:blip r:embed="rId2"/>
          <a:stretch/>
        </p:blipFill>
        <p:spPr>
          <a:xfrm>
            <a:off x="101520" y="1612800"/>
            <a:ext cx="6743880" cy="47894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"/>
          <p:cNvPicPr/>
          <p:nvPr/>
        </p:nvPicPr>
        <p:blipFill>
          <a:blip r:embed="rId3"/>
          <a:stretch/>
        </p:blipFill>
        <p:spPr>
          <a:xfrm>
            <a:off x="250920" y="1682640"/>
            <a:ext cx="5526000" cy="35085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"/>
          <p:cNvPicPr/>
          <p:nvPr/>
        </p:nvPicPr>
        <p:blipFill>
          <a:blip r:embed="rId4"/>
          <a:stretch/>
        </p:blipFill>
        <p:spPr>
          <a:xfrm>
            <a:off x="1440" y="3289320"/>
            <a:ext cx="7035840" cy="35766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7" descr=""/>
          <p:cNvPicPr/>
          <p:nvPr/>
        </p:nvPicPr>
        <p:blipFill>
          <a:blip r:embed="rId5"/>
          <a:stretch/>
        </p:blipFill>
        <p:spPr>
          <a:xfrm>
            <a:off x="0" y="4824360"/>
            <a:ext cx="6558120" cy="20336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5" descr=""/>
          <p:cNvPicPr/>
          <p:nvPr/>
        </p:nvPicPr>
        <p:blipFill>
          <a:blip r:embed="rId6"/>
          <a:stretch/>
        </p:blipFill>
        <p:spPr>
          <a:xfrm>
            <a:off x="1670040" y="1776240"/>
            <a:ext cx="3611520" cy="61423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8" descr=""/>
          <p:cNvPicPr/>
          <p:nvPr/>
        </p:nvPicPr>
        <p:blipFill>
          <a:blip r:embed="rId7"/>
          <a:stretch/>
        </p:blipFill>
        <p:spPr>
          <a:xfrm>
            <a:off x="-11160" y="1628640"/>
            <a:ext cx="1087560" cy="21495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3" descr=""/>
          <p:cNvPicPr/>
          <p:nvPr/>
        </p:nvPicPr>
        <p:blipFill>
          <a:blip r:embed="rId8"/>
          <a:stretch/>
        </p:blipFill>
        <p:spPr>
          <a:xfrm>
            <a:off x="0" y="-4680"/>
            <a:ext cx="9828360" cy="1503360"/>
          </a:xfrm>
          <a:prstGeom prst="rect">
            <a:avLst/>
          </a:prstGeom>
          <a:ln w="0">
            <a:noFill/>
          </a:ln>
        </p:spPr>
      </p:pic>
      <p:sp>
        <p:nvSpPr>
          <p:cNvPr id="501" name="TextBox 3"/>
          <p:cNvSpPr/>
          <p:nvPr/>
        </p:nvSpPr>
        <p:spPr>
          <a:xfrm>
            <a:off x="2356200" y="358920"/>
            <a:ext cx="42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学生健康成长教育教学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11"/>
          <p:cNvSpPr/>
          <p:nvPr/>
        </p:nvSpPr>
        <p:spPr>
          <a:xfrm>
            <a:off x="4517640" y="844560"/>
            <a:ext cx="259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uzzf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-30240" y="9360"/>
            <a:ext cx="9174240" cy="68565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6743520" cy="47898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"/>
          <p:cNvPicPr/>
          <p:nvPr/>
        </p:nvPicPr>
        <p:blipFill>
          <a:blip r:embed="rId3"/>
          <a:stretch/>
        </p:blipFill>
        <p:spPr>
          <a:xfrm>
            <a:off x="250920" y="1682640"/>
            <a:ext cx="5526000" cy="35085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6" descr=""/>
          <p:cNvPicPr/>
          <p:nvPr/>
        </p:nvPicPr>
        <p:blipFill>
          <a:blip r:embed="rId4"/>
          <a:stretch/>
        </p:blipFill>
        <p:spPr>
          <a:xfrm>
            <a:off x="-36360" y="3274920"/>
            <a:ext cx="7035480" cy="35766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"/>
          <p:cNvPicPr/>
          <p:nvPr/>
        </p:nvPicPr>
        <p:blipFill>
          <a:blip r:embed="rId5"/>
          <a:stretch/>
        </p:blipFill>
        <p:spPr>
          <a:xfrm>
            <a:off x="-36360" y="4826160"/>
            <a:ext cx="6557760" cy="20318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8" descr=""/>
          <p:cNvPicPr/>
          <p:nvPr/>
        </p:nvPicPr>
        <p:blipFill>
          <a:blip r:embed="rId6"/>
          <a:stretch/>
        </p:blipFill>
        <p:spPr>
          <a:xfrm>
            <a:off x="-20520" y="1268280"/>
            <a:ext cx="1392120" cy="27561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3" descr=""/>
          <p:cNvPicPr/>
          <p:nvPr/>
        </p:nvPicPr>
        <p:blipFill>
          <a:blip r:embed="rId7"/>
          <a:stretch/>
        </p:blipFill>
        <p:spPr>
          <a:xfrm>
            <a:off x="0" y="-520560"/>
            <a:ext cx="9972720" cy="1501560"/>
          </a:xfrm>
          <a:prstGeom prst="rect">
            <a:avLst/>
          </a:prstGeom>
          <a:ln w="0">
            <a:noFill/>
          </a:ln>
        </p:spPr>
      </p:pic>
      <p:sp>
        <p:nvSpPr>
          <p:cNvPr id="510" name="TextBox 3"/>
          <p:cNvSpPr/>
          <p:nvPr/>
        </p:nvSpPr>
        <p:spPr>
          <a:xfrm>
            <a:off x="3724560" y="36360"/>
            <a:ext cx="42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学生健康成长教育教学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6" descr=""/>
          <p:cNvPicPr/>
          <p:nvPr/>
        </p:nvPicPr>
        <p:blipFill>
          <a:blip r:embed="rId1"/>
          <a:stretch/>
        </p:blipFill>
        <p:spPr>
          <a:xfrm>
            <a:off x="0" y="3281400"/>
            <a:ext cx="7035840" cy="35766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"/>
          <p:cNvPicPr/>
          <p:nvPr/>
        </p:nvPicPr>
        <p:blipFill>
          <a:blip r:embed="rId2"/>
          <a:stretch/>
        </p:blipFill>
        <p:spPr>
          <a:xfrm>
            <a:off x="4680" y="0"/>
            <a:ext cx="9139320" cy="68644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" descr=""/>
          <p:cNvPicPr/>
          <p:nvPr/>
        </p:nvPicPr>
        <p:blipFill>
          <a:blip r:embed="rId3"/>
          <a:stretch/>
        </p:blipFill>
        <p:spPr>
          <a:xfrm>
            <a:off x="241200" y="1682640"/>
            <a:ext cx="5526360" cy="35085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"/>
          <p:cNvPicPr/>
          <p:nvPr/>
        </p:nvPicPr>
        <p:blipFill>
          <a:blip r:embed="rId4"/>
          <a:stretch/>
        </p:blipFill>
        <p:spPr>
          <a:xfrm>
            <a:off x="0" y="4824360"/>
            <a:ext cx="6558120" cy="20336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8" descr=""/>
          <p:cNvPicPr/>
          <p:nvPr/>
        </p:nvPicPr>
        <p:blipFill>
          <a:blip r:embed="rId5"/>
          <a:stretch/>
        </p:blipFill>
        <p:spPr>
          <a:xfrm>
            <a:off x="-11160" y="1268280"/>
            <a:ext cx="1303560" cy="25797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3" descr=""/>
          <p:cNvPicPr/>
          <p:nvPr/>
        </p:nvPicPr>
        <p:blipFill>
          <a:blip r:embed="rId6"/>
          <a:stretch/>
        </p:blipFill>
        <p:spPr>
          <a:xfrm>
            <a:off x="0" y="-520560"/>
            <a:ext cx="9972720" cy="150156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1"/>
          <p:cNvSpPr/>
          <p:nvPr/>
        </p:nvSpPr>
        <p:spPr>
          <a:xfrm>
            <a:off x="3724560" y="36360"/>
            <a:ext cx="42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学生健康成长教育教学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3-20T01:38:24Z</dcterms:modified>
  <cp:revision>13</cp:revision>
  <dc:subject/>
  <dc:title>PowerPoint 演示文稿</dc:title>
</cp:coreProperties>
</file>