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3.gif" ContentType="image/gif"/>
  <Override PartName="/ppt/media/image8.gif" ContentType="image/gif"/>
  <Override PartName="/ppt/media/image11.gif" ContentType="image/gif"/>
  <Override PartName="/ppt/media/image5.jpeg" ContentType="image/jpeg"/>
  <Override PartName="/ppt/media/image6.jpeg" ContentType="image/jpeg"/>
  <Override PartName="/ppt/media/image10.png" ContentType="image/png"/>
  <Override PartName="/ppt/media/image20.jpeg" ContentType="image/jpeg"/>
  <Override PartName="/ppt/media/image14.gif" ContentType="image/gif"/>
  <Override PartName="/ppt/media/image19.gif" ContentType="image/gif"/>
  <Override PartName="/ppt/media/image4.gif" ContentType="image/gif"/>
  <Override PartName="/ppt/media/image1.jpeg" ContentType="image/jpeg"/>
  <Override PartName="/ppt/media/image18.gif" ContentType="image/gif"/>
  <Override PartName="/ppt/media/image17.jpeg" ContentType="image/jpeg"/>
  <Override PartName="/ppt/media/image21.png" ContentType="image/png"/>
  <Override PartName="/ppt/media/image16.gif" ContentType="image/gif"/>
  <Override PartName="/ppt/media/image2.gif" ContentType="image/gif"/>
  <Override PartName="/ppt/media/image12.jpeg" ContentType="image/jpeg"/>
  <Override PartName="/ppt/media/image7.jpeg" ContentType="image/jpeg"/>
  <Override PartName="/ppt/media/image15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2DC9-0AC8-4374-B664-99607886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795-054F-4171-BB0C-BA41E828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2C36A-4E3B-41C5-928B-8D3597DA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AFDA0-4223-4797-B22A-DADB26CC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5DC7A-7DCC-4AE2-A039-D97FA6D3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8D527-4E7F-403F-A3F4-9AAD4D4A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CC2A0-2491-49B0-979D-54F68E9C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DB110-8454-4D42-84FB-03FA46F3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57E4A-1CAA-4AAA-A334-47C023FA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24DE2-2F43-4DEA-BAA6-999CD273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A1BEA-FB19-4340-8671-59B5AD31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95772-C781-45C1-B854-606DE06C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C6C-D025-4688-9CAF-1451F73D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043DC-F4E7-4A4C-B2D8-B3F3B3F7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4F1D5-F86F-4BED-BC78-39193BE4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C8B9B-4A9A-41A2-9BF8-FF866714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7C02D-C2EE-4C3D-9603-890D9B93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03479-F569-4FB6-8CD9-AB77850B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23DA6-0ECA-4589-957E-8CE65663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53CD8-2618-41C5-8E57-0E8DDB32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82588-356A-4D4C-8B36-55233236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166E7-4550-4881-8E2F-85C8CD5B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980D0-C77F-4AA3-95E4-7501B742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EC7-7FD4-41C3-BB48-DB404536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44F75-5404-472D-B9A7-B1F013F8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3051B-76BA-4CF8-882E-21F3C8D0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10FF4-8496-4DEC-8A52-54B80872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280B1-C564-4748-9C1A-7A976727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32211-0D57-4A93-82AC-A2092AA8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AFBDB-9BF9-4050-8B01-C0132FD8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679A6-BE0F-4288-BFBF-11790AFA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2400C-247C-4D04-9340-151CAC88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8E92D-FE18-4694-8D99-271B3FB3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2F12A-5E6F-485F-B96B-5DE074E6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D0F3-0662-42FF-9647-DA9B108F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3930F-E930-4A6D-8EFA-07E52E55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0D134-F8B3-48AF-968A-5B43051B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DC05A-52D7-4DD7-851E-A142007A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FB0A3-6786-49EF-A577-EF179EC4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DB4F6-F198-48E0-9B87-D4B078B3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E3F5C-7326-4F40-BE83-80EFD445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540E7-25B7-4DCB-BECA-417EAC92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67BB6-262C-416A-BED0-0C3BF071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0D50F-8402-4E9A-921A-E8132AF7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8AC7E-1AFF-4A1E-91C2-3601FD12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879A-3529-4E8E-BEBE-9C5443B9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3018B-699D-49CE-853C-71752F67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3EEE7-816E-4AB1-B190-4B5A7F8B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F38CF-CB41-455B-83B4-6416AA3D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C34C3-B9C3-444F-A61F-51F89939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7C645-D6F1-4284-82E7-9CF8D89C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E3D7-5ECA-4850-A3BB-1F4ED689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8792-6643-4497-9526-E21B373E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B24F-399B-4AB5-97C6-F904B1A7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34E7-F95F-4524-A165-EB82145B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A696-4B60-495E-B11D-BC334D39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C87-EB10-4071-80EA-D4EFDFE2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A87C-0F27-48CC-B304-CFCEAC78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8C13-0024-4A1C-A3FA-D7A648B4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254B-D47B-4154-8594-5ECCDC7C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3661-F112-45F7-92C5-FD4CF36F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57CE-1A47-4928-A738-EE04BCD0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8A58C-9C0A-400D-80AE-DC1B4F66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7ED6F-99A5-4924-B0B3-3439C9A1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DE2D2-C6A0-43FA-99BD-167BFD5D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E2DE5-B833-4925-87F3-4A737A29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96C19-BB9E-455C-95D4-46B12B36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D80-CB3A-41DE-BB59-A9D8304D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CB3BE-2252-47E5-B92E-60695C97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0EC90-7CF5-4DAC-B39C-89F896CA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1C7F9-98EB-44D2-8CA4-7FB46191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191F9-73E1-4AB5-834C-5BAD868D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83772-0259-4A7A-B690-C16A0647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03F20-CDBA-4011-A6B4-FE2CA8E6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3ADA0-3E0A-432D-9EEA-F2312483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D6E73-93E9-4D2F-8234-2722FF3E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0BA9D-5B9B-4C2D-A5F9-FC1314CD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790FD-5DF6-4938-B676-ABC85BC4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F0C-8FE9-4269-84F6-93655999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409D5-63E1-4AC7-B8D5-A0EB77B0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57233-F5DF-4CE1-8B98-FE87973C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A8D70-00BF-4847-9902-5549877B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A0247-6A10-4E4D-ACD0-9AC8C3DD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A0C08-EA83-41DF-B92C-6E25CABD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0BC9E-3B6C-4F01-9EA8-696FBABE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D4BAE-5CB6-4F0A-B89A-61D64B77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6C520-E757-42B8-AB51-B805508D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92DF2-D98B-4887-A019-3C275B93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14579-CF12-48F5-BD22-7C5BCAF7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6B65-9C26-46AF-85EC-B1171B9F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220C2-8104-42BD-B193-64157E69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0A184-C4C2-4160-997A-F5693FCE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DB54E-6CD4-414E-93C5-05F7A1CD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79021-BE99-44F9-867D-9E73C313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64488-5365-4C3A-93ED-3B838D70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908DE-14AA-4D66-B700-90BA0CD5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2539C-B4EF-4CF8-9C70-B29CDEEA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DC8CA-C344-41E0-9736-70B8E22C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49164-54B8-4507-9DC5-BA1BACCE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E03D3-8D0F-4D86-9D15-E4DD3BFE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DBE-D482-484E-9D45-9C0FAA7E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E8604-0DAE-42C3-A0AA-B399114D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2DCC5-9244-408B-90E0-BB757D42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594E6-66CC-438A-973B-A74D9AFF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498E5-F95C-4FE4-92CA-5E05E4A3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BB693-4F68-4362-BA47-66618DC7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33D44-AC60-4913-B3FF-52C265A4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47996-6554-4B17-9AC2-A2674248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1E44C-2430-436F-884A-367AA75E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CCF55-0478-401E-B532-D2946CEE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1E5C2-E816-4F1C-8C7D-952C48C4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DE1-25B3-45AC-9213-53E917E8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ED1EA-C8BF-4BF4-9594-0CE1718B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D9DEA-076C-47DC-965E-124D6429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4F5BF-CA8D-4447-8DF2-AE60D91C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6629A-4688-422F-ACFC-5FFE3F57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DE182-F907-49F6-AD78-2F2E448B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4A956-2912-4273-A6D5-3A1A7D64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49166-54B4-4ACB-B642-1FA6FB98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2A225-26F0-4E96-9BE5-BA97F9BD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052DB-91DD-44CE-8B7B-5B344501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3F234-3314-4047-A3B2-B7EFC7FA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A66A-9565-4A6F-BBF7-800461E4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E3B6C-68EF-49E1-9CCA-F59ABA9C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2AD08-7EA7-48D4-9B2B-7C3D7607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C0B35-BBC9-4D80-99F3-C5F4EAE4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FAB24-39D6-4A23-9333-E7F5E6E9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EF699-90CF-4B00-B60B-B7196F07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637D0-B03D-4663-BF67-791413FC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597E9-4BBB-49BD-BE24-6A72A7A5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7810F-01E0-423D-859C-BD3C8E97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1DF50-C72A-47C1-8CEC-00C32D94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3C5D5-9B88-4CA1-AE71-5721E595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1E6-747C-4EF0-9612-D16F4BD8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6E024-7976-499F-A7CD-E25E8FFC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B51AF-6D1F-4284-BD74-419D0C9B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F6C19-9194-48A0-8720-581F0094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97D74-AFDF-4C15-8FEC-F06D38FF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479A2-BEA5-49BD-8080-F53B1E18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839CA-9F15-403C-8802-D16423FB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45DB9-4486-4CAD-A80F-8E9BEE20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40EE1-1B26-43B0-B911-32CFA69E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7FB32-6256-41C6-89D9-29414616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EDE87-B818-4560-BAEA-DE8EBB9E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209E-F8C0-406F-B401-BFB849535A0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2A4E-DAF2-47D0-91E0-CEFE29686C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42FE-74A0-4A4E-9585-65BED835F05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0D13-6AD8-4F5C-A6B3-0FB1979F97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EEF6-E390-498E-9FCB-09AEB4EC630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D11B-3E9F-4D4B-9987-89C5BF9DB0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FAB5-B882-4F9B-A85F-20BA01A0450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A2B2-11A4-49D9-8780-C3E004129B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D119-C0AB-4EE9-A8C2-5C4F09EFC4E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F3FF-B854-489A-B080-E85B495B7E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CD71-6D56-4F86-B10F-BB9EAE4AD31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C396-F1C3-41BC-A3E3-DF604A6CA7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9710-97DA-4422-9B55-64C4F9146E9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9DC1-654B-4CDF-A2BC-24E364D3BB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FFD6-9694-4FAF-A3E8-AF743169BAB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4BFF-D0D8-44CA-A76F-5F73131F12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E336-CF03-43CC-B829-FEC7C66ECFC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631D-07E4-4205-A227-7E9E2BC3D6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135E-303E-482C-B033-79762C01CE1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0CAA-5FE9-4C44-992A-E14C56656BC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FD04-3D87-4A5D-984F-F31445B3392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C096-EBAE-49F4-837F-F272ED4DCD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AD92-8A8F-434B-8053-BE3A5A1D1F2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4C95-E482-46E4-8140-7CEC01DF00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2" descr=""/>
          <p:cNvPicPr/>
          <p:nvPr/>
        </p:nvPicPr>
        <p:blipFill>
          <a:blip r:embed="rId1"/>
          <a:srcRect l="1885" t="5604" r="6676" b="116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TextBox 3"/>
          <p:cNvSpPr/>
          <p:nvPr/>
        </p:nvSpPr>
        <p:spPr>
          <a:xfrm>
            <a:off x="2482920" y="112392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我和我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大学生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图片 7" descr=""/>
          <p:cNvPicPr/>
          <p:nvPr/>
        </p:nvPicPr>
        <p:blipFill>
          <a:blip r:embed="rId2"/>
          <a:stretch/>
        </p:blipFill>
        <p:spPr>
          <a:xfrm>
            <a:off x="5060880" y="37893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2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27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30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15">
                                          <p:stCondLst>
                                            <p:cond delay="1655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5">
                                          <p:stCondLst>
                                            <p:cond delay="207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33" fill="hold">
                                          <p:stCondLst>
                                            <p:cond delay="812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207" fill="hold">
                                          <p:stCondLst>
                                            <p:cond delay="845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33" fill="hold">
                                          <p:stCondLst>
                                            <p:cond delay="164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207" fill="hold">
                                          <p:stCondLst>
                                            <p:cond delay="1673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33" fill="hold">
                                          <p:stCondLst>
                                            <p:cond delay="2052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207" fill="hold">
                                          <p:stCondLst>
                                            <p:cond delay="2085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33" fill="hold">
                                          <p:stCondLst>
                                            <p:cond delay="226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207" fill="hold">
                                          <p:stCondLst>
                                            <p:cond delay="2293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6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6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18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97">
                                          <p:stCondLst>
                                            <p:cond delay="797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98">
                                          <p:stCondLst>
                                            <p:cond delay="158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97">
                                          <p:stCondLst>
                                            <p:cond delay="1987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1" fill="hold">
                                          <p:stCondLst>
                                            <p:cond delay="78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99" fill="hold">
                                          <p:stCondLst>
                                            <p:cond delay="811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1" fill="hold">
                                          <p:stCondLst>
                                            <p:cond delay="1574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99" fill="hold">
                                          <p:stCondLst>
                                            <p:cond delay="1606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1" fill="hold">
                                          <p:stCondLst>
                                            <p:cond delay="197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99" fill="hold">
                                          <p:stCondLst>
                                            <p:cond delay="2001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1" fill="hold">
                                          <p:stCondLst>
                                            <p:cond delay="217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99" fill="hold">
                                          <p:stCondLst>
                                            <p:cond delay="2201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TextBox 6"/>
          <p:cNvSpPr/>
          <p:nvPr/>
        </p:nvSpPr>
        <p:spPr>
          <a:xfrm>
            <a:off x="2736000" y="37180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我的大学生活似乎已经开始了</a:t>
            </a:r>
            <a:r>
              <a:rPr b="0" lang="en-US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7"/>
          <p:cNvSpPr/>
          <p:nvPr/>
        </p:nvSpPr>
        <p:spPr>
          <a:xfrm>
            <a:off x="222120" y="5300640"/>
            <a:ext cx="874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erlin Sans FB"/>
              </a:rPr>
              <a:t>New life begin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9"/>
          <p:cNvSpPr/>
          <p:nvPr/>
        </p:nvSpPr>
        <p:spPr>
          <a:xfrm>
            <a:off x="4060800" y="660240"/>
            <a:ext cx="14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踏上火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0"/>
          <p:cNvSpPr/>
          <p:nvPr/>
        </p:nvSpPr>
        <p:spPr>
          <a:xfrm>
            <a:off x="4290840" y="1484280"/>
            <a:ext cx="16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离开了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1"/>
          <p:cNvSpPr/>
          <p:nvPr/>
        </p:nvSpPr>
        <p:spPr>
          <a:xfrm>
            <a:off x="4366800" y="2205000"/>
            <a:ext cx="36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离开了我的</a:t>
            </a:r>
            <a:r>
              <a:rPr b="0" lang="en-US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old friends</a:t>
            </a: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" dur="1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" dur="1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1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" dur="1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5" nodeType="afterEffect" fill="hold" presetClass="exit" presetID="47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" dur="43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43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3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2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图片 16" descr=""/>
          <p:cNvPicPr/>
          <p:nvPr/>
        </p:nvPicPr>
        <p:blipFill>
          <a:blip r:embed="rId1"/>
          <a:stretch/>
        </p:blipFill>
        <p:spPr>
          <a:xfrm>
            <a:off x="8028000" y="522144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502" name="TextBox 14"/>
          <p:cNvSpPr/>
          <p:nvPr/>
        </p:nvSpPr>
        <p:spPr>
          <a:xfrm>
            <a:off x="925200" y="3940200"/>
            <a:ext cx="359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多亏了他们，我才能很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找到宿舍，他们还帮我把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李搬上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图片 4" descr=""/>
          <p:cNvPicPr/>
          <p:nvPr/>
        </p:nvPicPr>
        <p:blipFill>
          <a:blip r:embed="rId2"/>
          <a:srcRect l="22085" t="0" r="24252" b="0"/>
          <a:stretch/>
        </p:blipFill>
        <p:spPr>
          <a:xfrm>
            <a:off x="6599160" y="830160"/>
            <a:ext cx="1728720" cy="285768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6" descr=""/>
          <p:cNvPicPr/>
          <p:nvPr/>
        </p:nvPicPr>
        <p:blipFill>
          <a:blip r:embed="rId3"/>
          <a:srcRect l="15214" t="0" r="17157" b="0"/>
          <a:stretch/>
        </p:blipFill>
        <p:spPr>
          <a:xfrm>
            <a:off x="5292720" y="843120"/>
            <a:ext cx="1943280" cy="3144600"/>
          </a:xfrm>
          <a:prstGeom prst="rect">
            <a:avLst/>
          </a:prstGeom>
          <a:ln w="0">
            <a:noFill/>
          </a:ln>
        </p:spPr>
      </p:pic>
      <p:sp>
        <p:nvSpPr>
          <p:cNvPr id="505" name="TextBox 3"/>
          <p:cNvSpPr/>
          <p:nvPr/>
        </p:nvSpPr>
        <p:spPr>
          <a:xfrm>
            <a:off x="611280" y="692280"/>
            <a:ext cx="583236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2d050"/>
                </a:solidFill>
                <a:latin typeface="华文琥珀"/>
                <a:ea typeface="华文琥珀"/>
              </a:rPr>
              <a:t>报到的那天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Harlow Solid Italic"/>
              </a:rPr>
              <a:t>The first day at sch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图片 5" descr=""/>
          <p:cNvPicPr/>
          <p:nvPr/>
        </p:nvPicPr>
        <p:blipFill>
          <a:blip r:embed="rId4"/>
          <a:srcRect l="9235" t="3449" r="3912" b="0"/>
          <a:stretch/>
        </p:blipFill>
        <p:spPr>
          <a:xfrm>
            <a:off x="5580000" y="241632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507" name="TextBox 8"/>
          <p:cNvSpPr/>
          <p:nvPr/>
        </p:nvSpPr>
        <p:spPr>
          <a:xfrm>
            <a:off x="68400" y="1371600"/>
            <a:ext cx="507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所幸正当我为如山的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李发愁时，马上就有好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的学长学姐来帮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11" descr=""/>
          <p:cNvPicPr/>
          <p:nvPr/>
        </p:nvPicPr>
        <p:blipFill>
          <a:blip r:embed="rId5"/>
          <a:stretch/>
        </p:blipFill>
        <p:spPr>
          <a:xfrm rot="1336800">
            <a:off x="3677760" y="2049480"/>
            <a:ext cx="1260720" cy="1260360"/>
          </a:xfrm>
          <a:prstGeom prst="rect">
            <a:avLst/>
          </a:prstGeom>
          <a:ln w="0">
            <a:noFill/>
          </a:ln>
        </p:spPr>
      </p:pic>
      <p:sp>
        <p:nvSpPr>
          <p:cNvPr id="509" name="TextBox 13"/>
          <p:cNvSpPr/>
          <p:nvPr/>
        </p:nvSpPr>
        <p:spPr>
          <a:xfrm>
            <a:off x="4836240" y="938160"/>
            <a:ext cx="3525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告别家人，本以为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自理能力已经很强了，却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现，事实并非如此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5"/>
          <p:cNvSpPr/>
          <p:nvPr/>
        </p:nvSpPr>
        <p:spPr>
          <a:xfrm>
            <a:off x="730080" y="2165400"/>
            <a:ext cx="24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感动啊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~~~~~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xit" presetID="55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3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3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" dur="13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132" nodeType="afterEffect" fill="hold" presetClass="entr" presetID="2" presetSubtype="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5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1350"/>
                            </p:stCondLst>
                            <p:childTnLst>
                              <p:par>
                                <p:cTn id="1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5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185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1851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901"/>
                            </p:stCondLst>
                            <p:childTnLst>
                              <p:par>
                                <p:cTn id="154" nodeType="afterEffect" fill="hold" presetClass="exit" presetID="10">
                                  <p:stCondLst>
                                    <p:cond delay="3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14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7451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7452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15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9252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2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125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2952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4952"/>
                            </p:stCondLst>
                            <p:childTnLst>
                              <p:par>
                                <p:cTn id="1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3" descr=""/>
          <p:cNvPicPr/>
          <p:nvPr/>
        </p:nvPicPr>
        <p:blipFill>
          <a:blip r:embed="rId1"/>
          <a:stretch/>
        </p:blipFill>
        <p:spPr>
          <a:xfrm>
            <a:off x="-9360" y="0"/>
            <a:ext cx="914220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"/>
          <p:cNvPicPr/>
          <p:nvPr/>
        </p:nvPicPr>
        <p:blipFill>
          <a:blip r:embed="rId2"/>
          <a:stretch/>
        </p:blipFill>
        <p:spPr>
          <a:xfrm>
            <a:off x="768240" y="1700280"/>
            <a:ext cx="7797960" cy="749160"/>
          </a:xfrm>
          <a:prstGeom prst="rect">
            <a:avLst/>
          </a:prstGeom>
          <a:ln w="0">
            <a:noFill/>
          </a:ln>
        </p:spPr>
      </p:pic>
      <p:sp>
        <p:nvSpPr>
          <p:cNvPr id="513" name="TextBox 6"/>
          <p:cNvSpPr/>
          <p:nvPr/>
        </p:nvSpPr>
        <p:spPr>
          <a:xfrm>
            <a:off x="4618440" y="3429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3300"/>
                </a:solidFill>
                <a:latin typeface="微软雅黑"/>
                <a:ea typeface="微软雅黑"/>
              </a:rPr>
              <a:t>起初，对身边的一切事物都很好奇，因为对于我来说，处处都是新鲜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图片 2" descr=""/>
          <p:cNvPicPr/>
          <p:nvPr/>
        </p:nvPicPr>
        <p:blipFill>
          <a:blip r:embed="rId3"/>
          <a:stretch/>
        </p:blipFill>
        <p:spPr>
          <a:xfrm>
            <a:off x="7791480" y="141300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6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TextBox 4"/>
          <p:cNvSpPr/>
          <p:nvPr/>
        </p:nvSpPr>
        <p:spPr>
          <a:xfrm>
            <a:off x="4063320" y="256536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c0c0c"/>
                </a:solidFill>
                <a:latin typeface="方正舒体"/>
                <a:ea typeface="方正舒体"/>
              </a:rPr>
              <a:t>几乎每一天都有活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5"/>
          <p:cNvSpPr/>
          <p:nvPr/>
        </p:nvSpPr>
        <p:spPr>
          <a:xfrm>
            <a:off x="1078200" y="1209600"/>
            <a:ext cx="10342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才艺比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6"/>
          <p:cNvSpPr/>
          <p:nvPr/>
        </p:nvSpPr>
        <p:spPr>
          <a:xfrm>
            <a:off x="4161600" y="1278000"/>
            <a:ext cx="82080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华文楷体"/>
                <a:ea typeface="华文楷体"/>
              </a:rPr>
              <a:t>辩论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7"/>
          <p:cNvSpPr/>
          <p:nvPr/>
        </p:nvSpPr>
        <p:spPr>
          <a:xfrm>
            <a:off x="6872760" y="1236600"/>
            <a:ext cx="10342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楷体"/>
                <a:ea typeface="楷体"/>
              </a:rPr>
              <a:t>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8"/>
          <p:cNvSpPr/>
          <p:nvPr/>
        </p:nvSpPr>
        <p:spPr>
          <a:xfrm>
            <a:off x="1112400" y="4352760"/>
            <a:ext cx="10342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各种晚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9"/>
          <p:cNvSpPr/>
          <p:nvPr/>
        </p:nvSpPr>
        <p:spPr>
          <a:xfrm>
            <a:off x="6954480" y="4378320"/>
            <a:ext cx="10342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各种讲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3933000" y="3854520"/>
            <a:ext cx="1278000" cy="4597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华文楷体"/>
                <a:ea typeface="华文楷体"/>
              </a:rPr>
              <a:t>各种社团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图片 11" descr=""/>
          <p:cNvPicPr/>
          <p:nvPr/>
        </p:nvPicPr>
        <p:blipFill>
          <a:blip r:embed="rId2"/>
          <a:stretch/>
        </p:blipFill>
        <p:spPr>
          <a:xfrm>
            <a:off x="2724120" y="1619280"/>
            <a:ext cx="727200" cy="72864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12" descr=""/>
          <p:cNvPicPr/>
          <p:nvPr/>
        </p:nvPicPr>
        <p:blipFill>
          <a:blip r:embed="rId3"/>
          <a:stretch/>
        </p:blipFill>
        <p:spPr>
          <a:xfrm>
            <a:off x="5619600" y="1531800"/>
            <a:ext cx="741600" cy="74304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13" descr=""/>
          <p:cNvPicPr/>
          <p:nvPr/>
        </p:nvPicPr>
        <p:blipFill>
          <a:blip r:embed="rId4"/>
          <a:stretch/>
        </p:blipFill>
        <p:spPr>
          <a:xfrm>
            <a:off x="2724120" y="47973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26" name="图片 16" descr=""/>
          <p:cNvPicPr/>
          <p:nvPr/>
        </p:nvPicPr>
        <p:blipFill>
          <a:blip r:embed="rId5"/>
          <a:stretch/>
        </p:blipFill>
        <p:spPr>
          <a:xfrm>
            <a:off x="5629320" y="4797360"/>
            <a:ext cx="731880" cy="730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图片 3" descr=""/>
          <p:cNvPicPr/>
          <p:nvPr/>
        </p:nvPicPr>
        <p:blipFill>
          <a:blip r:embed="rId1"/>
          <a:srcRect l="2848" t="5101" r="2698" b="6282"/>
          <a:stretch/>
        </p:blipFill>
        <p:spPr>
          <a:xfrm>
            <a:off x="1547640" y="169920"/>
            <a:ext cx="6120000" cy="4591080"/>
          </a:xfrm>
          <a:prstGeom prst="rect">
            <a:avLst/>
          </a:prstGeom>
          <a:ln w="0">
            <a:noFill/>
          </a:ln>
        </p:spPr>
      </p:pic>
      <p:sp>
        <p:nvSpPr>
          <p:cNvPr id="528" name="TextBox 5"/>
          <p:cNvSpPr/>
          <p:nvPr/>
        </p:nvSpPr>
        <p:spPr>
          <a:xfrm>
            <a:off x="1729080" y="4761000"/>
            <a:ext cx="518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终于，问题出现了，那些最初以为不怎么难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课程</a:t>
            </a:r>
            <a:r>
              <a:rPr b="1" lang="en-US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终于让我抓狂</a:t>
            </a:r>
            <a:r>
              <a:rPr b="1" lang="en-US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每到交作业的前一晚，我就有一夜回到高考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的感觉</a:t>
            </a:r>
            <a:r>
              <a:rPr b="1" lang="en-US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图片 1" descr=""/>
          <p:cNvPicPr/>
          <p:nvPr/>
        </p:nvPicPr>
        <p:blipFill>
          <a:blip r:embed="rId2"/>
          <a:stretch/>
        </p:blipFill>
        <p:spPr>
          <a:xfrm>
            <a:off x="8028000" y="313992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2" descr=""/>
          <p:cNvPicPr/>
          <p:nvPr/>
        </p:nvPicPr>
        <p:blipFill>
          <a:blip r:embed="rId3"/>
          <a:stretch/>
        </p:blipFill>
        <p:spPr>
          <a:xfrm>
            <a:off x="322200" y="692280"/>
            <a:ext cx="938160" cy="9381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7601"/>
                            </p:stCondLst>
                            <p:childTnLst>
                              <p:par>
                                <p:cTn id="2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1201"/>
                            </p:stCondLst>
                            <p:childTnLst>
                              <p:par>
                                <p:cTn id="2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2601"/>
                            </p:stCondLst>
                            <p:childTnLst>
                              <p:par>
                                <p:cTn id="28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3601"/>
                            </p:stCondLst>
                            <p:childTnLst>
                              <p:par>
                                <p:cTn id="2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TextBox 4"/>
          <p:cNvSpPr/>
          <p:nvPr/>
        </p:nvSpPr>
        <p:spPr>
          <a:xfrm>
            <a:off x="755640" y="76500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6"/>
          <p:cNvSpPr/>
          <p:nvPr/>
        </p:nvSpPr>
        <p:spPr>
          <a:xfrm>
            <a:off x="-221760" y="620640"/>
            <a:ext cx="957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365d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65d"/>
                </a:solidFill>
                <a:latin typeface="Calibri"/>
                <a:ea typeface="Calibri"/>
              </a:rPr>
              <a:t>    </a:t>
            </a:r>
            <a:r>
              <a:rPr b="0" lang="zh-CN" sz="1800" spc="-1" strike="noStrike">
                <a:solidFill>
                  <a:srgbClr val="17365d"/>
                </a:solidFill>
                <a:latin typeface="Calibri"/>
              </a:rPr>
              <a:t>    </a:t>
            </a:r>
            <a:r>
              <a:rPr b="0" lang="zh-CN" sz="2000" spc="-1" strike="noStrike">
                <a:solidFill>
                  <a:srgbClr val="17365d"/>
                </a:solidFill>
                <a:latin typeface="华文琥珀"/>
                <a:ea typeface="华文琥珀"/>
              </a:rPr>
              <a:t>现在，我明白不该再让自己迷失，要找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365d"/>
                </a:solidFill>
                <a:latin typeface="华文琥珀"/>
                <a:ea typeface="华文琥珀"/>
              </a:rPr>
              <a:t>自己最初的梦想，找到自己的方向，让每一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365d"/>
                </a:solidFill>
                <a:latin typeface="华文琥珀"/>
                <a:ea typeface="华文琥珀"/>
              </a:rPr>
              <a:t>都过得有意义。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65d"/>
                </a:solidFill>
                <a:latin typeface="Bradley Hand ITC"/>
                <a:ea typeface="华文琥珀"/>
              </a:rPr>
              <a:t>I  will  greet  this  day  with  love  in  my 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65d"/>
                </a:solidFill>
                <a:latin typeface="Bradley Hand ITC"/>
                <a:ea typeface="华文琥珀"/>
              </a:rPr>
              <a:t>How   about   you   ? </a:t>
            </a:r>
            <a:r>
              <a:rPr b="0" lang="en-US" sz="2000" spc="-1" strike="noStrike">
                <a:solidFill>
                  <a:srgbClr val="17365d"/>
                </a:solidFill>
                <a:latin typeface="华文琥珀"/>
                <a:ea typeface="华文琥珀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65d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2"/>
          <a:stretch/>
        </p:blipFill>
        <p:spPr>
          <a:xfrm>
            <a:off x="6300720" y="1133640"/>
            <a:ext cx="2452680" cy="2449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25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25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25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0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25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250"/>
                                        <p:tgtEl>
                                          <p:spTgt spid="5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250"/>
                                        <p:tgtEl>
                                          <p:spTgt spid="5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2:23:00Z</dcterms:created>
  <dc:creator>samsung</dc:creator>
  <dc:description/>
  <cp:keywords/>
  <dc:language>en-US</dc:language>
  <cp:lastModifiedBy>admin</cp:lastModifiedBy>
  <cp:lastPrinted>1899-12-30T00:00:00Z</cp:lastPrinted>
  <dcterms:modified xsi:type="dcterms:W3CDTF">2015-03-12T01:32:24Z</dcterms:modified>
  <cp:revision>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