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D7AA-D817-4D7A-A91D-B118332863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4F0B-B6D8-4D33-A031-10484E24A0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67C-8FD9-4ABE-BF8F-314A9718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ECF-067A-4F5E-9032-8F17086C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017-4A18-4332-BE19-05C4D719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8FD-D573-419F-B7DA-56120A27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F426-9F2E-4734-951B-F7270CA041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A16FB-AFBC-4802-9FDF-68F29DA0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D13B8-3A5E-424A-94A8-0AD2107A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AA6EF-AA23-46A4-966E-1307B33E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0A7C1-8483-4132-97E2-897A65C7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D414E-797B-468E-BF33-9905C06B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50B51-E035-4E8F-86FE-7A5CAD75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C4E-B799-4170-AFEB-D5159ED3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9D1CE-0F05-4234-96DE-AD53B3CE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9A45E-A3D1-4D8F-BB59-0F07C9FA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F48A4-9CE8-4F71-8966-59ECF21D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B9917-716B-422C-95D2-CFA9B7A5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11E04-E3B1-405B-9415-C9829FE3AA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4D1989-343A-4E39-A225-512EDCFE07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9004C-C1BB-4B65-9DFF-800D3D50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42B33-7278-40DB-B9D6-4201A666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5ED15-4EDB-4F10-9FBE-2E7DB211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5796C-275D-404C-B343-749FF5D0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2BB-786A-4A3F-B7BD-2F7CE8CB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613EA-9479-433E-9152-979ADFEF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82B5B0-01FD-4A74-9173-3291FF0B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E5346-2E0C-4B6F-B31F-DBAD0E7D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3D240-3DA6-40FE-A623-5E6C9D29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4F7893-2939-4C11-83EE-A8A3E9D4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C4E51-24D8-485C-B952-FA943CD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91756-1BA4-4359-B858-D7FC0F299F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AEA-8E69-4F2C-A8A1-B7F13F6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35A-DC9B-4BA4-841C-DE650F7E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9C0-FDCE-4DB3-93B6-5280F0D2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D67-3C9C-4D84-B2AD-16FBEC9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3FB-81B4-40E3-BDEF-72BBBFA0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AD6-6D41-4826-A32D-109EB19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EC0C-158D-4C45-AA1C-A6AEE1316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A716-6593-4517-8CF3-CABE9B888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C576-8BE3-4175-9627-774F1DD53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毕业答辩幻灯片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800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BABY</dc:creator>
  <dc:description/>
  <dc:language>en-US</dc:language>
  <cp:lastModifiedBy>Administrator</cp:lastModifiedBy>
  <dcterms:modified xsi:type="dcterms:W3CDTF">2015-04-03T00:40:31Z</dcterms:modified>
  <cp:revision>53</cp:revision>
  <dc:subject/>
  <dc:title>幻灯片 1</dc:title>
</cp:coreProperties>
</file>