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49A-8F98-4708-9CB6-4D826A9D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B61-41DF-446E-85A5-91A5E9EE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110-69E8-476A-9005-FB2ABC4D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56D-21B1-40C1-ADA4-D0CA40F0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B60-3A49-40F1-91B8-37878503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F58-DC2E-4524-9C0F-456809A4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051-F6B2-4DEA-A002-FCCAE55D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BDE-ABA8-4804-8E6C-C15950DF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C63-5535-4EE6-A0A0-3D10A2A5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778-A157-433B-A47D-3EFA6DB2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50C-69EC-4BE2-9449-155E86B0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3BF-4D9A-4C96-98C0-26B5F208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3B3E-6D10-4FAF-9503-C9F8A7B8CB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86080" y="507204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86080" y="57150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清明节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29312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43549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783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783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4354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"/>
          <p:cNvSpPr/>
          <p:nvPr/>
        </p:nvSpPr>
        <p:spPr>
          <a:xfrm>
            <a:off x="1332360" y="500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5283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5355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5283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5212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122184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3854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45691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7836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129312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46407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5696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497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64980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22184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6929280" y="4286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3926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3550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83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29312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607212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9978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640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129312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7838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74268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3711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29312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5426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72126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4283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1293120" y="571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4997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69980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37836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微软用户</cp:lastModifiedBy>
  <dcterms:modified xsi:type="dcterms:W3CDTF">2014-03-31T07:01:30Z</dcterms:modified>
  <cp:revision>36</cp:revision>
  <dc:subject/>
  <dc:title>幻灯片 1</dc:title>
</cp:coreProperties>
</file>