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554-D54A-4008-A5CF-5F5A88F3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F79-B3B4-42CC-ADEF-BCF8B73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1A483-4589-44EE-AD92-D6B58047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5A353-F555-4E00-8702-0F8846C5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99E26-B494-4C32-BF3E-3266A7F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60B6-1C93-49FF-AC46-361A951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0D1A-0AC7-406C-8D9C-453A698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4C784-58F2-411B-9239-AEEE1D0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2F626-8FDF-417B-942D-AA0BDD96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B8C5B-D7D8-4CF7-A6FE-E033F6A2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D704F-7288-4E7D-A1B7-A9DA787F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00D42-6AD4-4DFC-8464-12123D48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B08-5497-4919-967A-52779B40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57725-E180-402D-AC70-0A53AD25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DA030-EBB5-4E2B-8C00-C78FAD5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C1458-0EB1-4F9C-AB38-720506D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64216-A27E-4B41-94B7-CAA6C8D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CE5AC-4D37-457B-860B-CCF4A08C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F9028-E8DB-478F-AAD1-7F37BB13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77929-5D2A-4236-AE74-A515FB0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F2048-5C2E-4AD7-A66B-7C51DA2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F754C-26EE-4485-BAED-3325C3B1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EF61-9B7A-4328-889D-0618AB2D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6FA-1862-4185-8A74-DA45AF3C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4E0E3-BB8E-48D4-9491-496DE712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C5FC6-A7E9-4CE1-87EF-D73DC7C7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7ACED-4D17-433C-8E37-DEB9D5D1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E74DE-33B7-4A16-B3AE-B757EA55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A965D-7AE2-46E9-AD1E-0B6C772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0CEC6-8BB6-480B-BCF2-F759C84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CB9DD-E875-4E34-A369-51EA75E6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EFD0-36CA-4CB6-9B02-C85E52F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E9F50-0143-4083-8371-423E333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1EB3F-DEC3-48AF-92C5-AF0AB7C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C083-9F18-4D92-A0CA-C5EF13D2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AA1BC-2EB6-4A3A-9CE0-6B49DE77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7AE5A-C5F2-4F87-A4E3-70A6044B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A3D29-0CDD-4D09-9F9A-91B682FA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EC2C7-D693-4D17-966D-9FFB3989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82A08-84C6-40D4-96C6-8331CA1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AE9F0-7075-4092-8157-0821E753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AB305-A9A7-44C8-82BB-BD3F62F8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A390F-9B15-48DC-9150-8C9919E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9D41F-665E-4093-A146-8882E1B8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0C9C8-E4D6-4109-8373-4126459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E6C7-2D3C-48A5-884E-3C952810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2FE01-7C92-4CF2-AD64-C41CBB2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3E7A8-9583-4795-B2C7-37603451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34C95-5CA8-4F04-82D5-1BF8CBA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78EBE-B634-401B-B212-F990189C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36EA5-41D1-48B9-9C28-D9AEBAB3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C488-2EF9-4AE2-B2C5-4216B832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357-82C0-4406-99B7-80BEE10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800-F82A-4446-8EEB-7819035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BB7B-BECC-4B86-AED0-2BA3A9CD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EE24-91FC-499F-8482-92B4960C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F85-4A20-429A-8CC5-FBA8D026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76C4-7AFC-49B0-A051-452C17F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2C6-0BA3-42CF-84D4-577B83A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3F98-FAB7-4933-811D-0174B94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2E71-8791-4096-9E1C-5EEF33E6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46CA-C299-466E-87CC-56BA06E9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C249-ECE8-49BE-9C4A-DA329948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BBE1-2326-46DB-8D1E-C800889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471E-E34F-4B85-A5CA-EAA49C98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79D4-C2C4-4171-BD60-3BB14047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190C-B39C-4FD9-94FA-A57E0381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0AC-46B8-4592-8292-2FC40F09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2AC0-5D6E-4C70-9842-885E0AF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0E96-64B4-43B3-B1C1-CDF8EA2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9CEB-51EB-4D89-99F1-1E90BFF3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6B6E-8E7F-4402-AEF3-389FC4C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D560-02C5-4F49-A2EC-5EA85A5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FB7F-E2AA-42BB-82E3-CF6995A1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E59E-D42D-4EFA-952C-42FCB232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2E67-B5C1-4D39-9FF6-A3405427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20BE-521C-4AD9-BCBD-F7B78DE2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2A0E-BEAB-4F00-BE3C-0E5B2534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9E6-595A-4610-B20F-A698720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4715-B2BA-4F00-8AA7-F4EDC5B1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C23B3-A994-436A-9002-C7EC6DAD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771D-3EAF-47C3-8834-8C2EFF52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717A-5820-4CF5-8E36-3122375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F616-7408-4238-9548-E0A149CA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2FCA-B2E5-4605-A73A-5372DA5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3096-6D37-4414-BC07-EFA51658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D63B-91B6-4536-BD1A-68E0E2CF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55F2-A780-4A2F-9D75-CA892695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B9B3-67A6-4609-B4A0-7DD10D1A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D3B-91AD-41AB-8852-173F510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ED45F-E7BE-47FD-A48C-58E8D30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C86F-CFF8-4683-A10C-9B989E4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B88A-F98C-4238-BC1C-416DD75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0F9C-C47E-42A6-B780-BFD662CD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D316E-2F2D-430F-8DE1-BC069B0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1943-E521-472E-BBAA-74B5EB54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4FB7-EA1A-4813-B0D5-4BAA7A2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AF09-1B3F-4E35-8B25-F55E7F1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7635-B0FF-4D1A-A3C7-B036ACE5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D8EC-D86F-429E-B804-454B5ECF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E7C-4343-4C8E-9DA3-0C5ACB85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BA68-C919-44F3-8164-60532E4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3A7A-5F4B-4093-8D14-432286F1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ECBE-DE17-42DB-A826-C777B918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0857B-2865-47D5-918D-603AC3D0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E16E-BB22-4499-90D4-7F3244F7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0DF54-17BA-4C6B-8BED-B14AF2BD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B3EE-6058-41E4-93DB-FE3F500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9E31D-0209-43C3-BF90-03112FF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F90B-4B08-4336-96B2-39AA300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5213-F972-486A-9E27-941A560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C23-77EE-474B-8F54-84EA235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F211-C333-48D0-92A9-75803284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F6905-A19A-4102-8FED-9AD9FEDC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6D91-6809-4DE4-BA23-8E51C9AA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994B-46FC-4917-B901-69902270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D99E-AEB6-4D2B-9D5B-FF6EAA81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FCE3-480A-4C36-AFFE-9461E60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FB7E-AB27-437B-9D7C-3630D5FB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6DC7-5FA5-4C1E-8260-E8B0E7E4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7B39-1197-475F-B666-B0D458BA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D3776-94AB-49E9-AEB2-DF9F73D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F53-D072-417D-B1A1-9A35CDA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6E6F4-A0F1-4CDA-8673-4F0BDD5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CBD8-367A-46A3-BFF1-82AC311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5B965-6BD8-4AC9-899C-6983AA9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9ED1-0B16-422D-BD15-706FF54F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6288-AA86-4555-9AD4-CF2C7FF7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CAA68-75F8-44B6-A521-2ABE5228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E971-F15C-407F-BCAE-67E878B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7AF29-4C28-4374-9135-524916F0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14D7-96F9-41C5-945E-0585E29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67DF-5BDE-4CA4-9FEB-731B100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B56-B349-47E2-9354-4D95492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FD9E-1D43-4267-8B55-219977A5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CA00A-0E67-4432-A04E-8733B885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BF050-B5BC-464C-883E-E1DBB0A1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78A79-0F81-47D0-A8FB-1BE14FA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284DC-B60E-44E9-AB24-EBF4C41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1AA6B-1866-4379-B083-849B0A3C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DB1B-EF28-4090-A116-271EA1A4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01D3E-1E64-4CBA-88BC-8886B565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4B014-0356-4541-A543-5C50C7C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C0189-8C89-46C4-A42C-7DCC4E65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254-F959-4821-9597-66085D2170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7B9-EE3A-474F-AFED-4C016A5BE1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5DE-406F-463A-A997-5D3508AFB7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80E-DE9A-4BF8-A3B3-093F17D371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78C9-9905-4F9F-9026-1D8C9904CF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762-D4E1-4961-866D-E32CAE9711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E9E3-C120-4C70-B180-A6DD510AD1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5864-7C9B-43C3-A735-2BCBD435DA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AEEA-5BD5-4587-992E-3B5CA2B61B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776-41F8-4BA8-8606-1F8F676AAE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561F-E37E-49C1-BE06-65E915A0DA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C211-FA7A-48DF-8B8F-239577A1F8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49F5-F4B2-48AE-9A33-70EEF80725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975E-55CA-40F9-9384-DF29F090CE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D562-3BDA-4817-AB4C-BB817480DB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6A46-5D7B-4D28-B2EF-9045866341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6AA-CC30-4475-8D4E-F46F2E0698C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C3A-855A-4BFC-BD7A-01BAF25BE6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661F-DB50-4328-B5DE-759AADE8E3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FEE-8955-4D20-9F4D-55AE32CB1F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941-12F9-4DDD-84D5-7AB13A5CE7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D82-7A39-4602-921A-D5A9436D4E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4725-22B9-4B2E-A173-8EB4A5FED0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7F4E-1E55-4EA7-A5FD-2EEA25A700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6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31640" y="1380960"/>
            <a:ext cx="8040960" cy="2341800"/>
            <a:chOff x="431640" y="1380960"/>
            <a:chExt cx="8040960" cy="234180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76640" y="1634400"/>
              <a:ext cx="2251800" cy="183456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28440" y="1380960"/>
              <a:ext cx="3044160" cy="23418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79960" y="1846440"/>
              <a:ext cx="1735560" cy="142956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31640" y="197604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cp:keywords/>
  <dc:language>en-US</dc:language>
  <cp:lastModifiedBy>admin</cp:lastModifiedBy>
  <dcterms:modified xsi:type="dcterms:W3CDTF">2015-03-13T01:21:2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