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A1D-EFC9-4664-8DC6-755AD50F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5C5-F92E-4E82-A6EA-18201743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CAC2F-C3BF-469F-B12C-84E32E41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023AB-2B9B-4A54-A5D5-D22E9F73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4DB00-88FE-4CA6-BD62-831A70E7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AA2D7-B1CF-4FD6-982B-63D0B74B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D14CD-66B0-4152-B0EA-5DDE9C0B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72D49-9D1B-4097-B4E8-6205A28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CB8E6-02A0-4493-9C8D-983CA8D0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1694E-816C-4562-A014-C8183DB3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BD115-469E-489B-BA46-6AF5C9A1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E04D0-7E68-4C96-9989-BA1F6D9B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4FB-6DE3-44CD-A443-DFE53C1A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6AA8A-7933-4194-B31A-2E6CB09E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624DD-96BB-4EA3-97BB-01C108D2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366D6-A661-462D-AD51-6C8D3EA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52F41-1F4F-4A52-BA27-985BF4BC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BCF48-6C98-4561-B248-87224BC3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75804-8EBC-4757-9366-EDA1FA97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65BDE-4FC5-4132-B632-7A4E0EC2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9BD7C-70E8-499B-A85F-1F652D82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851A7-4964-4337-B5A0-3E70585C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9208E-88F0-49AE-A244-70BBF19F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5A2-2B34-44A3-B4FF-326845C7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E1985-BB66-40BA-B9EE-69E9FCE8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CE0BF-F789-47D6-9969-41D5D662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50567-52C8-4A0E-85EB-F25D09BE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D2F11-E861-4748-9F2A-F269F58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C708C-955C-45A8-A465-74B5FEEB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22939-81C2-4978-B667-3F76A0EF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A3C5C-0B5D-44EC-AB9E-BE710641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E5F80-8CB8-4595-9079-E0A98DD2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28119-889D-4917-9A18-EB0ED78E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EC23D-155C-4DAA-8940-E6CD019D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F3C3-17FB-4A92-9C44-72D5439D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328A6-E06B-43E1-B67D-35BA327D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34980-8A36-4843-9CDF-C1945FC1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4AC5A-9882-4F0D-9BFF-0EC46503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7A2E5-165E-4290-808D-4445B876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13EE2-BBC4-4151-8FA2-19962B05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C5676-F328-46B2-833F-0422A0BF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B8353-13DD-4BFE-B1A9-78C98F76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EA30A-798B-4EE8-BBF4-CC4B5274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4FBDF-BA71-46FE-9DD3-E5BDFDEC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316E6-BEE4-4C50-B363-CA6F8E73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3456-A839-4EF4-B361-CC90C4FA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89260-BD21-46EA-B22F-1631001A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B6C50-E3E1-4D1A-BA90-2D5F2004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D4381-86D7-4B5F-81CF-07FC7D5D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29C61-134D-4416-8C25-416B5FC2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42E79-8CE4-4A33-B818-0265EE13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218EA-B7E7-4876-972E-783F1EA8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50F7F-E8C2-4E0A-9468-C53280DB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70805-997B-43EE-A698-1B2AB173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12AEF-C7FD-4DDF-88FC-EA7564B7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F2269-9558-4499-BCB3-861791C5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DBBD-5244-4CF9-B433-73F9F4AC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96C38-300D-44AD-9D4D-356B247E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42123-6D0D-465F-9AB7-9DABD551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80D8D-7761-46CA-8A64-DBDE6D26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ABF61-BA8D-4880-9215-FCF550D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E74F3-EF4F-4CBE-BDFD-354D7393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49F88-09FC-4242-84A8-2BE12E6A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E6A37-1419-482D-9B0D-FEE9FCCF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EC7E-8A4B-4CED-9A3D-5FE5C394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021D-FDE3-4C8B-BF6B-C9EF70FF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EBB0-6A70-41FF-B630-5FB8A0C3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BD3C-0300-4FB6-A69E-99785A12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840-0768-4A84-B090-D6492EC2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7457-83FC-48E8-8C2A-DDF58403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7C3F-832D-450B-B36A-EA975838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90D7-F9AA-4EB0-816E-7D94865C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8E11-9182-4116-84F5-273C1F33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02E9-F6E1-481D-A183-75CD2C24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5F11-8E55-4D63-B884-EA8891C9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9F12-E5EB-4E08-892D-83A8DBCB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7F197-DAA8-4176-B44D-12527A0F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723A-B1A5-4C56-ACFF-A5EC2594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CD4F0-12F6-465B-85CD-9FABE184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A0B-2925-4F0A-BB25-4297F5B5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E92F2-D753-4A7B-B5A8-869CEA92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C104D-3645-4D21-A81E-D41499E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4088-727F-404D-BC54-92D863EB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6335-EBF6-4B9B-BE42-2426F003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603A-2093-4C22-BD1E-2D4A314D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2FC96-FC8A-41DA-87A5-82FAF6DD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974A-3675-4B7C-A713-B084B313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E568A-1DE7-406B-AC14-FF942BE3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5CCB9-0BAC-49E2-9A01-FE8449D7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56FD4-CC04-41CE-B70D-FB669407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40C-C130-4FBF-B63C-134400F8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3C0C-F35B-4D30-B685-CE066535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3A1D8-8F1B-4CB5-B8E3-B6F7C64E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A9E2-8689-40BC-B622-B329A74F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E2FF4-8395-4D7B-8A8F-0284DE25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D6911-11E0-486A-8C53-E38C9A6D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F2115-0362-4B76-8E97-6BF6295E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93665-F559-4CE9-9E56-F607DC39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63079-35B6-4598-A012-BCE4954D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05960-FD27-4EFB-8970-E6BC9306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5F3E8-EEED-4EA2-B371-E918C4EA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6A6-7503-4F08-9C34-05EC319C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80840-166A-40B8-934D-F95F3CC9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5FA24-EF28-4187-AF07-F2708E80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8C36C-C676-4357-B207-A3FE79DC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19B4B-0E2C-4561-A61C-41F8FB5D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67EB5-6B52-4A6D-85E5-34999BC4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6855A-3BC2-4912-A502-BCC7A320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E28DC-B7F6-4D54-A019-B2A7B6A8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FC780-F12C-44D9-B2A4-CE80BBAC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036E-42F8-45CB-A944-7EE10FBC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63047-7CB9-47B3-9D8C-F23B78E3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D4E-A83B-4138-9AF1-A6514BA0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7C2AF-499C-4288-B05C-FDD761F7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CA44B-47BF-4D4D-8B37-6797BD8F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48D31-A8CB-4096-A9EF-93CE28A4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DDE2D-ADD2-4B2E-87A3-19B89323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05E24-3CCD-486E-92DD-9F489CBD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9289A-2C63-4CDF-A5CA-3908D598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2AFB6-7D66-4D6F-AC88-0D393006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EE2C2-286D-44A2-BD22-C06AFF40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9611B-0A0D-493D-82D5-35191834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B6EA0-477B-4519-9CAE-920FA458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C9E-707C-4088-8685-BB17ED4E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1235-DECB-44B7-9766-6CFCE8C8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CD05D-70EA-4D16-90A6-D9D92E7E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2F403-4F19-4033-B3EE-EA0DB54C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62B89-3C7C-43B9-9A12-66CE2F13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27C44-158B-4D41-864C-96A5400C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250A5-93AF-4C34-A5A7-434192B2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DE439-00D7-4318-8A0F-482661D3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9D3B0-131D-4509-8DEF-A200FD68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9CC20-FF41-495F-9D6B-38050A9F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9E590-8D03-4665-95B8-2FDB568C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9A0-22D0-48BD-BB36-155DFF6E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E4BDB-A242-4CF6-8DF9-3F97ABB7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93D1E-A987-4AF4-904E-79EDDF71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365B1-B9EF-4B92-B6C7-C63E0B30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A2CF5-F1C2-4299-8DB3-43623D74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8AFE7-8E70-4C59-83D9-F9FE235E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009F5-5DB2-4DCB-9C09-A5B31832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90380-49EF-4CE5-89D1-E0E590E5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A2127-F18A-4A5D-BF61-2CFB3717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3263E-637D-48BC-A48A-D6A75579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B14B0-2B1B-43A4-9481-3888CB5F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D42-D40C-4867-A976-DB96476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4CEBD-70F3-4CB3-9D37-7DAD6A3D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2A7A8-F161-4917-8684-B7729543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E9BB3-4925-43F1-BF99-BB1572DE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3572B-D0C9-4EDF-8F26-C6758A5C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B8BAE-C347-47B0-A180-9A0AF963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3F671-9178-441E-AE45-E1035BDD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C020F-F18C-442D-A244-7D5A82F3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9315A-579D-4451-AC2F-E29F7492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9BCD7-5BA3-45C2-9269-3106C3DB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D9823-07C9-43DD-B69C-0BD30D90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958C-9BA4-41AD-997D-A1B5A6851C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8CB3-DC9D-48BD-BD0E-146C0A1566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0DF2-1998-4272-A9A4-01C26FC4AA1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A29E-10E9-49E9-B563-B8AF9D6AB3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6E42-C33A-4047-ADFE-048325F6CC4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58E5-C2F9-43D6-BD2A-AA0B9659CE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D356-2DAD-4CF0-9A7E-7658188A6A3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EDEC-848E-4B28-B17E-EF8615D58C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FD60-CA05-4C04-BFBB-51D14D1631A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C380-A18A-4B1D-B089-30328FF9CE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5B40-EA14-4982-91E6-551BD2D3B7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05F3-5385-4790-97B9-B0C8A52FF8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9C34-0033-4430-BD5E-5C5B3579E72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EBA6-0164-4E95-9D6B-A491A1D483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8131-D7DF-418E-AA1C-14F672CD65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800F-519A-4C71-A47E-3398884B51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4518-B9AF-4164-98DB-F59F0DFC9AE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C621-C85D-468F-AEE2-7C8EB17865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47AB-51F4-49DA-B88A-1BC21FEB3E0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29AA-2EC2-4F6F-9A05-40D62D572A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02FE-6D2F-474E-9C87-46093C1E316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DA5D-A18A-4AAF-982A-4D60E47806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5AD6-99E9-4C7F-A0C2-A92F89B3C65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09D5-726A-4D7F-927C-291A97E733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8DB1-DD9B-4D67-9694-A895993088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1904-F3FA-4BFB-B174-0EA83C4906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5"/>
          <p:cNvSpPr/>
          <p:nvPr/>
        </p:nvSpPr>
        <p:spPr>
          <a:xfrm>
            <a:off x="0" y="3168720"/>
            <a:ext cx="9144000" cy="71280"/>
          </a:xfrm>
          <a:prstGeom prst="rect">
            <a:avLst/>
          </a:prstGeom>
          <a:solidFill>
            <a:srgbClr val="8cb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4"/>
          <p:cNvSpPr/>
          <p:nvPr/>
        </p:nvSpPr>
        <p:spPr>
          <a:xfrm rot="10800000">
            <a:off x="0" y="2842920"/>
            <a:ext cx="914400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6"/>
          <p:cNvSpPr/>
          <p:nvPr/>
        </p:nvSpPr>
        <p:spPr>
          <a:xfrm rot="10800000">
            <a:off x="3357720" y="2843280"/>
            <a:ext cx="2357280" cy="285840"/>
          </a:xfrm>
          <a:prstGeom prst="rect">
            <a:avLst/>
          </a:prstGeom>
          <a:solidFill>
            <a:srgbClr val="d8d8d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 rot="10800000">
            <a:off x="3357720" y="2843280"/>
            <a:ext cx="235728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4"/>
          <p:cNvSpPr/>
          <p:nvPr/>
        </p:nvSpPr>
        <p:spPr>
          <a:xfrm>
            <a:off x="3348000" y="3168720"/>
            <a:ext cx="2357640" cy="71280"/>
          </a:xfrm>
          <a:prstGeom prst="rect">
            <a:avLst/>
          </a:prstGeom>
          <a:solidFill>
            <a:srgbClr val="8cb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4359600" y="27860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4217040" y="27860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7"/>
          <p:cNvSpPr/>
          <p:nvPr/>
        </p:nvSpPr>
        <p:spPr>
          <a:xfrm>
            <a:off x="4539240" y="27860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4610520" y="2786040"/>
            <a:ext cx="3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9"/>
          <p:cNvSpPr/>
          <p:nvPr/>
        </p:nvSpPr>
        <p:spPr>
          <a:xfrm>
            <a:off x="4788720" y="278604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0"/>
          <p:cNvSpPr/>
          <p:nvPr/>
        </p:nvSpPr>
        <p:spPr>
          <a:xfrm>
            <a:off x="4034160" y="2786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1"/>
          <p:cNvSpPr/>
          <p:nvPr/>
        </p:nvSpPr>
        <p:spPr>
          <a:xfrm>
            <a:off x="3890160" y="27860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7"/>
          <p:cNvSpPr/>
          <p:nvPr/>
        </p:nvSpPr>
        <p:spPr>
          <a:xfrm>
            <a:off x="2860560" y="1785960"/>
            <a:ext cx="43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8"/>
          <p:cNvSpPr/>
          <p:nvPr/>
        </p:nvSpPr>
        <p:spPr>
          <a:xfrm>
            <a:off x="2934360" y="3643200"/>
            <a:ext cx="73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9"/>
          <p:cNvSpPr/>
          <p:nvPr/>
        </p:nvSpPr>
        <p:spPr>
          <a:xfrm>
            <a:off x="6432480" y="142884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20"/>
          <p:cNvSpPr/>
          <p:nvPr/>
        </p:nvSpPr>
        <p:spPr>
          <a:xfrm>
            <a:off x="5576040" y="357192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21"/>
          <p:cNvSpPr/>
          <p:nvPr/>
        </p:nvSpPr>
        <p:spPr>
          <a:xfrm>
            <a:off x="5432400" y="228600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7 L -0.2599 0.3044 E">
                                      <p:cBhvr>
                                        <p:cTn id="38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3333E-006 L -0.24375 -0.30301 E">
                                      <p:cBhvr>
                                        <p:cTn id="45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-3.7037E-007 L 0.11805 -0.3676 E">
                                      <p:cBhvr>
                                        <p:cTn id="52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L -0.03941 0.4199 E">
                                      <p:cBhvr>
                                        <p:cTn id="61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3.7037E-007 L 0.16528 0.3044 E">
                                      <p:cBhvr>
                                        <p:cTn id="68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0.40156 0.13657 E">
                                      <p:cBhvr>
                                        <p:cTn id="77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0.29132 -0.20996 E">
                                      <p:cBhvr>
                                        <p:cTn id="86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11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1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25360" y="1774800"/>
            <a:ext cx="4753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物主题本科毕业答辩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3"/>
          <p:cNvSpPr/>
          <p:nvPr/>
        </p:nvSpPr>
        <p:spPr>
          <a:xfrm>
            <a:off x="4861080" y="4076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3"/>
          <p:cNvSpPr/>
          <p:nvPr/>
        </p:nvSpPr>
        <p:spPr>
          <a:xfrm>
            <a:off x="2195640" y="2276640"/>
            <a:ext cx="51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6dde7"/>
                </a:solidFill>
                <a:latin typeface="Calibri"/>
              </a:rPr>
              <a:t>THANK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12E8-2BFF-4DA2-9117-EA97BE56C3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4:44:00Z</dcterms:created>
  <dc:creator>mouse</dc:creator>
  <dc:description/>
  <cp:keywords/>
  <dc:language>en-US</dc:language>
  <cp:lastModifiedBy>admin</cp:lastModifiedBy>
  <dcterms:modified xsi:type="dcterms:W3CDTF">2015-03-20T00:51:31Z</dcterms:modified>
  <cp:revision>9</cp:revision>
  <dc:subject/>
  <dc:title>你的大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