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C84-5902-43D3-9A7A-5EC5653C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9A5-8AF1-4921-B5B7-0C2E0D26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A23-8A5F-4A0F-B5D4-B09DBFE6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44E-0D34-4085-86FE-9A99EE47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0FE-378C-40D4-9253-CEF97AF3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709-E781-4D8F-87D7-E56310D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C11-9F38-45A8-8808-2F78731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053-9EAE-4CA4-8978-1989863A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C4B-8D35-4FCE-A619-73E30133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880-5832-47ED-9D49-6FF8C0B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C65-664D-47CF-93CF-F3302E4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7F8-C0F0-4B24-A3C2-D1F175E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239-FCA9-44B7-A878-F75FE93846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635280" y="2446200"/>
            <a:ext cx="19638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11120" y="1700280"/>
            <a:ext cx="542124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8800" bIns="22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清明节是农历二十四节气之一，在仲春与暮春之交，也就是冬至后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天。中国汉族传统的清明节大约始于周代，距今已有二千五百多年的历史。《历书》：“春分后十五日，斗指丁，为清明，时万物皆洁齐而清明，盖时当气清景明，万物皆显，因此得名。”清明一到，气温升高，正是春耕春种的大好时节，故有“清明前后，种瓜点豆”之说。清明节是一个祭祀祖先的节日，传统活动为扫墓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381168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60520" y="53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扫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4916160" cy="423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60520" y="53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924360" y="1484280"/>
            <a:ext cx="4687920" cy="468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06240" y="5367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9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明节的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2171880" cy="181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6012000" cy="14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-757080" y="1052640"/>
            <a:ext cx="417348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92360" y="21747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明节的习俗是丰富有趣的，除了讲究禁火、扫墓，还有踏青、荡秋千、踢蹴鞠、打马球、插柳等一系列风俗体育活动。相传  清明节扫墓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53 0.0074 L 0.05347 0.0074 E">
                                      <p:cBhvr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68360" y="2590920"/>
            <a:ext cx="4795920" cy="11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pc</dc:creator>
  <dc:description/>
  <dc:language>en-US</dc:language>
  <cp:lastModifiedBy>admin</cp:lastModifiedBy>
  <dcterms:modified xsi:type="dcterms:W3CDTF">2015-03-30T02:09:33Z</dcterms:modified>
  <cp:revision>111</cp:revision>
  <dc:subject/>
  <dc:title>幻灯片 1</dc:title>
</cp:coreProperties>
</file>