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B8A-80AD-48F2-B3CD-733B8726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1BB-F683-4E3B-86F3-6033EE7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8C0-DEA0-477A-AC9D-E1ADB9F8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E77-4C94-49D2-8E40-7636094C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8F6-D0EF-4AA0-8359-B82C7A21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EEA-65AD-42B9-B656-D7A43321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031-907F-4082-9265-B0EEBA59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7CD-29A3-4D75-BDFF-B3A471DE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889-57F1-421E-AB04-79927E9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F9E-2CDC-4D8B-85BB-7EC35607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484-74AA-4CFE-8EDA-F66782B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128-725F-43C5-8BE9-B870451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3073-1758-46F1-A1CD-E21203D89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清明节</a:t>
            </a:r>
            <a:r>
              <a:rPr b="1" lang="en-US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13:54Z</dcterms:created>
  <dc:creator>chinaz</dc:creator>
  <dc:description/>
  <dc:language>en-US</dc:language>
  <cp:lastModifiedBy>Administrator</cp:lastModifiedBy>
  <dcterms:modified xsi:type="dcterms:W3CDTF">2015-03-30T00:44:00Z</dcterms:modified>
  <cp:revision>4</cp:revision>
  <dc:subject/>
  <dc:title>幻灯片 1</dc:title>
</cp:coreProperties>
</file>