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814-0F41-43C6-B4EE-821BA298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4AF-62DF-4DD3-B69E-1E216BCB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F8CA9-8447-4E27-A8BC-88348D78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C74F-CA52-4AB1-9628-99F3F60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4EC01-ADB8-41D1-B8F1-389C06E1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23272-5F7F-4238-8B22-7D93008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1848D-A85C-4789-BEE8-6C270D1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D06D-1C50-471E-968C-2439EDA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268C9-95B1-4652-A3D2-AA7C013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12D62-8DD3-44D3-8D1C-1E06F33F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169A-40B8-4E3F-B17F-011E0282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D958B-AA1E-4AEB-AA82-221B9D94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6CD-5B1C-479E-BB5F-58E79C98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6C318-28B6-4E55-AD60-F0B8D58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16627-1962-42E6-84A7-5C7E859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1B00D-9298-46AE-ADFF-C3E3F115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C569-D05C-43D0-B273-4E49D24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05BD6-0343-4413-A0A1-7615F7FE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6F740-AF4A-4DAC-B881-E996E93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67C5C-0E41-4FAD-912D-CFF4FE6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F400E-7612-4EC1-A797-1DD691B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E7989-10C1-45D0-B6D4-A5678CAA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C9BF-6E79-4ACC-A5D1-CA13B1F7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49B-75B8-4222-BBB0-6A61532E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D8139-0AE4-4CF3-8F83-8BBF7E08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11240-C658-4022-BB82-5A6B696E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3126-A0F2-4E51-BE58-84D80B7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7C72C-ABFD-42FE-A74F-F53282E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0E9B5-BF2B-402D-A365-56F7B0AA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E23A-3E60-49D3-8B10-E99D6B37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D8110-AEB0-4FA3-9ED3-0862B5B6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B4B2-CF8A-4830-BEE2-4DB98FB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C40E1-48D2-4DC9-9780-169C6D3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32DF3-28DF-4A53-8F2B-DF8A9C4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F20-3004-4B61-8944-C3E96117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341D-1BCE-4AAC-B6E3-B4B66F5F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01418-9DEE-4ABE-9BFA-07A9A2A8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9681-A8A3-47D8-9769-0B6E9232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E7F2E-242F-4D91-AE43-DEE724E6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129E7-D112-4C37-B45A-A1C3929C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BF562-D8FD-4F0A-B4F4-C872B8E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725F8-32CF-4306-BDC8-A8B2AB8B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1E8A9-EE18-4A9E-9FB6-E1CCDC6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51D62-C869-4B23-8530-557104B5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C3951-6CF4-4499-AB50-35BE7B5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3A5F-26FA-4C22-8754-55DD56B2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C62A4-8520-4019-8CFD-97227553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AD9E4-94ED-4D71-A009-A249B2D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1A882-FCDB-4DED-92CA-23AF5B5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AB5ED-5FB1-4279-A99A-EA43469E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6AB0B-6BCB-4DB1-9152-55896E0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6AE22-BF9B-4C2A-A784-3873E1CE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7410E-D24A-45D0-A663-CBCA6C70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47622-2CE5-4D9E-879C-CD60A37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E3515-D552-4E87-B80B-DA342E6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8C19F-1AA7-4B26-BE8F-1434F1D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AB7F-75F7-40C4-ABA6-B4CCE33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0E91E-248F-4F96-B3A7-FCE3E611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B5505-1867-4FD9-A64B-B2D5BAB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9C0AF-462B-48D9-BEEB-C60DF29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E3D66-F63E-47EF-8906-DB8EAFA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4041D-D1D6-4D1D-8D9A-CE45D86D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2DC53-266C-4EF9-B9E6-D329AC31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17471-C1CD-42AE-98FE-EDF66C5A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B241-6E02-4963-A0A5-584A7A2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EB2-F1CF-465C-A23A-E5BA628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ED6-01BF-4FF7-BCE8-2F0AAF8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7293-7090-4ED3-9621-8B7EE46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D10-88A5-4974-A071-37827BA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5C6-5960-4369-8392-CC829AD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C1B-847B-4C1F-93E4-54C67A9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582-004E-4D28-8AA6-068ED3A5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3851-8D84-4C65-8C1A-DBF2135D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35FD-177B-4482-AF31-6B5F46AF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4D2B-7D4E-40FE-A961-AE2075DE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54ED-0966-4E66-868C-44F72F47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2F1D-6DDC-4E2D-8C59-AB3C980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35C4-5181-454F-ABC4-432BAF4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C6ED-0230-4809-A469-E878CDD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7B7-0652-40CC-AEFA-E5A9FDD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00ED-0C19-4AC2-8174-07EABBC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B979-05EF-4691-9C64-7DEED9E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3ABC-0761-420D-99C3-355AF2D2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D16D-82F0-47C2-AF3F-8206C8E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238F-0988-4F1E-8EC6-A3492582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6FBB-FB29-4F47-BD05-0E316635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97EA-474D-45DB-BC0F-C6A24204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F485-8876-415D-88A2-B339770E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CB7E-3B0D-4289-BC53-FC3E77A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4E81-DE98-4278-96B3-DC549E67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03C-DA5F-4F67-93FD-0FBCFFE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EC3E-439C-4C1F-A341-E81066B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91D6-FA02-4B28-B2AA-9A2708C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720A-41B4-4350-8A24-3E87EE7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C214-7204-4857-8297-D29E748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565A-6426-4711-BB80-24EC4F5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31E1-3AFA-4BEF-8E0C-EFBB5E7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5E85-D2C2-47C6-A79B-0CE8207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90627-1242-46D8-96AB-FEFC17CC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42C3-4572-4B45-956E-1793AC96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5D99-FD39-4EEA-8F16-260308E5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00B-F69A-415C-813F-FABF621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06FC-87FA-47BF-ABDF-DE34D38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E800-7FA8-4398-B964-66ED292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313F-C1C4-4796-AED1-C7C1218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0EE3-44C5-415B-AB6B-7D75F3C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3F6B-371F-4D7D-B6B4-B72B0FE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8F72-9BAF-47E8-85A5-E128012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D128-2D12-48C0-9C27-4D4016F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FAEF-14C8-4704-9C56-57FDB7A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D39B-B7A2-418C-A7AD-C88DB5C0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EEF2D-612A-47DE-BE93-524CE816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8C0-EF39-4C81-8B09-764FBA0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5BEE4-06DA-4AE1-AB87-5D4012CF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A2E1-D31D-475F-B4A4-0C795566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D16D-550F-4B2A-95A7-BF07B23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A8C8-B65F-415D-ADD1-ECB5EF7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FABD-03EC-4FEE-AC81-7400A5FC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228F1-1C90-4DAA-A1E6-BFC57C38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FC48-AD0B-4698-8368-6E2C51B5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3F58-3844-4211-8C62-3A4FE44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1649-08C6-486D-9AE4-EA2C4B8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6390E-54FE-4452-9466-D492EEA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F7F-0592-4E4D-A7A7-1D77C0F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903F-C8D5-4EC3-8E25-A7EC94B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119D3-3F6C-4E4A-9F66-29BBFD37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74C66-CFF2-4BE9-A790-DC16C672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0ABA3-9ABE-4890-BC10-810224A4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740A-92FA-469D-9F31-462B177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76F8-BB55-4378-BF4D-B2704A5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BEB4-5599-4E7E-9BDF-E22DDE36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D694-B16D-4801-BEFC-5E2849D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0FE0-6859-4F9E-BC8D-5DDEFBA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8FFD-592C-447A-86FA-03DB10A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BBE-55CC-4CF8-B17F-4837800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13FB-067C-450A-9159-301090D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1E91-C0D2-4320-8759-EECB51A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073D-346C-4344-8D9C-20973098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3C032-E02D-48A7-A5EF-415A0D56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B2CC-216E-4F49-8EF9-8B927180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17BF-2C79-425F-AB31-DA249E4B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86B0-18CF-47BB-BD2F-B359A4CC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0719-2376-4A4A-A396-BC6733A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6D47-DF3E-4D8E-9292-57EDA4C4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DA9C-5D77-47C2-B67D-404515E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2A8-C571-45E8-B561-1052F83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710D8-96D9-47ED-B53F-516F63B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CE7F-CC98-44F7-B20F-5ECC70D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D403-B82E-4B9C-A121-D299414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FA3B-3E64-4DBE-A8F7-7744864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E55A-884D-4F3C-91EE-5B820BF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C517-561C-4DC0-A320-688A371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F0E2-15F1-488D-8C34-77475BEB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3934E-6BF9-4215-BFD6-5F1CD49C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E91DD-159A-49B0-9FE7-47D42AF3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BC419-1E13-4DA5-98F3-1DE230A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1CE-F0C4-466F-87A2-6A70DA905710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09ED-02C8-48BF-A8DD-CFA76AA3CED9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161-F788-4812-B5E2-6F956B4AA2F1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83F-000D-43F4-B384-E6C2ED95A3E2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A86-CF49-4745-B84F-75035BBCD101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E94A-8B08-43DF-88E4-6FEDB1EF3B1A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3D8-B30B-47C5-B1F2-6FCA6CAE11F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C9C-3968-439C-8C80-AA2FFB860377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F800-A0ED-40FE-BE9F-F338C5799DC7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6F1-18AB-4776-82F8-5A19568A9DC1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41DE-A2C3-49F0-AD94-4C494E8AF54B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094-2357-4890-8EED-B2759B2252F6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9F4-D49B-411F-BD51-55437F6A74A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5031-2A9F-4CB9-8425-3DE40473A15B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393-686D-4089-999A-6A524F999C46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A01-130B-4822-957C-CD31A41D964A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0F06-B46C-40AF-B719-5A9DA57762E5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EF9-9093-4886-A5ED-E7262F9C9870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FDD8-EB3B-4662-843B-95F16F72682D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3B8-9B2D-4260-BEA1-8F75D176D78F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9B5-3B4C-4779-B521-2D52957D5F86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549-6C12-483A-B23E-D190C2996B8A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F72A-179A-4C94-B18F-E07C8871BD56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332A-2791-4116-B21D-BFDC245EFD1D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959-BA98-4D74-A978-6F726FC66D3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30A9-66D9-4EBF-9B86-B6C2F063478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image" Target="../media/image10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3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23" descr=""/>
          <p:cNvPicPr/>
          <p:nvPr/>
        </p:nvPicPr>
        <p:blipFill>
          <a:blip r:embed="rId1"/>
          <a:stretch/>
        </p:blipFill>
        <p:spPr>
          <a:xfrm>
            <a:off x="1962000" y="1047600"/>
            <a:ext cx="5220000" cy="3648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47" name="타원형 설명선 8"/>
          <p:cNvSpPr/>
          <p:nvPr/>
        </p:nvSpPr>
        <p:spPr>
          <a:xfrm rot="385200">
            <a:off x="5682960" y="666720"/>
            <a:ext cx="2090520" cy="166068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말풍선 안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적어보세요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그림 26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628920" cy="657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8"/>
          <p:cNvSpPr/>
          <p:nvPr/>
        </p:nvSpPr>
        <p:spPr>
          <a:xfrm>
            <a:off x="1990800" y="5103720"/>
            <a:ext cx="5678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4f2803"/>
                </a:solidFill>
                <a:latin typeface="나눔고딕"/>
              </a:rPr>
              <a:t>우리아이 성장 일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그림 38" descr=""/>
          <p:cNvPicPr/>
          <p:nvPr/>
        </p:nvPicPr>
        <p:blipFill>
          <a:blip r:embed="rId3"/>
          <a:stretch/>
        </p:blipFill>
        <p:spPr>
          <a:xfrm>
            <a:off x="6804000" y="3197160"/>
            <a:ext cx="1438200" cy="147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9"/>
          <p:cNvSpPr/>
          <p:nvPr/>
        </p:nvSpPr>
        <p:spPr>
          <a:xfrm rot="21105600">
            <a:off x="7007040" y="37270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나눔손글씨 펜"/>
                <a:ea typeface="나눔손글씨 펜"/>
              </a:rPr>
              <a:t>메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그림 40" descr=""/>
          <p:cNvPicPr/>
          <p:nvPr/>
        </p:nvPicPr>
        <p:blipFill>
          <a:blip r:embed="rId4"/>
          <a:stretch/>
        </p:blipFill>
        <p:spPr>
          <a:xfrm>
            <a:off x="7164360" y="3139920"/>
            <a:ext cx="657360" cy="61920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41" descr=""/>
          <p:cNvPicPr/>
          <p:nvPr/>
        </p:nvPicPr>
        <p:blipFill>
          <a:blip r:embed="rId5"/>
          <a:stretch/>
        </p:blipFill>
        <p:spPr>
          <a:xfrm>
            <a:off x="4643280" y="28494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54" name="그림 42" descr=""/>
          <p:cNvPicPr/>
          <p:nvPr/>
        </p:nvPicPr>
        <p:blipFill>
          <a:blip r:embed="rId6"/>
          <a:stretch/>
        </p:blipFill>
        <p:spPr>
          <a:xfrm>
            <a:off x="3751200" y="276696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그림 4" descr=""/>
          <p:cNvPicPr/>
          <p:nvPr/>
        </p:nvPicPr>
        <p:blipFill>
          <a:blip r:embed="rId1"/>
          <a:stretch/>
        </p:blipFill>
        <p:spPr>
          <a:xfrm>
            <a:off x="4508640" y="952560"/>
            <a:ext cx="3789360" cy="4933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56" name="그림 6" descr=""/>
          <p:cNvPicPr/>
          <p:nvPr/>
        </p:nvPicPr>
        <p:blipFill>
          <a:blip r:embed="rId2"/>
          <a:stretch/>
        </p:blipFill>
        <p:spPr>
          <a:xfrm>
            <a:off x="6078600" y="615960"/>
            <a:ext cx="628560" cy="6573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7"/>
          <p:cNvSpPr/>
          <p:nvPr/>
        </p:nvSpPr>
        <p:spPr>
          <a:xfrm>
            <a:off x="620640" y="2647800"/>
            <a:ext cx="38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2803"/>
                </a:solidFill>
                <a:latin typeface="나눔고딕"/>
              </a:rPr>
              <a:t>사진 제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658800" y="2309760"/>
            <a:ext cx="197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201</a:t>
            </a:r>
            <a:r>
              <a:rPr b="1" lang="zh-CN" sz="1900" spc="-1" strike="noStrike">
                <a:solidFill>
                  <a:srgbClr val="4f2803"/>
                </a:solidFill>
                <a:latin typeface="나눔고딕"/>
                <a:ea typeface="宋体"/>
              </a:rPr>
              <a:t>2</a:t>
            </a: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.00.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0"/>
          <p:cNvSpPr/>
          <p:nvPr/>
        </p:nvSpPr>
        <p:spPr>
          <a:xfrm>
            <a:off x="663480" y="3381480"/>
            <a:ext cx="347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사진에 대한 내용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여기에 적어주세요</a:t>
            </a:r>
            <a:r>
              <a:rPr b="1" lang="en-US" sz="1600" spc="-1" strike="noStrike" u="sng">
                <a:solidFill>
                  <a:srgbClr val="4f2803"/>
                </a:solidFill>
                <a:uFillTx/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그림 4" descr=""/>
          <p:cNvPicPr/>
          <p:nvPr/>
        </p:nvPicPr>
        <p:blipFill>
          <a:blip r:embed="rId1"/>
          <a:stretch/>
        </p:blipFill>
        <p:spPr>
          <a:xfrm>
            <a:off x="4759200" y="949320"/>
            <a:ext cx="3533760" cy="46418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61" name="그림 5" descr=""/>
          <p:cNvPicPr/>
          <p:nvPr/>
        </p:nvPicPr>
        <p:blipFill>
          <a:blip r:embed="rId2"/>
          <a:stretch/>
        </p:blipFill>
        <p:spPr>
          <a:xfrm>
            <a:off x="838080" y="952560"/>
            <a:ext cx="3540240" cy="46483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62" name="타원형 설명선 6"/>
          <p:cNvSpPr/>
          <p:nvPr/>
        </p:nvSpPr>
        <p:spPr>
          <a:xfrm flipH="1" rot="21220200">
            <a:off x="315720" y="596880"/>
            <a:ext cx="1930320" cy="146376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타원형 설명선 7"/>
          <p:cNvSpPr/>
          <p:nvPr/>
        </p:nvSpPr>
        <p:spPr>
          <a:xfrm rot="385200">
            <a:off x="7020000" y="56844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그림 8" descr=""/>
          <p:cNvPicPr/>
          <p:nvPr/>
        </p:nvPicPr>
        <p:blipFill>
          <a:blip r:embed="rId3"/>
          <a:stretch/>
        </p:blipFill>
        <p:spPr>
          <a:xfrm>
            <a:off x="25606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65" name="그림 9" descr=""/>
          <p:cNvPicPr/>
          <p:nvPr/>
        </p:nvPicPr>
        <p:blipFill>
          <a:blip r:embed="rId4"/>
          <a:stretch/>
        </p:blipFill>
        <p:spPr>
          <a:xfrm>
            <a:off x="6284880" y="577800"/>
            <a:ext cx="64764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2"/>
          <p:cNvSpPr/>
          <p:nvPr/>
        </p:nvSpPr>
        <p:spPr>
          <a:xfrm>
            <a:off x="915840" y="58262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4978440" y="58262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그림 16" descr=""/>
          <p:cNvPicPr/>
          <p:nvPr/>
        </p:nvPicPr>
        <p:blipFill>
          <a:blip r:embed="rId5"/>
          <a:stretch/>
        </p:blipFill>
        <p:spPr>
          <a:xfrm>
            <a:off x="7140600" y="2116080"/>
            <a:ext cx="398520" cy="520920"/>
          </a:xfrm>
          <a:prstGeom prst="rect">
            <a:avLst/>
          </a:prstGeom>
          <a:ln w="0">
            <a:noFill/>
          </a:ln>
        </p:spPr>
      </p:pic>
      <p:pic>
        <p:nvPicPr>
          <p:cNvPr id="569" name="그림 17" descr=""/>
          <p:cNvPicPr/>
          <p:nvPr/>
        </p:nvPicPr>
        <p:blipFill>
          <a:blip r:embed="rId6"/>
          <a:stretch/>
        </p:blipFill>
        <p:spPr>
          <a:xfrm>
            <a:off x="7020000" y="1844640"/>
            <a:ext cx="276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그림 4" descr=""/>
          <p:cNvPicPr/>
          <p:nvPr/>
        </p:nvPicPr>
        <p:blipFill>
          <a:blip r:embed="rId1"/>
          <a:stretch/>
        </p:blipFill>
        <p:spPr>
          <a:xfrm>
            <a:off x="846000" y="828720"/>
            <a:ext cx="7429680" cy="5140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71" name="타원형 설명선 5"/>
          <p:cNvSpPr/>
          <p:nvPr/>
        </p:nvSpPr>
        <p:spPr>
          <a:xfrm flipH="1" rot="21220200">
            <a:off x="3391920" y="604440"/>
            <a:ext cx="2066760" cy="160812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그림 6" descr=""/>
          <p:cNvPicPr/>
          <p:nvPr/>
        </p:nvPicPr>
        <p:blipFill>
          <a:blip r:embed="rId2"/>
          <a:stretch/>
        </p:blipFill>
        <p:spPr>
          <a:xfrm>
            <a:off x="1004760" y="504720"/>
            <a:ext cx="628920" cy="657360"/>
          </a:xfrm>
          <a:prstGeom prst="rect">
            <a:avLst/>
          </a:prstGeom>
          <a:ln w="0">
            <a:noFill/>
          </a:ln>
        </p:spPr>
      </p:pic>
      <p:pic>
        <p:nvPicPr>
          <p:cNvPr id="573" name="그림 10" descr=""/>
          <p:cNvPicPr/>
          <p:nvPr/>
        </p:nvPicPr>
        <p:blipFill>
          <a:blip r:embed="rId3"/>
          <a:stretch/>
        </p:blipFill>
        <p:spPr>
          <a:xfrm>
            <a:off x="7596360" y="57636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그림 4" descr=""/>
          <p:cNvPicPr/>
          <p:nvPr/>
        </p:nvPicPr>
        <p:blipFill>
          <a:blip r:embed="rId1"/>
          <a:stretch/>
        </p:blipFill>
        <p:spPr>
          <a:xfrm>
            <a:off x="830160" y="89532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5" name="그림 5" descr=""/>
          <p:cNvPicPr/>
          <p:nvPr/>
        </p:nvPicPr>
        <p:blipFill>
          <a:blip r:embed="rId2"/>
          <a:stretch/>
        </p:blipFill>
        <p:spPr>
          <a:xfrm>
            <a:off x="4313160" y="907920"/>
            <a:ext cx="4010040" cy="20098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6" name="그림 6" descr=""/>
          <p:cNvPicPr/>
          <p:nvPr/>
        </p:nvPicPr>
        <p:blipFill>
          <a:blip r:embed="rId3"/>
          <a:stretch/>
        </p:blipFill>
        <p:spPr>
          <a:xfrm>
            <a:off x="838080" y="372276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7" name="그림 7" descr=""/>
          <p:cNvPicPr/>
          <p:nvPr/>
        </p:nvPicPr>
        <p:blipFill>
          <a:blip r:embed="rId4"/>
          <a:stretch/>
        </p:blipFill>
        <p:spPr>
          <a:xfrm>
            <a:off x="4300560" y="3713040"/>
            <a:ext cx="1800360" cy="20196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8" name="그림 9" descr=""/>
          <p:cNvPicPr/>
          <p:nvPr/>
        </p:nvPicPr>
        <p:blipFill>
          <a:blip r:embed="rId5"/>
          <a:stretch/>
        </p:blipFill>
        <p:spPr>
          <a:xfrm>
            <a:off x="6516720" y="3711600"/>
            <a:ext cx="18003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9" name="그림 10" descr=""/>
          <p:cNvPicPr/>
          <p:nvPr/>
        </p:nvPicPr>
        <p:blipFill>
          <a:blip r:embed="rId6"/>
          <a:stretch/>
        </p:blipFill>
        <p:spPr>
          <a:xfrm>
            <a:off x="20890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0" name="그림 12" descr=""/>
          <p:cNvPicPr/>
          <p:nvPr/>
        </p:nvPicPr>
        <p:blipFill>
          <a:blip r:embed="rId7"/>
          <a:stretch/>
        </p:blipFill>
        <p:spPr>
          <a:xfrm>
            <a:off x="4984920" y="337176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1" name="그림 16" descr=""/>
          <p:cNvPicPr/>
          <p:nvPr/>
        </p:nvPicPr>
        <p:blipFill>
          <a:blip r:embed="rId8"/>
          <a:stretch/>
        </p:blipFill>
        <p:spPr>
          <a:xfrm>
            <a:off x="6111720" y="577800"/>
            <a:ext cx="648000" cy="6094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9"/>
          <p:cNvSpPr/>
          <p:nvPr/>
        </p:nvSpPr>
        <p:spPr>
          <a:xfrm>
            <a:off x="855720" y="31622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0"/>
          <p:cNvSpPr/>
          <p:nvPr/>
        </p:nvSpPr>
        <p:spPr>
          <a:xfrm>
            <a:off x="4483080" y="316224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1"/>
          <p:cNvSpPr/>
          <p:nvPr/>
        </p:nvSpPr>
        <p:spPr>
          <a:xfrm>
            <a:off x="936720" y="59706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2"/>
          <p:cNvSpPr/>
          <p:nvPr/>
        </p:nvSpPr>
        <p:spPr>
          <a:xfrm>
            <a:off x="4335480" y="59706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6570720" y="59706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그림 24" descr=""/>
          <p:cNvPicPr/>
          <p:nvPr/>
        </p:nvPicPr>
        <p:blipFill>
          <a:blip r:embed="rId9"/>
          <a:stretch/>
        </p:blipFill>
        <p:spPr>
          <a:xfrm>
            <a:off x="2195640" y="346068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588" name="그림 25" descr=""/>
          <p:cNvPicPr/>
          <p:nvPr/>
        </p:nvPicPr>
        <p:blipFill>
          <a:blip r:embed="rId10"/>
          <a:stretch/>
        </p:blipFill>
        <p:spPr>
          <a:xfrm>
            <a:off x="7164360" y="344664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1"/>
          <p:cNvSpPr/>
          <p:nvPr/>
        </p:nvSpPr>
        <p:spPr>
          <a:xfrm>
            <a:off x="4441320" y="244800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800" spc="-1" strike="noStrike" u="sng">
                <a:solidFill>
                  <a:srgbClr val="e36c0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그림 4" descr=""/>
          <p:cNvPicPr/>
          <p:nvPr/>
        </p:nvPicPr>
        <p:blipFill>
          <a:blip r:embed="rId2"/>
          <a:stretch/>
        </p:blipFill>
        <p:spPr>
          <a:xfrm>
            <a:off x="851040" y="903240"/>
            <a:ext cx="134280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1" name="그림 5" descr=""/>
          <p:cNvPicPr/>
          <p:nvPr/>
        </p:nvPicPr>
        <p:blipFill>
          <a:blip r:embed="rId3"/>
          <a:stretch/>
        </p:blipFill>
        <p:spPr>
          <a:xfrm>
            <a:off x="2573280" y="915840"/>
            <a:ext cx="134316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2" name="그림 6" descr=""/>
          <p:cNvPicPr/>
          <p:nvPr/>
        </p:nvPicPr>
        <p:blipFill>
          <a:blip r:embed="rId4"/>
          <a:stretch/>
        </p:blipFill>
        <p:spPr>
          <a:xfrm>
            <a:off x="4314960" y="919080"/>
            <a:ext cx="4010040" cy="21430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93" name="타원형 설명선 7"/>
          <p:cNvSpPr/>
          <p:nvPr/>
        </p:nvSpPr>
        <p:spPr>
          <a:xfrm rot="385200">
            <a:off x="6842160" y="496800"/>
            <a:ext cx="1727280" cy="139392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누구냐 넌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그림 8" descr=""/>
          <p:cNvPicPr/>
          <p:nvPr/>
        </p:nvPicPr>
        <p:blipFill>
          <a:blip r:embed="rId5"/>
          <a:stretch/>
        </p:blipFill>
        <p:spPr>
          <a:xfrm>
            <a:off x="853920" y="3697200"/>
            <a:ext cx="3067200" cy="2152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5" name="그림 9" descr=""/>
          <p:cNvPicPr/>
          <p:nvPr/>
        </p:nvPicPr>
        <p:blipFill>
          <a:blip r:embed="rId6"/>
          <a:stretch/>
        </p:blipFill>
        <p:spPr>
          <a:xfrm>
            <a:off x="4308480" y="3695760"/>
            <a:ext cx="1800360" cy="9046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6" name="그림 10" descr=""/>
          <p:cNvPicPr/>
          <p:nvPr/>
        </p:nvPicPr>
        <p:blipFill>
          <a:blip r:embed="rId7"/>
          <a:stretch/>
        </p:blipFill>
        <p:spPr>
          <a:xfrm>
            <a:off x="4290840" y="4981680"/>
            <a:ext cx="1800360" cy="8665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7" name="그림 11" descr=""/>
          <p:cNvPicPr/>
          <p:nvPr/>
        </p:nvPicPr>
        <p:blipFill>
          <a:blip r:embed="rId8"/>
          <a:stretch/>
        </p:blipFill>
        <p:spPr>
          <a:xfrm>
            <a:off x="6519960" y="3699000"/>
            <a:ext cx="1800000" cy="2152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8" name="그림 13" descr=""/>
          <p:cNvPicPr/>
          <p:nvPr/>
        </p:nvPicPr>
        <p:blipFill>
          <a:blip r:embed="rId9"/>
          <a:stretch/>
        </p:blipFill>
        <p:spPr>
          <a:xfrm>
            <a:off x="7170840" y="335772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599" name="그림 14" descr=""/>
          <p:cNvPicPr/>
          <p:nvPr/>
        </p:nvPicPr>
        <p:blipFill>
          <a:blip r:embed="rId10"/>
          <a:stretch/>
        </p:blipFill>
        <p:spPr>
          <a:xfrm>
            <a:off x="2946240" y="6066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0" name="그림 15" descr=""/>
          <p:cNvPicPr/>
          <p:nvPr/>
        </p:nvPicPr>
        <p:blipFill>
          <a:blip r:embed="rId11"/>
          <a:stretch/>
        </p:blipFill>
        <p:spPr>
          <a:xfrm>
            <a:off x="5051520" y="34020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1" name="그림 16" descr=""/>
          <p:cNvPicPr/>
          <p:nvPr/>
        </p:nvPicPr>
        <p:blipFill>
          <a:blip r:embed="rId12"/>
          <a:stretch/>
        </p:blipFill>
        <p:spPr>
          <a:xfrm>
            <a:off x="5024520" y="46512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02" name="그림 17" descr=""/>
          <p:cNvPicPr/>
          <p:nvPr/>
        </p:nvPicPr>
        <p:blipFill>
          <a:blip r:embed="rId13"/>
          <a:stretch/>
        </p:blipFill>
        <p:spPr>
          <a:xfrm>
            <a:off x="2151000" y="3363840"/>
            <a:ext cx="647640" cy="609840"/>
          </a:xfrm>
          <a:prstGeom prst="rect">
            <a:avLst/>
          </a:prstGeom>
          <a:ln w="0">
            <a:noFill/>
          </a:ln>
        </p:spPr>
      </p:pic>
      <p:pic>
        <p:nvPicPr>
          <p:cNvPr id="603" name="그림 20" descr=""/>
          <p:cNvPicPr/>
          <p:nvPr/>
        </p:nvPicPr>
        <p:blipFill>
          <a:blip r:embed="rId14"/>
          <a:stretch/>
        </p:blipFill>
        <p:spPr>
          <a:xfrm>
            <a:off x="5292720" y="1917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그림 21" descr=""/>
          <p:cNvPicPr/>
          <p:nvPr/>
        </p:nvPicPr>
        <p:blipFill>
          <a:blip r:embed="rId15"/>
          <a:stretch/>
        </p:blipFill>
        <p:spPr>
          <a:xfrm>
            <a:off x="6039000" y="1841400"/>
            <a:ext cx="571320" cy="569880"/>
          </a:xfrm>
          <a:prstGeom prst="rect">
            <a:avLst/>
          </a:prstGeom>
          <a:ln w="0">
            <a:noFill/>
          </a:ln>
        </p:spPr>
      </p:pic>
      <p:pic>
        <p:nvPicPr>
          <p:cNvPr id="605" name="그림 22" descr=""/>
          <p:cNvPicPr/>
          <p:nvPr/>
        </p:nvPicPr>
        <p:blipFill>
          <a:blip r:embed="rId16"/>
          <a:stretch/>
        </p:blipFill>
        <p:spPr>
          <a:xfrm rot="816600">
            <a:off x="2727000" y="5011560"/>
            <a:ext cx="619200" cy="903600"/>
          </a:xfrm>
          <a:prstGeom prst="rect">
            <a:avLst/>
          </a:prstGeom>
          <a:ln w="0">
            <a:noFill/>
          </a:ln>
        </p:spPr>
      </p:pic>
      <p:pic>
        <p:nvPicPr>
          <p:cNvPr id="606" name="그림 23" descr=""/>
          <p:cNvPicPr/>
          <p:nvPr/>
        </p:nvPicPr>
        <p:blipFill>
          <a:blip r:embed="rId17"/>
          <a:stretch/>
        </p:blipFill>
        <p:spPr>
          <a:xfrm rot="1641000">
            <a:off x="1877760" y="5055840"/>
            <a:ext cx="618840" cy="901800"/>
          </a:xfrm>
          <a:prstGeom prst="rect">
            <a:avLst/>
          </a:prstGeom>
          <a:ln w="0">
            <a:noFill/>
          </a:ln>
        </p:spPr>
      </p:pic>
      <p:pic>
        <p:nvPicPr>
          <p:cNvPr id="607" name="그림 36" descr=""/>
          <p:cNvPicPr/>
          <p:nvPr/>
        </p:nvPicPr>
        <p:blipFill>
          <a:blip r:embed="rId18"/>
          <a:stretch/>
        </p:blipFill>
        <p:spPr>
          <a:xfrm>
            <a:off x="1297080" y="565200"/>
            <a:ext cx="628560" cy="657000"/>
          </a:xfrm>
          <a:prstGeom prst="rect">
            <a:avLst/>
          </a:prstGeom>
          <a:ln w="0">
            <a:noFill/>
          </a:ln>
        </p:spPr>
      </p:pic>
      <p:pic>
        <p:nvPicPr>
          <p:cNvPr id="608" name="그림 24" descr=""/>
          <p:cNvPicPr/>
          <p:nvPr/>
        </p:nvPicPr>
        <p:blipFill>
          <a:blip r:embed="rId19"/>
          <a:stretch/>
        </p:blipFill>
        <p:spPr>
          <a:xfrm>
            <a:off x="6372360" y="1484280"/>
            <a:ext cx="460080" cy="555480"/>
          </a:xfrm>
          <a:prstGeom prst="rect">
            <a:avLst/>
          </a:prstGeom>
          <a:ln w="0">
            <a:noFill/>
          </a:ln>
        </p:spPr>
      </p:pic>
      <p:sp>
        <p:nvSpPr>
          <p:cNvPr id="609" name="타원형 설명선 25"/>
          <p:cNvSpPr/>
          <p:nvPr/>
        </p:nvSpPr>
        <p:spPr>
          <a:xfrm rot="385200">
            <a:off x="2987640" y="294480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으아아앙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 인생에 이런일은 처음이야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그림 4" descr=""/>
          <p:cNvPicPr/>
          <p:nvPr/>
        </p:nvPicPr>
        <p:blipFill>
          <a:blip r:embed="rId1"/>
          <a:stretch/>
        </p:blipFill>
        <p:spPr>
          <a:xfrm>
            <a:off x="466560" y="333360"/>
            <a:ext cx="3191040" cy="2457360"/>
          </a:xfrm>
          <a:prstGeom prst="rect">
            <a:avLst/>
          </a:prstGeom>
          <a:ln w="0">
            <a:noFill/>
          </a:ln>
        </p:spPr>
      </p:pic>
      <p:pic>
        <p:nvPicPr>
          <p:cNvPr id="611" name="그림 5" descr=""/>
          <p:cNvPicPr/>
          <p:nvPr/>
        </p:nvPicPr>
        <p:blipFill>
          <a:blip r:embed="rId2"/>
          <a:stretch/>
        </p:blipFill>
        <p:spPr>
          <a:xfrm>
            <a:off x="4282920" y="836640"/>
            <a:ext cx="120024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그림 8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1657080" cy="1686240"/>
          </a:xfrm>
          <a:prstGeom prst="rect">
            <a:avLst/>
          </a:prstGeom>
          <a:ln w="0">
            <a:noFill/>
          </a:ln>
        </p:spPr>
      </p:pic>
      <p:pic>
        <p:nvPicPr>
          <p:cNvPr id="613" name="그림 9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4" name="그림 10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5" name="그림 11" descr=""/>
          <p:cNvPicPr/>
          <p:nvPr/>
        </p:nvPicPr>
        <p:blipFill>
          <a:blip r:embed="rId6"/>
          <a:stretch/>
        </p:blipFill>
        <p:spPr>
          <a:xfrm>
            <a:off x="755640" y="4940280"/>
            <a:ext cx="2724120" cy="1200240"/>
          </a:xfrm>
          <a:prstGeom prst="rect">
            <a:avLst/>
          </a:prstGeom>
          <a:ln w="0">
            <a:noFill/>
          </a:ln>
        </p:spPr>
      </p:pic>
      <p:pic>
        <p:nvPicPr>
          <p:cNvPr id="616" name="그림 12" descr=""/>
          <p:cNvPicPr/>
          <p:nvPr/>
        </p:nvPicPr>
        <p:blipFill>
          <a:blip r:embed="rId7"/>
          <a:stretch/>
        </p:blipFill>
        <p:spPr>
          <a:xfrm>
            <a:off x="5580000" y="4653000"/>
            <a:ext cx="1352520" cy="162864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3" descr=""/>
          <p:cNvPicPr/>
          <p:nvPr/>
        </p:nvPicPr>
        <p:blipFill>
          <a:blip r:embed="rId8"/>
          <a:stretch/>
        </p:blipFill>
        <p:spPr>
          <a:xfrm>
            <a:off x="730872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8" name="그림 14" descr=""/>
          <p:cNvPicPr/>
          <p:nvPr/>
        </p:nvPicPr>
        <p:blipFill>
          <a:blip r:embed="rId9"/>
          <a:stretch/>
        </p:blipFill>
        <p:spPr>
          <a:xfrm>
            <a:off x="608328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9" name="그림 15" descr=""/>
          <p:cNvPicPr/>
          <p:nvPr/>
        </p:nvPicPr>
        <p:blipFill>
          <a:blip r:embed="rId10"/>
          <a:stretch/>
        </p:blipFill>
        <p:spPr>
          <a:xfrm>
            <a:off x="6877080" y="5727600"/>
            <a:ext cx="399960" cy="362160"/>
          </a:xfrm>
          <a:prstGeom prst="rect">
            <a:avLst/>
          </a:prstGeom>
          <a:ln w="0">
            <a:noFill/>
          </a:ln>
        </p:spPr>
      </p:pic>
      <p:pic>
        <p:nvPicPr>
          <p:cNvPr id="620" name="그림 16" descr=""/>
          <p:cNvPicPr/>
          <p:nvPr/>
        </p:nvPicPr>
        <p:blipFill>
          <a:blip r:embed="rId11"/>
          <a:stretch/>
        </p:blipFill>
        <p:spPr>
          <a:xfrm>
            <a:off x="756288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1" name="그림 17" descr=""/>
          <p:cNvPicPr/>
          <p:nvPr/>
        </p:nvPicPr>
        <p:blipFill>
          <a:blip r:embed="rId12"/>
          <a:stretch/>
        </p:blipFill>
        <p:spPr>
          <a:xfrm>
            <a:off x="802800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18" descr=""/>
          <p:cNvPicPr/>
          <p:nvPr/>
        </p:nvPicPr>
        <p:blipFill>
          <a:blip r:embed="rId13"/>
          <a:stretch/>
        </p:blipFill>
        <p:spPr>
          <a:xfrm>
            <a:off x="7164360" y="5599080"/>
            <a:ext cx="657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9"/>
          <p:cNvSpPr/>
          <p:nvPr/>
        </p:nvSpPr>
        <p:spPr>
          <a:xfrm>
            <a:off x="2448000" y="2827440"/>
            <a:ext cx="424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4f2803"/>
                </a:solidFill>
                <a:latin typeface="나눔고딕"/>
              </a:rPr>
              <a:t>고맙습니다</a:t>
            </a:r>
            <a:r>
              <a:rPr b="1" i="1" lang="en-US" sz="5200" spc="-1" strike="noStrike">
                <a:solidFill>
                  <a:srgbClr val="4f2803"/>
                </a:solidFill>
                <a:latin typeface="나눔고딕"/>
              </a:rPr>
              <a:t>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0"/>
          <p:cNvSpPr/>
          <p:nvPr/>
        </p:nvSpPr>
        <p:spPr>
          <a:xfrm>
            <a:off x="2700360" y="3789360"/>
            <a:ext cx="3744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이 문서는 나눔글꼴로 작성되었습니다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.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0" lang="zh-CN" sz="800" spc="-1" strike="noStrike" u="sng">
                <a:solidFill>
                  <a:srgbClr val="e36c09"/>
                </a:solidFill>
                <a:uFillTx/>
                <a:latin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그림 14" descr=""/>
          <p:cNvPicPr/>
          <p:nvPr/>
        </p:nvPicPr>
        <p:blipFill>
          <a:blip r:embed="rId2"/>
          <a:stretch/>
        </p:blipFill>
        <p:spPr>
          <a:xfrm>
            <a:off x="2411280" y="2349360"/>
            <a:ext cx="628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11:00Z</dcterms:created>
  <dc:creator>네이버 한글캠페인</dc:creator>
  <dc:description/>
  <cp:keywords/>
  <dc:language>en-US</dc:language>
  <cp:lastModifiedBy>Administrator</cp:lastModifiedBy>
  <cp:lastPrinted>1899-12-30T00:00:00Z</cp:lastPrinted>
  <dcterms:modified xsi:type="dcterms:W3CDTF">2015-04-01T01:39:3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