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7.png" ContentType="image/png"/>
  <Override PartName="/ppt/media/image10.png" ContentType="image/png"/>
  <Override PartName="/ppt/media/image1.jpeg" ContentType="image/jpeg"/>
  <Override PartName="/ppt/media/image21.png" ContentType="image/png"/>
  <Override PartName="/ppt/media/image58.png" ContentType="image/png"/>
  <Override PartName="/ppt/media/image14.png" ContentType="image/png"/>
  <Override PartName="/ppt/media/image16.png" ContentType="image/png"/>
  <Override PartName="/ppt/media/image17.png" ContentType="image/png"/>
  <Override PartName="/ppt/media/image20.png" ContentType="image/png"/>
  <Override PartName="/ppt/media/image57.png" ContentType="image/png"/>
  <Override PartName="/ppt/media/image22.png" ContentType="image/png"/>
  <Override PartName="/ppt/media/image59.png" ContentType="image/png"/>
  <Override PartName="/ppt/media/image24.png" ContentType="image/png"/>
  <Override PartName="/ppt/media/image72.png" ContentType="image/png"/>
  <Override PartName="/ppt/media/image23.png" ContentType="image/png"/>
  <Override PartName="/ppt/media/image60.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2.jpeg" ContentType="image/jpeg"/>
  <Override PartName="/ppt/media/image31.png" ContentType="image/png"/>
  <Override PartName="/ppt/media/image67.png" ContentType="image/png"/>
  <Override PartName="/ppt/media/image30.png" ContentType="image/png"/>
  <Override PartName="/ppt/media/image41.png" ContentType="image/png"/>
  <Override PartName="/ppt/media/image3.jpeg" ContentType="image/jpeg"/>
  <Override PartName="/ppt/media/image66.png" ContentType="image/png"/>
  <Override PartName="/ppt/media/image27.png" ContentType="image/png"/>
  <Override PartName="/ppt/media/image64.png" ContentType="image/png"/>
  <Override PartName="/ppt/media/image26.png" ContentType="image/png"/>
  <Override PartName="/ppt/media/image63.png" ContentType="image/png"/>
  <Override PartName="/ppt/media/image65.png" ContentType="image/png"/>
  <Override PartName="/ppt/media/image62.png" ContentType="image/png"/>
  <Override PartName="/ppt/media/image15.png" ContentType="image/png"/>
  <Override PartName="/ppt/media/image25.png" ContentType="image/png"/>
  <Override PartName="/ppt/media/image40.png" ContentType="image/png"/>
  <Override PartName="/ppt/media/image61.png" ContentType="image/png"/>
  <Override PartName="/ppt/media/image5.jpeg" ContentType="image/jpeg"/>
  <Override PartName="/ppt/media/image50.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3.png" ContentType="image/png"/>
  <Override PartName="/ppt/media/image34.png" ContentType="image/png"/>
  <Override PartName="/ppt/media/image35.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07875-EB2B-4E0F-86B3-88BC8C637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FDE1E-03A8-46DE-982A-C5624840E1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F43697-C759-4423-8D15-324A1931A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6351D9-FD33-43DC-BC50-880047262A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C073C3-05D0-48C2-8156-BC8F00D315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D46A24-F60A-40ED-9CCA-C048AA196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356CF1-98F9-42A6-BE70-B8E8F6A09D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E1A76-8640-4A9B-834C-CD94B134F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D58551-7797-43BE-AA39-FF8C1EBAA1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4CBBF8-0C6C-4127-9EEF-DD3553351A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E2F0B7-6E1C-47C2-87FB-57D76EEAB5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B288C-11ED-4137-90AF-06C377440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86532A-E330-481C-AB64-608E7A446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E08DD7-F654-44B2-9A9F-48AF9A5490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C6A461-1D3B-47D7-A6C9-4F2BDD1B13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7F40F8-AC39-48E3-B22E-200B9042671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6718B7-AB91-44D4-A471-282EE28003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8F76A2-374C-4C84-90C2-1A3314B5472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F52C81-F0DA-4EFD-8E36-4310F6D1AE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1E3BD12-1488-4F41-B643-0383D9E7E2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0F0E2BE-D8AA-4632-9DC1-8E089551F8D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DAC81DE-B139-4CF2-A372-CFCC7966E8F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62906-5518-4D45-9320-BF7DFC29D4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EA561C-4863-4CFB-9EED-FC30F75012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A0E788-A134-4A0D-863A-78E9F6A8D2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8A17D7-853A-437A-B1CD-E0BDF482944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F59DFE-2658-4422-9011-B3CA0A8038C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2CE945-AC3F-4BB6-B289-E2B95133F3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9FA4EEF-8DAB-494B-B36F-F57D26B333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9012FD2-45C3-4115-8EAE-C4154A66FF3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02461A5-F25B-4741-8668-375A2CFFCB1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CB6F88D-7150-42C7-994D-7C8D2DDDB0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75F127B-1B1E-4B0C-B248-FA320A660E6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955B6A-E861-404C-AF43-B1775F16E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701E571-1523-453F-8C6E-B30965388FA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DFE6284-92FF-45BD-A911-C71FC2D4D8B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AC98D46-369A-4B2D-8B62-3F6E1E1556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0FA503-6B99-46E2-AE40-A08F9F5EE0F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027CC-6B41-4012-B262-5C0358038B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E4DBA1C-44FC-446D-85E1-DF7C0080DE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EC9F61-E6C5-46DD-85CA-71859DCC71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BAA630B-811F-47EE-B4F6-DB86FD18F3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39CBF06-6F98-4CD0-980C-F3861CB0652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91997-7B79-4C35-9194-70DCBA8112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205252-390A-4431-90E4-E6E949DCF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49B03-5A15-46BC-9033-8B599C1065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5B4E31-3529-4630-A651-A60CC22393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4E0B9B-C797-47B7-B5C5-9ACD70BB52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5.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4026B9-5A9E-466C-B5EA-47B97C6B45E6}"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428760" y="260280"/>
            <a:ext cx="822960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4d39"/>
                </a:solidFill>
                <a:latin typeface="Arial Black"/>
              </a:rPr>
              <a:t>Click to edit the title text format</a:t>
            </a:r>
            <a:endParaRPr b="0" lang="en-US" sz="3600" spc="-1" strike="noStrike">
              <a:solidFill>
                <a:srgbClr val="194d39"/>
              </a:solidFill>
              <a:latin typeface="Arial Black"/>
            </a:endParaRPr>
          </a:p>
        </p:txBody>
      </p:sp>
      <p:sp>
        <p:nvSpPr>
          <p:cNvPr id="40" name="PlaceHolder 2"/>
          <p:cNvSpPr>
            <a:spLocks noGrp="1"/>
          </p:cNvSpPr>
          <p:nvPr>
            <p:ph type="body"/>
          </p:nvPr>
        </p:nvSpPr>
        <p:spPr>
          <a:xfrm>
            <a:off x="457200" y="12668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4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FD480-8070-4AB8-9C0B-AEB945DC13F2}"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0" name="PlaceHolder 1"/>
          <p:cNvSpPr>
            <a:spLocks noGrp="1"/>
          </p:cNvSpPr>
          <p:nvPr>
            <p:ph type="body"/>
          </p:nvPr>
        </p:nvSpPr>
        <p:spPr>
          <a:xfrm>
            <a:off x="457200" y="12668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81" name="PlaceHolder 2"/>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 name="PlaceHolder 3"/>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 name="PlaceHolder 4"/>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74C3-484F-48F2-A2D0-95F63038936F}"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
        <p:nvSpPr>
          <p:cNvPr id="84" name="PlaceHolder 5"/>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4d39"/>
                </a:solidFill>
                <a:latin typeface="Arial Black"/>
              </a:rPr>
              <a:t>Click to edit the title text format</a:t>
            </a:r>
            <a:endParaRPr b="0" lang="en-US" sz="3600" spc="-1" strike="noStrike">
              <a:solidFill>
                <a:srgbClr val="194d39"/>
              </a:solidFill>
              <a:latin typeface="Arial Black"/>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1" name="PlaceHolder 1"/>
          <p:cNvSpPr>
            <a:spLocks noGrp="1"/>
          </p:cNvSpPr>
          <p:nvPr>
            <p:ph type="body"/>
          </p:nvPr>
        </p:nvSpPr>
        <p:spPr>
          <a:xfrm>
            <a:off x="457200" y="12682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 name="PlaceHolder 2"/>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3"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24" name="PlaceHolder 4"/>
          <p:cNvSpPr>
            <a:spLocks noGrp="1"/>
          </p:cNvSpPr>
          <p:nvPr>
            <p:ph type="title"/>
          </p:nvPr>
        </p:nvSpPr>
        <p:spPr>
          <a:xfrm>
            <a:off x="428760" y="258480"/>
            <a:ext cx="8229600" cy="331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94d39"/>
                </a:solidFill>
                <a:latin typeface="Arial Black"/>
              </a:rPr>
              <a:t>Click to edit the title text format</a:t>
            </a:r>
            <a:endParaRPr b="0" lang="en-US" sz="3600" spc="-1" strike="noStrike">
              <a:solidFill>
                <a:srgbClr val="194d39"/>
              </a:solidFill>
              <a:latin typeface="Arial Black"/>
            </a:endParaRPr>
          </a:p>
        </p:txBody>
      </p:sp>
      <p:sp>
        <p:nvSpPr>
          <p:cNvPr id="125"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09C98-7F80-4362-9915-CE1589B66674}" type="slidenum">
              <a:rPr b="0" lang="en-US" sz="1400" spc="-1" strike="noStrike">
                <a:solidFill>
                  <a:srgbClr val="000000"/>
                </a:solidFill>
                <a:latin typeface="Gulim"/>
              </a:rPr>
              <a:t>&lt;number&gt;</a:t>
            </a:fld>
            <a:endParaRPr b="0" lang="en-US" sz="14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86920" y="333360"/>
            <a:ext cx="6823080" cy="331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Click to edit the title text format</a:t>
            </a:r>
            <a:endParaRPr b="0" lang="en-US" sz="3600" spc="-1" strike="noStrike">
              <a:solidFill>
                <a:srgbClr val="000000"/>
              </a:solidFill>
              <a:latin typeface="Arial Black"/>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image" Target="../media/image29.png"/><Relationship Id="rId7" Type="http://schemas.openxmlformats.org/officeDocument/2006/relationships/image" Target="../media/image30.png"/><Relationship Id="rId8"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2.png"/><Relationship Id="rId8" Type="http://schemas.openxmlformats.org/officeDocument/2006/relationships/image" Target="../media/image43.png"/><Relationship Id="rId9" Type="http://schemas.openxmlformats.org/officeDocument/2006/relationships/image" Target="../media/image44.png"/><Relationship Id="rId10"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image" Target="../media/image54.png"/><Relationship Id="rId8" Type="http://schemas.openxmlformats.org/officeDocument/2006/relationships/image" Target="../media/image55.png"/><Relationship Id="rId9" Type="http://schemas.openxmlformats.org/officeDocument/2006/relationships/image" Target="../media/image56.png"/><Relationship Id="rId10" Type="http://schemas.openxmlformats.org/officeDocument/2006/relationships/image" Target="../media/image57.png"/><Relationship Id="rId1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8.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image" Target="../media/image59.png"/><Relationship Id="rId6" Type="http://schemas.openxmlformats.org/officeDocument/2006/relationships/image" Target="../media/image59.png"/><Relationship Id="rId7"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image" Target="../media/image67.png"/><Relationship Id="rId6" Type="http://schemas.openxmlformats.org/officeDocument/2006/relationships/image" Target="../media/image68.png"/><Relationship Id="rId7" Type="http://schemas.openxmlformats.org/officeDocument/2006/relationships/image" Target="../media/image69.png"/><Relationship Id="rId8" Type="http://schemas.openxmlformats.org/officeDocument/2006/relationships/image" Target="../media/image70.png"/><Relationship Id="rId9" Type="http://schemas.openxmlformats.org/officeDocument/2006/relationships/image" Target="../media/image71.png"/><Relationship Id="rId10" Type="http://schemas.openxmlformats.org/officeDocument/2006/relationships/image" Target="../media/image72.png"/><Relationship Id="rId11" Type="http://schemas.openxmlformats.org/officeDocument/2006/relationships/image" Target="../media/image72.png"/><Relationship Id="rId12" Type="http://schemas.openxmlformats.org/officeDocument/2006/relationships/image" Target="../media/image72.png"/><Relationship Id="rId13" Type="http://schemas.openxmlformats.org/officeDocument/2006/relationships/image" Target="../media/image72.png"/><Relationship Id="rId14" Type="http://schemas.openxmlformats.org/officeDocument/2006/relationships/image" Target="../media/image72.png"/><Relationship Id="rId15" Type="http://schemas.openxmlformats.org/officeDocument/2006/relationships/image" Target="../media/image72.png"/><Relationship Id="rId16"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6.png"/><Relationship Id="rId7" Type="http://schemas.openxmlformats.org/officeDocument/2006/relationships/image" Target="../media/image14.png"/><Relationship Id="rId8" Type="http://schemas.openxmlformats.org/officeDocument/2006/relationships/image" Target="../media/image17.png"/><Relationship Id="rId9" Type="http://schemas.openxmlformats.org/officeDocument/2006/relationships/image" Target="../media/image14.png"/><Relationship Id="rId10"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Rectangle 14" descr=""/>
          <p:cNvPicPr/>
          <p:nvPr/>
        </p:nvPicPr>
        <p:blipFill>
          <a:blip r:embed="rId1"/>
          <a:stretch/>
        </p:blipFill>
        <p:spPr>
          <a:xfrm>
            <a:off x="1225440" y="3340080"/>
            <a:ext cx="5370480" cy="1970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75" descr="Untitled-1"/>
          <p:cNvPicPr/>
          <p:nvPr/>
        </p:nvPicPr>
        <p:blipFill>
          <a:blip r:embed="rId1"/>
          <a:stretch/>
        </p:blipFill>
        <p:spPr>
          <a:xfrm>
            <a:off x="1414440" y="2408400"/>
            <a:ext cx="749160" cy="865080"/>
          </a:xfrm>
          <a:prstGeom prst="rect">
            <a:avLst/>
          </a:prstGeom>
          <a:ln w="0">
            <a:noFill/>
          </a:ln>
        </p:spPr>
      </p:pic>
      <p:pic>
        <p:nvPicPr>
          <p:cNvPr id="368" name="Picture 276" descr="Untitled-1"/>
          <p:cNvPicPr/>
          <p:nvPr/>
        </p:nvPicPr>
        <p:blipFill>
          <a:blip r:embed="rId2"/>
          <a:stretch/>
        </p:blipFill>
        <p:spPr>
          <a:xfrm>
            <a:off x="1700280" y="3408480"/>
            <a:ext cx="750960" cy="865080"/>
          </a:xfrm>
          <a:prstGeom prst="rect">
            <a:avLst/>
          </a:prstGeom>
          <a:ln w="0">
            <a:noFill/>
          </a:ln>
        </p:spPr>
      </p:pic>
      <p:pic>
        <p:nvPicPr>
          <p:cNvPr id="369" name="Picture 277" descr="Untitled-1"/>
          <p:cNvPicPr/>
          <p:nvPr/>
        </p:nvPicPr>
        <p:blipFill>
          <a:blip r:embed="rId3"/>
          <a:stretch/>
        </p:blipFill>
        <p:spPr>
          <a:xfrm>
            <a:off x="2000160" y="4419720"/>
            <a:ext cx="755640" cy="865080"/>
          </a:xfrm>
          <a:prstGeom prst="rect">
            <a:avLst/>
          </a:prstGeom>
          <a:ln w="0">
            <a:noFill/>
          </a:ln>
        </p:spPr>
      </p:pic>
      <p:grpSp>
        <p:nvGrpSpPr>
          <p:cNvPr id="370" name="Group 5"/>
          <p:cNvGrpSpPr/>
          <p:nvPr/>
        </p:nvGrpSpPr>
        <p:grpSpPr>
          <a:xfrm>
            <a:off x="1630440" y="1484280"/>
            <a:ext cx="6429240" cy="1428480"/>
            <a:chOff x="1630440" y="1484280"/>
            <a:chExt cx="6429240" cy="1428480"/>
          </a:xfrm>
        </p:grpSpPr>
        <p:sp>
          <p:nvSpPr>
            <p:cNvPr id="371" name="모서리가 둥근 직사각형 80"/>
            <p:cNvSpPr/>
            <p:nvPr/>
          </p:nvSpPr>
          <p:spPr>
            <a:xfrm>
              <a:off x="1630440" y="205560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72" name="Group 7"/>
            <p:cNvGrpSpPr/>
            <p:nvPr/>
          </p:nvGrpSpPr>
          <p:grpSpPr>
            <a:xfrm>
              <a:off x="1915920" y="1484280"/>
              <a:ext cx="5506920" cy="1143000"/>
              <a:chOff x="1915920" y="1484280"/>
              <a:chExt cx="5506920" cy="1143000"/>
            </a:xfrm>
          </p:grpSpPr>
          <p:grpSp>
            <p:nvGrpSpPr>
              <p:cNvPr id="373" name="Group 8"/>
              <p:cNvGrpSpPr/>
              <p:nvPr/>
            </p:nvGrpSpPr>
            <p:grpSpPr>
              <a:xfrm>
                <a:off x="2842560" y="1612440"/>
                <a:ext cx="4580280" cy="886320"/>
                <a:chOff x="2842560" y="1612440"/>
                <a:chExt cx="4580280" cy="886320"/>
              </a:xfrm>
            </p:grpSpPr>
            <p:sp>
              <p:nvSpPr>
                <p:cNvPr id="374" name="AutoShape 50"/>
                <p:cNvSpPr/>
                <p:nvPr/>
              </p:nvSpPr>
              <p:spPr>
                <a:xfrm>
                  <a:off x="2842560" y="161244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75" name="AutoShape 51"/>
                <p:cNvSpPr/>
                <p:nvPr/>
              </p:nvSpPr>
              <p:spPr>
                <a:xfrm>
                  <a:off x="2991960" y="166068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76" name="Group 11"/>
              <p:cNvGrpSpPr/>
              <p:nvPr/>
            </p:nvGrpSpPr>
            <p:grpSpPr>
              <a:xfrm>
                <a:off x="1915920" y="1484280"/>
                <a:ext cx="1149120" cy="1143000"/>
                <a:chOff x="1915920" y="1484280"/>
                <a:chExt cx="1149120" cy="1143000"/>
              </a:xfrm>
            </p:grpSpPr>
            <p:grpSp>
              <p:nvGrpSpPr>
                <p:cNvPr id="377" name="Group 12"/>
                <p:cNvGrpSpPr/>
                <p:nvPr/>
              </p:nvGrpSpPr>
              <p:grpSpPr>
                <a:xfrm>
                  <a:off x="1915920" y="1484280"/>
                  <a:ext cx="1149120" cy="1143000"/>
                  <a:chOff x="1915920" y="1484280"/>
                  <a:chExt cx="1149120" cy="1143000"/>
                </a:xfrm>
              </p:grpSpPr>
              <p:grpSp>
                <p:nvGrpSpPr>
                  <p:cNvPr id="378" name="Group 13"/>
                  <p:cNvGrpSpPr/>
                  <p:nvPr/>
                </p:nvGrpSpPr>
                <p:grpSpPr>
                  <a:xfrm>
                    <a:off x="1915920" y="1484280"/>
                    <a:ext cx="1149120" cy="1143000"/>
                    <a:chOff x="1915920" y="1484280"/>
                    <a:chExt cx="1149120" cy="1143000"/>
                  </a:xfrm>
                </p:grpSpPr>
                <p:grpSp>
                  <p:nvGrpSpPr>
                    <p:cNvPr id="379" name="Group 14"/>
                    <p:cNvGrpSpPr/>
                    <p:nvPr/>
                  </p:nvGrpSpPr>
                  <p:grpSpPr>
                    <a:xfrm>
                      <a:off x="1915920" y="1484280"/>
                      <a:ext cx="1149120" cy="1143000"/>
                      <a:chOff x="1915920" y="1484280"/>
                      <a:chExt cx="1149120" cy="1143000"/>
                    </a:xfrm>
                  </p:grpSpPr>
                  <p:pic>
                    <p:nvPicPr>
                      <p:cNvPr id="380" name="Oval 54" descr=""/>
                      <p:cNvPicPr/>
                      <p:nvPr/>
                    </p:nvPicPr>
                    <p:blipFill>
                      <a:blip r:embed="rId4"/>
                      <a:stretch/>
                    </p:blipFill>
                    <p:spPr>
                      <a:xfrm>
                        <a:off x="1915920" y="1484280"/>
                        <a:ext cx="1149120" cy="1143000"/>
                      </a:xfrm>
                      <a:prstGeom prst="rect">
                        <a:avLst/>
                      </a:prstGeom>
                      <a:ln w="0">
                        <a:noFill/>
                      </a:ln>
                    </p:spPr>
                  </p:pic>
                  <p:sp>
                    <p:nvSpPr>
                      <p:cNvPr id="381" name="Text Box 16"/>
                      <p:cNvSpPr/>
                      <p:nvPr/>
                    </p:nvSpPr>
                    <p:spPr>
                      <a:xfrm>
                        <a:off x="2109240" y="1672200"/>
                        <a:ext cx="630360" cy="62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2" name="Oval 55"/>
                    <p:cNvSpPr/>
                    <p:nvPr/>
                  </p:nvSpPr>
                  <p:spPr>
                    <a:xfrm>
                      <a:off x="2154960" y="1653480"/>
                      <a:ext cx="149400" cy="14760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83" name="Freeform 56"/>
                  <p:cNvSpPr/>
                  <p:nvPr/>
                </p:nvSpPr>
                <p:spPr>
                  <a:xfrm>
                    <a:off x="1976400" y="150228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84" name="WordArt 251"/>
                <p:cNvSpPr txBox="1"/>
                <p:nvPr/>
              </p:nvSpPr>
              <p:spPr>
                <a:xfrm>
                  <a:off x="2089440" y="193752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Gulim"/>
                    </a:rPr>
                    <a:t>2008. 05</a:t>
                  </a:r>
                  <a:endParaRPr b="0" lang="en-US" sz="1400" spc="1" strike="noStrike">
                    <a:ln w="0">
                      <a:noFill/>
                    </a:ln>
                    <a:solidFill>
                      <a:srgbClr val="ffffff"/>
                    </a:solidFill>
                    <a:effectLst>
                      <a:outerShdw dist="17819" dir="2700000" blurRad="0" rotWithShape="0">
                        <a:srgbClr val="ffffff">
                          <a:alpha val="34000"/>
                        </a:srgbClr>
                      </a:outerShdw>
                    </a:effectLst>
                    <a:latin typeface="Gulim"/>
                    <a:ea typeface="Gulim"/>
                  </a:endParaRPr>
                </a:p>
              </p:txBody>
            </p:sp>
          </p:grpSp>
        </p:grpSp>
      </p:grpSp>
      <p:sp>
        <p:nvSpPr>
          <p:cNvPr id="385" name="모서리가 둥근 직사각형 83"/>
          <p:cNvSpPr/>
          <p:nvPr/>
        </p:nvSpPr>
        <p:spPr>
          <a:xfrm>
            <a:off x="1979640" y="3000240"/>
            <a:ext cx="6429240" cy="85752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86" name="Group 21"/>
          <p:cNvGrpSpPr/>
          <p:nvPr/>
        </p:nvGrpSpPr>
        <p:grpSpPr>
          <a:xfrm>
            <a:off x="2273400" y="2484360"/>
            <a:ext cx="5506920" cy="1143000"/>
            <a:chOff x="2273400" y="2484360"/>
            <a:chExt cx="5506920" cy="1143000"/>
          </a:xfrm>
        </p:grpSpPr>
        <p:grpSp>
          <p:nvGrpSpPr>
            <p:cNvPr id="387" name="Group 22"/>
            <p:cNvGrpSpPr/>
            <p:nvPr/>
          </p:nvGrpSpPr>
          <p:grpSpPr>
            <a:xfrm>
              <a:off x="3200040" y="2612520"/>
              <a:ext cx="4580280" cy="886320"/>
              <a:chOff x="3200040" y="2612520"/>
              <a:chExt cx="4580280" cy="886320"/>
            </a:xfrm>
          </p:grpSpPr>
          <p:sp>
            <p:nvSpPr>
              <p:cNvPr id="388" name="AutoShape 50"/>
              <p:cNvSpPr/>
              <p:nvPr/>
            </p:nvSpPr>
            <p:spPr>
              <a:xfrm>
                <a:off x="3200040" y="261252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389" name="AutoShape 51"/>
              <p:cNvSpPr/>
              <p:nvPr/>
            </p:nvSpPr>
            <p:spPr>
              <a:xfrm>
                <a:off x="3349440" y="266076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90" name="Group 25"/>
            <p:cNvGrpSpPr/>
            <p:nvPr/>
          </p:nvGrpSpPr>
          <p:grpSpPr>
            <a:xfrm>
              <a:off x="2273400" y="2484360"/>
              <a:ext cx="1149120" cy="1143000"/>
              <a:chOff x="2273400" y="2484360"/>
              <a:chExt cx="1149120" cy="1143000"/>
            </a:xfrm>
          </p:grpSpPr>
          <p:grpSp>
            <p:nvGrpSpPr>
              <p:cNvPr id="391" name="Group 26"/>
              <p:cNvGrpSpPr/>
              <p:nvPr/>
            </p:nvGrpSpPr>
            <p:grpSpPr>
              <a:xfrm>
                <a:off x="2273400" y="2484360"/>
                <a:ext cx="1149120" cy="1143000"/>
                <a:chOff x="2273400" y="2484360"/>
                <a:chExt cx="1149120" cy="1143000"/>
              </a:xfrm>
            </p:grpSpPr>
            <p:grpSp>
              <p:nvGrpSpPr>
                <p:cNvPr id="392" name="Group 27"/>
                <p:cNvGrpSpPr/>
                <p:nvPr/>
              </p:nvGrpSpPr>
              <p:grpSpPr>
                <a:xfrm>
                  <a:off x="2273400" y="2484360"/>
                  <a:ext cx="1149120" cy="1143000"/>
                  <a:chOff x="2273400" y="2484360"/>
                  <a:chExt cx="1149120" cy="1143000"/>
                </a:xfrm>
              </p:grpSpPr>
              <p:grpSp>
                <p:nvGrpSpPr>
                  <p:cNvPr id="393" name="Group 28"/>
                  <p:cNvGrpSpPr/>
                  <p:nvPr/>
                </p:nvGrpSpPr>
                <p:grpSpPr>
                  <a:xfrm>
                    <a:off x="2273400" y="2484360"/>
                    <a:ext cx="1149120" cy="1143000"/>
                    <a:chOff x="2273400" y="2484360"/>
                    <a:chExt cx="1149120" cy="1143000"/>
                  </a:xfrm>
                </p:grpSpPr>
                <p:pic>
                  <p:nvPicPr>
                    <p:cNvPr id="394" name="Oval 54" descr=""/>
                    <p:cNvPicPr/>
                    <p:nvPr/>
                  </p:nvPicPr>
                  <p:blipFill>
                    <a:blip r:embed="rId5"/>
                    <a:stretch/>
                  </p:blipFill>
                  <p:spPr>
                    <a:xfrm>
                      <a:off x="2273400" y="2484360"/>
                      <a:ext cx="1149120" cy="1143000"/>
                    </a:xfrm>
                    <a:prstGeom prst="rect">
                      <a:avLst/>
                    </a:prstGeom>
                    <a:ln w="0">
                      <a:noFill/>
                    </a:ln>
                  </p:spPr>
                </p:pic>
                <p:sp>
                  <p:nvSpPr>
                    <p:cNvPr id="395" name="Text Box 30"/>
                    <p:cNvSpPr/>
                    <p:nvPr/>
                  </p:nvSpPr>
                  <p:spPr>
                    <a:xfrm>
                      <a:off x="2465640" y="266832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6" name="Oval 55"/>
                  <p:cNvSpPr/>
                  <p:nvPr/>
                </p:nvSpPr>
                <p:spPr>
                  <a:xfrm>
                    <a:off x="2511360" y="26496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97" name="Freeform 56"/>
                <p:cNvSpPr/>
                <p:nvPr/>
              </p:nvSpPr>
              <p:spPr>
                <a:xfrm>
                  <a:off x="2333880" y="250236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98" name="WordArt 251"/>
              <p:cNvSpPr txBox="1"/>
              <p:nvPr/>
            </p:nvSpPr>
            <p:spPr>
              <a:xfrm>
                <a:off x="2446920" y="293760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Gulim"/>
                  </a:rPr>
                  <a:t>2006. 05</a:t>
                </a:r>
                <a:endParaRPr b="0" lang="en-US" sz="1400" spc="1" strike="noStrike">
                  <a:ln w="0">
                    <a:noFill/>
                  </a:ln>
                  <a:solidFill>
                    <a:srgbClr val="ffffff"/>
                  </a:solidFill>
                  <a:effectLst>
                    <a:outerShdw dist="17819" dir="2700000" blurRad="0" rotWithShape="0">
                      <a:srgbClr val="ffffff">
                        <a:alpha val="34000"/>
                      </a:srgbClr>
                    </a:outerShdw>
                  </a:effectLst>
                  <a:latin typeface="Gulim"/>
                  <a:ea typeface="Gulim"/>
                </a:endParaRPr>
              </a:p>
            </p:txBody>
          </p:sp>
        </p:grpSp>
      </p:grpSp>
      <p:grpSp>
        <p:nvGrpSpPr>
          <p:cNvPr id="399" name="Group 34"/>
          <p:cNvGrpSpPr/>
          <p:nvPr/>
        </p:nvGrpSpPr>
        <p:grpSpPr>
          <a:xfrm>
            <a:off x="2273400" y="3484440"/>
            <a:ext cx="6429240" cy="1428480"/>
            <a:chOff x="2273400" y="3484440"/>
            <a:chExt cx="6429240" cy="1428480"/>
          </a:xfrm>
        </p:grpSpPr>
        <p:sp>
          <p:nvSpPr>
            <p:cNvPr id="400" name="모서리가 둥근 직사각형 96"/>
            <p:cNvSpPr/>
            <p:nvPr/>
          </p:nvSpPr>
          <p:spPr>
            <a:xfrm>
              <a:off x="2273400" y="4055760"/>
              <a:ext cx="642924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01" name="Group 36"/>
            <p:cNvGrpSpPr/>
            <p:nvPr/>
          </p:nvGrpSpPr>
          <p:grpSpPr>
            <a:xfrm>
              <a:off x="2558880" y="3484440"/>
              <a:ext cx="5506920" cy="1143000"/>
              <a:chOff x="2558880" y="3484440"/>
              <a:chExt cx="5506920" cy="1143000"/>
            </a:xfrm>
          </p:grpSpPr>
          <p:grpSp>
            <p:nvGrpSpPr>
              <p:cNvPr id="402" name="Group 37"/>
              <p:cNvGrpSpPr/>
              <p:nvPr/>
            </p:nvGrpSpPr>
            <p:grpSpPr>
              <a:xfrm>
                <a:off x="3485520" y="3612600"/>
                <a:ext cx="4580280" cy="886320"/>
                <a:chOff x="3485520" y="3612600"/>
                <a:chExt cx="4580280" cy="886320"/>
              </a:xfrm>
            </p:grpSpPr>
            <p:sp>
              <p:nvSpPr>
                <p:cNvPr id="403" name="AutoShape 50"/>
                <p:cNvSpPr/>
                <p:nvPr/>
              </p:nvSpPr>
              <p:spPr>
                <a:xfrm>
                  <a:off x="3485520" y="3612600"/>
                  <a:ext cx="458028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04" name="AutoShape 51"/>
                <p:cNvSpPr/>
                <p:nvPr/>
              </p:nvSpPr>
              <p:spPr>
                <a:xfrm>
                  <a:off x="3634920" y="3660840"/>
                  <a:ext cx="428796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05" name="Group 40"/>
              <p:cNvGrpSpPr/>
              <p:nvPr/>
            </p:nvGrpSpPr>
            <p:grpSpPr>
              <a:xfrm>
                <a:off x="2558880" y="3484440"/>
                <a:ext cx="1149120" cy="1143000"/>
                <a:chOff x="2558880" y="3484440"/>
                <a:chExt cx="1149120" cy="1143000"/>
              </a:xfrm>
            </p:grpSpPr>
            <p:grpSp>
              <p:nvGrpSpPr>
                <p:cNvPr id="406" name="Group 41"/>
                <p:cNvGrpSpPr/>
                <p:nvPr/>
              </p:nvGrpSpPr>
              <p:grpSpPr>
                <a:xfrm>
                  <a:off x="2558880" y="3484440"/>
                  <a:ext cx="1149120" cy="1143000"/>
                  <a:chOff x="2558880" y="3484440"/>
                  <a:chExt cx="1149120" cy="1143000"/>
                </a:xfrm>
              </p:grpSpPr>
              <p:grpSp>
                <p:nvGrpSpPr>
                  <p:cNvPr id="407" name="Group 42"/>
                  <p:cNvGrpSpPr/>
                  <p:nvPr/>
                </p:nvGrpSpPr>
                <p:grpSpPr>
                  <a:xfrm>
                    <a:off x="2558880" y="3484440"/>
                    <a:ext cx="1149120" cy="1143000"/>
                    <a:chOff x="2558880" y="3484440"/>
                    <a:chExt cx="1149120" cy="1143000"/>
                  </a:xfrm>
                </p:grpSpPr>
                <p:grpSp>
                  <p:nvGrpSpPr>
                    <p:cNvPr id="408" name="Group 43"/>
                    <p:cNvGrpSpPr/>
                    <p:nvPr/>
                  </p:nvGrpSpPr>
                  <p:grpSpPr>
                    <a:xfrm>
                      <a:off x="2558880" y="3484440"/>
                      <a:ext cx="1149120" cy="1143000"/>
                      <a:chOff x="2558880" y="3484440"/>
                      <a:chExt cx="1149120" cy="1143000"/>
                    </a:xfrm>
                  </p:grpSpPr>
                  <p:pic>
                    <p:nvPicPr>
                      <p:cNvPr id="409" name="Oval 54" descr=""/>
                      <p:cNvPicPr/>
                      <p:nvPr/>
                    </p:nvPicPr>
                    <p:blipFill>
                      <a:blip r:embed="rId6"/>
                      <a:stretch/>
                    </p:blipFill>
                    <p:spPr>
                      <a:xfrm>
                        <a:off x="2558880" y="3484440"/>
                        <a:ext cx="1149120" cy="1143000"/>
                      </a:xfrm>
                      <a:prstGeom prst="rect">
                        <a:avLst/>
                      </a:prstGeom>
                      <a:ln w="0">
                        <a:noFill/>
                      </a:ln>
                    </p:spPr>
                  </p:pic>
                  <p:sp>
                    <p:nvSpPr>
                      <p:cNvPr id="410" name="Text Box 45"/>
                      <p:cNvSpPr/>
                      <p:nvPr/>
                    </p:nvSpPr>
                    <p:spPr>
                      <a:xfrm>
                        <a:off x="2750760" y="366876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1" name="Oval 55"/>
                    <p:cNvSpPr/>
                    <p:nvPr/>
                  </p:nvSpPr>
                  <p:spPr>
                    <a:xfrm>
                      <a:off x="2796120" y="365040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12" name="Freeform 56"/>
                  <p:cNvSpPr/>
                  <p:nvPr/>
                </p:nvSpPr>
                <p:spPr>
                  <a:xfrm>
                    <a:off x="2619360" y="350244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13" name="WordArt 251"/>
                <p:cNvSpPr txBox="1"/>
                <p:nvPr/>
              </p:nvSpPr>
              <p:spPr>
                <a:xfrm>
                  <a:off x="2732400" y="393768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Gulim"/>
                    </a:rPr>
                    <a:t>2004. 05</a:t>
                  </a:r>
                  <a:endParaRPr b="0" lang="en-US" sz="1400" spc="1" strike="noStrike">
                    <a:ln w="0">
                      <a:noFill/>
                    </a:ln>
                    <a:solidFill>
                      <a:srgbClr val="ffffff"/>
                    </a:solidFill>
                    <a:effectLst>
                      <a:outerShdw dist="17819" dir="2700000" blurRad="0" rotWithShape="0">
                        <a:srgbClr val="ffffff">
                          <a:alpha val="34000"/>
                        </a:srgbClr>
                      </a:outerShdw>
                    </a:effectLst>
                    <a:latin typeface="Gulim"/>
                    <a:ea typeface="Gulim"/>
                  </a:endParaRPr>
                </a:p>
              </p:txBody>
            </p:sp>
          </p:grpSp>
        </p:grpSp>
      </p:grpSp>
      <p:grpSp>
        <p:nvGrpSpPr>
          <p:cNvPr id="414" name="Group 49"/>
          <p:cNvGrpSpPr/>
          <p:nvPr/>
        </p:nvGrpSpPr>
        <p:grpSpPr>
          <a:xfrm>
            <a:off x="2558880" y="4484520"/>
            <a:ext cx="6429600" cy="1428480"/>
            <a:chOff x="2558880" y="4484520"/>
            <a:chExt cx="6429600" cy="1428480"/>
          </a:xfrm>
        </p:grpSpPr>
        <p:sp>
          <p:nvSpPr>
            <p:cNvPr id="415" name="모서리가 둥근 직사각형 109"/>
            <p:cNvSpPr/>
            <p:nvPr/>
          </p:nvSpPr>
          <p:spPr>
            <a:xfrm>
              <a:off x="2558880" y="5055840"/>
              <a:ext cx="6429600" cy="857160"/>
            </a:xfrm>
            <a:prstGeom prst="roundRect">
              <a:avLst>
                <a:gd name="adj" fmla="val 16667"/>
              </a:avLst>
            </a:prstGeom>
            <a:gradFill rotWithShape="0">
              <a:gsLst>
                <a:gs pos="0">
                  <a:srgbClr val="000000">
                    <a:alpha val="43137"/>
                  </a:srgbClr>
                </a:gs>
                <a:gs pos="100000">
                  <a:srgbClr val="ffffff">
                    <a:alpha val="0"/>
                  </a:srgbClr>
                </a:gs>
              </a:gsLst>
              <a:path path="rect">
                <a:fillToRect l="50000" t="50000" r="50000" b="50000"/>
              </a:path>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16" name="Group 51"/>
            <p:cNvGrpSpPr/>
            <p:nvPr/>
          </p:nvGrpSpPr>
          <p:grpSpPr>
            <a:xfrm>
              <a:off x="2844360" y="4484520"/>
              <a:ext cx="5507280" cy="1143000"/>
              <a:chOff x="2844360" y="4484520"/>
              <a:chExt cx="5507280" cy="1143000"/>
            </a:xfrm>
          </p:grpSpPr>
          <p:grpSp>
            <p:nvGrpSpPr>
              <p:cNvPr id="417" name="Group 52"/>
              <p:cNvGrpSpPr/>
              <p:nvPr/>
            </p:nvGrpSpPr>
            <p:grpSpPr>
              <a:xfrm>
                <a:off x="3771000" y="4612680"/>
                <a:ext cx="4580640" cy="886320"/>
                <a:chOff x="3771000" y="4612680"/>
                <a:chExt cx="4580640" cy="886320"/>
              </a:xfrm>
            </p:grpSpPr>
            <p:sp>
              <p:nvSpPr>
                <p:cNvPr id="418" name="AutoShape 50"/>
                <p:cNvSpPr/>
                <p:nvPr/>
              </p:nvSpPr>
              <p:spPr>
                <a:xfrm>
                  <a:off x="3771000" y="4612680"/>
                  <a:ext cx="4580640" cy="886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419" name="AutoShape 51"/>
                <p:cNvSpPr/>
                <p:nvPr/>
              </p:nvSpPr>
              <p:spPr>
                <a:xfrm>
                  <a:off x="3920400" y="4660920"/>
                  <a:ext cx="4288320" cy="416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90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420" name="Group 55"/>
              <p:cNvGrpSpPr/>
              <p:nvPr/>
            </p:nvGrpSpPr>
            <p:grpSpPr>
              <a:xfrm>
                <a:off x="2844360" y="4484520"/>
                <a:ext cx="1149120" cy="1143000"/>
                <a:chOff x="2844360" y="4484520"/>
                <a:chExt cx="1149120" cy="1143000"/>
              </a:xfrm>
            </p:grpSpPr>
            <p:grpSp>
              <p:nvGrpSpPr>
                <p:cNvPr id="421" name="Group 56"/>
                <p:cNvGrpSpPr/>
                <p:nvPr/>
              </p:nvGrpSpPr>
              <p:grpSpPr>
                <a:xfrm>
                  <a:off x="2844360" y="4484520"/>
                  <a:ext cx="1149120" cy="1143000"/>
                  <a:chOff x="2844360" y="4484520"/>
                  <a:chExt cx="1149120" cy="1143000"/>
                </a:xfrm>
              </p:grpSpPr>
              <p:grpSp>
                <p:nvGrpSpPr>
                  <p:cNvPr id="422" name="Group 57"/>
                  <p:cNvGrpSpPr/>
                  <p:nvPr/>
                </p:nvGrpSpPr>
                <p:grpSpPr>
                  <a:xfrm>
                    <a:off x="2844360" y="4484520"/>
                    <a:ext cx="1149120" cy="1143000"/>
                    <a:chOff x="2844360" y="4484520"/>
                    <a:chExt cx="1149120" cy="1143000"/>
                  </a:xfrm>
                </p:grpSpPr>
                <p:grpSp>
                  <p:nvGrpSpPr>
                    <p:cNvPr id="423" name="Group 58"/>
                    <p:cNvGrpSpPr/>
                    <p:nvPr/>
                  </p:nvGrpSpPr>
                  <p:grpSpPr>
                    <a:xfrm>
                      <a:off x="2844360" y="4484520"/>
                      <a:ext cx="1149120" cy="1143000"/>
                      <a:chOff x="2844360" y="4484520"/>
                      <a:chExt cx="1149120" cy="1143000"/>
                    </a:xfrm>
                  </p:grpSpPr>
                  <p:pic>
                    <p:nvPicPr>
                      <p:cNvPr id="424" name="Oval 54" descr=""/>
                      <p:cNvPicPr/>
                      <p:nvPr/>
                    </p:nvPicPr>
                    <p:blipFill>
                      <a:blip r:embed="rId7"/>
                      <a:stretch/>
                    </p:blipFill>
                    <p:spPr>
                      <a:xfrm>
                        <a:off x="2844360" y="4484520"/>
                        <a:ext cx="1149120" cy="1143000"/>
                      </a:xfrm>
                      <a:prstGeom prst="rect">
                        <a:avLst/>
                      </a:prstGeom>
                      <a:ln w="0">
                        <a:noFill/>
                      </a:ln>
                    </p:spPr>
                  </p:pic>
                  <p:sp>
                    <p:nvSpPr>
                      <p:cNvPr id="425" name="Text Box 60"/>
                      <p:cNvSpPr/>
                      <p:nvPr/>
                    </p:nvSpPr>
                    <p:spPr>
                      <a:xfrm>
                        <a:off x="3035520" y="4669200"/>
                        <a:ext cx="632880" cy="626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6" name="Oval 55"/>
                    <p:cNvSpPr/>
                    <p:nvPr/>
                  </p:nvSpPr>
                  <p:spPr>
                    <a:xfrm>
                      <a:off x="3081240" y="4650480"/>
                      <a:ext cx="150120" cy="14832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27" name="Freeform 56"/>
                  <p:cNvSpPr/>
                  <p:nvPr/>
                </p:nvSpPr>
                <p:spPr>
                  <a:xfrm>
                    <a:off x="2904840" y="4502520"/>
                    <a:ext cx="1029600" cy="343440"/>
                  </a:xfrm>
                  <a:custGeom>
                    <a:avLst/>
                    <a:gdLst>
                      <a:gd name="textAreaLeft" fmla="*/ 0 w 1029600"/>
                      <a:gd name="textAreaRight" fmla="*/ 1029960 w 1029600"/>
                      <a:gd name="textAreaTop" fmla="*/ 0 h 343440"/>
                      <a:gd name="textAreaBottom" fmla="*/ 343800 h 3434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28" name="WordArt 251"/>
                <p:cNvSpPr txBox="1"/>
                <p:nvPr/>
              </p:nvSpPr>
              <p:spPr>
                <a:xfrm>
                  <a:off x="3017880" y="4937760"/>
                  <a:ext cx="801720" cy="23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effectLst>
                        <a:outerShdw dist="17819" dir="2700000" blurRad="0" rotWithShape="0">
                          <a:srgbClr val="ffffff">
                            <a:alpha val="34000"/>
                          </a:srgbClr>
                        </a:outerShdw>
                      </a:effectLst>
                      <a:latin typeface="Gulim"/>
                    </a:rPr>
                    <a:t>2001. 05</a:t>
                  </a:r>
                  <a:endParaRPr b="0" lang="en-US" sz="1400" spc="1" strike="noStrike">
                    <a:ln w="0">
                      <a:noFill/>
                    </a:ln>
                    <a:solidFill>
                      <a:srgbClr val="ffffff"/>
                    </a:solidFill>
                    <a:effectLst>
                      <a:outerShdw dist="17819" dir="2700000" blurRad="0" rotWithShape="0">
                        <a:srgbClr val="ffffff">
                          <a:alpha val="34000"/>
                        </a:srgbClr>
                      </a:outerShdw>
                    </a:effectLst>
                    <a:latin typeface="Gulim"/>
                    <a:ea typeface="Gulim"/>
                  </a:endParaRPr>
                </a:p>
              </p:txBody>
            </p:sp>
          </p:grpSp>
        </p:grpSp>
      </p:grpSp>
      <p:sp>
        <p:nvSpPr>
          <p:cNvPr id="429" name="WordArt 230"/>
          <p:cNvSpPr txBox="1"/>
          <p:nvPr/>
        </p:nvSpPr>
        <p:spPr>
          <a:xfrm>
            <a:off x="857160" y="3073320"/>
            <a:ext cx="243000" cy="1150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194d39"/>
                </a:solidFill>
                <a:effectLst>
                  <a:outerShdw dist="17819" dir="2700000" blurRad="0" rotWithShape="0">
                    <a:srgbClr val="000000">
                      <a:alpha val="34000"/>
                    </a:srgbClr>
                  </a:outerShdw>
                </a:effectLst>
                <a:latin typeface="굴림"/>
              </a:rPr>
              <a:t>주</a:t>
            </a:r>
            <a:endParaRPr b="0" lang="en-US" sz="1400" spc="1" strike="noStrike">
              <a:ln w="0">
                <a:noFill/>
              </a:ln>
              <a:solidFill>
                <a:srgbClr val="194d39"/>
              </a:solidFill>
              <a:effectLst>
                <a:outerShdw dist="17819" dir="2700000" blurRad="0" rotWithShape="0">
                  <a:srgbClr val="000000">
                    <a:alpha val="34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194d39"/>
                </a:solidFill>
                <a:effectLst>
                  <a:outerShdw dist="17819" dir="2700000" blurRad="0" rotWithShape="0">
                    <a:srgbClr val="000000">
                      <a:alpha val="34000"/>
                    </a:srgbClr>
                  </a:outerShdw>
                </a:effectLst>
                <a:latin typeface="굴림"/>
              </a:rPr>
              <a:t>요</a:t>
            </a:r>
            <a:endParaRPr b="0" lang="en-US" sz="1400" spc="1" strike="noStrike">
              <a:ln w="0">
                <a:noFill/>
              </a:ln>
              <a:solidFill>
                <a:srgbClr val="194d39"/>
              </a:solidFill>
              <a:effectLst>
                <a:outerShdw dist="17819" dir="2700000" blurRad="0" rotWithShape="0">
                  <a:srgbClr val="000000">
                    <a:alpha val="34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194d39"/>
                </a:solidFill>
                <a:effectLst>
                  <a:outerShdw dist="17819" dir="2700000" blurRad="0" rotWithShape="0">
                    <a:srgbClr val="000000">
                      <a:alpha val="34000"/>
                    </a:srgbClr>
                  </a:outerShdw>
                </a:effectLst>
                <a:latin typeface="굴림"/>
              </a:rPr>
              <a:t>연</a:t>
            </a:r>
            <a:endParaRPr b="0" lang="en-US" sz="1400" spc="1" strike="noStrike">
              <a:ln w="0">
                <a:noFill/>
              </a:ln>
              <a:solidFill>
                <a:srgbClr val="194d39"/>
              </a:solidFill>
              <a:effectLst>
                <a:outerShdw dist="17819" dir="2700000" blurRad="0" rotWithShape="0">
                  <a:srgbClr val="000000">
                    <a:alpha val="34000"/>
                  </a:srgbClr>
                </a:outerShdw>
              </a:effectLst>
              <a:latin typeface="굴림"/>
              <a:ea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ln w="0">
                  <a:noFill/>
                </a:ln>
                <a:solidFill>
                  <a:srgbClr val="194d39"/>
                </a:solidFill>
                <a:effectLst>
                  <a:outerShdw dist="17819" dir="2700000" blurRad="0" rotWithShape="0">
                    <a:srgbClr val="000000">
                      <a:alpha val="34000"/>
                    </a:srgbClr>
                  </a:outerShdw>
                </a:effectLst>
                <a:latin typeface="굴림"/>
              </a:rPr>
              <a:t>혁</a:t>
            </a:r>
            <a:endParaRPr b="0" lang="en-US" sz="1400" spc="1" strike="noStrike">
              <a:ln w="0">
                <a:noFill/>
              </a:ln>
              <a:solidFill>
                <a:srgbClr val="194d39"/>
              </a:solidFill>
              <a:effectLst>
                <a:outerShdw dist="17819" dir="2700000" blurRad="0" rotWithShape="0">
                  <a:srgbClr val="000000">
                    <a:alpha val="34000"/>
                  </a:srgbClr>
                </a:outerShdw>
              </a:effectLst>
              <a:latin typeface="굴림"/>
              <a:ea typeface="굴림"/>
            </a:endParaRPr>
          </a:p>
        </p:txBody>
      </p:sp>
      <p:sp>
        <p:nvSpPr>
          <p:cNvPr id="430" name="Line 231"/>
          <p:cNvSpPr/>
          <p:nvPr/>
        </p:nvSpPr>
        <p:spPr>
          <a:xfrm flipV="1">
            <a:off x="1201680" y="1884240"/>
            <a:ext cx="4680" cy="3672000"/>
          </a:xfrm>
          <a:prstGeom prst="line">
            <a:avLst/>
          </a:prstGeom>
          <a:ln w="15840">
            <a:solidFill>
              <a:srgbClr val="194d39"/>
            </a:solidFill>
            <a:prstDash val="dash"/>
            <a:miter/>
            <a:head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31"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2" name="Group 2"/>
          <p:cNvGrpSpPr/>
          <p:nvPr/>
        </p:nvGrpSpPr>
        <p:grpSpPr>
          <a:xfrm>
            <a:off x="750960" y="1357200"/>
            <a:ext cx="7997760" cy="4735800"/>
            <a:chOff x="750960" y="1357200"/>
            <a:chExt cx="7997760" cy="4735800"/>
          </a:xfrm>
        </p:grpSpPr>
        <p:grpSp>
          <p:nvGrpSpPr>
            <p:cNvPr id="433" name="Group 3"/>
            <p:cNvGrpSpPr/>
            <p:nvPr/>
          </p:nvGrpSpPr>
          <p:grpSpPr>
            <a:xfrm>
              <a:off x="750960" y="1357200"/>
              <a:ext cx="7997760" cy="4735800"/>
              <a:chOff x="750960" y="1357200"/>
              <a:chExt cx="7997760" cy="4735800"/>
            </a:xfrm>
          </p:grpSpPr>
          <p:pic>
            <p:nvPicPr>
              <p:cNvPr id="434" name="AutoShape 127" descr=""/>
              <p:cNvPicPr/>
              <p:nvPr/>
            </p:nvPicPr>
            <p:blipFill>
              <a:blip r:embed="rId1"/>
              <a:stretch/>
            </p:blipFill>
            <p:spPr>
              <a:xfrm>
                <a:off x="750960" y="1357200"/>
                <a:ext cx="7997760" cy="4735800"/>
              </a:xfrm>
              <a:prstGeom prst="rect">
                <a:avLst/>
              </a:prstGeom>
              <a:ln w="0">
                <a:noFill/>
              </a:ln>
            </p:spPr>
          </p:pic>
          <p:sp>
            <p:nvSpPr>
              <p:cNvPr id="435" name="Text Box 5"/>
              <p:cNvSpPr/>
              <p:nvPr/>
            </p:nvSpPr>
            <p:spPr>
              <a:xfrm>
                <a:off x="919080" y="1522080"/>
                <a:ext cx="7488000" cy="4218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36" name="AutoShape 44"/>
            <p:cNvSpPr/>
            <p:nvPr/>
          </p:nvSpPr>
          <p:spPr>
            <a:xfrm>
              <a:off x="471384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7" name="AutoShape 45"/>
            <p:cNvSpPr/>
            <p:nvPr/>
          </p:nvSpPr>
          <p:spPr>
            <a:xfrm>
              <a:off x="1075680" y="170496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8" name="AutoShape 46"/>
            <p:cNvSpPr/>
            <p:nvPr/>
          </p:nvSpPr>
          <p:spPr>
            <a:xfrm>
              <a:off x="11473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39" name="AutoShape 47"/>
            <p:cNvSpPr/>
            <p:nvPr/>
          </p:nvSpPr>
          <p:spPr>
            <a:xfrm>
              <a:off x="471384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0" name="AutoShape 48"/>
            <p:cNvSpPr/>
            <p:nvPr/>
          </p:nvSpPr>
          <p:spPr>
            <a:xfrm>
              <a:off x="1075680" y="3717000"/>
              <a:ext cx="3494880" cy="1866240"/>
            </a:xfrm>
            <a:prstGeom prst="roundRect">
              <a:avLst>
                <a:gd name="adj" fmla="val 8579"/>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1" name="AutoShape 49"/>
            <p:cNvSpPr/>
            <p:nvPr/>
          </p:nvSpPr>
          <p:spPr>
            <a:xfrm>
              <a:off x="4786920" y="177804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2" name="AutoShape 50"/>
            <p:cNvSpPr/>
            <p:nvPr/>
          </p:nvSpPr>
          <p:spPr>
            <a:xfrm>
              <a:off x="11473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3" name="AutoShape 51"/>
            <p:cNvSpPr/>
            <p:nvPr/>
          </p:nvSpPr>
          <p:spPr>
            <a:xfrm>
              <a:off x="4786920" y="3788280"/>
              <a:ext cx="3350520" cy="609120"/>
            </a:xfrm>
            <a:prstGeom prst="roundRect">
              <a:avLst>
                <a:gd name="adj" fmla="val 16884"/>
              </a:avLst>
            </a:pr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4" name="Oval 52"/>
            <p:cNvSpPr/>
            <p:nvPr/>
          </p:nvSpPr>
          <p:spPr>
            <a:xfrm>
              <a:off x="2840760" y="1848960"/>
              <a:ext cx="3603240" cy="358992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45" name="Group 15"/>
            <p:cNvGrpSpPr/>
            <p:nvPr/>
          </p:nvGrpSpPr>
          <p:grpSpPr>
            <a:xfrm>
              <a:off x="3487320" y="2494800"/>
              <a:ext cx="2316240" cy="2295000"/>
              <a:chOff x="3487320" y="2494800"/>
              <a:chExt cx="2316240" cy="2295000"/>
            </a:xfrm>
          </p:grpSpPr>
          <p:grpSp>
            <p:nvGrpSpPr>
              <p:cNvPr id="446" name="Group 16"/>
              <p:cNvGrpSpPr/>
              <p:nvPr/>
            </p:nvGrpSpPr>
            <p:grpSpPr>
              <a:xfrm>
                <a:off x="3487320" y="2494800"/>
                <a:ext cx="2316240" cy="2295000"/>
                <a:chOff x="3487320" y="2494800"/>
                <a:chExt cx="2316240" cy="2295000"/>
              </a:xfrm>
            </p:grpSpPr>
            <p:pic>
              <p:nvPicPr>
                <p:cNvPr id="447" name="Oval 54" descr=""/>
                <p:cNvPicPr/>
                <p:nvPr/>
              </p:nvPicPr>
              <p:blipFill>
                <a:blip r:embed="rId2"/>
                <a:stretch/>
              </p:blipFill>
              <p:spPr>
                <a:xfrm>
                  <a:off x="3487320" y="2494800"/>
                  <a:ext cx="2316240" cy="2295000"/>
                </a:xfrm>
                <a:prstGeom prst="rect">
                  <a:avLst/>
                </a:prstGeom>
                <a:ln w="0">
                  <a:noFill/>
                </a:ln>
              </p:spPr>
            </p:pic>
            <p:sp>
              <p:nvSpPr>
                <p:cNvPr id="448" name="Text Box 18"/>
                <p:cNvSpPr/>
                <p:nvPr/>
              </p:nvSpPr>
              <p:spPr>
                <a:xfrm>
                  <a:off x="3852000" y="2852280"/>
                  <a:ext cx="1436040" cy="14148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49" name="Oval 55"/>
              <p:cNvSpPr/>
              <p:nvPr/>
            </p:nvSpPr>
            <p:spPr>
              <a:xfrm>
                <a:off x="3956760" y="2809800"/>
                <a:ext cx="340920" cy="3351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50" name="Freeform 56"/>
            <p:cNvSpPr/>
            <p:nvPr/>
          </p:nvSpPr>
          <p:spPr>
            <a:xfrm>
              <a:off x="3609720" y="2531520"/>
              <a:ext cx="2074680" cy="690120"/>
            </a:xfrm>
            <a:custGeom>
              <a:avLst/>
              <a:gdLst>
                <a:gd name="textAreaLeft" fmla="*/ 0 w 2074680"/>
                <a:gd name="textAreaRight" fmla="*/ 2075040 w 2074680"/>
                <a:gd name="textAreaTop" fmla="*/ 0 h 690120"/>
                <a:gd name="textAreaBottom" fmla="*/ 690480 h 690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1" name="Text Box 57"/>
            <p:cNvSpPr/>
            <p:nvPr/>
          </p:nvSpPr>
          <p:spPr>
            <a:xfrm>
              <a:off x="3773520" y="3273840"/>
              <a:ext cx="175500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Immense</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Appeal</a:t>
              </a:r>
              <a:endParaRPr b="0" lang="en-US" sz="1400" spc="-1" strike="noStrike">
                <a:solidFill>
                  <a:srgbClr val="000000"/>
                </a:solidFill>
                <a:latin typeface="Gulim"/>
              </a:endParaRPr>
            </a:p>
          </p:txBody>
        </p:sp>
        <p:sp>
          <p:nvSpPr>
            <p:cNvPr id="452" name="Text Box 58"/>
            <p:cNvSpPr/>
            <p:nvPr/>
          </p:nvSpPr>
          <p:spPr>
            <a:xfrm>
              <a:off x="1185840" y="3822840"/>
              <a:ext cx="2411640" cy="1280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ubtle Tou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ndy Design in contemporary colors and styles - PowerPoint Templates &amp; Backgrounds, PowerPoint Diagrams &amp; Charts for your Presentation</a:t>
              </a:r>
              <a:endParaRPr b="0" lang="en-US" sz="1200" spc="-1" strike="noStrike">
                <a:solidFill>
                  <a:srgbClr val="000000"/>
                </a:solidFill>
                <a:latin typeface="Gulim"/>
              </a:endParaRPr>
            </a:p>
          </p:txBody>
        </p:sp>
        <p:sp>
          <p:nvSpPr>
            <p:cNvPr id="453" name="Text Box 59"/>
            <p:cNvSpPr/>
            <p:nvPr/>
          </p:nvSpPr>
          <p:spPr>
            <a:xfrm>
              <a:off x="1185840" y="1796400"/>
              <a:ext cx="291672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454" name="Text Box 60"/>
            <p:cNvSpPr/>
            <p:nvPr/>
          </p:nvSpPr>
          <p:spPr>
            <a:xfrm>
              <a:off x="5831280" y="3822840"/>
              <a:ext cx="2268720" cy="1280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 Premade PowerPoint Templates, Professional quality templates in a couple of clicks away!</a:t>
              </a:r>
              <a:endParaRPr b="0" lang="en-US" sz="1200" spc="-1" strike="noStrike">
                <a:solidFill>
                  <a:srgbClr val="000000"/>
                </a:solidFill>
                <a:latin typeface="Gulim"/>
              </a:endParaRPr>
            </a:p>
          </p:txBody>
        </p:sp>
        <p:sp>
          <p:nvSpPr>
            <p:cNvPr id="455" name="Text Box 61"/>
            <p:cNvSpPr/>
            <p:nvPr/>
          </p:nvSpPr>
          <p:spPr>
            <a:xfrm>
              <a:off x="4966560" y="1796760"/>
              <a:ext cx="3132720" cy="1098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Animation PowerPoint</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mic look to your presentation - Animation PowerPoint Templates &amp; Backgrounds for Your Impressive Presentation</a:t>
              </a:r>
              <a:endParaRPr b="0" lang="en-US" sz="1200" spc="-1" strike="noStrike">
                <a:solidFill>
                  <a:srgbClr val="000000"/>
                </a:solidFill>
                <a:latin typeface="Gulim"/>
              </a:endParaRPr>
            </a:p>
          </p:txBody>
        </p:sp>
      </p:grpSp>
      <p:sp>
        <p:nvSpPr>
          <p:cNvPr id="456"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7" name="Picture 68" descr="D:\리폼\국토생명과학\img\손.png"/>
          <p:cNvPicPr/>
          <p:nvPr/>
        </p:nvPicPr>
        <p:blipFill>
          <a:blip r:embed="rId1"/>
          <a:stretch/>
        </p:blipFill>
        <p:spPr>
          <a:xfrm>
            <a:off x="142920" y="5197320"/>
            <a:ext cx="8786880" cy="2479680"/>
          </a:xfrm>
          <a:prstGeom prst="rect">
            <a:avLst/>
          </a:prstGeom>
          <a:ln w="0">
            <a:noFill/>
          </a:ln>
        </p:spPr>
      </p:pic>
      <p:pic>
        <p:nvPicPr>
          <p:cNvPr id="458" name="Picture 54" descr="Untitled-1"/>
          <p:cNvPicPr/>
          <p:nvPr/>
        </p:nvPicPr>
        <p:blipFill>
          <a:blip r:embed="rId2"/>
          <a:stretch/>
        </p:blipFill>
        <p:spPr>
          <a:xfrm rot="375000">
            <a:off x="1026720" y="-960480"/>
            <a:ext cx="7089840" cy="7307280"/>
          </a:xfrm>
          <a:prstGeom prst="rect">
            <a:avLst/>
          </a:prstGeom>
          <a:ln w="0">
            <a:noFill/>
          </a:ln>
        </p:spPr>
      </p:pic>
      <p:grpSp>
        <p:nvGrpSpPr>
          <p:cNvPr id="459" name="Group 4"/>
          <p:cNvGrpSpPr/>
          <p:nvPr/>
        </p:nvGrpSpPr>
        <p:grpSpPr>
          <a:xfrm>
            <a:off x="1458720" y="-60480"/>
            <a:ext cx="6062760" cy="5712480"/>
            <a:chOff x="1458720" y="-60480"/>
            <a:chExt cx="6062760" cy="5712480"/>
          </a:xfrm>
        </p:grpSpPr>
        <p:grpSp>
          <p:nvGrpSpPr>
            <p:cNvPr id="460" name="Group 5"/>
            <p:cNvGrpSpPr/>
            <p:nvPr/>
          </p:nvGrpSpPr>
          <p:grpSpPr>
            <a:xfrm>
              <a:off x="1458720" y="299880"/>
              <a:ext cx="6062760" cy="5352120"/>
              <a:chOff x="1458720" y="299880"/>
              <a:chExt cx="6062760" cy="5352120"/>
            </a:xfrm>
          </p:grpSpPr>
          <p:sp>
            <p:nvSpPr>
              <p:cNvPr id="461" name="Line 18"/>
              <p:cNvSpPr/>
              <p:nvPr/>
            </p:nvSpPr>
            <p:spPr>
              <a:xfrm>
                <a:off x="7223760" y="30484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62" name="Line 19"/>
              <p:cNvSpPr/>
              <p:nvPr/>
            </p:nvSpPr>
            <p:spPr>
              <a:xfrm>
                <a:off x="7223760" y="30484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463" name="Group 8"/>
              <p:cNvGrpSpPr/>
              <p:nvPr/>
            </p:nvGrpSpPr>
            <p:grpSpPr>
              <a:xfrm>
                <a:off x="2660040" y="1518840"/>
                <a:ext cx="3323160" cy="2802240"/>
                <a:chOff x="2660040" y="1518840"/>
                <a:chExt cx="3323160" cy="2802240"/>
              </a:xfrm>
            </p:grpSpPr>
            <p:grpSp>
              <p:nvGrpSpPr>
                <p:cNvPr id="464" name="Group 9"/>
                <p:cNvGrpSpPr/>
                <p:nvPr/>
              </p:nvGrpSpPr>
              <p:grpSpPr>
                <a:xfrm>
                  <a:off x="2660040" y="1518840"/>
                  <a:ext cx="3323160" cy="2802240"/>
                  <a:chOff x="2660040" y="1518840"/>
                  <a:chExt cx="3323160" cy="2802240"/>
                </a:xfrm>
              </p:grpSpPr>
              <p:grpSp>
                <p:nvGrpSpPr>
                  <p:cNvPr id="465" name="Group 10"/>
                  <p:cNvGrpSpPr/>
                  <p:nvPr/>
                </p:nvGrpSpPr>
                <p:grpSpPr>
                  <a:xfrm>
                    <a:off x="2660040" y="1518840"/>
                    <a:ext cx="3323160" cy="2802240"/>
                    <a:chOff x="2660040" y="1518840"/>
                    <a:chExt cx="3323160" cy="2802240"/>
                  </a:xfrm>
                </p:grpSpPr>
                <p:pic>
                  <p:nvPicPr>
                    <p:cNvPr id="466" name="Oval 22" descr=""/>
                    <p:cNvPicPr/>
                    <p:nvPr/>
                  </p:nvPicPr>
                  <p:blipFill>
                    <a:blip r:embed="rId3"/>
                    <a:stretch/>
                  </p:blipFill>
                  <p:spPr>
                    <a:xfrm>
                      <a:off x="2660040" y="1518840"/>
                      <a:ext cx="3323160" cy="2802240"/>
                    </a:xfrm>
                    <a:prstGeom prst="rect">
                      <a:avLst/>
                    </a:prstGeom>
                    <a:ln w="0">
                      <a:noFill/>
                    </a:ln>
                  </p:spPr>
                </p:pic>
                <p:sp>
                  <p:nvSpPr>
                    <p:cNvPr id="467" name="Text Box 12"/>
                    <p:cNvSpPr/>
                    <p:nvPr/>
                  </p:nvSpPr>
                  <p:spPr>
                    <a:xfrm>
                      <a:off x="3175560" y="1947240"/>
                      <a:ext cx="2125440" cy="178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8" name="Oval 23"/>
                  <p:cNvSpPr/>
                  <p:nvPr/>
                </p:nvSpPr>
                <p:spPr>
                  <a:xfrm>
                    <a:off x="3329280" y="1893600"/>
                    <a:ext cx="504720" cy="42336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469" name="Freeform 24"/>
                <p:cNvSpPr/>
                <p:nvPr/>
              </p:nvSpPr>
              <p:spPr>
                <a:xfrm>
                  <a:off x="2883960" y="1564200"/>
                  <a:ext cx="2840040" cy="799920"/>
                </a:xfrm>
                <a:custGeom>
                  <a:avLst/>
                  <a:gdLst>
                    <a:gd name="textAreaLeft" fmla="*/ 0 w 2840040"/>
                    <a:gd name="textAreaRight" fmla="*/ 2840400 w 2840040"/>
                    <a:gd name="textAreaTop" fmla="*/ 0 h 799920"/>
                    <a:gd name="textAreaBottom" fmla="*/ 800280 h 7999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470" name="Line 26"/>
              <p:cNvSpPr/>
              <p:nvPr/>
            </p:nvSpPr>
            <p:spPr>
              <a:xfrm>
                <a:off x="7521480" y="30970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1" name="Line 27"/>
              <p:cNvSpPr/>
              <p:nvPr/>
            </p:nvSpPr>
            <p:spPr>
              <a:xfrm>
                <a:off x="7521480" y="309708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2" name="Freeform 28"/>
              <p:cNvSpPr/>
              <p:nvPr/>
            </p:nvSpPr>
            <p:spPr>
              <a:xfrm>
                <a:off x="1521000" y="526680"/>
                <a:ext cx="5569560" cy="2456280"/>
              </a:xfrm>
              <a:custGeom>
                <a:avLst/>
                <a:gdLst>
                  <a:gd name="textAreaLeft" fmla="*/ 0 w 5569560"/>
                  <a:gd name="textAreaRight" fmla="*/ 5569920 w 5569560"/>
                  <a:gd name="textAreaTop" fmla="*/ 0 h 2456280"/>
                  <a:gd name="textAreaBottom" fmla="*/ 2456640 h 2456280"/>
                </a:gdLst>
                <a:ahLst/>
                <a:rect l="textAreaLeft" t="textAreaTop" r="textAreaRight" b="textAreaBottom"/>
                <a:pathLst>
                  <a:path w="2547" h="1312">
                    <a:moveTo>
                      <a:pt x="1273" y="0"/>
                    </a:moveTo>
                    <a:lnTo>
                      <a:pt x="1273" y="0"/>
                    </a:lnTo>
                    <a:lnTo>
                      <a:pt x="1209" y="2"/>
                    </a:lnTo>
                    <a:lnTo>
                      <a:pt x="1145" y="7"/>
                    </a:lnTo>
                    <a:lnTo>
                      <a:pt x="1085" y="14"/>
                    </a:lnTo>
                    <a:lnTo>
                      <a:pt x="1023" y="25"/>
                    </a:lnTo>
                    <a:lnTo>
                      <a:pt x="962" y="37"/>
                    </a:lnTo>
                    <a:lnTo>
                      <a:pt x="903" y="53"/>
                    </a:lnTo>
                    <a:lnTo>
                      <a:pt x="846" y="73"/>
                    </a:lnTo>
                    <a:lnTo>
                      <a:pt x="790" y="94"/>
                    </a:lnTo>
                    <a:lnTo>
                      <a:pt x="734" y="119"/>
                    </a:lnTo>
                    <a:lnTo>
                      <a:pt x="681" y="146"/>
                    </a:lnTo>
                    <a:lnTo>
                      <a:pt x="628" y="174"/>
                    </a:lnTo>
                    <a:lnTo>
                      <a:pt x="578" y="206"/>
                    </a:lnTo>
                    <a:lnTo>
                      <a:pt x="528" y="240"/>
                    </a:lnTo>
                    <a:lnTo>
                      <a:pt x="480" y="276"/>
                    </a:lnTo>
                    <a:lnTo>
                      <a:pt x="436" y="313"/>
                    </a:lnTo>
                    <a:lnTo>
                      <a:pt x="391" y="354"/>
                    </a:lnTo>
                    <a:lnTo>
                      <a:pt x="349" y="397"/>
                    </a:lnTo>
                    <a:lnTo>
                      <a:pt x="309" y="439"/>
                    </a:lnTo>
                    <a:lnTo>
                      <a:pt x="272" y="485"/>
                    </a:lnTo>
                    <a:lnTo>
                      <a:pt x="235" y="533"/>
                    </a:lnTo>
                    <a:lnTo>
                      <a:pt x="203" y="583"/>
                    </a:lnTo>
                    <a:lnTo>
                      <a:pt x="171" y="633"/>
                    </a:lnTo>
                    <a:lnTo>
                      <a:pt x="142" y="686"/>
                    </a:lnTo>
                    <a:lnTo>
                      <a:pt x="116" y="740"/>
                    </a:lnTo>
                    <a:lnTo>
                      <a:pt x="91" y="795"/>
                    </a:lnTo>
                    <a:lnTo>
                      <a:pt x="69" y="852"/>
                    </a:lnTo>
                    <a:lnTo>
                      <a:pt x="52" y="909"/>
                    </a:lnTo>
                    <a:lnTo>
                      <a:pt x="36" y="969"/>
                    </a:lnTo>
                    <a:lnTo>
                      <a:pt x="21" y="1028"/>
                    </a:lnTo>
                    <a:lnTo>
                      <a:pt x="11" y="1090"/>
                    </a:lnTo>
                    <a:lnTo>
                      <a:pt x="4" y="1152"/>
                    </a:lnTo>
                    <a:lnTo>
                      <a:pt x="0" y="1215"/>
                    </a:lnTo>
                    <a:lnTo>
                      <a:pt x="194" y="1312"/>
                    </a:lnTo>
                    <a:lnTo>
                      <a:pt x="393" y="1213"/>
                    </a:lnTo>
                    <a:lnTo>
                      <a:pt x="397" y="1170"/>
                    </a:lnTo>
                    <a:lnTo>
                      <a:pt x="402" y="1127"/>
                    </a:lnTo>
                    <a:lnTo>
                      <a:pt x="411" y="1087"/>
                    </a:lnTo>
                    <a:lnTo>
                      <a:pt x="420" y="1046"/>
                    </a:lnTo>
                    <a:lnTo>
                      <a:pt x="432" y="1006"/>
                    </a:lnTo>
                    <a:lnTo>
                      <a:pt x="446" y="967"/>
                    </a:lnTo>
                    <a:lnTo>
                      <a:pt x="461" y="928"/>
                    </a:lnTo>
                    <a:lnTo>
                      <a:pt x="478" y="891"/>
                    </a:lnTo>
                    <a:lnTo>
                      <a:pt x="496" y="855"/>
                    </a:lnTo>
                    <a:lnTo>
                      <a:pt x="518" y="820"/>
                    </a:lnTo>
                    <a:lnTo>
                      <a:pt x="539" y="784"/>
                    </a:lnTo>
                    <a:lnTo>
                      <a:pt x="562" y="752"/>
                    </a:lnTo>
                    <a:lnTo>
                      <a:pt x="587" y="720"/>
                    </a:lnTo>
                    <a:lnTo>
                      <a:pt x="614" y="688"/>
                    </a:lnTo>
                    <a:lnTo>
                      <a:pt x="640" y="660"/>
                    </a:lnTo>
                    <a:lnTo>
                      <a:pt x="670" y="631"/>
                    </a:lnTo>
                    <a:lnTo>
                      <a:pt x="701" y="603"/>
                    </a:lnTo>
                    <a:lnTo>
                      <a:pt x="731" y="578"/>
                    </a:lnTo>
                    <a:lnTo>
                      <a:pt x="765" y="553"/>
                    </a:lnTo>
                    <a:lnTo>
                      <a:pt x="798" y="532"/>
                    </a:lnTo>
                    <a:lnTo>
                      <a:pt x="832" y="510"/>
                    </a:lnTo>
                    <a:lnTo>
                      <a:pt x="868" y="491"/>
                    </a:lnTo>
                    <a:lnTo>
                      <a:pt x="905" y="473"/>
                    </a:lnTo>
                    <a:lnTo>
                      <a:pt x="943" y="455"/>
                    </a:lnTo>
                    <a:lnTo>
                      <a:pt x="982" y="441"/>
                    </a:lnTo>
                    <a:lnTo>
                      <a:pt x="1021" y="429"/>
                    </a:lnTo>
                    <a:lnTo>
                      <a:pt x="1062" y="418"/>
                    </a:lnTo>
                    <a:lnTo>
                      <a:pt x="1103" y="409"/>
                    </a:lnTo>
                    <a:lnTo>
                      <a:pt x="1143" y="402"/>
                    </a:lnTo>
                    <a:lnTo>
                      <a:pt x="1186" y="397"/>
                    </a:lnTo>
                    <a:lnTo>
                      <a:pt x="1229" y="393"/>
                    </a:lnTo>
                    <a:lnTo>
                      <a:pt x="1273" y="393"/>
                    </a:lnTo>
                    <a:lnTo>
                      <a:pt x="1316" y="393"/>
                    </a:lnTo>
                    <a:lnTo>
                      <a:pt x="1359" y="397"/>
                    </a:lnTo>
                    <a:lnTo>
                      <a:pt x="1401" y="402"/>
                    </a:lnTo>
                    <a:lnTo>
                      <a:pt x="1444" y="409"/>
                    </a:lnTo>
                    <a:lnTo>
                      <a:pt x="1485" y="418"/>
                    </a:lnTo>
                    <a:lnTo>
                      <a:pt x="1526" y="429"/>
                    </a:lnTo>
                    <a:lnTo>
                      <a:pt x="1565" y="441"/>
                    </a:lnTo>
                    <a:lnTo>
                      <a:pt x="1604" y="457"/>
                    </a:lnTo>
                    <a:lnTo>
                      <a:pt x="1641" y="473"/>
                    </a:lnTo>
                    <a:lnTo>
                      <a:pt x="1679" y="491"/>
                    </a:lnTo>
                    <a:lnTo>
                      <a:pt x="1714" y="510"/>
                    </a:lnTo>
                    <a:lnTo>
                      <a:pt x="1748" y="532"/>
                    </a:lnTo>
                    <a:lnTo>
                      <a:pt x="1782" y="555"/>
                    </a:lnTo>
                    <a:lnTo>
                      <a:pt x="1816" y="578"/>
                    </a:lnTo>
                    <a:lnTo>
                      <a:pt x="1846" y="605"/>
                    </a:lnTo>
                    <a:lnTo>
                      <a:pt x="1876" y="631"/>
                    </a:lnTo>
                    <a:lnTo>
                      <a:pt x="1906" y="660"/>
                    </a:lnTo>
                    <a:lnTo>
                      <a:pt x="1933" y="690"/>
                    </a:lnTo>
                    <a:lnTo>
                      <a:pt x="1960" y="720"/>
                    </a:lnTo>
                    <a:lnTo>
                      <a:pt x="1985" y="752"/>
                    </a:lnTo>
                    <a:lnTo>
                      <a:pt x="2008" y="786"/>
                    </a:lnTo>
                    <a:lnTo>
                      <a:pt x="2029" y="822"/>
                    </a:lnTo>
                    <a:lnTo>
                      <a:pt x="2050" y="857"/>
                    </a:lnTo>
                    <a:lnTo>
                      <a:pt x="2068" y="893"/>
                    </a:lnTo>
                    <a:lnTo>
                      <a:pt x="2086" y="930"/>
                    </a:lnTo>
                    <a:lnTo>
                      <a:pt x="2100" y="969"/>
                    </a:lnTo>
                    <a:lnTo>
                      <a:pt x="2114" y="1008"/>
                    </a:lnTo>
                    <a:lnTo>
                      <a:pt x="2125" y="1047"/>
                    </a:lnTo>
                    <a:lnTo>
                      <a:pt x="2136" y="1088"/>
                    </a:lnTo>
                    <a:lnTo>
                      <a:pt x="2143" y="1131"/>
                    </a:lnTo>
                    <a:lnTo>
                      <a:pt x="2150" y="1172"/>
                    </a:lnTo>
                    <a:lnTo>
                      <a:pt x="2154" y="1215"/>
                    </a:lnTo>
                    <a:lnTo>
                      <a:pt x="2328" y="1127"/>
                    </a:lnTo>
                    <a:lnTo>
                      <a:pt x="2351" y="1117"/>
                    </a:lnTo>
                    <a:lnTo>
                      <a:pt x="2547" y="1213"/>
                    </a:lnTo>
                    <a:lnTo>
                      <a:pt x="2541" y="1151"/>
                    </a:lnTo>
                    <a:lnTo>
                      <a:pt x="2534" y="1088"/>
                    </a:lnTo>
                    <a:lnTo>
                      <a:pt x="2523" y="1028"/>
                    </a:lnTo>
                    <a:lnTo>
                      <a:pt x="2511" y="967"/>
                    </a:lnTo>
                    <a:lnTo>
                      <a:pt x="2495" y="909"/>
                    </a:lnTo>
                    <a:lnTo>
                      <a:pt x="2475" y="850"/>
                    </a:lnTo>
                    <a:lnTo>
                      <a:pt x="2454" y="793"/>
                    </a:lnTo>
                    <a:lnTo>
                      <a:pt x="2429" y="738"/>
                    </a:lnTo>
                    <a:lnTo>
                      <a:pt x="2403" y="685"/>
                    </a:lnTo>
                    <a:lnTo>
                      <a:pt x="2374" y="633"/>
                    </a:lnTo>
                    <a:lnTo>
                      <a:pt x="2344" y="581"/>
                    </a:lnTo>
                    <a:lnTo>
                      <a:pt x="2310" y="532"/>
                    </a:lnTo>
                    <a:lnTo>
                      <a:pt x="2275" y="485"/>
                    </a:lnTo>
                    <a:lnTo>
                      <a:pt x="2235" y="439"/>
                    </a:lnTo>
                    <a:lnTo>
                      <a:pt x="2196" y="395"/>
                    </a:lnTo>
                    <a:lnTo>
                      <a:pt x="2154" y="354"/>
                    </a:lnTo>
                    <a:lnTo>
                      <a:pt x="2109" y="313"/>
                    </a:lnTo>
                    <a:lnTo>
                      <a:pt x="2065" y="276"/>
                    </a:lnTo>
                    <a:lnTo>
                      <a:pt x="2017" y="240"/>
                    </a:lnTo>
                    <a:lnTo>
                      <a:pt x="1967" y="206"/>
                    </a:lnTo>
                    <a:lnTo>
                      <a:pt x="1917" y="174"/>
                    </a:lnTo>
                    <a:lnTo>
                      <a:pt x="1864" y="146"/>
                    </a:lnTo>
                    <a:lnTo>
                      <a:pt x="1810" y="119"/>
                    </a:lnTo>
                    <a:lnTo>
                      <a:pt x="1755" y="94"/>
                    </a:lnTo>
                    <a:lnTo>
                      <a:pt x="1698" y="73"/>
                    </a:lnTo>
                    <a:lnTo>
                      <a:pt x="1641" y="53"/>
                    </a:lnTo>
                    <a:lnTo>
                      <a:pt x="1583" y="37"/>
                    </a:lnTo>
                    <a:lnTo>
                      <a:pt x="1522" y="25"/>
                    </a:lnTo>
                    <a:lnTo>
                      <a:pt x="1462" y="14"/>
                    </a:lnTo>
                    <a:lnTo>
                      <a:pt x="1400" y="7"/>
                    </a:lnTo>
                    <a:lnTo>
                      <a:pt x="1337" y="2"/>
                    </a:lnTo>
                    <a:lnTo>
                      <a:pt x="1273" y="0"/>
                    </a:lnTo>
                    <a:close/>
                  </a:path>
                </a:pathLst>
              </a:custGeom>
              <a:gradFill rotWithShape="0">
                <a:gsLst>
                  <a:gs pos="0">
                    <a:srgbClr val="ffffff">
                      <a:alpha val="50196"/>
                    </a:srgbClr>
                  </a:gs>
                  <a:gs pos="100000">
                    <a:srgbClr val="ffffff">
                      <a:alpha val="1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3" name="Freeform 29"/>
              <p:cNvSpPr/>
              <p:nvPr/>
            </p:nvSpPr>
            <p:spPr>
              <a:xfrm>
                <a:off x="1521000" y="2844360"/>
                <a:ext cx="5569560" cy="2456280"/>
              </a:xfrm>
              <a:custGeom>
                <a:avLst/>
                <a:gdLst>
                  <a:gd name="textAreaLeft" fmla="*/ 0 w 5569560"/>
                  <a:gd name="textAreaRight" fmla="*/ 5569920 w 5569560"/>
                  <a:gd name="textAreaTop" fmla="*/ 0 h 2456280"/>
                  <a:gd name="textAreaBottom" fmla="*/ 2456640 h 2456280"/>
                </a:gdLst>
                <a:ahLst/>
                <a:rect l="textAreaLeft" t="textAreaTop" r="textAreaRight" b="textAreaBottom"/>
                <a:pathLst>
                  <a:path w="2547" h="1312">
                    <a:moveTo>
                      <a:pt x="2547" y="97"/>
                    </a:moveTo>
                    <a:lnTo>
                      <a:pt x="2547" y="97"/>
                    </a:lnTo>
                    <a:lnTo>
                      <a:pt x="2351" y="0"/>
                    </a:lnTo>
                    <a:lnTo>
                      <a:pt x="2154" y="99"/>
                    </a:lnTo>
                    <a:lnTo>
                      <a:pt x="2148" y="142"/>
                    </a:lnTo>
                    <a:lnTo>
                      <a:pt x="2143" y="185"/>
                    </a:lnTo>
                    <a:lnTo>
                      <a:pt x="2136" y="225"/>
                    </a:lnTo>
                    <a:lnTo>
                      <a:pt x="2125" y="266"/>
                    </a:lnTo>
                    <a:lnTo>
                      <a:pt x="2113" y="306"/>
                    </a:lnTo>
                    <a:lnTo>
                      <a:pt x="2100" y="345"/>
                    </a:lnTo>
                    <a:lnTo>
                      <a:pt x="2084" y="384"/>
                    </a:lnTo>
                    <a:lnTo>
                      <a:pt x="2068" y="421"/>
                    </a:lnTo>
                    <a:lnTo>
                      <a:pt x="2049" y="457"/>
                    </a:lnTo>
                    <a:lnTo>
                      <a:pt x="2029" y="492"/>
                    </a:lnTo>
                    <a:lnTo>
                      <a:pt x="2008" y="528"/>
                    </a:lnTo>
                    <a:lnTo>
                      <a:pt x="1983" y="560"/>
                    </a:lnTo>
                    <a:lnTo>
                      <a:pt x="1958" y="592"/>
                    </a:lnTo>
                    <a:lnTo>
                      <a:pt x="1933" y="624"/>
                    </a:lnTo>
                    <a:lnTo>
                      <a:pt x="1905" y="652"/>
                    </a:lnTo>
                    <a:lnTo>
                      <a:pt x="1876" y="681"/>
                    </a:lnTo>
                    <a:lnTo>
                      <a:pt x="1846" y="709"/>
                    </a:lnTo>
                    <a:lnTo>
                      <a:pt x="1814" y="734"/>
                    </a:lnTo>
                    <a:lnTo>
                      <a:pt x="1782" y="759"/>
                    </a:lnTo>
                    <a:lnTo>
                      <a:pt x="1748" y="780"/>
                    </a:lnTo>
                    <a:lnTo>
                      <a:pt x="1713" y="802"/>
                    </a:lnTo>
                    <a:lnTo>
                      <a:pt x="1677" y="821"/>
                    </a:lnTo>
                    <a:lnTo>
                      <a:pt x="1640" y="839"/>
                    </a:lnTo>
                    <a:lnTo>
                      <a:pt x="1602" y="857"/>
                    </a:lnTo>
                    <a:lnTo>
                      <a:pt x="1563" y="871"/>
                    </a:lnTo>
                    <a:lnTo>
                      <a:pt x="1524" y="883"/>
                    </a:lnTo>
                    <a:lnTo>
                      <a:pt x="1485" y="894"/>
                    </a:lnTo>
                    <a:lnTo>
                      <a:pt x="1444" y="903"/>
                    </a:lnTo>
                    <a:lnTo>
                      <a:pt x="1401" y="910"/>
                    </a:lnTo>
                    <a:lnTo>
                      <a:pt x="1359" y="915"/>
                    </a:lnTo>
                    <a:lnTo>
                      <a:pt x="1316" y="919"/>
                    </a:lnTo>
                    <a:lnTo>
                      <a:pt x="1273" y="919"/>
                    </a:lnTo>
                    <a:lnTo>
                      <a:pt x="1229" y="919"/>
                    </a:lnTo>
                    <a:lnTo>
                      <a:pt x="1186" y="915"/>
                    </a:lnTo>
                    <a:lnTo>
                      <a:pt x="1143" y="910"/>
                    </a:lnTo>
                    <a:lnTo>
                      <a:pt x="1103" y="903"/>
                    </a:lnTo>
                    <a:lnTo>
                      <a:pt x="1062" y="894"/>
                    </a:lnTo>
                    <a:lnTo>
                      <a:pt x="1021" y="883"/>
                    </a:lnTo>
                    <a:lnTo>
                      <a:pt x="982" y="871"/>
                    </a:lnTo>
                    <a:lnTo>
                      <a:pt x="943" y="855"/>
                    </a:lnTo>
                    <a:lnTo>
                      <a:pt x="905" y="839"/>
                    </a:lnTo>
                    <a:lnTo>
                      <a:pt x="868" y="821"/>
                    </a:lnTo>
                    <a:lnTo>
                      <a:pt x="832" y="802"/>
                    </a:lnTo>
                    <a:lnTo>
                      <a:pt x="797" y="780"/>
                    </a:lnTo>
                    <a:lnTo>
                      <a:pt x="763" y="757"/>
                    </a:lnTo>
                    <a:lnTo>
                      <a:pt x="731" y="734"/>
                    </a:lnTo>
                    <a:lnTo>
                      <a:pt x="699" y="707"/>
                    </a:lnTo>
                    <a:lnTo>
                      <a:pt x="669" y="681"/>
                    </a:lnTo>
                    <a:lnTo>
                      <a:pt x="640" y="652"/>
                    </a:lnTo>
                    <a:lnTo>
                      <a:pt x="612" y="622"/>
                    </a:lnTo>
                    <a:lnTo>
                      <a:pt x="587" y="592"/>
                    </a:lnTo>
                    <a:lnTo>
                      <a:pt x="562" y="560"/>
                    </a:lnTo>
                    <a:lnTo>
                      <a:pt x="537" y="526"/>
                    </a:lnTo>
                    <a:lnTo>
                      <a:pt x="516" y="490"/>
                    </a:lnTo>
                    <a:lnTo>
                      <a:pt x="496" y="455"/>
                    </a:lnTo>
                    <a:lnTo>
                      <a:pt x="477" y="419"/>
                    </a:lnTo>
                    <a:lnTo>
                      <a:pt x="461" y="382"/>
                    </a:lnTo>
                    <a:lnTo>
                      <a:pt x="445" y="343"/>
                    </a:lnTo>
                    <a:lnTo>
                      <a:pt x="432" y="304"/>
                    </a:lnTo>
                    <a:lnTo>
                      <a:pt x="420" y="265"/>
                    </a:lnTo>
                    <a:lnTo>
                      <a:pt x="411" y="224"/>
                    </a:lnTo>
                    <a:lnTo>
                      <a:pt x="402" y="181"/>
                    </a:lnTo>
                    <a:lnTo>
                      <a:pt x="397" y="140"/>
                    </a:lnTo>
                    <a:lnTo>
                      <a:pt x="393" y="97"/>
                    </a:lnTo>
                    <a:lnTo>
                      <a:pt x="194" y="195"/>
                    </a:lnTo>
                    <a:lnTo>
                      <a:pt x="0" y="99"/>
                    </a:lnTo>
                    <a:lnTo>
                      <a:pt x="4" y="161"/>
                    </a:lnTo>
                    <a:lnTo>
                      <a:pt x="11" y="224"/>
                    </a:lnTo>
                    <a:lnTo>
                      <a:pt x="21" y="284"/>
                    </a:lnTo>
                    <a:lnTo>
                      <a:pt x="36" y="345"/>
                    </a:lnTo>
                    <a:lnTo>
                      <a:pt x="52" y="403"/>
                    </a:lnTo>
                    <a:lnTo>
                      <a:pt x="69" y="462"/>
                    </a:lnTo>
                    <a:lnTo>
                      <a:pt x="92" y="519"/>
                    </a:lnTo>
                    <a:lnTo>
                      <a:pt x="116" y="574"/>
                    </a:lnTo>
                    <a:lnTo>
                      <a:pt x="142" y="627"/>
                    </a:lnTo>
                    <a:lnTo>
                      <a:pt x="171" y="679"/>
                    </a:lnTo>
                    <a:lnTo>
                      <a:pt x="203" y="731"/>
                    </a:lnTo>
                    <a:lnTo>
                      <a:pt x="237" y="780"/>
                    </a:lnTo>
                    <a:lnTo>
                      <a:pt x="272" y="827"/>
                    </a:lnTo>
                    <a:lnTo>
                      <a:pt x="309" y="873"/>
                    </a:lnTo>
                    <a:lnTo>
                      <a:pt x="350" y="917"/>
                    </a:lnTo>
                    <a:lnTo>
                      <a:pt x="391" y="958"/>
                    </a:lnTo>
                    <a:lnTo>
                      <a:pt x="436" y="999"/>
                    </a:lnTo>
                    <a:lnTo>
                      <a:pt x="482" y="1036"/>
                    </a:lnTo>
                    <a:lnTo>
                      <a:pt x="528" y="1072"/>
                    </a:lnTo>
                    <a:lnTo>
                      <a:pt x="578" y="1106"/>
                    </a:lnTo>
                    <a:lnTo>
                      <a:pt x="630" y="1138"/>
                    </a:lnTo>
                    <a:lnTo>
                      <a:pt x="681" y="1166"/>
                    </a:lnTo>
                    <a:lnTo>
                      <a:pt x="734" y="1193"/>
                    </a:lnTo>
                    <a:lnTo>
                      <a:pt x="790" y="1218"/>
                    </a:lnTo>
                    <a:lnTo>
                      <a:pt x="846" y="1239"/>
                    </a:lnTo>
                    <a:lnTo>
                      <a:pt x="903" y="1259"/>
                    </a:lnTo>
                    <a:lnTo>
                      <a:pt x="964" y="1275"/>
                    </a:lnTo>
                    <a:lnTo>
                      <a:pt x="1023" y="1287"/>
                    </a:lnTo>
                    <a:lnTo>
                      <a:pt x="1085" y="1298"/>
                    </a:lnTo>
                    <a:lnTo>
                      <a:pt x="1147" y="1305"/>
                    </a:lnTo>
                    <a:lnTo>
                      <a:pt x="1209" y="1310"/>
                    </a:lnTo>
                    <a:lnTo>
                      <a:pt x="1273" y="1312"/>
                    </a:lnTo>
                    <a:lnTo>
                      <a:pt x="1337" y="1310"/>
                    </a:lnTo>
                    <a:lnTo>
                      <a:pt x="1400" y="1305"/>
                    </a:lnTo>
                    <a:lnTo>
                      <a:pt x="1462" y="1298"/>
                    </a:lnTo>
                    <a:lnTo>
                      <a:pt x="1522" y="1287"/>
                    </a:lnTo>
                    <a:lnTo>
                      <a:pt x="1583" y="1275"/>
                    </a:lnTo>
                    <a:lnTo>
                      <a:pt x="1641" y="1259"/>
                    </a:lnTo>
                    <a:lnTo>
                      <a:pt x="1700" y="1239"/>
                    </a:lnTo>
                    <a:lnTo>
                      <a:pt x="1755" y="1218"/>
                    </a:lnTo>
                    <a:lnTo>
                      <a:pt x="1810" y="1193"/>
                    </a:lnTo>
                    <a:lnTo>
                      <a:pt x="1865" y="1166"/>
                    </a:lnTo>
                    <a:lnTo>
                      <a:pt x="1917" y="1138"/>
                    </a:lnTo>
                    <a:lnTo>
                      <a:pt x="1969" y="1106"/>
                    </a:lnTo>
                    <a:lnTo>
                      <a:pt x="2017" y="1072"/>
                    </a:lnTo>
                    <a:lnTo>
                      <a:pt x="2065" y="1036"/>
                    </a:lnTo>
                    <a:lnTo>
                      <a:pt x="2111" y="999"/>
                    </a:lnTo>
                    <a:lnTo>
                      <a:pt x="2154" y="958"/>
                    </a:lnTo>
                    <a:lnTo>
                      <a:pt x="2196" y="915"/>
                    </a:lnTo>
                    <a:lnTo>
                      <a:pt x="2235" y="873"/>
                    </a:lnTo>
                    <a:lnTo>
                      <a:pt x="2275" y="827"/>
                    </a:lnTo>
                    <a:lnTo>
                      <a:pt x="2310" y="779"/>
                    </a:lnTo>
                    <a:lnTo>
                      <a:pt x="2344" y="729"/>
                    </a:lnTo>
                    <a:lnTo>
                      <a:pt x="2374" y="679"/>
                    </a:lnTo>
                    <a:lnTo>
                      <a:pt x="2404" y="626"/>
                    </a:lnTo>
                    <a:lnTo>
                      <a:pt x="2431" y="572"/>
                    </a:lnTo>
                    <a:lnTo>
                      <a:pt x="2454" y="517"/>
                    </a:lnTo>
                    <a:lnTo>
                      <a:pt x="2475" y="460"/>
                    </a:lnTo>
                    <a:lnTo>
                      <a:pt x="2495" y="403"/>
                    </a:lnTo>
                    <a:lnTo>
                      <a:pt x="2511" y="343"/>
                    </a:lnTo>
                    <a:lnTo>
                      <a:pt x="2523" y="284"/>
                    </a:lnTo>
                    <a:lnTo>
                      <a:pt x="2534" y="222"/>
                    </a:lnTo>
                    <a:lnTo>
                      <a:pt x="2541" y="160"/>
                    </a:lnTo>
                    <a:lnTo>
                      <a:pt x="2547" y="97"/>
                    </a:lnTo>
                    <a:close/>
                  </a:path>
                </a:pathLst>
              </a:custGeom>
              <a:gradFill rotWithShape="0">
                <a:gsLst>
                  <a:gs pos="0">
                    <a:srgbClr val="ffffff">
                      <a:alpha val="10196"/>
                    </a:srgbClr>
                  </a:gs>
                  <a:gs pos="100000">
                    <a:srgbClr val="ffffff">
                      <a:alpha val="50196"/>
                    </a:srgbClr>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4" name="Freeform 30"/>
              <p:cNvSpPr/>
              <p:nvPr/>
            </p:nvSpPr>
            <p:spPr>
              <a:xfrm rot="18900000">
                <a:off x="2318760" y="123840"/>
                <a:ext cx="616680" cy="2688120"/>
              </a:xfrm>
              <a:custGeom>
                <a:avLst/>
                <a:gdLst>
                  <a:gd name="textAreaLeft" fmla="*/ 0 w 616680"/>
                  <a:gd name="textAreaRight" fmla="*/ 616680 w 616680"/>
                  <a:gd name="textAreaTop" fmla="*/ 0 h 2688120"/>
                  <a:gd name="textAreaBottom" fmla="*/ 2688480 h 2688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75" name="Freeform 31"/>
              <p:cNvSpPr/>
              <p:nvPr/>
            </p:nvSpPr>
            <p:spPr>
              <a:xfrm rot="8100000">
                <a:off x="4430520" y="4090680"/>
                <a:ext cx="3140280" cy="528120"/>
              </a:xfrm>
              <a:custGeom>
                <a:avLst/>
                <a:gdLst>
                  <a:gd name="textAreaLeft" fmla="*/ 0 w 3140280"/>
                  <a:gd name="textAreaRight" fmla="*/ 3140640 w 3140280"/>
                  <a:gd name="textAreaTop" fmla="*/ 0 h 528120"/>
                  <a:gd name="textAreaBottom" fmla="*/ 528480 h 52812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alpha val="70196"/>
                    </a:srgbClr>
                  </a:gs>
                  <a:gs pos="100000">
                    <a:srgbClr val="767676">
                      <a:alpha val="0"/>
                    </a:srgbClr>
                  </a:gs>
                </a:gsLst>
                <a:lin ang="18900000"/>
              </a:gra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grpSp>
        <p:sp>
          <p:nvSpPr>
            <p:cNvPr id="476" name="WordArt 32"/>
            <p:cNvSpPr txBox="1"/>
            <p:nvPr/>
          </p:nvSpPr>
          <p:spPr>
            <a:xfrm>
              <a:off x="2441160" y="538200"/>
              <a:ext cx="4099320" cy="3804480"/>
            </a:xfrm>
            <a:prstGeom prst="rect">
              <a:avLst/>
            </a:prstGeom>
          </p:spPr>
          <p:txBody>
            <a:bodyPr wrap="none" fromWordArt="1" lIns="90000" rIns="90000" tIns="46800" bIns="46800" anchor="t" anchorCtr="1">
              <a:prstTxWarp prst="textArchUp">
                <a:avLst>
                  <a:gd name="adj" fmla="val 1260662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74517"/>
                  </a:solidFill>
                  <a:latin typeface="Arial Black"/>
                </a:rPr>
                <a:t>More choices and visual trends</a:t>
              </a:r>
              <a:endParaRPr b="0" lang="en-US" sz="800" spc="1" strike="noStrike">
                <a:ln w="0">
                  <a:noFill/>
                </a:ln>
                <a:solidFill>
                  <a:srgbClr val="374517"/>
                </a:solidFill>
                <a:latin typeface="Arial Black"/>
                <a:ea typeface="Arial Black"/>
              </a:endParaRPr>
            </a:p>
          </p:txBody>
        </p:sp>
        <p:sp>
          <p:nvSpPr>
            <p:cNvPr id="477" name="WordArt 33"/>
            <p:cNvSpPr txBox="1"/>
            <p:nvPr/>
          </p:nvSpPr>
          <p:spPr>
            <a:xfrm rot="10800000">
              <a:off x="2440800" y="1043640"/>
              <a:ext cx="4099320" cy="3804480"/>
            </a:xfrm>
            <a:prstGeom prst="rect">
              <a:avLst/>
            </a:prstGeom>
          </p:spPr>
          <p:txBody>
            <a:bodyPr wrap="none" fromWordArt="1" lIns="90000" rIns="90000" tIns="46800" bIns="46800" anchor="t" anchorCtr="1">
              <a:prstTxWarp prst="textArchUp">
                <a:avLst>
                  <a:gd name="adj" fmla="val 132823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74517"/>
                  </a:solidFill>
                  <a:latin typeface="Arial Black"/>
                </a:rPr>
                <a:t>A wide range of subjects</a:t>
              </a:r>
              <a:endParaRPr b="0" lang="en-US" sz="800" spc="1" strike="noStrike">
                <a:ln w="0">
                  <a:noFill/>
                </a:ln>
                <a:solidFill>
                  <a:srgbClr val="374517"/>
                </a:solidFill>
                <a:latin typeface="Arial Black"/>
                <a:ea typeface="Arial Black"/>
              </a:endParaRPr>
            </a:p>
          </p:txBody>
        </p:sp>
        <p:sp>
          <p:nvSpPr>
            <p:cNvPr id="478" name="Text Box 34"/>
            <p:cNvSpPr/>
            <p:nvPr/>
          </p:nvSpPr>
          <p:spPr>
            <a:xfrm>
              <a:off x="3706920" y="2176560"/>
              <a:ext cx="1675800" cy="916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Diversity of</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Black"/>
                </a:rPr>
                <a:t>Culture</a:t>
              </a:r>
              <a:endParaRPr b="0" lang="en-US" sz="3400" spc="-1" strike="noStrike">
                <a:solidFill>
                  <a:srgbClr val="000000"/>
                </a:solidFill>
                <a:latin typeface="Gulim"/>
              </a:endParaRPr>
            </a:p>
          </p:txBody>
        </p:sp>
        <p:sp>
          <p:nvSpPr>
            <p:cNvPr id="479" name="WordArt 35"/>
            <p:cNvSpPr txBox="1"/>
            <p:nvPr/>
          </p:nvSpPr>
          <p:spPr>
            <a:xfrm rot="5400000">
              <a:off x="2174040" y="132480"/>
              <a:ext cx="5497560" cy="5110920"/>
            </a:xfrm>
            <a:prstGeom prst="rect">
              <a:avLst/>
            </a:prstGeom>
          </p:spPr>
          <p:txBody>
            <a:bodyPr wrap="none" fromWordArt="1" lIns="90000" rIns="90000" tIns="46800" bIns="46800" anchor="t" anchorCtr="1">
              <a:prstTxWarp prst="textArchUp">
                <a:avLst>
                  <a:gd name="adj" fmla="val 126833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374517"/>
                  </a:solidFill>
                  <a:latin typeface="Arial Black"/>
                </a:rPr>
                <a:t>Inspiration for your fine performance</a:t>
              </a:r>
              <a:endParaRPr b="0" lang="en-US" sz="800" spc="1" strike="noStrike">
                <a:ln w="0">
                  <a:noFill/>
                </a:ln>
                <a:solidFill>
                  <a:srgbClr val="374517"/>
                </a:solidFill>
                <a:latin typeface="Arial Black"/>
                <a:ea typeface="Arial Black"/>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0" name="Group 2"/>
          <p:cNvGrpSpPr/>
          <p:nvPr/>
        </p:nvGrpSpPr>
        <p:grpSpPr>
          <a:xfrm>
            <a:off x="428760" y="1625760"/>
            <a:ext cx="8286480" cy="4357440"/>
            <a:chOff x="428760" y="1625760"/>
            <a:chExt cx="8286480" cy="4357440"/>
          </a:xfrm>
        </p:grpSpPr>
        <p:sp>
          <p:nvSpPr>
            <p:cNvPr id="481" name="AutoShape 810"/>
            <p:cNvSpPr/>
            <p:nvPr/>
          </p:nvSpPr>
          <p:spPr>
            <a:xfrm>
              <a:off x="4622760" y="1625760"/>
              <a:ext cx="4092480" cy="4357440"/>
            </a:xfrm>
            <a:custGeom>
              <a:avLst/>
              <a:gdLst>
                <a:gd name="textAreaLeft" fmla="*/ 53640 w 4092480"/>
                <a:gd name="textAreaRight" fmla="*/ 4038840 w 4092480"/>
                <a:gd name="textAreaTop" fmla="*/ 53640 h 4357440"/>
                <a:gd name="textAreaBottom" fmla="*/ 4303800 h 4357440"/>
              </a:gdLst>
              <a:ahLst/>
              <a:rect l="textAreaLeft" t="textAreaTop" r="textAreaRight" b="textAreaBottom"/>
              <a:pathLst>
                <a:path w="21600" h="22998">
                  <a:moveTo>
                    <a:pt x="968" y="0"/>
                  </a:moveTo>
                  <a:arcTo wR="968" hR="968" stAng="16200000" swAng="-5400000"/>
                  <a:lnTo>
                    <a:pt x="0" y="22030"/>
                  </a:lnTo>
                  <a:arcTo wR="968" hR="968" stAng="10800000" swAng="-5400000"/>
                  <a:lnTo>
                    <a:pt x="20632" y="229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2" name="AutoShape 811"/>
            <p:cNvSpPr/>
            <p:nvPr/>
          </p:nvSpPr>
          <p:spPr>
            <a:xfrm>
              <a:off x="4686120" y="1697040"/>
              <a:ext cx="396432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3" name="AutoShape 812"/>
            <p:cNvSpPr/>
            <p:nvPr/>
          </p:nvSpPr>
          <p:spPr>
            <a:xfrm>
              <a:off x="428760" y="1625760"/>
              <a:ext cx="4074840" cy="4357440"/>
            </a:xfrm>
            <a:custGeom>
              <a:avLst/>
              <a:gdLst>
                <a:gd name="textAreaLeft" fmla="*/ 53280 w 4074840"/>
                <a:gd name="textAreaRight" fmla="*/ 4021560 w 4074840"/>
                <a:gd name="textAreaTop" fmla="*/ 53280 h 4357440"/>
                <a:gd name="textAreaBottom" fmla="*/ 4304160 h 4357440"/>
              </a:gdLst>
              <a:ahLst/>
              <a:rect l="textAreaLeft" t="textAreaTop" r="textAreaRight" b="textAreaBottom"/>
              <a:pathLst>
                <a:path w="21600" h="23098">
                  <a:moveTo>
                    <a:pt x="968" y="0"/>
                  </a:moveTo>
                  <a:arcTo wR="968" hR="968" stAng="16200000" swAng="-5400000"/>
                  <a:lnTo>
                    <a:pt x="0" y="22130"/>
                  </a:lnTo>
                  <a:arcTo wR="968" hR="968" stAng="10800000" swAng="-5400000"/>
                  <a:lnTo>
                    <a:pt x="20632" y="23098"/>
                  </a:lnTo>
                  <a:arcTo wR="968" hR="968" stAng="5400000" swAng="-5400000"/>
                  <a:lnTo>
                    <a:pt x="21600" y="968"/>
                  </a:lnTo>
                  <a:arcTo wR="968" hR="968" stAng="0" swAng="-5400000"/>
                  <a:close/>
                </a:path>
              </a:pathLst>
            </a:cu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4" name="AutoShape 813"/>
            <p:cNvSpPr/>
            <p:nvPr/>
          </p:nvSpPr>
          <p:spPr>
            <a:xfrm>
              <a:off x="493200" y="1697040"/>
              <a:ext cx="3946680" cy="420840"/>
            </a:xfrm>
            <a:prstGeom prst="roundRect">
              <a:avLst>
                <a:gd name="adj" fmla="val 26472"/>
              </a:avLst>
            </a:prstGeom>
            <a:gradFill rotWithShape="0">
              <a:gsLst>
                <a:gs pos="0">
                  <a:srgbClr val="ffffff">
                    <a:alpha val="80000"/>
                  </a:srgbClr>
                </a:gs>
                <a:gs pos="100000">
                  <a:srgbClr val="767676">
                    <a:alpha val="0"/>
                  </a:srgbClr>
                </a:gs>
              </a:gsLst>
              <a:lin ang="5400000"/>
            </a:gradFill>
            <a:ln w="0">
              <a:noFill/>
            </a:ln>
          </p:spPr>
          <p:style>
            <a:lnRef idx="0"/>
            <a:fillRef idx="0"/>
            <a:effectRef idx="0"/>
            <a:fontRef idx="minor"/>
          </p:style>
          <p:txBody>
            <a:bodyPr wrap="none" lIns="90000" rIns="90000" tIns="0" bIns="118800" anchor="t">
              <a:noAutofit/>
            </a:bodyPr>
            <a:p>
              <a:pPr algn="ctr">
                <a:lnSpc>
                  <a:spcPct val="13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pic>
        <p:nvPicPr>
          <p:cNvPr id="485" name="Picture 869" descr="7"/>
          <p:cNvPicPr/>
          <p:nvPr/>
        </p:nvPicPr>
        <p:blipFill>
          <a:blip r:embed="rId1"/>
          <a:stretch/>
        </p:blipFill>
        <p:spPr>
          <a:xfrm>
            <a:off x="3594240" y="3089160"/>
            <a:ext cx="1873080" cy="1830600"/>
          </a:xfrm>
          <a:prstGeom prst="rect">
            <a:avLst/>
          </a:prstGeom>
          <a:ln w="0">
            <a:noFill/>
          </a:ln>
        </p:spPr>
      </p:pic>
      <p:sp>
        <p:nvSpPr>
          <p:cNvPr id="486" name="AutoShape 871"/>
          <p:cNvSpPr/>
          <p:nvPr/>
        </p:nvSpPr>
        <p:spPr>
          <a:xfrm>
            <a:off x="2771640" y="2217600"/>
            <a:ext cx="3516480" cy="3515040"/>
          </a:xfrm>
          <a:custGeom>
            <a:avLst/>
            <a:gdLst>
              <a:gd name="textAreaLeft" fmla="*/ 514800 w 3516480"/>
              <a:gd name="textAreaRight" fmla="*/ 3001680 w 3516480"/>
              <a:gd name="textAreaTop" fmla="*/ 514440 h 3515040"/>
              <a:gd name="textAreaBottom" fmla="*/ 3000600 h 3515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ffffff">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487" name="Group 9"/>
          <p:cNvGrpSpPr/>
          <p:nvPr/>
        </p:nvGrpSpPr>
        <p:grpSpPr>
          <a:xfrm>
            <a:off x="1403280" y="2708280"/>
            <a:ext cx="6264000" cy="2592360"/>
            <a:chOff x="1403280" y="2708280"/>
            <a:chExt cx="6264000" cy="2592360"/>
          </a:xfrm>
        </p:grpSpPr>
        <p:grpSp>
          <p:nvGrpSpPr>
            <p:cNvPr id="488" name="Group 10"/>
            <p:cNvGrpSpPr/>
            <p:nvPr/>
          </p:nvGrpSpPr>
          <p:grpSpPr>
            <a:xfrm>
              <a:off x="5027400" y="2713320"/>
              <a:ext cx="2158920" cy="740880"/>
              <a:chOff x="5027400" y="2713320"/>
              <a:chExt cx="2158920" cy="740880"/>
            </a:xfrm>
          </p:grpSpPr>
          <p:pic>
            <p:nvPicPr>
              <p:cNvPr id="489" name="AutoShape 860" descr=""/>
              <p:cNvPicPr/>
              <p:nvPr/>
            </p:nvPicPr>
            <p:blipFill>
              <a:blip r:embed="rId2"/>
              <a:stretch/>
            </p:blipFill>
            <p:spPr>
              <a:xfrm>
                <a:off x="5027400" y="2713320"/>
                <a:ext cx="2158920" cy="740880"/>
              </a:xfrm>
              <a:prstGeom prst="rect">
                <a:avLst/>
              </a:prstGeom>
              <a:ln w="0">
                <a:noFill/>
              </a:ln>
            </p:spPr>
          </p:pic>
          <p:sp>
            <p:nvSpPr>
              <p:cNvPr id="490" name="Text Box 12"/>
              <p:cNvSpPr/>
              <p:nvPr/>
            </p:nvSpPr>
            <p:spPr>
              <a:xfrm>
                <a:off x="5167080" y="283104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491" name="Group 13"/>
            <p:cNvGrpSpPr/>
            <p:nvPr/>
          </p:nvGrpSpPr>
          <p:grpSpPr>
            <a:xfrm>
              <a:off x="1884240" y="2708280"/>
              <a:ext cx="2176560" cy="746280"/>
              <a:chOff x="1884240" y="2708280"/>
              <a:chExt cx="2176560" cy="746280"/>
            </a:xfrm>
          </p:grpSpPr>
          <p:pic>
            <p:nvPicPr>
              <p:cNvPr id="492" name="AutoShape 864" descr=""/>
              <p:cNvPicPr/>
              <p:nvPr/>
            </p:nvPicPr>
            <p:blipFill>
              <a:blip r:embed="rId3"/>
              <a:stretch/>
            </p:blipFill>
            <p:spPr>
              <a:xfrm>
                <a:off x="1884240" y="2708280"/>
                <a:ext cx="2176560" cy="746280"/>
              </a:xfrm>
              <a:prstGeom prst="rect">
                <a:avLst/>
              </a:prstGeom>
              <a:ln w="0">
                <a:noFill/>
              </a:ln>
            </p:spPr>
          </p:pic>
          <p:sp>
            <p:nvSpPr>
              <p:cNvPr id="493" name="Text Box 15"/>
              <p:cNvSpPr/>
              <p:nvPr/>
            </p:nvSpPr>
            <p:spPr>
              <a:xfrm>
                <a:off x="2022480" y="2829960"/>
                <a:ext cx="173556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494" name="Group 16"/>
            <p:cNvGrpSpPr/>
            <p:nvPr/>
          </p:nvGrpSpPr>
          <p:grpSpPr>
            <a:xfrm>
              <a:off x="5508360" y="3622680"/>
              <a:ext cx="2158920" cy="746280"/>
              <a:chOff x="5508360" y="3622680"/>
              <a:chExt cx="2158920" cy="746280"/>
            </a:xfrm>
          </p:grpSpPr>
          <p:pic>
            <p:nvPicPr>
              <p:cNvPr id="495" name="AutoShape 873" descr=""/>
              <p:cNvPicPr/>
              <p:nvPr/>
            </p:nvPicPr>
            <p:blipFill>
              <a:blip r:embed="rId4"/>
              <a:stretch/>
            </p:blipFill>
            <p:spPr>
              <a:xfrm>
                <a:off x="5508360" y="3622680"/>
                <a:ext cx="2158920" cy="746280"/>
              </a:xfrm>
              <a:prstGeom prst="rect">
                <a:avLst/>
              </a:prstGeom>
              <a:ln w="0">
                <a:noFill/>
              </a:ln>
            </p:spPr>
          </p:pic>
          <p:sp>
            <p:nvSpPr>
              <p:cNvPr id="496" name="Text Box 18"/>
              <p:cNvSpPr/>
              <p:nvPr/>
            </p:nvSpPr>
            <p:spPr>
              <a:xfrm>
                <a:off x="5645520" y="374292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497" name="Group 19"/>
            <p:cNvGrpSpPr/>
            <p:nvPr/>
          </p:nvGrpSpPr>
          <p:grpSpPr>
            <a:xfrm>
              <a:off x="1403280" y="3622680"/>
              <a:ext cx="2176920" cy="746280"/>
              <a:chOff x="1403280" y="3622680"/>
              <a:chExt cx="2176920" cy="746280"/>
            </a:xfrm>
          </p:grpSpPr>
          <p:pic>
            <p:nvPicPr>
              <p:cNvPr id="498" name="AutoShape 876" descr=""/>
              <p:cNvPicPr/>
              <p:nvPr/>
            </p:nvPicPr>
            <p:blipFill>
              <a:blip r:embed="rId5"/>
              <a:stretch/>
            </p:blipFill>
            <p:spPr>
              <a:xfrm>
                <a:off x="1403280" y="3622680"/>
                <a:ext cx="2176920" cy="746280"/>
              </a:xfrm>
              <a:prstGeom prst="rect">
                <a:avLst/>
              </a:prstGeom>
              <a:ln w="0">
                <a:noFill/>
              </a:ln>
            </p:spPr>
          </p:pic>
          <p:sp>
            <p:nvSpPr>
              <p:cNvPr id="499" name="Text Box 21"/>
              <p:cNvSpPr/>
              <p:nvPr/>
            </p:nvSpPr>
            <p:spPr>
              <a:xfrm>
                <a:off x="1542600" y="3741480"/>
                <a:ext cx="173592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00" name="Group 22"/>
            <p:cNvGrpSpPr/>
            <p:nvPr/>
          </p:nvGrpSpPr>
          <p:grpSpPr>
            <a:xfrm>
              <a:off x="5027400" y="4554360"/>
              <a:ext cx="2158920" cy="746280"/>
              <a:chOff x="5027400" y="4554360"/>
              <a:chExt cx="2158920" cy="746280"/>
            </a:xfrm>
          </p:grpSpPr>
          <p:pic>
            <p:nvPicPr>
              <p:cNvPr id="501" name="AutoShape 879" descr=""/>
              <p:cNvPicPr/>
              <p:nvPr/>
            </p:nvPicPr>
            <p:blipFill>
              <a:blip r:embed="rId6"/>
              <a:stretch/>
            </p:blipFill>
            <p:spPr>
              <a:xfrm>
                <a:off x="5027400" y="4554360"/>
                <a:ext cx="2158920" cy="746280"/>
              </a:xfrm>
              <a:prstGeom prst="rect">
                <a:avLst/>
              </a:prstGeom>
              <a:ln w="0">
                <a:noFill/>
              </a:ln>
            </p:spPr>
          </p:pic>
          <p:sp>
            <p:nvSpPr>
              <p:cNvPr id="502" name="Text Box 24"/>
              <p:cNvSpPr/>
              <p:nvPr/>
            </p:nvSpPr>
            <p:spPr>
              <a:xfrm>
                <a:off x="5167080" y="4674960"/>
                <a:ext cx="172044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nvGrpSpPr>
            <p:cNvPr id="503" name="Group 25"/>
            <p:cNvGrpSpPr/>
            <p:nvPr/>
          </p:nvGrpSpPr>
          <p:grpSpPr>
            <a:xfrm>
              <a:off x="1884240" y="4554360"/>
              <a:ext cx="2176560" cy="746280"/>
              <a:chOff x="1884240" y="4554360"/>
              <a:chExt cx="2176560" cy="746280"/>
            </a:xfrm>
          </p:grpSpPr>
          <p:pic>
            <p:nvPicPr>
              <p:cNvPr id="504" name="AutoShape 882" descr=""/>
              <p:cNvPicPr/>
              <p:nvPr/>
            </p:nvPicPr>
            <p:blipFill>
              <a:blip r:embed="rId7"/>
              <a:stretch/>
            </p:blipFill>
            <p:spPr>
              <a:xfrm>
                <a:off x="1884240" y="4554360"/>
                <a:ext cx="2176560" cy="746280"/>
              </a:xfrm>
              <a:prstGeom prst="rect">
                <a:avLst/>
              </a:prstGeom>
              <a:ln w="0">
                <a:noFill/>
              </a:ln>
            </p:spPr>
          </p:pic>
          <p:sp>
            <p:nvSpPr>
              <p:cNvPr id="505" name="Text Box 27"/>
              <p:cNvSpPr/>
              <p:nvPr/>
            </p:nvSpPr>
            <p:spPr>
              <a:xfrm>
                <a:off x="2022480" y="4673520"/>
                <a:ext cx="1735560" cy="276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ea typeface="Times New Roman"/>
                  </a:rPr>
                  <a:t>CONTENTS</a:t>
                </a:r>
                <a:endParaRPr b="0" lang="en-US" sz="2000" spc="-1" strike="noStrike">
                  <a:solidFill>
                    <a:srgbClr val="000000"/>
                  </a:solidFill>
                  <a:latin typeface="Gulim"/>
                </a:endParaRPr>
              </a:p>
            </p:txBody>
          </p:sp>
        </p:grpSp>
      </p:grpSp>
      <p:grpSp>
        <p:nvGrpSpPr>
          <p:cNvPr id="506" name="Group 28"/>
          <p:cNvGrpSpPr/>
          <p:nvPr/>
        </p:nvGrpSpPr>
        <p:grpSpPr>
          <a:xfrm>
            <a:off x="4804200" y="2949840"/>
            <a:ext cx="858240" cy="2163960"/>
            <a:chOff x="4804200" y="2949840"/>
            <a:chExt cx="858240" cy="2163960"/>
          </a:xfrm>
        </p:grpSpPr>
        <p:sp>
          <p:nvSpPr>
            <p:cNvPr id="507" name="오른쪽 화살표 73"/>
            <p:cNvSpPr/>
            <p:nvPr/>
          </p:nvSpPr>
          <p:spPr>
            <a:xfrm rot="10800000">
              <a:off x="5305320" y="3841560"/>
              <a:ext cx="357120" cy="283320"/>
            </a:xfrm>
            <a:prstGeom prst="rightArrow">
              <a:avLst>
                <a:gd name="adj1" fmla="val 33241"/>
                <a:gd name="adj2" fmla="val 75074"/>
              </a:avLst>
            </a:prstGeom>
            <a:solidFill>
              <a:srgbClr val="374517"/>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오른쪽 화살표 75"/>
            <p:cNvSpPr/>
            <p:nvPr/>
          </p:nvSpPr>
          <p:spPr>
            <a:xfrm rot="8233200">
              <a:off x="4852800" y="3033360"/>
              <a:ext cx="357120" cy="283320"/>
            </a:xfrm>
            <a:prstGeom prst="rightArrow">
              <a:avLst>
                <a:gd name="adj1" fmla="val 33241"/>
                <a:gd name="adj2" fmla="val 75074"/>
              </a:avLst>
            </a:prstGeom>
            <a:solidFill>
              <a:srgbClr val="374517"/>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9" name="오른쪽 화살표 76"/>
            <p:cNvSpPr/>
            <p:nvPr/>
          </p:nvSpPr>
          <p:spPr>
            <a:xfrm rot="13500000">
              <a:off x="4889520" y="4708800"/>
              <a:ext cx="283680" cy="356760"/>
            </a:xfrm>
            <a:prstGeom prst="rightArrow">
              <a:avLst>
                <a:gd name="adj1" fmla="val 33241"/>
                <a:gd name="adj2" fmla="val 59699"/>
              </a:avLst>
            </a:prstGeom>
            <a:solidFill>
              <a:srgbClr val="374517"/>
            </a:solidFill>
            <a:ln w="0">
              <a:noFill/>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0" name="Group 32"/>
          <p:cNvGrpSpPr/>
          <p:nvPr/>
        </p:nvGrpSpPr>
        <p:grpSpPr>
          <a:xfrm>
            <a:off x="3404880" y="2949840"/>
            <a:ext cx="858600" cy="2163960"/>
            <a:chOff x="3404880" y="2949840"/>
            <a:chExt cx="858600" cy="2163960"/>
          </a:xfrm>
        </p:grpSpPr>
        <p:sp>
          <p:nvSpPr>
            <p:cNvPr id="511" name="오른쪽 화살표 79"/>
            <p:cNvSpPr/>
            <p:nvPr/>
          </p:nvSpPr>
          <p:spPr>
            <a:xfrm flipH="1" rot="10800000">
              <a:off x="3404880" y="3841560"/>
              <a:ext cx="357120" cy="283320"/>
            </a:xfrm>
            <a:prstGeom prst="rightArrow">
              <a:avLst>
                <a:gd name="adj1" fmla="val 33241"/>
                <a:gd name="adj2" fmla="val 75074"/>
              </a:avLst>
            </a:prstGeom>
            <a:solidFill>
              <a:srgbClr val="374517"/>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2" name="오른쪽 화살표 80"/>
            <p:cNvSpPr/>
            <p:nvPr/>
          </p:nvSpPr>
          <p:spPr>
            <a:xfrm flipH="1" rot="13366800">
              <a:off x="3857040" y="3033000"/>
              <a:ext cx="357120" cy="283680"/>
            </a:xfrm>
            <a:prstGeom prst="rightArrow">
              <a:avLst>
                <a:gd name="adj1" fmla="val 33241"/>
                <a:gd name="adj2" fmla="val 74979"/>
              </a:avLst>
            </a:prstGeom>
            <a:solidFill>
              <a:srgbClr val="374517"/>
            </a:solidFill>
            <a:ln w="0">
              <a:noFill/>
            </a:ln>
          </p:spPr>
          <p:style>
            <a:lnRef idx="0"/>
            <a:fillRef idx="0"/>
            <a:effectRef idx="0"/>
            <a:fontRef idx="minor"/>
          </p:style>
          <p:txBody>
            <a:bodyPr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13" name="오른쪽 화살표 81"/>
            <p:cNvSpPr/>
            <p:nvPr/>
          </p:nvSpPr>
          <p:spPr>
            <a:xfrm flipH="1" rot="8100000">
              <a:off x="3893760" y="4708800"/>
              <a:ext cx="283680" cy="356760"/>
            </a:xfrm>
            <a:prstGeom prst="rightArrow">
              <a:avLst>
                <a:gd name="adj1" fmla="val 33241"/>
                <a:gd name="adj2" fmla="val 59699"/>
              </a:avLst>
            </a:prstGeom>
            <a:solidFill>
              <a:srgbClr val="374517"/>
            </a:solidFill>
            <a:ln w="0">
              <a:noFill/>
            </a:ln>
          </p:spPr>
          <p:style>
            <a:lnRef idx="0"/>
            <a:fillRef idx="0"/>
            <a:effectRef idx="0"/>
            <a:fontRef idx="minor"/>
          </p:style>
          <p:txBody>
            <a:bodyPr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4" name="Group 36"/>
          <p:cNvGrpSpPr/>
          <p:nvPr/>
        </p:nvGrpSpPr>
        <p:grpSpPr>
          <a:xfrm>
            <a:off x="1601640" y="1197000"/>
            <a:ext cx="5929560" cy="930240"/>
            <a:chOff x="1601640" y="1197000"/>
            <a:chExt cx="5929560" cy="930240"/>
          </a:xfrm>
        </p:grpSpPr>
        <p:grpSp>
          <p:nvGrpSpPr>
            <p:cNvPr id="515" name="Group 37"/>
            <p:cNvGrpSpPr/>
            <p:nvPr/>
          </p:nvGrpSpPr>
          <p:grpSpPr>
            <a:xfrm>
              <a:off x="1601640" y="1197000"/>
              <a:ext cx="5929560" cy="930240"/>
              <a:chOff x="1601640" y="1197000"/>
              <a:chExt cx="5929560" cy="930240"/>
            </a:xfrm>
          </p:grpSpPr>
          <p:pic>
            <p:nvPicPr>
              <p:cNvPr id="516" name="AutoShape 864" descr=""/>
              <p:cNvPicPr/>
              <p:nvPr/>
            </p:nvPicPr>
            <p:blipFill>
              <a:blip r:embed="rId8"/>
              <a:stretch/>
            </p:blipFill>
            <p:spPr>
              <a:xfrm>
                <a:off x="1601640" y="1197000"/>
                <a:ext cx="5929560" cy="930240"/>
              </a:xfrm>
              <a:prstGeom prst="rect">
                <a:avLst/>
              </a:prstGeom>
              <a:ln w="0">
                <a:noFill/>
              </a:ln>
            </p:spPr>
          </p:pic>
          <p:sp>
            <p:nvSpPr>
              <p:cNvPr id="517" name="Text Box 39"/>
              <p:cNvSpPr/>
              <p:nvPr/>
            </p:nvSpPr>
            <p:spPr>
              <a:xfrm>
                <a:off x="1784160" y="1352160"/>
                <a:ext cx="5403600" cy="459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18" name="Group 40"/>
            <p:cNvGrpSpPr/>
            <p:nvPr/>
          </p:nvGrpSpPr>
          <p:grpSpPr>
            <a:xfrm>
              <a:off x="1895400" y="1229040"/>
              <a:ext cx="5180760" cy="771480"/>
              <a:chOff x="1895400" y="1229040"/>
              <a:chExt cx="5180760" cy="771480"/>
            </a:xfrm>
          </p:grpSpPr>
          <p:pic>
            <p:nvPicPr>
              <p:cNvPr id="519" name="Picture 49" descr="그림자"/>
              <p:cNvPicPr/>
              <p:nvPr/>
            </p:nvPicPr>
            <p:blipFill>
              <a:blip r:embed="rId9"/>
              <a:stretch/>
            </p:blipFill>
            <p:spPr>
              <a:xfrm>
                <a:off x="1895400" y="1229040"/>
                <a:ext cx="5180760" cy="771480"/>
              </a:xfrm>
              <a:prstGeom prst="rect">
                <a:avLst/>
              </a:prstGeom>
              <a:ln w="0">
                <a:noFill/>
              </a:ln>
            </p:spPr>
          </p:pic>
          <p:sp>
            <p:nvSpPr>
              <p:cNvPr id="520" name="AutoShape 50"/>
              <p:cNvSpPr/>
              <p:nvPr/>
            </p:nvSpPr>
            <p:spPr>
              <a:xfrm>
                <a:off x="2030760" y="1344240"/>
                <a:ext cx="4901040" cy="463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521" name="AutoShape 51"/>
              <p:cNvSpPr/>
              <p:nvPr/>
            </p:nvSpPr>
            <p:spPr>
              <a:xfrm>
                <a:off x="2190600" y="1369440"/>
                <a:ext cx="4588560" cy="21744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07280" bIns="-36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22"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23" name="Group 2"/>
          <p:cNvGrpSpPr/>
          <p:nvPr/>
        </p:nvGrpSpPr>
        <p:grpSpPr>
          <a:xfrm>
            <a:off x="4908600" y="836640"/>
            <a:ext cx="1857240" cy="1851120"/>
            <a:chOff x="4908600" y="836640"/>
            <a:chExt cx="1857240" cy="1851120"/>
          </a:xfrm>
        </p:grpSpPr>
        <p:grpSp>
          <p:nvGrpSpPr>
            <p:cNvPr id="524" name="Group 3"/>
            <p:cNvGrpSpPr/>
            <p:nvPr/>
          </p:nvGrpSpPr>
          <p:grpSpPr>
            <a:xfrm>
              <a:off x="4908600" y="836640"/>
              <a:ext cx="1857240" cy="1851120"/>
              <a:chOff x="4908600" y="836640"/>
              <a:chExt cx="1857240" cy="1851120"/>
            </a:xfrm>
          </p:grpSpPr>
          <p:pic>
            <p:nvPicPr>
              <p:cNvPr id="525" name="Oval 34" descr=""/>
              <p:cNvPicPr/>
              <p:nvPr/>
            </p:nvPicPr>
            <p:blipFill>
              <a:blip r:embed="rId1"/>
              <a:stretch/>
            </p:blipFill>
            <p:spPr>
              <a:xfrm>
                <a:off x="4908600" y="836640"/>
                <a:ext cx="1857240" cy="1851120"/>
              </a:xfrm>
              <a:prstGeom prst="rect">
                <a:avLst/>
              </a:prstGeom>
              <a:ln w="0">
                <a:noFill/>
              </a:ln>
            </p:spPr>
          </p:pic>
          <p:sp>
            <p:nvSpPr>
              <p:cNvPr id="526" name="Text Box 5"/>
              <p:cNvSpPr/>
              <p:nvPr/>
            </p:nvSpPr>
            <p:spPr>
              <a:xfrm>
                <a:off x="5207760" y="112896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7" name="Oval 35"/>
            <p:cNvSpPr/>
            <p:nvPr/>
          </p:nvSpPr>
          <p:spPr>
            <a:xfrm>
              <a:off x="5288400" y="10965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28" name="Oval 36"/>
          <p:cNvSpPr/>
          <p:nvPr/>
        </p:nvSpPr>
        <p:spPr>
          <a:xfrm>
            <a:off x="3360600" y="4200480"/>
            <a:ext cx="4932360" cy="16239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29" name="Group 8"/>
          <p:cNvGrpSpPr/>
          <p:nvPr/>
        </p:nvGrpSpPr>
        <p:grpSpPr>
          <a:xfrm>
            <a:off x="4270320" y="3284640"/>
            <a:ext cx="3115440" cy="3248280"/>
            <a:chOff x="4270320" y="3284640"/>
            <a:chExt cx="3115440" cy="3248280"/>
          </a:xfrm>
        </p:grpSpPr>
        <p:grpSp>
          <p:nvGrpSpPr>
            <p:cNvPr id="530" name="Group 9"/>
            <p:cNvGrpSpPr/>
            <p:nvPr/>
          </p:nvGrpSpPr>
          <p:grpSpPr>
            <a:xfrm>
              <a:off x="4270320" y="4588920"/>
              <a:ext cx="3115440" cy="1944000"/>
              <a:chOff x="4270320" y="4588920"/>
              <a:chExt cx="3115440" cy="1944000"/>
            </a:xfrm>
          </p:grpSpPr>
          <p:sp>
            <p:nvSpPr>
              <p:cNvPr id="531" name="Freeform 39"/>
              <p:cNvSpPr/>
              <p:nvPr/>
            </p:nvSpPr>
            <p:spPr>
              <a:xfrm flipV="1">
                <a:off x="4270320" y="4588920"/>
                <a:ext cx="3115440" cy="1944000"/>
              </a:xfrm>
              <a:custGeom>
                <a:avLst/>
                <a:gdLst>
                  <a:gd name="textAreaLeft" fmla="*/ 0 w 3115440"/>
                  <a:gd name="textAreaRight" fmla="*/ 3115800 w 3115440"/>
                  <a:gd name="textAreaTop" fmla="*/ 360 h 1944000"/>
                  <a:gd name="textAreaBottom" fmla="*/ 1944720 h 194400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solidFill>
                <a:srgbClr val="808080">
                  <a:alpha val="50000"/>
                </a:srgbClr>
              </a:solidFill>
              <a:ln w="0">
                <a:noFill/>
              </a:ln>
            </p:spPr>
            <p:style>
              <a:lnRef idx="0"/>
              <a:fillRef idx="0"/>
              <a:effectRef idx="0"/>
              <a:fontRef idx="minor"/>
            </p:style>
            <p:txBody>
              <a:bodyPr wrap="none" lIns="90000" rIns="90000" tIns="46800" bIns="46800" anchor="ctr" rot="10800000">
                <a:noAutofit/>
              </a:bodyPr>
              <a:p>
                <a:endParaRPr b="0" lang="en-US" sz="1800" spc="-1" strike="noStrike">
                  <a:solidFill>
                    <a:srgbClr val="000000"/>
                  </a:solidFill>
                  <a:latin typeface="Gulim"/>
                </a:endParaRPr>
              </a:p>
            </p:txBody>
          </p:sp>
          <p:sp>
            <p:nvSpPr>
              <p:cNvPr id="532" name="Oval 40"/>
              <p:cNvSpPr/>
              <p:nvPr/>
            </p:nvSpPr>
            <p:spPr>
              <a:xfrm flipV="1">
                <a:off x="4913640" y="5619600"/>
                <a:ext cx="523440" cy="519120"/>
              </a:xfrm>
              <a:prstGeom prst="ellipse">
                <a:avLst/>
              </a:prstGeom>
              <a:gradFill rotWithShape="0">
                <a:gsLst>
                  <a:gs pos="0">
                    <a:srgbClr val="ffffff">
                      <a:alpha val="3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33" name="Group 12"/>
            <p:cNvGrpSpPr/>
            <p:nvPr/>
          </p:nvGrpSpPr>
          <p:grpSpPr>
            <a:xfrm>
              <a:off x="4270320" y="3284640"/>
              <a:ext cx="3115440" cy="1947240"/>
              <a:chOff x="4270320" y="3284640"/>
              <a:chExt cx="3115440" cy="1947240"/>
            </a:xfrm>
          </p:grpSpPr>
          <p:sp>
            <p:nvSpPr>
              <p:cNvPr id="534" name="Freeform 42"/>
              <p:cNvSpPr/>
              <p:nvPr/>
            </p:nvSpPr>
            <p:spPr>
              <a:xfrm>
                <a:off x="4270320" y="3284640"/>
                <a:ext cx="3115440" cy="1947240"/>
              </a:xfrm>
              <a:custGeom>
                <a:avLst/>
                <a:gdLst>
                  <a:gd name="textAreaLeft" fmla="*/ 0 w 3115440"/>
                  <a:gd name="textAreaRight" fmla="*/ 3115800 w 3115440"/>
                  <a:gd name="textAreaTop" fmla="*/ 0 h 1947240"/>
                  <a:gd name="textAreaBottom" fmla="*/ 1947600 h 1947240"/>
                </a:gdLst>
                <a:ahLst/>
                <a:rect l="textAreaLeft" t="textAreaTop" r="textAreaRight" b="textAreaBottom"/>
                <a:pathLst>
                  <a:path w="1862" h="1164">
                    <a:moveTo>
                      <a:pt x="1862" y="930"/>
                    </a:moveTo>
                    <a:lnTo>
                      <a:pt x="1862" y="930"/>
                    </a:lnTo>
                    <a:lnTo>
                      <a:pt x="1860" y="942"/>
                    </a:lnTo>
                    <a:lnTo>
                      <a:pt x="1856" y="954"/>
                    </a:lnTo>
                    <a:lnTo>
                      <a:pt x="1850" y="966"/>
                    </a:lnTo>
                    <a:lnTo>
                      <a:pt x="1842" y="978"/>
                    </a:lnTo>
                    <a:lnTo>
                      <a:pt x="1832" y="988"/>
                    </a:lnTo>
                    <a:lnTo>
                      <a:pt x="1820" y="1000"/>
                    </a:lnTo>
                    <a:lnTo>
                      <a:pt x="1806" y="1010"/>
                    </a:lnTo>
                    <a:lnTo>
                      <a:pt x="1788" y="1020"/>
                    </a:lnTo>
                    <a:lnTo>
                      <a:pt x="1750" y="1042"/>
                    </a:lnTo>
                    <a:lnTo>
                      <a:pt x="1702" y="1060"/>
                    </a:lnTo>
                    <a:lnTo>
                      <a:pt x="1650" y="1078"/>
                    </a:lnTo>
                    <a:lnTo>
                      <a:pt x="1588" y="1094"/>
                    </a:lnTo>
                    <a:lnTo>
                      <a:pt x="1522" y="1110"/>
                    </a:lnTo>
                    <a:lnTo>
                      <a:pt x="1452" y="1124"/>
                    </a:lnTo>
                    <a:lnTo>
                      <a:pt x="1374" y="1134"/>
                    </a:lnTo>
                    <a:lnTo>
                      <a:pt x="1294" y="1144"/>
                    </a:lnTo>
                    <a:lnTo>
                      <a:pt x="1208" y="1152"/>
                    </a:lnTo>
                    <a:lnTo>
                      <a:pt x="1118" y="1158"/>
                    </a:lnTo>
                    <a:lnTo>
                      <a:pt x="1026" y="1162"/>
                    </a:lnTo>
                    <a:lnTo>
                      <a:pt x="930" y="1164"/>
                    </a:lnTo>
                    <a:lnTo>
                      <a:pt x="836" y="1162"/>
                    </a:lnTo>
                    <a:lnTo>
                      <a:pt x="744" y="1158"/>
                    </a:lnTo>
                    <a:lnTo>
                      <a:pt x="654" y="1152"/>
                    </a:lnTo>
                    <a:lnTo>
                      <a:pt x="568" y="1144"/>
                    </a:lnTo>
                    <a:lnTo>
                      <a:pt x="488" y="1134"/>
                    </a:lnTo>
                    <a:lnTo>
                      <a:pt x="410" y="1124"/>
                    </a:lnTo>
                    <a:lnTo>
                      <a:pt x="338" y="1110"/>
                    </a:lnTo>
                    <a:lnTo>
                      <a:pt x="272" y="1094"/>
                    </a:lnTo>
                    <a:lnTo>
                      <a:pt x="212" y="1078"/>
                    </a:lnTo>
                    <a:lnTo>
                      <a:pt x="158" y="1060"/>
                    </a:lnTo>
                    <a:lnTo>
                      <a:pt x="112" y="1042"/>
                    </a:lnTo>
                    <a:lnTo>
                      <a:pt x="74" y="1020"/>
                    </a:lnTo>
                    <a:lnTo>
                      <a:pt x="56" y="1010"/>
                    </a:lnTo>
                    <a:lnTo>
                      <a:pt x="42" y="1000"/>
                    </a:lnTo>
                    <a:lnTo>
                      <a:pt x="30" y="988"/>
                    </a:lnTo>
                    <a:lnTo>
                      <a:pt x="18" y="978"/>
                    </a:lnTo>
                    <a:lnTo>
                      <a:pt x="10" y="966"/>
                    </a:lnTo>
                    <a:lnTo>
                      <a:pt x="4" y="954"/>
                    </a:lnTo>
                    <a:lnTo>
                      <a:pt x="2" y="942"/>
                    </a:lnTo>
                    <a:lnTo>
                      <a:pt x="0" y="930"/>
                    </a:lnTo>
                    <a:lnTo>
                      <a:pt x="2" y="882"/>
                    </a:lnTo>
                    <a:lnTo>
                      <a:pt x="4" y="836"/>
                    </a:lnTo>
                    <a:lnTo>
                      <a:pt x="10" y="788"/>
                    </a:lnTo>
                    <a:lnTo>
                      <a:pt x="18" y="742"/>
                    </a:lnTo>
                    <a:lnTo>
                      <a:pt x="30" y="698"/>
                    </a:lnTo>
                    <a:lnTo>
                      <a:pt x="42" y="654"/>
                    </a:lnTo>
                    <a:lnTo>
                      <a:pt x="56" y="610"/>
                    </a:lnTo>
                    <a:lnTo>
                      <a:pt x="74" y="568"/>
                    </a:lnTo>
                    <a:lnTo>
                      <a:pt x="92" y="526"/>
                    </a:lnTo>
                    <a:lnTo>
                      <a:pt x="112" y="486"/>
                    </a:lnTo>
                    <a:lnTo>
                      <a:pt x="134" y="448"/>
                    </a:lnTo>
                    <a:lnTo>
                      <a:pt x="158" y="410"/>
                    </a:lnTo>
                    <a:lnTo>
                      <a:pt x="184" y="374"/>
                    </a:lnTo>
                    <a:lnTo>
                      <a:pt x="212" y="338"/>
                    </a:lnTo>
                    <a:lnTo>
                      <a:pt x="242" y="304"/>
                    </a:lnTo>
                    <a:lnTo>
                      <a:pt x="272" y="272"/>
                    </a:lnTo>
                    <a:lnTo>
                      <a:pt x="304" y="242"/>
                    </a:lnTo>
                    <a:lnTo>
                      <a:pt x="338" y="212"/>
                    </a:lnTo>
                    <a:lnTo>
                      <a:pt x="374" y="184"/>
                    </a:lnTo>
                    <a:lnTo>
                      <a:pt x="410" y="158"/>
                    </a:lnTo>
                    <a:lnTo>
                      <a:pt x="448" y="134"/>
                    </a:lnTo>
                    <a:lnTo>
                      <a:pt x="488" y="112"/>
                    </a:lnTo>
                    <a:lnTo>
                      <a:pt x="528" y="92"/>
                    </a:lnTo>
                    <a:lnTo>
                      <a:pt x="568" y="72"/>
                    </a:lnTo>
                    <a:lnTo>
                      <a:pt x="610" y="56"/>
                    </a:lnTo>
                    <a:lnTo>
                      <a:pt x="654" y="42"/>
                    </a:lnTo>
                    <a:lnTo>
                      <a:pt x="698" y="28"/>
                    </a:lnTo>
                    <a:lnTo>
                      <a:pt x="744" y="18"/>
                    </a:lnTo>
                    <a:lnTo>
                      <a:pt x="790" y="10"/>
                    </a:lnTo>
                    <a:lnTo>
                      <a:pt x="836" y="4"/>
                    </a:lnTo>
                    <a:lnTo>
                      <a:pt x="882" y="0"/>
                    </a:lnTo>
                    <a:lnTo>
                      <a:pt x="930" y="0"/>
                    </a:lnTo>
                    <a:lnTo>
                      <a:pt x="978" y="0"/>
                    </a:lnTo>
                    <a:lnTo>
                      <a:pt x="1026" y="4"/>
                    </a:lnTo>
                    <a:lnTo>
                      <a:pt x="1072" y="10"/>
                    </a:lnTo>
                    <a:lnTo>
                      <a:pt x="1118" y="18"/>
                    </a:lnTo>
                    <a:lnTo>
                      <a:pt x="1164" y="28"/>
                    </a:lnTo>
                    <a:lnTo>
                      <a:pt x="1208" y="42"/>
                    </a:lnTo>
                    <a:lnTo>
                      <a:pt x="1250" y="56"/>
                    </a:lnTo>
                    <a:lnTo>
                      <a:pt x="1294" y="72"/>
                    </a:lnTo>
                    <a:lnTo>
                      <a:pt x="1334" y="92"/>
                    </a:lnTo>
                    <a:lnTo>
                      <a:pt x="1374" y="112"/>
                    </a:lnTo>
                    <a:lnTo>
                      <a:pt x="1414" y="134"/>
                    </a:lnTo>
                    <a:lnTo>
                      <a:pt x="1452" y="158"/>
                    </a:lnTo>
                    <a:lnTo>
                      <a:pt x="1488" y="184"/>
                    </a:lnTo>
                    <a:lnTo>
                      <a:pt x="1522" y="212"/>
                    </a:lnTo>
                    <a:lnTo>
                      <a:pt x="1556" y="242"/>
                    </a:lnTo>
                    <a:lnTo>
                      <a:pt x="1588" y="272"/>
                    </a:lnTo>
                    <a:lnTo>
                      <a:pt x="1620" y="304"/>
                    </a:lnTo>
                    <a:lnTo>
                      <a:pt x="1650" y="338"/>
                    </a:lnTo>
                    <a:lnTo>
                      <a:pt x="1676" y="374"/>
                    </a:lnTo>
                    <a:lnTo>
                      <a:pt x="1702" y="410"/>
                    </a:lnTo>
                    <a:lnTo>
                      <a:pt x="1726" y="448"/>
                    </a:lnTo>
                    <a:lnTo>
                      <a:pt x="1750" y="486"/>
                    </a:lnTo>
                    <a:lnTo>
                      <a:pt x="1770" y="526"/>
                    </a:lnTo>
                    <a:lnTo>
                      <a:pt x="1788" y="568"/>
                    </a:lnTo>
                    <a:lnTo>
                      <a:pt x="1806" y="610"/>
                    </a:lnTo>
                    <a:lnTo>
                      <a:pt x="1820" y="654"/>
                    </a:lnTo>
                    <a:lnTo>
                      <a:pt x="1832" y="698"/>
                    </a:lnTo>
                    <a:lnTo>
                      <a:pt x="1842" y="742"/>
                    </a:lnTo>
                    <a:lnTo>
                      <a:pt x="1850" y="788"/>
                    </a:lnTo>
                    <a:lnTo>
                      <a:pt x="1856" y="836"/>
                    </a:lnTo>
                    <a:lnTo>
                      <a:pt x="1860" y="882"/>
                    </a:lnTo>
                    <a:lnTo>
                      <a:pt x="1862" y="930"/>
                    </a:lnTo>
                    <a:close/>
                  </a:path>
                </a:pathLst>
              </a:custGeom>
              <a:gradFill rotWithShape="0">
                <a:gsLst>
                  <a:gs pos="0">
                    <a:srgbClr val="bababa"/>
                  </a:gs>
                  <a:gs pos="100000">
                    <a:srgbClr val="80808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535" name="Oval 43"/>
              <p:cNvSpPr/>
              <p:nvPr/>
            </p:nvSpPr>
            <p:spPr>
              <a:xfrm>
                <a:off x="4913640" y="3679200"/>
                <a:ext cx="523440" cy="519840"/>
              </a:xfrm>
              <a:prstGeom prst="ellipse">
                <a:avLst/>
              </a:prstGeom>
              <a:gradFill rotWithShape="0">
                <a:gsLst>
                  <a:gs pos="0">
                    <a:srgbClr val="ffffff">
                      <a:alpha val="50196"/>
                    </a:srgbClr>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36" name="Text Box 44"/>
          <p:cNvSpPr/>
          <p:nvPr/>
        </p:nvSpPr>
        <p:spPr>
          <a:xfrm>
            <a:off x="4260960" y="3700440"/>
            <a:ext cx="3132000" cy="1312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Stylish</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Black"/>
              </a:rPr>
              <a:t>templates</a:t>
            </a:r>
            <a:endParaRPr b="0" lang="en-US" sz="2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an be a valuable aid to</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Black"/>
              </a:rPr>
              <a:t>Creative professionals</a:t>
            </a:r>
            <a:endParaRPr b="0" lang="en-US" sz="1200" spc="-1" strike="noStrike">
              <a:solidFill>
                <a:srgbClr val="000000"/>
              </a:solidFill>
              <a:latin typeface="Gulim"/>
            </a:endParaRPr>
          </a:p>
        </p:txBody>
      </p:sp>
      <p:sp>
        <p:nvSpPr>
          <p:cNvPr id="537" name="Text Box 45"/>
          <p:cNvSpPr/>
          <p:nvPr/>
        </p:nvSpPr>
        <p:spPr>
          <a:xfrm>
            <a:off x="5271120" y="1447920"/>
            <a:ext cx="109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Clarity &amp;</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mpact</a:t>
            </a:r>
            <a:endParaRPr b="0" lang="en-US" sz="1800" spc="-1" strike="noStrike">
              <a:solidFill>
                <a:srgbClr val="000000"/>
              </a:solidFill>
              <a:latin typeface="Gulim"/>
            </a:endParaRPr>
          </a:p>
        </p:txBody>
      </p:sp>
      <p:sp>
        <p:nvSpPr>
          <p:cNvPr id="538" name="AutoShape 46"/>
          <p:cNvSpPr/>
          <p:nvPr/>
        </p:nvSpPr>
        <p:spPr>
          <a:xfrm>
            <a:off x="5376960" y="2529000"/>
            <a:ext cx="914400" cy="753840"/>
          </a:xfrm>
          <a:prstGeom prst="upArrow">
            <a:avLst>
              <a:gd name="adj1" fmla="val 52833"/>
              <a:gd name="adj2" fmla="val 4594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Freeform 47"/>
          <p:cNvSpPr/>
          <p:nvPr/>
        </p:nvSpPr>
        <p:spPr>
          <a:xfrm>
            <a:off x="5052960" y="871560"/>
            <a:ext cx="1584360" cy="525600"/>
          </a:xfrm>
          <a:custGeom>
            <a:avLst/>
            <a:gdLst>
              <a:gd name="textAreaLeft" fmla="*/ 0 w 1584360"/>
              <a:gd name="textAreaRight" fmla="*/ 1584720 w 1584360"/>
              <a:gd name="textAreaTop" fmla="*/ 0 h 525600"/>
              <a:gd name="textAreaBottom" fmla="*/ 525960 h 52560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40" name="Group 19"/>
          <p:cNvGrpSpPr/>
          <p:nvPr/>
        </p:nvGrpSpPr>
        <p:grpSpPr>
          <a:xfrm>
            <a:off x="3000240" y="1555920"/>
            <a:ext cx="1924200" cy="2768040"/>
            <a:chOff x="3000240" y="1555920"/>
            <a:chExt cx="1924200" cy="2768040"/>
          </a:xfrm>
        </p:grpSpPr>
        <p:grpSp>
          <p:nvGrpSpPr>
            <p:cNvPr id="541" name="Group 20"/>
            <p:cNvGrpSpPr/>
            <p:nvPr/>
          </p:nvGrpSpPr>
          <p:grpSpPr>
            <a:xfrm>
              <a:off x="3000240" y="1555920"/>
              <a:ext cx="1924200" cy="2768040"/>
              <a:chOff x="3000240" y="1555920"/>
              <a:chExt cx="1924200" cy="2768040"/>
            </a:xfrm>
          </p:grpSpPr>
          <p:sp>
            <p:nvSpPr>
              <p:cNvPr id="542" name="Oval 50"/>
              <p:cNvSpPr/>
              <p:nvPr/>
            </p:nvSpPr>
            <p:spPr>
              <a:xfrm>
                <a:off x="3000240" y="3527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43" name="Group 22"/>
              <p:cNvGrpSpPr/>
              <p:nvPr/>
            </p:nvGrpSpPr>
            <p:grpSpPr>
              <a:xfrm>
                <a:off x="3016080" y="1555920"/>
                <a:ext cx="1857240" cy="1850760"/>
                <a:chOff x="3016080" y="1555920"/>
                <a:chExt cx="1857240" cy="1850760"/>
              </a:xfrm>
            </p:grpSpPr>
            <p:grpSp>
              <p:nvGrpSpPr>
                <p:cNvPr id="544" name="Group 23"/>
                <p:cNvGrpSpPr/>
                <p:nvPr/>
              </p:nvGrpSpPr>
              <p:grpSpPr>
                <a:xfrm>
                  <a:off x="3016080" y="1555920"/>
                  <a:ext cx="1857240" cy="1850760"/>
                  <a:chOff x="3016080" y="1555920"/>
                  <a:chExt cx="1857240" cy="1850760"/>
                </a:xfrm>
              </p:grpSpPr>
              <p:pic>
                <p:nvPicPr>
                  <p:cNvPr id="545" name="Oval 52" descr=""/>
                  <p:cNvPicPr/>
                  <p:nvPr/>
                </p:nvPicPr>
                <p:blipFill>
                  <a:blip r:embed="rId2"/>
                  <a:stretch/>
                </p:blipFill>
                <p:spPr>
                  <a:xfrm>
                    <a:off x="3016080" y="1555920"/>
                    <a:ext cx="1857240" cy="1850760"/>
                  </a:xfrm>
                  <a:prstGeom prst="rect">
                    <a:avLst/>
                  </a:prstGeom>
                  <a:ln w="0">
                    <a:noFill/>
                  </a:ln>
                </p:spPr>
              </p:pic>
              <p:sp>
                <p:nvSpPr>
                  <p:cNvPr id="546" name="Text Box 25"/>
                  <p:cNvSpPr/>
                  <p:nvPr/>
                </p:nvSpPr>
                <p:spPr>
                  <a:xfrm>
                    <a:off x="3313800" y="1847880"/>
                    <a:ext cx="111780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47" name="Oval 53"/>
                <p:cNvSpPr/>
                <p:nvPr/>
              </p:nvSpPr>
              <p:spPr>
                <a:xfrm>
                  <a:off x="3394800" y="1814760"/>
                  <a:ext cx="26532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48" name="Text Box 54"/>
            <p:cNvSpPr/>
            <p:nvPr/>
          </p:nvSpPr>
          <p:spPr>
            <a:xfrm>
              <a:off x="3250080" y="2163600"/>
              <a:ext cx="1354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Inspiration</a:t>
              </a:r>
              <a:endParaRPr b="0" lang="en-US" sz="1800" spc="-1" strike="noStrike">
                <a:solidFill>
                  <a:srgbClr val="000000"/>
                </a:solidFill>
                <a:latin typeface="Gulim"/>
              </a:endParaRPr>
            </a:p>
          </p:txBody>
        </p:sp>
        <p:sp>
          <p:nvSpPr>
            <p:cNvPr id="549" name="Freeform 55"/>
            <p:cNvSpPr/>
            <p:nvPr/>
          </p:nvSpPr>
          <p:spPr>
            <a:xfrm>
              <a:off x="314460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550" name="Group 29"/>
          <p:cNvGrpSpPr/>
          <p:nvPr/>
        </p:nvGrpSpPr>
        <p:grpSpPr>
          <a:xfrm>
            <a:off x="6781680" y="1555920"/>
            <a:ext cx="1924200" cy="2768040"/>
            <a:chOff x="6781680" y="1555920"/>
            <a:chExt cx="1924200" cy="2768040"/>
          </a:xfrm>
        </p:grpSpPr>
        <p:grpSp>
          <p:nvGrpSpPr>
            <p:cNvPr id="551" name="Group 30"/>
            <p:cNvGrpSpPr/>
            <p:nvPr/>
          </p:nvGrpSpPr>
          <p:grpSpPr>
            <a:xfrm>
              <a:off x="6781680" y="1555920"/>
              <a:ext cx="1924200" cy="2768040"/>
              <a:chOff x="6781680" y="1555920"/>
              <a:chExt cx="1924200" cy="2768040"/>
            </a:xfrm>
          </p:grpSpPr>
          <p:sp>
            <p:nvSpPr>
              <p:cNvPr id="552" name="Oval 58"/>
              <p:cNvSpPr/>
              <p:nvPr/>
            </p:nvSpPr>
            <p:spPr>
              <a:xfrm>
                <a:off x="6781680" y="3527280"/>
                <a:ext cx="1924200" cy="79668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53" name="Group 32"/>
              <p:cNvGrpSpPr/>
              <p:nvPr/>
            </p:nvGrpSpPr>
            <p:grpSpPr>
              <a:xfrm>
                <a:off x="6797520" y="1555920"/>
                <a:ext cx="1857240" cy="1850760"/>
                <a:chOff x="6797520" y="1555920"/>
                <a:chExt cx="1857240" cy="1850760"/>
              </a:xfrm>
            </p:grpSpPr>
            <p:grpSp>
              <p:nvGrpSpPr>
                <p:cNvPr id="554" name="Group 33"/>
                <p:cNvGrpSpPr/>
                <p:nvPr/>
              </p:nvGrpSpPr>
              <p:grpSpPr>
                <a:xfrm>
                  <a:off x="6797520" y="1555920"/>
                  <a:ext cx="1857240" cy="1850760"/>
                  <a:chOff x="6797520" y="1555920"/>
                  <a:chExt cx="1857240" cy="1850760"/>
                </a:xfrm>
              </p:grpSpPr>
              <p:pic>
                <p:nvPicPr>
                  <p:cNvPr id="555" name="Oval 60" descr=""/>
                  <p:cNvPicPr/>
                  <p:nvPr/>
                </p:nvPicPr>
                <p:blipFill>
                  <a:blip r:embed="rId3"/>
                  <a:stretch/>
                </p:blipFill>
                <p:spPr>
                  <a:xfrm>
                    <a:off x="6797520" y="1555920"/>
                    <a:ext cx="1857240" cy="1850760"/>
                  </a:xfrm>
                  <a:prstGeom prst="rect">
                    <a:avLst/>
                  </a:prstGeom>
                  <a:ln w="0">
                    <a:noFill/>
                  </a:ln>
                </p:spPr>
              </p:pic>
              <p:sp>
                <p:nvSpPr>
                  <p:cNvPr id="556" name="Text Box 35"/>
                  <p:cNvSpPr/>
                  <p:nvPr/>
                </p:nvSpPr>
                <p:spPr>
                  <a:xfrm>
                    <a:off x="7095960" y="1847880"/>
                    <a:ext cx="1114560" cy="11070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557" name="Oval 61"/>
                <p:cNvSpPr/>
                <p:nvPr/>
              </p:nvSpPr>
              <p:spPr>
                <a:xfrm>
                  <a:off x="7176240" y="1814760"/>
                  <a:ext cx="264600" cy="26208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558" name="Text Box 62"/>
            <p:cNvSpPr/>
            <p:nvPr/>
          </p:nvSpPr>
          <p:spPr>
            <a:xfrm>
              <a:off x="7146720" y="2163600"/>
              <a:ext cx="11714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Premium</a:t>
              </a:r>
              <a:endParaRPr b="0" lang="en-US" sz="1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Design</a:t>
              </a:r>
              <a:endParaRPr b="0" lang="en-US" sz="1800" spc="-1" strike="noStrike">
                <a:solidFill>
                  <a:srgbClr val="000000"/>
                </a:solidFill>
                <a:latin typeface="Gulim"/>
              </a:endParaRPr>
            </a:p>
          </p:txBody>
        </p:sp>
        <p:sp>
          <p:nvSpPr>
            <p:cNvPr id="559" name="Freeform 63"/>
            <p:cNvSpPr/>
            <p:nvPr/>
          </p:nvSpPr>
          <p:spPr>
            <a:xfrm>
              <a:off x="6924600" y="1587240"/>
              <a:ext cx="1584360" cy="525240"/>
            </a:xfrm>
            <a:custGeom>
              <a:avLst/>
              <a:gdLst>
                <a:gd name="textAreaLeft" fmla="*/ 0 w 1584360"/>
                <a:gd name="textAreaRight" fmla="*/ 1584720 w 1584360"/>
                <a:gd name="textAreaTop" fmla="*/ 0 h 525240"/>
                <a:gd name="textAreaBottom" fmla="*/ 525600 h 52524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560" name="Freeform 64"/>
          <p:cNvSpPr/>
          <p:nvPr/>
        </p:nvSpPr>
        <p:spPr>
          <a:xfrm>
            <a:off x="4367160" y="3330720"/>
            <a:ext cx="2917800" cy="1054080"/>
          </a:xfrm>
          <a:custGeom>
            <a:avLst/>
            <a:gdLst>
              <a:gd name="textAreaLeft" fmla="*/ 0 w 2917800"/>
              <a:gd name="textAreaRight" fmla="*/ 2918160 w 2917800"/>
              <a:gd name="textAreaTop" fmla="*/ 0 h 1054080"/>
              <a:gd name="textAreaBottom" fmla="*/ 1054440 h 1054080"/>
            </a:gdLst>
            <a:ahLst/>
            <a:rect l="textAreaLeft" t="textAreaTop" r="textAreaRight" b="textAreaBottom"/>
            <a:pathLst>
              <a:path w="4756" h="1576">
                <a:moveTo>
                  <a:pt x="0" y="1576"/>
                </a:moveTo>
                <a:lnTo>
                  <a:pt x="0" y="1576"/>
                </a:lnTo>
                <a:lnTo>
                  <a:pt x="24" y="1518"/>
                </a:lnTo>
                <a:lnTo>
                  <a:pt x="50" y="1462"/>
                </a:lnTo>
                <a:lnTo>
                  <a:pt x="78" y="1406"/>
                </a:lnTo>
                <a:lnTo>
                  <a:pt x="108" y="1350"/>
                </a:lnTo>
                <a:lnTo>
                  <a:pt x="138" y="1296"/>
                </a:lnTo>
                <a:lnTo>
                  <a:pt x="170" y="1242"/>
                </a:lnTo>
                <a:lnTo>
                  <a:pt x="204" y="1190"/>
                </a:lnTo>
                <a:lnTo>
                  <a:pt x="238" y="1138"/>
                </a:lnTo>
                <a:lnTo>
                  <a:pt x="272" y="1086"/>
                </a:lnTo>
                <a:lnTo>
                  <a:pt x="310" y="1036"/>
                </a:lnTo>
                <a:lnTo>
                  <a:pt x="348" y="988"/>
                </a:lnTo>
                <a:lnTo>
                  <a:pt x="386" y="940"/>
                </a:lnTo>
                <a:lnTo>
                  <a:pt x="426" y="892"/>
                </a:lnTo>
                <a:lnTo>
                  <a:pt x="468" y="846"/>
                </a:lnTo>
                <a:lnTo>
                  <a:pt x="510" y="800"/>
                </a:lnTo>
                <a:lnTo>
                  <a:pt x="552" y="756"/>
                </a:lnTo>
                <a:lnTo>
                  <a:pt x="596" y="712"/>
                </a:lnTo>
                <a:lnTo>
                  <a:pt x="642" y="670"/>
                </a:lnTo>
                <a:lnTo>
                  <a:pt x="688" y="630"/>
                </a:lnTo>
                <a:lnTo>
                  <a:pt x="736" y="590"/>
                </a:lnTo>
                <a:lnTo>
                  <a:pt x="784" y="550"/>
                </a:lnTo>
                <a:lnTo>
                  <a:pt x="834" y="512"/>
                </a:lnTo>
                <a:lnTo>
                  <a:pt x="884" y="476"/>
                </a:lnTo>
                <a:lnTo>
                  <a:pt x="934" y="440"/>
                </a:lnTo>
                <a:lnTo>
                  <a:pt x="986" y="406"/>
                </a:lnTo>
                <a:lnTo>
                  <a:pt x="1040" y="374"/>
                </a:lnTo>
                <a:lnTo>
                  <a:pt x="1092" y="342"/>
                </a:lnTo>
                <a:lnTo>
                  <a:pt x="1148" y="312"/>
                </a:lnTo>
                <a:lnTo>
                  <a:pt x="1202" y="282"/>
                </a:lnTo>
                <a:lnTo>
                  <a:pt x="1258" y="254"/>
                </a:lnTo>
                <a:lnTo>
                  <a:pt x="1316" y="228"/>
                </a:lnTo>
                <a:lnTo>
                  <a:pt x="1374" y="202"/>
                </a:lnTo>
                <a:lnTo>
                  <a:pt x="1432" y="178"/>
                </a:lnTo>
                <a:lnTo>
                  <a:pt x="1490" y="156"/>
                </a:lnTo>
                <a:lnTo>
                  <a:pt x="1550" y="136"/>
                </a:lnTo>
                <a:lnTo>
                  <a:pt x="1610" y="116"/>
                </a:lnTo>
                <a:lnTo>
                  <a:pt x="1672" y="98"/>
                </a:lnTo>
                <a:lnTo>
                  <a:pt x="1732" y="80"/>
                </a:lnTo>
                <a:lnTo>
                  <a:pt x="1794" y="66"/>
                </a:lnTo>
                <a:lnTo>
                  <a:pt x="1858" y="52"/>
                </a:lnTo>
                <a:lnTo>
                  <a:pt x="1922" y="40"/>
                </a:lnTo>
                <a:lnTo>
                  <a:pt x="1984" y="30"/>
                </a:lnTo>
                <a:lnTo>
                  <a:pt x="2050" y="20"/>
                </a:lnTo>
                <a:lnTo>
                  <a:pt x="2114" y="12"/>
                </a:lnTo>
                <a:lnTo>
                  <a:pt x="2180" y="8"/>
                </a:lnTo>
                <a:lnTo>
                  <a:pt x="2246" y="2"/>
                </a:lnTo>
                <a:lnTo>
                  <a:pt x="2312" y="0"/>
                </a:lnTo>
                <a:lnTo>
                  <a:pt x="2378" y="0"/>
                </a:lnTo>
                <a:lnTo>
                  <a:pt x="2444" y="0"/>
                </a:lnTo>
                <a:lnTo>
                  <a:pt x="2510" y="2"/>
                </a:lnTo>
                <a:lnTo>
                  <a:pt x="2576" y="8"/>
                </a:lnTo>
                <a:lnTo>
                  <a:pt x="2642" y="12"/>
                </a:lnTo>
                <a:lnTo>
                  <a:pt x="2706" y="20"/>
                </a:lnTo>
                <a:lnTo>
                  <a:pt x="2772" y="30"/>
                </a:lnTo>
                <a:lnTo>
                  <a:pt x="2834" y="40"/>
                </a:lnTo>
                <a:lnTo>
                  <a:pt x="2898" y="52"/>
                </a:lnTo>
                <a:lnTo>
                  <a:pt x="2962" y="66"/>
                </a:lnTo>
                <a:lnTo>
                  <a:pt x="3024" y="80"/>
                </a:lnTo>
                <a:lnTo>
                  <a:pt x="3084" y="98"/>
                </a:lnTo>
                <a:lnTo>
                  <a:pt x="3146" y="116"/>
                </a:lnTo>
                <a:lnTo>
                  <a:pt x="3206" y="136"/>
                </a:lnTo>
                <a:lnTo>
                  <a:pt x="3266" y="156"/>
                </a:lnTo>
                <a:lnTo>
                  <a:pt x="3324" y="178"/>
                </a:lnTo>
                <a:lnTo>
                  <a:pt x="3382" y="202"/>
                </a:lnTo>
                <a:lnTo>
                  <a:pt x="3440" y="228"/>
                </a:lnTo>
                <a:lnTo>
                  <a:pt x="3498" y="254"/>
                </a:lnTo>
                <a:lnTo>
                  <a:pt x="3554" y="282"/>
                </a:lnTo>
                <a:lnTo>
                  <a:pt x="3608" y="312"/>
                </a:lnTo>
                <a:lnTo>
                  <a:pt x="3664" y="342"/>
                </a:lnTo>
                <a:lnTo>
                  <a:pt x="3716" y="374"/>
                </a:lnTo>
                <a:lnTo>
                  <a:pt x="3770" y="406"/>
                </a:lnTo>
                <a:lnTo>
                  <a:pt x="3822" y="440"/>
                </a:lnTo>
                <a:lnTo>
                  <a:pt x="3872" y="476"/>
                </a:lnTo>
                <a:lnTo>
                  <a:pt x="3922" y="512"/>
                </a:lnTo>
                <a:lnTo>
                  <a:pt x="3972" y="550"/>
                </a:lnTo>
                <a:lnTo>
                  <a:pt x="4020" y="590"/>
                </a:lnTo>
                <a:lnTo>
                  <a:pt x="4068" y="630"/>
                </a:lnTo>
                <a:lnTo>
                  <a:pt x="4114" y="670"/>
                </a:lnTo>
                <a:lnTo>
                  <a:pt x="4160" y="712"/>
                </a:lnTo>
                <a:lnTo>
                  <a:pt x="4204" y="756"/>
                </a:lnTo>
                <a:lnTo>
                  <a:pt x="4246" y="800"/>
                </a:lnTo>
                <a:lnTo>
                  <a:pt x="4288" y="846"/>
                </a:lnTo>
                <a:lnTo>
                  <a:pt x="4330" y="892"/>
                </a:lnTo>
                <a:lnTo>
                  <a:pt x="4370" y="940"/>
                </a:lnTo>
                <a:lnTo>
                  <a:pt x="4410" y="988"/>
                </a:lnTo>
                <a:lnTo>
                  <a:pt x="4446" y="1036"/>
                </a:lnTo>
                <a:lnTo>
                  <a:pt x="4484" y="1086"/>
                </a:lnTo>
                <a:lnTo>
                  <a:pt x="4518" y="1138"/>
                </a:lnTo>
                <a:lnTo>
                  <a:pt x="4552" y="1190"/>
                </a:lnTo>
                <a:lnTo>
                  <a:pt x="4586" y="1242"/>
                </a:lnTo>
                <a:lnTo>
                  <a:pt x="4618" y="1296"/>
                </a:lnTo>
                <a:lnTo>
                  <a:pt x="4648" y="1350"/>
                </a:lnTo>
                <a:lnTo>
                  <a:pt x="4678" y="1406"/>
                </a:lnTo>
                <a:lnTo>
                  <a:pt x="4706" y="1462"/>
                </a:lnTo>
                <a:lnTo>
                  <a:pt x="4732" y="1518"/>
                </a:lnTo>
                <a:lnTo>
                  <a:pt x="4756" y="1576"/>
                </a:lnTo>
                <a:lnTo>
                  <a:pt x="0" y="1576"/>
                </a:lnTo>
                <a:close/>
              </a:path>
            </a:pathLst>
          </a:custGeom>
          <a:gradFill rotWithShape="0">
            <a:gsLst>
              <a:gs pos="0">
                <a:srgbClr val="ffffff"/>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1" name="AutoShape 65"/>
          <p:cNvSpPr/>
          <p:nvPr/>
        </p:nvSpPr>
        <p:spPr>
          <a:xfrm rot="19232400">
            <a:off x="4189320" y="2925720"/>
            <a:ext cx="914400" cy="754200"/>
          </a:xfrm>
          <a:prstGeom prst="upArrow">
            <a:avLst>
              <a:gd name="adj1" fmla="val 52833"/>
              <a:gd name="adj2" fmla="val 45940"/>
            </a:avLst>
          </a:prstGeom>
          <a:gradFill rotWithShape="0">
            <a:gsLst>
              <a:gs pos="0">
                <a:srgbClr val="ffffff"/>
              </a:gs>
              <a:gs pos="100000">
                <a:srgbClr val="ffffff">
                  <a:alpha val="0"/>
                </a:srgbClr>
              </a:gs>
            </a:gsLst>
            <a:lin ang="777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2" name="AutoShape 66"/>
          <p:cNvSpPr/>
          <p:nvPr/>
        </p:nvSpPr>
        <p:spPr>
          <a:xfrm rot="2479800">
            <a:off x="6529320" y="2923920"/>
            <a:ext cx="914400" cy="753840"/>
          </a:xfrm>
          <a:prstGeom prst="upArrow">
            <a:avLst>
              <a:gd name="adj1" fmla="val 52833"/>
              <a:gd name="adj2" fmla="val 45940"/>
            </a:avLst>
          </a:prstGeom>
          <a:gradFill rotWithShape="0">
            <a:gsLst>
              <a:gs pos="0">
                <a:srgbClr val="ffffff"/>
              </a:gs>
              <a:gs pos="100000">
                <a:srgbClr val="ffffff">
                  <a:alpha val="0"/>
                </a:srgbClr>
              </a:gs>
            </a:gsLst>
            <a:lin ang="2922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3" name="Text Box 67"/>
          <p:cNvSpPr/>
          <p:nvPr/>
        </p:nvSpPr>
        <p:spPr>
          <a:xfrm>
            <a:off x="324000" y="3475080"/>
            <a:ext cx="3313080" cy="1647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Pictures speak</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1,000 wor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Catch The feel of Design in contemporary</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colors and styles</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Creative Visual Aids!</a:t>
            </a:r>
            <a:endParaRPr b="0" lang="en-US" sz="18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Feel the touch of Design on the cutting edge</a:t>
            </a:r>
            <a:endParaRPr b="0" lang="en-US" sz="1200" spc="-1" strike="noStrike">
              <a:solidFill>
                <a:srgbClr val="000000"/>
              </a:solidFill>
              <a:latin typeface="Gulim"/>
            </a:endParaRPr>
          </a:p>
        </p:txBody>
      </p:sp>
      <p:sp>
        <p:nvSpPr>
          <p:cNvPr id="564"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57"/>
          <p:cNvSpPr/>
          <p:nvPr/>
        </p:nvSpPr>
        <p:spPr>
          <a:xfrm>
            <a:off x="1685880" y="479736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6" name="Rectangle 58"/>
          <p:cNvSpPr/>
          <p:nvPr/>
        </p:nvSpPr>
        <p:spPr>
          <a:xfrm>
            <a:off x="1692360" y="406224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7" name="Rectangle 59"/>
          <p:cNvSpPr/>
          <p:nvPr/>
        </p:nvSpPr>
        <p:spPr>
          <a:xfrm>
            <a:off x="1685880" y="3355920"/>
            <a:ext cx="6408720" cy="35892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8" name="Rectangle 60"/>
          <p:cNvSpPr/>
          <p:nvPr/>
        </p:nvSpPr>
        <p:spPr>
          <a:xfrm>
            <a:off x="1685880" y="263700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Rectangle 61"/>
          <p:cNvSpPr/>
          <p:nvPr/>
        </p:nvSpPr>
        <p:spPr>
          <a:xfrm>
            <a:off x="1685880" y="1916280"/>
            <a:ext cx="6408720" cy="358560"/>
          </a:xfrm>
          <a:prstGeom prst="rect">
            <a:avLst/>
          </a:prstGeom>
          <a:solidFill>
            <a:srgbClr val="ffffff">
              <a:alpha val="3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70" name="Group 7"/>
          <p:cNvGrpSpPr/>
          <p:nvPr/>
        </p:nvGrpSpPr>
        <p:grpSpPr>
          <a:xfrm>
            <a:off x="2328840" y="4724280"/>
            <a:ext cx="1047600" cy="695160"/>
            <a:chOff x="2328840" y="4724280"/>
            <a:chExt cx="1047600" cy="695160"/>
          </a:xfrm>
        </p:grpSpPr>
        <p:pic>
          <p:nvPicPr>
            <p:cNvPr id="571" name="Rectangle 62" descr=""/>
            <p:cNvPicPr/>
            <p:nvPr/>
          </p:nvPicPr>
          <p:blipFill>
            <a:blip r:embed="rId1"/>
            <a:stretch/>
          </p:blipFill>
          <p:spPr>
            <a:xfrm>
              <a:off x="2328840" y="4724280"/>
              <a:ext cx="1047600" cy="695160"/>
            </a:xfrm>
            <a:prstGeom prst="rect">
              <a:avLst/>
            </a:prstGeom>
            <a:ln w="0">
              <a:noFill/>
            </a:ln>
          </p:spPr>
        </p:pic>
        <p:sp>
          <p:nvSpPr>
            <p:cNvPr id="572" name="Text Box 9"/>
            <p:cNvSpPr/>
            <p:nvPr/>
          </p:nvSpPr>
          <p:spPr>
            <a:xfrm>
              <a:off x="2406600" y="479736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3" name="Group 10"/>
          <p:cNvGrpSpPr/>
          <p:nvPr/>
        </p:nvGrpSpPr>
        <p:grpSpPr>
          <a:xfrm>
            <a:off x="3048120" y="4363920"/>
            <a:ext cx="1047600" cy="695160"/>
            <a:chOff x="3048120" y="4363920"/>
            <a:chExt cx="1047600" cy="695160"/>
          </a:xfrm>
        </p:grpSpPr>
        <p:pic>
          <p:nvPicPr>
            <p:cNvPr id="574" name="Rectangle 63" descr=""/>
            <p:cNvPicPr/>
            <p:nvPr/>
          </p:nvPicPr>
          <p:blipFill>
            <a:blip r:embed="rId2"/>
            <a:stretch/>
          </p:blipFill>
          <p:spPr>
            <a:xfrm>
              <a:off x="3048120" y="4363920"/>
              <a:ext cx="1047600" cy="695160"/>
            </a:xfrm>
            <a:prstGeom prst="rect">
              <a:avLst/>
            </a:prstGeom>
            <a:ln w="0">
              <a:noFill/>
            </a:ln>
          </p:spPr>
        </p:pic>
        <p:sp>
          <p:nvSpPr>
            <p:cNvPr id="575" name="Text Box 12"/>
            <p:cNvSpPr/>
            <p:nvPr/>
          </p:nvSpPr>
          <p:spPr>
            <a:xfrm>
              <a:off x="3125880" y="443700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6" name="Group 13"/>
          <p:cNvGrpSpPr/>
          <p:nvPr/>
        </p:nvGrpSpPr>
        <p:grpSpPr>
          <a:xfrm>
            <a:off x="3767040" y="4005360"/>
            <a:ext cx="1049400" cy="695160"/>
            <a:chOff x="3767040" y="4005360"/>
            <a:chExt cx="1049400" cy="695160"/>
          </a:xfrm>
        </p:grpSpPr>
        <p:pic>
          <p:nvPicPr>
            <p:cNvPr id="577" name="Rectangle 64" descr=""/>
            <p:cNvPicPr/>
            <p:nvPr/>
          </p:nvPicPr>
          <p:blipFill>
            <a:blip r:embed="rId3"/>
            <a:stretch/>
          </p:blipFill>
          <p:spPr>
            <a:xfrm>
              <a:off x="3767040" y="4005360"/>
              <a:ext cx="1049400" cy="695160"/>
            </a:xfrm>
            <a:prstGeom prst="rect">
              <a:avLst/>
            </a:prstGeom>
            <a:ln w="0">
              <a:noFill/>
            </a:ln>
          </p:spPr>
        </p:pic>
        <p:sp>
          <p:nvSpPr>
            <p:cNvPr id="578" name="Text Box 15"/>
            <p:cNvSpPr/>
            <p:nvPr/>
          </p:nvSpPr>
          <p:spPr>
            <a:xfrm>
              <a:off x="3846240" y="4076640"/>
              <a:ext cx="72108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79" name="Group 16"/>
          <p:cNvGrpSpPr/>
          <p:nvPr/>
        </p:nvGrpSpPr>
        <p:grpSpPr>
          <a:xfrm>
            <a:off x="4486320" y="3645000"/>
            <a:ext cx="1049400" cy="695160"/>
            <a:chOff x="4486320" y="3645000"/>
            <a:chExt cx="1049400" cy="695160"/>
          </a:xfrm>
        </p:grpSpPr>
        <p:pic>
          <p:nvPicPr>
            <p:cNvPr id="580" name="Rectangle 65" descr=""/>
            <p:cNvPicPr/>
            <p:nvPr/>
          </p:nvPicPr>
          <p:blipFill>
            <a:blip r:embed="rId4"/>
            <a:stretch/>
          </p:blipFill>
          <p:spPr>
            <a:xfrm>
              <a:off x="4486320" y="3645000"/>
              <a:ext cx="1049400" cy="695160"/>
            </a:xfrm>
            <a:prstGeom prst="rect">
              <a:avLst/>
            </a:prstGeom>
            <a:ln w="0">
              <a:noFill/>
            </a:ln>
          </p:spPr>
        </p:pic>
        <p:sp>
          <p:nvSpPr>
            <p:cNvPr id="581" name="Text Box 18"/>
            <p:cNvSpPr/>
            <p:nvPr/>
          </p:nvSpPr>
          <p:spPr>
            <a:xfrm>
              <a:off x="4567320" y="371628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2" name="Group 19"/>
          <p:cNvGrpSpPr/>
          <p:nvPr/>
        </p:nvGrpSpPr>
        <p:grpSpPr>
          <a:xfrm>
            <a:off x="5205240" y="3286080"/>
            <a:ext cx="1049400" cy="695160"/>
            <a:chOff x="5205240" y="3286080"/>
            <a:chExt cx="1049400" cy="695160"/>
          </a:xfrm>
        </p:grpSpPr>
        <p:pic>
          <p:nvPicPr>
            <p:cNvPr id="583" name="Rectangle 66" descr=""/>
            <p:cNvPicPr/>
            <p:nvPr/>
          </p:nvPicPr>
          <p:blipFill>
            <a:blip r:embed="rId5"/>
            <a:stretch/>
          </p:blipFill>
          <p:spPr>
            <a:xfrm>
              <a:off x="5205240" y="3286080"/>
              <a:ext cx="1049400" cy="695160"/>
            </a:xfrm>
            <a:prstGeom prst="rect">
              <a:avLst/>
            </a:prstGeom>
            <a:ln w="0">
              <a:noFill/>
            </a:ln>
          </p:spPr>
        </p:pic>
        <p:sp>
          <p:nvSpPr>
            <p:cNvPr id="584" name="Text Box 21"/>
            <p:cNvSpPr/>
            <p:nvPr/>
          </p:nvSpPr>
          <p:spPr>
            <a:xfrm>
              <a:off x="5286240" y="3357360"/>
              <a:ext cx="72072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5" name="Group 22"/>
          <p:cNvGrpSpPr/>
          <p:nvPr/>
        </p:nvGrpSpPr>
        <p:grpSpPr>
          <a:xfrm>
            <a:off x="6291360" y="2567160"/>
            <a:ext cx="1047600" cy="688680"/>
            <a:chOff x="6291360" y="2567160"/>
            <a:chExt cx="1047600" cy="688680"/>
          </a:xfrm>
        </p:grpSpPr>
        <p:pic>
          <p:nvPicPr>
            <p:cNvPr id="586" name="Rectangle 67" descr=""/>
            <p:cNvPicPr/>
            <p:nvPr/>
          </p:nvPicPr>
          <p:blipFill>
            <a:blip r:embed="rId6"/>
            <a:stretch/>
          </p:blipFill>
          <p:spPr>
            <a:xfrm>
              <a:off x="6291360" y="2567160"/>
              <a:ext cx="1047600" cy="688680"/>
            </a:xfrm>
            <a:prstGeom prst="rect">
              <a:avLst/>
            </a:prstGeom>
            <a:ln w="0">
              <a:noFill/>
            </a:ln>
          </p:spPr>
        </p:pic>
        <p:sp>
          <p:nvSpPr>
            <p:cNvPr id="587" name="Text Box 24"/>
            <p:cNvSpPr/>
            <p:nvPr/>
          </p:nvSpPr>
          <p:spPr>
            <a:xfrm>
              <a:off x="6367680" y="263664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88" name="Group 25"/>
          <p:cNvGrpSpPr/>
          <p:nvPr/>
        </p:nvGrpSpPr>
        <p:grpSpPr>
          <a:xfrm>
            <a:off x="5924520" y="2925720"/>
            <a:ext cx="695160" cy="695160"/>
            <a:chOff x="5924520" y="2925720"/>
            <a:chExt cx="695160" cy="695160"/>
          </a:xfrm>
        </p:grpSpPr>
        <p:pic>
          <p:nvPicPr>
            <p:cNvPr id="589" name="Rectangle 68" descr=""/>
            <p:cNvPicPr/>
            <p:nvPr/>
          </p:nvPicPr>
          <p:blipFill>
            <a:blip r:embed="rId7"/>
            <a:stretch/>
          </p:blipFill>
          <p:spPr>
            <a:xfrm>
              <a:off x="5924520" y="2925720"/>
              <a:ext cx="695160" cy="695160"/>
            </a:xfrm>
            <a:prstGeom prst="rect">
              <a:avLst/>
            </a:prstGeom>
            <a:ln w="0">
              <a:noFill/>
            </a:ln>
          </p:spPr>
        </p:pic>
        <p:sp>
          <p:nvSpPr>
            <p:cNvPr id="590" name="Text Box 27"/>
            <p:cNvSpPr/>
            <p:nvPr/>
          </p:nvSpPr>
          <p:spPr>
            <a:xfrm>
              <a:off x="6006960" y="299700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1" name="Group 28"/>
          <p:cNvGrpSpPr/>
          <p:nvPr/>
        </p:nvGrpSpPr>
        <p:grpSpPr>
          <a:xfrm>
            <a:off x="7004160" y="2206800"/>
            <a:ext cx="695160" cy="688680"/>
            <a:chOff x="7004160" y="2206800"/>
            <a:chExt cx="695160" cy="688680"/>
          </a:xfrm>
        </p:grpSpPr>
        <p:pic>
          <p:nvPicPr>
            <p:cNvPr id="592" name="Rectangle 69" descr=""/>
            <p:cNvPicPr/>
            <p:nvPr/>
          </p:nvPicPr>
          <p:blipFill>
            <a:blip r:embed="rId8"/>
            <a:stretch/>
          </p:blipFill>
          <p:spPr>
            <a:xfrm>
              <a:off x="7004160" y="2206800"/>
              <a:ext cx="695160" cy="688680"/>
            </a:xfrm>
            <a:prstGeom prst="rect">
              <a:avLst/>
            </a:prstGeom>
            <a:ln w="0">
              <a:noFill/>
            </a:ln>
          </p:spPr>
        </p:pic>
        <p:sp>
          <p:nvSpPr>
            <p:cNvPr id="593" name="Text Box 30"/>
            <p:cNvSpPr/>
            <p:nvPr/>
          </p:nvSpPr>
          <p:spPr>
            <a:xfrm>
              <a:off x="7086600" y="2276280"/>
              <a:ext cx="36036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4" name="Group 31"/>
          <p:cNvGrpSpPr/>
          <p:nvPr/>
        </p:nvGrpSpPr>
        <p:grpSpPr>
          <a:xfrm>
            <a:off x="7370640" y="1841400"/>
            <a:ext cx="687240" cy="693720"/>
            <a:chOff x="7370640" y="1841400"/>
            <a:chExt cx="687240" cy="693720"/>
          </a:xfrm>
        </p:grpSpPr>
        <p:pic>
          <p:nvPicPr>
            <p:cNvPr id="595" name="Rectangle 70" descr=""/>
            <p:cNvPicPr/>
            <p:nvPr/>
          </p:nvPicPr>
          <p:blipFill>
            <a:blip r:embed="rId9"/>
            <a:stretch/>
          </p:blipFill>
          <p:spPr>
            <a:xfrm>
              <a:off x="7370640" y="1841400"/>
              <a:ext cx="687240" cy="693720"/>
            </a:xfrm>
            <a:prstGeom prst="rect">
              <a:avLst/>
            </a:prstGeom>
            <a:ln w="0">
              <a:noFill/>
            </a:ln>
          </p:spPr>
        </p:pic>
        <p:sp>
          <p:nvSpPr>
            <p:cNvPr id="596" name="Text Box 33"/>
            <p:cNvSpPr/>
            <p:nvPr/>
          </p:nvSpPr>
          <p:spPr>
            <a:xfrm>
              <a:off x="7446960" y="1915920"/>
              <a:ext cx="360360" cy="3589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597" name="Group 34"/>
          <p:cNvGrpSpPr/>
          <p:nvPr/>
        </p:nvGrpSpPr>
        <p:grpSpPr>
          <a:xfrm>
            <a:off x="1609560" y="5084640"/>
            <a:ext cx="1047600" cy="693720"/>
            <a:chOff x="1609560" y="5084640"/>
            <a:chExt cx="1047600" cy="693720"/>
          </a:xfrm>
        </p:grpSpPr>
        <p:pic>
          <p:nvPicPr>
            <p:cNvPr id="598" name="Rectangle 71" descr=""/>
            <p:cNvPicPr/>
            <p:nvPr/>
          </p:nvPicPr>
          <p:blipFill>
            <a:blip r:embed="rId10"/>
            <a:stretch/>
          </p:blipFill>
          <p:spPr>
            <a:xfrm>
              <a:off x="1609560" y="5084640"/>
              <a:ext cx="1047600" cy="693720"/>
            </a:xfrm>
            <a:prstGeom prst="rect">
              <a:avLst/>
            </a:prstGeom>
            <a:ln w="0">
              <a:noFill/>
            </a:ln>
          </p:spPr>
        </p:pic>
        <p:sp>
          <p:nvSpPr>
            <p:cNvPr id="599" name="Text Box 36"/>
            <p:cNvSpPr/>
            <p:nvPr/>
          </p:nvSpPr>
          <p:spPr>
            <a:xfrm>
              <a:off x="1685880" y="5157720"/>
              <a:ext cx="720720" cy="3585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600" name="Group 37"/>
          <p:cNvGrpSpPr/>
          <p:nvPr/>
        </p:nvGrpSpPr>
        <p:grpSpPr>
          <a:xfrm>
            <a:off x="1692360" y="1612800"/>
            <a:ext cx="6443640" cy="3889080"/>
            <a:chOff x="1692360" y="1612800"/>
            <a:chExt cx="6443640" cy="3889080"/>
          </a:xfrm>
        </p:grpSpPr>
        <p:sp>
          <p:nvSpPr>
            <p:cNvPr id="601" name="Freeform 73"/>
            <p:cNvSpPr/>
            <p:nvPr/>
          </p:nvSpPr>
          <p:spPr>
            <a:xfrm>
              <a:off x="1692360" y="1612800"/>
              <a:ext cx="6443640" cy="3887640"/>
            </a:xfrm>
            <a:custGeom>
              <a:avLst/>
              <a:gdLst>
                <a:gd name="textAreaLeft" fmla="*/ 0 w 6443640"/>
                <a:gd name="textAreaRight" fmla="*/ 6444000 w 6443640"/>
                <a:gd name="textAreaTop" fmla="*/ 0 h 3887640"/>
                <a:gd name="textAreaBottom" fmla="*/ 3888000 h 3887640"/>
              </a:gdLst>
              <a:ahLst/>
              <a:rect l="textAreaLeft" t="textAreaTop" r="textAreaRight" b="textAreaBottom"/>
              <a:pathLst>
                <a:path w="3016" h="2767">
                  <a:moveTo>
                    <a:pt x="0" y="0"/>
                  </a:moveTo>
                  <a:lnTo>
                    <a:pt x="0" y="2767"/>
                  </a:lnTo>
                  <a:lnTo>
                    <a:pt x="3016" y="2767"/>
                  </a:lnTo>
                </a:path>
              </a:pathLst>
            </a:custGeom>
            <a:noFill/>
            <a:ln w="25560">
              <a:solidFill>
                <a:srgbClr val="333333"/>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02" name="Line 74"/>
            <p:cNvSpPr/>
            <p:nvPr/>
          </p:nvSpPr>
          <p:spPr>
            <a:xfrm>
              <a:off x="1692360" y="514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3" name="Line 75"/>
            <p:cNvSpPr/>
            <p:nvPr/>
          </p:nvSpPr>
          <p:spPr>
            <a:xfrm>
              <a:off x="1692360" y="478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4" name="Line 76"/>
            <p:cNvSpPr/>
            <p:nvPr/>
          </p:nvSpPr>
          <p:spPr>
            <a:xfrm>
              <a:off x="1692360" y="442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5" name="Line 77"/>
            <p:cNvSpPr/>
            <p:nvPr/>
          </p:nvSpPr>
          <p:spPr>
            <a:xfrm>
              <a:off x="1692360" y="406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6" name="Line 78"/>
            <p:cNvSpPr/>
            <p:nvPr/>
          </p:nvSpPr>
          <p:spPr>
            <a:xfrm>
              <a:off x="1692360" y="37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7" name="Line 79"/>
            <p:cNvSpPr/>
            <p:nvPr/>
          </p:nvSpPr>
          <p:spPr>
            <a:xfrm>
              <a:off x="1692360" y="334152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8" name="Line 80"/>
            <p:cNvSpPr/>
            <p:nvPr/>
          </p:nvSpPr>
          <p:spPr>
            <a:xfrm>
              <a:off x="1692360" y="298116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09" name="Line 81"/>
            <p:cNvSpPr/>
            <p:nvPr/>
          </p:nvSpPr>
          <p:spPr>
            <a:xfrm>
              <a:off x="1692360" y="262080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0" name="Line 82"/>
            <p:cNvSpPr/>
            <p:nvPr/>
          </p:nvSpPr>
          <p:spPr>
            <a:xfrm>
              <a:off x="1692360" y="226224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1" name="Line 83"/>
            <p:cNvSpPr/>
            <p:nvPr/>
          </p:nvSpPr>
          <p:spPr>
            <a:xfrm>
              <a:off x="1692360" y="1901880"/>
              <a:ext cx="6408720" cy="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2" name="Line 84"/>
            <p:cNvSpPr/>
            <p:nvPr/>
          </p:nvSpPr>
          <p:spPr>
            <a:xfrm flipV="1">
              <a:off x="20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3" name="Line 85"/>
            <p:cNvSpPr/>
            <p:nvPr/>
          </p:nvSpPr>
          <p:spPr>
            <a:xfrm flipV="1">
              <a:off x="24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4" name="Line 86"/>
            <p:cNvSpPr/>
            <p:nvPr/>
          </p:nvSpPr>
          <p:spPr>
            <a:xfrm flipV="1">
              <a:off x="27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5" name="Line 87"/>
            <p:cNvSpPr/>
            <p:nvPr/>
          </p:nvSpPr>
          <p:spPr>
            <a:xfrm flipV="1">
              <a:off x="31323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6" name="Line 88"/>
            <p:cNvSpPr/>
            <p:nvPr/>
          </p:nvSpPr>
          <p:spPr>
            <a:xfrm flipV="1">
              <a:off x="349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7" name="Line 89"/>
            <p:cNvSpPr/>
            <p:nvPr/>
          </p:nvSpPr>
          <p:spPr>
            <a:xfrm flipV="1">
              <a:off x="385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8" name="Line 90"/>
            <p:cNvSpPr/>
            <p:nvPr/>
          </p:nvSpPr>
          <p:spPr>
            <a:xfrm flipV="1">
              <a:off x="421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19" name="Line 91"/>
            <p:cNvSpPr/>
            <p:nvPr/>
          </p:nvSpPr>
          <p:spPr>
            <a:xfrm flipV="1">
              <a:off x="457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0" name="Line 92"/>
            <p:cNvSpPr/>
            <p:nvPr/>
          </p:nvSpPr>
          <p:spPr>
            <a:xfrm flipV="1">
              <a:off x="49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1" name="Line 93"/>
            <p:cNvSpPr/>
            <p:nvPr/>
          </p:nvSpPr>
          <p:spPr>
            <a:xfrm flipV="1">
              <a:off x="52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2" name="Line 94"/>
            <p:cNvSpPr/>
            <p:nvPr/>
          </p:nvSpPr>
          <p:spPr>
            <a:xfrm flipV="1">
              <a:off x="56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3" name="Line 95"/>
            <p:cNvSpPr/>
            <p:nvPr/>
          </p:nvSpPr>
          <p:spPr>
            <a:xfrm flipV="1">
              <a:off x="60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4" name="Line 96"/>
            <p:cNvSpPr/>
            <p:nvPr/>
          </p:nvSpPr>
          <p:spPr>
            <a:xfrm flipV="1">
              <a:off x="637056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5" name="Line 97"/>
            <p:cNvSpPr/>
            <p:nvPr/>
          </p:nvSpPr>
          <p:spPr>
            <a:xfrm flipV="1">
              <a:off x="673092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6" name="Line 98"/>
            <p:cNvSpPr/>
            <p:nvPr/>
          </p:nvSpPr>
          <p:spPr>
            <a:xfrm flipV="1">
              <a:off x="709128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7" name="Line 99"/>
            <p:cNvSpPr/>
            <p:nvPr/>
          </p:nvSpPr>
          <p:spPr>
            <a:xfrm flipV="1">
              <a:off x="745164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628" name="Line 100"/>
            <p:cNvSpPr/>
            <p:nvPr/>
          </p:nvSpPr>
          <p:spPr>
            <a:xfrm flipV="1">
              <a:off x="7812000" y="1648800"/>
              <a:ext cx="0" cy="3853080"/>
            </a:xfrm>
            <a:prstGeom prst="line">
              <a:avLst/>
            </a:prstGeom>
            <a:ln cap="rnd" w="12600">
              <a:solidFill>
                <a:srgbClr val="333333"/>
              </a:solidFill>
              <a:custDash>
                <a:ds d="100000" sp="1000"/>
              </a:cust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grpSp>
      <p:grpSp>
        <p:nvGrpSpPr>
          <p:cNvPr id="629" name="Group 66"/>
          <p:cNvGrpSpPr/>
          <p:nvPr/>
        </p:nvGrpSpPr>
        <p:grpSpPr>
          <a:xfrm>
            <a:off x="1856160" y="5602320"/>
            <a:ext cx="6140880" cy="276480"/>
            <a:chOff x="1856160" y="5602320"/>
            <a:chExt cx="6140880" cy="276480"/>
          </a:xfrm>
        </p:grpSpPr>
        <p:sp>
          <p:nvSpPr>
            <p:cNvPr id="630" name="Text Box 102"/>
            <p:cNvSpPr/>
            <p:nvPr/>
          </p:nvSpPr>
          <p:spPr>
            <a:xfrm>
              <a:off x="185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1</a:t>
              </a:r>
              <a:endParaRPr b="0" lang="en-US" sz="1200" spc="-1" strike="noStrike">
                <a:solidFill>
                  <a:srgbClr val="000000"/>
                </a:solidFill>
                <a:latin typeface="Gulim"/>
              </a:endParaRPr>
            </a:p>
          </p:txBody>
        </p:sp>
        <p:sp>
          <p:nvSpPr>
            <p:cNvPr id="631" name="Text Box 103"/>
            <p:cNvSpPr/>
            <p:nvPr/>
          </p:nvSpPr>
          <p:spPr>
            <a:xfrm>
              <a:off x="221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2</a:t>
              </a:r>
              <a:endParaRPr b="0" lang="en-US" sz="1200" spc="-1" strike="noStrike">
                <a:solidFill>
                  <a:srgbClr val="000000"/>
                </a:solidFill>
                <a:latin typeface="Gulim"/>
              </a:endParaRPr>
            </a:p>
          </p:txBody>
        </p:sp>
        <p:sp>
          <p:nvSpPr>
            <p:cNvPr id="632" name="Text Box 104"/>
            <p:cNvSpPr/>
            <p:nvPr/>
          </p:nvSpPr>
          <p:spPr>
            <a:xfrm>
              <a:off x="25675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3</a:t>
              </a:r>
              <a:endParaRPr b="0" lang="en-US" sz="1200" spc="-1" strike="noStrike">
                <a:solidFill>
                  <a:srgbClr val="000000"/>
                </a:solidFill>
                <a:latin typeface="Gulim"/>
              </a:endParaRPr>
            </a:p>
          </p:txBody>
        </p:sp>
        <p:sp>
          <p:nvSpPr>
            <p:cNvPr id="633" name="Text Box 105"/>
            <p:cNvSpPr/>
            <p:nvPr/>
          </p:nvSpPr>
          <p:spPr>
            <a:xfrm>
              <a:off x="29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4</a:t>
              </a:r>
              <a:endParaRPr b="0" lang="en-US" sz="1200" spc="-1" strike="noStrike">
                <a:solidFill>
                  <a:srgbClr val="000000"/>
                </a:solidFill>
                <a:latin typeface="Gulim"/>
              </a:endParaRPr>
            </a:p>
          </p:txBody>
        </p:sp>
        <p:sp>
          <p:nvSpPr>
            <p:cNvPr id="634" name="Text Box 106"/>
            <p:cNvSpPr/>
            <p:nvPr/>
          </p:nvSpPr>
          <p:spPr>
            <a:xfrm>
              <a:off x="3296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5</a:t>
              </a:r>
              <a:endParaRPr b="0" lang="en-US" sz="1200" spc="-1" strike="noStrike">
                <a:solidFill>
                  <a:srgbClr val="000000"/>
                </a:solidFill>
                <a:latin typeface="Gulim"/>
              </a:endParaRPr>
            </a:p>
          </p:txBody>
        </p:sp>
        <p:sp>
          <p:nvSpPr>
            <p:cNvPr id="635" name="Text Box 107"/>
            <p:cNvSpPr/>
            <p:nvPr/>
          </p:nvSpPr>
          <p:spPr>
            <a:xfrm>
              <a:off x="365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6</a:t>
              </a:r>
              <a:endParaRPr b="0" lang="en-US" sz="1200" spc="-1" strike="noStrike">
                <a:solidFill>
                  <a:srgbClr val="000000"/>
                </a:solidFill>
                <a:latin typeface="Gulim"/>
              </a:endParaRPr>
            </a:p>
          </p:txBody>
        </p:sp>
        <p:sp>
          <p:nvSpPr>
            <p:cNvPr id="636" name="Text Box 108"/>
            <p:cNvSpPr/>
            <p:nvPr/>
          </p:nvSpPr>
          <p:spPr>
            <a:xfrm>
              <a:off x="400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7</a:t>
              </a:r>
              <a:endParaRPr b="0" lang="en-US" sz="1200" spc="-1" strike="noStrike">
                <a:solidFill>
                  <a:srgbClr val="000000"/>
                </a:solidFill>
                <a:latin typeface="Gulim"/>
              </a:endParaRPr>
            </a:p>
          </p:txBody>
        </p:sp>
        <p:sp>
          <p:nvSpPr>
            <p:cNvPr id="637" name="Text Box 109"/>
            <p:cNvSpPr/>
            <p:nvPr/>
          </p:nvSpPr>
          <p:spPr>
            <a:xfrm>
              <a:off x="437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8</a:t>
              </a:r>
              <a:endParaRPr b="0" lang="en-US" sz="1200" spc="-1" strike="noStrike">
                <a:solidFill>
                  <a:srgbClr val="000000"/>
                </a:solidFill>
                <a:latin typeface="Gulim"/>
              </a:endParaRPr>
            </a:p>
          </p:txBody>
        </p:sp>
        <p:sp>
          <p:nvSpPr>
            <p:cNvPr id="638" name="Text Box 110"/>
            <p:cNvSpPr/>
            <p:nvPr/>
          </p:nvSpPr>
          <p:spPr>
            <a:xfrm>
              <a:off x="473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09</a:t>
              </a:r>
              <a:endParaRPr b="0" lang="en-US" sz="1200" spc="-1" strike="noStrike">
                <a:solidFill>
                  <a:srgbClr val="000000"/>
                </a:solidFill>
                <a:latin typeface="Gulim"/>
              </a:endParaRPr>
            </a:p>
          </p:txBody>
        </p:sp>
        <p:sp>
          <p:nvSpPr>
            <p:cNvPr id="639" name="Text Box 111"/>
            <p:cNvSpPr/>
            <p:nvPr/>
          </p:nvSpPr>
          <p:spPr>
            <a:xfrm>
              <a:off x="509472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0</a:t>
              </a:r>
              <a:endParaRPr b="0" lang="en-US" sz="1200" spc="-1" strike="noStrike">
                <a:solidFill>
                  <a:srgbClr val="000000"/>
                </a:solidFill>
                <a:latin typeface="Gulim"/>
              </a:endParaRPr>
            </a:p>
          </p:txBody>
        </p:sp>
        <p:sp>
          <p:nvSpPr>
            <p:cNvPr id="640" name="Text Box 112"/>
            <p:cNvSpPr/>
            <p:nvPr/>
          </p:nvSpPr>
          <p:spPr>
            <a:xfrm>
              <a:off x="54471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1</a:t>
              </a:r>
              <a:endParaRPr b="0" lang="en-US" sz="1200" spc="-1" strike="noStrike">
                <a:solidFill>
                  <a:srgbClr val="000000"/>
                </a:solidFill>
                <a:latin typeface="Gulim"/>
              </a:endParaRPr>
            </a:p>
          </p:txBody>
        </p:sp>
        <p:sp>
          <p:nvSpPr>
            <p:cNvPr id="641" name="Text Box 113"/>
            <p:cNvSpPr/>
            <p:nvPr/>
          </p:nvSpPr>
          <p:spPr>
            <a:xfrm>
              <a:off x="5815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2</a:t>
              </a:r>
              <a:endParaRPr b="0" lang="en-US" sz="1200" spc="-1" strike="noStrike">
                <a:solidFill>
                  <a:srgbClr val="000000"/>
                </a:solidFill>
                <a:latin typeface="Gulim"/>
              </a:endParaRPr>
            </a:p>
          </p:txBody>
        </p:sp>
        <p:sp>
          <p:nvSpPr>
            <p:cNvPr id="642" name="Text Box 114"/>
            <p:cNvSpPr/>
            <p:nvPr/>
          </p:nvSpPr>
          <p:spPr>
            <a:xfrm>
              <a:off x="6175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3</a:t>
              </a:r>
              <a:endParaRPr b="0" lang="en-US" sz="1200" spc="-1" strike="noStrike">
                <a:solidFill>
                  <a:srgbClr val="000000"/>
                </a:solidFill>
                <a:latin typeface="Gulim"/>
              </a:endParaRPr>
            </a:p>
          </p:txBody>
        </p:sp>
        <p:sp>
          <p:nvSpPr>
            <p:cNvPr id="643" name="Text Box 115"/>
            <p:cNvSpPr/>
            <p:nvPr/>
          </p:nvSpPr>
          <p:spPr>
            <a:xfrm>
              <a:off x="653436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4</a:t>
              </a:r>
              <a:endParaRPr b="0" lang="en-US" sz="1200" spc="-1" strike="noStrike">
                <a:solidFill>
                  <a:srgbClr val="000000"/>
                </a:solidFill>
                <a:latin typeface="Gulim"/>
              </a:endParaRPr>
            </a:p>
          </p:txBody>
        </p:sp>
        <p:sp>
          <p:nvSpPr>
            <p:cNvPr id="644" name="Text Box 116"/>
            <p:cNvSpPr/>
            <p:nvPr/>
          </p:nvSpPr>
          <p:spPr>
            <a:xfrm>
              <a:off x="688680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5</a:t>
              </a:r>
              <a:endParaRPr b="0" lang="en-US" sz="1200" spc="-1" strike="noStrike">
                <a:solidFill>
                  <a:srgbClr val="000000"/>
                </a:solidFill>
                <a:latin typeface="Gulim"/>
              </a:endParaRPr>
            </a:p>
          </p:txBody>
        </p:sp>
        <p:sp>
          <p:nvSpPr>
            <p:cNvPr id="645" name="Text Box 117"/>
            <p:cNvSpPr/>
            <p:nvPr/>
          </p:nvSpPr>
          <p:spPr>
            <a:xfrm>
              <a:off x="725508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6</a:t>
              </a:r>
              <a:endParaRPr b="0" lang="en-US" sz="1200" spc="-1" strike="noStrike">
                <a:solidFill>
                  <a:srgbClr val="000000"/>
                </a:solidFill>
                <a:latin typeface="Gulim"/>
              </a:endParaRPr>
            </a:p>
          </p:txBody>
        </p:sp>
        <p:sp>
          <p:nvSpPr>
            <p:cNvPr id="646" name="Text Box 118"/>
            <p:cNvSpPr/>
            <p:nvPr/>
          </p:nvSpPr>
          <p:spPr>
            <a:xfrm>
              <a:off x="7642440" y="5602320"/>
              <a:ext cx="3546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17</a:t>
              </a:r>
              <a:endParaRPr b="0" lang="en-US" sz="1200" spc="-1" strike="noStrike">
                <a:solidFill>
                  <a:srgbClr val="000000"/>
                </a:solidFill>
                <a:latin typeface="Gulim"/>
              </a:endParaRPr>
            </a:p>
          </p:txBody>
        </p:sp>
      </p:grpSp>
      <p:grpSp>
        <p:nvGrpSpPr>
          <p:cNvPr id="647" name="Group 84"/>
          <p:cNvGrpSpPr/>
          <p:nvPr/>
        </p:nvGrpSpPr>
        <p:grpSpPr>
          <a:xfrm>
            <a:off x="775440" y="1628640"/>
            <a:ext cx="790200" cy="3854880"/>
            <a:chOff x="775440" y="1628640"/>
            <a:chExt cx="790200" cy="3854880"/>
          </a:xfrm>
        </p:grpSpPr>
        <p:sp>
          <p:nvSpPr>
            <p:cNvPr id="648" name="Text Box 120"/>
            <p:cNvSpPr/>
            <p:nvPr/>
          </p:nvSpPr>
          <p:spPr>
            <a:xfrm>
              <a:off x="775440" y="520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1</a:t>
              </a:r>
              <a:endParaRPr b="0" lang="en-US" sz="1200" spc="-1" strike="noStrike">
                <a:solidFill>
                  <a:srgbClr val="000000"/>
                </a:solidFill>
                <a:latin typeface="Gulim"/>
              </a:endParaRPr>
            </a:p>
          </p:txBody>
        </p:sp>
        <p:sp>
          <p:nvSpPr>
            <p:cNvPr id="649" name="Text Box 121"/>
            <p:cNvSpPr/>
            <p:nvPr/>
          </p:nvSpPr>
          <p:spPr>
            <a:xfrm>
              <a:off x="775440" y="484812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2</a:t>
              </a:r>
              <a:endParaRPr b="0" lang="en-US" sz="1200" spc="-1" strike="noStrike">
                <a:solidFill>
                  <a:srgbClr val="000000"/>
                </a:solidFill>
                <a:latin typeface="Gulim"/>
              </a:endParaRPr>
            </a:p>
          </p:txBody>
        </p:sp>
        <p:sp>
          <p:nvSpPr>
            <p:cNvPr id="650" name="Text Box 122"/>
            <p:cNvSpPr/>
            <p:nvPr/>
          </p:nvSpPr>
          <p:spPr>
            <a:xfrm>
              <a:off x="775440" y="448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3</a:t>
              </a:r>
              <a:endParaRPr b="0" lang="en-US" sz="1200" spc="-1" strike="noStrike">
                <a:solidFill>
                  <a:srgbClr val="000000"/>
                </a:solidFill>
                <a:latin typeface="Gulim"/>
              </a:endParaRPr>
            </a:p>
          </p:txBody>
        </p:sp>
        <p:sp>
          <p:nvSpPr>
            <p:cNvPr id="651" name="Text Box 123"/>
            <p:cNvSpPr/>
            <p:nvPr/>
          </p:nvSpPr>
          <p:spPr>
            <a:xfrm>
              <a:off x="775440" y="41256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4</a:t>
              </a:r>
              <a:endParaRPr b="0" lang="en-US" sz="1200" spc="-1" strike="noStrike">
                <a:solidFill>
                  <a:srgbClr val="000000"/>
                </a:solidFill>
                <a:latin typeface="Gulim"/>
              </a:endParaRPr>
            </a:p>
          </p:txBody>
        </p:sp>
        <p:sp>
          <p:nvSpPr>
            <p:cNvPr id="652" name="Text Box 124"/>
            <p:cNvSpPr/>
            <p:nvPr/>
          </p:nvSpPr>
          <p:spPr>
            <a:xfrm>
              <a:off x="775440" y="37670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5</a:t>
              </a:r>
              <a:endParaRPr b="0" lang="en-US" sz="1200" spc="-1" strike="noStrike">
                <a:solidFill>
                  <a:srgbClr val="000000"/>
                </a:solidFill>
                <a:latin typeface="Gulim"/>
              </a:endParaRPr>
            </a:p>
          </p:txBody>
        </p:sp>
        <p:sp>
          <p:nvSpPr>
            <p:cNvPr id="653" name="Text Box 125"/>
            <p:cNvSpPr/>
            <p:nvPr/>
          </p:nvSpPr>
          <p:spPr>
            <a:xfrm>
              <a:off x="775440" y="340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6</a:t>
              </a:r>
              <a:endParaRPr b="0" lang="en-US" sz="1200" spc="-1" strike="noStrike">
                <a:solidFill>
                  <a:srgbClr val="000000"/>
                </a:solidFill>
                <a:latin typeface="Gulim"/>
              </a:endParaRPr>
            </a:p>
          </p:txBody>
        </p:sp>
        <p:sp>
          <p:nvSpPr>
            <p:cNvPr id="654" name="Text Box 126"/>
            <p:cNvSpPr/>
            <p:nvPr/>
          </p:nvSpPr>
          <p:spPr>
            <a:xfrm>
              <a:off x="775440" y="304776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7</a:t>
              </a:r>
              <a:endParaRPr b="0" lang="en-US" sz="1200" spc="-1" strike="noStrike">
                <a:solidFill>
                  <a:srgbClr val="000000"/>
                </a:solidFill>
                <a:latin typeface="Gulim"/>
              </a:endParaRPr>
            </a:p>
          </p:txBody>
        </p:sp>
        <p:sp>
          <p:nvSpPr>
            <p:cNvPr id="655" name="Text Box 127"/>
            <p:cNvSpPr/>
            <p:nvPr/>
          </p:nvSpPr>
          <p:spPr>
            <a:xfrm>
              <a:off x="775440" y="268920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8</a:t>
              </a:r>
              <a:endParaRPr b="0" lang="en-US" sz="1200" spc="-1" strike="noStrike">
                <a:solidFill>
                  <a:srgbClr val="000000"/>
                </a:solidFill>
                <a:latin typeface="Gulim"/>
              </a:endParaRPr>
            </a:p>
          </p:txBody>
        </p:sp>
        <p:sp>
          <p:nvSpPr>
            <p:cNvPr id="656" name="Text Box 128"/>
            <p:cNvSpPr/>
            <p:nvPr/>
          </p:nvSpPr>
          <p:spPr>
            <a:xfrm>
              <a:off x="775440" y="23288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09</a:t>
              </a:r>
              <a:endParaRPr b="0" lang="en-US" sz="1200" spc="-1" strike="noStrike">
                <a:solidFill>
                  <a:srgbClr val="000000"/>
                </a:solidFill>
                <a:latin typeface="Gulim"/>
              </a:endParaRPr>
            </a:p>
          </p:txBody>
        </p:sp>
        <p:sp>
          <p:nvSpPr>
            <p:cNvPr id="657" name="Text Box 129"/>
            <p:cNvSpPr/>
            <p:nvPr/>
          </p:nvSpPr>
          <p:spPr>
            <a:xfrm>
              <a:off x="775440" y="196668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0</a:t>
              </a:r>
              <a:endParaRPr b="0" lang="en-US" sz="1200" spc="-1" strike="noStrike">
                <a:solidFill>
                  <a:srgbClr val="000000"/>
                </a:solidFill>
                <a:latin typeface="Gulim"/>
              </a:endParaRPr>
            </a:p>
          </p:txBody>
        </p:sp>
        <p:sp>
          <p:nvSpPr>
            <p:cNvPr id="658" name="Text Box 130"/>
            <p:cNvSpPr/>
            <p:nvPr/>
          </p:nvSpPr>
          <p:spPr>
            <a:xfrm>
              <a:off x="775440" y="1628640"/>
              <a:ext cx="79020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Value 11</a:t>
              </a:r>
              <a:endParaRPr b="0" lang="en-US" sz="1200" spc="-1" strike="noStrike">
                <a:solidFill>
                  <a:srgbClr val="000000"/>
                </a:solidFill>
                <a:latin typeface="Gulim"/>
              </a:endParaRPr>
            </a:p>
          </p:txBody>
        </p:sp>
      </p:grpSp>
      <p:sp>
        <p:nvSpPr>
          <p:cNvPr id="659" name="Rectangle 131"/>
          <p:cNvSpPr/>
          <p:nvPr/>
        </p:nvSpPr>
        <p:spPr>
          <a:xfrm>
            <a:off x="2046240" y="1916280"/>
            <a:ext cx="2881440" cy="1441440"/>
          </a:xfrm>
          <a:prstGeom prst="rect">
            <a:avLst/>
          </a:prstGeom>
          <a:solidFill>
            <a:srgbClr val="9cbc55">
              <a:alpha val="76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Text Box 132"/>
          <p:cNvSpPr/>
          <p:nvPr/>
        </p:nvSpPr>
        <p:spPr>
          <a:xfrm>
            <a:off x="2154240" y="2025720"/>
            <a:ext cx="2521080" cy="109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661"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62" name="Group 2"/>
          <p:cNvGrpSpPr/>
          <p:nvPr/>
        </p:nvGrpSpPr>
        <p:grpSpPr>
          <a:xfrm>
            <a:off x="1332000" y="1197000"/>
            <a:ext cx="1079280" cy="4751280"/>
            <a:chOff x="1332000" y="1197000"/>
            <a:chExt cx="1079280" cy="4751280"/>
          </a:xfrm>
        </p:grpSpPr>
        <p:grpSp>
          <p:nvGrpSpPr>
            <p:cNvPr id="663" name="Group 3"/>
            <p:cNvGrpSpPr/>
            <p:nvPr/>
          </p:nvGrpSpPr>
          <p:grpSpPr>
            <a:xfrm>
              <a:off x="1403280" y="1197000"/>
              <a:ext cx="936720" cy="4319640"/>
              <a:chOff x="1403280" y="1197000"/>
              <a:chExt cx="936720" cy="4319640"/>
            </a:xfrm>
          </p:grpSpPr>
          <p:sp>
            <p:nvSpPr>
              <p:cNvPr id="664" name="Oval 517"/>
              <p:cNvSpPr/>
              <p:nvPr/>
            </p:nvSpPr>
            <p:spPr>
              <a:xfrm>
                <a:off x="154872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5" name="Oval 518"/>
              <p:cNvSpPr/>
              <p:nvPr/>
            </p:nvSpPr>
            <p:spPr>
              <a:xfrm>
                <a:off x="155052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666" name="Group 6"/>
              <p:cNvGrpSpPr/>
              <p:nvPr/>
            </p:nvGrpSpPr>
            <p:grpSpPr>
              <a:xfrm>
                <a:off x="1403280" y="1197000"/>
                <a:ext cx="936720" cy="4319640"/>
                <a:chOff x="1403280" y="1197000"/>
                <a:chExt cx="936720" cy="4319640"/>
              </a:xfrm>
            </p:grpSpPr>
            <p:pic>
              <p:nvPicPr>
                <p:cNvPr id="667" name="Freeform 516" descr=""/>
                <p:cNvPicPr/>
                <p:nvPr/>
              </p:nvPicPr>
              <p:blipFill>
                <a:blip r:embed="rId1"/>
                <a:stretch/>
              </p:blipFill>
              <p:spPr>
                <a:xfrm>
                  <a:off x="1403280" y="1197000"/>
                  <a:ext cx="936720" cy="4319640"/>
                </a:xfrm>
                <a:prstGeom prst="rect">
                  <a:avLst/>
                </a:prstGeom>
                <a:ln w="0">
                  <a:noFill/>
                </a:ln>
              </p:spPr>
            </p:pic>
            <p:sp>
              <p:nvSpPr>
                <p:cNvPr id="668" name="Text Box 8"/>
                <p:cNvSpPr/>
                <p:nvPr/>
              </p:nvSpPr>
              <p:spPr>
                <a:xfrm>
                  <a:off x="140436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669" name="Oval 474"/>
            <p:cNvSpPr/>
            <p:nvPr/>
          </p:nvSpPr>
          <p:spPr>
            <a:xfrm>
              <a:off x="133200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WordArt 519"/>
            <p:cNvSpPr txBox="1"/>
            <p:nvPr/>
          </p:nvSpPr>
          <p:spPr>
            <a:xfrm>
              <a:off x="1692360" y="4940280"/>
              <a:ext cx="3585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grpSp>
          <p:nvGrpSpPr>
            <p:cNvPr id="671" name="Group 11"/>
            <p:cNvGrpSpPr/>
            <p:nvPr/>
          </p:nvGrpSpPr>
          <p:grpSpPr>
            <a:xfrm>
              <a:off x="1476360" y="1628640"/>
              <a:ext cx="792000" cy="1942920"/>
              <a:chOff x="1476360" y="1628640"/>
              <a:chExt cx="792000" cy="1942920"/>
            </a:xfrm>
          </p:grpSpPr>
          <p:sp>
            <p:nvSpPr>
              <p:cNvPr id="672" name="AutoShape 526"/>
              <p:cNvSpPr/>
              <p:nvPr/>
            </p:nvSpPr>
            <p:spPr>
              <a:xfrm rot="5400000">
                <a:off x="900720" y="2203920"/>
                <a:ext cx="1942920" cy="792000"/>
              </a:xfrm>
              <a:prstGeom prst="rightArrow">
                <a:avLst>
                  <a:gd name="adj1" fmla="val 55917"/>
                  <a:gd name="adj2" fmla="val 74765"/>
                </a:avLst>
              </a:prstGeom>
              <a:solidFill>
                <a:srgbClr val="000000">
                  <a:alpha val="50000"/>
                </a:srgbClr>
              </a:solidFill>
              <a:ln w="0">
                <a:noFill/>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3" name="WordArt 529"/>
              <p:cNvSpPr txBox="1"/>
              <p:nvPr/>
            </p:nvSpPr>
            <p:spPr>
              <a:xfrm rot="16200000">
                <a:off x="1187640" y="2350440"/>
                <a:ext cx="136800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grpSp>
      <p:grpSp>
        <p:nvGrpSpPr>
          <p:cNvPr id="674" name="Group 14"/>
          <p:cNvGrpSpPr/>
          <p:nvPr/>
        </p:nvGrpSpPr>
        <p:grpSpPr>
          <a:xfrm>
            <a:off x="5653080" y="1197000"/>
            <a:ext cx="1079640" cy="4751280"/>
            <a:chOff x="5653080" y="1197000"/>
            <a:chExt cx="1079640" cy="4751280"/>
          </a:xfrm>
        </p:grpSpPr>
        <p:sp>
          <p:nvSpPr>
            <p:cNvPr id="675" name="Oval 478"/>
            <p:cNvSpPr/>
            <p:nvPr/>
          </p:nvSpPr>
          <p:spPr>
            <a:xfrm>
              <a:off x="565308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6" name="Freeform 455"/>
            <p:cNvSpPr/>
            <p:nvPr/>
          </p:nvSpPr>
          <p:spPr>
            <a:xfrm>
              <a:off x="5840280" y="2060640"/>
              <a:ext cx="701640" cy="3348000"/>
            </a:xfrm>
            <a:custGeom>
              <a:avLst/>
              <a:gdLst>
                <a:gd name="textAreaLeft" fmla="*/ 0 w 701640"/>
                <a:gd name="textAreaRight" fmla="*/ 701640 w 701640"/>
                <a:gd name="textAreaTop" fmla="*/ 0 h 3348000"/>
                <a:gd name="textAreaBottom" fmla="*/ 3348360 h 3348000"/>
              </a:gdLst>
              <a:ahLst/>
              <a:rect l="textAreaLeft" t="textAreaTop" r="textAreaRight" b="textAreaBottom"/>
              <a:pathLst>
                <a:path w="394" h="2037">
                  <a:moveTo>
                    <a:pt x="0" y="0"/>
                  </a:moveTo>
                  <a:lnTo>
                    <a:pt x="0" y="1840"/>
                  </a:lnTo>
                  <a:lnTo>
                    <a:pt x="1" y="1861"/>
                  </a:lnTo>
                  <a:lnTo>
                    <a:pt x="4" y="1880"/>
                  </a:lnTo>
                  <a:lnTo>
                    <a:pt x="10" y="1899"/>
                  </a:lnTo>
                  <a:lnTo>
                    <a:pt x="16" y="1917"/>
                  </a:lnTo>
                  <a:lnTo>
                    <a:pt x="25" y="1935"/>
                  </a:lnTo>
                  <a:lnTo>
                    <a:pt x="34" y="1950"/>
                  </a:lnTo>
                  <a:lnTo>
                    <a:pt x="45" y="1966"/>
                  </a:lnTo>
                  <a:lnTo>
                    <a:pt x="57" y="1980"/>
                  </a:lnTo>
                  <a:lnTo>
                    <a:pt x="73" y="1992"/>
                  </a:lnTo>
                  <a:lnTo>
                    <a:pt x="88" y="2003"/>
                  </a:lnTo>
                  <a:lnTo>
                    <a:pt x="104" y="2014"/>
                  </a:lnTo>
                  <a:lnTo>
                    <a:pt x="120" y="2022"/>
                  </a:lnTo>
                  <a:lnTo>
                    <a:pt x="138" y="2028"/>
                  </a:lnTo>
                  <a:lnTo>
                    <a:pt x="157" y="2033"/>
                  </a:lnTo>
                  <a:lnTo>
                    <a:pt x="178" y="2036"/>
                  </a:lnTo>
                  <a:lnTo>
                    <a:pt x="197" y="2037"/>
                  </a:lnTo>
                  <a:lnTo>
                    <a:pt x="218" y="2036"/>
                  </a:lnTo>
                  <a:lnTo>
                    <a:pt x="237" y="2033"/>
                  </a:lnTo>
                  <a:lnTo>
                    <a:pt x="256" y="2028"/>
                  </a:lnTo>
                  <a:lnTo>
                    <a:pt x="274" y="2022"/>
                  </a:lnTo>
                  <a:lnTo>
                    <a:pt x="292" y="2014"/>
                  </a:lnTo>
                  <a:lnTo>
                    <a:pt x="308" y="2003"/>
                  </a:lnTo>
                  <a:lnTo>
                    <a:pt x="323" y="1992"/>
                  </a:lnTo>
                  <a:lnTo>
                    <a:pt x="337" y="1980"/>
                  </a:lnTo>
                  <a:lnTo>
                    <a:pt x="349" y="1966"/>
                  </a:lnTo>
                  <a:lnTo>
                    <a:pt x="361" y="1950"/>
                  </a:lnTo>
                  <a:lnTo>
                    <a:pt x="371" y="1935"/>
                  </a:lnTo>
                  <a:lnTo>
                    <a:pt x="379" y="1917"/>
                  </a:lnTo>
                  <a:lnTo>
                    <a:pt x="386" y="1899"/>
                  </a:lnTo>
                  <a:lnTo>
                    <a:pt x="390" y="1880"/>
                  </a:lnTo>
                  <a:lnTo>
                    <a:pt x="394" y="1861"/>
                  </a:lnTo>
                  <a:lnTo>
                    <a:pt x="394" y="1840"/>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77" name="Freeform 456"/>
            <p:cNvSpPr/>
            <p:nvPr/>
          </p:nvSpPr>
          <p:spPr>
            <a:xfrm>
              <a:off x="5840280" y="184464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4" y="145"/>
                  </a:lnTo>
                  <a:lnTo>
                    <a:pt x="390" y="158"/>
                  </a:lnTo>
                  <a:lnTo>
                    <a:pt x="386" y="170"/>
                  </a:lnTo>
                  <a:lnTo>
                    <a:pt x="379" y="182"/>
                  </a:lnTo>
                  <a:lnTo>
                    <a:pt x="371" y="195"/>
                  </a:lnTo>
                  <a:lnTo>
                    <a:pt x="361" y="204"/>
                  </a:lnTo>
                  <a:lnTo>
                    <a:pt x="349" y="215"/>
                  </a:lnTo>
                  <a:lnTo>
                    <a:pt x="337" y="225"/>
                  </a:lnTo>
                  <a:lnTo>
                    <a:pt x="323" y="233"/>
                  </a:lnTo>
                  <a:lnTo>
                    <a:pt x="308" y="240"/>
                  </a:lnTo>
                  <a:lnTo>
                    <a:pt x="292" y="247"/>
                  </a:lnTo>
                  <a:lnTo>
                    <a:pt x="274" y="252"/>
                  </a:lnTo>
                  <a:lnTo>
                    <a:pt x="256" y="256"/>
                  </a:lnTo>
                  <a:lnTo>
                    <a:pt x="237" y="261"/>
                  </a:lnTo>
                  <a:lnTo>
                    <a:pt x="218" y="262"/>
                  </a:lnTo>
                  <a:lnTo>
                    <a:pt x="197" y="263"/>
                  </a:lnTo>
                  <a:lnTo>
                    <a:pt x="178" y="262"/>
                  </a:lnTo>
                  <a:lnTo>
                    <a:pt x="157" y="261"/>
                  </a:lnTo>
                  <a:lnTo>
                    <a:pt x="138" y="256"/>
                  </a:lnTo>
                  <a:lnTo>
                    <a:pt x="120" y="252"/>
                  </a:lnTo>
                  <a:lnTo>
                    <a:pt x="104" y="247"/>
                  </a:lnTo>
                  <a:lnTo>
                    <a:pt x="88" y="240"/>
                  </a:lnTo>
                  <a:lnTo>
                    <a:pt x="73" y="233"/>
                  </a:lnTo>
                  <a:lnTo>
                    <a:pt x="57" y="225"/>
                  </a:lnTo>
                  <a:lnTo>
                    <a:pt x="45" y="215"/>
                  </a:lnTo>
                  <a:lnTo>
                    <a:pt x="34" y="204"/>
                  </a:lnTo>
                  <a:lnTo>
                    <a:pt x="25" y="195"/>
                  </a:lnTo>
                  <a:lnTo>
                    <a:pt x="16" y="182"/>
                  </a:lnTo>
                  <a:lnTo>
                    <a:pt x="10" y="170"/>
                  </a:lnTo>
                  <a:lnTo>
                    <a:pt x="4" y="158"/>
                  </a:lnTo>
                  <a:lnTo>
                    <a:pt x="1" y="145"/>
                  </a:lnTo>
                  <a:lnTo>
                    <a:pt x="0" y="132"/>
                  </a:lnTo>
                  <a:lnTo>
                    <a:pt x="1" y="118"/>
                  </a:lnTo>
                  <a:lnTo>
                    <a:pt x="4" y="104"/>
                  </a:lnTo>
                  <a:lnTo>
                    <a:pt x="10" y="92"/>
                  </a:lnTo>
                  <a:lnTo>
                    <a:pt x="16" y="80"/>
                  </a:lnTo>
                  <a:lnTo>
                    <a:pt x="25" y="69"/>
                  </a:lnTo>
                  <a:lnTo>
                    <a:pt x="34" y="58"/>
                  </a:lnTo>
                  <a:lnTo>
                    <a:pt x="45" y="48"/>
                  </a:lnTo>
                  <a:lnTo>
                    <a:pt x="57" y="39"/>
                  </a:lnTo>
                  <a:lnTo>
                    <a:pt x="73" y="30"/>
                  </a:lnTo>
                  <a:lnTo>
                    <a:pt x="88" y="22"/>
                  </a:lnTo>
                  <a:lnTo>
                    <a:pt x="104" y="15"/>
                  </a:lnTo>
                  <a:lnTo>
                    <a:pt x="120" y="10"/>
                  </a:lnTo>
                  <a:lnTo>
                    <a:pt x="138" y="6"/>
                  </a:lnTo>
                  <a:lnTo>
                    <a:pt x="157" y="3"/>
                  </a:lnTo>
                  <a:lnTo>
                    <a:pt x="178" y="0"/>
                  </a:lnTo>
                  <a:lnTo>
                    <a:pt x="197" y="0"/>
                  </a:lnTo>
                  <a:lnTo>
                    <a:pt x="218" y="0"/>
                  </a:lnTo>
                  <a:lnTo>
                    <a:pt x="237" y="3"/>
                  </a:lnTo>
                  <a:lnTo>
                    <a:pt x="256" y="6"/>
                  </a:lnTo>
                  <a:lnTo>
                    <a:pt x="274" y="10"/>
                  </a:lnTo>
                  <a:lnTo>
                    <a:pt x="292" y="15"/>
                  </a:lnTo>
                  <a:lnTo>
                    <a:pt x="308" y="22"/>
                  </a:lnTo>
                  <a:lnTo>
                    <a:pt x="323" y="30"/>
                  </a:lnTo>
                  <a:lnTo>
                    <a:pt x="337" y="39"/>
                  </a:lnTo>
                  <a:lnTo>
                    <a:pt x="349" y="48"/>
                  </a:lnTo>
                  <a:lnTo>
                    <a:pt x="361" y="58"/>
                  </a:lnTo>
                  <a:lnTo>
                    <a:pt x="371" y="69"/>
                  </a:lnTo>
                  <a:lnTo>
                    <a:pt x="379" y="80"/>
                  </a:lnTo>
                  <a:lnTo>
                    <a:pt x="386" y="92"/>
                  </a:lnTo>
                  <a:lnTo>
                    <a:pt x="390" y="104"/>
                  </a:lnTo>
                  <a:lnTo>
                    <a:pt x="394"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78" name="WordArt 523"/>
            <p:cNvSpPr txBox="1"/>
            <p:nvPr/>
          </p:nvSpPr>
          <p:spPr>
            <a:xfrm>
              <a:off x="594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80%</a:t>
              </a:r>
              <a:endParaRPr b="0" lang="en-US" sz="1400" spc="1" strike="noStrike">
                <a:ln w="0">
                  <a:noFill/>
                </a:ln>
                <a:solidFill>
                  <a:srgbClr val="ffffff"/>
                </a:solidFill>
                <a:latin typeface="Arial Black"/>
                <a:ea typeface="Arial Black"/>
              </a:endParaRPr>
            </a:p>
          </p:txBody>
        </p:sp>
        <p:grpSp>
          <p:nvGrpSpPr>
            <p:cNvPr id="679" name="Group 19"/>
            <p:cNvGrpSpPr/>
            <p:nvPr/>
          </p:nvGrpSpPr>
          <p:grpSpPr>
            <a:xfrm>
              <a:off x="5724360" y="1197000"/>
              <a:ext cx="936720" cy="4319640"/>
              <a:chOff x="5724360" y="1197000"/>
              <a:chExt cx="936720" cy="4319640"/>
            </a:xfrm>
          </p:grpSpPr>
          <p:grpSp>
            <p:nvGrpSpPr>
              <p:cNvPr id="680" name="Group 20"/>
              <p:cNvGrpSpPr/>
              <p:nvPr/>
            </p:nvGrpSpPr>
            <p:grpSpPr>
              <a:xfrm>
                <a:off x="5724360" y="1197000"/>
                <a:ext cx="936720" cy="4319640"/>
                <a:chOff x="5724360" y="1197000"/>
                <a:chExt cx="936720" cy="4319640"/>
              </a:xfrm>
            </p:grpSpPr>
            <p:pic>
              <p:nvPicPr>
                <p:cNvPr id="681" name="Freeform 489" descr=""/>
                <p:cNvPicPr/>
                <p:nvPr/>
              </p:nvPicPr>
              <p:blipFill>
                <a:blip r:embed="rId2"/>
                <a:stretch/>
              </p:blipFill>
              <p:spPr>
                <a:xfrm>
                  <a:off x="5724360" y="1197000"/>
                  <a:ext cx="936720" cy="4319640"/>
                </a:xfrm>
                <a:prstGeom prst="rect">
                  <a:avLst/>
                </a:prstGeom>
                <a:ln w="0">
                  <a:noFill/>
                </a:ln>
              </p:spPr>
            </p:pic>
            <p:sp>
              <p:nvSpPr>
                <p:cNvPr id="682" name="Text Box 22"/>
                <p:cNvSpPr/>
                <p:nvPr/>
              </p:nvSpPr>
              <p:spPr>
                <a:xfrm>
                  <a:off x="572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83" name="Oval 490"/>
              <p:cNvSpPr/>
              <p:nvPr/>
            </p:nvSpPr>
            <p:spPr>
              <a:xfrm>
                <a:off x="586836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4" name="Oval 491"/>
              <p:cNvSpPr/>
              <p:nvPr/>
            </p:nvSpPr>
            <p:spPr>
              <a:xfrm>
                <a:off x="587016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685" name="Group 25"/>
          <p:cNvGrpSpPr/>
          <p:nvPr/>
        </p:nvGrpSpPr>
        <p:grpSpPr>
          <a:xfrm>
            <a:off x="6732720" y="1197000"/>
            <a:ext cx="1079280" cy="4751280"/>
            <a:chOff x="6732720" y="1197000"/>
            <a:chExt cx="1079280" cy="4751280"/>
          </a:xfrm>
        </p:grpSpPr>
        <p:sp>
          <p:nvSpPr>
            <p:cNvPr id="686" name="Oval 479"/>
            <p:cNvSpPr/>
            <p:nvPr/>
          </p:nvSpPr>
          <p:spPr>
            <a:xfrm>
              <a:off x="673272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87" name="Freeform 467"/>
            <p:cNvSpPr/>
            <p:nvPr/>
          </p:nvSpPr>
          <p:spPr>
            <a:xfrm>
              <a:off x="6921360" y="1304640"/>
              <a:ext cx="701640" cy="4103640"/>
            </a:xfrm>
            <a:custGeom>
              <a:avLst/>
              <a:gdLst/>
              <a:ahLst/>
              <a:rect l="l" t="t" r="r" b="b"/>
              <a:pathLst>
                <a:path w="394" h="2497">
                  <a:moveTo>
                    <a:pt x="394" y="197"/>
                  </a:moveTo>
                  <a:lnTo>
                    <a:pt x="394" y="197"/>
                  </a:lnTo>
                  <a:lnTo>
                    <a:pt x="394" y="176"/>
                  </a:lnTo>
                  <a:lnTo>
                    <a:pt x="390" y="157"/>
                  </a:lnTo>
                  <a:lnTo>
                    <a:pt x="386" y="138"/>
                  </a:lnTo>
                  <a:lnTo>
                    <a:pt x="379" y="120"/>
                  </a:lnTo>
                  <a:lnTo>
                    <a:pt x="371" y="102"/>
                  </a:lnTo>
                  <a:lnTo>
                    <a:pt x="361" y="86"/>
                  </a:lnTo>
                  <a:lnTo>
                    <a:pt x="349" y="71"/>
                  </a:lnTo>
                  <a:lnTo>
                    <a:pt x="337" y="57"/>
                  </a:lnTo>
                  <a:lnTo>
                    <a:pt x="323" y="45"/>
                  </a:lnTo>
                  <a:lnTo>
                    <a:pt x="308" y="33"/>
                  </a:lnTo>
                  <a:lnTo>
                    <a:pt x="292" y="23"/>
                  </a:lnTo>
                  <a:lnTo>
                    <a:pt x="274" y="15"/>
                  </a:lnTo>
                  <a:lnTo>
                    <a:pt x="256" y="8"/>
                  </a:lnTo>
                  <a:lnTo>
                    <a:pt x="237" y="4"/>
                  </a:lnTo>
                  <a:lnTo>
                    <a:pt x="218" y="0"/>
                  </a:lnTo>
                  <a:lnTo>
                    <a:pt x="197" y="0"/>
                  </a:lnTo>
                  <a:lnTo>
                    <a:pt x="178" y="0"/>
                  </a:lnTo>
                  <a:lnTo>
                    <a:pt x="157" y="4"/>
                  </a:lnTo>
                  <a:lnTo>
                    <a:pt x="138" y="8"/>
                  </a:lnTo>
                  <a:lnTo>
                    <a:pt x="121" y="15"/>
                  </a:lnTo>
                  <a:lnTo>
                    <a:pt x="104" y="23"/>
                  </a:lnTo>
                  <a:lnTo>
                    <a:pt x="88" y="33"/>
                  </a:lnTo>
                  <a:lnTo>
                    <a:pt x="73" y="45"/>
                  </a:lnTo>
                  <a:lnTo>
                    <a:pt x="58" y="57"/>
                  </a:lnTo>
                  <a:lnTo>
                    <a:pt x="45" y="71"/>
                  </a:lnTo>
                  <a:lnTo>
                    <a:pt x="34" y="86"/>
                  </a:lnTo>
                  <a:lnTo>
                    <a:pt x="25" y="102"/>
                  </a:lnTo>
                  <a:lnTo>
                    <a:pt x="16" y="120"/>
                  </a:lnTo>
                  <a:lnTo>
                    <a:pt x="10" y="138"/>
                  </a:lnTo>
                  <a:lnTo>
                    <a:pt x="4" y="157"/>
                  </a:lnTo>
                  <a:lnTo>
                    <a:pt x="1" y="176"/>
                  </a:lnTo>
                  <a:lnTo>
                    <a:pt x="0" y="197"/>
                  </a:lnTo>
                  <a:lnTo>
                    <a:pt x="0" y="2300"/>
                  </a:lnTo>
                  <a:lnTo>
                    <a:pt x="1" y="2321"/>
                  </a:lnTo>
                  <a:lnTo>
                    <a:pt x="4" y="2340"/>
                  </a:lnTo>
                  <a:lnTo>
                    <a:pt x="10" y="2359"/>
                  </a:lnTo>
                  <a:lnTo>
                    <a:pt x="16" y="2377"/>
                  </a:lnTo>
                  <a:lnTo>
                    <a:pt x="25" y="2395"/>
                  </a:lnTo>
                  <a:lnTo>
                    <a:pt x="34" y="2410"/>
                  </a:lnTo>
                  <a:lnTo>
                    <a:pt x="45" y="2426"/>
                  </a:lnTo>
                  <a:lnTo>
                    <a:pt x="58" y="2440"/>
                  </a:lnTo>
                  <a:lnTo>
                    <a:pt x="73" y="2452"/>
                  </a:lnTo>
                  <a:lnTo>
                    <a:pt x="88" y="2463"/>
                  </a:lnTo>
                  <a:lnTo>
                    <a:pt x="104" y="2474"/>
                  </a:lnTo>
                  <a:lnTo>
                    <a:pt x="121" y="2482"/>
                  </a:lnTo>
                  <a:lnTo>
                    <a:pt x="138" y="2489"/>
                  </a:lnTo>
                  <a:lnTo>
                    <a:pt x="157" y="2493"/>
                  </a:lnTo>
                  <a:lnTo>
                    <a:pt x="178" y="2496"/>
                  </a:lnTo>
                  <a:lnTo>
                    <a:pt x="197" y="2497"/>
                  </a:lnTo>
                  <a:lnTo>
                    <a:pt x="218" y="2496"/>
                  </a:lnTo>
                  <a:lnTo>
                    <a:pt x="237" y="2493"/>
                  </a:lnTo>
                  <a:lnTo>
                    <a:pt x="256" y="2489"/>
                  </a:lnTo>
                  <a:lnTo>
                    <a:pt x="274" y="2482"/>
                  </a:lnTo>
                  <a:lnTo>
                    <a:pt x="292" y="2474"/>
                  </a:lnTo>
                  <a:lnTo>
                    <a:pt x="308" y="2463"/>
                  </a:lnTo>
                  <a:lnTo>
                    <a:pt x="323" y="2452"/>
                  </a:lnTo>
                  <a:lnTo>
                    <a:pt x="337" y="2440"/>
                  </a:lnTo>
                  <a:lnTo>
                    <a:pt x="349" y="2426"/>
                  </a:lnTo>
                  <a:lnTo>
                    <a:pt x="361" y="2410"/>
                  </a:lnTo>
                  <a:lnTo>
                    <a:pt x="371" y="2395"/>
                  </a:lnTo>
                  <a:lnTo>
                    <a:pt x="379" y="2377"/>
                  </a:lnTo>
                  <a:lnTo>
                    <a:pt x="386" y="2359"/>
                  </a:lnTo>
                  <a:lnTo>
                    <a:pt x="390" y="2340"/>
                  </a:lnTo>
                  <a:lnTo>
                    <a:pt x="394" y="2321"/>
                  </a:lnTo>
                  <a:lnTo>
                    <a:pt x="394" y="2300"/>
                  </a:lnTo>
                  <a:lnTo>
                    <a:pt x="394" y="197"/>
                  </a:lnTo>
                  <a:close/>
                </a:path>
              </a:pathLst>
            </a:custGeom>
            <a:gradFill rotWithShape="0">
              <a:gsLst>
                <a:gs pos="0">
                  <a:srgbClr val="374517"/>
                </a:gs>
                <a:gs pos="100000">
                  <a:srgbClr val="9cbc55"/>
                </a:gs>
              </a:gsLst>
              <a:lin ang="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688" name="WordArt 524"/>
            <p:cNvSpPr txBox="1"/>
            <p:nvPr/>
          </p:nvSpPr>
          <p:spPr>
            <a:xfrm>
              <a:off x="6948360" y="4940280"/>
              <a:ext cx="64764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00%</a:t>
              </a:r>
              <a:endParaRPr b="0" lang="en-US" sz="1400" spc="1" strike="noStrike">
                <a:ln w="0">
                  <a:noFill/>
                </a:ln>
                <a:solidFill>
                  <a:srgbClr val="ffffff"/>
                </a:solidFill>
                <a:latin typeface="Arial Black"/>
                <a:ea typeface="Arial Black"/>
              </a:endParaRPr>
            </a:p>
          </p:txBody>
        </p:sp>
        <p:grpSp>
          <p:nvGrpSpPr>
            <p:cNvPr id="689" name="Group 29"/>
            <p:cNvGrpSpPr/>
            <p:nvPr/>
          </p:nvGrpSpPr>
          <p:grpSpPr>
            <a:xfrm>
              <a:off x="6804000" y="1197000"/>
              <a:ext cx="936720" cy="4319640"/>
              <a:chOff x="6804000" y="1197000"/>
              <a:chExt cx="936720" cy="4319640"/>
            </a:xfrm>
          </p:grpSpPr>
          <p:grpSp>
            <p:nvGrpSpPr>
              <p:cNvPr id="690" name="Group 30"/>
              <p:cNvGrpSpPr/>
              <p:nvPr/>
            </p:nvGrpSpPr>
            <p:grpSpPr>
              <a:xfrm>
                <a:off x="6804000" y="1197000"/>
                <a:ext cx="936720" cy="4319640"/>
                <a:chOff x="6804000" y="1197000"/>
                <a:chExt cx="936720" cy="4319640"/>
              </a:xfrm>
            </p:grpSpPr>
            <p:pic>
              <p:nvPicPr>
                <p:cNvPr id="691" name="Freeform 500" descr=""/>
                <p:cNvPicPr/>
                <p:nvPr/>
              </p:nvPicPr>
              <p:blipFill>
                <a:blip r:embed="rId3"/>
                <a:stretch/>
              </p:blipFill>
              <p:spPr>
                <a:xfrm>
                  <a:off x="6804000" y="1197000"/>
                  <a:ext cx="936720" cy="4319640"/>
                </a:xfrm>
                <a:prstGeom prst="rect">
                  <a:avLst/>
                </a:prstGeom>
                <a:ln w="0">
                  <a:noFill/>
                </a:ln>
              </p:spPr>
            </p:pic>
            <p:sp>
              <p:nvSpPr>
                <p:cNvPr id="692" name="Text Box 32"/>
                <p:cNvSpPr/>
                <p:nvPr/>
              </p:nvSpPr>
              <p:spPr>
                <a:xfrm>
                  <a:off x="6804720" y="1198800"/>
                  <a:ext cx="93492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693" name="Oval 501"/>
              <p:cNvSpPr/>
              <p:nvPr/>
            </p:nvSpPr>
            <p:spPr>
              <a:xfrm>
                <a:off x="6949440" y="1557000"/>
                <a:ext cx="14256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502"/>
              <p:cNvSpPr/>
              <p:nvPr/>
            </p:nvSpPr>
            <p:spPr>
              <a:xfrm>
                <a:off x="6951240" y="1341000"/>
                <a:ext cx="21384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695" name="Group 35"/>
          <p:cNvGrpSpPr/>
          <p:nvPr/>
        </p:nvGrpSpPr>
        <p:grpSpPr>
          <a:xfrm>
            <a:off x="4572000" y="1197000"/>
            <a:ext cx="1079640" cy="4751280"/>
            <a:chOff x="4572000" y="1197000"/>
            <a:chExt cx="1079640" cy="4751280"/>
          </a:xfrm>
        </p:grpSpPr>
        <p:sp>
          <p:nvSpPr>
            <p:cNvPr id="696" name="Oval 477"/>
            <p:cNvSpPr/>
            <p:nvPr/>
          </p:nvSpPr>
          <p:spPr>
            <a:xfrm>
              <a:off x="457200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Freeform 458"/>
            <p:cNvSpPr/>
            <p:nvPr/>
          </p:nvSpPr>
          <p:spPr>
            <a:xfrm>
              <a:off x="4761000" y="2925720"/>
              <a:ext cx="701640" cy="2482920"/>
            </a:xfrm>
            <a:custGeom>
              <a:avLst/>
              <a:gdLst>
                <a:gd name="textAreaLeft" fmla="*/ 0 w 701640"/>
                <a:gd name="textAreaRight" fmla="*/ 701640 w 701640"/>
                <a:gd name="textAreaTop" fmla="*/ 0 h 2482920"/>
                <a:gd name="textAreaBottom" fmla="*/ 2483280 h 2482920"/>
              </a:gdLst>
              <a:ahLst/>
              <a:rect l="textAreaLeft" t="textAreaTop" r="textAreaRight" b="textAreaBottom"/>
              <a:pathLst>
                <a:path w="394" h="1511">
                  <a:moveTo>
                    <a:pt x="0" y="0"/>
                  </a:moveTo>
                  <a:lnTo>
                    <a:pt x="0" y="1314"/>
                  </a:lnTo>
                  <a:lnTo>
                    <a:pt x="1" y="1335"/>
                  </a:lnTo>
                  <a:lnTo>
                    <a:pt x="4" y="1354"/>
                  </a:lnTo>
                  <a:lnTo>
                    <a:pt x="9" y="1373"/>
                  </a:lnTo>
                  <a:lnTo>
                    <a:pt x="15" y="1391"/>
                  </a:lnTo>
                  <a:lnTo>
                    <a:pt x="25" y="1409"/>
                  </a:lnTo>
                  <a:lnTo>
                    <a:pt x="34" y="1424"/>
                  </a:lnTo>
                  <a:lnTo>
                    <a:pt x="45" y="1440"/>
                  </a:lnTo>
                  <a:lnTo>
                    <a:pt x="57" y="1454"/>
                  </a:lnTo>
                  <a:lnTo>
                    <a:pt x="72" y="1466"/>
                  </a:lnTo>
                  <a:lnTo>
                    <a:pt x="88" y="1477"/>
                  </a:lnTo>
                  <a:lnTo>
                    <a:pt x="104" y="1488"/>
                  </a:lnTo>
                  <a:lnTo>
                    <a:pt x="120" y="1496"/>
                  </a:lnTo>
                  <a:lnTo>
                    <a:pt x="138" y="1503"/>
                  </a:lnTo>
                  <a:lnTo>
                    <a:pt x="157" y="1507"/>
                  </a:lnTo>
                  <a:lnTo>
                    <a:pt x="177" y="1510"/>
                  </a:lnTo>
                  <a:lnTo>
                    <a:pt x="197" y="1511"/>
                  </a:lnTo>
                  <a:lnTo>
                    <a:pt x="218" y="1510"/>
                  </a:lnTo>
                  <a:lnTo>
                    <a:pt x="237" y="1507"/>
                  </a:lnTo>
                  <a:lnTo>
                    <a:pt x="256" y="1503"/>
                  </a:lnTo>
                  <a:lnTo>
                    <a:pt x="274" y="1496"/>
                  </a:lnTo>
                  <a:lnTo>
                    <a:pt x="291" y="1488"/>
                  </a:lnTo>
                  <a:lnTo>
                    <a:pt x="308" y="1477"/>
                  </a:lnTo>
                  <a:lnTo>
                    <a:pt x="323" y="1466"/>
                  </a:lnTo>
                  <a:lnTo>
                    <a:pt x="337" y="1454"/>
                  </a:lnTo>
                  <a:lnTo>
                    <a:pt x="349" y="1440"/>
                  </a:lnTo>
                  <a:lnTo>
                    <a:pt x="361" y="1424"/>
                  </a:lnTo>
                  <a:lnTo>
                    <a:pt x="371" y="1409"/>
                  </a:lnTo>
                  <a:lnTo>
                    <a:pt x="379" y="1391"/>
                  </a:lnTo>
                  <a:lnTo>
                    <a:pt x="386" y="1373"/>
                  </a:lnTo>
                  <a:lnTo>
                    <a:pt x="390" y="1354"/>
                  </a:lnTo>
                  <a:lnTo>
                    <a:pt x="393" y="1335"/>
                  </a:lnTo>
                  <a:lnTo>
                    <a:pt x="394" y="1314"/>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698" name="Freeform 459"/>
            <p:cNvSpPr/>
            <p:nvPr/>
          </p:nvSpPr>
          <p:spPr>
            <a:xfrm>
              <a:off x="4761000" y="270828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2"/>
                  </a:moveTo>
                  <a:lnTo>
                    <a:pt x="394" y="132"/>
                  </a:lnTo>
                  <a:lnTo>
                    <a:pt x="393" y="145"/>
                  </a:lnTo>
                  <a:lnTo>
                    <a:pt x="390" y="158"/>
                  </a:lnTo>
                  <a:lnTo>
                    <a:pt x="386" y="170"/>
                  </a:lnTo>
                  <a:lnTo>
                    <a:pt x="379" y="182"/>
                  </a:lnTo>
                  <a:lnTo>
                    <a:pt x="371" y="195"/>
                  </a:lnTo>
                  <a:lnTo>
                    <a:pt x="361" y="204"/>
                  </a:lnTo>
                  <a:lnTo>
                    <a:pt x="349" y="215"/>
                  </a:lnTo>
                  <a:lnTo>
                    <a:pt x="337" y="225"/>
                  </a:lnTo>
                  <a:lnTo>
                    <a:pt x="323" y="233"/>
                  </a:lnTo>
                  <a:lnTo>
                    <a:pt x="308" y="240"/>
                  </a:lnTo>
                  <a:lnTo>
                    <a:pt x="291" y="247"/>
                  </a:lnTo>
                  <a:lnTo>
                    <a:pt x="274" y="252"/>
                  </a:lnTo>
                  <a:lnTo>
                    <a:pt x="256" y="256"/>
                  </a:lnTo>
                  <a:lnTo>
                    <a:pt x="237" y="260"/>
                  </a:lnTo>
                  <a:lnTo>
                    <a:pt x="218" y="262"/>
                  </a:lnTo>
                  <a:lnTo>
                    <a:pt x="197" y="263"/>
                  </a:lnTo>
                  <a:lnTo>
                    <a:pt x="177" y="262"/>
                  </a:lnTo>
                  <a:lnTo>
                    <a:pt x="157" y="260"/>
                  </a:lnTo>
                  <a:lnTo>
                    <a:pt x="138" y="256"/>
                  </a:lnTo>
                  <a:lnTo>
                    <a:pt x="120" y="252"/>
                  </a:lnTo>
                  <a:lnTo>
                    <a:pt x="104" y="247"/>
                  </a:lnTo>
                  <a:lnTo>
                    <a:pt x="88" y="240"/>
                  </a:lnTo>
                  <a:lnTo>
                    <a:pt x="72" y="233"/>
                  </a:lnTo>
                  <a:lnTo>
                    <a:pt x="57" y="225"/>
                  </a:lnTo>
                  <a:lnTo>
                    <a:pt x="45" y="215"/>
                  </a:lnTo>
                  <a:lnTo>
                    <a:pt x="34" y="204"/>
                  </a:lnTo>
                  <a:lnTo>
                    <a:pt x="25" y="195"/>
                  </a:lnTo>
                  <a:lnTo>
                    <a:pt x="15" y="182"/>
                  </a:lnTo>
                  <a:lnTo>
                    <a:pt x="9" y="170"/>
                  </a:lnTo>
                  <a:lnTo>
                    <a:pt x="4" y="158"/>
                  </a:lnTo>
                  <a:lnTo>
                    <a:pt x="1" y="145"/>
                  </a:lnTo>
                  <a:lnTo>
                    <a:pt x="0" y="132"/>
                  </a:lnTo>
                  <a:lnTo>
                    <a:pt x="1" y="118"/>
                  </a:lnTo>
                  <a:lnTo>
                    <a:pt x="4" y="104"/>
                  </a:lnTo>
                  <a:lnTo>
                    <a:pt x="9" y="92"/>
                  </a:lnTo>
                  <a:lnTo>
                    <a:pt x="15" y="80"/>
                  </a:lnTo>
                  <a:lnTo>
                    <a:pt x="25" y="69"/>
                  </a:lnTo>
                  <a:lnTo>
                    <a:pt x="34" y="58"/>
                  </a:lnTo>
                  <a:lnTo>
                    <a:pt x="45" y="48"/>
                  </a:lnTo>
                  <a:lnTo>
                    <a:pt x="57" y="38"/>
                  </a:lnTo>
                  <a:lnTo>
                    <a:pt x="72" y="30"/>
                  </a:lnTo>
                  <a:lnTo>
                    <a:pt x="88" y="22"/>
                  </a:lnTo>
                  <a:lnTo>
                    <a:pt x="104" y="15"/>
                  </a:lnTo>
                  <a:lnTo>
                    <a:pt x="120" y="10"/>
                  </a:lnTo>
                  <a:lnTo>
                    <a:pt x="138" y="6"/>
                  </a:lnTo>
                  <a:lnTo>
                    <a:pt x="157" y="3"/>
                  </a:lnTo>
                  <a:lnTo>
                    <a:pt x="177" y="0"/>
                  </a:lnTo>
                  <a:lnTo>
                    <a:pt x="197" y="0"/>
                  </a:lnTo>
                  <a:lnTo>
                    <a:pt x="218" y="0"/>
                  </a:lnTo>
                  <a:lnTo>
                    <a:pt x="237" y="3"/>
                  </a:lnTo>
                  <a:lnTo>
                    <a:pt x="256" y="6"/>
                  </a:lnTo>
                  <a:lnTo>
                    <a:pt x="274" y="10"/>
                  </a:lnTo>
                  <a:lnTo>
                    <a:pt x="291" y="15"/>
                  </a:lnTo>
                  <a:lnTo>
                    <a:pt x="308" y="22"/>
                  </a:lnTo>
                  <a:lnTo>
                    <a:pt x="323" y="30"/>
                  </a:lnTo>
                  <a:lnTo>
                    <a:pt x="337" y="38"/>
                  </a:lnTo>
                  <a:lnTo>
                    <a:pt x="349" y="48"/>
                  </a:lnTo>
                  <a:lnTo>
                    <a:pt x="361" y="58"/>
                  </a:lnTo>
                  <a:lnTo>
                    <a:pt x="371" y="69"/>
                  </a:lnTo>
                  <a:lnTo>
                    <a:pt x="379" y="80"/>
                  </a:lnTo>
                  <a:lnTo>
                    <a:pt x="386" y="92"/>
                  </a:lnTo>
                  <a:lnTo>
                    <a:pt x="390" y="104"/>
                  </a:lnTo>
                  <a:lnTo>
                    <a:pt x="393" y="118"/>
                  </a:lnTo>
                  <a:lnTo>
                    <a:pt x="394" y="132"/>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99" name="WordArt 522"/>
            <p:cNvSpPr txBox="1"/>
            <p:nvPr/>
          </p:nvSpPr>
          <p:spPr>
            <a:xfrm>
              <a:off x="486072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60%</a:t>
              </a:r>
              <a:endParaRPr b="0" lang="en-US" sz="1400" spc="1" strike="noStrike">
                <a:ln w="0">
                  <a:noFill/>
                </a:ln>
                <a:solidFill>
                  <a:srgbClr val="ffffff"/>
                </a:solidFill>
                <a:latin typeface="Arial Black"/>
                <a:ea typeface="Arial Black"/>
              </a:endParaRPr>
            </a:p>
          </p:txBody>
        </p:sp>
        <p:grpSp>
          <p:nvGrpSpPr>
            <p:cNvPr id="700" name="Group 40"/>
            <p:cNvGrpSpPr/>
            <p:nvPr/>
          </p:nvGrpSpPr>
          <p:grpSpPr>
            <a:xfrm>
              <a:off x="4643280" y="1197000"/>
              <a:ext cx="936360" cy="4319640"/>
              <a:chOff x="4643280" y="1197000"/>
              <a:chExt cx="936360" cy="4319640"/>
            </a:xfrm>
          </p:grpSpPr>
          <p:grpSp>
            <p:nvGrpSpPr>
              <p:cNvPr id="701" name="Group 41"/>
              <p:cNvGrpSpPr/>
              <p:nvPr/>
            </p:nvGrpSpPr>
            <p:grpSpPr>
              <a:xfrm>
                <a:off x="4643280" y="1197000"/>
                <a:ext cx="936360" cy="4319640"/>
                <a:chOff x="4643280" y="1197000"/>
                <a:chExt cx="936360" cy="4319640"/>
              </a:xfrm>
            </p:grpSpPr>
            <p:pic>
              <p:nvPicPr>
                <p:cNvPr id="702" name="Freeform 504" descr=""/>
                <p:cNvPicPr/>
                <p:nvPr/>
              </p:nvPicPr>
              <p:blipFill>
                <a:blip r:embed="rId4"/>
                <a:stretch/>
              </p:blipFill>
              <p:spPr>
                <a:xfrm>
                  <a:off x="4644720" y="1197000"/>
                  <a:ext cx="932760" cy="4319640"/>
                </a:xfrm>
                <a:prstGeom prst="rect">
                  <a:avLst/>
                </a:prstGeom>
                <a:ln w="0">
                  <a:noFill/>
                </a:ln>
              </p:spPr>
            </p:pic>
            <p:sp>
              <p:nvSpPr>
                <p:cNvPr id="703" name="Text Box 43"/>
                <p:cNvSpPr/>
                <p:nvPr/>
              </p:nvSpPr>
              <p:spPr>
                <a:xfrm>
                  <a:off x="464328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04" name="Oval 505"/>
              <p:cNvSpPr/>
              <p:nvPr/>
            </p:nvSpPr>
            <p:spPr>
              <a:xfrm>
                <a:off x="478656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5" name="Oval 506"/>
              <p:cNvSpPr/>
              <p:nvPr/>
            </p:nvSpPr>
            <p:spPr>
              <a:xfrm>
                <a:off x="478836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06" name="Group 46"/>
          <p:cNvGrpSpPr/>
          <p:nvPr/>
        </p:nvGrpSpPr>
        <p:grpSpPr>
          <a:xfrm>
            <a:off x="3492360" y="1197000"/>
            <a:ext cx="1079640" cy="4751280"/>
            <a:chOff x="3492360" y="1197000"/>
            <a:chExt cx="1079640" cy="4751280"/>
          </a:xfrm>
        </p:grpSpPr>
        <p:sp>
          <p:nvSpPr>
            <p:cNvPr id="707" name="Oval 476"/>
            <p:cNvSpPr/>
            <p:nvPr/>
          </p:nvSpPr>
          <p:spPr>
            <a:xfrm>
              <a:off x="3492360" y="5516640"/>
              <a:ext cx="107964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8" name="Freeform 461"/>
            <p:cNvSpPr/>
            <p:nvPr/>
          </p:nvSpPr>
          <p:spPr>
            <a:xfrm>
              <a:off x="3681360" y="3787920"/>
              <a:ext cx="701640" cy="1620720"/>
            </a:xfrm>
            <a:custGeom>
              <a:avLst/>
              <a:gdLst>
                <a:gd name="textAreaLeft" fmla="*/ 0 w 701640"/>
                <a:gd name="textAreaRight" fmla="*/ 701640 w 701640"/>
                <a:gd name="textAreaTop" fmla="*/ 0 h 1620720"/>
                <a:gd name="textAreaBottom" fmla="*/ 1621080 h 1620720"/>
              </a:gdLst>
              <a:ahLst/>
              <a:rect l="textAreaLeft" t="textAreaTop" r="textAreaRight" b="textAreaBottom"/>
              <a:pathLst>
                <a:path w="394" h="986">
                  <a:moveTo>
                    <a:pt x="0" y="0"/>
                  </a:moveTo>
                  <a:lnTo>
                    <a:pt x="0" y="789"/>
                  </a:lnTo>
                  <a:lnTo>
                    <a:pt x="1" y="810"/>
                  </a:lnTo>
                  <a:lnTo>
                    <a:pt x="4" y="829"/>
                  </a:lnTo>
                  <a:lnTo>
                    <a:pt x="9" y="848"/>
                  </a:lnTo>
                  <a:lnTo>
                    <a:pt x="15" y="866"/>
                  </a:lnTo>
                  <a:lnTo>
                    <a:pt x="23" y="884"/>
                  </a:lnTo>
                  <a:lnTo>
                    <a:pt x="34" y="899"/>
                  </a:lnTo>
                  <a:lnTo>
                    <a:pt x="45" y="915"/>
                  </a:lnTo>
                  <a:lnTo>
                    <a:pt x="57" y="929"/>
                  </a:lnTo>
                  <a:lnTo>
                    <a:pt x="71" y="941"/>
                  </a:lnTo>
                  <a:lnTo>
                    <a:pt x="87" y="952"/>
                  </a:lnTo>
                  <a:lnTo>
                    <a:pt x="103" y="963"/>
                  </a:lnTo>
                  <a:lnTo>
                    <a:pt x="120" y="971"/>
                  </a:lnTo>
                  <a:lnTo>
                    <a:pt x="138" y="977"/>
                  </a:lnTo>
                  <a:lnTo>
                    <a:pt x="157" y="982"/>
                  </a:lnTo>
                  <a:lnTo>
                    <a:pt x="176" y="985"/>
                  </a:lnTo>
                  <a:lnTo>
                    <a:pt x="197" y="986"/>
                  </a:lnTo>
                  <a:lnTo>
                    <a:pt x="217" y="985"/>
                  </a:lnTo>
                  <a:lnTo>
                    <a:pt x="237" y="982"/>
                  </a:lnTo>
                  <a:lnTo>
                    <a:pt x="256" y="977"/>
                  </a:lnTo>
                  <a:lnTo>
                    <a:pt x="274" y="971"/>
                  </a:lnTo>
                  <a:lnTo>
                    <a:pt x="291" y="963"/>
                  </a:lnTo>
                  <a:lnTo>
                    <a:pt x="308" y="952"/>
                  </a:lnTo>
                  <a:lnTo>
                    <a:pt x="323" y="941"/>
                  </a:lnTo>
                  <a:lnTo>
                    <a:pt x="337" y="929"/>
                  </a:lnTo>
                  <a:lnTo>
                    <a:pt x="349" y="915"/>
                  </a:lnTo>
                  <a:lnTo>
                    <a:pt x="361" y="899"/>
                  </a:lnTo>
                  <a:lnTo>
                    <a:pt x="371" y="884"/>
                  </a:lnTo>
                  <a:lnTo>
                    <a:pt x="379" y="866"/>
                  </a:lnTo>
                  <a:lnTo>
                    <a:pt x="386" y="848"/>
                  </a:lnTo>
                  <a:lnTo>
                    <a:pt x="390" y="829"/>
                  </a:lnTo>
                  <a:lnTo>
                    <a:pt x="393" y="810"/>
                  </a:lnTo>
                  <a:lnTo>
                    <a:pt x="394" y="789"/>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9" name="Freeform 462"/>
            <p:cNvSpPr/>
            <p:nvPr/>
          </p:nvSpPr>
          <p:spPr>
            <a:xfrm>
              <a:off x="3681360" y="3573360"/>
              <a:ext cx="701640" cy="431640"/>
            </a:xfrm>
            <a:custGeom>
              <a:avLst/>
              <a:gdLst>
                <a:gd name="textAreaLeft" fmla="*/ 0 w 701640"/>
                <a:gd name="textAreaRight" fmla="*/ 701640 w 7016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1" y="205"/>
                  </a:lnTo>
                  <a:lnTo>
                    <a:pt x="349" y="215"/>
                  </a:lnTo>
                  <a:lnTo>
                    <a:pt x="337" y="225"/>
                  </a:lnTo>
                  <a:lnTo>
                    <a:pt x="323" y="233"/>
                  </a:lnTo>
                  <a:lnTo>
                    <a:pt x="308" y="240"/>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3" y="246"/>
                  </a:lnTo>
                  <a:lnTo>
                    <a:pt x="87" y="240"/>
                  </a:lnTo>
                  <a:lnTo>
                    <a:pt x="71" y="233"/>
                  </a:lnTo>
                  <a:lnTo>
                    <a:pt x="57" y="225"/>
                  </a:lnTo>
                  <a:lnTo>
                    <a:pt x="45" y="215"/>
                  </a:lnTo>
                  <a:lnTo>
                    <a:pt x="34" y="205"/>
                  </a:lnTo>
                  <a:lnTo>
                    <a:pt x="23" y="194"/>
                  </a:lnTo>
                  <a:lnTo>
                    <a:pt x="15" y="182"/>
                  </a:lnTo>
                  <a:lnTo>
                    <a:pt x="9" y="170"/>
                  </a:lnTo>
                  <a:lnTo>
                    <a:pt x="4" y="157"/>
                  </a:lnTo>
                  <a:lnTo>
                    <a:pt x="1" y="145"/>
                  </a:lnTo>
                  <a:lnTo>
                    <a:pt x="0" y="131"/>
                  </a:lnTo>
                  <a:lnTo>
                    <a:pt x="1" y="118"/>
                  </a:lnTo>
                  <a:lnTo>
                    <a:pt x="4" y="105"/>
                  </a:lnTo>
                  <a:lnTo>
                    <a:pt x="9" y="92"/>
                  </a:lnTo>
                  <a:lnTo>
                    <a:pt x="15" y="79"/>
                  </a:lnTo>
                  <a:lnTo>
                    <a:pt x="23" y="68"/>
                  </a:lnTo>
                  <a:lnTo>
                    <a:pt x="34" y="57"/>
                  </a:lnTo>
                  <a:lnTo>
                    <a:pt x="45" y="48"/>
                  </a:lnTo>
                  <a:lnTo>
                    <a:pt x="57" y="38"/>
                  </a:lnTo>
                  <a:lnTo>
                    <a:pt x="71" y="30"/>
                  </a:lnTo>
                  <a:lnTo>
                    <a:pt x="87" y="22"/>
                  </a:lnTo>
                  <a:lnTo>
                    <a:pt x="103" y="15"/>
                  </a:lnTo>
                  <a:lnTo>
                    <a:pt x="120" y="10"/>
                  </a:lnTo>
                  <a:lnTo>
                    <a:pt x="138" y="5"/>
                  </a:lnTo>
                  <a:lnTo>
                    <a:pt x="157" y="3"/>
                  </a:lnTo>
                  <a:lnTo>
                    <a:pt x="176" y="0"/>
                  </a:lnTo>
                  <a:lnTo>
                    <a:pt x="197" y="0"/>
                  </a:lnTo>
                  <a:lnTo>
                    <a:pt x="217" y="0"/>
                  </a:lnTo>
                  <a:lnTo>
                    <a:pt x="237" y="3"/>
                  </a:lnTo>
                  <a:lnTo>
                    <a:pt x="256" y="5"/>
                  </a:lnTo>
                  <a:lnTo>
                    <a:pt x="274" y="10"/>
                  </a:lnTo>
                  <a:lnTo>
                    <a:pt x="291" y="15"/>
                  </a:lnTo>
                  <a:lnTo>
                    <a:pt x="308" y="22"/>
                  </a:lnTo>
                  <a:lnTo>
                    <a:pt x="323" y="30"/>
                  </a:lnTo>
                  <a:lnTo>
                    <a:pt x="337" y="38"/>
                  </a:lnTo>
                  <a:lnTo>
                    <a:pt x="349" y="48"/>
                  </a:lnTo>
                  <a:lnTo>
                    <a:pt x="361" y="57"/>
                  </a:lnTo>
                  <a:lnTo>
                    <a:pt x="371" y="68"/>
                  </a:lnTo>
                  <a:lnTo>
                    <a:pt x="379" y="79"/>
                  </a:lnTo>
                  <a:lnTo>
                    <a:pt x="386" y="92"/>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10" name="WordArt 521"/>
            <p:cNvSpPr txBox="1"/>
            <p:nvPr/>
          </p:nvSpPr>
          <p:spPr>
            <a:xfrm>
              <a:off x="378108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40%</a:t>
              </a:r>
              <a:endParaRPr b="0" lang="en-US" sz="1400" spc="1" strike="noStrike">
                <a:ln w="0">
                  <a:noFill/>
                </a:ln>
                <a:solidFill>
                  <a:srgbClr val="ffffff"/>
                </a:solidFill>
                <a:latin typeface="Arial Black"/>
                <a:ea typeface="Arial Black"/>
              </a:endParaRPr>
            </a:p>
          </p:txBody>
        </p:sp>
        <p:grpSp>
          <p:nvGrpSpPr>
            <p:cNvPr id="711" name="Group 51"/>
            <p:cNvGrpSpPr/>
            <p:nvPr/>
          </p:nvGrpSpPr>
          <p:grpSpPr>
            <a:xfrm>
              <a:off x="3563640" y="1197000"/>
              <a:ext cx="936360" cy="4319640"/>
              <a:chOff x="3563640" y="1197000"/>
              <a:chExt cx="936360" cy="4319640"/>
            </a:xfrm>
          </p:grpSpPr>
          <p:grpSp>
            <p:nvGrpSpPr>
              <p:cNvPr id="712" name="Group 52"/>
              <p:cNvGrpSpPr/>
              <p:nvPr/>
            </p:nvGrpSpPr>
            <p:grpSpPr>
              <a:xfrm>
                <a:off x="3563640" y="1197000"/>
                <a:ext cx="936360" cy="4319640"/>
                <a:chOff x="3563640" y="1197000"/>
                <a:chExt cx="936360" cy="4319640"/>
              </a:xfrm>
            </p:grpSpPr>
            <p:pic>
              <p:nvPicPr>
                <p:cNvPr id="713" name="Freeform 508" descr=""/>
                <p:cNvPicPr/>
                <p:nvPr/>
              </p:nvPicPr>
              <p:blipFill>
                <a:blip r:embed="rId5"/>
                <a:stretch/>
              </p:blipFill>
              <p:spPr>
                <a:xfrm>
                  <a:off x="3565800" y="1197000"/>
                  <a:ext cx="932760" cy="4319640"/>
                </a:xfrm>
                <a:prstGeom prst="rect">
                  <a:avLst/>
                </a:prstGeom>
                <a:ln w="0">
                  <a:noFill/>
                </a:ln>
              </p:spPr>
            </p:pic>
            <p:sp>
              <p:nvSpPr>
                <p:cNvPr id="714" name="Text Box 54"/>
                <p:cNvSpPr/>
                <p:nvPr/>
              </p:nvSpPr>
              <p:spPr>
                <a:xfrm>
                  <a:off x="356364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15" name="Oval 509"/>
              <p:cNvSpPr/>
              <p:nvPr/>
            </p:nvSpPr>
            <p:spPr>
              <a:xfrm>
                <a:off x="370692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6" name="Oval 510"/>
              <p:cNvSpPr/>
              <p:nvPr/>
            </p:nvSpPr>
            <p:spPr>
              <a:xfrm>
                <a:off x="370872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grpSp>
        <p:nvGrpSpPr>
          <p:cNvPr id="717" name="Group 57"/>
          <p:cNvGrpSpPr/>
          <p:nvPr/>
        </p:nvGrpSpPr>
        <p:grpSpPr>
          <a:xfrm>
            <a:off x="2413080" y="1197000"/>
            <a:ext cx="1079280" cy="4751280"/>
            <a:chOff x="2413080" y="1197000"/>
            <a:chExt cx="1079280" cy="4751280"/>
          </a:xfrm>
        </p:grpSpPr>
        <p:sp>
          <p:nvSpPr>
            <p:cNvPr id="718" name="Oval 475"/>
            <p:cNvSpPr/>
            <p:nvPr/>
          </p:nvSpPr>
          <p:spPr>
            <a:xfrm>
              <a:off x="2413080" y="5516640"/>
              <a:ext cx="1079280" cy="431640"/>
            </a:xfrm>
            <a:prstGeom prst="ellipse">
              <a:avLst/>
            </a:prstGeom>
            <a:gradFill rotWithShape="0">
              <a:gsLst>
                <a:gs pos="0">
                  <a:srgbClr val="000000">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19" name="Freeform 464"/>
            <p:cNvSpPr/>
            <p:nvPr/>
          </p:nvSpPr>
          <p:spPr>
            <a:xfrm>
              <a:off x="2601720" y="4653000"/>
              <a:ext cx="699840" cy="755640"/>
            </a:xfrm>
            <a:custGeom>
              <a:avLst/>
              <a:gdLst>
                <a:gd name="textAreaLeft" fmla="*/ 0 w 699840"/>
                <a:gd name="textAreaRight" fmla="*/ 700200 w 699840"/>
                <a:gd name="textAreaTop" fmla="*/ 0 h 755640"/>
                <a:gd name="textAreaBottom" fmla="*/ 756000 h 755640"/>
              </a:gdLst>
              <a:ahLst/>
              <a:rect l="textAreaLeft" t="textAreaTop" r="textAreaRight" b="textAreaBottom"/>
              <a:pathLst>
                <a:path w="394" h="460">
                  <a:moveTo>
                    <a:pt x="0" y="0"/>
                  </a:moveTo>
                  <a:lnTo>
                    <a:pt x="0" y="263"/>
                  </a:lnTo>
                  <a:lnTo>
                    <a:pt x="1" y="284"/>
                  </a:lnTo>
                  <a:lnTo>
                    <a:pt x="4" y="303"/>
                  </a:lnTo>
                  <a:lnTo>
                    <a:pt x="8" y="322"/>
                  </a:lnTo>
                  <a:lnTo>
                    <a:pt x="15" y="340"/>
                  </a:lnTo>
                  <a:lnTo>
                    <a:pt x="23" y="358"/>
                  </a:lnTo>
                  <a:lnTo>
                    <a:pt x="34" y="373"/>
                  </a:lnTo>
                  <a:lnTo>
                    <a:pt x="45" y="389"/>
                  </a:lnTo>
                  <a:lnTo>
                    <a:pt x="57" y="403"/>
                  </a:lnTo>
                  <a:lnTo>
                    <a:pt x="71" y="415"/>
                  </a:lnTo>
                  <a:lnTo>
                    <a:pt x="86" y="426"/>
                  </a:lnTo>
                  <a:lnTo>
                    <a:pt x="102" y="437"/>
                  </a:lnTo>
                  <a:lnTo>
                    <a:pt x="120" y="445"/>
                  </a:lnTo>
                  <a:lnTo>
                    <a:pt x="138" y="451"/>
                  </a:lnTo>
                  <a:lnTo>
                    <a:pt x="157" y="456"/>
                  </a:lnTo>
                  <a:lnTo>
                    <a:pt x="176" y="459"/>
                  </a:lnTo>
                  <a:lnTo>
                    <a:pt x="197" y="460"/>
                  </a:lnTo>
                  <a:lnTo>
                    <a:pt x="217" y="459"/>
                  </a:lnTo>
                  <a:lnTo>
                    <a:pt x="237" y="456"/>
                  </a:lnTo>
                  <a:lnTo>
                    <a:pt x="256" y="451"/>
                  </a:lnTo>
                  <a:lnTo>
                    <a:pt x="274" y="445"/>
                  </a:lnTo>
                  <a:lnTo>
                    <a:pt x="291" y="437"/>
                  </a:lnTo>
                  <a:lnTo>
                    <a:pt x="308" y="426"/>
                  </a:lnTo>
                  <a:lnTo>
                    <a:pt x="323" y="415"/>
                  </a:lnTo>
                  <a:lnTo>
                    <a:pt x="337" y="403"/>
                  </a:lnTo>
                  <a:lnTo>
                    <a:pt x="349" y="389"/>
                  </a:lnTo>
                  <a:lnTo>
                    <a:pt x="360" y="373"/>
                  </a:lnTo>
                  <a:lnTo>
                    <a:pt x="371" y="358"/>
                  </a:lnTo>
                  <a:lnTo>
                    <a:pt x="379" y="340"/>
                  </a:lnTo>
                  <a:lnTo>
                    <a:pt x="386" y="322"/>
                  </a:lnTo>
                  <a:lnTo>
                    <a:pt x="390" y="303"/>
                  </a:lnTo>
                  <a:lnTo>
                    <a:pt x="393" y="284"/>
                  </a:lnTo>
                  <a:lnTo>
                    <a:pt x="394" y="263"/>
                  </a:lnTo>
                  <a:lnTo>
                    <a:pt x="394" y="0"/>
                  </a:lnTo>
                  <a:lnTo>
                    <a:pt x="0" y="0"/>
                  </a:lnTo>
                  <a:close/>
                </a:path>
              </a:pathLst>
            </a:custGeom>
            <a:gradFill rotWithShape="0">
              <a:gsLst>
                <a:gs pos="0">
                  <a:srgbClr val="dddddd"/>
                </a:gs>
                <a:gs pos="100000">
                  <a:srgbClr val="66666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20" name="Freeform 465"/>
            <p:cNvSpPr/>
            <p:nvPr/>
          </p:nvSpPr>
          <p:spPr>
            <a:xfrm>
              <a:off x="2601720" y="4437000"/>
              <a:ext cx="699840" cy="431640"/>
            </a:xfrm>
            <a:custGeom>
              <a:avLst/>
              <a:gdLst>
                <a:gd name="textAreaLeft" fmla="*/ 0 w 699840"/>
                <a:gd name="textAreaRight" fmla="*/ 700200 w 699840"/>
                <a:gd name="textAreaTop" fmla="*/ 0 h 431640"/>
                <a:gd name="textAreaBottom" fmla="*/ 432000 h 431640"/>
              </a:gdLst>
              <a:ahLst/>
              <a:rect l="textAreaLeft" t="textAreaTop" r="textAreaRight" b="textAreaBottom"/>
              <a:pathLst>
                <a:path w="394" h="263">
                  <a:moveTo>
                    <a:pt x="394" y="131"/>
                  </a:moveTo>
                  <a:lnTo>
                    <a:pt x="394" y="131"/>
                  </a:lnTo>
                  <a:lnTo>
                    <a:pt x="393" y="145"/>
                  </a:lnTo>
                  <a:lnTo>
                    <a:pt x="390" y="157"/>
                  </a:lnTo>
                  <a:lnTo>
                    <a:pt x="386" y="170"/>
                  </a:lnTo>
                  <a:lnTo>
                    <a:pt x="379" y="182"/>
                  </a:lnTo>
                  <a:lnTo>
                    <a:pt x="371" y="194"/>
                  </a:lnTo>
                  <a:lnTo>
                    <a:pt x="360" y="205"/>
                  </a:lnTo>
                  <a:lnTo>
                    <a:pt x="349" y="215"/>
                  </a:lnTo>
                  <a:lnTo>
                    <a:pt x="337" y="224"/>
                  </a:lnTo>
                  <a:lnTo>
                    <a:pt x="323" y="233"/>
                  </a:lnTo>
                  <a:lnTo>
                    <a:pt x="308" y="241"/>
                  </a:lnTo>
                  <a:lnTo>
                    <a:pt x="291" y="246"/>
                  </a:lnTo>
                  <a:lnTo>
                    <a:pt x="274" y="252"/>
                  </a:lnTo>
                  <a:lnTo>
                    <a:pt x="256" y="257"/>
                  </a:lnTo>
                  <a:lnTo>
                    <a:pt x="237" y="260"/>
                  </a:lnTo>
                  <a:lnTo>
                    <a:pt x="217" y="261"/>
                  </a:lnTo>
                  <a:lnTo>
                    <a:pt x="197" y="263"/>
                  </a:lnTo>
                  <a:lnTo>
                    <a:pt x="176" y="261"/>
                  </a:lnTo>
                  <a:lnTo>
                    <a:pt x="157" y="260"/>
                  </a:lnTo>
                  <a:lnTo>
                    <a:pt x="138" y="257"/>
                  </a:lnTo>
                  <a:lnTo>
                    <a:pt x="120" y="252"/>
                  </a:lnTo>
                  <a:lnTo>
                    <a:pt x="102" y="246"/>
                  </a:lnTo>
                  <a:lnTo>
                    <a:pt x="86" y="241"/>
                  </a:lnTo>
                  <a:lnTo>
                    <a:pt x="71" y="233"/>
                  </a:lnTo>
                  <a:lnTo>
                    <a:pt x="57" y="224"/>
                  </a:lnTo>
                  <a:lnTo>
                    <a:pt x="45" y="215"/>
                  </a:lnTo>
                  <a:lnTo>
                    <a:pt x="34" y="205"/>
                  </a:lnTo>
                  <a:lnTo>
                    <a:pt x="23" y="194"/>
                  </a:lnTo>
                  <a:lnTo>
                    <a:pt x="15" y="182"/>
                  </a:lnTo>
                  <a:lnTo>
                    <a:pt x="8" y="170"/>
                  </a:lnTo>
                  <a:lnTo>
                    <a:pt x="4" y="157"/>
                  </a:lnTo>
                  <a:lnTo>
                    <a:pt x="1" y="145"/>
                  </a:lnTo>
                  <a:lnTo>
                    <a:pt x="0" y="131"/>
                  </a:lnTo>
                  <a:lnTo>
                    <a:pt x="1" y="118"/>
                  </a:lnTo>
                  <a:lnTo>
                    <a:pt x="4" y="105"/>
                  </a:lnTo>
                  <a:lnTo>
                    <a:pt x="8" y="91"/>
                  </a:lnTo>
                  <a:lnTo>
                    <a:pt x="15" y="81"/>
                  </a:lnTo>
                  <a:lnTo>
                    <a:pt x="23" y="68"/>
                  </a:lnTo>
                  <a:lnTo>
                    <a:pt x="34" y="57"/>
                  </a:lnTo>
                  <a:lnTo>
                    <a:pt x="45" y="48"/>
                  </a:lnTo>
                  <a:lnTo>
                    <a:pt x="57" y="38"/>
                  </a:lnTo>
                  <a:lnTo>
                    <a:pt x="71" y="30"/>
                  </a:lnTo>
                  <a:lnTo>
                    <a:pt x="86" y="22"/>
                  </a:lnTo>
                  <a:lnTo>
                    <a:pt x="102" y="16"/>
                  </a:lnTo>
                  <a:lnTo>
                    <a:pt x="120" y="9"/>
                  </a:lnTo>
                  <a:lnTo>
                    <a:pt x="138" y="5"/>
                  </a:lnTo>
                  <a:lnTo>
                    <a:pt x="157" y="2"/>
                  </a:lnTo>
                  <a:lnTo>
                    <a:pt x="176" y="0"/>
                  </a:lnTo>
                  <a:lnTo>
                    <a:pt x="197" y="0"/>
                  </a:lnTo>
                  <a:lnTo>
                    <a:pt x="217" y="0"/>
                  </a:lnTo>
                  <a:lnTo>
                    <a:pt x="237" y="2"/>
                  </a:lnTo>
                  <a:lnTo>
                    <a:pt x="256" y="5"/>
                  </a:lnTo>
                  <a:lnTo>
                    <a:pt x="274" y="9"/>
                  </a:lnTo>
                  <a:lnTo>
                    <a:pt x="291" y="16"/>
                  </a:lnTo>
                  <a:lnTo>
                    <a:pt x="308" y="22"/>
                  </a:lnTo>
                  <a:lnTo>
                    <a:pt x="323" y="30"/>
                  </a:lnTo>
                  <a:lnTo>
                    <a:pt x="337" y="38"/>
                  </a:lnTo>
                  <a:lnTo>
                    <a:pt x="349" y="48"/>
                  </a:lnTo>
                  <a:lnTo>
                    <a:pt x="360" y="57"/>
                  </a:lnTo>
                  <a:lnTo>
                    <a:pt x="371" y="68"/>
                  </a:lnTo>
                  <a:lnTo>
                    <a:pt x="379" y="81"/>
                  </a:lnTo>
                  <a:lnTo>
                    <a:pt x="386" y="91"/>
                  </a:lnTo>
                  <a:lnTo>
                    <a:pt x="390" y="105"/>
                  </a:lnTo>
                  <a:lnTo>
                    <a:pt x="393" y="118"/>
                  </a:lnTo>
                  <a:lnTo>
                    <a:pt x="394" y="131"/>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21" name="WordArt 520"/>
            <p:cNvSpPr txBox="1"/>
            <p:nvPr/>
          </p:nvSpPr>
          <p:spPr>
            <a:xfrm>
              <a:off x="2700360" y="4940280"/>
              <a:ext cx="50328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0%</a:t>
              </a:r>
              <a:endParaRPr b="0" lang="en-US" sz="1400" spc="1" strike="noStrike">
                <a:ln w="0">
                  <a:noFill/>
                </a:ln>
                <a:solidFill>
                  <a:srgbClr val="ffffff"/>
                </a:solidFill>
                <a:latin typeface="Arial Black"/>
                <a:ea typeface="Arial Black"/>
              </a:endParaRPr>
            </a:p>
          </p:txBody>
        </p:sp>
        <p:grpSp>
          <p:nvGrpSpPr>
            <p:cNvPr id="722" name="Group 62"/>
            <p:cNvGrpSpPr/>
            <p:nvPr/>
          </p:nvGrpSpPr>
          <p:grpSpPr>
            <a:xfrm>
              <a:off x="2484360" y="1197000"/>
              <a:ext cx="936360" cy="4319640"/>
              <a:chOff x="2484360" y="1197000"/>
              <a:chExt cx="936360" cy="4319640"/>
            </a:xfrm>
          </p:grpSpPr>
          <p:grpSp>
            <p:nvGrpSpPr>
              <p:cNvPr id="723" name="Group 63"/>
              <p:cNvGrpSpPr/>
              <p:nvPr/>
            </p:nvGrpSpPr>
            <p:grpSpPr>
              <a:xfrm>
                <a:off x="2484360" y="1197000"/>
                <a:ext cx="936360" cy="4319640"/>
                <a:chOff x="2484360" y="1197000"/>
                <a:chExt cx="936360" cy="4319640"/>
              </a:xfrm>
            </p:grpSpPr>
            <p:pic>
              <p:nvPicPr>
                <p:cNvPr id="724" name="Freeform 512" descr=""/>
                <p:cNvPicPr/>
                <p:nvPr/>
              </p:nvPicPr>
              <p:blipFill>
                <a:blip r:embed="rId6"/>
                <a:stretch/>
              </p:blipFill>
              <p:spPr>
                <a:xfrm>
                  <a:off x="2486880" y="1197000"/>
                  <a:ext cx="932760" cy="4319640"/>
                </a:xfrm>
                <a:prstGeom prst="rect">
                  <a:avLst/>
                </a:prstGeom>
                <a:ln w="0">
                  <a:noFill/>
                </a:ln>
              </p:spPr>
            </p:pic>
            <p:sp>
              <p:nvSpPr>
                <p:cNvPr id="725" name="Text Box 65"/>
                <p:cNvSpPr/>
                <p:nvPr/>
              </p:nvSpPr>
              <p:spPr>
                <a:xfrm>
                  <a:off x="2484360" y="1198800"/>
                  <a:ext cx="936360" cy="4317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26" name="Oval 513"/>
              <p:cNvSpPr/>
              <p:nvPr/>
            </p:nvSpPr>
            <p:spPr>
              <a:xfrm>
                <a:off x="2625840" y="1557000"/>
                <a:ext cx="143280" cy="3597840"/>
              </a:xfrm>
              <a:prstGeom prst="ellipse">
                <a:avLst/>
              </a:prstGeom>
              <a:gradFill rotWithShape="0">
                <a:gsLst>
                  <a:gs pos="0">
                    <a:srgbClr val="ffffff">
                      <a:alpha val="65098"/>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27" name="Oval 514"/>
              <p:cNvSpPr/>
              <p:nvPr/>
            </p:nvSpPr>
            <p:spPr>
              <a:xfrm>
                <a:off x="2627640" y="1341000"/>
                <a:ext cx="214920" cy="215640"/>
              </a:xfrm>
              <a:prstGeom prst="ellipse">
                <a:avLst/>
              </a:pr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sp>
        <p:nvSpPr>
          <p:cNvPr id="728"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Freeform 187"/>
          <p:cNvSpPr/>
          <p:nvPr/>
        </p:nvSpPr>
        <p:spPr>
          <a:xfrm>
            <a:off x="4392720" y="1881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0" name="Freeform 188"/>
          <p:cNvSpPr/>
          <p:nvPr/>
        </p:nvSpPr>
        <p:spPr>
          <a:xfrm>
            <a:off x="934920" y="2025720"/>
            <a:ext cx="3598920" cy="2571840"/>
          </a:xfrm>
          <a:custGeom>
            <a:avLst/>
            <a:gdLst>
              <a:gd name="textAreaLeft" fmla="*/ 0 w 3598920"/>
              <a:gd name="textAreaRight" fmla="*/ 3599280 w 3598920"/>
              <a:gd name="textAreaTop" fmla="*/ 0 h 2571840"/>
              <a:gd name="textAreaBottom" fmla="*/ 2572200 h 257184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1" name="Freeform 189"/>
          <p:cNvSpPr/>
          <p:nvPr/>
        </p:nvSpPr>
        <p:spPr>
          <a:xfrm>
            <a:off x="6769080" y="2806560"/>
            <a:ext cx="1440000" cy="1028880"/>
          </a:xfrm>
          <a:custGeom>
            <a:avLst/>
            <a:gdLst>
              <a:gd name="textAreaLeft" fmla="*/ 0 w 1440000"/>
              <a:gd name="textAreaRight" fmla="*/ 1440360 w 1440000"/>
              <a:gd name="textAreaTop" fmla="*/ 0 h 1028880"/>
              <a:gd name="textAreaBottom" fmla="*/ 1029240 h 102888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2" name="Freeform 190"/>
          <p:cNvSpPr/>
          <p:nvPr/>
        </p:nvSpPr>
        <p:spPr>
          <a:xfrm>
            <a:off x="-933480" y="4402080"/>
            <a:ext cx="4783320" cy="3421080"/>
          </a:xfrm>
          <a:custGeom>
            <a:avLst/>
            <a:gdLst>
              <a:gd name="textAreaLeft" fmla="*/ 0 w 4783320"/>
              <a:gd name="textAreaRight" fmla="*/ 4783680 w 478332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3" name="Freeform 191"/>
          <p:cNvSpPr/>
          <p:nvPr/>
        </p:nvSpPr>
        <p:spPr>
          <a:xfrm>
            <a:off x="4392720" y="1557360"/>
            <a:ext cx="2590560" cy="1852560"/>
          </a:xfrm>
          <a:custGeom>
            <a:avLst/>
            <a:gdLst>
              <a:gd name="textAreaLeft" fmla="*/ 0 w 2590560"/>
              <a:gd name="textAreaRight" fmla="*/ 2590920 w 2590560"/>
              <a:gd name="textAreaTop" fmla="*/ 0 h 1852560"/>
              <a:gd name="textAreaBottom" fmla="*/ 1852920 h 1852560"/>
            </a:gdLst>
            <a:ahLst/>
            <a:rect l="textAreaLeft" t="textAreaTop" r="textAreaRight" b="textAreaBottom"/>
            <a:pathLst>
              <a:path w="1816" h="1816">
                <a:moveTo>
                  <a:pt x="1816" y="978"/>
                </a:moveTo>
                <a:lnTo>
                  <a:pt x="1816" y="836"/>
                </a:lnTo>
                <a:lnTo>
                  <a:pt x="1710" y="836"/>
                </a:lnTo>
                <a:lnTo>
                  <a:pt x="1706" y="792"/>
                </a:lnTo>
                <a:lnTo>
                  <a:pt x="1698" y="750"/>
                </a:lnTo>
                <a:lnTo>
                  <a:pt x="1688" y="708"/>
                </a:lnTo>
                <a:lnTo>
                  <a:pt x="1678" y="666"/>
                </a:lnTo>
                <a:lnTo>
                  <a:pt x="1774" y="626"/>
                </a:lnTo>
                <a:lnTo>
                  <a:pt x="1718" y="494"/>
                </a:lnTo>
                <a:lnTo>
                  <a:pt x="1622" y="534"/>
                </a:lnTo>
                <a:lnTo>
                  <a:pt x="1602" y="496"/>
                </a:lnTo>
                <a:lnTo>
                  <a:pt x="1578" y="460"/>
                </a:lnTo>
                <a:lnTo>
                  <a:pt x="1552" y="424"/>
                </a:lnTo>
                <a:lnTo>
                  <a:pt x="1526" y="390"/>
                </a:lnTo>
                <a:lnTo>
                  <a:pt x="1600" y="316"/>
                </a:lnTo>
                <a:lnTo>
                  <a:pt x="1498" y="216"/>
                </a:lnTo>
                <a:lnTo>
                  <a:pt x="1426" y="290"/>
                </a:lnTo>
                <a:lnTo>
                  <a:pt x="1392" y="262"/>
                </a:lnTo>
                <a:lnTo>
                  <a:pt x="1356" y="236"/>
                </a:lnTo>
                <a:lnTo>
                  <a:pt x="1318" y="214"/>
                </a:lnTo>
                <a:lnTo>
                  <a:pt x="1280" y="192"/>
                </a:lnTo>
                <a:lnTo>
                  <a:pt x="1320" y="96"/>
                </a:lnTo>
                <a:lnTo>
                  <a:pt x="1188" y="42"/>
                </a:lnTo>
                <a:lnTo>
                  <a:pt x="1150" y="138"/>
                </a:lnTo>
                <a:lnTo>
                  <a:pt x="1108" y="126"/>
                </a:lnTo>
                <a:lnTo>
                  <a:pt x="1066" y="116"/>
                </a:lnTo>
                <a:lnTo>
                  <a:pt x="1022" y="110"/>
                </a:lnTo>
                <a:lnTo>
                  <a:pt x="978" y="104"/>
                </a:lnTo>
                <a:lnTo>
                  <a:pt x="978" y="0"/>
                </a:lnTo>
                <a:lnTo>
                  <a:pt x="836" y="0"/>
                </a:lnTo>
                <a:lnTo>
                  <a:pt x="836" y="104"/>
                </a:lnTo>
                <a:lnTo>
                  <a:pt x="792" y="110"/>
                </a:lnTo>
                <a:lnTo>
                  <a:pt x="750" y="116"/>
                </a:lnTo>
                <a:lnTo>
                  <a:pt x="706" y="126"/>
                </a:lnTo>
                <a:lnTo>
                  <a:pt x="666" y="138"/>
                </a:lnTo>
                <a:lnTo>
                  <a:pt x="626" y="42"/>
                </a:lnTo>
                <a:lnTo>
                  <a:pt x="494" y="96"/>
                </a:lnTo>
                <a:lnTo>
                  <a:pt x="534" y="192"/>
                </a:lnTo>
                <a:lnTo>
                  <a:pt x="496" y="214"/>
                </a:lnTo>
                <a:lnTo>
                  <a:pt x="460" y="236"/>
                </a:lnTo>
                <a:lnTo>
                  <a:pt x="424" y="262"/>
                </a:lnTo>
                <a:lnTo>
                  <a:pt x="390" y="290"/>
                </a:lnTo>
                <a:lnTo>
                  <a:pt x="316" y="216"/>
                </a:lnTo>
                <a:lnTo>
                  <a:pt x="216" y="316"/>
                </a:lnTo>
                <a:lnTo>
                  <a:pt x="288" y="390"/>
                </a:lnTo>
                <a:lnTo>
                  <a:pt x="262" y="424"/>
                </a:lnTo>
                <a:lnTo>
                  <a:pt x="236" y="460"/>
                </a:lnTo>
                <a:lnTo>
                  <a:pt x="214" y="496"/>
                </a:lnTo>
                <a:lnTo>
                  <a:pt x="192" y="534"/>
                </a:lnTo>
                <a:lnTo>
                  <a:pt x="96" y="494"/>
                </a:lnTo>
                <a:lnTo>
                  <a:pt x="42" y="626"/>
                </a:lnTo>
                <a:lnTo>
                  <a:pt x="138" y="666"/>
                </a:lnTo>
                <a:lnTo>
                  <a:pt x="126" y="708"/>
                </a:lnTo>
                <a:lnTo>
                  <a:pt x="116" y="750"/>
                </a:lnTo>
                <a:lnTo>
                  <a:pt x="108" y="792"/>
                </a:lnTo>
                <a:lnTo>
                  <a:pt x="104" y="836"/>
                </a:lnTo>
                <a:lnTo>
                  <a:pt x="0" y="836"/>
                </a:lnTo>
                <a:lnTo>
                  <a:pt x="0" y="978"/>
                </a:lnTo>
                <a:lnTo>
                  <a:pt x="104" y="978"/>
                </a:lnTo>
                <a:lnTo>
                  <a:pt x="108" y="1022"/>
                </a:lnTo>
                <a:lnTo>
                  <a:pt x="116" y="1066"/>
                </a:lnTo>
                <a:lnTo>
                  <a:pt x="126" y="1108"/>
                </a:lnTo>
                <a:lnTo>
                  <a:pt x="138" y="1150"/>
                </a:lnTo>
                <a:lnTo>
                  <a:pt x="42" y="1190"/>
                </a:lnTo>
                <a:lnTo>
                  <a:pt x="96" y="1320"/>
                </a:lnTo>
                <a:lnTo>
                  <a:pt x="192" y="1280"/>
                </a:lnTo>
                <a:lnTo>
                  <a:pt x="214" y="1320"/>
                </a:lnTo>
                <a:lnTo>
                  <a:pt x="236" y="1356"/>
                </a:lnTo>
                <a:lnTo>
                  <a:pt x="262" y="1392"/>
                </a:lnTo>
                <a:lnTo>
                  <a:pt x="288" y="1426"/>
                </a:lnTo>
                <a:lnTo>
                  <a:pt x="216" y="1500"/>
                </a:lnTo>
                <a:lnTo>
                  <a:pt x="316" y="1600"/>
                </a:lnTo>
                <a:lnTo>
                  <a:pt x="390" y="1526"/>
                </a:lnTo>
                <a:lnTo>
                  <a:pt x="424" y="1554"/>
                </a:lnTo>
                <a:lnTo>
                  <a:pt x="460" y="1578"/>
                </a:lnTo>
                <a:lnTo>
                  <a:pt x="496" y="1602"/>
                </a:lnTo>
                <a:lnTo>
                  <a:pt x="534" y="1622"/>
                </a:lnTo>
                <a:lnTo>
                  <a:pt x="494" y="1718"/>
                </a:lnTo>
                <a:lnTo>
                  <a:pt x="626" y="1774"/>
                </a:lnTo>
                <a:lnTo>
                  <a:pt x="666" y="1678"/>
                </a:lnTo>
                <a:lnTo>
                  <a:pt x="706" y="1690"/>
                </a:lnTo>
                <a:lnTo>
                  <a:pt x="750" y="1698"/>
                </a:lnTo>
                <a:lnTo>
                  <a:pt x="792" y="1706"/>
                </a:lnTo>
                <a:lnTo>
                  <a:pt x="836" y="1712"/>
                </a:lnTo>
                <a:lnTo>
                  <a:pt x="836" y="1816"/>
                </a:lnTo>
                <a:lnTo>
                  <a:pt x="978" y="1816"/>
                </a:lnTo>
                <a:lnTo>
                  <a:pt x="978" y="1712"/>
                </a:lnTo>
                <a:lnTo>
                  <a:pt x="1022" y="1706"/>
                </a:lnTo>
                <a:lnTo>
                  <a:pt x="1066" y="1698"/>
                </a:lnTo>
                <a:lnTo>
                  <a:pt x="1108" y="1690"/>
                </a:lnTo>
                <a:lnTo>
                  <a:pt x="1150" y="1678"/>
                </a:lnTo>
                <a:lnTo>
                  <a:pt x="1188" y="1774"/>
                </a:lnTo>
                <a:lnTo>
                  <a:pt x="1320" y="1718"/>
                </a:lnTo>
                <a:lnTo>
                  <a:pt x="1280" y="1622"/>
                </a:lnTo>
                <a:lnTo>
                  <a:pt x="1318" y="1602"/>
                </a:lnTo>
                <a:lnTo>
                  <a:pt x="1356" y="1578"/>
                </a:lnTo>
                <a:lnTo>
                  <a:pt x="1392" y="1554"/>
                </a:lnTo>
                <a:lnTo>
                  <a:pt x="1426" y="1526"/>
                </a:lnTo>
                <a:lnTo>
                  <a:pt x="1498" y="1600"/>
                </a:lnTo>
                <a:lnTo>
                  <a:pt x="1600" y="1500"/>
                </a:lnTo>
                <a:lnTo>
                  <a:pt x="1526" y="1426"/>
                </a:lnTo>
                <a:lnTo>
                  <a:pt x="1552" y="1392"/>
                </a:lnTo>
                <a:lnTo>
                  <a:pt x="1578" y="1356"/>
                </a:lnTo>
                <a:lnTo>
                  <a:pt x="1602" y="1320"/>
                </a:lnTo>
                <a:lnTo>
                  <a:pt x="1622" y="1280"/>
                </a:lnTo>
                <a:lnTo>
                  <a:pt x="1718" y="1320"/>
                </a:lnTo>
                <a:lnTo>
                  <a:pt x="1774" y="1190"/>
                </a:lnTo>
                <a:lnTo>
                  <a:pt x="1678" y="1150"/>
                </a:lnTo>
                <a:lnTo>
                  <a:pt x="1688" y="1108"/>
                </a:lnTo>
                <a:lnTo>
                  <a:pt x="1698" y="1066"/>
                </a:lnTo>
                <a:lnTo>
                  <a:pt x="1706" y="1022"/>
                </a:lnTo>
                <a:lnTo>
                  <a:pt x="1710" y="978"/>
                </a:lnTo>
                <a:lnTo>
                  <a:pt x="1816" y="978"/>
                </a:lnTo>
                <a:close/>
                <a:moveTo>
                  <a:pt x="908" y="1614"/>
                </a:moveTo>
                <a:lnTo>
                  <a:pt x="908" y="1614"/>
                </a:lnTo>
                <a:lnTo>
                  <a:pt x="872" y="1612"/>
                </a:lnTo>
                <a:lnTo>
                  <a:pt x="836" y="1610"/>
                </a:lnTo>
                <a:lnTo>
                  <a:pt x="800" y="1606"/>
                </a:lnTo>
                <a:lnTo>
                  <a:pt x="766" y="1600"/>
                </a:lnTo>
                <a:lnTo>
                  <a:pt x="730" y="1592"/>
                </a:lnTo>
                <a:lnTo>
                  <a:pt x="698" y="1582"/>
                </a:lnTo>
                <a:lnTo>
                  <a:pt x="664" y="1570"/>
                </a:lnTo>
                <a:lnTo>
                  <a:pt x="632" y="1558"/>
                </a:lnTo>
                <a:lnTo>
                  <a:pt x="602" y="1544"/>
                </a:lnTo>
                <a:lnTo>
                  <a:pt x="570" y="1528"/>
                </a:lnTo>
                <a:lnTo>
                  <a:pt x="542" y="1512"/>
                </a:lnTo>
                <a:lnTo>
                  <a:pt x="512" y="1492"/>
                </a:lnTo>
                <a:lnTo>
                  <a:pt x="484" y="1474"/>
                </a:lnTo>
                <a:lnTo>
                  <a:pt x="458" y="1452"/>
                </a:lnTo>
                <a:lnTo>
                  <a:pt x="432" y="1430"/>
                </a:lnTo>
                <a:lnTo>
                  <a:pt x="408" y="1406"/>
                </a:lnTo>
                <a:lnTo>
                  <a:pt x="384" y="1382"/>
                </a:lnTo>
                <a:lnTo>
                  <a:pt x="362" y="1356"/>
                </a:lnTo>
                <a:lnTo>
                  <a:pt x="342" y="1330"/>
                </a:lnTo>
                <a:lnTo>
                  <a:pt x="322" y="1302"/>
                </a:lnTo>
                <a:lnTo>
                  <a:pt x="304" y="1274"/>
                </a:lnTo>
                <a:lnTo>
                  <a:pt x="286" y="1244"/>
                </a:lnTo>
                <a:lnTo>
                  <a:pt x="272" y="1214"/>
                </a:lnTo>
                <a:lnTo>
                  <a:pt x="256" y="1182"/>
                </a:lnTo>
                <a:lnTo>
                  <a:pt x="244" y="1150"/>
                </a:lnTo>
                <a:lnTo>
                  <a:pt x="234" y="1118"/>
                </a:lnTo>
                <a:lnTo>
                  <a:pt x="224" y="1084"/>
                </a:lnTo>
                <a:lnTo>
                  <a:pt x="216" y="1050"/>
                </a:lnTo>
                <a:lnTo>
                  <a:pt x="210" y="1016"/>
                </a:lnTo>
                <a:lnTo>
                  <a:pt x="206" y="980"/>
                </a:lnTo>
                <a:lnTo>
                  <a:pt x="202" y="944"/>
                </a:lnTo>
                <a:lnTo>
                  <a:pt x="202" y="908"/>
                </a:lnTo>
                <a:lnTo>
                  <a:pt x="202" y="872"/>
                </a:lnTo>
                <a:lnTo>
                  <a:pt x="206" y="836"/>
                </a:lnTo>
                <a:lnTo>
                  <a:pt x="210" y="800"/>
                </a:lnTo>
                <a:lnTo>
                  <a:pt x="216" y="766"/>
                </a:lnTo>
                <a:lnTo>
                  <a:pt x="224" y="732"/>
                </a:lnTo>
                <a:lnTo>
                  <a:pt x="234" y="698"/>
                </a:lnTo>
                <a:lnTo>
                  <a:pt x="244" y="664"/>
                </a:lnTo>
                <a:lnTo>
                  <a:pt x="256" y="632"/>
                </a:lnTo>
                <a:lnTo>
                  <a:pt x="272" y="602"/>
                </a:lnTo>
                <a:lnTo>
                  <a:pt x="286" y="572"/>
                </a:lnTo>
                <a:lnTo>
                  <a:pt x="304" y="542"/>
                </a:lnTo>
                <a:lnTo>
                  <a:pt x="322" y="512"/>
                </a:lnTo>
                <a:lnTo>
                  <a:pt x="342" y="486"/>
                </a:lnTo>
                <a:lnTo>
                  <a:pt x="362" y="458"/>
                </a:lnTo>
                <a:lnTo>
                  <a:pt x="384" y="432"/>
                </a:lnTo>
                <a:lnTo>
                  <a:pt x="408" y="408"/>
                </a:lnTo>
                <a:lnTo>
                  <a:pt x="432" y="386"/>
                </a:lnTo>
                <a:lnTo>
                  <a:pt x="458" y="362"/>
                </a:lnTo>
                <a:lnTo>
                  <a:pt x="484" y="342"/>
                </a:lnTo>
                <a:lnTo>
                  <a:pt x="512" y="322"/>
                </a:lnTo>
                <a:lnTo>
                  <a:pt x="542" y="304"/>
                </a:lnTo>
                <a:lnTo>
                  <a:pt x="570" y="286"/>
                </a:lnTo>
                <a:lnTo>
                  <a:pt x="602" y="272"/>
                </a:lnTo>
                <a:lnTo>
                  <a:pt x="632" y="258"/>
                </a:lnTo>
                <a:lnTo>
                  <a:pt x="664" y="244"/>
                </a:lnTo>
                <a:lnTo>
                  <a:pt x="698" y="234"/>
                </a:lnTo>
                <a:lnTo>
                  <a:pt x="730" y="224"/>
                </a:lnTo>
                <a:lnTo>
                  <a:pt x="766" y="216"/>
                </a:lnTo>
                <a:lnTo>
                  <a:pt x="800" y="210"/>
                </a:lnTo>
                <a:lnTo>
                  <a:pt x="836" y="206"/>
                </a:lnTo>
                <a:lnTo>
                  <a:pt x="872" y="202"/>
                </a:lnTo>
                <a:lnTo>
                  <a:pt x="908" y="202"/>
                </a:lnTo>
                <a:lnTo>
                  <a:pt x="944" y="202"/>
                </a:lnTo>
                <a:lnTo>
                  <a:pt x="980" y="206"/>
                </a:lnTo>
                <a:lnTo>
                  <a:pt x="1014" y="210"/>
                </a:lnTo>
                <a:lnTo>
                  <a:pt x="1050" y="216"/>
                </a:lnTo>
                <a:lnTo>
                  <a:pt x="1084" y="224"/>
                </a:lnTo>
                <a:lnTo>
                  <a:pt x="1118" y="234"/>
                </a:lnTo>
                <a:lnTo>
                  <a:pt x="1150" y="244"/>
                </a:lnTo>
                <a:lnTo>
                  <a:pt x="1182" y="258"/>
                </a:lnTo>
                <a:lnTo>
                  <a:pt x="1214" y="272"/>
                </a:lnTo>
                <a:lnTo>
                  <a:pt x="1244" y="286"/>
                </a:lnTo>
                <a:lnTo>
                  <a:pt x="1274" y="304"/>
                </a:lnTo>
                <a:lnTo>
                  <a:pt x="1302" y="322"/>
                </a:lnTo>
                <a:lnTo>
                  <a:pt x="1330" y="342"/>
                </a:lnTo>
                <a:lnTo>
                  <a:pt x="1356" y="362"/>
                </a:lnTo>
                <a:lnTo>
                  <a:pt x="1382" y="386"/>
                </a:lnTo>
                <a:lnTo>
                  <a:pt x="1406" y="408"/>
                </a:lnTo>
                <a:lnTo>
                  <a:pt x="1430" y="432"/>
                </a:lnTo>
                <a:lnTo>
                  <a:pt x="1452" y="458"/>
                </a:lnTo>
                <a:lnTo>
                  <a:pt x="1474" y="486"/>
                </a:lnTo>
                <a:lnTo>
                  <a:pt x="1492" y="512"/>
                </a:lnTo>
                <a:lnTo>
                  <a:pt x="1512" y="542"/>
                </a:lnTo>
                <a:lnTo>
                  <a:pt x="1528" y="572"/>
                </a:lnTo>
                <a:lnTo>
                  <a:pt x="1544" y="602"/>
                </a:lnTo>
                <a:lnTo>
                  <a:pt x="1558" y="632"/>
                </a:lnTo>
                <a:lnTo>
                  <a:pt x="1570" y="664"/>
                </a:lnTo>
                <a:lnTo>
                  <a:pt x="1582" y="698"/>
                </a:lnTo>
                <a:lnTo>
                  <a:pt x="1592" y="732"/>
                </a:lnTo>
                <a:lnTo>
                  <a:pt x="1598" y="766"/>
                </a:lnTo>
                <a:lnTo>
                  <a:pt x="1606" y="800"/>
                </a:lnTo>
                <a:lnTo>
                  <a:pt x="1610" y="836"/>
                </a:lnTo>
                <a:lnTo>
                  <a:pt x="1612" y="872"/>
                </a:lnTo>
                <a:lnTo>
                  <a:pt x="1614" y="908"/>
                </a:lnTo>
                <a:lnTo>
                  <a:pt x="1612" y="944"/>
                </a:lnTo>
                <a:lnTo>
                  <a:pt x="1610" y="980"/>
                </a:lnTo>
                <a:lnTo>
                  <a:pt x="1606" y="1016"/>
                </a:lnTo>
                <a:lnTo>
                  <a:pt x="1598" y="1050"/>
                </a:lnTo>
                <a:lnTo>
                  <a:pt x="1592" y="1084"/>
                </a:lnTo>
                <a:lnTo>
                  <a:pt x="1582" y="1118"/>
                </a:lnTo>
                <a:lnTo>
                  <a:pt x="1570" y="1150"/>
                </a:lnTo>
                <a:lnTo>
                  <a:pt x="1558" y="1182"/>
                </a:lnTo>
                <a:lnTo>
                  <a:pt x="1544" y="1214"/>
                </a:lnTo>
                <a:lnTo>
                  <a:pt x="1528" y="1244"/>
                </a:lnTo>
                <a:lnTo>
                  <a:pt x="1512" y="1274"/>
                </a:lnTo>
                <a:lnTo>
                  <a:pt x="1492" y="1302"/>
                </a:lnTo>
                <a:lnTo>
                  <a:pt x="1474" y="1330"/>
                </a:lnTo>
                <a:lnTo>
                  <a:pt x="1452" y="1356"/>
                </a:lnTo>
                <a:lnTo>
                  <a:pt x="1430" y="1382"/>
                </a:lnTo>
                <a:lnTo>
                  <a:pt x="1406" y="1406"/>
                </a:lnTo>
                <a:lnTo>
                  <a:pt x="1382" y="1430"/>
                </a:lnTo>
                <a:lnTo>
                  <a:pt x="1356" y="1452"/>
                </a:lnTo>
                <a:lnTo>
                  <a:pt x="1330" y="1474"/>
                </a:lnTo>
                <a:lnTo>
                  <a:pt x="1302" y="1492"/>
                </a:lnTo>
                <a:lnTo>
                  <a:pt x="1274" y="1512"/>
                </a:lnTo>
                <a:lnTo>
                  <a:pt x="1244" y="1528"/>
                </a:lnTo>
                <a:lnTo>
                  <a:pt x="1214" y="1544"/>
                </a:lnTo>
                <a:lnTo>
                  <a:pt x="1182" y="1558"/>
                </a:lnTo>
                <a:lnTo>
                  <a:pt x="1150" y="1570"/>
                </a:lnTo>
                <a:lnTo>
                  <a:pt x="1118" y="1582"/>
                </a:lnTo>
                <a:lnTo>
                  <a:pt x="1084" y="1592"/>
                </a:lnTo>
                <a:lnTo>
                  <a:pt x="1050" y="1600"/>
                </a:lnTo>
                <a:lnTo>
                  <a:pt x="1014" y="1606"/>
                </a:lnTo>
                <a:lnTo>
                  <a:pt x="980" y="1610"/>
                </a:lnTo>
                <a:lnTo>
                  <a:pt x="944" y="1612"/>
                </a:lnTo>
                <a:lnTo>
                  <a:pt x="908" y="1614"/>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4" name="Freeform 192"/>
          <p:cNvSpPr/>
          <p:nvPr/>
        </p:nvSpPr>
        <p:spPr>
          <a:xfrm>
            <a:off x="973080" y="1649520"/>
            <a:ext cx="3598920" cy="2571480"/>
          </a:xfrm>
          <a:custGeom>
            <a:avLst/>
            <a:gdLst>
              <a:gd name="textAreaLeft" fmla="*/ 0 w 3598920"/>
              <a:gd name="textAreaRight" fmla="*/ 3599280 w 3598920"/>
              <a:gd name="textAreaTop" fmla="*/ 0 h 2571480"/>
              <a:gd name="textAreaBottom" fmla="*/ 2571840 h 25714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5" name="Freeform 193"/>
          <p:cNvSpPr/>
          <p:nvPr/>
        </p:nvSpPr>
        <p:spPr>
          <a:xfrm>
            <a:off x="6769080" y="2482920"/>
            <a:ext cx="1440000" cy="1028520"/>
          </a:xfrm>
          <a:custGeom>
            <a:avLst/>
            <a:gdLst>
              <a:gd name="textAreaLeft" fmla="*/ 0 w 1440000"/>
              <a:gd name="textAreaRight" fmla="*/ 1440360 w 1440000"/>
              <a:gd name="textAreaTop" fmla="*/ 0 h 1028520"/>
              <a:gd name="textAreaBottom" fmla="*/ 1028880 h 1028520"/>
            </a:gdLst>
            <a:ahLst/>
            <a:rect l="textAreaLeft" t="textAreaTop" r="textAreaRight" b="textAreaBottom"/>
            <a:pathLst>
              <a:path w="1010" h="1008">
                <a:moveTo>
                  <a:pt x="1010" y="574"/>
                </a:moveTo>
                <a:lnTo>
                  <a:pt x="1010" y="432"/>
                </a:lnTo>
                <a:lnTo>
                  <a:pt x="902" y="432"/>
                </a:lnTo>
                <a:lnTo>
                  <a:pt x="898" y="410"/>
                </a:lnTo>
                <a:lnTo>
                  <a:pt x="892" y="390"/>
                </a:lnTo>
                <a:lnTo>
                  <a:pt x="878" y="348"/>
                </a:lnTo>
                <a:lnTo>
                  <a:pt x="858" y="310"/>
                </a:lnTo>
                <a:lnTo>
                  <a:pt x="836" y="274"/>
                </a:lnTo>
                <a:lnTo>
                  <a:pt x="912" y="198"/>
                </a:lnTo>
                <a:lnTo>
                  <a:pt x="812" y="96"/>
                </a:lnTo>
                <a:lnTo>
                  <a:pt x="736" y="172"/>
                </a:lnTo>
                <a:lnTo>
                  <a:pt x="698" y="150"/>
                </a:lnTo>
                <a:lnTo>
                  <a:pt x="660" y="132"/>
                </a:lnTo>
                <a:lnTo>
                  <a:pt x="620" y="116"/>
                </a:lnTo>
                <a:lnTo>
                  <a:pt x="598" y="112"/>
                </a:lnTo>
                <a:lnTo>
                  <a:pt x="576" y="106"/>
                </a:lnTo>
                <a:lnTo>
                  <a:pt x="576" y="0"/>
                </a:lnTo>
                <a:lnTo>
                  <a:pt x="434" y="0"/>
                </a:lnTo>
                <a:lnTo>
                  <a:pt x="434" y="106"/>
                </a:lnTo>
                <a:lnTo>
                  <a:pt x="412" y="112"/>
                </a:lnTo>
                <a:lnTo>
                  <a:pt x="390" y="116"/>
                </a:lnTo>
                <a:lnTo>
                  <a:pt x="350" y="132"/>
                </a:lnTo>
                <a:lnTo>
                  <a:pt x="310" y="150"/>
                </a:lnTo>
                <a:lnTo>
                  <a:pt x="274" y="172"/>
                </a:lnTo>
                <a:lnTo>
                  <a:pt x="198" y="96"/>
                </a:lnTo>
                <a:lnTo>
                  <a:pt x="98" y="198"/>
                </a:lnTo>
                <a:lnTo>
                  <a:pt x="174" y="274"/>
                </a:lnTo>
                <a:lnTo>
                  <a:pt x="152" y="310"/>
                </a:lnTo>
                <a:lnTo>
                  <a:pt x="132" y="348"/>
                </a:lnTo>
                <a:lnTo>
                  <a:pt x="118" y="390"/>
                </a:lnTo>
                <a:lnTo>
                  <a:pt x="112" y="410"/>
                </a:lnTo>
                <a:lnTo>
                  <a:pt x="108" y="432"/>
                </a:lnTo>
                <a:lnTo>
                  <a:pt x="0" y="432"/>
                </a:lnTo>
                <a:lnTo>
                  <a:pt x="0" y="574"/>
                </a:lnTo>
                <a:lnTo>
                  <a:pt x="108" y="574"/>
                </a:lnTo>
                <a:lnTo>
                  <a:pt x="112" y="596"/>
                </a:lnTo>
                <a:lnTo>
                  <a:pt x="118" y="618"/>
                </a:lnTo>
                <a:lnTo>
                  <a:pt x="132" y="658"/>
                </a:lnTo>
                <a:lnTo>
                  <a:pt x="152" y="698"/>
                </a:lnTo>
                <a:lnTo>
                  <a:pt x="174" y="734"/>
                </a:lnTo>
                <a:lnTo>
                  <a:pt x="98" y="810"/>
                </a:lnTo>
                <a:lnTo>
                  <a:pt x="198" y="910"/>
                </a:lnTo>
                <a:lnTo>
                  <a:pt x="274" y="834"/>
                </a:lnTo>
                <a:lnTo>
                  <a:pt x="310" y="858"/>
                </a:lnTo>
                <a:lnTo>
                  <a:pt x="350" y="876"/>
                </a:lnTo>
                <a:lnTo>
                  <a:pt x="390" y="890"/>
                </a:lnTo>
                <a:lnTo>
                  <a:pt x="412" y="896"/>
                </a:lnTo>
                <a:lnTo>
                  <a:pt x="434" y="900"/>
                </a:lnTo>
                <a:lnTo>
                  <a:pt x="434" y="1008"/>
                </a:lnTo>
                <a:lnTo>
                  <a:pt x="576" y="1008"/>
                </a:lnTo>
                <a:lnTo>
                  <a:pt x="576" y="900"/>
                </a:lnTo>
                <a:lnTo>
                  <a:pt x="598" y="896"/>
                </a:lnTo>
                <a:lnTo>
                  <a:pt x="620" y="890"/>
                </a:lnTo>
                <a:lnTo>
                  <a:pt x="660" y="876"/>
                </a:lnTo>
                <a:lnTo>
                  <a:pt x="698" y="858"/>
                </a:lnTo>
                <a:lnTo>
                  <a:pt x="736" y="834"/>
                </a:lnTo>
                <a:lnTo>
                  <a:pt x="812" y="910"/>
                </a:lnTo>
                <a:lnTo>
                  <a:pt x="912" y="810"/>
                </a:lnTo>
                <a:lnTo>
                  <a:pt x="836" y="734"/>
                </a:lnTo>
                <a:lnTo>
                  <a:pt x="858" y="698"/>
                </a:lnTo>
                <a:lnTo>
                  <a:pt x="878" y="658"/>
                </a:lnTo>
                <a:lnTo>
                  <a:pt x="892" y="618"/>
                </a:lnTo>
                <a:lnTo>
                  <a:pt x="898" y="596"/>
                </a:lnTo>
                <a:lnTo>
                  <a:pt x="902" y="574"/>
                </a:lnTo>
                <a:lnTo>
                  <a:pt x="1010" y="574"/>
                </a:lnTo>
                <a:close/>
                <a:moveTo>
                  <a:pt x="504" y="806"/>
                </a:moveTo>
                <a:lnTo>
                  <a:pt x="504" y="806"/>
                </a:lnTo>
                <a:lnTo>
                  <a:pt x="474" y="804"/>
                </a:lnTo>
                <a:lnTo>
                  <a:pt x="444" y="800"/>
                </a:lnTo>
                <a:lnTo>
                  <a:pt x="414" y="792"/>
                </a:lnTo>
                <a:lnTo>
                  <a:pt x="388" y="782"/>
                </a:lnTo>
                <a:lnTo>
                  <a:pt x="360" y="770"/>
                </a:lnTo>
                <a:lnTo>
                  <a:pt x="336" y="754"/>
                </a:lnTo>
                <a:lnTo>
                  <a:pt x="312" y="738"/>
                </a:lnTo>
                <a:lnTo>
                  <a:pt x="292" y="718"/>
                </a:lnTo>
                <a:lnTo>
                  <a:pt x="272" y="696"/>
                </a:lnTo>
                <a:lnTo>
                  <a:pt x="254" y="672"/>
                </a:lnTo>
                <a:lnTo>
                  <a:pt x="238" y="648"/>
                </a:lnTo>
                <a:lnTo>
                  <a:pt x="226" y="622"/>
                </a:lnTo>
                <a:lnTo>
                  <a:pt x="216" y="594"/>
                </a:lnTo>
                <a:lnTo>
                  <a:pt x="208" y="564"/>
                </a:lnTo>
                <a:lnTo>
                  <a:pt x="204" y="534"/>
                </a:lnTo>
                <a:lnTo>
                  <a:pt x="202" y="504"/>
                </a:lnTo>
                <a:lnTo>
                  <a:pt x="204" y="472"/>
                </a:lnTo>
                <a:lnTo>
                  <a:pt x="208" y="442"/>
                </a:lnTo>
                <a:lnTo>
                  <a:pt x="216" y="414"/>
                </a:lnTo>
                <a:lnTo>
                  <a:pt x="226" y="386"/>
                </a:lnTo>
                <a:lnTo>
                  <a:pt x="238" y="360"/>
                </a:lnTo>
                <a:lnTo>
                  <a:pt x="254" y="334"/>
                </a:lnTo>
                <a:lnTo>
                  <a:pt x="272" y="312"/>
                </a:lnTo>
                <a:lnTo>
                  <a:pt x="292" y="290"/>
                </a:lnTo>
                <a:lnTo>
                  <a:pt x="312" y="270"/>
                </a:lnTo>
                <a:lnTo>
                  <a:pt x="336" y="252"/>
                </a:lnTo>
                <a:lnTo>
                  <a:pt x="360" y="238"/>
                </a:lnTo>
                <a:lnTo>
                  <a:pt x="388" y="224"/>
                </a:lnTo>
                <a:lnTo>
                  <a:pt x="414" y="214"/>
                </a:lnTo>
                <a:lnTo>
                  <a:pt x="444" y="208"/>
                </a:lnTo>
                <a:lnTo>
                  <a:pt x="474" y="202"/>
                </a:lnTo>
                <a:lnTo>
                  <a:pt x="504" y="202"/>
                </a:lnTo>
                <a:lnTo>
                  <a:pt x="536" y="202"/>
                </a:lnTo>
                <a:lnTo>
                  <a:pt x="566" y="208"/>
                </a:lnTo>
                <a:lnTo>
                  <a:pt x="594" y="214"/>
                </a:lnTo>
                <a:lnTo>
                  <a:pt x="622" y="224"/>
                </a:lnTo>
                <a:lnTo>
                  <a:pt x="650" y="238"/>
                </a:lnTo>
                <a:lnTo>
                  <a:pt x="674" y="252"/>
                </a:lnTo>
                <a:lnTo>
                  <a:pt x="698" y="270"/>
                </a:lnTo>
                <a:lnTo>
                  <a:pt x="718" y="290"/>
                </a:lnTo>
                <a:lnTo>
                  <a:pt x="738" y="312"/>
                </a:lnTo>
                <a:lnTo>
                  <a:pt x="756" y="334"/>
                </a:lnTo>
                <a:lnTo>
                  <a:pt x="770" y="360"/>
                </a:lnTo>
                <a:lnTo>
                  <a:pt x="784" y="386"/>
                </a:lnTo>
                <a:lnTo>
                  <a:pt x="794" y="414"/>
                </a:lnTo>
                <a:lnTo>
                  <a:pt x="802" y="442"/>
                </a:lnTo>
                <a:lnTo>
                  <a:pt x="806" y="472"/>
                </a:lnTo>
                <a:lnTo>
                  <a:pt x="808" y="504"/>
                </a:lnTo>
                <a:lnTo>
                  <a:pt x="806" y="534"/>
                </a:lnTo>
                <a:lnTo>
                  <a:pt x="802" y="564"/>
                </a:lnTo>
                <a:lnTo>
                  <a:pt x="794" y="594"/>
                </a:lnTo>
                <a:lnTo>
                  <a:pt x="784" y="622"/>
                </a:lnTo>
                <a:lnTo>
                  <a:pt x="770" y="648"/>
                </a:lnTo>
                <a:lnTo>
                  <a:pt x="756" y="672"/>
                </a:lnTo>
                <a:lnTo>
                  <a:pt x="738" y="696"/>
                </a:lnTo>
                <a:lnTo>
                  <a:pt x="718" y="718"/>
                </a:lnTo>
                <a:lnTo>
                  <a:pt x="698" y="738"/>
                </a:lnTo>
                <a:lnTo>
                  <a:pt x="674" y="754"/>
                </a:lnTo>
                <a:lnTo>
                  <a:pt x="650" y="770"/>
                </a:lnTo>
                <a:lnTo>
                  <a:pt x="622" y="782"/>
                </a:lnTo>
                <a:lnTo>
                  <a:pt x="594" y="792"/>
                </a:lnTo>
                <a:lnTo>
                  <a:pt x="566" y="800"/>
                </a:lnTo>
                <a:lnTo>
                  <a:pt x="536" y="804"/>
                </a:lnTo>
                <a:lnTo>
                  <a:pt x="504" y="806"/>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6" name="Freeform 194"/>
          <p:cNvSpPr/>
          <p:nvPr/>
        </p:nvSpPr>
        <p:spPr>
          <a:xfrm>
            <a:off x="-933480" y="4078440"/>
            <a:ext cx="4783320" cy="3421080"/>
          </a:xfrm>
          <a:custGeom>
            <a:avLst/>
            <a:gdLst>
              <a:gd name="textAreaLeft" fmla="*/ 0 w 4783320"/>
              <a:gd name="textAreaRight" fmla="*/ 4783680 w 4783320"/>
              <a:gd name="textAreaTop" fmla="*/ 0 h 3421080"/>
              <a:gd name="textAreaBottom" fmla="*/ 3421440 h 3421080"/>
            </a:gdLst>
            <a:ahLst/>
            <a:rect l="textAreaLeft" t="textAreaTop" r="textAreaRight" b="textAreaBottom"/>
            <a:pathLst>
              <a:path w="2622" h="2622">
                <a:moveTo>
                  <a:pt x="2622" y="1382"/>
                </a:moveTo>
                <a:lnTo>
                  <a:pt x="2622" y="1240"/>
                </a:lnTo>
                <a:lnTo>
                  <a:pt x="2520" y="1240"/>
                </a:lnTo>
                <a:lnTo>
                  <a:pt x="2516" y="1196"/>
                </a:lnTo>
                <a:lnTo>
                  <a:pt x="2512" y="1152"/>
                </a:lnTo>
                <a:lnTo>
                  <a:pt x="2506" y="1110"/>
                </a:lnTo>
                <a:lnTo>
                  <a:pt x="2498" y="1068"/>
                </a:lnTo>
                <a:lnTo>
                  <a:pt x="2596" y="1040"/>
                </a:lnTo>
                <a:lnTo>
                  <a:pt x="2560" y="904"/>
                </a:lnTo>
                <a:lnTo>
                  <a:pt x="2460" y="930"/>
                </a:lnTo>
                <a:lnTo>
                  <a:pt x="2446" y="888"/>
                </a:lnTo>
                <a:lnTo>
                  <a:pt x="2430" y="848"/>
                </a:lnTo>
                <a:lnTo>
                  <a:pt x="2412" y="808"/>
                </a:lnTo>
                <a:lnTo>
                  <a:pt x="2394" y="768"/>
                </a:lnTo>
                <a:lnTo>
                  <a:pt x="2482" y="718"/>
                </a:lnTo>
                <a:lnTo>
                  <a:pt x="2412" y="594"/>
                </a:lnTo>
                <a:lnTo>
                  <a:pt x="2322" y="646"/>
                </a:lnTo>
                <a:lnTo>
                  <a:pt x="2298" y="610"/>
                </a:lnTo>
                <a:lnTo>
                  <a:pt x="2272" y="574"/>
                </a:lnTo>
                <a:lnTo>
                  <a:pt x="2244" y="540"/>
                </a:lnTo>
                <a:lnTo>
                  <a:pt x="2216" y="508"/>
                </a:lnTo>
                <a:lnTo>
                  <a:pt x="2290" y="434"/>
                </a:lnTo>
                <a:lnTo>
                  <a:pt x="2188" y="334"/>
                </a:lnTo>
                <a:lnTo>
                  <a:pt x="2116" y="406"/>
                </a:lnTo>
                <a:lnTo>
                  <a:pt x="2082" y="378"/>
                </a:lnTo>
                <a:lnTo>
                  <a:pt x="2048" y="352"/>
                </a:lnTo>
                <a:lnTo>
                  <a:pt x="2014" y="326"/>
                </a:lnTo>
                <a:lnTo>
                  <a:pt x="1978" y="300"/>
                </a:lnTo>
                <a:lnTo>
                  <a:pt x="2028" y="212"/>
                </a:lnTo>
                <a:lnTo>
                  <a:pt x="1906" y="140"/>
                </a:lnTo>
                <a:lnTo>
                  <a:pt x="1854" y="230"/>
                </a:lnTo>
                <a:lnTo>
                  <a:pt x="1816" y="210"/>
                </a:lnTo>
                <a:lnTo>
                  <a:pt x="1776" y="194"/>
                </a:lnTo>
                <a:lnTo>
                  <a:pt x="1734" y="178"/>
                </a:lnTo>
                <a:lnTo>
                  <a:pt x="1694" y="162"/>
                </a:lnTo>
                <a:lnTo>
                  <a:pt x="1720" y="64"/>
                </a:lnTo>
                <a:lnTo>
                  <a:pt x="1582" y="26"/>
                </a:lnTo>
                <a:lnTo>
                  <a:pt x="1556" y="126"/>
                </a:lnTo>
                <a:lnTo>
                  <a:pt x="1514" y="118"/>
                </a:lnTo>
                <a:lnTo>
                  <a:pt x="1470" y="112"/>
                </a:lnTo>
                <a:lnTo>
                  <a:pt x="1426" y="106"/>
                </a:lnTo>
                <a:lnTo>
                  <a:pt x="1382" y="104"/>
                </a:lnTo>
                <a:lnTo>
                  <a:pt x="1382" y="0"/>
                </a:lnTo>
                <a:lnTo>
                  <a:pt x="1240" y="0"/>
                </a:lnTo>
                <a:lnTo>
                  <a:pt x="1240" y="104"/>
                </a:lnTo>
                <a:lnTo>
                  <a:pt x="1196" y="106"/>
                </a:lnTo>
                <a:lnTo>
                  <a:pt x="1154" y="112"/>
                </a:lnTo>
                <a:lnTo>
                  <a:pt x="1110" y="118"/>
                </a:lnTo>
                <a:lnTo>
                  <a:pt x="1068" y="126"/>
                </a:lnTo>
                <a:lnTo>
                  <a:pt x="1042" y="26"/>
                </a:lnTo>
                <a:lnTo>
                  <a:pt x="904" y="64"/>
                </a:lnTo>
                <a:lnTo>
                  <a:pt x="930" y="162"/>
                </a:lnTo>
                <a:lnTo>
                  <a:pt x="890" y="178"/>
                </a:lnTo>
                <a:lnTo>
                  <a:pt x="848" y="194"/>
                </a:lnTo>
                <a:lnTo>
                  <a:pt x="808" y="210"/>
                </a:lnTo>
                <a:lnTo>
                  <a:pt x="770" y="230"/>
                </a:lnTo>
                <a:lnTo>
                  <a:pt x="718" y="140"/>
                </a:lnTo>
                <a:lnTo>
                  <a:pt x="594" y="212"/>
                </a:lnTo>
                <a:lnTo>
                  <a:pt x="646" y="300"/>
                </a:lnTo>
                <a:lnTo>
                  <a:pt x="610" y="326"/>
                </a:lnTo>
                <a:lnTo>
                  <a:pt x="576" y="352"/>
                </a:lnTo>
                <a:lnTo>
                  <a:pt x="542" y="378"/>
                </a:lnTo>
                <a:lnTo>
                  <a:pt x="508" y="406"/>
                </a:lnTo>
                <a:lnTo>
                  <a:pt x="436" y="334"/>
                </a:lnTo>
                <a:lnTo>
                  <a:pt x="334" y="434"/>
                </a:lnTo>
                <a:lnTo>
                  <a:pt x="408" y="508"/>
                </a:lnTo>
                <a:lnTo>
                  <a:pt x="378" y="540"/>
                </a:lnTo>
                <a:lnTo>
                  <a:pt x="352" y="574"/>
                </a:lnTo>
                <a:lnTo>
                  <a:pt x="326" y="610"/>
                </a:lnTo>
                <a:lnTo>
                  <a:pt x="302" y="646"/>
                </a:lnTo>
                <a:lnTo>
                  <a:pt x="212" y="594"/>
                </a:lnTo>
                <a:lnTo>
                  <a:pt x="140" y="718"/>
                </a:lnTo>
                <a:lnTo>
                  <a:pt x="230" y="768"/>
                </a:lnTo>
                <a:lnTo>
                  <a:pt x="212" y="808"/>
                </a:lnTo>
                <a:lnTo>
                  <a:pt x="194" y="848"/>
                </a:lnTo>
                <a:lnTo>
                  <a:pt x="178" y="888"/>
                </a:lnTo>
                <a:lnTo>
                  <a:pt x="164" y="930"/>
                </a:lnTo>
                <a:lnTo>
                  <a:pt x="64" y="904"/>
                </a:lnTo>
                <a:lnTo>
                  <a:pt x="26" y="1040"/>
                </a:lnTo>
                <a:lnTo>
                  <a:pt x="126" y="1068"/>
                </a:lnTo>
                <a:lnTo>
                  <a:pt x="118" y="1110"/>
                </a:lnTo>
                <a:lnTo>
                  <a:pt x="112" y="1152"/>
                </a:lnTo>
                <a:lnTo>
                  <a:pt x="108" y="1196"/>
                </a:lnTo>
                <a:lnTo>
                  <a:pt x="104" y="1240"/>
                </a:lnTo>
                <a:lnTo>
                  <a:pt x="0" y="1240"/>
                </a:lnTo>
                <a:lnTo>
                  <a:pt x="0" y="1382"/>
                </a:lnTo>
                <a:lnTo>
                  <a:pt x="104" y="1382"/>
                </a:lnTo>
                <a:lnTo>
                  <a:pt x="108" y="1426"/>
                </a:lnTo>
                <a:lnTo>
                  <a:pt x="112" y="1470"/>
                </a:lnTo>
                <a:lnTo>
                  <a:pt x="118" y="1512"/>
                </a:lnTo>
                <a:lnTo>
                  <a:pt x="126" y="1556"/>
                </a:lnTo>
                <a:lnTo>
                  <a:pt x="26" y="1582"/>
                </a:lnTo>
                <a:lnTo>
                  <a:pt x="64" y="1720"/>
                </a:lnTo>
                <a:lnTo>
                  <a:pt x="164" y="1692"/>
                </a:lnTo>
                <a:lnTo>
                  <a:pt x="178" y="1734"/>
                </a:lnTo>
                <a:lnTo>
                  <a:pt x="194" y="1774"/>
                </a:lnTo>
                <a:lnTo>
                  <a:pt x="212" y="1814"/>
                </a:lnTo>
                <a:lnTo>
                  <a:pt x="230" y="1854"/>
                </a:lnTo>
                <a:lnTo>
                  <a:pt x="140" y="1906"/>
                </a:lnTo>
                <a:lnTo>
                  <a:pt x="212" y="2028"/>
                </a:lnTo>
                <a:lnTo>
                  <a:pt x="302" y="1978"/>
                </a:lnTo>
                <a:lnTo>
                  <a:pt x="326" y="2014"/>
                </a:lnTo>
                <a:lnTo>
                  <a:pt x="352" y="2048"/>
                </a:lnTo>
                <a:lnTo>
                  <a:pt x="378" y="2082"/>
                </a:lnTo>
                <a:lnTo>
                  <a:pt x="408" y="2116"/>
                </a:lnTo>
                <a:lnTo>
                  <a:pt x="334" y="2188"/>
                </a:lnTo>
                <a:lnTo>
                  <a:pt x="436" y="2288"/>
                </a:lnTo>
                <a:lnTo>
                  <a:pt x="508" y="2216"/>
                </a:lnTo>
                <a:lnTo>
                  <a:pt x="542" y="2244"/>
                </a:lnTo>
                <a:lnTo>
                  <a:pt x="576" y="2272"/>
                </a:lnTo>
                <a:lnTo>
                  <a:pt x="610" y="2298"/>
                </a:lnTo>
                <a:lnTo>
                  <a:pt x="646" y="2322"/>
                </a:lnTo>
                <a:lnTo>
                  <a:pt x="594" y="2412"/>
                </a:lnTo>
                <a:lnTo>
                  <a:pt x="718" y="2482"/>
                </a:lnTo>
                <a:lnTo>
                  <a:pt x="770" y="2394"/>
                </a:lnTo>
                <a:lnTo>
                  <a:pt x="808" y="2412"/>
                </a:lnTo>
                <a:lnTo>
                  <a:pt x="848" y="2430"/>
                </a:lnTo>
                <a:lnTo>
                  <a:pt x="890" y="2446"/>
                </a:lnTo>
                <a:lnTo>
                  <a:pt x="930" y="2460"/>
                </a:lnTo>
                <a:lnTo>
                  <a:pt x="904" y="2560"/>
                </a:lnTo>
                <a:lnTo>
                  <a:pt x="1042" y="2596"/>
                </a:lnTo>
                <a:lnTo>
                  <a:pt x="1068" y="2498"/>
                </a:lnTo>
                <a:lnTo>
                  <a:pt x="1110" y="2504"/>
                </a:lnTo>
                <a:lnTo>
                  <a:pt x="1154" y="2512"/>
                </a:lnTo>
                <a:lnTo>
                  <a:pt x="1196" y="2516"/>
                </a:lnTo>
                <a:lnTo>
                  <a:pt x="1240" y="2520"/>
                </a:lnTo>
                <a:lnTo>
                  <a:pt x="1240" y="2622"/>
                </a:lnTo>
                <a:lnTo>
                  <a:pt x="1382" y="2622"/>
                </a:lnTo>
                <a:lnTo>
                  <a:pt x="1382" y="2520"/>
                </a:lnTo>
                <a:lnTo>
                  <a:pt x="1426" y="2516"/>
                </a:lnTo>
                <a:lnTo>
                  <a:pt x="1470" y="2512"/>
                </a:lnTo>
                <a:lnTo>
                  <a:pt x="1514" y="2504"/>
                </a:lnTo>
                <a:lnTo>
                  <a:pt x="1556" y="2498"/>
                </a:lnTo>
                <a:lnTo>
                  <a:pt x="1582" y="2596"/>
                </a:lnTo>
                <a:lnTo>
                  <a:pt x="1720" y="2560"/>
                </a:lnTo>
                <a:lnTo>
                  <a:pt x="1694" y="2460"/>
                </a:lnTo>
                <a:lnTo>
                  <a:pt x="1734" y="2446"/>
                </a:lnTo>
                <a:lnTo>
                  <a:pt x="1776" y="2430"/>
                </a:lnTo>
                <a:lnTo>
                  <a:pt x="1816" y="2412"/>
                </a:lnTo>
                <a:lnTo>
                  <a:pt x="1854" y="2394"/>
                </a:lnTo>
                <a:lnTo>
                  <a:pt x="1906" y="2482"/>
                </a:lnTo>
                <a:lnTo>
                  <a:pt x="2028" y="2412"/>
                </a:lnTo>
                <a:lnTo>
                  <a:pt x="1978" y="2322"/>
                </a:lnTo>
                <a:lnTo>
                  <a:pt x="2014" y="2298"/>
                </a:lnTo>
                <a:lnTo>
                  <a:pt x="2048" y="2272"/>
                </a:lnTo>
                <a:lnTo>
                  <a:pt x="2082" y="2244"/>
                </a:lnTo>
                <a:lnTo>
                  <a:pt x="2116" y="2216"/>
                </a:lnTo>
                <a:lnTo>
                  <a:pt x="2188" y="2288"/>
                </a:lnTo>
                <a:lnTo>
                  <a:pt x="2290" y="2188"/>
                </a:lnTo>
                <a:lnTo>
                  <a:pt x="2216" y="2116"/>
                </a:lnTo>
                <a:lnTo>
                  <a:pt x="2244" y="2082"/>
                </a:lnTo>
                <a:lnTo>
                  <a:pt x="2272" y="2048"/>
                </a:lnTo>
                <a:lnTo>
                  <a:pt x="2298" y="2014"/>
                </a:lnTo>
                <a:lnTo>
                  <a:pt x="2322" y="1978"/>
                </a:lnTo>
                <a:lnTo>
                  <a:pt x="2412" y="2028"/>
                </a:lnTo>
                <a:lnTo>
                  <a:pt x="2482" y="1906"/>
                </a:lnTo>
                <a:lnTo>
                  <a:pt x="2394" y="1854"/>
                </a:lnTo>
                <a:lnTo>
                  <a:pt x="2412" y="1814"/>
                </a:lnTo>
                <a:lnTo>
                  <a:pt x="2430" y="1774"/>
                </a:lnTo>
                <a:lnTo>
                  <a:pt x="2446" y="1734"/>
                </a:lnTo>
                <a:lnTo>
                  <a:pt x="2460" y="1692"/>
                </a:lnTo>
                <a:lnTo>
                  <a:pt x="2560" y="1720"/>
                </a:lnTo>
                <a:lnTo>
                  <a:pt x="2596" y="1582"/>
                </a:lnTo>
                <a:lnTo>
                  <a:pt x="2498" y="1556"/>
                </a:lnTo>
                <a:lnTo>
                  <a:pt x="2506" y="1512"/>
                </a:lnTo>
                <a:lnTo>
                  <a:pt x="2512" y="1470"/>
                </a:lnTo>
                <a:lnTo>
                  <a:pt x="2516" y="1426"/>
                </a:lnTo>
                <a:lnTo>
                  <a:pt x="2520" y="1382"/>
                </a:lnTo>
                <a:lnTo>
                  <a:pt x="2622" y="1382"/>
                </a:lnTo>
                <a:close/>
                <a:moveTo>
                  <a:pt x="1312" y="2420"/>
                </a:moveTo>
                <a:lnTo>
                  <a:pt x="1312" y="2420"/>
                </a:lnTo>
                <a:lnTo>
                  <a:pt x="1254" y="2420"/>
                </a:lnTo>
                <a:lnTo>
                  <a:pt x="1198" y="2416"/>
                </a:lnTo>
                <a:lnTo>
                  <a:pt x="1142" y="2408"/>
                </a:lnTo>
                <a:lnTo>
                  <a:pt x="1088" y="2398"/>
                </a:lnTo>
                <a:lnTo>
                  <a:pt x="1034" y="2386"/>
                </a:lnTo>
                <a:lnTo>
                  <a:pt x="982" y="2370"/>
                </a:lnTo>
                <a:lnTo>
                  <a:pt x="930" y="2354"/>
                </a:lnTo>
                <a:lnTo>
                  <a:pt x="880" y="2334"/>
                </a:lnTo>
                <a:lnTo>
                  <a:pt x="830" y="2312"/>
                </a:lnTo>
                <a:lnTo>
                  <a:pt x="782" y="2286"/>
                </a:lnTo>
                <a:lnTo>
                  <a:pt x="736" y="2260"/>
                </a:lnTo>
                <a:lnTo>
                  <a:pt x="692" y="2232"/>
                </a:lnTo>
                <a:lnTo>
                  <a:pt x="648" y="2200"/>
                </a:lnTo>
                <a:lnTo>
                  <a:pt x="606" y="2168"/>
                </a:lnTo>
                <a:lnTo>
                  <a:pt x="566" y="2132"/>
                </a:lnTo>
                <a:lnTo>
                  <a:pt x="528" y="2096"/>
                </a:lnTo>
                <a:lnTo>
                  <a:pt x="490" y="2058"/>
                </a:lnTo>
                <a:lnTo>
                  <a:pt x="456" y="2018"/>
                </a:lnTo>
                <a:lnTo>
                  <a:pt x="422" y="1976"/>
                </a:lnTo>
                <a:lnTo>
                  <a:pt x="392" y="1932"/>
                </a:lnTo>
                <a:lnTo>
                  <a:pt x="362" y="1886"/>
                </a:lnTo>
                <a:lnTo>
                  <a:pt x="336" y="1840"/>
                </a:lnTo>
                <a:lnTo>
                  <a:pt x="312" y="1792"/>
                </a:lnTo>
                <a:lnTo>
                  <a:pt x="290" y="1744"/>
                </a:lnTo>
                <a:lnTo>
                  <a:pt x="270" y="1692"/>
                </a:lnTo>
                <a:lnTo>
                  <a:pt x="252" y="1642"/>
                </a:lnTo>
                <a:lnTo>
                  <a:pt x="238" y="1588"/>
                </a:lnTo>
                <a:lnTo>
                  <a:pt x="224" y="1534"/>
                </a:lnTo>
                <a:lnTo>
                  <a:pt x="216" y="1480"/>
                </a:lnTo>
                <a:lnTo>
                  <a:pt x="208" y="1424"/>
                </a:lnTo>
                <a:lnTo>
                  <a:pt x="204" y="1368"/>
                </a:lnTo>
                <a:lnTo>
                  <a:pt x="202" y="1312"/>
                </a:lnTo>
                <a:lnTo>
                  <a:pt x="204" y="1254"/>
                </a:lnTo>
                <a:lnTo>
                  <a:pt x="208" y="1198"/>
                </a:lnTo>
                <a:lnTo>
                  <a:pt x="216" y="1142"/>
                </a:lnTo>
                <a:lnTo>
                  <a:pt x="224" y="1088"/>
                </a:lnTo>
                <a:lnTo>
                  <a:pt x="238" y="1034"/>
                </a:lnTo>
                <a:lnTo>
                  <a:pt x="252" y="982"/>
                </a:lnTo>
                <a:lnTo>
                  <a:pt x="270" y="930"/>
                </a:lnTo>
                <a:lnTo>
                  <a:pt x="290" y="880"/>
                </a:lnTo>
                <a:lnTo>
                  <a:pt x="312" y="830"/>
                </a:lnTo>
                <a:lnTo>
                  <a:pt x="336" y="782"/>
                </a:lnTo>
                <a:lnTo>
                  <a:pt x="362" y="736"/>
                </a:lnTo>
                <a:lnTo>
                  <a:pt x="392" y="692"/>
                </a:lnTo>
                <a:lnTo>
                  <a:pt x="422" y="648"/>
                </a:lnTo>
                <a:lnTo>
                  <a:pt x="456" y="606"/>
                </a:lnTo>
                <a:lnTo>
                  <a:pt x="490" y="566"/>
                </a:lnTo>
                <a:lnTo>
                  <a:pt x="528" y="526"/>
                </a:lnTo>
                <a:lnTo>
                  <a:pt x="566" y="490"/>
                </a:lnTo>
                <a:lnTo>
                  <a:pt x="606" y="456"/>
                </a:lnTo>
                <a:lnTo>
                  <a:pt x="648" y="422"/>
                </a:lnTo>
                <a:lnTo>
                  <a:pt x="692" y="392"/>
                </a:lnTo>
                <a:lnTo>
                  <a:pt x="736" y="362"/>
                </a:lnTo>
                <a:lnTo>
                  <a:pt x="782" y="336"/>
                </a:lnTo>
                <a:lnTo>
                  <a:pt x="830" y="312"/>
                </a:lnTo>
                <a:lnTo>
                  <a:pt x="880" y="290"/>
                </a:lnTo>
                <a:lnTo>
                  <a:pt x="930" y="270"/>
                </a:lnTo>
                <a:lnTo>
                  <a:pt x="982" y="252"/>
                </a:lnTo>
                <a:lnTo>
                  <a:pt x="1034" y="236"/>
                </a:lnTo>
                <a:lnTo>
                  <a:pt x="1088" y="224"/>
                </a:lnTo>
                <a:lnTo>
                  <a:pt x="1142" y="214"/>
                </a:lnTo>
                <a:lnTo>
                  <a:pt x="1198" y="208"/>
                </a:lnTo>
                <a:lnTo>
                  <a:pt x="1254" y="204"/>
                </a:lnTo>
                <a:lnTo>
                  <a:pt x="1312" y="202"/>
                </a:lnTo>
                <a:lnTo>
                  <a:pt x="1368" y="204"/>
                </a:lnTo>
                <a:lnTo>
                  <a:pt x="1426" y="208"/>
                </a:lnTo>
                <a:lnTo>
                  <a:pt x="1480" y="214"/>
                </a:lnTo>
                <a:lnTo>
                  <a:pt x="1536" y="224"/>
                </a:lnTo>
                <a:lnTo>
                  <a:pt x="1588" y="236"/>
                </a:lnTo>
                <a:lnTo>
                  <a:pt x="1642" y="252"/>
                </a:lnTo>
                <a:lnTo>
                  <a:pt x="1694" y="270"/>
                </a:lnTo>
                <a:lnTo>
                  <a:pt x="1744" y="290"/>
                </a:lnTo>
                <a:lnTo>
                  <a:pt x="1792" y="312"/>
                </a:lnTo>
                <a:lnTo>
                  <a:pt x="1840" y="336"/>
                </a:lnTo>
                <a:lnTo>
                  <a:pt x="1886" y="362"/>
                </a:lnTo>
                <a:lnTo>
                  <a:pt x="1932" y="392"/>
                </a:lnTo>
                <a:lnTo>
                  <a:pt x="1976" y="422"/>
                </a:lnTo>
                <a:lnTo>
                  <a:pt x="2018" y="456"/>
                </a:lnTo>
                <a:lnTo>
                  <a:pt x="2058" y="490"/>
                </a:lnTo>
                <a:lnTo>
                  <a:pt x="2096" y="526"/>
                </a:lnTo>
                <a:lnTo>
                  <a:pt x="2132" y="566"/>
                </a:lnTo>
                <a:lnTo>
                  <a:pt x="2168" y="606"/>
                </a:lnTo>
                <a:lnTo>
                  <a:pt x="2200" y="648"/>
                </a:lnTo>
                <a:lnTo>
                  <a:pt x="2232" y="692"/>
                </a:lnTo>
                <a:lnTo>
                  <a:pt x="2260" y="736"/>
                </a:lnTo>
                <a:lnTo>
                  <a:pt x="2288" y="782"/>
                </a:lnTo>
                <a:lnTo>
                  <a:pt x="2312" y="830"/>
                </a:lnTo>
                <a:lnTo>
                  <a:pt x="2334" y="880"/>
                </a:lnTo>
                <a:lnTo>
                  <a:pt x="2354" y="930"/>
                </a:lnTo>
                <a:lnTo>
                  <a:pt x="2372" y="982"/>
                </a:lnTo>
                <a:lnTo>
                  <a:pt x="2386" y="1034"/>
                </a:lnTo>
                <a:lnTo>
                  <a:pt x="2398" y="1088"/>
                </a:lnTo>
                <a:lnTo>
                  <a:pt x="2408" y="1142"/>
                </a:lnTo>
                <a:lnTo>
                  <a:pt x="2416" y="1198"/>
                </a:lnTo>
                <a:lnTo>
                  <a:pt x="2420" y="1254"/>
                </a:lnTo>
                <a:lnTo>
                  <a:pt x="2422" y="1312"/>
                </a:lnTo>
                <a:lnTo>
                  <a:pt x="2420" y="1368"/>
                </a:lnTo>
                <a:lnTo>
                  <a:pt x="2416" y="1424"/>
                </a:lnTo>
                <a:lnTo>
                  <a:pt x="2408" y="1480"/>
                </a:lnTo>
                <a:lnTo>
                  <a:pt x="2398" y="1534"/>
                </a:lnTo>
                <a:lnTo>
                  <a:pt x="2386" y="1588"/>
                </a:lnTo>
                <a:lnTo>
                  <a:pt x="2372" y="1642"/>
                </a:lnTo>
                <a:lnTo>
                  <a:pt x="2354" y="1692"/>
                </a:lnTo>
                <a:lnTo>
                  <a:pt x="2334" y="1744"/>
                </a:lnTo>
                <a:lnTo>
                  <a:pt x="2312" y="1792"/>
                </a:lnTo>
                <a:lnTo>
                  <a:pt x="2288" y="1840"/>
                </a:lnTo>
                <a:lnTo>
                  <a:pt x="2260" y="1886"/>
                </a:lnTo>
                <a:lnTo>
                  <a:pt x="2232" y="1932"/>
                </a:lnTo>
                <a:lnTo>
                  <a:pt x="2200" y="1976"/>
                </a:lnTo>
                <a:lnTo>
                  <a:pt x="2168" y="2018"/>
                </a:lnTo>
                <a:lnTo>
                  <a:pt x="2132" y="2058"/>
                </a:lnTo>
                <a:lnTo>
                  <a:pt x="2096" y="2096"/>
                </a:lnTo>
                <a:lnTo>
                  <a:pt x="2058" y="2132"/>
                </a:lnTo>
                <a:lnTo>
                  <a:pt x="2018" y="2168"/>
                </a:lnTo>
                <a:lnTo>
                  <a:pt x="1976" y="2200"/>
                </a:lnTo>
                <a:lnTo>
                  <a:pt x="1932" y="2232"/>
                </a:lnTo>
                <a:lnTo>
                  <a:pt x="1886" y="2260"/>
                </a:lnTo>
                <a:lnTo>
                  <a:pt x="1840" y="2286"/>
                </a:lnTo>
                <a:lnTo>
                  <a:pt x="1792" y="2312"/>
                </a:lnTo>
                <a:lnTo>
                  <a:pt x="1744" y="2334"/>
                </a:lnTo>
                <a:lnTo>
                  <a:pt x="1694" y="2354"/>
                </a:lnTo>
                <a:lnTo>
                  <a:pt x="1642" y="2370"/>
                </a:lnTo>
                <a:lnTo>
                  <a:pt x="1588" y="2386"/>
                </a:lnTo>
                <a:lnTo>
                  <a:pt x="1536" y="2398"/>
                </a:lnTo>
                <a:lnTo>
                  <a:pt x="1480" y="2408"/>
                </a:lnTo>
                <a:lnTo>
                  <a:pt x="1426" y="2416"/>
                </a:lnTo>
                <a:lnTo>
                  <a:pt x="1368" y="2420"/>
                </a:lnTo>
                <a:lnTo>
                  <a:pt x="1312" y="2420"/>
                </a:lnTo>
                <a:close/>
              </a:path>
            </a:pathLst>
          </a:custGeom>
          <a:gradFill rotWithShape="0">
            <a:gsLst>
              <a:gs pos="0">
                <a:srgbClr val="aaaaaa"/>
              </a:gs>
              <a:gs pos="50000">
                <a:srgbClr val="ffffff"/>
              </a:gs>
              <a:gs pos="100000">
                <a:srgbClr val="aaaaaa"/>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737" name="Group 195" descr=""/>
          <p:cNvPicPr/>
          <p:nvPr/>
        </p:nvPicPr>
        <p:blipFill>
          <a:blip r:embed="rId1"/>
          <a:stretch/>
        </p:blipFill>
        <p:spPr>
          <a:xfrm>
            <a:off x="1182600" y="1847880"/>
            <a:ext cx="3279960" cy="2455920"/>
          </a:xfrm>
          <a:prstGeom prst="rect">
            <a:avLst/>
          </a:prstGeom>
          <a:ln w="0">
            <a:noFill/>
          </a:ln>
        </p:spPr>
      </p:pic>
      <p:grpSp>
        <p:nvGrpSpPr>
          <p:cNvPr id="738" name="Group 11"/>
          <p:cNvGrpSpPr/>
          <p:nvPr/>
        </p:nvGrpSpPr>
        <p:grpSpPr>
          <a:xfrm>
            <a:off x="-538200" y="4365720"/>
            <a:ext cx="3993840" cy="2844360"/>
            <a:chOff x="-538200" y="4365720"/>
            <a:chExt cx="3993840" cy="2844360"/>
          </a:xfrm>
        </p:grpSpPr>
        <p:sp>
          <p:nvSpPr>
            <p:cNvPr id="739" name="Oval 199"/>
            <p:cNvSpPr/>
            <p:nvPr/>
          </p:nvSpPr>
          <p:spPr>
            <a:xfrm>
              <a:off x="-538200" y="4365720"/>
              <a:ext cx="3993840" cy="2844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0" name="Freeform 200"/>
            <p:cNvSpPr/>
            <p:nvPr/>
          </p:nvSpPr>
          <p:spPr>
            <a:xfrm>
              <a:off x="-439200" y="4414320"/>
              <a:ext cx="3798720" cy="1326600"/>
            </a:xfrm>
            <a:custGeom>
              <a:avLst/>
              <a:gdLst>
                <a:gd name="textAreaLeft" fmla="*/ 0 w 3798720"/>
                <a:gd name="textAreaRight" fmla="*/ 3799080 w 3798720"/>
                <a:gd name="textAreaTop" fmla="*/ 0 h 1326600"/>
                <a:gd name="textAreaBottom" fmla="*/ 1326600 h 13266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41" name="Group 14"/>
          <p:cNvGrpSpPr/>
          <p:nvPr/>
        </p:nvGrpSpPr>
        <p:grpSpPr>
          <a:xfrm>
            <a:off x="4716360" y="1773360"/>
            <a:ext cx="1943280" cy="1404720"/>
            <a:chOff x="4716360" y="1773360"/>
            <a:chExt cx="1943280" cy="1404720"/>
          </a:xfrm>
        </p:grpSpPr>
        <p:sp>
          <p:nvSpPr>
            <p:cNvPr id="742" name="Oval 202"/>
            <p:cNvSpPr/>
            <p:nvPr/>
          </p:nvSpPr>
          <p:spPr>
            <a:xfrm>
              <a:off x="4716360" y="1773360"/>
              <a:ext cx="1943280" cy="140472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3" name="Freeform 203"/>
            <p:cNvSpPr/>
            <p:nvPr/>
          </p:nvSpPr>
          <p:spPr>
            <a:xfrm>
              <a:off x="4764240" y="1797120"/>
              <a:ext cx="1848240" cy="655200"/>
            </a:xfrm>
            <a:custGeom>
              <a:avLst/>
              <a:gdLst>
                <a:gd name="textAreaLeft" fmla="*/ 0 w 1848240"/>
                <a:gd name="textAreaRight" fmla="*/ 1848600 w 1848240"/>
                <a:gd name="textAreaTop" fmla="*/ 0 h 655200"/>
                <a:gd name="textAreaBottom" fmla="*/ 655560 h 65520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44" name="Group 17"/>
          <p:cNvGrpSpPr/>
          <p:nvPr/>
        </p:nvGrpSpPr>
        <p:grpSpPr>
          <a:xfrm>
            <a:off x="7093080" y="2709720"/>
            <a:ext cx="792000" cy="576360"/>
            <a:chOff x="7093080" y="2709720"/>
            <a:chExt cx="792000" cy="576360"/>
          </a:xfrm>
        </p:grpSpPr>
        <p:sp>
          <p:nvSpPr>
            <p:cNvPr id="745" name="Oval 205"/>
            <p:cNvSpPr/>
            <p:nvPr/>
          </p:nvSpPr>
          <p:spPr>
            <a:xfrm>
              <a:off x="7093080" y="2709720"/>
              <a:ext cx="792000" cy="576360"/>
            </a:xfrm>
            <a:prstGeom prst="ellipse">
              <a:avLst/>
            </a:prstGeom>
            <a:gradFill rotWithShape="0">
              <a:gsLst>
                <a:gs pos="0">
                  <a:srgbClr val="bebebe"/>
                </a:gs>
                <a:gs pos="100000">
                  <a:srgbClr val="4d4d4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46" name="Freeform 206"/>
            <p:cNvSpPr/>
            <p:nvPr/>
          </p:nvSpPr>
          <p:spPr>
            <a:xfrm>
              <a:off x="7112520" y="2719440"/>
              <a:ext cx="753480" cy="268920"/>
            </a:xfrm>
            <a:custGeom>
              <a:avLst/>
              <a:gdLst>
                <a:gd name="textAreaLeft" fmla="*/ 0 w 753480"/>
                <a:gd name="textAreaRight" fmla="*/ 753840 w 753480"/>
                <a:gd name="textAreaTop" fmla="*/ 0 h 268920"/>
                <a:gd name="textAreaBottom" fmla="*/ 269280 h 268920"/>
              </a:gdLst>
              <a:ahLst/>
              <a:rect l="textAreaLeft" t="textAreaTop" r="textAreaRight" b="textAreaBottom"/>
              <a:pathLst>
                <a:path w="3456" h="1728">
                  <a:moveTo>
                    <a:pt x="0" y="1728"/>
                  </a:moveTo>
                  <a:lnTo>
                    <a:pt x="0" y="1728"/>
                  </a:lnTo>
                  <a:lnTo>
                    <a:pt x="2" y="1638"/>
                  </a:lnTo>
                  <a:lnTo>
                    <a:pt x="10" y="1552"/>
                  </a:lnTo>
                  <a:lnTo>
                    <a:pt x="20" y="1464"/>
                  </a:lnTo>
                  <a:lnTo>
                    <a:pt x="36" y="1380"/>
                  </a:lnTo>
                  <a:lnTo>
                    <a:pt x="54" y="1296"/>
                  </a:lnTo>
                  <a:lnTo>
                    <a:pt x="78" y="1214"/>
                  </a:lnTo>
                  <a:lnTo>
                    <a:pt x="106" y="1134"/>
                  </a:lnTo>
                  <a:lnTo>
                    <a:pt x="136" y="1056"/>
                  </a:lnTo>
                  <a:lnTo>
                    <a:pt x="170" y="978"/>
                  </a:lnTo>
                  <a:lnTo>
                    <a:pt x="208" y="904"/>
                  </a:lnTo>
                  <a:lnTo>
                    <a:pt x="250" y="832"/>
                  </a:lnTo>
                  <a:lnTo>
                    <a:pt x="296" y="762"/>
                  </a:lnTo>
                  <a:lnTo>
                    <a:pt x="344" y="694"/>
                  </a:lnTo>
                  <a:lnTo>
                    <a:pt x="394" y="628"/>
                  </a:lnTo>
                  <a:lnTo>
                    <a:pt x="450" y="566"/>
                  </a:lnTo>
                  <a:lnTo>
                    <a:pt x="506" y="506"/>
                  </a:lnTo>
                  <a:lnTo>
                    <a:pt x="566" y="448"/>
                  </a:lnTo>
                  <a:lnTo>
                    <a:pt x="630" y="394"/>
                  </a:lnTo>
                  <a:lnTo>
                    <a:pt x="694" y="344"/>
                  </a:lnTo>
                  <a:lnTo>
                    <a:pt x="762" y="296"/>
                  </a:lnTo>
                  <a:lnTo>
                    <a:pt x="832" y="250"/>
                  </a:lnTo>
                  <a:lnTo>
                    <a:pt x="904" y="208"/>
                  </a:lnTo>
                  <a:lnTo>
                    <a:pt x="978" y="170"/>
                  </a:lnTo>
                  <a:lnTo>
                    <a:pt x="1056" y="136"/>
                  </a:lnTo>
                  <a:lnTo>
                    <a:pt x="1134" y="106"/>
                  </a:lnTo>
                  <a:lnTo>
                    <a:pt x="1214" y="78"/>
                  </a:lnTo>
                  <a:lnTo>
                    <a:pt x="1296" y="54"/>
                  </a:lnTo>
                  <a:lnTo>
                    <a:pt x="1380" y="36"/>
                  </a:lnTo>
                  <a:lnTo>
                    <a:pt x="1464" y="20"/>
                  </a:lnTo>
                  <a:lnTo>
                    <a:pt x="1552" y="10"/>
                  </a:lnTo>
                  <a:lnTo>
                    <a:pt x="1640" y="2"/>
                  </a:lnTo>
                  <a:lnTo>
                    <a:pt x="1728" y="0"/>
                  </a:lnTo>
                  <a:lnTo>
                    <a:pt x="1816" y="2"/>
                  </a:lnTo>
                  <a:lnTo>
                    <a:pt x="1904" y="10"/>
                  </a:lnTo>
                  <a:lnTo>
                    <a:pt x="1992" y="20"/>
                  </a:lnTo>
                  <a:lnTo>
                    <a:pt x="2076" y="36"/>
                  </a:lnTo>
                  <a:lnTo>
                    <a:pt x="2160" y="54"/>
                  </a:lnTo>
                  <a:lnTo>
                    <a:pt x="2242" y="78"/>
                  </a:lnTo>
                  <a:lnTo>
                    <a:pt x="2322" y="106"/>
                  </a:lnTo>
                  <a:lnTo>
                    <a:pt x="2400" y="136"/>
                  </a:lnTo>
                  <a:lnTo>
                    <a:pt x="2478" y="170"/>
                  </a:lnTo>
                  <a:lnTo>
                    <a:pt x="2552" y="208"/>
                  </a:lnTo>
                  <a:lnTo>
                    <a:pt x="2624" y="250"/>
                  </a:lnTo>
                  <a:lnTo>
                    <a:pt x="2694" y="296"/>
                  </a:lnTo>
                  <a:lnTo>
                    <a:pt x="2762" y="344"/>
                  </a:lnTo>
                  <a:lnTo>
                    <a:pt x="2826" y="394"/>
                  </a:lnTo>
                  <a:lnTo>
                    <a:pt x="2890" y="448"/>
                  </a:lnTo>
                  <a:lnTo>
                    <a:pt x="2950" y="506"/>
                  </a:lnTo>
                  <a:lnTo>
                    <a:pt x="3006" y="566"/>
                  </a:lnTo>
                  <a:lnTo>
                    <a:pt x="3062" y="628"/>
                  </a:lnTo>
                  <a:lnTo>
                    <a:pt x="3112" y="694"/>
                  </a:lnTo>
                  <a:lnTo>
                    <a:pt x="3160" y="762"/>
                  </a:lnTo>
                  <a:lnTo>
                    <a:pt x="3206" y="832"/>
                  </a:lnTo>
                  <a:lnTo>
                    <a:pt x="3248" y="904"/>
                  </a:lnTo>
                  <a:lnTo>
                    <a:pt x="3286" y="978"/>
                  </a:lnTo>
                  <a:lnTo>
                    <a:pt x="3320" y="1056"/>
                  </a:lnTo>
                  <a:lnTo>
                    <a:pt x="3350" y="1134"/>
                  </a:lnTo>
                  <a:lnTo>
                    <a:pt x="3378" y="1214"/>
                  </a:lnTo>
                  <a:lnTo>
                    <a:pt x="3402" y="1296"/>
                  </a:lnTo>
                  <a:lnTo>
                    <a:pt x="3420" y="1380"/>
                  </a:lnTo>
                  <a:lnTo>
                    <a:pt x="3436" y="1464"/>
                  </a:lnTo>
                  <a:lnTo>
                    <a:pt x="3446" y="1552"/>
                  </a:lnTo>
                  <a:lnTo>
                    <a:pt x="3454" y="1638"/>
                  </a:lnTo>
                  <a:lnTo>
                    <a:pt x="3456" y="1728"/>
                  </a:lnTo>
                  <a:lnTo>
                    <a:pt x="0" y="1728"/>
                  </a:lnTo>
                  <a:close/>
                </a:path>
              </a:pathLst>
            </a:custGeom>
            <a:gradFill rotWithShape="0">
              <a:gsLst>
                <a:gs pos="0">
                  <a:srgbClr val="ffffff">
                    <a:alpha val="50196"/>
                  </a:srgbClr>
                </a:gs>
                <a:gs pos="100000">
                  <a:srgbClr val="767676">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747" name="Text Box 207"/>
          <p:cNvSpPr/>
          <p:nvPr/>
        </p:nvSpPr>
        <p:spPr>
          <a:xfrm>
            <a:off x="4356000" y="4149720"/>
            <a:ext cx="4291200" cy="16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PowerPoint Present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gives you everything you need to produce a professional-looking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748" name="Text Box 208"/>
          <p:cNvSpPr/>
          <p:nvPr/>
        </p:nvSpPr>
        <p:spPr>
          <a:xfrm>
            <a:off x="1332000" y="2205000"/>
            <a:ext cx="2879640" cy="1433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Visual</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Appealing</a:t>
            </a:r>
            <a:endParaRPr b="0" lang="en-US" sz="20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p:txBody>
      </p:sp>
      <p:sp>
        <p:nvSpPr>
          <p:cNvPr id="749" name="Text Box 209"/>
          <p:cNvSpPr/>
          <p:nvPr/>
        </p:nvSpPr>
        <p:spPr>
          <a:xfrm>
            <a:off x="287280" y="4898880"/>
            <a:ext cx="2556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Immense</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Visual</a:t>
            </a:r>
            <a:endParaRPr b="0" lang="en-US" sz="3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Appeal</a:t>
            </a:r>
            <a:endParaRPr b="0" lang="en-US" sz="3200" spc="-1" strike="noStrike">
              <a:solidFill>
                <a:srgbClr val="000000"/>
              </a:solidFill>
              <a:latin typeface="Gulim"/>
            </a:endParaRPr>
          </a:p>
        </p:txBody>
      </p:sp>
      <p:sp>
        <p:nvSpPr>
          <p:cNvPr id="750" name="Text Box 210"/>
          <p:cNvSpPr/>
          <p:nvPr/>
        </p:nvSpPr>
        <p:spPr>
          <a:xfrm>
            <a:off x="4932360" y="2023920"/>
            <a:ext cx="15112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Eye-</a:t>
            </a:r>
            <a:endParaRPr b="0" lang="en-US" sz="16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Black"/>
              </a:rPr>
              <a:t>Catching Visual</a:t>
            </a:r>
            <a:endParaRPr b="0" lang="en-US" sz="1600" spc="-1" strike="noStrike">
              <a:solidFill>
                <a:srgbClr val="000000"/>
              </a:solidFill>
              <a:latin typeface="Gulim"/>
            </a:endParaRPr>
          </a:p>
        </p:txBody>
      </p:sp>
      <p:sp>
        <p:nvSpPr>
          <p:cNvPr id="751" name="Text Box 211"/>
          <p:cNvSpPr/>
          <p:nvPr/>
        </p:nvSpPr>
        <p:spPr>
          <a:xfrm>
            <a:off x="7056360" y="2744640"/>
            <a:ext cx="9003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Sleek</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Diagram</a:t>
            </a:r>
            <a:endParaRPr b="0" lang="en-US" sz="8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Black"/>
              </a:rPr>
              <a:t>&amp; Chart</a:t>
            </a:r>
            <a:endParaRPr b="0" lang="en-US" sz="800" spc="-1" strike="noStrike">
              <a:solidFill>
                <a:srgbClr val="000000"/>
              </a:solidFill>
              <a:latin typeface="Gulim"/>
            </a:endParaRPr>
          </a:p>
        </p:txBody>
      </p:sp>
      <p:sp>
        <p:nvSpPr>
          <p:cNvPr id="752"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3" name="Group 2"/>
          <p:cNvGrpSpPr/>
          <p:nvPr/>
        </p:nvGrpSpPr>
        <p:grpSpPr>
          <a:xfrm>
            <a:off x="4191120" y="946080"/>
            <a:ext cx="1955520" cy="1955880"/>
            <a:chOff x="4191120" y="946080"/>
            <a:chExt cx="1955520" cy="1955880"/>
          </a:xfrm>
        </p:grpSpPr>
        <p:sp>
          <p:nvSpPr>
            <p:cNvPr id="754" name="Freeform 76"/>
            <p:cNvSpPr/>
            <p:nvPr/>
          </p:nvSpPr>
          <p:spPr>
            <a:xfrm>
              <a:off x="4876560" y="1631880"/>
              <a:ext cx="583920" cy="584280"/>
            </a:xfrm>
            <a:custGeom>
              <a:avLst/>
              <a:gdLst>
                <a:gd name="textAreaLeft" fmla="*/ 0 w 583920"/>
                <a:gd name="textAreaRight" fmla="*/ 584280 w 583920"/>
                <a:gd name="textAreaTop" fmla="*/ 0 h 584280"/>
                <a:gd name="textAreaBottom" fmla="*/ 584280 h 584280"/>
              </a:gdLst>
              <a:ahLst/>
              <a:rect l="textAreaLeft" t="textAreaTop" r="textAreaRight" b="textAreaBottom"/>
              <a:pathLst>
                <a:path w="368" h="368">
                  <a:moveTo>
                    <a:pt x="0" y="184"/>
                  </a:moveTo>
                  <a:lnTo>
                    <a:pt x="0" y="184"/>
                  </a:lnTo>
                  <a:lnTo>
                    <a:pt x="0" y="202"/>
                  </a:lnTo>
                  <a:lnTo>
                    <a:pt x="4" y="222"/>
                  </a:lnTo>
                  <a:lnTo>
                    <a:pt x="8" y="238"/>
                  </a:lnTo>
                  <a:lnTo>
                    <a:pt x="14" y="256"/>
                  </a:lnTo>
                  <a:lnTo>
                    <a:pt x="22" y="272"/>
                  </a:lnTo>
                  <a:lnTo>
                    <a:pt x="32" y="286"/>
                  </a:lnTo>
                  <a:lnTo>
                    <a:pt x="42" y="300"/>
                  </a:lnTo>
                  <a:lnTo>
                    <a:pt x="54" y="314"/>
                  </a:lnTo>
                  <a:lnTo>
                    <a:pt x="68" y="326"/>
                  </a:lnTo>
                  <a:lnTo>
                    <a:pt x="82" y="336"/>
                  </a:lnTo>
                  <a:lnTo>
                    <a:pt x="96" y="346"/>
                  </a:lnTo>
                  <a:lnTo>
                    <a:pt x="112" y="354"/>
                  </a:lnTo>
                  <a:lnTo>
                    <a:pt x="130" y="360"/>
                  </a:lnTo>
                  <a:lnTo>
                    <a:pt x="146" y="364"/>
                  </a:lnTo>
                  <a:lnTo>
                    <a:pt x="166" y="368"/>
                  </a:lnTo>
                  <a:lnTo>
                    <a:pt x="184" y="368"/>
                  </a:lnTo>
                  <a:lnTo>
                    <a:pt x="202" y="368"/>
                  </a:lnTo>
                  <a:lnTo>
                    <a:pt x="222" y="364"/>
                  </a:lnTo>
                  <a:lnTo>
                    <a:pt x="238" y="360"/>
                  </a:lnTo>
                  <a:lnTo>
                    <a:pt x="256" y="354"/>
                  </a:lnTo>
                  <a:lnTo>
                    <a:pt x="272" y="346"/>
                  </a:lnTo>
                  <a:lnTo>
                    <a:pt x="286" y="336"/>
                  </a:lnTo>
                  <a:lnTo>
                    <a:pt x="300" y="326"/>
                  </a:lnTo>
                  <a:lnTo>
                    <a:pt x="314" y="314"/>
                  </a:lnTo>
                  <a:lnTo>
                    <a:pt x="326" y="300"/>
                  </a:lnTo>
                  <a:lnTo>
                    <a:pt x="336" y="286"/>
                  </a:lnTo>
                  <a:lnTo>
                    <a:pt x="346" y="272"/>
                  </a:lnTo>
                  <a:lnTo>
                    <a:pt x="354" y="256"/>
                  </a:lnTo>
                  <a:lnTo>
                    <a:pt x="360" y="238"/>
                  </a:lnTo>
                  <a:lnTo>
                    <a:pt x="364" y="222"/>
                  </a:lnTo>
                  <a:lnTo>
                    <a:pt x="368" y="202"/>
                  </a:lnTo>
                  <a:lnTo>
                    <a:pt x="368" y="184"/>
                  </a:lnTo>
                  <a:lnTo>
                    <a:pt x="368" y="166"/>
                  </a:lnTo>
                  <a:lnTo>
                    <a:pt x="364" y="146"/>
                  </a:lnTo>
                  <a:lnTo>
                    <a:pt x="360" y="130"/>
                  </a:lnTo>
                  <a:lnTo>
                    <a:pt x="354" y="112"/>
                  </a:lnTo>
                  <a:lnTo>
                    <a:pt x="346" y="96"/>
                  </a:lnTo>
                  <a:lnTo>
                    <a:pt x="336" y="82"/>
                  </a:lnTo>
                  <a:lnTo>
                    <a:pt x="326" y="68"/>
                  </a:lnTo>
                  <a:lnTo>
                    <a:pt x="314" y="54"/>
                  </a:lnTo>
                  <a:lnTo>
                    <a:pt x="300" y="42"/>
                  </a:lnTo>
                  <a:lnTo>
                    <a:pt x="286" y="32"/>
                  </a:lnTo>
                  <a:lnTo>
                    <a:pt x="272" y="22"/>
                  </a:lnTo>
                  <a:lnTo>
                    <a:pt x="256" y="14"/>
                  </a:lnTo>
                  <a:lnTo>
                    <a:pt x="238" y="8"/>
                  </a:lnTo>
                  <a:lnTo>
                    <a:pt x="222" y="4"/>
                  </a:lnTo>
                  <a:lnTo>
                    <a:pt x="202" y="0"/>
                  </a:lnTo>
                  <a:lnTo>
                    <a:pt x="184" y="0"/>
                  </a:lnTo>
                  <a:lnTo>
                    <a:pt x="166" y="0"/>
                  </a:lnTo>
                  <a:lnTo>
                    <a:pt x="146" y="4"/>
                  </a:lnTo>
                  <a:lnTo>
                    <a:pt x="130" y="8"/>
                  </a:lnTo>
                  <a:lnTo>
                    <a:pt x="112" y="14"/>
                  </a:lnTo>
                  <a:lnTo>
                    <a:pt x="96" y="22"/>
                  </a:lnTo>
                  <a:lnTo>
                    <a:pt x="82" y="32"/>
                  </a:lnTo>
                  <a:lnTo>
                    <a:pt x="68" y="42"/>
                  </a:lnTo>
                  <a:lnTo>
                    <a:pt x="54" y="54"/>
                  </a:lnTo>
                  <a:lnTo>
                    <a:pt x="42" y="68"/>
                  </a:lnTo>
                  <a:lnTo>
                    <a:pt x="32" y="82"/>
                  </a:lnTo>
                  <a:lnTo>
                    <a:pt x="22" y="96"/>
                  </a:lnTo>
                  <a:lnTo>
                    <a:pt x="14" y="112"/>
                  </a:lnTo>
                  <a:lnTo>
                    <a:pt x="8" y="130"/>
                  </a:lnTo>
                  <a:lnTo>
                    <a:pt x="4" y="146"/>
                  </a:lnTo>
                  <a:lnTo>
                    <a:pt x="0" y="166"/>
                  </a:lnTo>
                  <a:lnTo>
                    <a:pt x="0" y="184"/>
                  </a:lnTo>
                  <a:close/>
                  <a:moveTo>
                    <a:pt x="80" y="184"/>
                  </a:moveTo>
                  <a:lnTo>
                    <a:pt x="80" y="184"/>
                  </a:lnTo>
                  <a:lnTo>
                    <a:pt x="82" y="164"/>
                  </a:lnTo>
                  <a:lnTo>
                    <a:pt x="88" y="144"/>
                  </a:lnTo>
                  <a:lnTo>
                    <a:pt x="98" y="126"/>
                  </a:lnTo>
                  <a:lnTo>
                    <a:pt x="110" y="110"/>
                  </a:lnTo>
                  <a:lnTo>
                    <a:pt x="126" y="98"/>
                  </a:lnTo>
                  <a:lnTo>
                    <a:pt x="144" y="88"/>
                  </a:lnTo>
                  <a:lnTo>
                    <a:pt x="164" y="82"/>
                  </a:lnTo>
                  <a:lnTo>
                    <a:pt x="184" y="80"/>
                  </a:lnTo>
                  <a:lnTo>
                    <a:pt x="204" y="82"/>
                  </a:lnTo>
                  <a:lnTo>
                    <a:pt x="224" y="88"/>
                  </a:lnTo>
                  <a:lnTo>
                    <a:pt x="242" y="98"/>
                  </a:lnTo>
                  <a:lnTo>
                    <a:pt x="258" y="110"/>
                  </a:lnTo>
                  <a:lnTo>
                    <a:pt x="270" y="126"/>
                  </a:lnTo>
                  <a:lnTo>
                    <a:pt x="280" y="144"/>
                  </a:lnTo>
                  <a:lnTo>
                    <a:pt x="286" y="164"/>
                  </a:lnTo>
                  <a:lnTo>
                    <a:pt x="288" y="184"/>
                  </a:lnTo>
                  <a:lnTo>
                    <a:pt x="286" y="204"/>
                  </a:lnTo>
                  <a:lnTo>
                    <a:pt x="280" y="224"/>
                  </a:lnTo>
                  <a:lnTo>
                    <a:pt x="270" y="242"/>
                  </a:lnTo>
                  <a:lnTo>
                    <a:pt x="258" y="258"/>
                  </a:lnTo>
                  <a:lnTo>
                    <a:pt x="242" y="270"/>
                  </a:lnTo>
                  <a:lnTo>
                    <a:pt x="224" y="280"/>
                  </a:lnTo>
                  <a:lnTo>
                    <a:pt x="204" y="286"/>
                  </a:lnTo>
                  <a:lnTo>
                    <a:pt x="184" y="288"/>
                  </a:lnTo>
                  <a:lnTo>
                    <a:pt x="164" y="286"/>
                  </a:lnTo>
                  <a:lnTo>
                    <a:pt x="144" y="280"/>
                  </a:lnTo>
                  <a:lnTo>
                    <a:pt x="126" y="270"/>
                  </a:lnTo>
                  <a:lnTo>
                    <a:pt x="110" y="258"/>
                  </a:lnTo>
                  <a:lnTo>
                    <a:pt x="98" y="242"/>
                  </a:lnTo>
                  <a:lnTo>
                    <a:pt x="88" y="224"/>
                  </a:lnTo>
                  <a:lnTo>
                    <a:pt x="82" y="204"/>
                  </a:lnTo>
                  <a:lnTo>
                    <a:pt x="80" y="184"/>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5" name="Freeform 77"/>
            <p:cNvSpPr/>
            <p:nvPr/>
          </p:nvSpPr>
          <p:spPr>
            <a:xfrm>
              <a:off x="4647960" y="1403280"/>
              <a:ext cx="1041120" cy="1041480"/>
            </a:xfrm>
            <a:custGeom>
              <a:avLst/>
              <a:gdLst>
                <a:gd name="textAreaLeft" fmla="*/ 0 w 1041120"/>
                <a:gd name="textAreaRight" fmla="*/ 1041480 w 1041120"/>
                <a:gd name="textAreaTop" fmla="*/ 0 h 1041480"/>
                <a:gd name="textAreaBottom" fmla="*/ 1041480 h 1041480"/>
              </a:gdLst>
              <a:ahLst/>
              <a:rect l="textAreaLeft" t="textAreaTop" r="textAreaRight" b="textAreaBottom"/>
              <a:pathLst>
                <a:path w="656" h="656">
                  <a:moveTo>
                    <a:pt x="0" y="328"/>
                  </a:moveTo>
                  <a:lnTo>
                    <a:pt x="0" y="328"/>
                  </a:lnTo>
                  <a:lnTo>
                    <a:pt x="2" y="362"/>
                  </a:lnTo>
                  <a:lnTo>
                    <a:pt x="6" y="394"/>
                  </a:lnTo>
                  <a:lnTo>
                    <a:pt x="14" y="426"/>
                  </a:lnTo>
                  <a:lnTo>
                    <a:pt x="26" y="456"/>
                  </a:lnTo>
                  <a:lnTo>
                    <a:pt x="40" y="484"/>
                  </a:lnTo>
                  <a:lnTo>
                    <a:pt x="56" y="512"/>
                  </a:lnTo>
                  <a:lnTo>
                    <a:pt x="74" y="536"/>
                  </a:lnTo>
                  <a:lnTo>
                    <a:pt x="96" y="560"/>
                  </a:lnTo>
                  <a:lnTo>
                    <a:pt x="120" y="582"/>
                  </a:lnTo>
                  <a:lnTo>
                    <a:pt x="144" y="600"/>
                  </a:lnTo>
                  <a:lnTo>
                    <a:pt x="172" y="616"/>
                  </a:lnTo>
                  <a:lnTo>
                    <a:pt x="200" y="630"/>
                  </a:lnTo>
                  <a:lnTo>
                    <a:pt x="230" y="642"/>
                  </a:lnTo>
                  <a:lnTo>
                    <a:pt x="262" y="650"/>
                  </a:lnTo>
                  <a:lnTo>
                    <a:pt x="294" y="654"/>
                  </a:lnTo>
                  <a:lnTo>
                    <a:pt x="328" y="656"/>
                  </a:lnTo>
                  <a:lnTo>
                    <a:pt x="362" y="654"/>
                  </a:lnTo>
                  <a:lnTo>
                    <a:pt x="394" y="650"/>
                  </a:lnTo>
                  <a:lnTo>
                    <a:pt x="426" y="642"/>
                  </a:lnTo>
                  <a:lnTo>
                    <a:pt x="456" y="630"/>
                  </a:lnTo>
                  <a:lnTo>
                    <a:pt x="484" y="616"/>
                  </a:lnTo>
                  <a:lnTo>
                    <a:pt x="512" y="600"/>
                  </a:lnTo>
                  <a:lnTo>
                    <a:pt x="536" y="582"/>
                  </a:lnTo>
                  <a:lnTo>
                    <a:pt x="560" y="560"/>
                  </a:lnTo>
                  <a:lnTo>
                    <a:pt x="582" y="536"/>
                  </a:lnTo>
                  <a:lnTo>
                    <a:pt x="600" y="512"/>
                  </a:lnTo>
                  <a:lnTo>
                    <a:pt x="616" y="484"/>
                  </a:lnTo>
                  <a:lnTo>
                    <a:pt x="630" y="456"/>
                  </a:lnTo>
                  <a:lnTo>
                    <a:pt x="642" y="426"/>
                  </a:lnTo>
                  <a:lnTo>
                    <a:pt x="650" y="394"/>
                  </a:lnTo>
                  <a:lnTo>
                    <a:pt x="654" y="362"/>
                  </a:lnTo>
                  <a:lnTo>
                    <a:pt x="656" y="328"/>
                  </a:lnTo>
                  <a:lnTo>
                    <a:pt x="654" y="294"/>
                  </a:lnTo>
                  <a:lnTo>
                    <a:pt x="650" y="262"/>
                  </a:lnTo>
                  <a:lnTo>
                    <a:pt x="642" y="230"/>
                  </a:lnTo>
                  <a:lnTo>
                    <a:pt x="630" y="200"/>
                  </a:lnTo>
                  <a:lnTo>
                    <a:pt x="616" y="172"/>
                  </a:lnTo>
                  <a:lnTo>
                    <a:pt x="600" y="144"/>
                  </a:lnTo>
                  <a:lnTo>
                    <a:pt x="582" y="120"/>
                  </a:lnTo>
                  <a:lnTo>
                    <a:pt x="560" y="96"/>
                  </a:lnTo>
                  <a:lnTo>
                    <a:pt x="536" y="74"/>
                  </a:lnTo>
                  <a:lnTo>
                    <a:pt x="512" y="56"/>
                  </a:lnTo>
                  <a:lnTo>
                    <a:pt x="484" y="40"/>
                  </a:lnTo>
                  <a:lnTo>
                    <a:pt x="456" y="26"/>
                  </a:lnTo>
                  <a:lnTo>
                    <a:pt x="426" y="14"/>
                  </a:lnTo>
                  <a:lnTo>
                    <a:pt x="394" y="6"/>
                  </a:lnTo>
                  <a:lnTo>
                    <a:pt x="362" y="2"/>
                  </a:lnTo>
                  <a:lnTo>
                    <a:pt x="328" y="0"/>
                  </a:lnTo>
                  <a:lnTo>
                    <a:pt x="294" y="2"/>
                  </a:lnTo>
                  <a:lnTo>
                    <a:pt x="262" y="6"/>
                  </a:lnTo>
                  <a:lnTo>
                    <a:pt x="230" y="14"/>
                  </a:lnTo>
                  <a:lnTo>
                    <a:pt x="200" y="26"/>
                  </a:lnTo>
                  <a:lnTo>
                    <a:pt x="172" y="40"/>
                  </a:lnTo>
                  <a:lnTo>
                    <a:pt x="144" y="56"/>
                  </a:lnTo>
                  <a:lnTo>
                    <a:pt x="120" y="74"/>
                  </a:lnTo>
                  <a:lnTo>
                    <a:pt x="96" y="96"/>
                  </a:lnTo>
                  <a:lnTo>
                    <a:pt x="74" y="120"/>
                  </a:lnTo>
                  <a:lnTo>
                    <a:pt x="56" y="144"/>
                  </a:lnTo>
                  <a:lnTo>
                    <a:pt x="40" y="172"/>
                  </a:lnTo>
                  <a:lnTo>
                    <a:pt x="26" y="200"/>
                  </a:lnTo>
                  <a:lnTo>
                    <a:pt x="14" y="230"/>
                  </a:lnTo>
                  <a:lnTo>
                    <a:pt x="6" y="262"/>
                  </a:lnTo>
                  <a:lnTo>
                    <a:pt x="2" y="294"/>
                  </a:lnTo>
                  <a:lnTo>
                    <a:pt x="0" y="328"/>
                  </a:lnTo>
                  <a:close/>
                  <a:moveTo>
                    <a:pt x="80" y="328"/>
                  </a:moveTo>
                  <a:lnTo>
                    <a:pt x="80" y="328"/>
                  </a:lnTo>
                  <a:lnTo>
                    <a:pt x="82" y="302"/>
                  </a:lnTo>
                  <a:lnTo>
                    <a:pt x="86" y="278"/>
                  </a:lnTo>
                  <a:lnTo>
                    <a:pt x="92" y="254"/>
                  </a:lnTo>
                  <a:lnTo>
                    <a:pt x="100" y="232"/>
                  </a:lnTo>
                  <a:lnTo>
                    <a:pt x="110" y="210"/>
                  </a:lnTo>
                  <a:lnTo>
                    <a:pt x="122" y="190"/>
                  </a:lnTo>
                  <a:lnTo>
                    <a:pt x="136" y="170"/>
                  </a:lnTo>
                  <a:lnTo>
                    <a:pt x="152" y="152"/>
                  </a:lnTo>
                  <a:lnTo>
                    <a:pt x="170" y="136"/>
                  </a:lnTo>
                  <a:lnTo>
                    <a:pt x="190" y="122"/>
                  </a:lnTo>
                  <a:lnTo>
                    <a:pt x="210" y="110"/>
                  </a:lnTo>
                  <a:lnTo>
                    <a:pt x="232" y="100"/>
                  </a:lnTo>
                  <a:lnTo>
                    <a:pt x="254" y="92"/>
                  </a:lnTo>
                  <a:lnTo>
                    <a:pt x="278" y="86"/>
                  </a:lnTo>
                  <a:lnTo>
                    <a:pt x="302" y="82"/>
                  </a:lnTo>
                  <a:lnTo>
                    <a:pt x="328" y="80"/>
                  </a:lnTo>
                  <a:lnTo>
                    <a:pt x="354" y="82"/>
                  </a:lnTo>
                  <a:lnTo>
                    <a:pt x="378" y="86"/>
                  </a:lnTo>
                  <a:lnTo>
                    <a:pt x="402" y="92"/>
                  </a:lnTo>
                  <a:lnTo>
                    <a:pt x="424" y="100"/>
                  </a:lnTo>
                  <a:lnTo>
                    <a:pt x="446" y="110"/>
                  </a:lnTo>
                  <a:lnTo>
                    <a:pt x="466" y="122"/>
                  </a:lnTo>
                  <a:lnTo>
                    <a:pt x="486" y="136"/>
                  </a:lnTo>
                  <a:lnTo>
                    <a:pt x="504" y="152"/>
                  </a:lnTo>
                  <a:lnTo>
                    <a:pt x="520" y="170"/>
                  </a:lnTo>
                  <a:lnTo>
                    <a:pt x="534" y="190"/>
                  </a:lnTo>
                  <a:lnTo>
                    <a:pt x="546" y="210"/>
                  </a:lnTo>
                  <a:lnTo>
                    <a:pt x="556" y="232"/>
                  </a:lnTo>
                  <a:lnTo>
                    <a:pt x="564" y="254"/>
                  </a:lnTo>
                  <a:lnTo>
                    <a:pt x="570" y="278"/>
                  </a:lnTo>
                  <a:lnTo>
                    <a:pt x="574" y="302"/>
                  </a:lnTo>
                  <a:lnTo>
                    <a:pt x="576" y="328"/>
                  </a:lnTo>
                  <a:lnTo>
                    <a:pt x="574" y="354"/>
                  </a:lnTo>
                  <a:lnTo>
                    <a:pt x="570" y="378"/>
                  </a:lnTo>
                  <a:lnTo>
                    <a:pt x="564" y="402"/>
                  </a:lnTo>
                  <a:lnTo>
                    <a:pt x="556" y="424"/>
                  </a:lnTo>
                  <a:lnTo>
                    <a:pt x="546" y="446"/>
                  </a:lnTo>
                  <a:lnTo>
                    <a:pt x="534" y="466"/>
                  </a:lnTo>
                  <a:lnTo>
                    <a:pt x="520" y="486"/>
                  </a:lnTo>
                  <a:lnTo>
                    <a:pt x="504" y="504"/>
                  </a:lnTo>
                  <a:lnTo>
                    <a:pt x="486" y="520"/>
                  </a:lnTo>
                  <a:lnTo>
                    <a:pt x="466" y="534"/>
                  </a:lnTo>
                  <a:lnTo>
                    <a:pt x="446" y="546"/>
                  </a:lnTo>
                  <a:lnTo>
                    <a:pt x="424" y="556"/>
                  </a:lnTo>
                  <a:lnTo>
                    <a:pt x="402" y="564"/>
                  </a:lnTo>
                  <a:lnTo>
                    <a:pt x="378" y="570"/>
                  </a:lnTo>
                  <a:lnTo>
                    <a:pt x="354" y="574"/>
                  </a:lnTo>
                  <a:lnTo>
                    <a:pt x="328" y="576"/>
                  </a:lnTo>
                  <a:lnTo>
                    <a:pt x="302" y="574"/>
                  </a:lnTo>
                  <a:lnTo>
                    <a:pt x="278" y="570"/>
                  </a:lnTo>
                  <a:lnTo>
                    <a:pt x="254" y="564"/>
                  </a:lnTo>
                  <a:lnTo>
                    <a:pt x="232" y="556"/>
                  </a:lnTo>
                  <a:lnTo>
                    <a:pt x="210" y="546"/>
                  </a:lnTo>
                  <a:lnTo>
                    <a:pt x="190" y="534"/>
                  </a:lnTo>
                  <a:lnTo>
                    <a:pt x="170" y="520"/>
                  </a:lnTo>
                  <a:lnTo>
                    <a:pt x="152" y="504"/>
                  </a:lnTo>
                  <a:lnTo>
                    <a:pt x="136" y="486"/>
                  </a:lnTo>
                  <a:lnTo>
                    <a:pt x="122" y="466"/>
                  </a:lnTo>
                  <a:lnTo>
                    <a:pt x="110" y="446"/>
                  </a:lnTo>
                  <a:lnTo>
                    <a:pt x="100" y="424"/>
                  </a:lnTo>
                  <a:lnTo>
                    <a:pt x="92" y="402"/>
                  </a:lnTo>
                  <a:lnTo>
                    <a:pt x="86" y="378"/>
                  </a:lnTo>
                  <a:lnTo>
                    <a:pt x="82" y="354"/>
                  </a:lnTo>
                  <a:lnTo>
                    <a:pt x="80" y="328"/>
                  </a:lnTo>
                  <a:close/>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6" name="Freeform 78"/>
            <p:cNvSpPr/>
            <p:nvPr/>
          </p:nvSpPr>
          <p:spPr>
            <a:xfrm>
              <a:off x="4419360" y="1174680"/>
              <a:ext cx="1498320" cy="1498680"/>
            </a:xfrm>
            <a:custGeom>
              <a:avLst/>
              <a:gdLst>
                <a:gd name="textAreaLeft" fmla="*/ 0 w 1498320"/>
                <a:gd name="textAreaRight" fmla="*/ 1498680 w 1498320"/>
                <a:gd name="textAreaTop" fmla="*/ 0 h 1498680"/>
                <a:gd name="textAreaBottom" fmla="*/ 1499040 h 1498680"/>
              </a:gdLst>
              <a:ahLst/>
              <a:rect l="textAreaLeft" t="textAreaTop" r="textAreaRight" b="textAreaBottom"/>
              <a:pathLst>
                <a:path w="944" h="944">
                  <a:moveTo>
                    <a:pt x="0" y="472"/>
                  </a:moveTo>
                  <a:lnTo>
                    <a:pt x="0" y="472"/>
                  </a:lnTo>
                  <a:lnTo>
                    <a:pt x="0" y="496"/>
                  </a:lnTo>
                  <a:lnTo>
                    <a:pt x="2" y="520"/>
                  </a:lnTo>
                  <a:lnTo>
                    <a:pt x="6" y="544"/>
                  </a:lnTo>
                  <a:lnTo>
                    <a:pt x="10" y="568"/>
                  </a:lnTo>
                  <a:lnTo>
                    <a:pt x="22" y="612"/>
                  </a:lnTo>
                  <a:lnTo>
                    <a:pt x="38" y="656"/>
                  </a:lnTo>
                  <a:lnTo>
                    <a:pt x="58" y="696"/>
                  </a:lnTo>
                  <a:lnTo>
                    <a:pt x="80" y="736"/>
                  </a:lnTo>
                  <a:lnTo>
                    <a:pt x="108" y="772"/>
                  </a:lnTo>
                  <a:lnTo>
                    <a:pt x="138" y="806"/>
                  </a:lnTo>
                  <a:lnTo>
                    <a:pt x="172" y="836"/>
                  </a:lnTo>
                  <a:lnTo>
                    <a:pt x="208" y="864"/>
                  </a:lnTo>
                  <a:lnTo>
                    <a:pt x="248" y="886"/>
                  </a:lnTo>
                  <a:lnTo>
                    <a:pt x="288" y="906"/>
                  </a:lnTo>
                  <a:lnTo>
                    <a:pt x="332" y="922"/>
                  </a:lnTo>
                  <a:lnTo>
                    <a:pt x="376" y="934"/>
                  </a:lnTo>
                  <a:lnTo>
                    <a:pt x="400" y="938"/>
                  </a:lnTo>
                  <a:lnTo>
                    <a:pt x="424" y="942"/>
                  </a:lnTo>
                  <a:lnTo>
                    <a:pt x="448" y="944"/>
                  </a:lnTo>
                  <a:lnTo>
                    <a:pt x="472" y="944"/>
                  </a:lnTo>
                  <a:lnTo>
                    <a:pt x="496" y="944"/>
                  </a:lnTo>
                  <a:lnTo>
                    <a:pt x="520" y="942"/>
                  </a:lnTo>
                  <a:lnTo>
                    <a:pt x="544" y="938"/>
                  </a:lnTo>
                  <a:lnTo>
                    <a:pt x="568" y="934"/>
                  </a:lnTo>
                  <a:lnTo>
                    <a:pt x="612" y="922"/>
                  </a:lnTo>
                  <a:lnTo>
                    <a:pt x="656" y="906"/>
                  </a:lnTo>
                  <a:lnTo>
                    <a:pt x="696" y="886"/>
                  </a:lnTo>
                  <a:lnTo>
                    <a:pt x="736" y="864"/>
                  </a:lnTo>
                  <a:lnTo>
                    <a:pt x="772" y="836"/>
                  </a:lnTo>
                  <a:lnTo>
                    <a:pt x="806" y="806"/>
                  </a:lnTo>
                  <a:lnTo>
                    <a:pt x="836" y="772"/>
                  </a:lnTo>
                  <a:lnTo>
                    <a:pt x="864" y="736"/>
                  </a:lnTo>
                  <a:lnTo>
                    <a:pt x="886" y="696"/>
                  </a:lnTo>
                  <a:lnTo>
                    <a:pt x="906" y="656"/>
                  </a:lnTo>
                  <a:lnTo>
                    <a:pt x="922" y="612"/>
                  </a:lnTo>
                  <a:lnTo>
                    <a:pt x="934" y="568"/>
                  </a:lnTo>
                  <a:lnTo>
                    <a:pt x="938" y="544"/>
                  </a:lnTo>
                  <a:lnTo>
                    <a:pt x="942" y="520"/>
                  </a:lnTo>
                  <a:lnTo>
                    <a:pt x="944" y="496"/>
                  </a:lnTo>
                  <a:lnTo>
                    <a:pt x="944" y="472"/>
                  </a:lnTo>
                  <a:lnTo>
                    <a:pt x="944" y="448"/>
                  </a:lnTo>
                  <a:lnTo>
                    <a:pt x="942" y="424"/>
                  </a:lnTo>
                  <a:lnTo>
                    <a:pt x="938" y="400"/>
                  </a:lnTo>
                  <a:lnTo>
                    <a:pt x="934" y="376"/>
                  </a:lnTo>
                  <a:lnTo>
                    <a:pt x="922" y="332"/>
                  </a:lnTo>
                  <a:lnTo>
                    <a:pt x="906" y="288"/>
                  </a:lnTo>
                  <a:lnTo>
                    <a:pt x="886" y="248"/>
                  </a:lnTo>
                  <a:lnTo>
                    <a:pt x="864" y="208"/>
                  </a:lnTo>
                  <a:lnTo>
                    <a:pt x="836" y="172"/>
                  </a:lnTo>
                  <a:lnTo>
                    <a:pt x="806" y="138"/>
                  </a:lnTo>
                  <a:lnTo>
                    <a:pt x="772" y="108"/>
                  </a:lnTo>
                  <a:lnTo>
                    <a:pt x="736" y="80"/>
                  </a:lnTo>
                  <a:lnTo>
                    <a:pt x="696" y="58"/>
                  </a:lnTo>
                  <a:lnTo>
                    <a:pt x="656" y="38"/>
                  </a:lnTo>
                  <a:lnTo>
                    <a:pt x="612" y="22"/>
                  </a:lnTo>
                  <a:lnTo>
                    <a:pt x="568" y="10"/>
                  </a:lnTo>
                  <a:lnTo>
                    <a:pt x="544" y="6"/>
                  </a:lnTo>
                  <a:lnTo>
                    <a:pt x="520" y="2"/>
                  </a:lnTo>
                  <a:lnTo>
                    <a:pt x="496" y="0"/>
                  </a:lnTo>
                  <a:lnTo>
                    <a:pt x="472" y="0"/>
                  </a:lnTo>
                  <a:lnTo>
                    <a:pt x="448" y="0"/>
                  </a:lnTo>
                  <a:lnTo>
                    <a:pt x="424" y="2"/>
                  </a:lnTo>
                  <a:lnTo>
                    <a:pt x="400" y="6"/>
                  </a:lnTo>
                  <a:lnTo>
                    <a:pt x="376" y="10"/>
                  </a:lnTo>
                  <a:lnTo>
                    <a:pt x="332" y="22"/>
                  </a:lnTo>
                  <a:lnTo>
                    <a:pt x="288" y="38"/>
                  </a:lnTo>
                  <a:lnTo>
                    <a:pt x="248" y="58"/>
                  </a:lnTo>
                  <a:lnTo>
                    <a:pt x="208" y="80"/>
                  </a:lnTo>
                  <a:lnTo>
                    <a:pt x="172" y="108"/>
                  </a:lnTo>
                  <a:lnTo>
                    <a:pt x="138" y="138"/>
                  </a:lnTo>
                  <a:lnTo>
                    <a:pt x="108" y="172"/>
                  </a:lnTo>
                  <a:lnTo>
                    <a:pt x="80" y="208"/>
                  </a:lnTo>
                  <a:lnTo>
                    <a:pt x="58" y="248"/>
                  </a:lnTo>
                  <a:lnTo>
                    <a:pt x="38" y="288"/>
                  </a:lnTo>
                  <a:lnTo>
                    <a:pt x="22" y="332"/>
                  </a:lnTo>
                  <a:lnTo>
                    <a:pt x="10" y="376"/>
                  </a:lnTo>
                  <a:lnTo>
                    <a:pt x="6" y="400"/>
                  </a:lnTo>
                  <a:lnTo>
                    <a:pt x="2" y="424"/>
                  </a:lnTo>
                  <a:lnTo>
                    <a:pt x="0" y="448"/>
                  </a:lnTo>
                  <a:lnTo>
                    <a:pt x="0" y="472"/>
                  </a:lnTo>
                  <a:close/>
                  <a:moveTo>
                    <a:pt x="80" y="472"/>
                  </a:moveTo>
                  <a:lnTo>
                    <a:pt x="80" y="472"/>
                  </a:lnTo>
                  <a:lnTo>
                    <a:pt x="82" y="432"/>
                  </a:lnTo>
                  <a:lnTo>
                    <a:pt x="88" y="394"/>
                  </a:lnTo>
                  <a:lnTo>
                    <a:pt x="98" y="356"/>
                  </a:lnTo>
                  <a:lnTo>
                    <a:pt x="110" y="320"/>
                  </a:lnTo>
                  <a:lnTo>
                    <a:pt x="128" y="286"/>
                  </a:lnTo>
                  <a:lnTo>
                    <a:pt x="148" y="252"/>
                  </a:lnTo>
                  <a:lnTo>
                    <a:pt x="170" y="222"/>
                  </a:lnTo>
                  <a:lnTo>
                    <a:pt x="194" y="194"/>
                  </a:lnTo>
                  <a:lnTo>
                    <a:pt x="222" y="170"/>
                  </a:lnTo>
                  <a:lnTo>
                    <a:pt x="252" y="148"/>
                  </a:lnTo>
                  <a:lnTo>
                    <a:pt x="286" y="128"/>
                  </a:lnTo>
                  <a:lnTo>
                    <a:pt x="320" y="110"/>
                  </a:lnTo>
                  <a:lnTo>
                    <a:pt x="356" y="98"/>
                  </a:lnTo>
                  <a:lnTo>
                    <a:pt x="394" y="88"/>
                  </a:lnTo>
                  <a:lnTo>
                    <a:pt x="432" y="82"/>
                  </a:lnTo>
                  <a:lnTo>
                    <a:pt x="472" y="80"/>
                  </a:lnTo>
                  <a:lnTo>
                    <a:pt x="512" y="82"/>
                  </a:lnTo>
                  <a:lnTo>
                    <a:pt x="550" y="88"/>
                  </a:lnTo>
                  <a:lnTo>
                    <a:pt x="588" y="98"/>
                  </a:lnTo>
                  <a:lnTo>
                    <a:pt x="624" y="110"/>
                  </a:lnTo>
                  <a:lnTo>
                    <a:pt x="658" y="128"/>
                  </a:lnTo>
                  <a:lnTo>
                    <a:pt x="692" y="148"/>
                  </a:lnTo>
                  <a:lnTo>
                    <a:pt x="722" y="170"/>
                  </a:lnTo>
                  <a:lnTo>
                    <a:pt x="750" y="194"/>
                  </a:lnTo>
                  <a:lnTo>
                    <a:pt x="774" y="222"/>
                  </a:lnTo>
                  <a:lnTo>
                    <a:pt x="796" y="252"/>
                  </a:lnTo>
                  <a:lnTo>
                    <a:pt x="816" y="286"/>
                  </a:lnTo>
                  <a:lnTo>
                    <a:pt x="834" y="320"/>
                  </a:lnTo>
                  <a:lnTo>
                    <a:pt x="846" y="356"/>
                  </a:lnTo>
                  <a:lnTo>
                    <a:pt x="856" y="394"/>
                  </a:lnTo>
                  <a:lnTo>
                    <a:pt x="862" y="432"/>
                  </a:lnTo>
                  <a:lnTo>
                    <a:pt x="864" y="472"/>
                  </a:lnTo>
                  <a:lnTo>
                    <a:pt x="862" y="512"/>
                  </a:lnTo>
                  <a:lnTo>
                    <a:pt x="856" y="550"/>
                  </a:lnTo>
                  <a:lnTo>
                    <a:pt x="846" y="588"/>
                  </a:lnTo>
                  <a:lnTo>
                    <a:pt x="834" y="624"/>
                  </a:lnTo>
                  <a:lnTo>
                    <a:pt x="816" y="658"/>
                  </a:lnTo>
                  <a:lnTo>
                    <a:pt x="796" y="692"/>
                  </a:lnTo>
                  <a:lnTo>
                    <a:pt x="774" y="722"/>
                  </a:lnTo>
                  <a:lnTo>
                    <a:pt x="750" y="750"/>
                  </a:lnTo>
                  <a:lnTo>
                    <a:pt x="722" y="774"/>
                  </a:lnTo>
                  <a:lnTo>
                    <a:pt x="692" y="796"/>
                  </a:lnTo>
                  <a:lnTo>
                    <a:pt x="658" y="816"/>
                  </a:lnTo>
                  <a:lnTo>
                    <a:pt x="624" y="834"/>
                  </a:lnTo>
                  <a:lnTo>
                    <a:pt x="588" y="846"/>
                  </a:lnTo>
                  <a:lnTo>
                    <a:pt x="550" y="856"/>
                  </a:lnTo>
                  <a:lnTo>
                    <a:pt x="512" y="862"/>
                  </a:lnTo>
                  <a:lnTo>
                    <a:pt x="472" y="864"/>
                  </a:lnTo>
                  <a:lnTo>
                    <a:pt x="432" y="862"/>
                  </a:lnTo>
                  <a:lnTo>
                    <a:pt x="394" y="856"/>
                  </a:lnTo>
                  <a:lnTo>
                    <a:pt x="356" y="846"/>
                  </a:lnTo>
                  <a:lnTo>
                    <a:pt x="320" y="834"/>
                  </a:lnTo>
                  <a:lnTo>
                    <a:pt x="286" y="816"/>
                  </a:lnTo>
                  <a:lnTo>
                    <a:pt x="252" y="796"/>
                  </a:lnTo>
                  <a:lnTo>
                    <a:pt x="222" y="774"/>
                  </a:lnTo>
                  <a:lnTo>
                    <a:pt x="194" y="750"/>
                  </a:lnTo>
                  <a:lnTo>
                    <a:pt x="170" y="722"/>
                  </a:lnTo>
                  <a:lnTo>
                    <a:pt x="148" y="692"/>
                  </a:lnTo>
                  <a:lnTo>
                    <a:pt x="128" y="658"/>
                  </a:lnTo>
                  <a:lnTo>
                    <a:pt x="110" y="624"/>
                  </a:lnTo>
                  <a:lnTo>
                    <a:pt x="98" y="588"/>
                  </a:lnTo>
                  <a:lnTo>
                    <a:pt x="88" y="550"/>
                  </a:lnTo>
                  <a:lnTo>
                    <a:pt x="82" y="512"/>
                  </a:lnTo>
                  <a:lnTo>
                    <a:pt x="80" y="472"/>
                  </a:lnTo>
                  <a:close/>
                </a:path>
              </a:pathLst>
            </a:custGeom>
            <a:solidFill>
              <a:srgbClr val="ffffff">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57" name="Freeform 79"/>
            <p:cNvSpPr/>
            <p:nvPr/>
          </p:nvSpPr>
          <p:spPr>
            <a:xfrm>
              <a:off x="4191120" y="946080"/>
              <a:ext cx="1955520" cy="1955880"/>
            </a:xfrm>
            <a:custGeom>
              <a:avLst/>
              <a:gdLst>
                <a:gd name="textAreaLeft" fmla="*/ 0 w 1955520"/>
                <a:gd name="textAreaRight" fmla="*/ 1955880 w 1955520"/>
                <a:gd name="textAreaTop" fmla="*/ 0 h 1955880"/>
                <a:gd name="textAreaBottom" fmla="*/ 1956240 h 1955880"/>
              </a:gdLst>
              <a:ahLst/>
              <a:rect l="textAreaLeft" t="textAreaTop" r="textAreaRight" b="textAreaBottom"/>
              <a:pathLst>
                <a:path w="1232" h="1232">
                  <a:moveTo>
                    <a:pt x="0" y="616"/>
                  </a:moveTo>
                  <a:lnTo>
                    <a:pt x="0" y="616"/>
                  </a:lnTo>
                  <a:lnTo>
                    <a:pt x="0" y="648"/>
                  </a:lnTo>
                  <a:lnTo>
                    <a:pt x="4" y="678"/>
                  </a:lnTo>
                  <a:lnTo>
                    <a:pt x="8" y="710"/>
                  </a:lnTo>
                  <a:lnTo>
                    <a:pt x="12" y="740"/>
                  </a:lnTo>
                  <a:lnTo>
                    <a:pt x="20" y="770"/>
                  </a:lnTo>
                  <a:lnTo>
                    <a:pt x="28" y="798"/>
                  </a:lnTo>
                  <a:lnTo>
                    <a:pt x="38" y="828"/>
                  </a:lnTo>
                  <a:lnTo>
                    <a:pt x="48" y="856"/>
                  </a:lnTo>
                  <a:lnTo>
                    <a:pt x="60" y="882"/>
                  </a:lnTo>
                  <a:lnTo>
                    <a:pt x="74" y="910"/>
                  </a:lnTo>
                  <a:lnTo>
                    <a:pt x="90" y="936"/>
                  </a:lnTo>
                  <a:lnTo>
                    <a:pt x="106" y="960"/>
                  </a:lnTo>
                  <a:lnTo>
                    <a:pt x="122" y="984"/>
                  </a:lnTo>
                  <a:lnTo>
                    <a:pt x="140" y="1008"/>
                  </a:lnTo>
                  <a:lnTo>
                    <a:pt x="160" y="1030"/>
                  </a:lnTo>
                  <a:lnTo>
                    <a:pt x="180" y="1052"/>
                  </a:lnTo>
                  <a:lnTo>
                    <a:pt x="202" y="1072"/>
                  </a:lnTo>
                  <a:lnTo>
                    <a:pt x="224" y="1092"/>
                  </a:lnTo>
                  <a:lnTo>
                    <a:pt x="248" y="1110"/>
                  </a:lnTo>
                  <a:lnTo>
                    <a:pt x="272" y="1126"/>
                  </a:lnTo>
                  <a:lnTo>
                    <a:pt x="296" y="1142"/>
                  </a:lnTo>
                  <a:lnTo>
                    <a:pt x="322" y="1158"/>
                  </a:lnTo>
                  <a:lnTo>
                    <a:pt x="350" y="1172"/>
                  </a:lnTo>
                  <a:lnTo>
                    <a:pt x="376" y="1184"/>
                  </a:lnTo>
                  <a:lnTo>
                    <a:pt x="404" y="1194"/>
                  </a:lnTo>
                  <a:lnTo>
                    <a:pt x="434" y="1204"/>
                  </a:lnTo>
                  <a:lnTo>
                    <a:pt x="462" y="1212"/>
                  </a:lnTo>
                  <a:lnTo>
                    <a:pt x="492" y="1220"/>
                  </a:lnTo>
                  <a:lnTo>
                    <a:pt x="522" y="1224"/>
                  </a:lnTo>
                  <a:lnTo>
                    <a:pt x="554" y="1228"/>
                  </a:lnTo>
                  <a:lnTo>
                    <a:pt x="584" y="1232"/>
                  </a:lnTo>
                  <a:lnTo>
                    <a:pt x="616" y="1232"/>
                  </a:lnTo>
                  <a:lnTo>
                    <a:pt x="648" y="1232"/>
                  </a:lnTo>
                  <a:lnTo>
                    <a:pt x="678" y="1228"/>
                  </a:lnTo>
                  <a:lnTo>
                    <a:pt x="710" y="1224"/>
                  </a:lnTo>
                  <a:lnTo>
                    <a:pt x="740" y="1220"/>
                  </a:lnTo>
                  <a:lnTo>
                    <a:pt x="770" y="1212"/>
                  </a:lnTo>
                  <a:lnTo>
                    <a:pt x="798" y="1204"/>
                  </a:lnTo>
                  <a:lnTo>
                    <a:pt x="828" y="1194"/>
                  </a:lnTo>
                  <a:lnTo>
                    <a:pt x="856" y="1184"/>
                  </a:lnTo>
                  <a:lnTo>
                    <a:pt x="882" y="1172"/>
                  </a:lnTo>
                  <a:lnTo>
                    <a:pt x="910" y="1158"/>
                  </a:lnTo>
                  <a:lnTo>
                    <a:pt x="936" y="1142"/>
                  </a:lnTo>
                  <a:lnTo>
                    <a:pt x="960" y="1126"/>
                  </a:lnTo>
                  <a:lnTo>
                    <a:pt x="984" y="1110"/>
                  </a:lnTo>
                  <a:lnTo>
                    <a:pt x="1008" y="1092"/>
                  </a:lnTo>
                  <a:lnTo>
                    <a:pt x="1030" y="1072"/>
                  </a:lnTo>
                  <a:lnTo>
                    <a:pt x="1052" y="1052"/>
                  </a:lnTo>
                  <a:lnTo>
                    <a:pt x="1072" y="1030"/>
                  </a:lnTo>
                  <a:lnTo>
                    <a:pt x="1092" y="1008"/>
                  </a:lnTo>
                  <a:lnTo>
                    <a:pt x="1110" y="984"/>
                  </a:lnTo>
                  <a:lnTo>
                    <a:pt x="1126" y="960"/>
                  </a:lnTo>
                  <a:lnTo>
                    <a:pt x="1142" y="936"/>
                  </a:lnTo>
                  <a:lnTo>
                    <a:pt x="1158" y="910"/>
                  </a:lnTo>
                  <a:lnTo>
                    <a:pt x="1172" y="882"/>
                  </a:lnTo>
                  <a:lnTo>
                    <a:pt x="1184" y="856"/>
                  </a:lnTo>
                  <a:lnTo>
                    <a:pt x="1194" y="828"/>
                  </a:lnTo>
                  <a:lnTo>
                    <a:pt x="1204" y="798"/>
                  </a:lnTo>
                  <a:lnTo>
                    <a:pt x="1212" y="770"/>
                  </a:lnTo>
                  <a:lnTo>
                    <a:pt x="1220" y="740"/>
                  </a:lnTo>
                  <a:lnTo>
                    <a:pt x="1224" y="710"/>
                  </a:lnTo>
                  <a:lnTo>
                    <a:pt x="1228" y="678"/>
                  </a:lnTo>
                  <a:lnTo>
                    <a:pt x="1232" y="648"/>
                  </a:lnTo>
                  <a:lnTo>
                    <a:pt x="1232" y="616"/>
                  </a:lnTo>
                  <a:lnTo>
                    <a:pt x="1232" y="584"/>
                  </a:lnTo>
                  <a:lnTo>
                    <a:pt x="1228" y="554"/>
                  </a:lnTo>
                  <a:lnTo>
                    <a:pt x="1224" y="522"/>
                  </a:lnTo>
                  <a:lnTo>
                    <a:pt x="1220" y="492"/>
                  </a:lnTo>
                  <a:lnTo>
                    <a:pt x="1212" y="462"/>
                  </a:lnTo>
                  <a:lnTo>
                    <a:pt x="1204" y="434"/>
                  </a:lnTo>
                  <a:lnTo>
                    <a:pt x="1194" y="404"/>
                  </a:lnTo>
                  <a:lnTo>
                    <a:pt x="1184" y="376"/>
                  </a:lnTo>
                  <a:lnTo>
                    <a:pt x="1172" y="350"/>
                  </a:lnTo>
                  <a:lnTo>
                    <a:pt x="1158" y="322"/>
                  </a:lnTo>
                  <a:lnTo>
                    <a:pt x="1142" y="296"/>
                  </a:lnTo>
                  <a:lnTo>
                    <a:pt x="1126" y="272"/>
                  </a:lnTo>
                  <a:lnTo>
                    <a:pt x="1110" y="248"/>
                  </a:lnTo>
                  <a:lnTo>
                    <a:pt x="1092" y="224"/>
                  </a:lnTo>
                  <a:lnTo>
                    <a:pt x="1072" y="202"/>
                  </a:lnTo>
                  <a:lnTo>
                    <a:pt x="1052" y="180"/>
                  </a:lnTo>
                  <a:lnTo>
                    <a:pt x="1030" y="160"/>
                  </a:lnTo>
                  <a:lnTo>
                    <a:pt x="1008" y="140"/>
                  </a:lnTo>
                  <a:lnTo>
                    <a:pt x="984" y="122"/>
                  </a:lnTo>
                  <a:lnTo>
                    <a:pt x="960" y="106"/>
                  </a:lnTo>
                  <a:lnTo>
                    <a:pt x="936" y="90"/>
                  </a:lnTo>
                  <a:lnTo>
                    <a:pt x="910" y="74"/>
                  </a:lnTo>
                  <a:lnTo>
                    <a:pt x="882" y="60"/>
                  </a:lnTo>
                  <a:lnTo>
                    <a:pt x="856" y="48"/>
                  </a:lnTo>
                  <a:lnTo>
                    <a:pt x="828" y="38"/>
                  </a:lnTo>
                  <a:lnTo>
                    <a:pt x="798" y="28"/>
                  </a:lnTo>
                  <a:lnTo>
                    <a:pt x="770" y="20"/>
                  </a:lnTo>
                  <a:lnTo>
                    <a:pt x="740" y="12"/>
                  </a:lnTo>
                  <a:lnTo>
                    <a:pt x="710" y="8"/>
                  </a:lnTo>
                  <a:lnTo>
                    <a:pt x="678" y="4"/>
                  </a:lnTo>
                  <a:lnTo>
                    <a:pt x="648" y="0"/>
                  </a:lnTo>
                  <a:lnTo>
                    <a:pt x="616" y="0"/>
                  </a:lnTo>
                  <a:lnTo>
                    <a:pt x="584" y="0"/>
                  </a:lnTo>
                  <a:lnTo>
                    <a:pt x="554" y="4"/>
                  </a:lnTo>
                  <a:lnTo>
                    <a:pt x="522" y="8"/>
                  </a:lnTo>
                  <a:lnTo>
                    <a:pt x="492" y="12"/>
                  </a:lnTo>
                  <a:lnTo>
                    <a:pt x="462" y="20"/>
                  </a:lnTo>
                  <a:lnTo>
                    <a:pt x="434" y="28"/>
                  </a:lnTo>
                  <a:lnTo>
                    <a:pt x="404" y="38"/>
                  </a:lnTo>
                  <a:lnTo>
                    <a:pt x="376" y="48"/>
                  </a:lnTo>
                  <a:lnTo>
                    <a:pt x="350" y="60"/>
                  </a:lnTo>
                  <a:lnTo>
                    <a:pt x="322" y="74"/>
                  </a:lnTo>
                  <a:lnTo>
                    <a:pt x="296" y="90"/>
                  </a:lnTo>
                  <a:lnTo>
                    <a:pt x="272" y="106"/>
                  </a:lnTo>
                  <a:lnTo>
                    <a:pt x="248" y="122"/>
                  </a:lnTo>
                  <a:lnTo>
                    <a:pt x="224" y="140"/>
                  </a:lnTo>
                  <a:lnTo>
                    <a:pt x="202" y="160"/>
                  </a:lnTo>
                  <a:lnTo>
                    <a:pt x="180" y="180"/>
                  </a:lnTo>
                  <a:lnTo>
                    <a:pt x="160" y="202"/>
                  </a:lnTo>
                  <a:lnTo>
                    <a:pt x="140" y="224"/>
                  </a:lnTo>
                  <a:lnTo>
                    <a:pt x="122" y="248"/>
                  </a:lnTo>
                  <a:lnTo>
                    <a:pt x="106" y="272"/>
                  </a:lnTo>
                  <a:lnTo>
                    <a:pt x="90" y="296"/>
                  </a:lnTo>
                  <a:lnTo>
                    <a:pt x="74" y="322"/>
                  </a:lnTo>
                  <a:lnTo>
                    <a:pt x="60" y="350"/>
                  </a:lnTo>
                  <a:lnTo>
                    <a:pt x="48" y="376"/>
                  </a:lnTo>
                  <a:lnTo>
                    <a:pt x="38" y="404"/>
                  </a:lnTo>
                  <a:lnTo>
                    <a:pt x="28" y="434"/>
                  </a:lnTo>
                  <a:lnTo>
                    <a:pt x="20" y="462"/>
                  </a:lnTo>
                  <a:lnTo>
                    <a:pt x="12" y="492"/>
                  </a:lnTo>
                  <a:lnTo>
                    <a:pt x="8" y="522"/>
                  </a:lnTo>
                  <a:lnTo>
                    <a:pt x="4" y="554"/>
                  </a:lnTo>
                  <a:lnTo>
                    <a:pt x="0" y="584"/>
                  </a:lnTo>
                  <a:lnTo>
                    <a:pt x="0" y="616"/>
                  </a:lnTo>
                  <a:close/>
                  <a:moveTo>
                    <a:pt x="80" y="616"/>
                  </a:moveTo>
                  <a:lnTo>
                    <a:pt x="80" y="616"/>
                  </a:lnTo>
                  <a:lnTo>
                    <a:pt x="80" y="588"/>
                  </a:lnTo>
                  <a:lnTo>
                    <a:pt x="82" y="562"/>
                  </a:lnTo>
                  <a:lnTo>
                    <a:pt x="86" y="534"/>
                  </a:lnTo>
                  <a:lnTo>
                    <a:pt x="90" y="508"/>
                  </a:lnTo>
                  <a:lnTo>
                    <a:pt x="96" y="482"/>
                  </a:lnTo>
                  <a:lnTo>
                    <a:pt x="104" y="456"/>
                  </a:lnTo>
                  <a:lnTo>
                    <a:pt x="112" y="432"/>
                  </a:lnTo>
                  <a:lnTo>
                    <a:pt x="122" y="408"/>
                  </a:lnTo>
                  <a:lnTo>
                    <a:pt x="132" y="384"/>
                  </a:lnTo>
                  <a:lnTo>
                    <a:pt x="144" y="360"/>
                  </a:lnTo>
                  <a:lnTo>
                    <a:pt x="158" y="338"/>
                  </a:lnTo>
                  <a:lnTo>
                    <a:pt x="172" y="316"/>
                  </a:lnTo>
                  <a:lnTo>
                    <a:pt x="186" y="296"/>
                  </a:lnTo>
                  <a:lnTo>
                    <a:pt x="202" y="276"/>
                  </a:lnTo>
                  <a:lnTo>
                    <a:pt x="220" y="256"/>
                  </a:lnTo>
                  <a:lnTo>
                    <a:pt x="238" y="238"/>
                  </a:lnTo>
                  <a:lnTo>
                    <a:pt x="256" y="220"/>
                  </a:lnTo>
                  <a:lnTo>
                    <a:pt x="276" y="202"/>
                  </a:lnTo>
                  <a:lnTo>
                    <a:pt x="296" y="186"/>
                  </a:lnTo>
                  <a:lnTo>
                    <a:pt x="316" y="172"/>
                  </a:lnTo>
                  <a:lnTo>
                    <a:pt x="338" y="158"/>
                  </a:lnTo>
                  <a:lnTo>
                    <a:pt x="360" y="144"/>
                  </a:lnTo>
                  <a:lnTo>
                    <a:pt x="384" y="132"/>
                  </a:lnTo>
                  <a:lnTo>
                    <a:pt x="408" y="122"/>
                  </a:lnTo>
                  <a:lnTo>
                    <a:pt x="432" y="112"/>
                  </a:lnTo>
                  <a:lnTo>
                    <a:pt x="456" y="104"/>
                  </a:lnTo>
                  <a:lnTo>
                    <a:pt x="482" y="96"/>
                  </a:lnTo>
                  <a:lnTo>
                    <a:pt x="508" y="90"/>
                  </a:lnTo>
                  <a:lnTo>
                    <a:pt x="534" y="86"/>
                  </a:lnTo>
                  <a:lnTo>
                    <a:pt x="562" y="82"/>
                  </a:lnTo>
                  <a:lnTo>
                    <a:pt x="588" y="80"/>
                  </a:lnTo>
                  <a:lnTo>
                    <a:pt x="616" y="80"/>
                  </a:lnTo>
                  <a:lnTo>
                    <a:pt x="644" y="80"/>
                  </a:lnTo>
                  <a:lnTo>
                    <a:pt x="670" y="82"/>
                  </a:lnTo>
                  <a:lnTo>
                    <a:pt x="698" y="86"/>
                  </a:lnTo>
                  <a:lnTo>
                    <a:pt x="724" y="90"/>
                  </a:lnTo>
                  <a:lnTo>
                    <a:pt x="750" y="96"/>
                  </a:lnTo>
                  <a:lnTo>
                    <a:pt x="776" y="104"/>
                  </a:lnTo>
                  <a:lnTo>
                    <a:pt x="800" y="112"/>
                  </a:lnTo>
                  <a:lnTo>
                    <a:pt x="824" y="122"/>
                  </a:lnTo>
                  <a:lnTo>
                    <a:pt x="848" y="132"/>
                  </a:lnTo>
                  <a:lnTo>
                    <a:pt x="872" y="144"/>
                  </a:lnTo>
                  <a:lnTo>
                    <a:pt x="894" y="158"/>
                  </a:lnTo>
                  <a:lnTo>
                    <a:pt x="916" y="172"/>
                  </a:lnTo>
                  <a:lnTo>
                    <a:pt x="936" y="186"/>
                  </a:lnTo>
                  <a:lnTo>
                    <a:pt x="956" y="202"/>
                  </a:lnTo>
                  <a:lnTo>
                    <a:pt x="976" y="220"/>
                  </a:lnTo>
                  <a:lnTo>
                    <a:pt x="994" y="238"/>
                  </a:lnTo>
                  <a:lnTo>
                    <a:pt x="1012" y="256"/>
                  </a:lnTo>
                  <a:lnTo>
                    <a:pt x="1030" y="276"/>
                  </a:lnTo>
                  <a:lnTo>
                    <a:pt x="1046" y="296"/>
                  </a:lnTo>
                  <a:lnTo>
                    <a:pt x="1060" y="316"/>
                  </a:lnTo>
                  <a:lnTo>
                    <a:pt x="1074" y="338"/>
                  </a:lnTo>
                  <a:lnTo>
                    <a:pt x="1088" y="360"/>
                  </a:lnTo>
                  <a:lnTo>
                    <a:pt x="1100" y="384"/>
                  </a:lnTo>
                  <a:lnTo>
                    <a:pt x="1110" y="408"/>
                  </a:lnTo>
                  <a:lnTo>
                    <a:pt x="1120" y="432"/>
                  </a:lnTo>
                  <a:lnTo>
                    <a:pt x="1128" y="456"/>
                  </a:lnTo>
                  <a:lnTo>
                    <a:pt x="1136" y="482"/>
                  </a:lnTo>
                  <a:lnTo>
                    <a:pt x="1142" y="508"/>
                  </a:lnTo>
                  <a:lnTo>
                    <a:pt x="1146" y="534"/>
                  </a:lnTo>
                  <a:lnTo>
                    <a:pt x="1150" y="562"/>
                  </a:lnTo>
                  <a:lnTo>
                    <a:pt x="1152" y="588"/>
                  </a:lnTo>
                  <a:lnTo>
                    <a:pt x="1152" y="616"/>
                  </a:lnTo>
                  <a:lnTo>
                    <a:pt x="1152" y="644"/>
                  </a:lnTo>
                  <a:lnTo>
                    <a:pt x="1150" y="670"/>
                  </a:lnTo>
                  <a:lnTo>
                    <a:pt x="1146" y="698"/>
                  </a:lnTo>
                  <a:lnTo>
                    <a:pt x="1142" y="724"/>
                  </a:lnTo>
                  <a:lnTo>
                    <a:pt x="1136" y="750"/>
                  </a:lnTo>
                  <a:lnTo>
                    <a:pt x="1128" y="776"/>
                  </a:lnTo>
                  <a:lnTo>
                    <a:pt x="1120" y="800"/>
                  </a:lnTo>
                  <a:lnTo>
                    <a:pt x="1110" y="824"/>
                  </a:lnTo>
                  <a:lnTo>
                    <a:pt x="1100" y="848"/>
                  </a:lnTo>
                  <a:lnTo>
                    <a:pt x="1088" y="872"/>
                  </a:lnTo>
                  <a:lnTo>
                    <a:pt x="1074" y="894"/>
                  </a:lnTo>
                  <a:lnTo>
                    <a:pt x="1060" y="916"/>
                  </a:lnTo>
                  <a:lnTo>
                    <a:pt x="1046" y="936"/>
                  </a:lnTo>
                  <a:lnTo>
                    <a:pt x="1030" y="956"/>
                  </a:lnTo>
                  <a:lnTo>
                    <a:pt x="1012" y="976"/>
                  </a:lnTo>
                  <a:lnTo>
                    <a:pt x="994" y="994"/>
                  </a:lnTo>
                  <a:lnTo>
                    <a:pt x="976" y="1012"/>
                  </a:lnTo>
                  <a:lnTo>
                    <a:pt x="956" y="1030"/>
                  </a:lnTo>
                  <a:lnTo>
                    <a:pt x="936" y="1046"/>
                  </a:lnTo>
                  <a:lnTo>
                    <a:pt x="916" y="1060"/>
                  </a:lnTo>
                  <a:lnTo>
                    <a:pt x="894" y="1074"/>
                  </a:lnTo>
                  <a:lnTo>
                    <a:pt x="872" y="1088"/>
                  </a:lnTo>
                  <a:lnTo>
                    <a:pt x="848" y="1100"/>
                  </a:lnTo>
                  <a:lnTo>
                    <a:pt x="824" y="1110"/>
                  </a:lnTo>
                  <a:lnTo>
                    <a:pt x="800" y="1120"/>
                  </a:lnTo>
                  <a:lnTo>
                    <a:pt x="776" y="1128"/>
                  </a:lnTo>
                  <a:lnTo>
                    <a:pt x="750" y="1136"/>
                  </a:lnTo>
                  <a:lnTo>
                    <a:pt x="724" y="1142"/>
                  </a:lnTo>
                  <a:lnTo>
                    <a:pt x="698" y="1146"/>
                  </a:lnTo>
                  <a:lnTo>
                    <a:pt x="670" y="1150"/>
                  </a:lnTo>
                  <a:lnTo>
                    <a:pt x="644" y="1152"/>
                  </a:lnTo>
                  <a:lnTo>
                    <a:pt x="616" y="1152"/>
                  </a:lnTo>
                  <a:lnTo>
                    <a:pt x="588" y="1152"/>
                  </a:lnTo>
                  <a:lnTo>
                    <a:pt x="562" y="1150"/>
                  </a:lnTo>
                  <a:lnTo>
                    <a:pt x="534" y="1146"/>
                  </a:lnTo>
                  <a:lnTo>
                    <a:pt x="508" y="1142"/>
                  </a:lnTo>
                  <a:lnTo>
                    <a:pt x="482" y="1136"/>
                  </a:lnTo>
                  <a:lnTo>
                    <a:pt x="456" y="1128"/>
                  </a:lnTo>
                  <a:lnTo>
                    <a:pt x="432" y="1120"/>
                  </a:lnTo>
                  <a:lnTo>
                    <a:pt x="408" y="1110"/>
                  </a:lnTo>
                  <a:lnTo>
                    <a:pt x="384" y="1100"/>
                  </a:lnTo>
                  <a:lnTo>
                    <a:pt x="360" y="1088"/>
                  </a:lnTo>
                  <a:lnTo>
                    <a:pt x="338" y="1074"/>
                  </a:lnTo>
                  <a:lnTo>
                    <a:pt x="316" y="1060"/>
                  </a:lnTo>
                  <a:lnTo>
                    <a:pt x="296" y="1046"/>
                  </a:lnTo>
                  <a:lnTo>
                    <a:pt x="276" y="1030"/>
                  </a:lnTo>
                  <a:lnTo>
                    <a:pt x="256" y="1012"/>
                  </a:lnTo>
                  <a:lnTo>
                    <a:pt x="238" y="994"/>
                  </a:lnTo>
                  <a:lnTo>
                    <a:pt x="220" y="976"/>
                  </a:lnTo>
                  <a:lnTo>
                    <a:pt x="202" y="956"/>
                  </a:lnTo>
                  <a:lnTo>
                    <a:pt x="186" y="936"/>
                  </a:lnTo>
                  <a:lnTo>
                    <a:pt x="172" y="916"/>
                  </a:lnTo>
                  <a:lnTo>
                    <a:pt x="158" y="894"/>
                  </a:lnTo>
                  <a:lnTo>
                    <a:pt x="144" y="872"/>
                  </a:lnTo>
                  <a:lnTo>
                    <a:pt x="132" y="848"/>
                  </a:lnTo>
                  <a:lnTo>
                    <a:pt x="122" y="824"/>
                  </a:lnTo>
                  <a:lnTo>
                    <a:pt x="112" y="800"/>
                  </a:lnTo>
                  <a:lnTo>
                    <a:pt x="104" y="776"/>
                  </a:lnTo>
                  <a:lnTo>
                    <a:pt x="96" y="750"/>
                  </a:lnTo>
                  <a:lnTo>
                    <a:pt x="90" y="724"/>
                  </a:lnTo>
                  <a:lnTo>
                    <a:pt x="86" y="698"/>
                  </a:lnTo>
                  <a:lnTo>
                    <a:pt x="82" y="670"/>
                  </a:lnTo>
                  <a:lnTo>
                    <a:pt x="80" y="644"/>
                  </a:lnTo>
                  <a:lnTo>
                    <a:pt x="80" y="616"/>
                  </a:lnTo>
                  <a:close/>
                </a:path>
              </a:pathLst>
            </a:custGeom>
            <a:solidFill>
              <a:srgbClr val="ffffff">
                <a:alpha val="1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grpSp>
        <p:nvGrpSpPr>
          <p:cNvPr id="758" name="Group 7"/>
          <p:cNvGrpSpPr/>
          <p:nvPr/>
        </p:nvGrpSpPr>
        <p:grpSpPr>
          <a:xfrm>
            <a:off x="2377440" y="1603440"/>
            <a:ext cx="3151440" cy="3273480"/>
            <a:chOff x="2377440" y="1603440"/>
            <a:chExt cx="3151440" cy="3273480"/>
          </a:xfrm>
        </p:grpSpPr>
        <p:pic>
          <p:nvPicPr>
            <p:cNvPr id="759" name="AutoShape 53" descr=""/>
            <p:cNvPicPr/>
            <p:nvPr/>
          </p:nvPicPr>
          <p:blipFill>
            <a:blip r:embed="rId1"/>
            <a:stretch/>
          </p:blipFill>
          <p:spPr>
            <a:xfrm>
              <a:off x="2377440" y="1603440"/>
              <a:ext cx="3151440" cy="3273480"/>
            </a:xfrm>
            <a:prstGeom prst="rect">
              <a:avLst/>
            </a:prstGeom>
            <a:ln w="0">
              <a:noFill/>
            </a:ln>
          </p:spPr>
        </p:pic>
        <p:sp>
          <p:nvSpPr>
            <p:cNvPr id="760" name="Text Box 9"/>
            <p:cNvSpPr/>
            <p:nvPr/>
          </p:nvSpPr>
          <p:spPr>
            <a:xfrm rot="18900000">
              <a:off x="2266920" y="3038400"/>
              <a:ext cx="3179520" cy="590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61" name="Text Box 73"/>
          <p:cNvSpPr/>
          <p:nvPr/>
        </p:nvSpPr>
        <p:spPr>
          <a:xfrm>
            <a:off x="5367240" y="1954080"/>
            <a:ext cx="3203640" cy="3289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Visual Appealing</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Captivate your viewing audience - PowerPoint Templates &amp; Backgrounds, Sleek Diagram &amp; Charts For Your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Animation</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Dynamic look to your presentation Animation PowerPoint Templates &amp; Backgrounds for Your Impressive Presentation</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4517"/>
                </a:solidFill>
                <a:latin typeface="Arial Black"/>
              </a:rPr>
              <a:t>Easy Search</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a:rPr>
              <a:t>Our easy to use and functional search engine helps you locate the right templates quickly saving you time</a:t>
            </a:r>
            <a:endParaRPr b="0" lang="en-US" sz="1200" spc="-1" strike="noStrike">
              <a:solidFill>
                <a:srgbClr val="000000"/>
              </a:solidFill>
              <a:latin typeface="Gulim"/>
            </a:endParaRPr>
          </a:p>
        </p:txBody>
      </p:sp>
      <p:sp>
        <p:nvSpPr>
          <p:cNvPr id="762" name="Text Box 74"/>
          <p:cNvSpPr/>
          <p:nvPr/>
        </p:nvSpPr>
        <p:spPr>
          <a:xfrm>
            <a:off x="2087640" y="5661000"/>
            <a:ext cx="334800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74517"/>
                </a:solidFill>
                <a:latin typeface="Arial Black"/>
              </a:rPr>
              <a:t>To offer you what you want, when you want</a:t>
            </a:r>
            <a:endParaRPr b="0" lang="en-US" sz="1000" spc="-1" strike="noStrike">
              <a:solidFill>
                <a:srgbClr val="000000"/>
              </a:solidFill>
              <a:latin typeface="Gulim"/>
            </a:endParaRPr>
          </a:p>
        </p:txBody>
      </p:sp>
      <p:grpSp>
        <p:nvGrpSpPr>
          <p:cNvPr id="763" name="Group 12"/>
          <p:cNvGrpSpPr/>
          <p:nvPr/>
        </p:nvGrpSpPr>
        <p:grpSpPr>
          <a:xfrm>
            <a:off x="-3425400" y="615240"/>
            <a:ext cx="9876240" cy="9876240"/>
            <a:chOff x="-3425400" y="615240"/>
            <a:chExt cx="9876240" cy="9876240"/>
          </a:xfrm>
        </p:grpSpPr>
        <p:sp>
          <p:nvSpPr>
            <p:cNvPr id="764" name="Text Box 55"/>
            <p:cNvSpPr/>
            <p:nvPr/>
          </p:nvSpPr>
          <p:spPr>
            <a:xfrm>
              <a:off x="593280" y="2159280"/>
              <a:ext cx="78732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Clarity &amp;</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Impact</a:t>
              </a:r>
              <a:endParaRPr b="0" lang="en-US" sz="1200" spc="-1" strike="noStrike">
                <a:solidFill>
                  <a:srgbClr val="000000"/>
                </a:solidFill>
                <a:latin typeface="Gulim"/>
              </a:endParaRPr>
            </a:p>
          </p:txBody>
        </p:sp>
        <p:sp>
          <p:nvSpPr>
            <p:cNvPr id="765" name="Text Box 56"/>
            <p:cNvSpPr/>
            <p:nvPr/>
          </p:nvSpPr>
          <p:spPr>
            <a:xfrm>
              <a:off x="561600" y="2779920"/>
              <a:ext cx="8420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Premium</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Design</a:t>
              </a:r>
              <a:endParaRPr b="0" lang="en-US" sz="1200" spc="-1" strike="noStrike">
                <a:solidFill>
                  <a:srgbClr val="000000"/>
                </a:solidFill>
                <a:latin typeface="Gulim"/>
              </a:endParaRPr>
            </a:p>
          </p:txBody>
        </p:sp>
        <p:sp>
          <p:nvSpPr>
            <p:cNvPr id="766" name="Text Box 57"/>
            <p:cNvSpPr/>
            <p:nvPr/>
          </p:nvSpPr>
          <p:spPr>
            <a:xfrm>
              <a:off x="772560" y="3392640"/>
              <a:ext cx="633240" cy="45900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Subtle</a:t>
              </a:r>
              <a:endParaRPr b="0" lang="en-US" sz="12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74517"/>
                  </a:solidFill>
                  <a:latin typeface="Arial Black"/>
                </a:rPr>
                <a:t>Touch</a:t>
              </a:r>
              <a:endParaRPr b="0" lang="en-US" sz="1200" spc="-1" strike="noStrike">
                <a:solidFill>
                  <a:srgbClr val="000000"/>
                </a:solidFill>
                <a:latin typeface="Gulim"/>
              </a:endParaRPr>
            </a:p>
          </p:txBody>
        </p:sp>
        <p:sp>
          <p:nvSpPr>
            <p:cNvPr id="767" name="Text Box 58"/>
            <p:cNvSpPr/>
            <p:nvPr/>
          </p:nvSpPr>
          <p:spPr>
            <a:xfrm>
              <a:off x="549720" y="4545360"/>
              <a:ext cx="849600" cy="4287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4517"/>
                  </a:solidFill>
                  <a:latin typeface="Arial Black"/>
                </a:rPr>
                <a:t>Visual</a:t>
              </a:r>
              <a:endParaRPr b="0" lang="en-US" sz="1100" spc="-1" strike="noStrike">
                <a:solidFill>
                  <a:srgbClr val="000000"/>
                </a:solidFill>
                <a:latin typeface="Gulim"/>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374517"/>
                  </a:solidFill>
                  <a:latin typeface="Arial Black"/>
                </a:rPr>
                <a:t>Appealing</a:t>
              </a:r>
              <a:endParaRPr b="0" lang="en-US" sz="1100" spc="-1" strike="noStrike">
                <a:solidFill>
                  <a:srgbClr val="000000"/>
                </a:solidFill>
                <a:latin typeface="Gulim"/>
              </a:endParaRPr>
            </a:p>
          </p:txBody>
        </p:sp>
        <p:grpSp>
          <p:nvGrpSpPr>
            <p:cNvPr id="768" name="Group 17"/>
            <p:cNvGrpSpPr/>
            <p:nvPr/>
          </p:nvGrpSpPr>
          <p:grpSpPr>
            <a:xfrm>
              <a:off x="1433520" y="3834000"/>
              <a:ext cx="1973880" cy="1981080"/>
              <a:chOff x="1433520" y="3834000"/>
              <a:chExt cx="1973880" cy="1981080"/>
            </a:xfrm>
          </p:grpSpPr>
          <p:pic>
            <p:nvPicPr>
              <p:cNvPr id="769" name="Freeform 59" descr=""/>
              <p:cNvPicPr/>
              <p:nvPr/>
            </p:nvPicPr>
            <p:blipFill>
              <a:blip r:embed="rId2"/>
              <a:stretch/>
            </p:blipFill>
            <p:spPr>
              <a:xfrm>
                <a:off x="1433520" y="3834000"/>
                <a:ext cx="1973880" cy="1981080"/>
              </a:xfrm>
              <a:prstGeom prst="rect">
                <a:avLst/>
              </a:prstGeom>
              <a:ln w="0">
                <a:noFill/>
              </a:ln>
            </p:spPr>
          </p:pic>
          <p:sp>
            <p:nvSpPr>
              <p:cNvPr id="770" name="Text Box 19"/>
              <p:cNvSpPr/>
              <p:nvPr/>
            </p:nvSpPr>
            <p:spPr>
              <a:xfrm>
                <a:off x="1513800" y="3906360"/>
                <a:ext cx="1645200" cy="164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771" name="Oval 60"/>
            <p:cNvSpPr/>
            <p:nvPr/>
          </p:nvSpPr>
          <p:spPr>
            <a:xfrm>
              <a:off x="1620720" y="4040280"/>
              <a:ext cx="355320" cy="352440"/>
            </a:xfrm>
            <a:prstGeom prst="ellipse">
              <a:avLst/>
            </a:prstGeom>
            <a:gradFill rotWithShape="0">
              <a:gsLst>
                <a:gs pos="0">
                  <a:srgbClr val="ffffff"/>
                </a:gs>
                <a:gs pos="100000">
                  <a:srgbClr val="67abf5">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72" name="Freeform 61"/>
            <p:cNvSpPr/>
            <p:nvPr/>
          </p:nvSpPr>
          <p:spPr>
            <a:xfrm>
              <a:off x="1514520" y="3953160"/>
              <a:ext cx="1118520" cy="482400"/>
            </a:xfrm>
            <a:custGeom>
              <a:avLst/>
              <a:gdLst>
                <a:gd name="textAreaLeft" fmla="*/ 0 w 1118520"/>
                <a:gd name="textAreaRight" fmla="*/ 1118880 w 1118520"/>
                <a:gd name="textAreaTop" fmla="*/ 0 h 482400"/>
                <a:gd name="textAreaBottom" fmla="*/ 482760 h 48240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3" name="AutoShape 62"/>
            <p:cNvSpPr/>
            <p:nvPr/>
          </p:nvSpPr>
          <p:spPr>
            <a:xfrm rot="2700000">
              <a:off x="-729720" y="3310560"/>
              <a:ext cx="4481280" cy="4479840"/>
            </a:xfrm>
            <a:custGeom>
              <a:avLst/>
              <a:gdLst>
                <a:gd name="textAreaLeft" fmla="*/ 345960 w 4481280"/>
                <a:gd name="textAreaRight" fmla="*/ 4135320 w 4481280"/>
                <a:gd name="textAreaTop" fmla="*/ 0 h 4479840"/>
                <a:gd name="textAreaBottom" fmla="*/ 1339200 h 4479840"/>
              </a:gdLst>
              <a:ahLst/>
              <a:rect l="textAreaLeft" t="textAreaTop" r="textAreaRight" b="textAreaBottom"/>
              <a:pathLst>
                <a:path w="21600" h="21600">
                  <a:moveTo>
                    <a:pt x="5024" y="5073"/>
                  </a:moveTo>
                  <a:cubicBezTo>
                    <a:pt x="6551" y="3533"/>
                    <a:pt x="8630" y="2666"/>
                    <a:pt x="10800" y="2667"/>
                  </a:cubicBezTo>
                  <a:cubicBezTo>
                    <a:pt x="12969" y="2667"/>
                    <a:pt x="15048" y="3533"/>
                    <a:pt x="16575" y="5073"/>
                  </a:cubicBezTo>
                  <a:lnTo>
                    <a:pt x="18469" y="3195"/>
                  </a:lnTo>
                  <a:cubicBezTo>
                    <a:pt x="16441" y="1150"/>
                    <a:pt x="13680" y="-1"/>
                    <a:pt x="10799" y="0"/>
                  </a:cubicBezTo>
                  <a:cubicBezTo>
                    <a:pt x="7919" y="0"/>
                    <a:pt x="5158" y="1150"/>
                    <a:pt x="3130" y="3195"/>
                  </a:cubicBezTo>
                  <a:lnTo>
                    <a:pt x="5024" y="5073"/>
                  </a:lnTo>
                  <a:close/>
                </a:path>
              </a:pathLst>
            </a:custGeom>
            <a:solidFill>
              <a:srgbClr val="ffffff">
                <a:alpha val="2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774" name="AutoShape 63"/>
            <p:cNvSpPr/>
            <p:nvPr/>
          </p:nvSpPr>
          <p:spPr>
            <a:xfrm rot="2700000">
              <a:off x="-1347840" y="2693880"/>
              <a:ext cx="5727960" cy="5725080"/>
            </a:xfrm>
            <a:custGeom>
              <a:avLst/>
              <a:gdLst>
                <a:gd name="textAreaLeft" fmla="*/ 442800 w 5727960"/>
                <a:gd name="textAreaRight" fmla="*/ 5285160 w 5727960"/>
                <a:gd name="textAreaTop" fmla="*/ 0 h 5725080"/>
                <a:gd name="textAreaBottom" fmla="*/ 1645200 h 5725080"/>
              </a:gdLst>
              <a:ahLst/>
              <a:rect l="textAreaLeft" t="textAreaTop" r="textAreaRight" b="textAreaBottom"/>
              <a:pathLst>
                <a:path w="21600" h="21600">
                  <a:moveTo>
                    <a:pt x="4689" y="4743"/>
                  </a:moveTo>
                  <a:cubicBezTo>
                    <a:pt x="6304" y="3113"/>
                    <a:pt x="8504" y="2195"/>
                    <a:pt x="10800" y="2196"/>
                  </a:cubicBezTo>
                  <a:cubicBezTo>
                    <a:pt x="13095" y="2196"/>
                    <a:pt x="15295" y="3113"/>
                    <a:pt x="16910" y="4743"/>
                  </a:cubicBezTo>
                  <a:lnTo>
                    <a:pt x="18470" y="3197"/>
                  </a:lnTo>
                  <a:cubicBezTo>
                    <a:pt x="16442" y="1151"/>
                    <a:pt x="13680" y="-1"/>
                    <a:pt x="10799" y="0"/>
                  </a:cubicBezTo>
                  <a:cubicBezTo>
                    <a:pt x="7919" y="0"/>
                    <a:pt x="5157" y="1151"/>
                    <a:pt x="3129" y="3197"/>
                  </a:cubicBezTo>
                  <a:lnTo>
                    <a:pt x="4689" y="4743"/>
                  </a:lnTo>
                  <a:close/>
                </a:path>
              </a:pathLst>
            </a:custGeom>
            <a:solidFill>
              <a:srgbClr val="ffffff">
                <a:alpha val="4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775" name="AutoShape 64"/>
            <p:cNvSpPr/>
            <p:nvPr/>
          </p:nvSpPr>
          <p:spPr>
            <a:xfrm rot="2700000">
              <a:off x="-1979640" y="2062080"/>
              <a:ext cx="6985080" cy="6982200"/>
            </a:xfrm>
            <a:custGeom>
              <a:avLst/>
              <a:gdLst>
                <a:gd name="textAreaLeft" fmla="*/ 546120 w 6985080"/>
                <a:gd name="textAreaRight" fmla="*/ 6438960 w 6985080"/>
                <a:gd name="textAreaTop" fmla="*/ 0 h 6982200"/>
                <a:gd name="textAreaBottom" fmla="*/ 1931040 h 6982200"/>
              </a:gdLst>
              <a:ahLst/>
              <a:rect l="textAreaLeft" t="textAreaTop" r="textAreaRight" b="textAreaBottom"/>
              <a:pathLst>
                <a:path w="21600" h="21600">
                  <a:moveTo>
                    <a:pt x="4430" y="4449"/>
                  </a:moveTo>
                  <a:cubicBezTo>
                    <a:pt x="6117" y="2756"/>
                    <a:pt x="8409" y="1804"/>
                    <a:pt x="10800" y="1805"/>
                  </a:cubicBezTo>
                  <a:cubicBezTo>
                    <a:pt x="13190" y="1805"/>
                    <a:pt x="15482" y="2756"/>
                    <a:pt x="17169" y="4449"/>
                  </a:cubicBezTo>
                  <a:lnTo>
                    <a:pt x="18448" y="3174"/>
                  </a:lnTo>
                  <a:cubicBezTo>
                    <a:pt x="16421" y="1142"/>
                    <a:pt x="13669" y="-1"/>
                    <a:pt x="10799" y="0"/>
                  </a:cubicBezTo>
                  <a:cubicBezTo>
                    <a:pt x="7930" y="0"/>
                    <a:pt x="5178" y="1142"/>
                    <a:pt x="3151" y="3174"/>
                  </a:cubicBezTo>
                  <a:lnTo>
                    <a:pt x="4430" y="4449"/>
                  </a:lnTo>
                  <a:close/>
                </a:path>
              </a:pathLst>
            </a:custGeom>
            <a:solidFill>
              <a:srgbClr val="ffffff">
                <a:alpha val="60000"/>
              </a:srgbClr>
            </a:solidFill>
            <a:ln w="0">
              <a:noFill/>
            </a:ln>
          </p:spPr>
          <p:style>
            <a:lnRef idx="0"/>
            <a:fillRef idx="0"/>
            <a:effectRef idx="0"/>
            <a:fontRef idx="minor"/>
          </p:style>
          <p:txBody>
            <a:bodyPr lIns="90000" rIns="90000" tIns="46800" bIns="46800" anchor="t" rot="10800000">
              <a:noAutofit/>
            </a:bodyPr>
            <a:p>
              <a:endParaRPr b="0" lang="en-US" sz="1800" spc="-1" strike="noStrike">
                <a:solidFill>
                  <a:srgbClr val="000000"/>
                </a:solidFill>
                <a:latin typeface="Gulim"/>
              </a:endParaRPr>
            </a:p>
          </p:txBody>
        </p:sp>
        <p:sp>
          <p:nvSpPr>
            <p:cNvPr id="776" name="Freeform 65"/>
            <p:cNvSpPr/>
            <p:nvPr/>
          </p:nvSpPr>
          <p:spPr>
            <a:xfrm>
              <a:off x="1514520" y="2097360"/>
              <a:ext cx="2502360" cy="1077840"/>
            </a:xfrm>
            <a:custGeom>
              <a:avLst/>
              <a:gdLst>
                <a:gd name="textAreaLeft" fmla="*/ 0 w 2502360"/>
                <a:gd name="textAreaRight" fmla="*/ 2502720 w 2502360"/>
                <a:gd name="textAreaTop" fmla="*/ 0 h 1077840"/>
                <a:gd name="textAreaBottom" fmla="*/ 1078200 h 107784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7" name="Freeform 66"/>
            <p:cNvSpPr/>
            <p:nvPr/>
          </p:nvSpPr>
          <p:spPr>
            <a:xfrm>
              <a:off x="1514520" y="2721240"/>
              <a:ext cx="2008800" cy="865080"/>
            </a:xfrm>
            <a:custGeom>
              <a:avLst/>
              <a:gdLst>
                <a:gd name="textAreaLeft" fmla="*/ 0 w 2008800"/>
                <a:gd name="textAreaRight" fmla="*/ 2009160 w 2008800"/>
                <a:gd name="textAreaTop" fmla="*/ 0 h 865080"/>
                <a:gd name="textAreaBottom" fmla="*/ 865440 h 86508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8" name="Freeform 67"/>
            <p:cNvSpPr/>
            <p:nvPr/>
          </p:nvSpPr>
          <p:spPr>
            <a:xfrm>
              <a:off x="1514520" y="3346560"/>
              <a:ext cx="1580400" cy="681120"/>
            </a:xfrm>
            <a:custGeom>
              <a:avLst/>
              <a:gdLst>
                <a:gd name="textAreaLeft" fmla="*/ 0 w 1580400"/>
                <a:gd name="textAreaRight" fmla="*/ 1580760 w 1580400"/>
                <a:gd name="textAreaTop" fmla="*/ 0 h 681120"/>
                <a:gd name="textAreaBottom" fmla="*/ 681480 h 681120"/>
              </a:gdLst>
              <a:ahLst/>
              <a:rect l="textAreaLeft" t="textAreaTop" r="textAreaRight" b="textAreaBottom"/>
              <a:pathLst>
                <a:path w="836" h="360">
                  <a:moveTo>
                    <a:pt x="836" y="360"/>
                  </a:moveTo>
                  <a:lnTo>
                    <a:pt x="836" y="360"/>
                  </a:lnTo>
                  <a:lnTo>
                    <a:pt x="796" y="320"/>
                  </a:lnTo>
                  <a:lnTo>
                    <a:pt x="754" y="280"/>
                  </a:lnTo>
                  <a:lnTo>
                    <a:pt x="710" y="244"/>
                  </a:lnTo>
                  <a:lnTo>
                    <a:pt x="664" y="210"/>
                  </a:lnTo>
                  <a:lnTo>
                    <a:pt x="616" y="178"/>
                  </a:lnTo>
                  <a:lnTo>
                    <a:pt x="566" y="148"/>
                  </a:lnTo>
                  <a:lnTo>
                    <a:pt x="516" y="122"/>
                  </a:lnTo>
                  <a:lnTo>
                    <a:pt x="464" y="96"/>
                  </a:lnTo>
                  <a:lnTo>
                    <a:pt x="410" y="74"/>
                  </a:lnTo>
                  <a:lnTo>
                    <a:pt x="354" y="56"/>
                  </a:lnTo>
                  <a:lnTo>
                    <a:pt x="298" y="38"/>
                  </a:lnTo>
                  <a:lnTo>
                    <a:pt x="240" y="26"/>
                  </a:lnTo>
                  <a:lnTo>
                    <a:pt x="182" y="14"/>
                  </a:lnTo>
                  <a:lnTo>
                    <a:pt x="122" y="6"/>
                  </a:lnTo>
                  <a:lnTo>
                    <a:pt x="62" y="2"/>
                  </a:lnTo>
                  <a:lnTo>
                    <a:pt x="0" y="0"/>
                  </a:lnTo>
                  <a:lnTo>
                    <a:pt x="0" y="360"/>
                  </a:lnTo>
                  <a:lnTo>
                    <a:pt x="836" y="360"/>
                  </a:lnTo>
                  <a:close/>
                </a:path>
              </a:pathLst>
            </a:cu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9" name="Freeform 68"/>
            <p:cNvSpPr/>
            <p:nvPr/>
          </p:nvSpPr>
          <p:spPr>
            <a:xfrm>
              <a:off x="1514520" y="1521000"/>
              <a:ext cx="4068360" cy="4033800"/>
            </a:xfrm>
            <a:custGeom>
              <a:avLst/>
              <a:gdLst>
                <a:gd name="textAreaLeft" fmla="*/ 0 w 4068360"/>
                <a:gd name="textAreaRight" fmla="*/ 4068720 w 4068360"/>
                <a:gd name="textAreaTop" fmla="*/ 0 h 4033800"/>
                <a:gd name="textAreaBottom" fmla="*/ 4034160 h 4033800"/>
              </a:gdLst>
              <a:ahLst/>
              <a:rect l="textAreaLeft" t="textAreaTop" r="textAreaRight" b="textAreaBottom"/>
              <a:pathLst>
                <a:path w="3016" h="2767">
                  <a:moveTo>
                    <a:pt x="0" y="0"/>
                  </a:moveTo>
                  <a:lnTo>
                    <a:pt x="0" y="2767"/>
                  </a:lnTo>
                  <a:lnTo>
                    <a:pt x="3016" y="2767"/>
                  </a:lnTo>
                </a:path>
              </a:pathLst>
            </a:custGeom>
            <a:noFill/>
            <a:ln cap="rnd" w="38160">
              <a:solidFill>
                <a:srgbClr val="374517"/>
              </a:solidFill>
              <a:custDash>
                <a:ds d="100000" sp="1000"/>
              </a:custDash>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80" name="WordArt 69"/>
            <p:cNvSpPr txBox="1"/>
            <p:nvPr/>
          </p:nvSpPr>
          <p:spPr>
            <a:xfrm rot="2700000">
              <a:off x="-502200" y="2644560"/>
              <a:ext cx="5332320" cy="4557600"/>
            </a:xfrm>
            <a:prstGeom prst="rect">
              <a:avLst/>
            </a:prstGeom>
          </p:spPr>
          <p:txBody>
            <a:bodyPr wrap="none" fromWordArt="1" lIns="90000" rIns="90000" tIns="46800" bIns="46800" anchor="t" anchorCtr="1">
              <a:prstTxWarp prst="textArchUp">
                <a:avLst>
                  <a:gd name="adj" fmla="val 1427971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Immense Visual Appeal</a:t>
              </a:r>
              <a:endParaRPr b="0" lang="en-US" sz="800" spc="1" strike="noStrike">
                <a:ln w="0">
                  <a:noFill/>
                </a:ln>
                <a:solidFill>
                  <a:srgbClr val="000000"/>
                </a:solidFill>
                <a:latin typeface="Arial Black"/>
                <a:ea typeface="Arial Black"/>
              </a:endParaRPr>
            </a:p>
          </p:txBody>
        </p:sp>
        <p:sp>
          <p:nvSpPr>
            <p:cNvPr id="781" name="WordArt 70"/>
            <p:cNvSpPr txBox="1"/>
            <p:nvPr/>
          </p:nvSpPr>
          <p:spPr>
            <a:xfrm rot="2700000">
              <a:off x="-553680" y="3112200"/>
              <a:ext cx="4632480" cy="4379760"/>
            </a:xfrm>
            <a:prstGeom prst="rect">
              <a:avLst/>
            </a:prstGeom>
          </p:spPr>
          <p:txBody>
            <a:bodyPr wrap="none" fromWordArt="1" lIns="90000" rIns="90000" tIns="46800" bIns="46800" anchor="t" anchorCtr="1">
              <a:prstTxWarp prst="textArchUp">
                <a:avLst>
                  <a:gd name="adj" fmla="val 1427971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ye-Catching Visual</a:t>
              </a:r>
              <a:endParaRPr b="0" lang="en-US" sz="800" spc="1" strike="noStrike">
                <a:ln w="0">
                  <a:noFill/>
                </a:ln>
                <a:solidFill>
                  <a:srgbClr val="000000"/>
                </a:solidFill>
                <a:latin typeface="Arial Black"/>
                <a:ea typeface="Arial Black"/>
              </a:endParaRPr>
            </a:p>
          </p:txBody>
        </p:sp>
        <p:sp>
          <p:nvSpPr>
            <p:cNvPr id="782" name="WordArt 71"/>
            <p:cNvSpPr txBox="1"/>
            <p:nvPr/>
          </p:nvSpPr>
          <p:spPr>
            <a:xfrm rot="2700000">
              <a:off x="260640" y="3806280"/>
              <a:ext cx="3324240" cy="2667600"/>
            </a:xfrm>
            <a:prstGeom prst="rect">
              <a:avLst/>
            </a:prstGeom>
          </p:spPr>
          <p:txBody>
            <a:bodyPr wrap="none" fromWordArt="1" lIns="90000" rIns="90000" tIns="46800" bIns="46800" anchor="t" anchorCtr="1">
              <a:prstTxWarp prst="textArchUp">
                <a:avLst>
                  <a:gd name="adj" fmla="val 1480307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Easy To Use</a:t>
              </a:r>
              <a:endParaRPr b="0" lang="en-US" sz="800" spc="1" strike="noStrike">
                <a:ln w="0">
                  <a:noFill/>
                </a:ln>
                <a:solidFill>
                  <a:srgbClr val="000000"/>
                </a:solidFill>
                <a:latin typeface="Arial Black"/>
                <a:ea typeface="Arial Black"/>
              </a:endParaRPr>
            </a:p>
          </p:txBody>
        </p:sp>
        <p:sp>
          <p:nvSpPr>
            <p:cNvPr id="783" name="WordArt 72"/>
            <p:cNvSpPr txBox="1"/>
            <p:nvPr/>
          </p:nvSpPr>
          <p:spPr>
            <a:xfrm rot="2700000">
              <a:off x="-332280" y="4037400"/>
              <a:ext cx="3162240" cy="3489480"/>
            </a:xfrm>
            <a:prstGeom prst="rect">
              <a:avLst/>
            </a:prstGeom>
          </p:spPr>
          <p:txBody>
            <a:bodyPr wrap="none" fromWordArt="1" lIns="90000" rIns="90000" tIns="46800" bIns="46800" anchor="t" anchorCtr="1">
              <a:prstTxWarp prst="textArchUp">
                <a:avLst>
                  <a:gd name="adj" fmla="val 1427971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ln w="0">
                    <a:noFill/>
                  </a:ln>
                  <a:solidFill>
                    <a:srgbClr val="000000"/>
                  </a:solidFill>
                  <a:latin typeface="Arial Black"/>
                </a:rPr>
                <a:t>Universal Design</a:t>
              </a:r>
              <a:endParaRPr b="0" lang="en-US" sz="800" spc="1" strike="noStrike">
                <a:ln w="0">
                  <a:noFill/>
                </a:ln>
                <a:solidFill>
                  <a:srgbClr val="000000"/>
                </a:solidFill>
                <a:latin typeface="Arial Black"/>
                <a:ea typeface="Arial Black"/>
              </a:endParaRPr>
            </a:p>
          </p:txBody>
        </p:sp>
      </p:grpSp>
      <p:sp>
        <p:nvSpPr>
          <p:cNvPr id="784"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
        <p:nvSpPr>
          <p:cNvPr id="786" name="Freeform 91"/>
          <p:cNvSpPr/>
          <p:nvPr/>
        </p:nvSpPr>
        <p:spPr>
          <a:xfrm>
            <a:off x="2984400" y="299412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7" name="Freeform 92"/>
          <p:cNvSpPr/>
          <p:nvPr/>
        </p:nvSpPr>
        <p:spPr>
          <a:xfrm>
            <a:off x="2365200" y="1890720"/>
            <a:ext cx="567000" cy="671400"/>
          </a:xfrm>
          <a:custGeom>
            <a:avLst/>
            <a:gdLst>
              <a:gd name="textAreaLeft" fmla="*/ 0 w 567000"/>
              <a:gd name="textAreaRight" fmla="*/ 567360 w 567000"/>
              <a:gd name="textAreaTop" fmla="*/ 0 h 671400"/>
              <a:gd name="textAreaBottom" fmla="*/ 671760 h 67140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8" name="Freeform 93"/>
          <p:cNvSpPr/>
          <p:nvPr/>
        </p:nvSpPr>
        <p:spPr>
          <a:xfrm>
            <a:off x="2676600" y="119700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89" name="Freeform 94"/>
          <p:cNvSpPr/>
          <p:nvPr/>
        </p:nvSpPr>
        <p:spPr>
          <a:xfrm>
            <a:off x="631800" y="2033640"/>
            <a:ext cx="2408400" cy="1679400"/>
          </a:xfrm>
          <a:custGeom>
            <a:avLst/>
            <a:gdLst>
              <a:gd name="textAreaLeft" fmla="*/ 0 w 2408400"/>
              <a:gd name="textAreaRight" fmla="*/ 2408760 w 2408400"/>
              <a:gd name="textAreaTop" fmla="*/ 0 h 1679400"/>
              <a:gd name="textAreaBottom" fmla="*/ 1679760 h 167940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0" name="Freeform 96"/>
          <p:cNvSpPr/>
          <p:nvPr/>
        </p:nvSpPr>
        <p:spPr>
          <a:xfrm>
            <a:off x="2984400" y="2995560"/>
            <a:ext cx="196920" cy="120600"/>
          </a:xfrm>
          <a:custGeom>
            <a:avLst/>
            <a:gdLst>
              <a:gd name="textAreaLeft" fmla="*/ 0 w 196920"/>
              <a:gd name="textAreaRight" fmla="*/ 197280 w 196920"/>
              <a:gd name="textAreaTop" fmla="*/ 0 h 120600"/>
              <a:gd name="textAreaBottom" fmla="*/ 120960 h 120600"/>
            </a:gdLst>
            <a:ahLst/>
            <a:rect l="textAreaLeft" t="textAreaTop" r="textAreaRight" b="textAreaBottom"/>
            <a:pathLst>
              <a:path w="124" h="76">
                <a:moveTo>
                  <a:pt x="12" y="76"/>
                </a:moveTo>
                <a:lnTo>
                  <a:pt x="0" y="49"/>
                </a:lnTo>
                <a:lnTo>
                  <a:pt x="8" y="19"/>
                </a:lnTo>
                <a:lnTo>
                  <a:pt x="58" y="0"/>
                </a:lnTo>
                <a:lnTo>
                  <a:pt x="124" y="19"/>
                </a:lnTo>
                <a:lnTo>
                  <a:pt x="112" y="54"/>
                </a:lnTo>
                <a:lnTo>
                  <a:pt x="62" y="54"/>
                </a:lnTo>
                <a:lnTo>
                  <a:pt x="56" y="58"/>
                </a:lnTo>
                <a:lnTo>
                  <a:pt x="42" y="66"/>
                </a:lnTo>
                <a:lnTo>
                  <a:pt x="35" y="70"/>
                </a:lnTo>
                <a:lnTo>
                  <a:pt x="26" y="75"/>
                </a:lnTo>
                <a:lnTo>
                  <a:pt x="18" y="76"/>
                </a:lnTo>
                <a:lnTo>
                  <a:pt x="12" y="76"/>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1" name="Freeform 97"/>
          <p:cNvSpPr/>
          <p:nvPr/>
        </p:nvSpPr>
        <p:spPr>
          <a:xfrm>
            <a:off x="2365200" y="1892160"/>
            <a:ext cx="567000" cy="671760"/>
          </a:xfrm>
          <a:custGeom>
            <a:avLst/>
            <a:gdLst>
              <a:gd name="textAreaLeft" fmla="*/ 0 w 567000"/>
              <a:gd name="textAreaRight" fmla="*/ 567360 w 567000"/>
              <a:gd name="textAreaTop" fmla="*/ 0 h 671760"/>
              <a:gd name="textAreaBottom" fmla="*/ 672120 h 671760"/>
            </a:gdLst>
            <a:ahLst/>
            <a:rect l="textAreaLeft" t="textAreaTop" r="textAreaRight" b="textAreaBottom"/>
            <a:pathLst>
              <a:path w="357" h="423">
                <a:moveTo>
                  <a:pt x="261" y="423"/>
                </a:moveTo>
                <a:lnTo>
                  <a:pt x="234" y="389"/>
                </a:lnTo>
                <a:lnTo>
                  <a:pt x="231" y="362"/>
                </a:lnTo>
                <a:lnTo>
                  <a:pt x="181" y="339"/>
                </a:lnTo>
                <a:lnTo>
                  <a:pt x="142" y="301"/>
                </a:lnTo>
                <a:lnTo>
                  <a:pt x="131" y="279"/>
                </a:lnTo>
                <a:lnTo>
                  <a:pt x="173" y="262"/>
                </a:lnTo>
                <a:lnTo>
                  <a:pt x="188" y="205"/>
                </a:lnTo>
                <a:lnTo>
                  <a:pt x="176" y="140"/>
                </a:lnTo>
                <a:lnTo>
                  <a:pt x="104" y="148"/>
                </a:lnTo>
                <a:lnTo>
                  <a:pt x="47" y="125"/>
                </a:lnTo>
                <a:lnTo>
                  <a:pt x="0" y="68"/>
                </a:lnTo>
                <a:lnTo>
                  <a:pt x="24" y="26"/>
                </a:lnTo>
                <a:lnTo>
                  <a:pt x="62" y="95"/>
                </a:lnTo>
                <a:lnTo>
                  <a:pt x="60" y="92"/>
                </a:lnTo>
                <a:lnTo>
                  <a:pt x="59" y="84"/>
                </a:lnTo>
                <a:lnTo>
                  <a:pt x="59" y="81"/>
                </a:lnTo>
                <a:lnTo>
                  <a:pt x="60" y="78"/>
                </a:lnTo>
                <a:lnTo>
                  <a:pt x="62" y="77"/>
                </a:lnTo>
                <a:lnTo>
                  <a:pt x="66" y="75"/>
                </a:lnTo>
                <a:lnTo>
                  <a:pt x="68" y="75"/>
                </a:lnTo>
                <a:lnTo>
                  <a:pt x="69" y="72"/>
                </a:lnTo>
                <a:lnTo>
                  <a:pt x="69" y="65"/>
                </a:lnTo>
                <a:lnTo>
                  <a:pt x="68" y="54"/>
                </a:lnTo>
                <a:lnTo>
                  <a:pt x="66" y="42"/>
                </a:lnTo>
                <a:lnTo>
                  <a:pt x="60" y="21"/>
                </a:lnTo>
                <a:lnTo>
                  <a:pt x="59" y="11"/>
                </a:lnTo>
                <a:lnTo>
                  <a:pt x="63" y="8"/>
                </a:lnTo>
                <a:lnTo>
                  <a:pt x="74" y="3"/>
                </a:lnTo>
                <a:lnTo>
                  <a:pt x="80" y="1"/>
                </a:lnTo>
                <a:lnTo>
                  <a:pt x="86" y="0"/>
                </a:lnTo>
                <a:lnTo>
                  <a:pt x="90" y="3"/>
                </a:lnTo>
                <a:lnTo>
                  <a:pt x="92" y="6"/>
                </a:lnTo>
                <a:lnTo>
                  <a:pt x="93" y="14"/>
                </a:lnTo>
                <a:lnTo>
                  <a:pt x="93" y="23"/>
                </a:lnTo>
                <a:lnTo>
                  <a:pt x="92" y="41"/>
                </a:lnTo>
                <a:lnTo>
                  <a:pt x="93" y="50"/>
                </a:lnTo>
                <a:lnTo>
                  <a:pt x="98" y="57"/>
                </a:lnTo>
                <a:lnTo>
                  <a:pt x="101" y="60"/>
                </a:lnTo>
                <a:lnTo>
                  <a:pt x="106" y="62"/>
                </a:lnTo>
                <a:lnTo>
                  <a:pt x="110" y="63"/>
                </a:lnTo>
                <a:lnTo>
                  <a:pt x="116" y="63"/>
                </a:lnTo>
                <a:lnTo>
                  <a:pt x="127" y="63"/>
                </a:lnTo>
                <a:lnTo>
                  <a:pt x="137" y="62"/>
                </a:lnTo>
                <a:lnTo>
                  <a:pt x="145" y="59"/>
                </a:lnTo>
                <a:lnTo>
                  <a:pt x="151" y="56"/>
                </a:lnTo>
                <a:lnTo>
                  <a:pt x="160" y="51"/>
                </a:lnTo>
                <a:lnTo>
                  <a:pt x="161" y="48"/>
                </a:lnTo>
                <a:lnTo>
                  <a:pt x="246" y="71"/>
                </a:lnTo>
                <a:lnTo>
                  <a:pt x="250" y="77"/>
                </a:lnTo>
                <a:lnTo>
                  <a:pt x="261" y="89"/>
                </a:lnTo>
                <a:lnTo>
                  <a:pt x="267" y="98"/>
                </a:lnTo>
                <a:lnTo>
                  <a:pt x="271" y="107"/>
                </a:lnTo>
                <a:lnTo>
                  <a:pt x="274" y="118"/>
                </a:lnTo>
                <a:lnTo>
                  <a:pt x="276" y="130"/>
                </a:lnTo>
                <a:lnTo>
                  <a:pt x="279" y="181"/>
                </a:lnTo>
                <a:lnTo>
                  <a:pt x="280" y="209"/>
                </a:lnTo>
                <a:lnTo>
                  <a:pt x="338" y="220"/>
                </a:lnTo>
                <a:lnTo>
                  <a:pt x="357" y="286"/>
                </a:lnTo>
                <a:lnTo>
                  <a:pt x="326" y="294"/>
                </a:lnTo>
                <a:lnTo>
                  <a:pt x="307" y="279"/>
                </a:lnTo>
                <a:lnTo>
                  <a:pt x="280" y="267"/>
                </a:lnTo>
                <a:lnTo>
                  <a:pt x="280" y="274"/>
                </a:lnTo>
                <a:lnTo>
                  <a:pt x="280" y="291"/>
                </a:lnTo>
                <a:lnTo>
                  <a:pt x="282" y="298"/>
                </a:lnTo>
                <a:lnTo>
                  <a:pt x="283" y="307"/>
                </a:lnTo>
                <a:lnTo>
                  <a:pt x="286" y="313"/>
                </a:lnTo>
                <a:lnTo>
                  <a:pt x="289" y="315"/>
                </a:lnTo>
                <a:lnTo>
                  <a:pt x="291" y="316"/>
                </a:lnTo>
                <a:lnTo>
                  <a:pt x="301" y="318"/>
                </a:lnTo>
                <a:lnTo>
                  <a:pt x="304" y="319"/>
                </a:lnTo>
                <a:lnTo>
                  <a:pt x="307" y="322"/>
                </a:lnTo>
                <a:lnTo>
                  <a:pt x="309" y="325"/>
                </a:lnTo>
                <a:lnTo>
                  <a:pt x="310" y="331"/>
                </a:lnTo>
                <a:lnTo>
                  <a:pt x="310" y="351"/>
                </a:lnTo>
                <a:lnTo>
                  <a:pt x="310" y="363"/>
                </a:lnTo>
                <a:lnTo>
                  <a:pt x="307" y="372"/>
                </a:lnTo>
                <a:lnTo>
                  <a:pt x="304" y="380"/>
                </a:lnTo>
                <a:lnTo>
                  <a:pt x="301" y="384"/>
                </a:lnTo>
                <a:lnTo>
                  <a:pt x="294" y="392"/>
                </a:lnTo>
                <a:lnTo>
                  <a:pt x="291" y="393"/>
                </a:lnTo>
                <a:lnTo>
                  <a:pt x="291" y="423"/>
                </a:lnTo>
                <a:lnTo>
                  <a:pt x="261" y="423"/>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2" name="Freeform 98"/>
          <p:cNvSpPr/>
          <p:nvPr/>
        </p:nvSpPr>
        <p:spPr>
          <a:xfrm>
            <a:off x="2676600" y="1198440"/>
            <a:ext cx="1245960" cy="1428840"/>
          </a:xfrm>
          <a:custGeom>
            <a:avLst/>
            <a:gdLst>
              <a:gd name="textAreaLeft" fmla="*/ 0 w 1245960"/>
              <a:gd name="textAreaRight" fmla="*/ 1246320 w 1245960"/>
              <a:gd name="textAreaTop" fmla="*/ 0 h 1428840"/>
              <a:gd name="textAreaBottom" fmla="*/ 1429200 h 1428840"/>
            </a:gdLst>
            <a:ahLst/>
            <a:rect l="textAreaLeft" t="textAreaTop" r="textAreaRight" b="textAreaBottom"/>
            <a:pathLst>
              <a:path w="785" h="900">
                <a:moveTo>
                  <a:pt x="368" y="848"/>
                </a:moveTo>
                <a:lnTo>
                  <a:pt x="328" y="781"/>
                </a:lnTo>
                <a:lnTo>
                  <a:pt x="291" y="731"/>
                </a:lnTo>
                <a:lnTo>
                  <a:pt x="291" y="646"/>
                </a:lnTo>
                <a:lnTo>
                  <a:pt x="294" y="567"/>
                </a:lnTo>
                <a:lnTo>
                  <a:pt x="294" y="508"/>
                </a:lnTo>
                <a:lnTo>
                  <a:pt x="256" y="535"/>
                </a:lnTo>
                <a:lnTo>
                  <a:pt x="256" y="478"/>
                </a:lnTo>
                <a:lnTo>
                  <a:pt x="229" y="378"/>
                </a:lnTo>
                <a:lnTo>
                  <a:pt x="199" y="318"/>
                </a:lnTo>
                <a:lnTo>
                  <a:pt x="126" y="301"/>
                </a:lnTo>
                <a:lnTo>
                  <a:pt x="62" y="268"/>
                </a:lnTo>
                <a:lnTo>
                  <a:pt x="23" y="241"/>
                </a:lnTo>
                <a:lnTo>
                  <a:pt x="62" y="229"/>
                </a:lnTo>
                <a:lnTo>
                  <a:pt x="0" y="191"/>
                </a:lnTo>
                <a:lnTo>
                  <a:pt x="0" y="184"/>
                </a:lnTo>
                <a:lnTo>
                  <a:pt x="1" y="176"/>
                </a:lnTo>
                <a:lnTo>
                  <a:pt x="3" y="169"/>
                </a:lnTo>
                <a:lnTo>
                  <a:pt x="7" y="160"/>
                </a:lnTo>
                <a:lnTo>
                  <a:pt x="12" y="152"/>
                </a:lnTo>
                <a:lnTo>
                  <a:pt x="16" y="149"/>
                </a:lnTo>
                <a:lnTo>
                  <a:pt x="21" y="148"/>
                </a:lnTo>
                <a:lnTo>
                  <a:pt x="26" y="146"/>
                </a:lnTo>
                <a:lnTo>
                  <a:pt x="30" y="145"/>
                </a:lnTo>
                <a:lnTo>
                  <a:pt x="44" y="145"/>
                </a:lnTo>
                <a:lnTo>
                  <a:pt x="62" y="142"/>
                </a:lnTo>
                <a:lnTo>
                  <a:pt x="99" y="134"/>
                </a:lnTo>
                <a:lnTo>
                  <a:pt x="145" y="122"/>
                </a:lnTo>
                <a:lnTo>
                  <a:pt x="166" y="101"/>
                </a:lnTo>
                <a:lnTo>
                  <a:pt x="182" y="83"/>
                </a:lnTo>
                <a:lnTo>
                  <a:pt x="194" y="72"/>
                </a:lnTo>
                <a:lnTo>
                  <a:pt x="205" y="63"/>
                </a:lnTo>
                <a:lnTo>
                  <a:pt x="218" y="53"/>
                </a:lnTo>
                <a:lnTo>
                  <a:pt x="226" y="47"/>
                </a:lnTo>
                <a:lnTo>
                  <a:pt x="235" y="42"/>
                </a:lnTo>
                <a:lnTo>
                  <a:pt x="246" y="39"/>
                </a:lnTo>
                <a:lnTo>
                  <a:pt x="256" y="38"/>
                </a:lnTo>
                <a:lnTo>
                  <a:pt x="267" y="38"/>
                </a:lnTo>
                <a:lnTo>
                  <a:pt x="279" y="36"/>
                </a:lnTo>
                <a:lnTo>
                  <a:pt x="298" y="32"/>
                </a:lnTo>
                <a:lnTo>
                  <a:pt x="316" y="29"/>
                </a:lnTo>
                <a:lnTo>
                  <a:pt x="333" y="27"/>
                </a:lnTo>
                <a:lnTo>
                  <a:pt x="340" y="29"/>
                </a:lnTo>
                <a:lnTo>
                  <a:pt x="350" y="33"/>
                </a:lnTo>
                <a:lnTo>
                  <a:pt x="371" y="45"/>
                </a:lnTo>
                <a:lnTo>
                  <a:pt x="389" y="59"/>
                </a:lnTo>
                <a:lnTo>
                  <a:pt x="396" y="63"/>
                </a:lnTo>
                <a:lnTo>
                  <a:pt x="401" y="65"/>
                </a:lnTo>
                <a:lnTo>
                  <a:pt x="413" y="63"/>
                </a:lnTo>
                <a:lnTo>
                  <a:pt x="428" y="62"/>
                </a:lnTo>
                <a:lnTo>
                  <a:pt x="435" y="59"/>
                </a:lnTo>
                <a:lnTo>
                  <a:pt x="443" y="56"/>
                </a:lnTo>
                <a:lnTo>
                  <a:pt x="450" y="51"/>
                </a:lnTo>
                <a:lnTo>
                  <a:pt x="455" y="45"/>
                </a:lnTo>
                <a:lnTo>
                  <a:pt x="461" y="41"/>
                </a:lnTo>
                <a:lnTo>
                  <a:pt x="470" y="35"/>
                </a:lnTo>
                <a:lnTo>
                  <a:pt x="482" y="30"/>
                </a:lnTo>
                <a:lnTo>
                  <a:pt x="494" y="27"/>
                </a:lnTo>
                <a:lnTo>
                  <a:pt x="520" y="21"/>
                </a:lnTo>
                <a:lnTo>
                  <a:pt x="539" y="20"/>
                </a:lnTo>
                <a:lnTo>
                  <a:pt x="557" y="17"/>
                </a:lnTo>
                <a:lnTo>
                  <a:pt x="582" y="12"/>
                </a:lnTo>
                <a:lnTo>
                  <a:pt x="624" y="3"/>
                </a:lnTo>
                <a:lnTo>
                  <a:pt x="643" y="0"/>
                </a:lnTo>
                <a:lnTo>
                  <a:pt x="655" y="0"/>
                </a:lnTo>
                <a:lnTo>
                  <a:pt x="669" y="0"/>
                </a:lnTo>
                <a:lnTo>
                  <a:pt x="681" y="0"/>
                </a:lnTo>
                <a:lnTo>
                  <a:pt x="692" y="3"/>
                </a:lnTo>
                <a:lnTo>
                  <a:pt x="696" y="5"/>
                </a:lnTo>
                <a:lnTo>
                  <a:pt x="699" y="8"/>
                </a:lnTo>
                <a:lnTo>
                  <a:pt x="702" y="11"/>
                </a:lnTo>
                <a:lnTo>
                  <a:pt x="704" y="15"/>
                </a:lnTo>
                <a:lnTo>
                  <a:pt x="704" y="23"/>
                </a:lnTo>
                <a:lnTo>
                  <a:pt x="704" y="29"/>
                </a:lnTo>
                <a:lnTo>
                  <a:pt x="702" y="35"/>
                </a:lnTo>
                <a:lnTo>
                  <a:pt x="702" y="42"/>
                </a:lnTo>
                <a:lnTo>
                  <a:pt x="704" y="51"/>
                </a:lnTo>
                <a:lnTo>
                  <a:pt x="710" y="63"/>
                </a:lnTo>
                <a:lnTo>
                  <a:pt x="719" y="80"/>
                </a:lnTo>
                <a:lnTo>
                  <a:pt x="734" y="102"/>
                </a:lnTo>
                <a:lnTo>
                  <a:pt x="752" y="128"/>
                </a:lnTo>
                <a:lnTo>
                  <a:pt x="765" y="152"/>
                </a:lnTo>
                <a:lnTo>
                  <a:pt x="776" y="175"/>
                </a:lnTo>
                <a:lnTo>
                  <a:pt x="782" y="194"/>
                </a:lnTo>
                <a:lnTo>
                  <a:pt x="785" y="209"/>
                </a:lnTo>
                <a:lnTo>
                  <a:pt x="785" y="217"/>
                </a:lnTo>
                <a:lnTo>
                  <a:pt x="785" y="223"/>
                </a:lnTo>
                <a:lnTo>
                  <a:pt x="783" y="228"/>
                </a:lnTo>
                <a:lnTo>
                  <a:pt x="780" y="231"/>
                </a:lnTo>
                <a:lnTo>
                  <a:pt x="777" y="232"/>
                </a:lnTo>
                <a:lnTo>
                  <a:pt x="773" y="234"/>
                </a:lnTo>
                <a:lnTo>
                  <a:pt x="755" y="234"/>
                </a:lnTo>
                <a:lnTo>
                  <a:pt x="749" y="235"/>
                </a:lnTo>
                <a:lnTo>
                  <a:pt x="743" y="238"/>
                </a:lnTo>
                <a:lnTo>
                  <a:pt x="740" y="246"/>
                </a:lnTo>
                <a:lnTo>
                  <a:pt x="737" y="258"/>
                </a:lnTo>
                <a:lnTo>
                  <a:pt x="735" y="274"/>
                </a:lnTo>
                <a:lnTo>
                  <a:pt x="734" y="298"/>
                </a:lnTo>
                <a:lnTo>
                  <a:pt x="734" y="470"/>
                </a:lnTo>
                <a:lnTo>
                  <a:pt x="735" y="506"/>
                </a:lnTo>
                <a:lnTo>
                  <a:pt x="735" y="529"/>
                </a:lnTo>
                <a:lnTo>
                  <a:pt x="734" y="550"/>
                </a:lnTo>
                <a:lnTo>
                  <a:pt x="732" y="570"/>
                </a:lnTo>
                <a:lnTo>
                  <a:pt x="728" y="588"/>
                </a:lnTo>
                <a:lnTo>
                  <a:pt x="725" y="594"/>
                </a:lnTo>
                <a:lnTo>
                  <a:pt x="722" y="598"/>
                </a:lnTo>
                <a:lnTo>
                  <a:pt x="717" y="603"/>
                </a:lnTo>
                <a:lnTo>
                  <a:pt x="711" y="604"/>
                </a:lnTo>
                <a:lnTo>
                  <a:pt x="687" y="607"/>
                </a:lnTo>
                <a:lnTo>
                  <a:pt x="660" y="612"/>
                </a:lnTo>
                <a:lnTo>
                  <a:pt x="648" y="616"/>
                </a:lnTo>
                <a:lnTo>
                  <a:pt x="636" y="621"/>
                </a:lnTo>
                <a:lnTo>
                  <a:pt x="625" y="627"/>
                </a:lnTo>
                <a:lnTo>
                  <a:pt x="616" y="634"/>
                </a:lnTo>
                <a:lnTo>
                  <a:pt x="606" y="643"/>
                </a:lnTo>
                <a:lnTo>
                  <a:pt x="595" y="649"/>
                </a:lnTo>
                <a:lnTo>
                  <a:pt x="574" y="663"/>
                </a:lnTo>
                <a:lnTo>
                  <a:pt x="554" y="674"/>
                </a:lnTo>
                <a:lnTo>
                  <a:pt x="547" y="680"/>
                </a:lnTo>
                <a:lnTo>
                  <a:pt x="542" y="684"/>
                </a:lnTo>
                <a:lnTo>
                  <a:pt x="535" y="704"/>
                </a:lnTo>
                <a:lnTo>
                  <a:pt x="532" y="711"/>
                </a:lnTo>
                <a:lnTo>
                  <a:pt x="527" y="711"/>
                </a:lnTo>
                <a:lnTo>
                  <a:pt x="517" y="711"/>
                </a:lnTo>
                <a:lnTo>
                  <a:pt x="511" y="713"/>
                </a:lnTo>
                <a:lnTo>
                  <a:pt x="506" y="716"/>
                </a:lnTo>
                <a:lnTo>
                  <a:pt x="500" y="720"/>
                </a:lnTo>
                <a:lnTo>
                  <a:pt x="497" y="726"/>
                </a:lnTo>
                <a:lnTo>
                  <a:pt x="488" y="744"/>
                </a:lnTo>
                <a:lnTo>
                  <a:pt x="475" y="768"/>
                </a:lnTo>
                <a:lnTo>
                  <a:pt x="469" y="781"/>
                </a:lnTo>
                <a:lnTo>
                  <a:pt x="464" y="794"/>
                </a:lnTo>
                <a:lnTo>
                  <a:pt x="460" y="806"/>
                </a:lnTo>
                <a:lnTo>
                  <a:pt x="460" y="818"/>
                </a:lnTo>
                <a:lnTo>
                  <a:pt x="460" y="862"/>
                </a:lnTo>
                <a:lnTo>
                  <a:pt x="461" y="878"/>
                </a:lnTo>
                <a:lnTo>
                  <a:pt x="460" y="891"/>
                </a:lnTo>
                <a:lnTo>
                  <a:pt x="458" y="894"/>
                </a:lnTo>
                <a:lnTo>
                  <a:pt x="455" y="895"/>
                </a:lnTo>
                <a:lnTo>
                  <a:pt x="446" y="897"/>
                </a:lnTo>
                <a:lnTo>
                  <a:pt x="432" y="898"/>
                </a:lnTo>
                <a:lnTo>
                  <a:pt x="419" y="900"/>
                </a:lnTo>
                <a:lnTo>
                  <a:pt x="393" y="900"/>
                </a:lnTo>
                <a:lnTo>
                  <a:pt x="383" y="898"/>
                </a:lnTo>
                <a:lnTo>
                  <a:pt x="368" y="848"/>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3" name="Freeform 99"/>
          <p:cNvSpPr/>
          <p:nvPr/>
        </p:nvSpPr>
        <p:spPr>
          <a:xfrm>
            <a:off x="631800" y="2035080"/>
            <a:ext cx="2408400" cy="1679760"/>
          </a:xfrm>
          <a:custGeom>
            <a:avLst/>
            <a:gdLst>
              <a:gd name="textAreaLeft" fmla="*/ 0 w 2408400"/>
              <a:gd name="textAreaRight" fmla="*/ 2408760 w 2408400"/>
              <a:gd name="textAreaTop" fmla="*/ 0 h 1679760"/>
              <a:gd name="textAreaBottom" fmla="*/ 1680120 h 1679760"/>
            </a:gdLst>
            <a:ahLst/>
            <a:rect l="textAreaLeft" t="textAreaTop" r="textAreaRight" b="textAreaBottom"/>
            <a:pathLst>
              <a:path w="1517" h="1058">
                <a:moveTo>
                  <a:pt x="815" y="971"/>
                </a:moveTo>
                <a:lnTo>
                  <a:pt x="815" y="971"/>
                </a:lnTo>
                <a:lnTo>
                  <a:pt x="828" y="971"/>
                </a:lnTo>
                <a:lnTo>
                  <a:pt x="842" y="974"/>
                </a:lnTo>
                <a:lnTo>
                  <a:pt x="854" y="977"/>
                </a:lnTo>
                <a:lnTo>
                  <a:pt x="861" y="980"/>
                </a:lnTo>
                <a:lnTo>
                  <a:pt x="883" y="996"/>
                </a:lnTo>
                <a:lnTo>
                  <a:pt x="893" y="1005"/>
                </a:lnTo>
                <a:lnTo>
                  <a:pt x="898" y="1007"/>
                </a:lnTo>
                <a:lnTo>
                  <a:pt x="902" y="1007"/>
                </a:lnTo>
                <a:lnTo>
                  <a:pt x="913" y="1001"/>
                </a:lnTo>
                <a:lnTo>
                  <a:pt x="917" y="1001"/>
                </a:lnTo>
                <a:lnTo>
                  <a:pt x="919" y="1001"/>
                </a:lnTo>
                <a:lnTo>
                  <a:pt x="920" y="1002"/>
                </a:lnTo>
                <a:lnTo>
                  <a:pt x="934" y="1018"/>
                </a:lnTo>
                <a:lnTo>
                  <a:pt x="947" y="1031"/>
                </a:lnTo>
                <a:lnTo>
                  <a:pt x="949" y="1033"/>
                </a:lnTo>
                <a:lnTo>
                  <a:pt x="949" y="1034"/>
                </a:lnTo>
                <a:lnTo>
                  <a:pt x="949" y="1039"/>
                </a:lnTo>
                <a:lnTo>
                  <a:pt x="950" y="1042"/>
                </a:lnTo>
                <a:lnTo>
                  <a:pt x="953" y="1045"/>
                </a:lnTo>
                <a:lnTo>
                  <a:pt x="958" y="1048"/>
                </a:lnTo>
                <a:lnTo>
                  <a:pt x="967" y="1051"/>
                </a:lnTo>
                <a:lnTo>
                  <a:pt x="967" y="1043"/>
                </a:lnTo>
                <a:lnTo>
                  <a:pt x="968" y="1037"/>
                </a:lnTo>
                <a:lnTo>
                  <a:pt x="970" y="1031"/>
                </a:lnTo>
                <a:lnTo>
                  <a:pt x="974" y="1025"/>
                </a:lnTo>
                <a:lnTo>
                  <a:pt x="982" y="1016"/>
                </a:lnTo>
                <a:lnTo>
                  <a:pt x="993" y="1007"/>
                </a:lnTo>
                <a:lnTo>
                  <a:pt x="1005" y="1001"/>
                </a:lnTo>
                <a:lnTo>
                  <a:pt x="1017" y="996"/>
                </a:lnTo>
                <a:lnTo>
                  <a:pt x="1039" y="992"/>
                </a:lnTo>
                <a:lnTo>
                  <a:pt x="1051" y="989"/>
                </a:lnTo>
                <a:lnTo>
                  <a:pt x="1060" y="987"/>
                </a:lnTo>
                <a:lnTo>
                  <a:pt x="1077" y="989"/>
                </a:lnTo>
                <a:lnTo>
                  <a:pt x="1088" y="990"/>
                </a:lnTo>
                <a:lnTo>
                  <a:pt x="1097" y="992"/>
                </a:lnTo>
                <a:lnTo>
                  <a:pt x="1103" y="992"/>
                </a:lnTo>
                <a:lnTo>
                  <a:pt x="1109" y="995"/>
                </a:lnTo>
                <a:lnTo>
                  <a:pt x="1125" y="1001"/>
                </a:lnTo>
                <a:lnTo>
                  <a:pt x="1146" y="1010"/>
                </a:lnTo>
                <a:lnTo>
                  <a:pt x="1166" y="1057"/>
                </a:lnTo>
                <a:lnTo>
                  <a:pt x="1170" y="1057"/>
                </a:lnTo>
                <a:lnTo>
                  <a:pt x="1181" y="1058"/>
                </a:lnTo>
                <a:lnTo>
                  <a:pt x="1187" y="1058"/>
                </a:lnTo>
                <a:lnTo>
                  <a:pt x="1191" y="1057"/>
                </a:lnTo>
                <a:lnTo>
                  <a:pt x="1194" y="1054"/>
                </a:lnTo>
                <a:lnTo>
                  <a:pt x="1196" y="1049"/>
                </a:lnTo>
                <a:lnTo>
                  <a:pt x="1196" y="968"/>
                </a:lnTo>
                <a:lnTo>
                  <a:pt x="1198" y="953"/>
                </a:lnTo>
                <a:lnTo>
                  <a:pt x="1204" y="935"/>
                </a:lnTo>
                <a:lnTo>
                  <a:pt x="1211" y="915"/>
                </a:lnTo>
                <a:lnTo>
                  <a:pt x="1222" y="894"/>
                </a:lnTo>
                <a:lnTo>
                  <a:pt x="1238" y="861"/>
                </a:lnTo>
                <a:lnTo>
                  <a:pt x="1246" y="846"/>
                </a:lnTo>
                <a:lnTo>
                  <a:pt x="1261" y="835"/>
                </a:lnTo>
                <a:lnTo>
                  <a:pt x="1267" y="831"/>
                </a:lnTo>
                <a:lnTo>
                  <a:pt x="1271" y="829"/>
                </a:lnTo>
                <a:lnTo>
                  <a:pt x="1279" y="828"/>
                </a:lnTo>
                <a:lnTo>
                  <a:pt x="1282" y="829"/>
                </a:lnTo>
                <a:lnTo>
                  <a:pt x="1283" y="831"/>
                </a:lnTo>
                <a:lnTo>
                  <a:pt x="1323" y="823"/>
                </a:lnTo>
                <a:lnTo>
                  <a:pt x="1332" y="799"/>
                </a:lnTo>
                <a:lnTo>
                  <a:pt x="1345" y="766"/>
                </a:lnTo>
                <a:lnTo>
                  <a:pt x="1350" y="755"/>
                </a:lnTo>
                <a:lnTo>
                  <a:pt x="1356" y="745"/>
                </a:lnTo>
                <a:lnTo>
                  <a:pt x="1365" y="731"/>
                </a:lnTo>
                <a:lnTo>
                  <a:pt x="1381" y="718"/>
                </a:lnTo>
                <a:lnTo>
                  <a:pt x="1396" y="709"/>
                </a:lnTo>
                <a:lnTo>
                  <a:pt x="1404" y="706"/>
                </a:lnTo>
                <a:lnTo>
                  <a:pt x="1410" y="704"/>
                </a:lnTo>
                <a:lnTo>
                  <a:pt x="1413" y="704"/>
                </a:lnTo>
                <a:lnTo>
                  <a:pt x="1416" y="703"/>
                </a:lnTo>
                <a:lnTo>
                  <a:pt x="1419" y="698"/>
                </a:lnTo>
                <a:lnTo>
                  <a:pt x="1424" y="691"/>
                </a:lnTo>
                <a:lnTo>
                  <a:pt x="1425" y="683"/>
                </a:lnTo>
                <a:lnTo>
                  <a:pt x="1428" y="669"/>
                </a:lnTo>
                <a:lnTo>
                  <a:pt x="1430" y="662"/>
                </a:lnTo>
                <a:lnTo>
                  <a:pt x="1383" y="662"/>
                </a:lnTo>
                <a:lnTo>
                  <a:pt x="1357" y="654"/>
                </a:lnTo>
                <a:lnTo>
                  <a:pt x="1374" y="635"/>
                </a:lnTo>
                <a:lnTo>
                  <a:pt x="1389" y="620"/>
                </a:lnTo>
                <a:lnTo>
                  <a:pt x="1396" y="614"/>
                </a:lnTo>
                <a:lnTo>
                  <a:pt x="1402" y="609"/>
                </a:lnTo>
                <a:lnTo>
                  <a:pt x="1410" y="606"/>
                </a:lnTo>
                <a:lnTo>
                  <a:pt x="1421" y="605"/>
                </a:lnTo>
                <a:lnTo>
                  <a:pt x="1443" y="602"/>
                </a:lnTo>
                <a:lnTo>
                  <a:pt x="1472" y="602"/>
                </a:lnTo>
                <a:lnTo>
                  <a:pt x="1517" y="562"/>
                </a:lnTo>
                <a:lnTo>
                  <a:pt x="1502" y="519"/>
                </a:lnTo>
                <a:lnTo>
                  <a:pt x="1491" y="484"/>
                </a:lnTo>
                <a:lnTo>
                  <a:pt x="1488" y="469"/>
                </a:lnTo>
                <a:lnTo>
                  <a:pt x="1487" y="460"/>
                </a:lnTo>
                <a:lnTo>
                  <a:pt x="1485" y="455"/>
                </a:lnTo>
                <a:lnTo>
                  <a:pt x="1484" y="451"/>
                </a:lnTo>
                <a:lnTo>
                  <a:pt x="1476" y="437"/>
                </a:lnTo>
                <a:lnTo>
                  <a:pt x="1464" y="424"/>
                </a:lnTo>
                <a:lnTo>
                  <a:pt x="1452" y="409"/>
                </a:lnTo>
                <a:lnTo>
                  <a:pt x="1428" y="383"/>
                </a:lnTo>
                <a:lnTo>
                  <a:pt x="1418" y="371"/>
                </a:lnTo>
                <a:lnTo>
                  <a:pt x="1410" y="418"/>
                </a:lnTo>
                <a:lnTo>
                  <a:pt x="1402" y="415"/>
                </a:lnTo>
                <a:lnTo>
                  <a:pt x="1386" y="409"/>
                </a:lnTo>
                <a:lnTo>
                  <a:pt x="1377" y="404"/>
                </a:lnTo>
                <a:lnTo>
                  <a:pt x="1368" y="398"/>
                </a:lnTo>
                <a:lnTo>
                  <a:pt x="1362" y="391"/>
                </a:lnTo>
                <a:lnTo>
                  <a:pt x="1357" y="383"/>
                </a:lnTo>
                <a:lnTo>
                  <a:pt x="1353" y="374"/>
                </a:lnTo>
                <a:lnTo>
                  <a:pt x="1347" y="364"/>
                </a:lnTo>
                <a:lnTo>
                  <a:pt x="1339" y="354"/>
                </a:lnTo>
                <a:lnTo>
                  <a:pt x="1330" y="344"/>
                </a:lnTo>
                <a:lnTo>
                  <a:pt x="1320" y="333"/>
                </a:lnTo>
                <a:lnTo>
                  <a:pt x="1308" y="323"/>
                </a:lnTo>
                <a:lnTo>
                  <a:pt x="1294" y="314"/>
                </a:lnTo>
                <a:lnTo>
                  <a:pt x="1280" y="306"/>
                </a:lnTo>
                <a:lnTo>
                  <a:pt x="1273" y="305"/>
                </a:lnTo>
                <a:lnTo>
                  <a:pt x="1267" y="305"/>
                </a:lnTo>
                <a:lnTo>
                  <a:pt x="1261" y="308"/>
                </a:lnTo>
                <a:lnTo>
                  <a:pt x="1256" y="312"/>
                </a:lnTo>
                <a:lnTo>
                  <a:pt x="1250" y="318"/>
                </a:lnTo>
                <a:lnTo>
                  <a:pt x="1246" y="324"/>
                </a:lnTo>
                <a:lnTo>
                  <a:pt x="1240" y="341"/>
                </a:lnTo>
                <a:lnTo>
                  <a:pt x="1234" y="359"/>
                </a:lnTo>
                <a:lnTo>
                  <a:pt x="1229" y="376"/>
                </a:lnTo>
                <a:lnTo>
                  <a:pt x="1226" y="391"/>
                </a:lnTo>
                <a:lnTo>
                  <a:pt x="1226" y="433"/>
                </a:lnTo>
                <a:lnTo>
                  <a:pt x="1223" y="505"/>
                </a:lnTo>
                <a:lnTo>
                  <a:pt x="1208" y="555"/>
                </a:lnTo>
                <a:lnTo>
                  <a:pt x="1188" y="559"/>
                </a:lnTo>
                <a:lnTo>
                  <a:pt x="1166" y="513"/>
                </a:lnTo>
                <a:lnTo>
                  <a:pt x="1154" y="508"/>
                </a:lnTo>
                <a:lnTo>
                  <a:pt x="1127" y="495"/>
                </a:lnTo>
                <a:lnTo>
                  <a:pt x="1113" y="486"/>
                </a:lnTo>
                <a:lnTo>
                  <a:pt x="1101" y="478"/>
                </a:lnTo>
                <a:lnTo>
                  <a:pt x="1092" y="471"/>
                </a:lnTo>
                <a:lnTo>
                  <a:pt x="1091" y="466"/>
                </a:lnTo>
                <a:lnTo>
                  <a:pt x="1089" y="463"/>
                </a:lnTo>
                <a:lnTo>
                  <a:pt x="1089" y="460"/>
                </a:lnTo>
                <a:lnTo>
                  <a:pt x="1086" y="457"/>
                </a:lnTo>
                <a:lnTo>
                  <a:pt x="1080" y="449"/>
                </a:lnTo>
                <a:lnTo>
                  <a:pt x="1062" y="431"/>
                </a:lnTo>
                <a:lnTo>
                  <a:pt x="1053" y="421"/>
                </a:lnTo>
                <a:lnTo>
                  <a:pt x="1044" y="412"/>
                </a:lnTo>
                <a:lnTo>
                  <a:pt x="1038" y="401"/>
                </a:lnTo>
                <a:lnTo>
                  <a:pt x="1036" y="395"/>
                </a:lnTo>
                <a:lnTo>
                  <a:pt x="1035" y="391"/>
                </a:lnTo>
                <a:lnTo>
                  <a:pt x="1035" y="386"/>
                </a:lnTo>
                <a:lnTo>
                  <a:pt x="1033" y="383"/>
                </a:lnTo>
                <a:lnTo>
                  <a:pt x="1032" y="382"/>
                </a:lnTo>
                <a:lnTo>
                  <a:pt x="1030" y="380"/>
                </a:lnTo>
                <a:lnTo>
                  <a:pt x="1024" y="380"/>
                </a:lnTo>
                <a:lnTo>
                  <a:pt x="1018" y="382"/>
                </a:lnTo>
                <a:lnTo>
                  <a:pt x="1012" y="385"/>
                </a:lnTo>
                <a:lnTo>
                  <a:pt x="1006" y="386"/>
                </a:lnTo>
                <a:lnTo>
                  <a:pt x="1005" y="385"/>
                </a:lnTo>
                <a:lnTo>
                  <a:pt x="1003" y="385"/>
                </a:lnTo>
                <a:lnTo>
                  <a:pt x="1002" y="382"/>
                </a:lnTo>
                <a:lnTo>
                  <a:pt x="1002" y="379"/>
                </a:lnTo>
                <a:lnTo>
                  <a:pt x="1002" y="371"/>
                </a:lnTo>
                <a:lnTo>
                  <a:pt x="1005" y="364"/>
                </a:lnTo>
                <a:lnTo>
                  <a:pt x="1011" y="347"/>
                </a:lnTo>
                <a:lnTo>
                  <a:pt x="1017" y="332"/>
                </a:lnTo>
                <a:lnTo>
                  <a:pt x="1020" y="324"/>
                </a:lnTo>
                <a:lnTo>
                  <a:pt x="1020" y="318"/>
                </a:lnTo>
                <a:lnTo>
                  <a:pt x="1021" y="306"/>
                </a:lnTo>
                <a:lnTo>
                  <a:pt x="1023" y="300"/>
                </a:lnTo>
                <a:lnTo>
                  <a:pt x="1024" y="294"/>
                </a:lnTo>
                <a:lnTo>
                  <a:pt x="1029" y="288"/>
                </a:lnTo>
                <a:lnTo>
                  <a:pt x="1033" y="282"/>
                </a:lnTo>
                <a:lnTo>
                  <a:pt x="1039" y="276"/>
                </a:lnTo>
                <a:lnTo>
                  <a:pt x="1047" y="272"/>
                </a:lnTo>
                <a:lnTo>
                  <a:pt x="1065" y="264"/>
                </a:lnTo>
                <a:lnTo>
                  <a:pt x="1084" y="257"/>
                </a:lnTo>
                <a:lnTo>
                  <a:pt x="1104" y="249"/>
                </a:lnTo>
                <a:lnTo>
                  <a:pt x="1062" y="214"/>
                </a:lnTo>
                <a:lnTo>
                  <a:pt x="1112" y="207"/>
                </a:lnTo>
                <a:lnTo>
                  <a:pt x="1118" y="205"/>
                </a:lnTo>
                <a:lnTo>
                  <a:pt x="1124" y="201"/>
                </a:lnTo>
                <a:lnTo>
                  <a:pt x="1131" y="195"/>
                </a:lnTo>
                <a:lnTo>
                  <a:pt x="1142" y="186"/>
                </a:lnTo>
                <a:lnTo>
                  <a:pt x="1152" y="172"/>
                </a:lnTo>
                <a:lnTo>
                  <a:pt x="1164" y="154"/>
                </a:lnTo>
                <a:lnTo>
                  <a:pt x="1176" y="130"/>
                </a:lnTo>
                <a:lnTo>
                  <a:pt x="1182" y="119"/>
                </a:lnTo>
                <a:lnTo>
                  <a:pt x="1185" y="109"/>
                </a:lnTo>
                <a:lnTo>
                  <a:pt x="1187" y="100"/>
                </a:lnTo>
                <a:lnTo>
                  <a:pt x="1187" y="92"/>
                </a:lnTo>
                <a:lnTo>
                  <a:pt x="1185" y="86"/>
                </a:lnTo>
                <a:lnTo>
                  <a:pt x="1184" y="82"/>
                </a:lnTo>
                <a:lnTo>
                  <a:pt x="1181" y="79"/>
                </a:lnTo>
                <a:lnTo>
                  <a:pt x="1176" y="76"/>
                </a:lnTo>
                <a:lnTo>
                  <a:pt x="1167" y="73"/>
                </a:lnTo>
                <a:lnTo>
                  <a:pt x="1160" y="73"/>
                </a:lnTo>
                <a:lnTo>
                  <a:pt x="1151" y="73"/>
                </a:lnTo>
                <a:lnTo>
                  <a:pt x="1149" y="77"/>
                </a:lnTo>
                <a:lnTo>
                  <a:pt x="1143" y="89"/>
                </a:lnTo>
                <a:lnTo>
                  <a:pt x="1134" y="104"/>
                </a:lnTo>
                <a:lnTo>
                  <a:pt x="1127" y="112"/>
                </a:lnTo>
                <a:lnTo>
                  <a:pt x="1119" y="119"/>
                </a:lnTo>
                <a:lnTo>
                  <a:pt x="1115" y="122"/>
                </a:lnTo>
                <a:lnTo>
                  <a:pt x="1110" y="124"/>
                </a:lnTo>
                <a:lnTo>
                  <a:pt x="1104" y="125"/>
                </a:lnTo>
                <a:lnTo>
                  <a:pt x="1100" y="125"/>
                </a:lnTo>
                <a:lnTo>
                  <a:pt x="1088" y="122"/>
                </a:lnTo>
                <a:lnTo>
                  <a:pt x="1077" y="119"/>
                </a:lnTo>
                <a:lnTo>
                  <a:pt x="1066" y="113"/>
                </a:lnTo>
                <a:lnTo>
                  <a:pt x="1059" y="109"/>
                </a:lnTo>
                <a:lnTo>
                  <a:pt x="1051" y="104"/>
                </a:lnTo>
                <a:lnTo>
                  <a:pt x="1047" y="94"/>
                </a:lnTo>
                <a:lnTo>
                  <a:pt x="1039" y="70"/>
                </a:lnTo>
                <a:lnTo>
                  <a:pt x="1035" y="56"/>
                </a:lnTo>
                <a:lnTo>
                  <a:pt x="1030" y="46"/>
                </a:lnTo>
                <a:lnTo>
                  <a:pt x="1024" y="38"/>
                </a:lnTo>
                <a:lnTo>
                  <a:pt x="1023" y="37"/>
                </a:lnTo>
                <a:lnTo>
                  <a:pt x="1020" y="35"/>
                </a:lnTo>
                <a:lnTo>
                  <a:pt x="1017" y="34"/>
                </a:lnTo>
                <a:lnTo>
                  <a:pt x="1014" y="29"/>
                </a:lnTo>
                <a:lnTo>
                  <a:pt x="1011" y="25"/>
                </a:lnTo>
                <a:lnTo>
                  <a:pt x="1011" y="18"/>
                </a:lnTo>
                <a:lnTo>
                  <a:pt x="1009" y="6"/>
                </a:lnTo>
                <a:lnTo>
                  <a:pt x="1009" y="0"/>
                </a:lnTo>
                <a:lnTo>
                  <a:pt x="982" y="0"/>
                </a:lnTo>
                <a:lnTo>
                  <a:pt x="970" y="20"/>
                </a:lnTo>
                <a:lnTo>
                  <a:pt x="962" y="43"/>
                </a:lnTo>
                <a:lnTo>
                  <a:pt x="964" y="47"/>
                </a:lnTo>
                <a:lnTo>
                  <a:pt x="971" y="58"/>
                </a:lnTo>
                <a:lnTo>
                  <a:pt x="976" y="65"/>
                </a:lnTo>
                <a:lnTo>
                  <a:pt x="984" y="71"/>
                </a:lnTo>
                <a:lnTo>
                  <a:pt x="993" y="79"/>
                </a:lnTo>
                <a:lnTo>
                  <a:pt x="1005" y="85"/>
                </a:lnTo>
                <a:lnTo>
                  <a:pt x="1011" y="88"/>
                </a:lnTo>
                <a:lnTo>
                  <a:pt x="1015" y="91"/>
                </a:lnTo>
                <a:lnTo>
                  <a:pt x="1017" y="94"/>
                </a:lnTo>
                <a:lnTo>
                  <a:pt x="1018" y="98"/>
                </a:lnTo>
                <a:lnTo>
                  <a:pt x="1020" y="101"/>
                </a:lnTo>
                <a:lnTo>
                  <a:pt x="1018" y="104"/>
                </a:lnTo>
                <a:lnTo>
                  <a:pt x="1015" y="112"/>
                </a:lnTo>
                <a:lnTo>
                  <a:pt x="1011" y="118"/>
                </a:lnTo>
                <a:lnTo>
                  <a:pt x="1006" y="122"/>
                </a:lnTo>
                <a:lnTo>
                  <a:pt x="1002" y="127"/>
                </a:lnTo>
                <a:lnTo>
                  <a:pt x="974" y="127"/>
                </a:lnTo>
                <a:lnTo>
                  <a:pt x="952" y="127"/>
                </a:lnTo>
                <a:lnTo>
                  <a:pt x="922" y="127"/>
                </a:lnTo>
                <a:lnTo>
                  <a:pt x="896" y="125"/>
                </a:lnTo>
                <a:lnTo>
                  <a:pt x="875" y="122"/>
                </a:lnTo>
                <a:lnTo>
                  <a:pt x="858" y="122"/>
                </a:lnTo>
                <a:lnTo>
                  <a:pt x="845" y="124"/>
                </a:lnTo>
                <a:lnTo>
                  <a:pt x="836" y="125"/>
                </a:lnTo>
                <a:lnTo>
                  <a:pt x="833" y="127"/>
                </a:lnTo>
                <a:lnTo>
                  <a:pt x="825" y="147"/>
                </a:lnTo>
                <a:lnTo>
                  <a:pt x="798" y="147"/>
                </a:lnTo>
                <a:lnTo>
                  <a:pt x="748" y="147"/>
                </a:lnTo>
                <a:lnTo>
                  <a:pt x="744" y="145"/>
                </a:lnTo>
                <a:lnTo>
                  <a:pt x="739" y="141"/>
                </a:lnTo>
                <a:lnTo>
                  <a:pt x="736" y="135"/>
                </a:lnTo>
                <a:lnTo>
                  <a:pt x="735" y="128"/>
                </a:lnTo>
                <a:lnTo>
                  <a:pt x="733" y="116"/>
                </a:lnTo>
                <a:lnTo>
                  <a:pt x="733" y="112"/>
                </a:lnTo>
                <a:lnTo>
                  <a:pt x="730" y="107"/>
                </a:lnTo>
                <a:lnTo>
                  <a:pt x="724" y="98"/>
                </a:lnTo>
                <a:lnTo>
                  <a:pt x="718" y="94"/>
                </a:lnTo>
                <a:lnTo>
                  <a:pt x="712" y="88"/>
                </a:lnTo>
                <a:lnTo>
                  <a:pt x="705" y="82"/>
                </a:lnTo>
                <a:lnTo>
                  <a:pt x="694" y="77"/>
                </a:lnTo>
                <a:lnTo>
                  <a:pt x="685" y="74"/>
                </a:lnTo>
                <a:lnTo>
                  <a:pt x="676" y="73"/>
                </a:lnTo>
                <a:lnTo>
                  <a:pt x="667" y="73"/>
                </a:lnTo>
                <a:lnTo>
                  <a:pt x="658" y="73"/>
                </a:lnTo>
                <a:lnTo>
                  <a:pt x="644" y="76"/>
                </a:lnTo>
                <a:lnTo>
                  <a:pt x="634" y="77"/>
                </a:lnTo>
                <a:lnTo>
                  <a:pt x="620" y="74"/>
                </a:lnTo>
                <a:lnTo>
                  <a:pt x="601" y="67"/>
                </a:lnTo>
                <a:lnTo>
                  <a:pt x="590" y="62"/>
                </a:lnTo>
                <a:lnTo>
                  <a:pt x="581" y="56"/>
                </a:lnTo>
                <a:lnTo>
                  <a:pt x="572" y="50"/>
                </a:lnTo>
                <a:lnTo>
                  <a:pt x="565" y="43"/>
                </a:lnTo>
                <a:lnTo>
                  <a:pt x="559" y="37"/>
                </a:lnTo>
                <a:lnTo>
                  <a:pt x="550" y="34"/>
                </a:lnTo>
                <a:lnTo>
                  <a:pt x="541" y="34"/>
                </a:lnTo>
                <a:lnTo>
                  <a:pt x="533" y="34"/>
                </a:lnTo>
                <a:lnTo>
                  <a:pt x="518" y="37"/>
                </a:lnTo>
                <a:lnTo>
                  <a:pt x="512" y="40"/>
                </a:lnTo>
                <a:lnTo>
                  <a:pt x="462" y="85"/>
                </a:lnTo>
                <a:lnTo>
                  <a:pt x="412" y="97"/>
                </a:lnTo>
                <a:lnTo>
                  <a:pt x="381" y="77"/>
                </a:lnTo>
                <a:lnTo>
                  <a:pt x="343" y="55"/>
                </a:lnTo>
                <a:lnTo>
                  <a:pt x="308" y="40"/>
                </a:lnTo>
                <a:lnTo>
                  <a:pt x="259" y="40"/>
                </a:lnTo>
                <a:lnTo>
                  <a:pt x="194" y="35"/>
                </a:lnTo>
                <a:lnTo>
                  <a:pt x="152" y="5"/>
                </a:lnTo>
                <a:lnTo>
                  <a:pt x="90" y="35"/>
                </a:lnTo>
                <a:lnTo>
                  <a:pt x="82" y="80"/>
                </a:lnTo>
                <a:lnTo>
                  <a:pt x="18" y="92"/>
                </a:lnTo>
                <a:lnTo>
                  <a:pt x="0" y="119"/>
                </a:lnTo>
                <a:lnTo>
                  <a:pt x="25" y="154"/>
                </a:lnTo>
                <a:lnTo>
                  <a:pt x="72" y="189"/>
                </a:lnTo>
                <a:lnTo>
                  <a:pt x="18" y="196"/>
                </a:lnTo>
                <a:lnTo>
                  <a:pt x="33" y="241"/>
                </a:lnTo>
                <a:lnTo>
                  <a:pt x="79" y="241"/>
                </a:lnTo>
                <a:lnTo>
                  <a:pt x="75" y="284"/>
                </a:lnTo>
                <a:lnTo>
                  <a:pt x="30" y="329"/>
                </a:lnTo>
                <a:lnTo>
                  <a:pt x="30" y="361"/>
                </a:lnTo>
                <a:lnTo>
                  <a:pt x="64" y="388"/>
                </a:lnTo>
                <a:lnTo>
                  <a:pt x="90" y="403"/>
                </a:lnTo>
                <a:lnTo>
                  <a:pt x="114" y="403"/>
                </a:lnTo>
                <a:lnTo>
                  <a:pt x="97" y="433"/>
                </a:lnTo>
                <a:lnTo>
                  <a:pt x="102" y="471"/>
                </a:lnTo>
                <a:lnTo>
                  <a:pt x="147" y="471"/>
                </a:lnTo>
                <a:lnTo>
                  <a:pt x="167" y="437"/>
                </a:lnTo>
                <a:lnTo>
                  <a:pt x="209" y="391"/>
                </a:lnTo>
                <a:lnTo>
                  <a:pt x="229" y="361"/>
                </a:lnTo>
                <a:lnTo>
                  <a:pt x="256" y="371"/>
                </a:lnTo>
                <a:lnTo>
                  <a:pt x="289" y="368"/>
                </a:lnTo>
                <a:lnTo>
                  <a:pt x="324" y="368"/>
                </a:lnTo>
                <a:lnTo>
                  <a:pt x="346" y="395"/>
                </a:lnTo>
                <a:lnTo>
                  <a:pt x="393" y="395"/>
                </a:lnTo>
                <a:lnTo>
                  <a:pt x="427" y="406"/>
                </a:lnTo>
                <a:lnTo>
                  <a:pt x="488" y="463"/>
                </a:lnTo>
                <a:lnTo>
                  <a:pt x="530" y="520"/>
                </a:lnTo>
                <a:lnTo>
                  <a:pt x="542" y="570"/>
                </a:lnTo>
                <a:lnTo>
                  <a:pt x="592" y="632"/>
                </a:lnTo>
                <a:lnTo>
                  <a:pt x="599" y="674"/>
                </a:lnTo>
                <a:lnTo>
                  <a:pt x="599" y="719"/>
                </a:lnTo>
                <a:lnTo>
                  <a:pt x="607" y="727"/>
                </a:lnTo>
                <a:lnTo>
                  <a:pt x="613" y="734"/>
                </a:lnTo>
                <a:lnTo>
                  <a:pt x="619" y="745"/>
                </a:lnTo>
                <a:lnTo>
                  <a:pt x="625" y="758"/>
                </a:lnTo>
                <a:lnTo>
                  <a:pt x="626" y="766"/>
                </a:lnTo>
                <a:lnTo>
                  <a:pt x="626" y="775"/>
                </a:lnTo>
                <a:lnTo>
                  <a:pt x="626" y="784"/>
                </a:lnTo>
                <a:lnTo>
                  <a:pt x="625" y="793"/>
                </a:lnTo>
                <a:lnTo>
                  <a:pt x="623" y="804"/>
                </a:lnTo>
                <a:lnTo>
                  <a:pt x="619" y="816"/>
                </a:lnTo>
                <a:lnTo>
                  <a:pt x="614" y="826"/>
                </a:lnTo>
                <a:lnTo>
                  <a:pt x="611" y="835"/>
                </a:lnTo>
                <a:lnTo>
                  <a:pt x="611" y="843"/>
                </a:lnTo>
                <a:lnTo>
                  <a:pt x="611" y="849"/>
                </a:lnTo>
                <a:lnTo>
                  <a:pt x="611" y="853"/>
                </a:lnTo>
                <a:lnTo>
                  <a:pt x="614" y="856"/>
                </a:lnTo>
                <a:lnTo>
                  <a:pt x="620" y="862"/>
                </a:lnTo>
                <a:lnTo>
                  <a:pt x="634" y="871"/>
                </a:lnTo>
                <a:lnTo>
                  <a:pt x="640" y="876"/>
                </a:lnTo>
                <a:lnTo>
                  <a:pt x="641" y="880"/>
                </a:lnTo>
                <a:lnTo>
                  <a:pt x="641" y="885"/>
                </a:lnTo>
                <a:lnTo>
                  <a:pt x="643" y="889"/>
                </a:lnTo>
                <a:lnTo>
                  <a:pt x="644" y="895"/>
                </a:lnTo>
                <a:lnTo>
                  <a:pt x="655" y="912"/>
                </a:lnTo>
                <a:lnTo>
                  <a:pt x="670" y="933"/>
                </a:lnTo>
                <a:lnTo>
                  <a:pt x="687" y="956"/>
                </a:lnTo>
                <a:lnTo>
                  <a:pt x="717" y="957"/>
                </a:lnTo>
                <a:lnTo>
                  <a:pt x="727" y="959"/>
                </a:lnTo>
                <a:lnTo>
                  <a:pt x="736" y="960"/>
                </a:lnTo>
                <a:lnTo>
                  <a:pt x="745" y="965"/>
                </a:lnTo>
                <a:lnTo>
                  <a:pt x="754" y="966"/>
                </a:lnTo>
                <a:lnTo>
                  <a:pt x="777" y="969"/>
                </a:lnTo>
                <a:lnTo>
                  <a:pt x="798" y="971"/>
                </a:lnTo>
                <a:lnTo>
                  <a:pt x="815" y="971"/>
                </a:lnTo>
                <a:close/>
              </a:path>
            </a:pathLst>
          </a:custGeom>
          <a:solidFill>
            <a:srgbClr val="597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4" name="Freeform 101"/>
          <p:cNvSpPr/>
          <p:nvPr/>
        </p:nvSpPr>
        <p:spPr>
          <a:xfrm>
            <a:off x="1738440" y="3570120"/>
            <a:ext cx="1831680" cy="2195640"/>
          </a:xfrm>
          <a:custGeom>
            <a:avLst/>
            <a:gdLst>
              <a:gd name="textAreaLeft" fmla="*/ 0 w 1831680"/>
              <a:gd name="textAreaRight" fmla="*/ 1832040 w 183168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5" name="Freeform 102"/>
          <p:cNvSpPr/>
          <p:nvPr/>
        </p:nvSpPr>
        <p:spPr>
          <a:xfrm>
            <a:off x="1755720" y="3579840"/>
            <a:ext cx="1832040" cy="2195640"/>
          </a:xfrm>
          <a:custGeom>
            <a:avLst/>
            <a:gdLst>
              <a:gd name="textAreaLeft" fmla="*/ 0 w 1832040"/>
              <a:gd name="textAreaRight" fmla="*/ 1832400 w 1832040"/>
              <a:gd name="textAreaTop" fmla="*/ 0 h 2195640"/>
              <a:gd name="textAreaBottom" fmla="*/ 2196000 h 2195640"/>
            </a:gdLst>
            <a:ahLst/>
            <a:rect l="textAreaLeft" t="textAreaTop" r="textAreaRight" b="textAreaBottom"/>
            <a:pathLst>
              <a:path w="1154" h="1383">
                <a:moveTo>
                  <a:pt x="1133" y="544"/>
                </a:moveTo>
                <a:lnTo>
                  <a:pt x="1133" y="544"/>
                </a:lnTo>
                <a:lnTo>
                  <a:pt x="1130" y="536"/>
                </a:lnTo>
                <a:lnTo>
                  <a:pt x="1125" y="532"/>
                </a:lnTo>
                <a:lnTo>
                  <a:pt x="1121" y="529"/>
                </a:lnTo>
                <a:lnTo>
                  <a:pt x="1113" y="529"/>
                </a:lnTo>
                <a:lnTo>
                  <a:pt x="1100" y="530"/>
                </a:lnTo>
                <a:lnTo>
                  <a:pt x="1086" y="533"/>
                </a:lnTo>
                <a:lnTo>
                  <a:pt x="1080" y="533"/>
                </a:lnTo>
                <a:lnTo>
                  <a:pt x="1074" y="535"/>
                </a:lnTo>
                <a:lnTo>
                  <a:pt x="1061" y="541"/>
                </a:lnTo>
                <a:lnTo>
                  <a:pt x="1044" y="548"/>
                </a:lnTo>
                <a:lnTo>
                  <a:pt x="1039" y="542"/>
                </a:lnTo>
                <a:lnTo>
                  <a:pt x="1024" y="529"/>
                </a:lnTo>
                <a:lnTo>
                  <a:pt x="1015" y="521"/>
                </a:lnTo>
                <a:lnTo>
                  <a:pt x="1006" y="515"/>
                </a:lnTo>
                <a:lnTo>
                  <a:pt x="996" y="511"/>
                </a:lnTo>
                <a:lnTo>
                  <a:pt x="987" y="509"/>
                </a:lnTo>
                <a:lnTo>
                  <a:pt x="969" y="509"/>
                </a:lnTo>
                <a:lnTo>
                  <a:pt x="948" y="506"/>
                </a:lnTo>
                <a:lnTo>
                  <a:pt x="940" y="503"/>
                </a:lnTo>
                <a:lnTo>
                  <a:pt x="932" y="500"/>
                </a:lnTo>
                <a:lnTo>
                  <a:pt x="928" y="495"/>
                </a:lnTo>
                <a:lnTo>
                  <a:pt x="926" y="491"/>
                </a:lnTo>
                <a:lnTo>
                  <a:pt x="926" y="477"/>
                </a:lnTo>
                <a:lnTo>
                  <a:pt x="929" y="459"/>
                </a:lnTo>
                <a:lnTo>
                  <a:pt x="929" y="438"/>
                </a:lnTo>
                <a:lnTo>
                  <a:pt x="928" y="426"/>
                </a:lnTo>
                <a:lnTo>
                  <a:pt x="926" y="414"/>
                </a:lnTo>
                <a:lnTo>
                  <a:pt x="923" y="408"/>
                </a:lnTo>
                <a:lnTo>
                  <a:pt x="922" y="404"/>
                </a:lnTo>
                <a:lnTo>
                  <a:pt x="917" y="399"/>
                </a:lnTo>
                <a:lnTo>
                  <a:pt x="914" y="395"/>
                </a:lnTo>
                <a:lnTo>
                  <a:pt x="904" y="388"/>
                </a:lnTo>
                <a:lnTo>
                  <a:pt x="892" y="384"/>
                </a:lnTo>
                <a:lnTo>
                  <a:pt x="880" y="378"/>
                </a:lnTo>
                <a:lnTo>
                  <a:pt x="866" y="372"/>
                </a:lnTo>
                <a:lnTo>
                  <a:pt x="854" y="364"/>
                </a:lnTo>
                <a:lnTo>
                  <a:pt x="842" y="352"/>
                </a:lnTo>
                <a:lnTo>
                  <a:pt x="836" y="346"/>
                </a:lnTo>
                <a:lnTo>
                  <a:pt x="828" y="342"/>
                </a:lnTo>
                <a:lnTo>
                  <a:pt x="819" y="339"/>
                </a:lnTo>
                <a:lnTo>
                  <a:pt x="810" y="336"/>
                </a:lnTo>
                <a:lnTo>
                  <a:pt x="791" y="331"/>
                </a:lnTo>
                <a:lnTo>
                  <a:pt x="771" y="330"/>
                </a:lnTo>
                <a:lnTo>
                  <a:pt x="753" y="331"/>
                </a:lnTo>
                <a:lnTo>
                  <a:pt x="737" y="331"/>
                </a:lnTo>
                <a:lnTo>
                  <a:pt x="715" y="334"/>
                </a:lnTo>
                <a:lnTo>
                  <a:pt x="657" y="330"/>
                </a:lnTo>
                <a:lnTo>
                  <a:pt x="593" y="327"/>
                </a:lnTo>
                <a:lnTo>
                  <a:pt x="586" y="327"/>
                </a:lnTo>
                <a:lnTo>
                  <a:pt x="578" y="331"/>
                </a:lnTo>
                <a:lnTo>
                  <a:pt x="563" y="342"/>
                </a:lnTo>
                <a:lnTo>
                  <a:pt x="550" y="352"/>
                </a:lnTo>
                <a:lnTo>
                  <a:pt x="545" y="355"/>
                </a:lnTo>
                <a:lnTo>
                  <a:pt x="539" y="357"/>
                </a:lnTo>
                <a:lnTo>
                  <a:pt x="535" y="355"/>
                </a:lnTo>
                <a:lnTo>
                  <a:pt x="530" y="354"/>
                </a:lnTo>
                <a:lnTo>
                  <a:pt x="524" y="351"/>
                </a:lnTo>
                <a:lnTo>
                  <a:pt x="518" y="346"/>
                </a:lnTo>
                <a:lnTo>
                  <a:pt x="512" y="339"/>
                </a:lnTo>
                <a:lnTo>
                  <a:pt x="506" y="330"/>
                </a:lnTo>
                <a:lnTo>
                  <a:pt x="500" y="318"/>
                </a:lnTo>
                <a:lnTo>
                  <a:pt x="494" y="303"/>
                </a:lnTo>
                <a:lnTo>
                  <a:pt x="488" y="291"/>
                </a:lnTo>
                <a:lnTo>
                  <a:pt x="483" y="282"/>
                </a:lnTo>
                <a:lnTo>
                  <a:pt x="479" y="275"/>
                </a:lnTo>
                <a:lnTo>
                  <a:pt x="474" y="272"/>
                </a:lnTo>
                <a:lnTo>
                  <a:pt x="470" y="269"/>
                </a:lnTo>
                <a:lnTo>
                  <a:pt x="467" y="266"/>
                </a:lnTo>
                <a:lnTo>
                  <a:pt x="465" y="262"/>
                </a:lnTo>
                <a:lnTo>
                  <a:pt x="464" y="253"/>
                </a:lnTo>
                <a:lnTo>
                  <a:pt x="462" y="248"/>
                </a:lnTo>
                <a:lnTo>
                  <a:pt x="461" y="245"/>
                </a:lnTo>
                <a:lnTo>
                  <a:pt x="458" y="244"/>
                </a:lnTo>
                <a:lnTo>
                  <a:pt x="456" y="242"/>
                </a:lnTo>
                <a:lnTo>
                  <a:pt x="450" y="241"/>
                </a:lnTo>
                <a:lnTo>
                  <a:pt x="444" y="244"/>
                </a:lnTo>
                <a:lnTo>
                  <a:pt x="434" y="250"/>
                </a:lnTo>
                <a:lnTo>
                  <a:pt x="429" y="253"/>
                </a:lnTo>
                <a:lnTo>
                  <a:pt x="432" y="203"/>
                </a:lnTo>
                <a:lnTo>
                  <a:pt x="387" y="173"/>
                </a:lnTo>
                <a:lnTo>
                  <a:pt x="388" y="185"/>
                </a:lnTo>
                <a:lnTo>
                  <a:pt x="388" y="197"/>
                </a:lnTo>
                <a:lnTo>
                  <a:pt x="387" y="202"/>
                </a:lnTo>
                <a:lnTo>
                  <a:pt x="385" y="206"/>
                </a:lnTo>
                <a:lnTo>
                  <a:pt x="382" y="209"/>
                </a:lnTo>
                <a:lnTo>
                  <a:pt x="378" y="212"/>
                </a:lnTo>
                <a:lnTo>
                  <a:pt x="373" y="211"/>
                </a:lnTo>
                <a:lnTo>
                  <a:pt x="366" y="209"/>
                </a:lnTo>
                <a:lnTo>
                  <a:pt x="357" y="203"/>
                </a:lnTo>
                <a:lnTo>
                  <a:pt x="346" y="194"/>
                </a:lnTo>
                <a:lnTo>
                  <a:pt x="333" y="182"/>
                </a:lnTo>
                <a:lnTo>
                  <a:pt x="318" y="165"/>
                </a:lnTo>
                <a:lnTo>
                  <a:pt x="301" y="144"/>
                </a:lnTo>
                <a:lnTo>
                  <a:pt x="289" y="126"/>
                </a:lnTo>
                <a:lnTo>
                  <a:pt x="283" y="110"/>
                </a:lnTo>
                <a:lnTo>
                  <a:pt x="280" y="95"/>
                </a:lnTo>
                <a:lnTo>
                  <a:pt x="271" y="92"/>
                </a:lnTo>
                <a:lnTo>
                  <a:pt x="266" y="89"/>
                </a:lnTo>
                <a:lnTo>
                  <a:pt x="263" y="86"/>
                </a:lnTo>
                <a:lnTo>
                  <a:pt x="262" y="83"/>
                </a:lnTo>
                <a:lnTo>
                  <a:pt x="262" y="78"/>
                </a:lnTo>
                <a:lnTo>
                  <a:pt x="262" y="77"/>
                </a:lnTo>
                <a:lnTo>
                  <a:pt x="260" y="75"/>
                </a:lnTo>
                <a:lnTo>
                  <a:pt x="247" y="62"/>
                </a:lnTo>
                <a:lnTo>
                  <a:pt x="233" y="46"/>
                </a:lnTo>
                <a:lnTo>
                  <a:pt x="232" y="45"/>
                </a:lnTo>
                <a:lnTo>
                  <a:pt x="230" y="45"/>
                </a:lnTo>
                <a:lnTo>
                  <a:pt x="226" y="45"/>
                </a:lnTo>
                <a:lnTo>
                  <a:pt x="215" y="51"/>
                </a:lnTo>
                <a:lnTo>
                  <a:pt x="211" y="51"/>
                </a:lnTo>
                <a:lnTo>
                  <a:pt x="206" y="49"/>
                </a:lnTo>
                <a:lnTo>
                  <a:pt x="196" y="40"/>
                </a:lnTo>
                <a:lnTo>
                  <a:pt x="174" y="24"/>
                </a:lnTo>
                <a:lnTo>
                  <a:pt x="167" y="21"/>
                </a:lnTo>
                <a:lnTo>
                  <a:pt x="155" y="18"/>
                </a:lnTo>
                <a:lnTo>
                  <a:pt x="141" y="15"/>
                </a:lnTo>
                <a:lnTo>
                  <a:pt x="128" y="15"/>
                </a:lnTo>
                <a:lnTo>
                  <a:pt x="111" y="15"/>
                </a:lnTo>
                <a:lnTo>
                  <a:pt x="90" y="13"/>
                </a:lnTo>
                <a:lnTo>
                  <a:pt x="67" y="10"/>
                </a:lnTo>
                <a:lnTo>
                  <a:pt x="58" y="9"/>
                </a:lnTo>
                <a:lnTo>
                  <a:pt x="49" y="4"/>
                </a:lnTo>
                <a:lnTo>
                  <a:pt x="40" y="3"/>
                </a:lnTo>
                <a:lnTo>
                  <a:pt x="30" y="1"/>
                </a:lnTo>
                <a:lnTo>
                  <a:pt x="0" y="0"/>
                </a:lnTo>
                <a:lnTo>
                  <a:pt x="25" y="30"/>
                </a:lnTo>
                <a:lnTo>
                  <a:pt x="49" y="58"/>
                </a:lnTo>
                <a:lnTo>
                  <a:pt x="74" y="86"/>
                </a:lnTo>
                <a:lnTo>
                  <a:pt x="93" y="110"/>
                </a:lnTo>
                <a:lnTo>
                  <a:pt x="110" y="129"/>
                </a:lnTo>
                <a:lnTo>
                  <a:pt x="117" y="135"/>
                </a:lnTo>
                <a:lnTo>
                  <a:pt x="123" y="138"/>
                </a:lnTo>
                <a:lnTo>
                  <a:pt x="126" y="138"/>
                </a:lnTo>
                <a:lnTo>
                  <a:pt x="128" y="135"/>
                </a:lnTo>
                <a:lnTo>
                  <a:pt x="128" y="131"/>
                </a:lnTo>
                <a:lnTo>
                  <a:pt x="126" y="126"/>
                </a:lnTo>
                <a:lnTo>
                  <a:pt x="119" y="113"/>
                </a:lnTo>
                <a:lnTo>
                  <a:pt x="116" y="108"/>
                </a:lnTo>
                <a:lnTo>
                  <a:pt x="111" y="104"/>
                </a:lnTo>
                <a:lnTo>
                  <a:pt x="107" y="99"/>
                </a:lnTo>
                <a:lnTo>
                  <a:pt x="102" y="89"/>
                </a:lnTo>
                <a:lnTo>
                  <a:pt x="96" y="63"/>
                </a:lnTo>
                <a:lnTo>
                  <a:pt x="90" y="39"/>
                </a:lnTo>
                <a:lnTo>
                  <a:pt x="89" y="28"/>
                </a:lnTo>
                <a:lnTo>
                  <a:pt x="113" y="60"/>
                </a:lnTo>
                <a:lnTo>
                  <a:pt x="137" y="89"/>
                </a:lnTo>
                <a:lnTo>
                  <a:pt x="161" y="116"/>
                </a:lnTo>
                <a:lnTo>
                  <a:pt x="176" y="129"/>
                </a:lnTo>
                <a:lnTo>
                  <a:pt x="187" y="135"/>
                </a:lnTo>
                <a:lnTo>
                  <a:pt x="194" y="137"/>
                </a:lnTo>
                <a:lnTo>
                  <a:pt x="197" y="135"/>
                </a:lnTo>
                <a:lnTo>
                  <a:pt x="199" y="135"/>
                </a:lnTo>
                <a:lnTo>
                  <a:pt x="197" y="135"/>
                </a:lnTo>
                <a:lnTo>
                  <a:pt x="190" y="143"/>
                </a:lnTo>
                <a:lnTo>
                  <a:pt x="181" y="155"/>
                </a:lnTo>
                <a:lnTo>
                  <a:pt x="176" y="162"/>
                </a:lnTo>
                <a:lnTo>
                  <a:pt x="173" y="172"/>
                </a:lnTo>
                <a:lnTo>
                  <a:pt x="171" y="179"/>
                </a:lnTo>
                <a:lnTo>
                  <a:pt x="173" y="188"/>
                </a:lnTo>
                <a:lnTo>
                  <a:pt x="174" y="194"/>
                </a:lnTo>
                <a:lnTo>
                  <a:pt x="179" y="199"/>
                </a:lnTo>
                <a:lnTo>
                  <a:pt x="190" y="211"/>
                </a:lnTo>
                <a:lnTo>
                  <a:pt x="205" y="223"/>
                </a:lnTo>
                <a:lnTo>
                  <a:pt x="223" y="235"/>
                </a:lnTo>
                <a:lnTo>
                  <a:pt x="242" y="245"/>
                </a:lnTo>
                <a:lnTo>
                  <a:pt x="260" y="253"/>
                </a:lnTo>
                <a:lnTo>
                  <a:pt x="277" y="259"/>
                </a:lnTo>
                <a:lnTo>
                  <a:pt x="291" y="260"/>
                </a:lnTo>
                <a:lnTo>
                  <a:pt x="345" y="260"/>
                </a:lnTo>
                <a:lnTo>
                  <a:pt x="372" y="300"/>
                </a:lnTo>
                <a:lnTo>
                  <a:pt x="376" y="300"/>
                </a:lnTo>
                <a:lnTo>
                  <a:pt x="381" y="300"/>
                </a:lnTo>
                <a:lnTo>
                  <a:pt x="388" y="303"/>
                </a:lnTo>
                <a:lnTo>
                  <a:pt x="397" y="306"/>
                </a:lnTo>
                <a:lnTo>
                  <a:pt x="407" y="312"/>
                </a:lnTo>
                <a:lnTo>
                  <a:pt x="417" y="321"/>
                </a:lnTo>
                <a:lnTo>
                  <a:pt x="429" y="334"/>
                </a:lnTo>
                <a:lnTo>
                  <a:pt x="435" y="340"/>
                </a:lnTo>
                <a:lnTo>
                  <a:pt x="443" y="348"/>
                </a:lnTo>
                <a:lnTo>
                  <a:pt x="462" y="360"/>
                </a:lnTo>
                <a:lnTo>
                  <a:pt x="483" y="370"/>
                </a:lnTo>
                <a:lnTo>
                  <a:pt x="504" y="381"/>
                </a:lnTo>
                <a:lnTo>
                  <a:pt x="542" y="395"/>
                </a:lnTo>
                <a:lnTo>
                  <a:pt x="559" y="399"/>
                </a:lnTo>
                <a:lnTo>
                  <a:pt x="544" y="441"/>
                </a:lnTo>
                <a:lnTo>
                  <a:pt x="536" y="446"/>
                </a:lnTo>
                <a:lnTo>
                  <a:pt x="523" y="456"/>
                </a:lnTo>
                <a:lnTo>
                  <a:pt x="514" y="465"/>
                </a:lnTo>
                <a:lnTo>
                  <a:pt x="506" y="473"/>
                </a:lnTo>
                <a:lnTo>
                  <a:pt x="500" y="482"/>
                </a:lnTo>
                <a:lnTo>
                  <a:pt x="497" y="491"/>
                </a:lnTo>
                <a:lnTo>
                  <a:pt x="497" y="498"/>
                </a:lnTo>
                <a:lnTo>
                  <a:pt x="497" y="508"/>
                </a:lnTo>
                <a:lnTo>
                  <a:pt x="498" y="517"/>
                </a:lnTo>
                <a:lnTo>
                  <a:pt x="501" y="526"/>
                </a:lnTo>
                <a:lnTo>
                  <a:pt x="509" y="544"/>
                </a:lnTo>
                <a:lnTo>
                  <a:pt x="517" y="563"/>
                </a:lnTo>
                <a:lnTo>
                  <a:pt x="521" y="572"/>
                </a:lnTo>
                <a:lnTo>
                  <a:pt x="527" y="581"/>
                </a:lnTo>
                <a:lnTo>
                  <a:pt x="541" y="595"/>
                </a:lnTo>
                <a:lnTo>
                  <a:pt x="553" y="605"/>
                </a:lnTo>
                <a:lnTo>
                  <a:pt x="556" y="612"/>
                </a:lnTo>
                <a:lnTo>
                  <a:pt x="559" y="616"/>
                </a:lnTo>
                <a:lnTo>
                  <a:pt x="565" y="636"/>
                </a:lnTo>
                <a:lnTo>
                  <a:pt x="569" y="648"/>
                </a:lnTo>
                <a:lnTo>
                  <a:pt x="577" y="661"/>
                </a:lnTo>
                <a:lnTo>
                  <a:pt x="584" y="675"/>
                </a:lnTo>
                <a:lnTo>
                  <a:pt x="595" y="687"/>
                </a:lnTo>
                <a:lnTo>
                  <a:pt x="601" y="691"/>
                </a:lnTo>
                <a:lnTo>
                  <a:pt x="607" y="696"/>
                </a:lnTo>
                <a:lnTo>
                  <a:pt x="613" y="699"/>
                </a:lnTo>
                <a:lnTo>
                  <a:pt x="621" y="700"/>
                </a:lnTo>
                <a:lnTo>
                  <a:pt x="633" y="705"/>
                </a:lnTo>
                <a:lnTo>
                  <a:pt x="643" y="711"/>
                </a:lnTo>
                <a:lnTo>
                  <a:pt x="651" y="718"/>
                </a:lnTo>
                <a:lnTo>
                  <a:pt x="655" y="728"/>
                </a:lnTo>
                <a:lnTo>
                  <a:pt x="660" y="738"/>
                </a:lnTo>
                <a:lnTo>
                  <a:pt x="663" y="749"/>
                </a:lnTo>
                <a:lnTo>
                  <a:pt x="666" y="770"/>
                </a:lnTo>
                <a:lnTo>
                  <a:pt x="669" y="794"/>
                </a:lnTo>
                <a:lnTo>
                  <a:pt x="669" y="824"/>
                </a:lnTo>
                <a:lnTo>
                  <a:pt x="669" y="841"/>
                </a:lnTo>
                <a:lnTo>
                  <a:pt x="666" y="854"/>
                </a:lnTo>
                <a:lnTo>
                  <a:pt x="663" y="866"/>
                </a:lnTo>
                <a:lnTo>
                  <a:pt x="658" y="877"/>
                </a:lnTo>
                <a:lnTo>
                  <a:pt x="654" y="886"/>
                </a:lnTo>
                <a:lnTo>
                  <a:pt x="652" y="898"/>
                </a:lnTo>
                <a:lnTo>
                  <a:pt x="652" y="910"/>
                </a:lnTo>
                <a:lnTo>
                  <a:pt x="652" y="922"/>
                </a:lnTo>
                <a:lnTo>
                  <a:pt x="657" y="943"/>
                </a:lnTo>
                <a:lnTo>
                  <a:pt x="658" y="957"/>
                </a:lnTo>
                <a:lnTo>
                  <a:pt x="657" y="964"/>
                </a:lnTo>
                <a:lnTo>
                  <a:pt x="652" y="976"/>
                </a:lnTo>
                <a:lnTo>
                  <a:pt x="639" y="1005"/>
                </a:lnTo>
                <a:lnTo>
                  <a:pt x="621" y="1045"/>
                </a:lnTo>
                <a:lnTo>
                  <a:pt x="613" y="1217"/>
                </a:lnTo>
                <a:lnTo>
                  <a:pt x="613" y="1354"/>
                </a:lnTo>
                <a:lnTo>
                  <a:pt x="613" y="1360"/>
                </a:lnTo>
                <a:lnTo>
                  <a:pt x="614" y="1366"/>
                </a:lnTo>
                <a:lnTo>
                  <a:pt x="616" y="1369"/>
                </a:lnTo>
                <a:lnTo>
                  <a:pt x="619" y="1374"/>
                </a:lnTo>
                <a:lnTo>
                  <a:pt x="625" y="1378"/>
                </a:lnTo>
                <a:lnTo>
                  <a:pt x="634" y="1381"/>
                </a:lnTo>
                <a:lnTo>
                  <a:pt x="642" y="1383"/>
                </a:lnTo>
                <a:lnTo>
                  <a:pt x="648" y="1383"/>
                </a:lnTo>
                <a:lnTo>
                  <a:pt x="654" y="1381"/>
                </a:lnTo>
                <a:lnTo>
                  <a:pt x="669" y="1368"/>
                </a:lnTo>
                <a:lnTo>
                  <a:pt x="681" y="1354"/>
                </a:lnTo>
                <a:lnTo>
                  <a:pt x="685" y="1347"/>
                </a:lnTo>
                <a:lnTo>
                  <a:pt x="688" y="1339"/>
                </a:lnTo>
                <a:lnTo>
                  <a:pt x="697" y="1324"/>
                </a:lnTo>
                <a:lnTo>
                  <a:pt x="708" y="1306"/>
                </a:lnTo>
                <a:lnTo>
                  <a:pt x="727" y="1279"/>
                </a:lnTo>
                <a:lnTo>
                  <a:pt x="731" y="1271"/>
                </a:lnTo>
                <a:lnTo>
                  <a:pt x="732" y="1262"/>
                </a:lnTo>
                <a:lnTo>
                  <a:pt x="738" y="1237"/>
                </a:lnTo>
                <a:lnTo>
                  <a:pt x="741" y="1205"/>
                </a:lnTo>
                <a:lnTo>
                  <a:pt x="743" y="1175"/>
                </a:lnTo>
                <a:lnTo>
                  <a:pt x="744" y="1163"/>
                </a:lnTo>
                <a:lnTo>
                  <a:pt x="747" y="1152"/>
                </a:lnTo>
                <a:lnTo>
                  <a:pt x="752" y="1143"/>
                </a:lnTo>
                <a:lnTo>
                  <a:pt x="758" y="1137"/>
                </a:lnTo>
                <a:lnTo>
                  <a:pt x="770" y="1127"/>
                </a:lnTo>
                <a:lnTo>
                  <a:pt x="774" y="1121"/>
                </a:lnTo>
                <a:lnTo>
                  <a:pt x="777" y="1113"/>
                </a:lnTo>
                <a:lnTo>
                  <a:pt x="779" y="1107"/>
                </a:lnTo>
                <a:lnTo>
                  <a:pt x="782" y="1100"/>
                </a:lnTo>
                <a:lnTo>
                  <a:pt x="786" y="1094"/>
                </a:lnTo>
                <a:lnTo>
                  <a:pt x="791" y="1086"/>
                </a:lnTo>
                <a:lnTo>
                  <a:pt x="797" y="1080"/>
                </a:lnTo>
                <a:lnTo>
                  <a:pt x="804" y="1076"/>
                </a:lnTo>
                <a:lnTo>
                  <a:pt x="813" y="1071"/>
                </a:lnTo>
                <a:lnTo>
                  <a:pt x="822" y="1068"/>
                </a:lnTo>
                <a:lnTo>
                  <a:pt x="833" y="1065"/>
                </a:lnTo>
                <a:lnTo>
                  <a:pt x="841" y="1061"/>
                </a:lnTo>
                <a:lnTo>
                  <a:pt x="856" y="1051"/>
                </a:lnTo>
                <a:lnTo>
                  <a:pt x="865" y="1044"/>
                </a:lnTo>
                <a:lnTo>
                  <a:pt x="869" y="1041"/>
                </a:lnTo>
                <a:lnTo>
                  <a:pt x="837" y="1011"/>
                </a:lnTo>
                <a:lnTo>
                  <a:pt x="887" y="988"/>
                </a:lnTo>
                <a:lnTo>
                  <a:pt x="896" y="982"/>
                </a:lnTo>
                <a:lnTo>
                  <a:pt x="907" y="973"/>
                </a:lnTo>
                <a:lnTo>
                  <a:pt x="934" y="946"/>
                </a:lnTo>
                <a:lnTo>
                  <a:pt x="961" y="919"/>
                </a:lnTo>
                <a:lnTo>
                  <a:pt x="970" y="908"/>
                </a:lnTo>
                <a:lnTo>
                  <a:pt x="976" y="899"/>
                </a:lnTo>
                <a:lnTo>
                  <a:pt x="982" y="884"/>
                </a:lnTo>
                <a:lnTo>
                  <a:pt x="988" y="868"/>
                </a:lnTo>
                <a:lnTo>
                  <a:pt x="994" y="847"/>
                </a:lnTo>
                <a:lnTo>
                  <a:pt x="1006" y="844"/>
                </a:lnTo>
                <a:lnTo>
                  <a:pt x="1029" y="833"/>
                </a:lnTo>
                <a:lnTo>
                  <a:pt x="1042" y="827"/>
                </a:lnTo>
                <a:lnTo>
                  <a:pt x="1053" y="821"/>
                </a:lnTo>
                <a:lnTo>
                  <a:pt x="1061" y="812"/>
                </a:lnTo>
                <a:lnTo>
                  <a:pt x="1064" y="809"/>
                </a:lnTo>
                <a:lnTo>
                  <a:pt x="1064" y="804"/>
                </a:lnTo>
                <a:lnTo>
                  <a:pt x="1064" y="764"/>
                </a:lnTo>
                <a:lnTo>
                  <a:pt x="1062" y="744"/>
                </a:lnTo>
                <a:lnTo>
                  <a:pt x="1061" y="728"/>
                </a:lnTo>
                <a:lnTo>
                  <a:pt x="1059" y="723"/>
                </a:lnTo>
                <a:lnTo>
                  <a:pt x="1062" y="723"/>
                </a:lnTo>
                <a:lnTo>
                  <a:pt x="1067" y="725"/>
                </a:lnTo>
                <a:lnTo>
                  <a:pt x="1073" y="725"/>
                </a:lnTo>
                <a:lnTo>
                  <a:pt x="1077" y="723"/>
                </a:lnTo>
                <a:lnTo>
                  <a:pt x="1082" y="721"/>
                </a:lnTo>
                <a:lnTo>
                  <a:pt x="1088" y="717"/>
                </a:lnTo>
                <a:lnTo>
                  <a:pt x="1095" y="711"/>
                </a:lnTo>
                <a:lnTo>
                  <a:pt x="1103" y="702"/>
                </a:lnTo>
                <a:lnTo>
                  <a:pt x="1110" y="690"/>
                </a:lnTo>
                <a:lnTo>
                  <a:pt x="1119" y="676"/>
                </a:lnTo>
                <a:lnTo>
                  <a:pt x="1128" y="658"/>
                </a:lnTo>
                <a:lnTo>
                  <a:pt x="1145" y="625"/>
                </a:lnTo>
                <a:lnTo>
                  <a:pt x="1149" y="612"/>
                </a:lnTo>
                <a:lnTo>
                  <a:pt x="1152" y="601"/>
                </a:lnTo>
                <a:lnTo>
                  <a:pt x="1154" y="592"/>
                </a:lnTo>
                <a:lnTo>
                  <a:pt x="1154" y="584"/>
                </a:lnTo>
                <a:lnTo>
                  <a:pt x="1154" y="578"/>
                </a:lnTo>
                <a:lnTo>
                  <a:pt x="1152" y="572"/>
                </a:lnTo>
                <a:lnTo>
                  <a:pt x="1146" y="565"/>
                </a:lnTo>
                <a:lnTo>
                  <a:pt x="1140" y="559"/>
                </a:lnTo>
                <a:lnTo>
                  <a:pt x="1136" y="553"/>
                </a:lnTo>
                <a:lnTo>
                  <a:pt x="1134" y="548"/>
                </a:lnTo>
                <a:lnTo>
                  <a:pt x="1133" y="544"/>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96" name="AutoShape 103"/>
          <p:cNvSpPr/>
          <p:nvPr/>
        </p:nvSpPr>
        <p:spPr>
          <a:xfrm>
            <a:off x="64620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rth America</a:t>
            </a:r>
            <a:endParaRPr b="0" lang="en-US" sz="1400" spc="-1" strike="noStrike">
              <a:solidFill>
                <a:srgbClr val="000000"/>
              </a:solidFill>
              <a:latin typeface="Gulim"/>
            </a:endParaRPr>
          </a:p>
        </p:txBody>
      </p:sp>
      <p:sp>
        <p:nvSpPr>
          <p:cNvPr id="797" name="AutoShape 104"/>
          <p:cNvSpPr/>
          <p:nvPr/>
        </p:nvSpPr>
        <p:spPr>
          <a:xfrm>
            <a:off x="285840" y="4506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uth America</a:t>
            </a:r>
            <a:endParaRPr b="0" lang="en-US" sz="1400" spc="-1" strike="noStrike">
              <a:solidFill>
                <a:srgbClr val="000000"/>
              </a:solidFill>
              <a:latin typeface="Gulim"/>
            </a:endParaRPr>
          </a:p>
        </p:txBody>
      </p:sp>
      <p:sp>
        <p:nvSpPr>
          <p:cNvPr id="798" name="Oval 105"/>
          <p:cNvSpPr/>
          <p:nvPr/>
        </p:nvSpPr>
        <p:spPr>
          <a:xfrm>
            <a:off x="1762200" y="2562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9" name="Oval 106"/>
          <p:cNvSpPr/>
          <p:nvPr/>
        </p:nvSpPr>
        <p:spPr>
          <a:xfrm>
            <a:off x="3130560" y="457848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00" name="AutoShape 107"/>
          <p:cNvCxnSpPr/>
          <p:nvPr/>
        </p:nvCxnSpPr>
        <p:spPr>
          <a:xfrm>
            <a:off x="1437840" y="1770120"/>
            <a:ext cx="397800" cy="783360"/>
          </a:xfrm>
          <a:prstGeom prst="straightConnector1">
            <a:avLst/>
          </a:prstGeom>
          <a:ln w="9360">
            <a:solidFill>
              <a:srgbClr val="000000"/>
            </a:solidFill>
            <a:miter/>
          </a:ln>
        </p:spPr>
      </p:cxnSp>
      <p:cxnSp>
        <p:nvCxnSpPr>
          <p:cNvPr id="801" name="AutoShape 108"/>
          <p:cNvCxnSpPr/>
          <p:nvPr/>
        </p:nvCxnSpPr>
        <p:spPr>
          <a:xfrm>
            <a:off x="1869840" y="4650840"/>
            <a:ext cx="1251720" cy="1080"/>
          </a:xfrm>
          <a:prstGeom prst="straightConnector1">
            <a:avLst/>
          </a:prstGeom>
          <a:ln w="9360">
            <a:solidFill>
              <a:srgbClr val="000000"/>
            </a:solidFill>
            <a:miter/>
          </a:ln>
        </p:spPr>
      </p:cxnSp>
      <p:sp>
        <p:nvSpPr>
          <p:cNvPr id="802" name="Freeform 110"/>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3" name="Freeform 111"/>
          <p:cNvSpPr/>
          <p:nvPr/>
        </p:nvSpPr>
        <p:spPr>
          <a:xfrm>
            <a:off x="4073400" y="1539720"/>
            <a:ext cx="4324320" cy="2014560"/>
          </a:xfrm>
          <a:custGeom>
            <a:avLst/>
            <a:gdLst>
              <a:gd name="textAreaLeft" fmla="*/ 0 w 4324320"/>
              <a:gd name="textAreaRight" fmla="*/ 4324680 w 4324320"/>
              <a:gd name="textAreaTop" fmla="*/ 0 h 2014560"/>
              <a:gd name="textAreaBottom" fmla="*/ 2014560 h 2014560"/>
            </a:gdLst>
            <a:ahLst/>
            <a:rect l="textAreaLeft" t="textAreaTop" r="textAreaRight" b="textAreaBottom"/>
            <a:pathLst>
              <a:path w="2724" h="1269">
                <a:moveTo>
                  <a:pt x="2705" y="500"/>
                </a:moveTo>
                <a:lnTo>
                  <a:pt x="2705" y="500"/>
                </a:lnTo>
                <a:lnTo>
                  <a:pt x="2711" y="494"/>
                </a:lnTo>
                <a:lnTo>
                  <a:pt x="2715" y="488"/>
                </a:lnTo>
                <a:lnTo>
                  <a:pt x="2721" y="481"/>
                </a:lnTo>
                <a:lnTo>
                  <a:pt x="2724" y="475"/>
                </a:lnTo>
                <a:lnTo>
                  <a:pt x="2724" y="472"/>
                </a:lnTo>
                <a:lnTo>
                  <a:pt x="2724" y="469"/>
                </a:lnTo>
                <a:lnTo>
                  <a:pt x="2723" y="466"/>
                </a:lnTo>
                <a:lnTo>
                  <a:pt x="2720" y="464"/>
                </a:lnTo>
                <a:lnTo>
                  <a:pt x="2715" y="463"/>
                </a:lnTo>
                <a:lnTo>
                  <a:pt x="2708" y="463"/>
                </a:lnTo>
                <a:lnTo>
                  <a:pt x="2684" y="461"/>
                </a:lnTo>
                <a:lnTo>
                  <a:pt x="2675" y="460"/>
                </a:lnTo>
                <a:lnTo>
                  <a:pt x="2667" y="458"/>
                </a:lnTo>
                <a:lnTo>
                  <a:pt x="2663" y="455"/>
                </a:lnTo>
                <a:lnTo>
                  <a:pt x="2660" y="451"/>
                </a:lnTo>
                <a:lnTo>
                  <a:pt x="2658" y="446"/>
                </a:lnTo>
                <a:lnTo>
                  <a:pt x="2658" y="440"/>
                </a:lnTo>
                <a:lnTo>
                  <a:pt x="2660" y="436"/>
                </a:lnTo>
                <a:lnTo>
                  <a:pt x="2658" y="434"/>
                </a:lnTo>
                <a:lnTo>
                  <a:pt x="2655" y="429"/>
                </a:lnTo>
                <a:lnTo>
                  <a:pt x="2649" y="428"/>
                </a:lnTo>
                <a:lnTo>
                  <a:pt x="2641" y="428"/>
                </a:lnTo>
                <a:lnTo>
                  <a:pt x="2626" y="429"/>
                </a:lnTo>
                <a:lnTo>
                  <a:pt x="2620" y="431"/>
                </a:lnTo>
                <a:lnTo>
                  <a:pt x="2571" y="366"/>
                </a:lnTo>
                <a:lnTo>
                  <a:pt x="2554" y="363"/>
                </a:lnTo>
                <a:lnTo>
                  <a:pt x="2538" y="360"/>
                </a:lnTo>
                <a:lnTo>
                  <a:pt x="2519" y="357"/>
                </a:lnTo>
                <a:lnTo>
                  <a:pt x="2500" y="356"/>
                </a:lnTo>
                <a:lnTo>
                  <a:pt x="2483" y="357"/>
                </a:lnTo>
                <a:lnTo>
                  <a:pt x="2477" y="359"/>
                </a:lnTo>
                <a:lnTo>
                  <a:pt x="2471" y="362"/>
                </a:lnTo>
                <a:lnTo>
                  <a:pt x="2468" y="365"/>
                </a:lnTo>
                <a:lnTo>
                  <a:pt x="2468" y="371"/>
                </a:lnTo>
                <a:lnTo>
                  <a:pt x="2468" y="380"/>
                </a:lnTo>
                <a:lnTo>
                  <a:pt x="2471" y="387"/>
                </a:lnTo>
                <a:lnTo>
                  <a:pt x="2474" y="392"/>
                </a:lnTo>
                <a:lnTo>
                  <a:pt x="2476" y="395"/>
                </a:lnTo>
                <a:lnTo>
                  <a:pt x="2477" y="396"/>
                </a:lnTo>
                <a:lnTo>
                  <a:pt x="2477" y="398"/>
                </a:lnTo>
                <a:lnTo>
                  <a:pt x="2468" y="401"/>
                </a:lnTo>
                <a:lnTo>
                  <a:pt x="2459" y="402"/>
                </a:lnTo>
                <a:lnTo>
                  <a:pt x="2452" y="401"/>
                </a:lnTo>
                <a:lnTo>
                  <a:pt x="2446" y="398"/>
                </a:lnTo>
                <a:lnTo>
                  <a:pt x="2438" y="395"/>
                </a:lnTo>
                <a:lnTo>
                  <a:pt x="2431" y="390"/>
                </a:lnTo>
                <a:lnTo>
                  <a:pt x="2423" y="386"/>
                </a:lnTo>
                <a:lnTo>
                  <a:pt x="2412" y="383"/>
                </a:lnTo>
                <a:lnTo>
                  <a:pt x="2402" y="381"/>
                </a:lnTo>
                <a:lnTo>
                  <a:pt x="2378" y="381"/>
                </a:lnTo>
                <a:lnTo>
                  <a:pt x="2355" y="380"/>
                </a:lnTo>
                <a:lnTo>
                  <a:pt x="2330" y="378"/>
                </a:lnTo>
                <a:lnTo>
                  <a:pt x="2331" y="369"/>
                </a:lnTo>
                <a:lnTo>
                  <a:pt x="2331" y="351"/>
                </a:lnTo>
                <a:lnTo>
                  <a:pt x="2331" y="342"/>
                </a:lnTo>
                <a:lnTo>
                  <a:pt x="2328" y="333"/>
                </a:lnTo>
                <a:lnTo>
                  <a:pt x="2324" y="327"/>
                </a:lnTo>
                <a:lnTo>
                  <a:pt x="2322" y="326"/>
                </a:lnTo>
                <a:lnTo>
                  <a:pt x="2319" y="324"/>
                </a:lnTo>
                <a:lnTo>
                  <a:pt x="2238" y="324"/>
                </a:lnTo>
                <a:lnTo>
                  <a:pt x="2191" y="322"/>
                </a:lnTo>
                <a:lnTo>
                  <a:pt x="2165" y="321"/>
                </a:lnTo>
                <a:lnTo>
                  <a:pt x="2150" y="282"/>
                </a:lnTo>
                <a:lnTo>
                  <a:pt x="2120" y="264"/>
                </a:lnTo>
                <a:lnTo>
                  <a:pt x="2078" y="252"/>
                </a:lnTo>
                <a:lnTo>
                  <a:pt x="2072" y="250"/>
                </a:lnTo>
                <a:lnTo>
                  <a:pt x="2060" y="247"/>
                </a:lnTo>
                <a:lnTo>
                  <a:pt x="2052" y="246"/>
                </a:lnTo>
                <a:lnTo>
                  <a:pt x="2046" y="247"/>
                </a:lnTo>
                <a:lnTo>
                  <a:pt x="2042" y="250"/>
                </a:lnTo>
                <a:lnTo>
                  <a:pt x="2040" y="253"/>
                </a:lnTo>
                <a:lnTo>
                  <a:pt x="2039" y="256"/>
                </a:lnTo>
                <a:lnTo>
                  <a:pt x="2034" y="279"/>
                </a:lnTo>
                <a:lnTo>
                  <a:pt x="2031" y="286"/>
                </a:lnTo>
                <a:lnTo>
                  <a:pt x="2016" y="298"/>
                </a:lnTo>
                <a:lnTo>
                  <a:pt x="1986" y="298"/>
                </a:lnTo>
                <a:lnTo>
                  <a:pt x="1972" y="297"/>
                </a:lnTo>
                <a:lnTo>
                  <a:pt x="1965" y="295"/>
                </a:lnTo>
                <a:lnTo>
                  <a:pt x="1957" y="294"/>
                </a:lnTo>
                <a:lnTo>
                  <a:pt x="1947" y="298"/>
                </a:lnTo>
                <a:lnTo>
                  <a:pt x="1933" y="303"/>
                </a:lnTo>
                <a:lnTo>
                  <a:pt x="1921" y="304"/>
                </a:lnTo>
                <a:lnTo>
                  <a:pt x="1909" y="306"/>
                </a:lnTo>
                <a:lnTo>
                  <a:pt x="1897" y="264"/>
                </a:lnTo>
                <a:lnTo>
                  <a:pt x="1879" y="217"/>
                </a:lnTo>
                <a:lnTo>
                  <a:pt x="1887" y="187"/>
                </a:lnTo>
                <a:lnTo>
                  <a:pt x="1810" y="187"/>
                </a:lnTo>
                <a:lnTo>
                  <a:pt x="1802" y="209"/>
                </a:lnTo>
                <a:lnTo>
                  <a:pt x="1810" y="229"/>
                </a:lnTo>
                <a:lnTo>
                  <a:pt x="1810" y="249"/>
                </a:lnTo>
                <a:lnTo>
                  <a:pt x="1781" y="235"/>
                </a:lnTo>
                <a:lnTo>
                  <a:pt x="1740" y="217"/>
                </a:lnTo>
                <a:lnTo>
                  <a:pt x="1724" y="211"/>
                </a:lnTo>
                <a:lnTo>
                  <a:pt x="1701" y="203"/>
                </a:lnTo>
                <a:lnTo>
                  <a:pt x="1673" y="194"/>
                </a:lnTo>
                <a:lnTo>
                  <a:pt x="1673" y="175"/>
                </a:lnTo>
                <a:lnTo>
                  <a:pt x="1653" y="179"/>
                </a:lnTo>
                <a:lnTo>
                  <a:pt x="1611" y="209"/>
                </a:lnTo>
                <a:lnTo>
                  <a:pt x="1645" y="152"/>
                </a:lnTo>
                <a:lnTo>
                  <a:pt x="1673" y="115"/>
                </a:lnTo>
                <a:lnTo>
                  <a:pt x="1674" y="107"/>
                </a:lnTo>
                <a:lnTo>
                  <a:pt x="1676" y="89"/>
                </a:lnTo>
                <a:lnTo>
                  <a:pt x="1677" y="80"/>
                </a:lnTo>
                <a:lnTo>
                  <a:pt x="1677" y="71"/>
                </a:lnTo>
                <a:lnTo>
                  <a:pt x="1676" y="63"/>
                </a:lnTo>
                <a:lnTo>
                  <a:pt x="1674" y="62"/>
                </a:lnTo>
                <a:lnTo>
                  <a:pt x="1673" y="60"/>
                </a:lnTo>
                <a:lnTo>
                  <a:pt x="1661" y="56"/>
                </a:lnTo>
                <a:lnTo>
                  <a:pt x="1648" y="48"/>
                </a:lnTo>
                <a:lnTo>
                  <a:pt x="1633" y="38"/>
                </a:lnTo>
                <a:lnTo>
                  <a:pt x="1596" y="60"/>
                </a:lnTo>
                <a:lnTo>
                  <a:pt x="1576" y="23"/>
                </a:lnTo>
                <a:lnTo>
                  <a:pt x="1576" y="0"/>
                </a:lnTo>
                <a:lnTo>
                  <a:pt x="1534" y="0"/>
                </a:lnTo>
                <a:lnTo>
                  <a:pt x="1514" y="45"/>
                </a:lnTo>
                <a:lnTo>
                  <a:pt x="1484" y="92"/>
                </a:lnTo>
                <a:lnTo>
                  <a:pt x="1377" y="83"/>
                </a:lnTo>
                <a:lnTo>
                  <a:pt x="1290" y="172"/>
                </a:lnTo>
                <a:lnTo>
                  <a:pt x="1285" y="214"/>
                </a:lnTo>
                <a:lnTo>
                  <a:pt x="1236" y="217"/>
                </a:lnTo>
                <a:lnTo>
                  <a:pt x="1234" y="223"/>
                </a:lnTo>
                <a:lnTo>
                  <a:pt x="1233" y="237"/>
                </a:lnTo>
                <a:lnTo>
                  <a:pt x="1231" y="246"/>
                </a:lnTo>
                <a:lnTo>
                  <a:pt x="1233" y="255"/>
                </a:lnTo>
                <a:lnTo>
                  <a:pt x="1236" y="264"/>
                </a:lnTo>
                <a:lnTo>
                  <a:pt x="1240" y="271"/>
                </a:lnTo>
                <a:lnTo>
                  <a:pt x="1252" y="285"/>
                </a:lnTo>
                <a:lnTo>
                  <a:pt x="1263" y="295"/>
                </a:lnTo>
                <a:lnTo>
                  <a:pt x="1270" y="306"/>
                </a:lnTo>
                <a:lnTo>
                  <a:pt x="1273" y="312"/>
                </a:lnTo>
                <a:lnTo>
                  <a:pt x="1275" y="316"/>
                </a:lnTo>
                <a:lnTo>
                  <a:pt x="1273" y="319"/>
                </a:lnTo>
                <a:lnTo>
                  <a:pt x="1272" y="319"/>
                </a:lnTo>
                <a:lnTo>
                  <a:pt x="1264" y="318"/>
                </a:lnTo>
                <a:lnTo>
                  <a:pt x="1254" y="313"/>
                </a:lnTo>
                <a:lnTo>
                  <a:pt x="1242" y="307"/>
                </a:lnTo>
                <a:lnTo>
                  <a:pt x="1219" y="294"/>
                </a:lnTo>
                <a:lnTo>
                  <a:pt x="1208" y="286"/>
                </a:lnTo>
                <a:lnTo>
                  <a:pt x="1171" y="279"/>
                </a:lnTo>
                <a:lnTo>
                  <a:pt x="1171" y="363"/>
                </a:lnTo>
                <a:lnTo>
                  <a:pt x="1169" y="368"/>
                </a:lnTo>
                <a:lnTo>
                  <a:pt x="1168" y="372"/>
                </a:lnTo>
                <a:lnTo>
                  <a:pt x="1165" y="378"/>
                </a:lnTo>
                <a:lnTo>
                  <a:pt x="1163" y="384"/>
                </a:lnTo>
                <a:lnTo>
                  <a:pt x="1165" y="390"/>
                </a:lnTo>
                <a:lnTo>
                  <a:pt x="1169" y="396"/>
                </a:lnTo>
                <a:lnTo>
                  <a:pt x="1178" y="402"/>
                </a:lnTo>
                <a:lnTo>
                  <a:pt x="1193" y="408"/>
                </a:lnTo>
                <a:lnTo>
                  <a:pt x="1186" y="431"/>
                </a:lnTo>
                <a:lnTo>
                  <a:pt x="1166" y="443"/>
                </a:lnTo>
                <a:lnTo>
                  <a:pt x="1160" y="448"/>
                </a:lnTo>
                <a:lnTo>
                  <a:pt x="1145" y="461"/>
                </a:lnTo>
                <a:lnTo>
                  <a:pt x="1138" y="470"/>
                </a:lnTo>
                <a:lnTo>
                  <a:pt x="1130" y="479"/>
                </a:lnTo>
                <a:lnTo>
                  <a:pt x="1124" y="488"/>
                </a:lnTo>
                <a:lnTo>
                  <a:pt x="1121" y="497"/>
                </a:lnTo>
                <a:lnTo>
                  <a:pt x="1124" y="482"/>
                </a:lnTo>
                <a:lnTo>
                  <a:pt x="1127" y="451"/>
                </a:lnTo>
                <a:lnTo>
                  <a:pt x="1129" y="432"/>
                </a:lnTo>
                <a:lnTo>
                  <a:pt x="1127" y="414"/>
                </a:lnTo>
                <a:lnTo>
                  <a:pt x="1126" y="407"/>
                </a:lnTo>
                <a:lnTo>
                  <a:pt x="1124" y="399"/>
                </a:lnTo>
                <a:lnTo>
                  <a:pt x="1121" y="393"/>
                </a:lnTo>
                <a:lnTo>
                  <a:pt x="1117" y="390"/>
                </a:lnTo>
                <a:lnTo>
                  <a:pt x="1110" y="383"/>
                </a:lnTo>
                <a:lnTo>
                  <a:pt x="1110" y="380"/>
                </a:lnTo>
                <a:lnTo>
                  <a:pt x="1109" y="377"/>
                </a:lnTo>
                <a:lnTo>
                  <a:pt x="1110" y="371"/>
                </a:lnTo>
                <a:lnTo>
                  <a:pt x="1115" y="365"/>
                </a:lnTo>
                <a:lnTo>
                  <a:pt x="1120" y="362"/>
                </a:lnTo>
                <a:lnTo>
                  <a:pt x="1124" y="357"/>
                </a:lnTo>
                <a:lnTo>
                  <a:pt x="1129" y="356"/>
                </a:lnTo>
                <a:lnTo>
                  <a:pt x="1114" y="274"/>
                </a:lnTo>
                <a:lnTo>
                  <a:pt x="1100" y="280"/>
                </a:lnTo>
                <a:lnTo>
                  <a:pt x="1086" y="286"/>
                </a:lnTo>
                <a:lnTo>
                  <a:pt x="1070" y="295"/>
                </a:lnTo>
                <a:lnTo>
                  <a:pt x="1055" y="307"/>
                </a:lnTo>
                <a:lnTo>
                  <a:pt x="1047" y="315"/>
                </a:lnTo>
                <a:lnTo>
                  <a:pt x="1041" y="324"/>
                </a:lnTo>
                <a:lnTo>
                  <a:pt x="1035" y="332"/>
                </a:lnTo>
                <a:lnTo>
                  <a:pt x="1032" y="342"/>
                </a:lnTo>
                <a:lnTo>
                  <a:pt x="1029" y="351"/>
                </a:lnTo>
                <a:lnTo>
                  <a:pt x="1029" y="363"/>
                </a:lnTo>
                <a:lnTo>
                  <a:pt x="1032" y="369"/>
                </a:lnTo>
                <a:lnTo>
                  <a:pt x="1037" y="386"/>
                </a:lnTo>
                <a:lnTo>
                  <a:pt x="1038" y="396"/>
                </a:lnTo>
                <a:lnTo>
                  <a:pt x="1040" y="408"/>
                </a:lnTo>
                <a:lnTo>
                  <a:pt x="1038" y="420"/>
                </a:lnTo>
                <a:lnTo>
                  <a:pt x="1037" y="431"/>
                </a:lnTo>
                <a:lnTo>
                  <a:pt x="1034" y="423"/>
                </a:lnTo>
                <a:lnTo>
                  <a:pt x="1025" y="405"/>
                </a:lnTo>
                <a:lnTo>
                  <a:pt x="1019" y="396"/>
                </a:lnTo>
                <a:lnTo>
                  <a:pt x="1013" y="390"/>
                </a:lnTo>
                <a:lnTo>
                  <a:pt x="1007" y="386"/>
                </a:lnTo>
                <a:lnTo>
                  <a:pt x="1002" y="386"/>
                </a:lnTo>
                <a:lnTo>
                  <a:pt x="999" y="386"/>
                </a:lnTo>
                <a:lnTo>
                  <a:pt x="991" y="389"/>
                </a:lnTo>
                <a:lnTo>
                  <a:pt x="985" y="395"/>
                </a:lnTo>
                <a:lnTo>
                  <a:pt x="976" y="405"/>
                </a:lnTo>
                <a:lnTo>
                  <a:pt x="970" y="416"/>
                </a:lnTo>
                <a:lnTo>
                  <a:pt x="967" y="420"/>
                </a:lnTo>
                <a:lnTo>
                  <a:pt x="927" y="413"/>
                </a:lnTo>
                <a:lnTo>
                  <a:pt x="900" y="405"/>
                </a:lnTo>
                <a:lnTo>
                  <a:pt x="900" y="436"/>
                </a:lnTo>
                <a:lnTo>
                  <a:pt x="877" y="440"/>
                </a:lnTo>
                <a:lnTo>
                  <a:pt x="857" y="440"/>
                </a:lnTo>
                <a:lnTo>
                  <a:pt x="818" y="440"/>
                </a:lnTo>
                <a:lnTo>
                  <a:pt x="818" y="478"/>
                </a:lnTo>
                <a:lnTo>
                  <a:pt x="777" y="463"/>
                </a:lnTo>
                <a:lnTo>
                  <a:pt x="765" y="436"/>
                </a:lnTo>
                <a:lnTo>
                  <a:pt x="753" y="451"/>
                </a:lnTo>
                <a:lnTo>
                  <a:pt x="750" y="490"/>
                </a:lnTo>
                <a:lnTo>
                  <a:pt x="750" y="515"/>
                </a:lnTo>
                <a:lnTo>
                  <a:pt x="731" y="520"/>
                </a:lnTo>
                <a:lnTo>
                  <a:pt x="704" y="527"/>
                </a:lnTo>
                <a:lnTo>
                  <a:pt x="693" y="542"/>
                </a:lnTo>
                <a:lnTo>
                  <a:pt x="646" y="573"/>
                </a:lnTo>
                <a:lnTo>
                  <a:pt x="624" y="550"/>
                </a:lnTo>
                <a:lnTo>
                  <a:pt x="624" y="508"/>
                </a:lnTo>
                <a:lnTo>
                  <a:pt x="597" y="490"/>
                </a:lnTo>
                <a:lnTo>
                  <a:pt x="600" y="488"/>
                </a:lnTo>
                <a:lnTo>
                  <a:pt x="606" y="485"/>
                </a:lnTo>
                <a:lnTo>
                  <a:pt x="610" y="485"/>
                </a:lnTo>
                <a:lnTo>
                  <a:pt x="615" y="485"/>
                </a:lnTo>
                <a:lnTo>
                  <a:pt x="621" y="488"/>
                </a:lnTo>
                <a:lnTo>
                  <a:pt x="628" y="493"/>
                </a:lnTo>
                <a:lnTo>
                  <a:pt x="636" y="499"/>
                </a:lnTo>
                <a:lnTo>
                  <a:pt x="648" y="506"/>
                </a:lnTo>
                <a:lnTo>
                  <a:pt x="658" y="511"/>
                </a:lnTo>
                <a:lnTo>
                  <a:pt x="664" y="512"/>
                </a:lnTo>
                <a:lnTo>
                  <a:pt x="669" y="511"/>
                </a:lnTo>
                <a:lnTo>
                  <a:pt x="675" y="509"/>
                </a:lnTo>
                <a:lnTo>
                  <a:pt x="678" y="506"/>
                </a:lnTo>
                <a:lnTo>
                  <a:pt x="681" y="502"/>
                </a:lnTo>
                <a:lnTo>
                  <a:pt x="684" y="493"/>
                </a:lnTo>
                <a:lnTo>
                  <a:pt x="684" y="484"/>
                </a:lnTo>
                <a:lnTo>
                  <a:pt x="684" y="470"/>
                </a:lnTo>
                <a:lnTo>
                  <a:pt x="681" y="455"/>
                </a:lnTo>
                <a:lnTo>
                  <a:pt x="678" y="436"/>
                </a:lnTo>
                <a:lnTo>
                  <a:pt x="672" y="428"/>
                </a:lnTo>
                <a:lnTo>
                  <a:pt x="663" y="420"/>
                </a:lnTo>
                <a:lnTo>
                  <a:pt x="652" y="413"/>
                </a:lnTo>
                <a:lnTo>
                  <a:pt x="637" y="404"/>
                </a:lnTo>
                <a:lnTo>
                  <a:pt x="618" y="396"/>
                </a:lnTo>
                <a:lnTo>
                  <a:pt x="607" y="393"/>
                </a:lnTo>
                <a:lnTo>
                  <a:pt x="594" y="392"/>
                </a:lnTo>
                <a:lnTo>
                  <a:pt x="582" y="390"/>
                </a:lnTo>
                <a:lnTo>
                  <a:pt x="567" y="390"/>
                </a:lnTo>
                <a:lnTo>
                  <a:pt x="562" y="380"/>
                </a:lnTo>
                <a:lnTo>
                  <a:pt x="556" y="372"/>
                </a:lnTo>
                <a:lnTo>
                  <a:pt x="548" y="362"/>
                </a:lnTo>
                <a:lnTo>
                  <a:pt x="539" y="354"/>
                </a:lnTo>
                <a:lnTo>
                  <a:pt x="535" y="350"/>
                </a:lnTo>
                <a:lnTo>
                  <a:pt x="529" y="348"/>
                </a:lnTo>
                <a:lnTo>
                  <a:pt x="524" y="347"/>
                </a:lnTo>
                <a:lnTo>
                  <a:pt x="518" y="347"/>
                </a:lnTo>
                <a:lnTo>
                  <a:pt x="512" y="348"/>
                </a:lnTo>
                <a:lnTo>
                  <a:pt x="505" y="351"/>
                </a:lnTo>
                <a:lnTo>
                  <a:pt x="491" y="360"/>
                </a:lnTo>
                <a:lnTo>
                  <a:pt x="476" y="368"/>
                </a:lnTo>
                <a:lnTo>
                  <a:pt x="444" y="381"/>
                </a:lnTo>
                <a:lnTo>
                  <a:pt x="431" y="387"/>
                </a:lnTo>
                <a:lnTo>
                  <a:pt x="420" y="393"/>
                </a:lnTo>
                <a:lnTo>
                  <a:pt x="413" y="399"/>
                </a:lnTo>
                <a:lnTo>
                  <a:pt x="410" y="402"/>
                </a:lnTo>
                <a:lnTo>
                  <a:pt x="410" y="405"/>
                </a:lnTo>
                <a:lnTo>
                  <a:pt x="408" y="410"/>
                </a:lnTo>
                <a:lnTo>
                  <a:pt x="404" y="416"/>
                </a:lnTo>
                <a:lnTo>
                  <a:pt x="398" y="420"/>
                </a:lnTo>
                <a:lnTo>
                  <a:pt x="390" y="423"/>
                </a:lnTo>
                <a:lnTo>
                  <a:pt x="377" y="429"/>
                </a:lnTo>
                <a:lnTo>
                  <a:pt x="371" y="431"/>
                </a:lnTo>
                <a:lnTo>
                  <a:pt x="360" y="470"/>
                </a:lnTo>
                <a:lnTo>
                  <a:pt x="325" y="497"/>
                </a:lnTo>
                <a:lnTo>
                  <a:pt x="271" y="558"/>
                </a:lnTo>
                <a:lnTo>
                  <a:pt x="238" y="622"/>
                </a:lnTo>
                <a:lnTo>
                  <a:pt x="211" y="639"/>
                </a:lnTo>
                <a:lnTo>
                  <a:pt x="203" y="692"/>
                </a:lnTo>
                <a:lnTo>
                  <a:pt x="211" y="726"/>
                </a:lnTo>
                <a:lnTo>
                  <a:pt x="256" y="741"/>
                </a:lnTo>
                <a:lnTo>
                  <a:pt x="291" y="738"/>
                </a:lnTo>
                <a:lnTo>
                  <a:pt x="298" y="769"/>
                </a:lnTo>
                <a:lnTo>
                  <a:pt x="298" y="799"/>
                </a:lnTo>
                <a:lnTo>
                  <a:pt x="345" y="796"/>
                </a:lnTo>
                <a:lnTo>
                  <a:pt x="356" y="756"/>
                </a:lnTo>
                <a:lnTo>
                  <a:pt x="380" y="707"/>
                </a:lnTo>
                <a:lnTo>
                  <a:pt x="375" y="657"/>
                </a:lnTo>
                <a:lnTo>
                  <a:pt x="398" y="615"/>
                </a:lnTo>
                <a:lnTo>
                  <a:pt x="429" y="573"/>
                </a:lnTo>
                <a:lnTo>
                  <a:pt x="455" y="542"/>
                </a:lnTo>
                <a:lnTo>
                  <a:pt x="461" y="539"/>
                </a:lnTo>
                <a:lnTo>
                  <a:pt x="467" y="536"/>
                </a:lnTo>
                <a:lnTo>
                  <a:pt x="473" y="533"/>
                </a:lnTo>
                <a:lnTo>
                  <a:pt x="479" y="533"/>
                </a:lnTo>
                <a:lnTo>
                  <a:pt x="481" y="535"/>
                </a:lnTo>
                <a:lnTo>
                  <a:pt x="484" y="536"/>
                </a:lnTo>
                <a:lnTo>
                  <a:pt x="484" y="539"/>
                </a:lnTo>
                <a:lnTo>
                  <a:pt x="485" y="542"/>
                </a:lnTo>
                <a:lnTo>
                  <a:pt x="482" y="555"/>
                </a:lnTo>
                <a:lnTo>
                  <a:pt x="478" y="567"/>
                </a:lnTo>
                <a:lnTo>
                  <a:pt x="472" y="577"/>
                </a:lnTo>
                <a:lnTo>
                  <a:pt x="466" y="585"/>
                </a:lnTo>
                <a:lnTo>
                  <a:pt x="460" y="589"/>
                </a:lnTo>
                <a:lnTo>
                  <a:pt x="454" y="592"/>
                </a:lnTo>
                <a:lnTo>
                  <a:pt x="449" y="595"/>
                </a:lnTo>
                <a:lnTo>
                  <a:pt x="444" y="597"/>
                </a:lnTo>
                <a:lnTo>
                  <a:pt x="429" y="642"/>
                </a:lnTo>
                <a:lnTo>
                  <a:pt x="429" y="648"/>
                </a:lnTo>
                <a:lnTo>
                  <a:pt x="431" y="654"/>
                </a:lnTo>
                <a:lnTo>
                  <a:pt x="434" y="662"/>
                </a:lnTo>
                <a:lnTo>
                  <a:pt x="440" y="669"/>
                </a:lnTo>
                <a:lnTo>
                  <a:pt x="447" y="677"/>
                </a:lnTo>
                <a:lnTo>
                  <a:pt x="461" y="681"/>
                </a:lnTo>
                <a:lnTo>
                  <a:pt x="469" y="683"/>
                </a:lnTo>
                <a:lnTo>
                  <a:pt x="479" y="684"/>
                </a:lnTo>
                <a:lnTo>
                  <a:pt x="497" y="686"/>
                </a:lnTo>
                <a:lnTo>
                  <a:pt x="512" y="690"/>
                </a:lnTo>
                <a:lnTo>
                  <a:pt x="526" y="695"/>
                </a:lnTo>
                <a:lnTo>
                  <a:pt x="536" y="699"/>
                </a:lnTo>
                <a:lnTo>
                  <a:pt x="550" y="707"/>
                </a:lnTo>
                <a:lnTo>
                  <a:pt x="554" y="711"/>
                </a:lnTo>
                <a:lnTo>
                  <a:pt x="517" y="722"/>
                </a:lnTo>
                <a:lnTo>
                  <a:pt x="475" y="719"/>
                </a:lnTo>
                <a:lnTo>
                  <a:pt x="444" y="769"/>
                </a:lnTo>
                <a:lnTo>
                  <a:pt x="413" y="784"/>
                </a:lnTo>
                <a:lnTo>
                  <a:pt x="410" y="833"/>
                </a:lnTo>
                <a:lnTo>
                  <a:pt x="387" y="853"/>
                </a:lnTo>
                <a:lnTo>
                  <a:pt x="276" y="848"/>
                </a:lnTo>
                <a:lnTo>
                  <a:pt x="276" y="796"/>
                </a:lnTo>
                <a:lnTo>
                  <a:pt x="273" y="794"/>
                </a:lnTo>
                <a:lnTo>
                  <a:pt x="268" y="794"/>
                </a:lnTo>
                <a:lnTo>
                  <a:pt x="264" y="794"/>
                </a:lnTo>
                <a:lnTo>
                  <a:pt x="259" y="796"/>
                </a:lnTo>
                <a:lnTo>
                  <a:pt x="255" y="800"/>
                </a:lnTo>
                <a:lnTo>
                  <a:pt x="252" y="806"/>
                </a:lnTo>
                <a:lnTo>
                  <a:pt x="249" y="814"/>
                </a:lnTo>
                <a:lnTo>
                  <a:pt x="246" y="833"/>
                </a:lnTo>
                <a:lnTo>
                  <a:pt x="243" y="851"/>
                </a:lnTo>
                <a:lnTo>
                  <a:pt x="238" y="868"/>
                </a:lnTo>
                <a:lnTo>
                  <a:pt x="203" y="883"/>
                </a:lnTo>
                <a:lnTo>
                  <a:pt x="172" y="933"/>
                </a:lnTo>
                <a:lnTo>
                  <a:pt x="142" y="955"/>
                </a:lnTo>
                <a:lnTo>
                  <a:pt x="104" y="960"/>
                </a:lnTo>
                <a:lnTo>
                  <a:pt x="92" y="982"/>
                </a:lnTo>
                <a:lnTo>
                  <a:pt x="104" y="1020"/>
                </a:lnTo>
                <a:lnTo>
                  <a:pt x="107" y="1026"/>
                </a:lnTo>
                <a:lnTo>
                  <a:pt x="110" y="1031"/>
                </a:lnTo>
                <a:lnTo>
                  <a:pt x="111" y="1038"/>
                </a:lnTo>
                <a:lnTo>
                  <a:pt x="113" y="1046"/>
                </a:lnTo>
                <a:lnTo>
                  <a:pt x="111" y="1055"/>
                </a:lnTo>
                <a:lnTo>
                  <a:pt x="107" y="1062"/>
                </a:lnTo>
                <a:lnTo>
                  <a:pt x="104" y="1067"/>
                </a:lnTo>
                <a:lnTo>
                  <a:pt x="99" y="1070"/>
                </a:lnTo>
                <a:lnTo>
                  <a:pt x="95" y="1073"/>
                </a:lnTo>
                <a:lnTo>
                  <a:pt x="89" y="1076"/>
                </a:lnTo>
                <a:lnTo>
                  <a:pt x="74" y="1079"/>
                </a:lnTo>
                <a:lnTo>
                  <a:pt x="59" y="1080"/>
                </a:lnTo>
                <a:lnTo>
                  <a:pt x="44" y="1079"/>
                </a:lnTo>
                <a:lnTo>
                  <a:pt x="18" y="1076"/>
                </a:lnTo>
                <a:lnTo>
                  <a:pt x="7" y="1074"/>
                </a:lnTo>
                <a:lnTo>
                  <a:pt x="0" y="1144"/>
                </a:lnTo>
                <a:lnTo>
                  <a:pt x="24" y="1204"/>
                </a:lnTo>
                <a:lnTo>
                  <a:pt x="74" y="1193"/>
                </a:lnTo>
                <a:lnTo>
                  <a:pt x="127" y="1174"/>
                </a:lnTo>
                <a:lnTo>
                  <a:pt x="157" y="1166"/>
                </a:lnTo>
                <a:lnTo>
                  <a:pt x="161" y="1132"/>
                </a:lnTo>
                <a:lnTo>
                  <a:pt x="184" y="1109"/>
                </a:lnTo>
                <a:lnTo>
                  <a:pt x="184" y="1059"/>
                </a:lnTo>
                <a:lnTo>
                  <a:pt x="188" y="1062"/>
                </a:lnTo>
                <a:lnTo>
                  <a:pt x="194" y="1067"/>
                </a:lnTo>
                <a:lnTo>
                  <a:pt x="202" y="1070"/>
                </a:lnTo>
                <a:lnTo>
                  <a:pt x="211" y="1073"/>
                </a:lnTo>
                <a:lnTo>
                  <a:pt x="223" y="1074"/>
                </a:lnTo>
                <a:lnTo>
                  <a:pt x="235" y="1074"/>
                </a:lnTo>
                <a:lnTo>
                  <a:pt x="249" y="1070"/>
                </a:lnTo>
                <a:lnTo>
                  <a:pt x="256" y="1068"/>
                </a:lnTo>
                <a:lnTo>
                  <a:pt x="262" y="1068"/>
                </a:lnTo>
                <a:lnTo>
                  <a:pt x="270" y="1068"/>
                </a:lnTo>
                <a:lnTo>
                  <a:pt x="276" y="1070"/>
                </a:lnTo>
                <a:lnTo>
                  <a:pt x="286" y="1076"/>
                </a:lnTo>
                <a:lnTo>
                  <a:pt x="295" y="1083"/>
                </a:lnTo>
                <a:lnTo>
                  <a:pt x="303" y="1092"/>
                </a:lnTo>
                <a:lnTo>
                  <a:pt x="309" y="1100"/>
                </a:lnTo>
                <a:lnTo>
                  <a:pt x="313" y="1109"/>
                </a:lnTo>
                <a:lnTo>
                  <a:pt x="345" y="1159"/>
                </a:lnTo>
                <a:lnTo>
                  <a:pt x="368" y="1159"/>
                </a:lnTo>
                <a:lnTo>
                  <a:pt x="375" y="1136"/>
                </a:lnTo>
                <a:lnTo>
                  <a:pt x="353" y="1102"/>
                </a:lnTo>
                <a:lnTo>
                  <a:pt x="337" y="1082"/>
                </a:lnTo>
                <a:lnTo>
                  <a:pt x="337" y="1062"/>
                </a:lnTo>
                <a:lnTo>
                  <a:pt x="348" y="1055"/>
                </a:lnTo>
                <a:lnTo>
                  <a:pt x="375" y="1094"/>
                </a:lnTo>
                <a:lnTo>
                  <a:pt x="405" y="1117"/>
                </a:lnTo>
                <a:lnTo>
                  <a:pt x="417" y="1151"/>
                </a:lnTo>
                <a:lnTo>
                  <a:pt x="425" y="1156"/>
                </a:lnTo>
                <a:lnTo>
                  <a:pt x="432" y="1160"/>
                </a:lnTo>
                <a:lnTo>
                  <a:pt x="441" y="1166"/>
                </a:lnTo>
                <a:lnTo>
                  <a:pt x="452" y="1168"/>
                </a:lnTo>
                <a:lnTo>
                  <a:pt x="455" y="1169"/>
                </a:lnTo>
                <a:lnTo>
                  <a:pt x="460" y="1168"/>
                </a:lnTo>
                <a:lnTo>
                  <a:pt x="463" y="1166"/>
                </a:lnTo>
                <a:lnTo>
                  <a:pt x="466" y="1165"/>
                </a:lnTo>
                <a:lnTo>
                  <a:pt x="467" y="1160"/>
                </a:lnTo>
                <a:lnTo>
                  <a:pt x="467" y="1154"/>
                </a:lnTo>
                <a:lnTo>
                  <a:pt x="467" y="1132"/>
                </a:lnTo>
                <a:lnTo>
                  <a:pt x="469" y="1117"/>
                </a:lnTo>
                <a:lnTo>
                  <a:pt x="470" y="1105"/>
                </a:lnTo>
                <a:lnTo>
                  <a:pt x="502" y="1117"/>
                </a:lnTo>
                <a:lnTo>
                  <a:pt x="524" y="1117"/>
                </a:lnTo>
                <a:lnTo>
                  <a:pt x="524" y="1082"/>
                </a:lnTo>
                <a:lnTo>
                  <a:pt x="524" y="1055"/>
                </a:lnTo>
                <a:lnTo>
                  <a:pt x="532" y="1025"/>
                </a:lnTo>
                <a:lnTo>
                  <a:pt x="586" y="1017"/>
                </a:lnTo>
                <a:lnTo>
                  <a:pt x="586" y="1023"/>
                </a:lnTo>
                <a:lnTo>
                  <a:pt x="588" y="1037"/>
                </a:lnTo>
                <a:lnTo>
                  <a:pt x="589" y="1043"/>
                </a:lnTo>
                <a:lnTo>
                  <a:pt x="591" y="1049"/>
                </a:lnTo>
                <a:lnTo>
                  <a:pt x="594" y="1053"/>
                </a:lnTo>
                <a:lnTo>
                  <a:pt x="597" y="1055"/>
                </a:lnTo>
                <a:lnTo>
                  <a:pt x="651" y="1055"/>
                </a:lnTo>
                <a:lnTo>
                  <a:pt x="628" y="1005"/>
                </a:lnTo>
                <a:lnTo>
                  <a:pt x="654" y="1005"/>
                </a:lnTo>
                <a:lnTo>
                  <a:pt x="686" y="1055"/>
                </a:lnTo>
                <a:lnTo>
                  <a:pt x="687" y="1062"/>
                </a:lnTo>
                <a:lnTo>
                  <a:pt x="687" y="1071"/>
                </a:lnTo>
                <a:lnTo>
                  <a:pt x="687" y="1080"/>
                </a:lnTo>
                <a:lnTo>
                  <a:pt x="684" y="1089"/>
                </a:lnTo>
                <a:lnTo>
                  <a:pt x="681" y="1094"/>
                </a:lnTo>
                <a:lnTo>
                  <a:pt x="677" y="1097"/>
                </a:lnTo>
                <a:lnTo>
                  <a:pt x="672" y="1100"/>
                </a:lnTo>
                <a:lnTo>
                  <a:pt x="666" y="1103"/>
                </a:lnTo>
                <a:lnTo>
                  <a:pt x="658" y="1105"/>
                </a:lnTo>
                <a:lnTo>
                  <a:pt x="651" y="1105"/>
                </a:lnTo>
                <a:lnTo>
                  <a:pt x="616" y="1106"/>
                </a:lnTo>
                <a:lnTo>
                  <a:pt x="591" y="1109"/>
                </a:lnTo>
                <a:lnTo>
                  <a:pt x="567" y="1112"/>
                </a:lnTo>
                <a:lnTo>
                  <a:pt x="532" y="1147"/>
                </a:lnTo>
                <a:lnTo>
                  <a:pt x="533" y="1156"/>
                </a:lnTo>
                <a:lnTo>
                  <a:pt x="536" y="1165"/>
                </a:lnTo>
                <a:lnTo>
                  <a:pt x="541" y="1175"/>
                </a:lnTo>
                <a:lnTo>
                  <a:pt x="548" y="1186"/>
                </a:lnTo>
                <a:lnTo>
                  <a:pt x="554" y="1190"/>
                </a:lnTo>
                <a:lnTo>
                  <a:pt x="560" y="1195"/>
                </a:lnTo>
                <a:lnTo>
                  <a:pt x="570" y="1199"/>
                </a:lnTo>
                <a:lnTo>
                  <a:pt x="579" y="1204"/>
                </a:lnTo>
                <a:lnTo>
                  <a:pt x="589" y="1205"/>
                </a:lnTo>
                <a:lnTo>
                  <a:pt x="601" y="1209"/>
                </a:lnTo>
                <a:lnTo>
                  <a:pt x="607" y="1209"/>
                </a:lnTo>
                <a:lnTo>
                  <a:pt x="613" y="1210"/>
                </a:lnTo>
                <a:lnTo>
                  <a:pt x="618" y="1213"/>
                </a:lnTo>
                <a:lnTo>
                  <a:pt x="621" y="1216"/>
                </a:lnTo>
                <a:lnTo>
                  <a:pt x="622" y="1221"/>
                </a:lnTo>
                <a:lnTo>
                  <a:pt x="622" y="1225"/>
                </a:lnTo>
                <a:lnTo>
                  <a:pt x="622" y="1230"/>
                </a:lnTo>
                <a:lnTo>
                  <a:pt x="621" y="1237"/>
                </a:lnTo>
                <a:lnTo>
                  <a:pt x="616" y="1245"/>
                </a:lnTo>
                <a:lnTo>
                  <a:pt x="612" y="1254"/>
                </a:lnTo>
                <a:lnTo>
                  <a:pt x="606" y="1264"/>
                </a:lnTo>
                <a:lnTo>
                  <a:pt x="606" y="1269"/>
                </a:lnTo>
                <a:lnTo>
                  <a:pt x="619" y="1257"/>
                </a:lnTo>
                <a:lnTo>
                  <a:pt x="633" y="1246"/>
                </a:lnTo>
                <a:lnTo>
                  <a:pt x="646" y="1240"/>
                </a:lnTo>
                <a:lnTo>
                  <a:pt x="652" y="1237"/>
                </a:lnTo>
                <a:lnTo>
                  <a:pt x="658" y="1237"/>
                </a:lnTo>
                <a:lnTo>
                  <a:pt x="675" y="1237"/>
                </a:lnTo>
                <a:lnTo>
                  <a:pt x="690" y="1234"/>
                </a:lnTo>
                <a:lnTo>
                  <a:pt x="717" y="1228"/>
                </a:lnTo>
                <a:lnTo>
                  <a:pt x="738" y="1222"/>
                </a:lnTo>
                <a:lnTo>
                  <a:pt x="750" y="1219"/>
                </a:lnTo>
                <a:lnTo>
                  <a:pt x="753" y="1218"/>
                </a:lnTo>
                <a:lnTo>
                  <a:pt x="756" y="1215"/>
                </a:lnTo>
                <a:lnTo>
                  <a:pt x="762" y="1205"/>
                </a:lnTo>
                <a:lnTo>
                  <a:pt x="770" y="1190"/>
                </a:lnTo>
                <a:lnTo>
                  <a:pt x="799" y="1207"/>
                </a:lnTo>
                <a:lnTo>
                  <a:pt x="821" y="1219"/>
                </a:lnTo>
                <a:lnTo>
                  <a:pt x="838" y="1227"/>
                </a:lnTo>
                <a:lnTo>
                  <a:pt x="845" y="1228"/>
                </a:lnTo>
                <a:lnTo>
                  <a:pt x="854" y="1225"/>
                </a:lnTo>
                <a:lnTo>
                  <a:pt x="878" y="1216"/>
                </a:lnTo>
                <a:lnTo>
                  <a:pt x="901" y="1207"/>
                </a:lnTo>
                <a:lnTo>
                  <a:pt x="909" y="1204"/>
                </a:lnTo>
                <a:lnTo>
                  <a:pt x="915" y="1202"/>
                </a:lnTo>
                <a:lnTo>
                  <a:pt x="919" y="1204"/>
                </a:lnTo>
                <a:lnTo>
                  <a:pt x="925" y="1210"/>
                </a:lnTo>
                <a:lnTo>
                  <a:pt x="943" y="1227"/>
                </a:lnTo>
                <a:lnTo>
                  <a:pt x="961" y="1245"/>
                </a:lnTo>
                <a:lnTo>
                  <a:pt x="967" y="1251"/>
                </a:lnTo>
                <a:lnTo>
                  <a:pt x="972" y="1254"/>
                </a:lnTo>
                <a:lnTo>
                  <a:pt x="976" y="1254"/>
                </a:lnTo>
                <a:lnTo>
                  <a:pt x="981" y="1252"/>
                </a:lnTo>
                <a:lnTo>
                  <a:pt x="994" y="1243"/>
                </a:lnTo>
                <a:lnTo>
                  <a:pt x="1002" y="1239"/>
                </a:lnTo>
                <a:lnTo>
                  <a:pt x="1010" y="1234"/>
                </a:lnTo>
                <a:lnTo>
                  <a:pt x="1019" y="1231"/>
                </a:lnTo>
                <a:lnTo>
                  <a:pt x="1028" y="1231"/>
                </a:lnTo>
                <a:lnTo>
                  <a:pt x="1073" y="1233"/>
                </a:lnTo>
                <a:lnTo>
                  <a:pt x="1109" y="1234"/>
                </a:lnTo>
                <a:lnTo>
                  <a:pt x="1117" y="1233"/>
                </a:lnTo>
                <a:lnTo>
                  <a:pt x="1124" y="1228"/>
                </a:lnTo>
                <a:lnTo>
                  <a:pt x="1142" y="1216"/>
                </a:lnTo>
                <a:lnTo>
                  <a:pt x="1165" y="1198"/>
                </a:lnTo>
                <a:lnTo>
                  <a:pt x="1202" y="1153"/>
                </a:lnTo>
                <a:lnTo>
                  <a:pt x="1230" y="1121"/>
                </a:lnTo>
                <a:lnTo>
                  <a:pt x="1248" y="1099"/>
                </a:lnTo>
                <a:lnTo>
                  <a:pt x="1252" y="1089"/>
                </a:lnTo>
                <a:lnTo>
                  <a:pt x="1254" y="1086"/>
                </a:lnTo>
                <a:lnTo>
                  <a:pt x="1254" y="1085"/>
                </a:lnTo>
                <a:lnTo>
                  <a:pt x="1254" y="1083"/>
                </a:lnTo>
                <a:lnTo>
                  <a:pt x="1255" y="1080"/>
                </a:lnTo>
                <a:lnTo>
                  <a:pt x="1260" y="1073"/>
                </a:lnTo>
                <a:lnTo>
                  <a:pt x="1276" y="1055"/>
                </a:lnTo>
                <a:lnTo>
                  <a:pt x="1305" y="1025"/>
                </a:lnTo>
                <a:lnTo>
                  <a:pt x="1318" y="1016"/>
                </a:lnTo>
                <a:lnTo>
                  <a:pt x="1344" y="999"/>
                </a:lnTo>
                <a:lnTo>
                  <a:pt x="1370" y="984"/>
                </a:lnTo>
                <a:lnTo>
                  <a:pt x="1380" y="979"/>
                </a:lnTo>
                <a:lnTo>
                  <a:pt x="1386" y="979"/>
                </a:lnTo>
                <a:lnTo>
                  <a:pt x="1419" y="989"/>
                </a:lnTo>
                <a:lnTo>
                  <a:pt x="1447" y="998"/>
                </a:lnTo>
                <a:lnTo>
                  <a:pt x="1447" y="958"/>
                </a:lnTo>
                <a:lnTo>
                  <a:pt x="1451" y="958"/>
                </a:lnTo>
                <a:lnTo>
                  <a:pt x="1466" y="957"/>
                </a:lnTo>
                <a:lnTo>
                  <a:pt x="1475" y="958"/>
                </a:lnTo>
                <a:lnTo>
                  <a:pt x="1484" y="961"/>
                </a:lnTo>
                <a:lnTo>
                  <a:pt x="1495" y="966"/>
                </a:lnTo>
                <a:lnTo>
                  <a:pt x="1504" y="972"/>
                </a:lnTo>
                <a:lnTo>
                  <a:pt x="1513" y="979"/>
                </a:lnTo>
                <a:lnTo>
                  <a:pt x="1522" y="985"/>
                </a:lnTo>
                <a:lnTo>
                  <a:pt x="1537" y="993"/>
                </a:lnTo>
                <a:lnTo>
                  <a:pt x="1551" y="998"/>
                </a:lnTo>
                <a:lnTo>
                  <a:pt x="1560" y="999"/>
                </a:lnTo>
                <a:lnTo>
                  <a:pt x="1587" y="999"/>
                </a:lnTo>
                <a:lnTo>
                  <a:pt x="1632" y="999"/>
                </a:lnTo>
                <a:lnTo>
                  <a:pt x="1680" y="998"/>
                </a:lnTo>
                <a:lnTo>
                  <a:pt x="1697" y="998"/>
                </a:lnTo>
                <a:lnTo>
                  <a:pt x="1707" y="996"/>
                </a:lnTo>
                <a:lnTo>
                  <a:pt x="1715" y="992"/>
                </a:lnTo>
                <a:lnTo>
                  <a:pt x="1722" y="982"/>
                </a:lnTo>
                <a:lnTo>
                  <a:pt x="1740" y="958"/>
                </a:lnTo>
                <a:lnTo>
                  <a:pt x="1755" y="936"/>
                </a:lnTo>
                <a:lnTo>
                  <a:pt x="1761" y="925"/>
                </a:lnTo>
                <a:lnTo>
                  <a:pt x="1799" y="919"/>
                </a:lnTo>
                <a:lnTo>
                  <a:pt x="1801" y="924"/>
                </a:lnTo>
                <a:lnTo>
                  <a:pt x="1807" y="937"/>
                </a:lnTo>
                <a:lnTo>
                  <a:pt x="1813" y="957"/>
                </a:lnTo>
                <a:lnTo>
                  <a:pt x="1816" y="967"/>
                </a:lnTo>
                <a:lnTo>
                  <a:pt x="1817" y="979"/>
                </a:lnTo>
                <a:lnTo>
                  <a:pt x="1819" y="989"/>
                </a:lnTo>
                <a:lnTo>
                  <a:pt x="1825" y="998"/>
                </a:lnTo>
                <a:lnTo>
                  <a:pt x="1831" y="1004"/>
                </a:lnTo>
                <a:lnTo>
                  <a:pt x="1838" y="1010"/>
                </a:lnTo>
                <a:lnTo>
                  <a:pt x="1846" y="1013"/>
                </a:lnTo>
                <a:lnTo>
                  <a:pt x="1852" y="1016"/>
                </a:lnTo>
                <a:lnTo>
                  <a:pt x="1858" y="1017"/>
                </a:lnTo>
                <a:lnTo>
                  <a:pt x="1861" y="1037"/>
                </a:lnTo>
                <a:lnTo>
                  <a:pt x="1862" y="1052"/>
                </a:lnTo>
                <a:lnTo>
                  <a:pt x="1864" y="1062"/>
                </a:lnTo>
                <a:lnTo>
                  <a:pt x="1864" y="1064"/>
                </a:lnTo>
                <a:lnTo>
                  <a:pt x="1867" y="1062"/>
                </a:lnTo>
                <a:lnTo>
                  <a:pt x="1877" y="1058"/>
                </a:lnTo>
                <a:lnTo>
                  <a:pt x="1893" y="1049"/>
                </a:lnTo>
                <a:lnTo>
                  <a:pt x="1888" y="1061"/>
                </a:lnTo>
                <a:lnTo>
                  <a:pt x="1874" y="1092"/>
                </a:lnTo>
                <a:lnTo>
                  <a:pt x="1862" y="1127"/>
                </a:lnTo>
                <a:lnTo>
                  <a:pt x="1859" y="1142"/>
                </a:lnTo>
                <a:lnTo>
                  <a:pt x="1858" y="1153"/>
                </a:lnTo>
                <a:lnTo>
                  <a:pt x="1859" y="1157"/>
                </a:lnTo>
                <a:lnTo>
                  <a:pt x="1862" y="1162"/>
                </a:lnTo>
                <a:lnTo>
                  <a:pt x="1867" y="1165"/>
                </a:lnTo>
                <a:lnTo>
                  <a:pt x="1871" y="1168"/>
                </a:lnTo>
                <a:lnTo>
                  <a:pt x="1884" y="1172"/>
                </a:lnTo>
                <a:lnTo>
                  <a:pt x="1897" y="1174"/>
                </a:lnTo>
                <a:lnTo>
                  <a:pt x="1897" y="1159"/>
                </a:lnTo>
                <a:lnTo>
                  <a:pt x="1874" y="1127"/>
                </a:lnTo>
                <a:lnTo>
                  <a:pt x="1897" y="1102"/>
                </a:lnTo>
                <a:lnTo>
                  <a:pt x="1905" y="1074"/>
                </a:lnTo>
                <a:lnTo>
                  <a:pt x="1959" y="1067"/>
                </a:lnTo>
                <a:lnTo>
                  <a:pt x="1968" y="1058"/>
                </a:lnTo>
                <a:lnTo>
                  <a:pt x="1991" y="1037"/>
                </a:lnTo>
                <a:lnTo>
                  <a:pt x="2003" y="1023"/>
                </a:lnTo>
                <a:lnTo>
                  <a:pt x="2013" y="1010"/>
                </a:lnTo>
                <a:lnTo>
                  <a:pt x="2022" y="998"/>
                </a:lnTo>
                <a:lnTo>
                  <a:pt x="2028" y="987"/>
                </a:lnTo>
                <a:lnTo>
                  <a:pt x="2036" y="951"/>
                </a:lnTo>
                <a:lnTo>
                  <a:pt x="2042" y="927"/>
                </a:lnTo>
                <a:lnTo>
                  <a:pt x="2045" y="900"/>
                </a:lnTo>
                <a:lnTo>
                  <a:pt x="2048" y="874"/>
                </a:lnTo>
                <a:lnTo>
                  <a:pt x="2048" y="863"/>
                </a:lnTo>
                <a:lnTo>
                  <a:pt x="2046" y="853"/>
                </a:lnTo>
                <a:lnTo>
                  <a:pt x="2045" y="845"/>
                </a:lnTo>
                <a:lnTo>
                  <a:pt x="2042" y="839"/>
                </a:lnTo>
                <a:lnTo>
                  <a:pt x="2037" y="835"/>
                </a:lnTo>
                <a:lnTo>
                  <a:pt x="2031" y="833"/>
                </a:lnTo>
                <a:lnTo>
                  <a:pt x="2021" y="833"/>
                </a:lnTo>
                <a:lnTo>
                  <a:pt x="2015" y="832"/>
                </a:lnTo>
                <a:lnTo>
                  <a:pt x="2013" y="830"/>
                </a:lnTo>
                <a:lnTo>
                  <a:pt x="2013" y="829"/>
                </a:lnTo>
                <a:lnTo>
                  <a:pt x="2018" y="827"/>
                </a:lnTo>
                <a:lnTo>
                  <a:pt x="2021" y="826"/>
                </a:lnTo>
                <a:lnTo>
                  <a:pt x="1997" y="833"/>
                </a:lnTo>
                <a:lnTo>
                  <a:pt x="2009" y="799"/>
                </a:lnTo>
                <a:lnTo>
                  <a:pt x="2043" y="761"/>
                </a:lnTo>
                <a:lnTo>
                  <a:pt x="2073" y="699"/>
                </a:lnTo>
                <a:lnTo>
                  <a:pt x="2165" y="704"/>
                </a:lnTo>
                <a:lnTo>
                  <a:pt x="2223" y="722"/>
                </a:lnTo>
                <a:lnTo>
                  <a:pt x="2269" y="707"/>
                </a:lnTo>
                <a:lnTo>
                  <a:pt x="2295" y="662"/>
                </a:lnTo>
                <a:lnTo>
                  <a:pt x="2342" y="654"/>
                </a:lnTo>
                <a:lnTo>
                  <a:pt x="2331" y="668"/>
                </a:lnTo>
                <a:lnTo>
                  <a:pt x="2319" y="684"/>
                </a:lnTo>
                <a:lnTo>
                  <a:pt x="2307" y="707"/>
                </a:lnTo>
                <a:lnTo>
                  <a:pt x="2295" y="737"/>
                </a:lnTo>
                <a:lnTo>
                  <a:pt x="2289" y="753"/>
                </a:lnTo>
                <a:lnTo>
                  <a:pt x="2283" y="773"/>
                </a:lnTo>
                <a:lnTo>
                  <a:pt x="2278" y="793"/>
                </a:lnTo>
                <a:lnTo>
                  <a:pt x="2275" y="815"/>
                </a:lnTo>
                <a:lnTo>
                  <a:pt x="2274" y="839"/>
                </a:lnTo>
                <a:lnTo>
                  <a:pt x="2272" y="863"/>
                </a:lnTo>
                <a:lnTo>
                  <a:pt x="2284" y="910"/>
                </a:lnTo>
                <a:lnTo>
                  <a:pt x="2334" y="833"/>
                </a:lnTo>
                <a:lnTo>
                  <a:pt x="2340" y="826"/>
                </a:lnTo>
                <a:lnTo>
                  <a:pt x="2352" y="811"/>
                </a:lnTo>
                <a:lnTo>
                  <a:pt x="2358" y="800"/>
                </a:lnTo>
                <a:lnTo>
                  <a:pt x="2363" y="791"/>
                </a:lnTo>
                <a:lnTo>
                  <a:pt x="2366" y="782"/>
                </a:lnTo>
                <a:lnTo>
                  <a:pt x="2366" y="779"/>
                </a:lnTo>
                <a:lnTo>
                  <a:pt x="2364" y="776"/>
                </a:lnTo>
                <a:lnTo>
                  <a:pt x="2349" y="743"/>
                </a:lnTo>
                <a:lnTo>
                  <a:pt x="2342" y="722"/>
                </a:lnTo>
                <a:lnTo>
                  <a:pt x="2346" y="716"/>
                </a:lnTo>
                <a:lnTo>
                  <a:pt x="2357" y="701"/>
                </a:lnTo>
                <a:lnTo>
                  <a:pt x="2372" y="684"/>
                </a:lnTo>
                <a:lnTo>
                  <a:pt x="2379" y="677"/>
                </a:lnTo>
                <a:lnTo>
                  <a:pt x="2387" y="672"/>
                </a:lnTo>
                <a:lnTo>
                  <a:pt x="2449" y="665"/>
                </a:lnTo>
                <a:lnTo>
                  <a:pt x="2459" y="662"/>
                </a:lnTo>
                <a:lnTo>
                  <a:pt x="2485" y="654"/>
                </a:lnTo>
                <a:lnTo>
                  <a:pt x="2518" y="642"/>
                </a:lnTo>
                <a:lnTo>
                  <a:pt x="2533" y="634"/>
                </a:lnTo>
                <a:lnTo>
                  <a:pt x="2548" y="627"/>
                </a:lnTo>
                <a:lnTo>
                  <a:pt x="2560" y="618"/>
                </a:lnTo>
                <a:lnTo>
                  <a:pt x="2571" y="607"/>
                </a:lnTo>
                <a:lnTo>
                  <a:pt x="2580" y="595"/>
                </a:lnTo>
                <a:lnTo>
                  <a:pt x="2586" y="583"/>
                </a:lnTo>
                <a:lnTo>
                  <a:pt x="2587" y="573"/>
                </a:lnTo>
                <a:lnTo>
                  <a:pt x="2587" y="567"/>
                </a:lnTo>
                <a:lnTo>
                  <a:pt x="2587" y="562"/>
                </a:lnTo>
                <a:lnTo>
                  <a:pt x="2584" y="558"/>
                </a:lnTo>
                <a:lnTo>
                  <a:pt x="2581" y="553"/>
                </a:lnTo>
                <a:lnTo>
                  <a:pt x="2577" y="550"/>
                </a:lnTo>
                <a:lnTo>
                  <a:pt x="2571" y="547"/>
                </a:lnTo>
                <a:lnTo>
                  <a:pt x="2580" y="544"/>
                </a:lnTo>
                <a:lnTo>
                  <a:pt x="2598" y="535"/>
                </a:lnTo>
                <a:lnTo>
                  <a:pt x="2608" y="529"/>
                </a:lnTo>
                <a:lnTo>
                  <a:pt x="2617" y="523"/>
                </a:lnTo>
                <a:lnTo>
                  <a:pt x="2625" y="514"/>
                </a:lnTo>
                <a:lnTo>
                  <a:pt x="2626" y="509"/>
                </a:lnTo>
                <a:lnTo>
                  <a:pt x="2628" y="505"/>
                </a:lnTo>
                <a:lnTo>
                  <a:pt x="2629" y="500"/>
                </a:lnTo>
                <a:lnTo>
                  <a:pt x="2629" y="499"/>
                </a:lnTo>
                <a:lnTo>
                  <a:pt x="2631" y="499"/>
                </a:lnTo>
                <a:lnTo>
                  <a:pt x="2634" y="499"/>
                </a:lnTo>
                <a:lnTo>
                  <a:pt x="2644" y="514"/>
                </a:lnTo>
                <a:lnTo>
                  <a:pt x="2654" y="523"/>
                </a:lnTo>
                <a:lnTo>
                  <a:pt x="2658" y="526"/>
                </a:lnTo>
                <a:lnTo>
                  <a:pt x="2664" y="529"/>
                </a:lnTo>
                <a:lnTo>
                  <a:pt x="2670" y="532"/>
                </a:lnTo>
                <a:lnTo>
                  <a:pt x="2678" y="533"/>
                </a:lnTo>
                <a:lnTo>
                  <a:pt x="2685" y="533"/>
                </a:lnTo>
                <a:lnTo>
                  <a:pt x="2693" y="530"/>
                </a:lnTo>
                <a:lnTo>
                  <a:pt x="2706" y="526"/>
                </a:lnTo>
                <a:lnTo>
                  <a:pt x="2714" y="520"/>
                </a:lnTo>
                <a:lnTo>
                  <a:pt x="2717" y="517"/>
                </a:lnTo>
                <a:lnTo>
                  <a:pt x="2717" y="515"/>
                </a:lnTo>
                <a:lnTo>
                  <a:pt x="2717" y="509"/>
                </a:lnTo>
                <a:lnTo>
                  <a:pt x="2714" y="506"/>
                </a:lnTo>
                <a:lnTo>
                  <a:pt x="2709" y="503"/>
                </a:lnTo>
                <a:lnTo>
                  <a:pt x="2705" y="500"/>
                </a:lnTo>
                <a:close/>
              </a:path>
            </a:pathLst>
          </a:custGeom>
          <a:solidFill>
            <a:srgbClr val="597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4" name="Freeform 114"/>
          <p:cNvSpPr/>
          <p:nvPr/>
        </p:nvSpPr>
        <p:spPr>
          <a:xfrm>
            <a:off x="7351560" y="2908440"/>
            <a:ext cx="68400" cy="253800"/>
          </a:xfrm>
          <a:custGeom>
            <a:avLst/>
            <a:gdLst>
              <a:gd name="textAreaLeft" fmla="*/ 0 w 68400"/>
              <a:gd name="textAreaRight" fmla="*/ 68760 w 6840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5" name="Freeform 115"/>
          <p:cNvSpPr/>
          <p:nvPr/>
        </p:nvSpPr>
        <p:spPr>
          <a:xfrm>
            <a:off x="7304040" y="3218040"/>
            <a:ext cx="127080" cy="77760"/>
          </a:xfrm>
          <a:custGeom>
            <a:avLst/>
            <a:gdLst>
              <a:gd name="textAreaLeft" fmla="*/ 0 w 127080"/>
              <a:gd name="textAreaRight" fmla="*/ 127440 w 12708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806" name="Freeform 116"/>
          <p:cNvSpPr/>
          <p:nvPr/>
        </p:nvSpPr>
        <p:spPr>
          <a:xfrm>
            <a:off x="7104240" y="3327480"/>
            <a:ext cx="255240" cy="230040"/>
          </a:xfrm>
          <a:custGeom>
            <a:avLst/>
            <a:gdLst>
              <a:gd name="textAreaLeft" fmla="*/ 0 w 255240"/>
              <a:gd name="textAreaRight" fmla="*/ 255600 w 25524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07" name="Freeform 117"/>
          <p:cNvSpPr/>
          <p:nvPr/>
        </p:nvSpPr>
        <p:spPr>
          <a:xfrm>
            <a:off x="706752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808" name="Freeform 118"/>
          <p:cNvSpPr/>
          <p:nvPr/>
        </p:nvSpPr>
        <p:spPr>
          <a:xfrm>
            <a:off x="68594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809" name="Freeform 119"/>
          <p:cNvSpPr/>
          <p:nvPr/>
        </p:nvSpPr>
        <p:spPr>
          <a:xfrm>
            <a:off x="664848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0" name="Freeform 120"/>
          <p:cNvSpPr/>
          <p:nvPr/>
        </p:nvSpPr>
        <p:spPr>
          <a:xfrm>
            <a:off x="6362640" y="4280040"/>
            <a:ext cx="208080" cy="199800"/>
          </a:xfrm>
          <a:custGeom>
            <a:avLst/>
            <a:gdLst>
              <a:gd name="textAreaLeft" fmla="*/ 0 w 208080"/>
              <a:gd name="textAreaRight" fmla="*/ 208440 w 20808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1" name="Freeform 121"/>
          <p:cNvSpPr/>
          <p:nvPr/>
        </p:nvSpPr>
        <p:spPr>
          <a:xfrm>
            <a:off x="660564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812" name="Freeform 122"/>
          <p:cNvSpPr/>
          <p:nvPr/>
        </p:nvSpPr>
        <p:spPr>
          <a:xfrm>
            <a:off x="6823080" y="4317840"/>
            <a:ext cx="141120" cy="174960"/>
          </a:xfrm>
          <a:custGeom>
            <a:avLst/>
            <a:gdLst>
              <a:gd name="textAreaLeft" fmla="*/ 0 w 141120"/>
              <a:gd name="textAreaRight" fmla="*/ 141480 w 14112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3" name="Freeform 123"/>
          <p:cNvSpPr/>
          <p:nvPr/>
        </p:nvSpPr>
        <p:spPr>
          <a:xfrm>
            <a:off x="50227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4" name="Freeform 125"/>
          <p:cNvSpPr/>
          <p:nvPr/>
        </p:nvSpPr>
        <p:spPr>
          <a:xfrm>
            <a:off x="7353360" y="2908440"/>
            <a:ext cx="68040" cy="253800"/>
          </a:xfrm>
          <a:custGeom>
            <a:avLst/>
            <a:gdLst>
              <a:gd name="textAreaLeft" fmla="*/ 0 w 68040"/>
              <a:gd name="textAreaRight" fmla="*/ 68400 w 68040"/>
              <a:gd name="textAreaTop" fmla="*/ 0 h 253800"/>
              <a:gd name="textAreaBottom" fmla="*/ 254160 h 253800"/>
            </a:gdLst>
            <a:ahLst/>
            <a:rect l="textAreaLeft" t="textAreaTop" r="textAreaRight" b="textAreaBottom"/>
            <a:pathLst>
              <a:path w="43" h="160">
                <a:moveTo>
                  <a:pt x="5" y="160"/>
                </a:moveTo>
                <a:lnTo>
                  <a:pt x="35" y="145"/>
                </a:lnTo>
                <a:lnTo>
                  <a:pt x="35" y="107"/>
                </a:lnTo>
                <a:lnTo>
                  <a:pt x="43" y="65"/>
                </a:lnTo>
                <a:lnTo>
                  <a:pt x="35" y="11"/>
                </a:lnTo>
                <a:lnTo>
                  <a:pt x="23" y="0"/>
                </a:lnTo>
                <a:lnTo>
                  <a:pt x="8" y="26"/>
                </a:lnTo>
                <a:lnTo>
                  <a:pt x="8" y="88"/>
                </a:lnTo>
                <a:lnTo>
                  <a:pt x="0" y="137"/>
                </a:lnTo>
                <a:lnTo>
                  <a:pt x="5" y="160"/>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5" name="Freeform 126"/>
          <p:cNvSpPr/>
          <p:nvPr/>
        </p:nvSpPr>
        <p:spPr>
          <a:xfrm>
            <a:off x="7305840" y="3218040"/>
            <a:ext cx="126720" cy="77760"/>
          </a:xfrm>
          <a:custGeom>
            <a:avLst/>
            <a:gdLst>
              <a:gd name="textAreaLeft" fmla="*/ 0 w 126720"/>
              <a:gd name="textAreaRight" fmla="*/ 127080 w 126720"/>
              <a:gd name="textAreaTop" fmla="*/ 0 h 77760"/>
              <a:gd name="textAreaBottom" fmla="*/ 78120 h 77760"/>
            </a:gdLst>
            <a:ahLst/>
            <a:rect l="textAreaLeft" t="textAreaTop" r="textAreaRight" b="textAreaBottom"/>
            <a:pathLst>
              <a:path w="80" h="49">
                <a:moveTo>
                  <a:pt x="27" y="46"/>
                </a:moveTo>
                <a:lnTo>
                  <a:pt x="0" y="49"/>
                </a:lnTo>
                <a:lnTo>
                  <a:pt x="18" y="7"/>
                </a:lnTo>
                <a:lnTo>
                  <a:pt x="50" y="0"/>
                </a:lnTo>
                <a:lnTo>
                  <a:pt x="80" y="30"/>
                </a:lnTo>
                <a:lnTo>
                  <a:pt x="61" y="49"/>
                </a:lnTo>
                <a:lnTo>
                  <a:pt x="27" y="46"/>
                </a:lnTo>
                <a:close/>
              </a:path>
            </a:pathLst>
          </a:custGeom>
          <a:solidFill>
            <a:srgbClr val="9cbc55"/>
          </a:solidFill>
          <a:ln w="0">
            <a:noFill/>
          </a:ln>
        </p:spPr>
        <p:style>
          <a:lnRef idx="0"/>
          <a:fillRef idx="0"/>
          <a:effectRef idx="0"/>
          <a:fontRef idx="minor"/>
        </p:style>
        <p:txBody>
          <a:bodyPr lIns="90000" rIns="90000" tIns="31320" bIns="31320" anchor="t">
            <a:noAutofit/>
          </a:bodyPr>
          <a:p>
            <a:endParaRPr b="0" lang="en-US" sz="1800" spc="-1" strike="noStrike">
              <a:solidFill>
                <a:srgbClr val="000000"/>
              </a:solidFill>
              <a:latin typeface="Gulim"/>
            </a:endParaRPr>
          </a:p>
        </p:txBody>
      </p:sp>
      <p:sp>
        <p:nvSpPr>
          <p:cNvPr id="816" name="Freeform 127"/>
          <p:cNvSpPr/>
          <p:nvPr/>
        </p:nvSpPr>
        <p:spPr>
          <a:xfrm>
            <a:off x="7105680" y="3327480"/>
            <a:ext cx="255600" cy="230040"/>
          </a:xfrm>
          <a:custGeom>
            <a:avLst/>
            <a:gdLst>
              <a:gd name="textAreaLeft" fmla="*/ 0 w 255600"/>
              <a:gd name="textAreaRight" fmla="*/ 255600 w 255600"/>
              <a:gd name="textAreaTop" fmla="*/ 0 h 230040"/>
              <a:gd name="textAreaBottom" fmla="*/ 230400 h 230040"/>
            </a:gdLst>
            <a:ahLst/>
            <a:rect l="textAreaLeft" t="textAreaTop" r="textAreaRight" b="textAreaBottom"/>
            <a:pathLst>
              <a:path w="161" h="145">
                <a:moveTo>
                  <a:pt x="134" y="8"/>
                </a:moveTo>
                <a:lnTo>
                  <a:pt x="114" y="27"/>
                </a:lnTo>
                <a:lnTo>
                  <a:pt x="99" y="45"/>
                </a:lnTo>
                <a:lnTo>
                  <a:pt x="87" y="50"/>
                </a:lnTo>
                <a:lnTo>
                  <a:pt x="72" y="60"/>
                </a:lnTo>
                <a:lnTo>
                  <a:pt x="69" y="87"/>
                </a:lnTo>
                <a:lnTo>
                  <a:pt x="22" y="87"/>
                </a:lnTo>
                <a:lnTo>
                  <a:pt x="0" y="110"/>
                </a:lnTo>
                <a:lnTo>
                  <a:pt x="22" y="134"/>
                </a:lnTo>
                <a:lnTo>
                  <a:pt x="61" y="142"/>
                </a:lnTo>
                <a:lnTo>
                  <a:pt x="84" y="145"/>
                </a:lnTo>
                <a:lnTo>
                  <a:pt x="114" y="130"/>
                </a:lnTo>
                <a:lnTo>
                  <a:pt x="129" y="77"/>
                </a:lnTo>
                <a:lnTo>
                  <a:pt x="149" y="50"/>
                </a:lnTo>
                <a:lnTo>
                  <a:pt x="161" y="23"/>
                </a:lnTo>
                <a:lnTo>
                  <a:pt x="161" y="0"/>
                </a:lnTo>
                <a:lnTo>
                  <a:pt x="134" y="8"/>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17" name="Freeform 128"/>
          <p:cNvSpPr/>
          <p:nvPr/>
        </p:nvSpPr>
        <p:spPr>
          <a:xfrm>
            <a:off x="7068960" y="3557520"/>
            <a:ext cx="71640" cy="49320"/>
          </a:xfrm>
          <a:custGeom>
            <a:avLst/>
            <a:gdLst>
              <a:gd name="textAreaLeft" fmla="*/ 0 w 71640"/>
              <a:gd name="textAreaRight" fmla="*/ 72000 w 71640"/>
              <a:gd name="textAreaTop" fmla="*/ 0 h 49320"/>
              <a:gd name="textAreaBottom" fmla="*/ 49680 h 49320"/>
            </a:gdLst>
            <a:ahLst/>
            <a:rect l="textAreaLeft" t="textAreaTop" r="textAreaRight" b="textAreaBottom"/>
            <a:pathLst>
              <a:path w="45" h="31">
                <a:moveTo>
                  <a:pt x="18" y="27"/>
                </a:moveTo>
                <a:lnTo>
                  <a:pt x="0" y="7"/>
                </a:lnTo>
                <a:lnTo>
                  <a:pt x="27" y="0"/>
                </a:lnTo>
                <a:lnTo>
                  <a:pt x="45" y="12"/>
                </a:lnTo>
                <a:lnTo>
                  <a:pt x="38" y="31"/>
                </a:lnTo>
                <a:lnTo>
                  <a:pt x="18" y="27"/>
                </a:lnTo>
                <a:close/>
              </a:path>
            </a:pathLst>
          </a:custGeom>
          <a:solidFill>
            <a:srgbClr val="9cbc55"/>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Gulim"/>
            </a:endParaRPr>
          </a:p>
        </p:txBody>
      </p:sp>
      <p:sp>
        <p:nvSpPr>
          <p:cNvPr id="818" name="Freeform 129"/>
          <p:cNvSpPr/>
          <p:nvPr/>
        </p:nvSpPr>
        <p:spPr>
          <a:xfrm>
            <a:off x="6861240" y="3765600"/>
            <a:ext cx="104760" cy="79200"/>
          </a:xfrm>
          <a:custGeom>
            <a:avLst/>
            <a:gdLst>
              <a:gd name="textAreaLeft" fmla="*/ 0 w 104760"/>
              <a:gd name="textAreaRight" fmla="*/ 105120 w 104760"/>
              <a:gd name="textAreaTop" fmla="*/ 0 h 79200"/>
              <a:gd name="textAreaBottom" fmla="*/ 79560 h 79200"/>
            </a:gdLst>
            <a:ahLst/>
            <a:rect l="textAreaLeft" t="textAreaTop" r="textAreaRight" b="textAreaBottom"/>
            <a:pathLst>
              <a:path w="66" h="50">
                <a:moveTo>
                  <a:pt x="24" y="50"/>
                </a:moveTo>
                <a:lnTo>
                  <a:pt x="47" y="37"/>
                </a:lnTo>
                <a:lnTo>
                  <a:pt x="66" y="7"/>
                </a:lnTo>
                <a:lnTo>
                  <a:pt x="39" y="0"/>
                </a:lnTo>
                <a:lnTo>
                  <a:pt x="0" y="30"/>
                </a:lnTo>
                <a:lnTo>
                  <a:pt x="24" y="50"/>
                </a:lnTo>
                <a:close/>
              </a:path>
            </a:pathLst>
          </a:custGeom>
          <a:solidFill>
            <a:srgbClr val="9cbc55"/>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Gulim"/>
            </a:endParaRPr>
          </a:p>
        </p:txBody>
      </p:sp>
      <p:sp>
        <p:nvSpPr>
          <p:cNvPr id="819" name="Freeform 130"/>
          <p:cNvSpPr/>
          <p:nvPr/>
        </p:nvSpPr>
        <p:spPr>
          <a:xfrm>
            <a:off x="6649920" y="4208400"/>
            <a:ext cx="217440" cy="241200"/>
          </a:xfrm>
          <a:custGeom>
            <a:avLst/>
            <a:gdLst>
              <a:gd name="textAreaLeft" fmla="*/ 0 w 217440"/>
              <a:gd name="textAreaRight" fmla="*/ 217800 w 217440"/>
              <a:gd name="textAreaTop" fmla="*/ 0 h 241200"/>
              <a:gd name="textAreaBottom" fmla="*/ 241560 h 241200"/>
            </a:gdLst>
            <a:ahLst/>
            <a:rect l="textAreaLeft" t="textAreaTop" r="textAreaRight" b="textAreaBottom"/>
            <a:pathLst>
              <a:path w="137" h="152">
                <a:moveTo>
                  <a:pt x="118" y="0"/>
                </a:moveTo>
                <a:lnTo>
                  <a:pt x="80" y="10"/>
                </a:lnTo>
                <a:lnTo>
                  <a:pt x="43" y="30"/>
                </a:lnTo>
                <a:lnTo>
                  <a:pt x="18" y="60"/>
                </a:lnTo>
                <a:lnTo>
                  <a:pt x="15" y="61"/>
                </a:lnTo>
                <a:lnTo>
                  <a:pt x="9" y="66"/>
                </a:lnTo>
                <a:lnTo>
                  <a:pt x="3" y="72"/>
                </a:lnTo>
                <a:lnTo>
                  <a:pt x="0" y="75"/>
                </a:lnTo>
                <a:lnTo>
                  <a:pt x="0" y="79"/>
                </a:lnTo>
                <a:lnTo>
                  <a:pt x="0" y="85"/>
                </a:lnTo>
                <a:lnTo>
                  <a:pt x="3" y="95"/>
                </a:lnTo>
                <a:lnTo>
                  <a:pt x="11" y="114"/>
                </a:lnTo>
                <a:lnTo>
                  <a:pt x="23" y="141"/>
                </a:lnTo>
                <a:lnTo>
                  <a:pt x="61" y="152"/>
                </a:lnTo>
                <a:lnTo>
                  <a:pt x="103" y="107"/>
                </a:lnTo>
                <a:lnTo>
                  <a:pt x="110" y="104"/>
                </a:lnTo>
                <a:lnTo>
                  <a:pt x="116" y="99"/>
                </a:lnTo>
                <a:lnTo>
                  <a:pt x="124" y="95"/>
                </a:lnTo>
                <a:lnTo>
                  <a:pt x="130" y="88"/>
                </a:lnTo>
                <a:lnTo>
                  <a:pt x="136" y="81"/>
                </a:lnTo>
                <a:lnTo>
                  <a:pt x="136" y="76"/>
                </a:lnTo>
                <a:lnTo>
                  <a:pt x="137" y="73"/>
                </a:lnTo>
                <a:lnTo>
                  <a:pt x="136" y="69"/>
                </a:lnTo>
                <a:lnTo>
                  <a:pt x="133" y="64"/>
                </a:lnTo>
                <a:lnTo>
                  <a:pt x="128" y="55"/>
                </a:lnTo>
                <a:lnTo>
                  <a:pt x="125" y="45"/>
                </a:lnTo>
                <a:lnTo>
                  <a:pt x="122" y="34"/>
                </a:lnTo>
                <a:lnTo>
                  <a:pt x="121" y="24"/>
                </a:lnTo>
                <a:lnTo>
                  <a:pt x="118" y="6"/>
                </a:lnTo>
                <a:lnTo>
                  <a:pt x="118" y="0"/>
                </a:lnTo>
                <a:close/>
              </a:path>
            </a:pathLst>
          </a:custGeom>
          <a:solidFill>
            <a:srgbClr val="597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0" name="Freeform 131"/>
          <p:cNvSpPr/>
          <p:nvPr/>
        </p:nvSpPr>
        <p:spPr>
          <a:xfrm>
            <a:off x="6364440" y="4280040"/>
            <a:ext cx="207720" cy="199800"/>
          </a:xfrm>
          <a:custGeom>
            <a:avLst/>
            <a:gdLst>
              <a:gd name="textAreaLeft" fmla="*/ 0 w 207720"/>
              <a:gd name="textAreaRight" fmla="*/ 208080 w 207720"/>
              <a:gd name="textAreaTop" fmla="*/ 0 h 199800"/>
              <a:gd name="textAreaBottom" fmla="*/ 200160 h 199800"/>
            </a:gdLst>
            <a:ahLst/>
            <a:rect l="textAreaLeft" t="textAreaTop" r="textAreaRight" b="textAreaBottom"/>
            <a:pathLst>
              <a:path w="131" h="126">
                <a:moveTo>
                  <a:pt x="84" y="119"/>
                </a:moveTo>
                <a:lnTo>
                  <a:pt x="69" y="89"/>
                </a:lnTo>
                <a:lnTo>
                  <a:pt x="42" y="50"/>
                </a:lnTo>
                <a:lnTo>
                  <a:pt x="0" y="7"/>
                </a:lnTo>
                <a:lnTo>
                  <a:pt x="31" y="0"/>
                </a:lnTo>
                <a:lnTo>
                  <a:pt x="73" y="19"/>
                </a:lnTo>
                <a:lnTo>
                  <a:pt x="99" y="74"/>
                </a:lnTo>
                <a:lnTo>
                  <a:pt x="107" y="81"/>
                </a:lnTo>
                <a:lnTo>
                  <a:pt x="122" y="99"/>
                </a:lnTo>
                <a:lnTo>
                  <a:pt x="128" y="110"/>
                </a:lnTo>
                <a:lnTo>
                  <a:pt x="131" y="117"/>
                </a:lnTo>
                <a:lnTo>
                  <a:pt x="131" y="122"/>
                </a:lnTo>
                <a:lnTo>
                  <a:pt x="129" y="125"/>
                </a:lnTo>
                <a:lnTo>
                  <a:pt x="126" y="126"/>
                </a:lnTo>
                <a:lnTo>
                  <a:pt x="123" y="126"/>
                </a:lnTo>
                <a:lnTo>
                  <a:pt x="105" y="125"/>
                </a:lnTo>
                <a:lnTo>
                  <a:pt x="93" y="123"/>
                </a:lnTo>
                <a:lnTo>
                  <a:pt x="87" y="120"/>
                </a:lnTo>
                <a:lnTo>
                  <a:pt x="84" y="119"/>
                </a:lnTo>
                <a:close/>
              </a:path>
            </a:pathLst>
          </a:custGeom>
          <a:solidFill>
            <a:srgbClr val="597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1" name="Freeform 132"/>
          <p:cNvSpPr/>
          <p:nvPr/>
        </p:nvSpPr>
        <p:spPr>
          <a:xfrm>
            <a:off x="6607080" y="4498920"/>
            <a:ext cx="158760" cy="92160"/>
          </a:xfrm>
          <a:custGeom>
            <a:avLst/>
            <a:gdLst>
              <a:gd name="textAreaLeft" fmla="*/ 0 w 158760"/>
              <a:gd name="textAreaRight" fmla="*/ 159120 w 158760"/>
              <a:gd name="textAreaTop" fmla="*/ 0 h 92160"/>
              <a:gd name="textAreaBottom" fmla="*/ 92520 h 92160"/>
            </a:gdLst>
            <a:ahLst/>
            <a:rect l="textAreaLeft" t="textAreaTop" r="textAreaRight" b="textAreaBottom"/>
            <a:pathLst>
              <a:path w="100" h="58">
                <a:moveTo>
                  <a:pt x="0" y="43"/>
                </a:moveTo>
                <a:lnTo>
                  <a:pt x="0" y="0"/>
                </a:lnTo>
                <a:lnTo>
                  <a:pt x="38" y="15"/>
                </a:lnTo>
                <a:lnTo>
                  <a:pt x="100" y="35"/>
                </a:lnTo>
                <a:lnTo>
                  <a:pt x="73" y="53"/>
                </a:lnTo>
                <a:lnTo>
                  <a:pt x="27" y="58"/>
                </a:lnTo>
                <a:lnTo>
                  <a:pt x="0" y="43"/>
                </a:lnTo>
                <a:close/>
              </a:path>
            </a:pathLst>
          </a:custGeom>
          <a:solidFill>
            <a:srgbClr val="597026"/>
          </a:solidFill>
          <a:ln w="0">
            <a:noFill/>
          </a:ln>
        </p:spPr>
        <p:style>
          <a:lnRef idx="0"/>
          <a:fillRef idx="0"/>
          <a:effectRef idx="0"/>
          <a:fontRef idx="minor"/>
        </p:style>
        <p:txBody>
          <a:bodyPr lIns="90000" rIns="90000" anchor="t">
            <a:noAutofit/>
          </a:bodyPr>
          <a:p>
            <a:endParaRPr b="0" lang="en-US" sz="1800" spc="-1" strike="noStrike">
              <a:solidFill>
                <a:srgbClr val="000000"/>
              </a:solidFill>
              <a:latin typeface="Gulim"/>
            </a:endParaRPr>
          </a:p>
        </p:txBody>
      </p:sp>
      <p:sp>
        <p:nvSpPr>
          <p:cNvPr id="822" name="Freeform 133"/>
          <p:cNvSpPr/>
          <p:nvPr/>
        </p:nvSpPr>
        <p:spPr>
          <a:xfrm>
            <a:off x="6824520" y="4317840"/>
            <a:ext cx="141480" cy="174960"/>
          </a:xfrm>
          <a:custGeom>
            <a:avLst/>
            <a:gdLst>
              <a:gd name="textAreaLeft" fmla="*/ 0 w 141480"/>
              <a:gd name="textAreaRight" fmla="*/ 141840 w 141480"/>
              <a:gd name="textAreaTop" fmla="*/ 0 h 174960"/>
              <a:gd name="textAreaBottom" fmla="*/ 175320 h 174960"/>
            </a:gdLst>
            <a:ahLst/>
            <a:rect l="textAreaLeft" t="textAreaTop" r="textAreaRight" b="textAreaBottom"/>
            <a:pathLst>
              <a:path w="89" h="110">
                <a:moveTo>
                  <a:pt x="65" y="110"/>
                </a:moveTo>
                <a:lnTo>
                  <a:pt x="23" y="90"/>
                </a:lnTo>
                <a:lnTo>
                  <a:pt x="0" y="83"/>
                </a:lnTo>
                <a:lnTo>
                  <a:pt x="23" y="45"/>
                </a:lnTo>
                <a:lnTo>
                  <a:pt x="65" y="0"/>
                </a:lnTo>
                <a:lnTo>
                  <a:pt x="89" y="41"/>
                </a:lnTo>
                <a:lnTo>
                  <a:pt x="77" y="57"/>
                </a:lnTo>
                <a:lnTo>
                  <a:pt x="65" y="110"/>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3" name="Freeform 134"/>
          <p:cNvSpPr/>
          <p:nvPr/>
        </p:nvSpPr>
        <p:spPr>
          <a:xfrm>
            <a:off x="5024520" y="3025800"/>
            <a:ext cx="2049480" cy="1317600"/>
          </a:xfrm>
          <a:custGeom>
            <a:avLst/>
            <a:gdLst>
              <a:gd name="textAreaLeft" fmla="*/ 0 w 2049480"/>
              <a:gd name="textAreaRight" fmla="*/ 2049840 w 2049480"/>
              <a:gd name="textAreaTop" fmla="*/ 0 h 1317600"/>
              <a:gd name="textAreaBottom" fmla="*/ 1317960 h 1317600"/>
            </a:gdLst>
            <a:ahLst/>
            <a:rect l="textAreaLeft" t="textAreaTop" r="textAreaRight" b="textAreaBottom"/>
            <a:pathLst>
              <a:path w="1291" h="830">
                <a:moveTo>
                  <a:pt x="1252" y="234"/>
                </a:moveTo>
                <a:lnTo>
                  <a:pt x="1252" y="234"/>
                </a:lnTo>
                <a:lnTo>
                  <a:pt x="1253" y="223"/>
                </a:lnTo>
                <a:lnTo>
                  <a:pt x="1256" y="208"/>
                </a:lnTo>
                <a:lnTo>
                  <a:pt x="1268" y="173"/>
                </a:lnTo>
                <a:lnTo>
                  <a:pt x="1282" y="142"/>
                </a:lnTo>
                <a:lnTo>
                  <a:pt x="1287" y="130"/>
                </a:lnTo>
                <a:lnTo>
                  <a:pt x="1271" y="139"/>
                </a:lnTo>
                <a:lnTo>
                  <a:pt x="1261" y="143"/>
                </a:lnTo>
                <a:lnTo>
                  <a:pt x="1258" y="145"/>
                </a:lnTo>
                <a:lnTo>
                  <a:pt x="1258" y="143"/>
                </a:lnTo>
                <a:lnTo>
                  <a:pt x="1256" y="133"/>
                </a:lnTo>
                <a:lnTo>
                  <a:pt x="1255" y="118"/>
                </a:lnTo>
                <a:lnTo>
                  <a:pt x="1252" y="98"/>
                </a:lnTo>
                <a:lnTo>
                  <a:pt x="1246" y="97"/>
                </a:lnTo>
                <a:lnTo>
                  <a:pt x="1240" y="94"/>
                </a:lnTo>
                <a:lnTo>
                  <a:pt x="1232" y="91"/>
                </a:lnTo>
                <a:lnTo>
                  <a:pt x="1225" y="85"/>
                </a:lnTo>
                <a:lnTo>
                  <a:pt x="1219" y="79"/>
                </a:lnTo>
                <a:lnTo>
                  <a:pt x="1213" y="70"/>
                </a:lnTo>
                <a:lnTo>
                  <a:pt x="1211" y="60"/>
                </a:lnTo>
                <a:lnTo>
                  <a:pt x="1210" y="48"/>
                </a:lnTo>
                <a:lnTo>
                  <a:pt x="1207" y="38"/>
                </a:lnTo>
                <a:lnTo>
                  <a:pt x="1201" y="18"/>
                </a:lnTo>
                <a:lnTo>
                  <a:pt x="1195" y="5"/>
                </a:lnTo>
                <a:lnTo>
                  <a:pt x="1193" y="0"/>
                </a:lnTo>
                <a:lnTo>
                  <a:pt x="1155" y="6"/>
                </a:lnTo>
                <a:lnTo>
                  <a:pt x="1149" y="17"/>
                </a:lnTo>
                <a:lnTo>
                  <a:pt x="1134" y="39"/>
                </a:lnTo>
                <a:lnTo>
                  <a:pt x="1116" y="63"/>
                </a:lnTo>
                <a:lnTo>
                  <a:pt x="1109" y="73"/>
                </a:lnTo>
                <a:lnTo>
                  <a:pt x="1101" y="77"/>
                </a:lnTo>
                <a:lnTo>
                  <a:pt x="1091" y="79"/>
                </a:lnTo>
                <a:lnTo>
                  <a:pt x="1074" y="79"/>
                </a:lnTo>
                <a:lnTo>
                  <a:pt x="1026" y="80"/>
                </a:lnTo>
                <a:lnTo>
                  <a:pt x="981" y="80"/>
                </a:lnTo>
                <a:lnTo>
                  <a:pt x="954" y="80"/>
                </a:lnTo>
                <a:lnTo>
                  <a:pt x="945" y="79"/>
                </a:lnTo>
                <a:lnTo>
                  <a:pt x="931" y="74"/>
                </a:lnTo>
                <a:lnTo>
                  <a:pt x="916" y="66"/>
                </a:lnTo>
                <a:lnTo>
                  <a:pt x="907" y="60"/>
                </a:lnTo>
                <a:lnTo>
                  <a:pt x="898" y="53"/>
                </a:lnTo>
                <a:lnTo>
                  <a:pt x="889" y="47"/>
                </a:lnTo>
                <a:lnTo>
                  <a:pt x="878" y="42"/>
                </a:lnTo>
                <a:lnTo>
                  <a:pt x="869" y="39"/>
                </a:lnTo>
                <a:lnTo>
                  <a:pt x="860" y="38"/>
                </a:lnTo>
                <a:lnTo>
                  <a:pt x="845" y="39"/>
                </a:lnTo>
                <a:lnTo>
                  <a:pt x="841" y="39"/>
                </a:lnTo>
                <a:lnTo>
                  <a:pt x="841" y="79"/>
                </a:lnTo>
                <a:lnTo>
                  <a:pt x="813" y="70"/>
                </a:lnTo>
                <a:lnTo>
                  <a:pt x="780" y="60"/>
                </a:lnTo>
                <a:lnTo>
                  <a:pt x="774" y="60"/>
                </a:lnTo>
                <a:lnTo>
                  <a:pt x="764" y="65"/>
                </a:lnTo>
                <a:lnTo>
                  <a:pt x="738" y="80"/>
                </a:lnTo>
                <a:lnTo>
                  <a:pt x="712" y="97"/>
                </a:lnTo>
                <a:lnTo>
                  <a:pt x="699" y="106"/>
                </a:lnTo>
                <a:lnTo>
                  <a:pt x="670" y="136"/>
                </a:lnTo>
                <a:lnTo>
                  <a:pt x="654" y="154"/>
                </a:lnTo>
                <a:lnTo>
                  <a:pt x="649" y="161"/>
                </a:lnTo>
                <a:lnTo>
                  <a:pt x="648" y="164"/>
                </a:lnTo>
                <a:lnTo>
                  <a:pt x="648" y="166"/>
                </a:lnTo>
                <a:lnTo>
                  <a:pt x="648" y="167"/>
                </a:lnTo>
                <a:lnTo>
                  <a:pt x="646" y="170"/>
                </a:lnTo>
                <a:lnTo>
                  <a:pt x="642" y="180"/>
                </a:lnTo>
                <a:lnTo>
                  <a:pt x="624" y="202"/>
                </a:lnTo>
                <a:lnTo>
                  <a:pt x="596" y="234"/>
                </a:lnTo>
                <a:lnTo>
                  <a:pt x="559" y="279"/>
                </a:lnTo>
                <a:lnTo>
                  <a:pt x="536" y="297"/>
                </a:lnTo>
                <a:lnTo>
                  <a:pt x="518" y="309"/>
                </a:lnTo>
                <a:lnTo>
                  <a:pt x="511" y="314"/>
                </a:lnTo>
                <a:lnTo>
                  <a:pt x="503" y="315"/>
                </a:lnTo>
                <a:lnTo>
                  <a:pt x="467" y="314"/>
                </a:lnTo>
                <a:lnTo>
                  <a:pt x="422" y="312"/>
                </a:lnTo>
                <a:lnTo>
                  <a:pt x="413" y="312"/>
                </a:lnTo>
                <a:lnTo>
                  <a:pt x="404" y="315"/>
                </a:lnTo>
                <a:lnTo>
                  <a:pt x="396" y="320"/>
                </a:lnTo>
                <a:lnTo>
                  <a:pt x="388" y="324"/>
                </a:lnTo>
                <a:lnTo>
                  <a:pt x="375" y="333"/>
                </a:lnTo>
                <a:lnTo>
                  <a:pt x="370" y="335"/>
                </a:lnTo>
                <a:lnTo>
                  <a:pt x="366" y="335"/>
                </a:lnTo>
                <a:lnTo>
                  <a:pt x="361" y="332"/>
                </a:lnTo>
                <a:lnTo>
                  <a:pt x="355" y="326"/>
                </a:lnTo>
                <a:lnTo>
                  <a:pt x="337" y="308"/>
                </a:lnTo>
                <a:lnTo>
                  <a:pt x="319" y="291"/>
                </a:lnTo>
                <a:lnTo>
                  <a:pt x="313" y="285"/>
                </a:lnTo>
                <a:lnTo>
                  <a:pt x="309" y="283"/>
                </a:lnTo>
                <a:lnTo>
                  <a:pt x="303" y="285"/>
                </a:lnTo>
                <a:lnTo>
                  <a:pt x="295" y="288"/>
                </a:lnTo>
                <a:lnTo>
                  <a:pt x="272" y="297"/>
                </a:lnTo>
                <a:lnTo>
                  <a:pt x="248" y="306"/>
                </a:lnTo>
                <a:lnTo>
                  <a:pt x="239" y="309"/>
                </a:lnTo>
                <a:lnTo>
                  <a:pt x="232" y="308"/>
                </a:lnTo>
                <a:lnTo>
                  <a:pt x="215" y="300"/>
                </a:lnTo>
                <a:lnTo>
                  <a:pt x="193" y="288"/>
                </a:lnTo>
                <a:lnTo>
                  <a:pt x="164" y="271"/>
                </a:lnTo>
                <a:lnTo>
                  <a:pt x="156" y="286"/>
                </a:lnTo>
                <a:lnTo>
                  <a:pt x="150" y="296"/>
                </a:lnTo>
                <a:lnTo>
                  <a:pt x="147" y="299"/>
                </a:lnTo>
                <a:lnTo>
                  <a:pt x="144" y="300"/>
                </a:lnTo>
                <a:lnTo>
                  <a:pt x="132" y="303"/>
                </a:lnTo>
                <a:lnTo>
                  <a:pt x="111" y="309"/>
                </a:lnTo>
                <a:lnTo>
                  <a:pt x="84" y="315"/>
                </a:lnTo>
                <a:lnTo>
                  <a:pt x="69" y="318"/>
                </a:lnTo>
                <a:lnTo>
                  <a:pt x="52" y="318"/>
                </a:lnTo>
                <a:lnTo>
                  <a:pt x="46" y="318"/>
                </a:lnTo>
                <a:lnTo>
                  <a:pt x="40" y="321"/>
                </a:lnTo>
                <a:lnTo>
                  <a:pt x="27" y="327"/>
                </a:lnTo>
                <a:lnTo>
                  <a:pt x="13" y="338"/>
                </a:lnTo>
                <a:lnTo>
                  <a:pt x="0" y="350"/>
                </a:lnTo>
                <a:lnTo>
                  <a:pt x="7" y="413"/>
                </a:lnTo>
                <a:lnTo>
                  <a:pt x="18" y="404"/>
                </a:lnTo>
                <a:lnTo>
                  <a:pt x="25" y="449"/>
                </a:lnTo>
                <a:lnTo>
                  <a:pt x="75" y="519"/>
                </a:lnTo>
                <a:lnTo>
                  <a:pt x="117" y="588"/>
                </a:lnTo>
                <a:lnTo>
                  <a:pt x="144" y="653"/>
                </a:lnTo>
                <a:lnTo>
                  <a:pt x="174" y="638"/>
                </a:lnTo>
                <a:lnTo>
                  <a:pt x="229" y="606"/>
                </a:lnTo>
                <a:lnTo>
                  <a:pt x="278" y="583"/>
                </a:lnTo>
                <a:lnTo>
                  <a:pt x="328" y="561"/>
                </a:lnTo>
                <a:lnTo>
                  <a:pt x="321" y="523"/>
                </a:lnTo>
                <a:lnTo>
                  <a:pt x="301" y="496"/>
                </a:lnTo>
                <a:lnTo>
                  <a:pt x="297" y="461"/>
                </a:lnTo>
                <a:lnTo>
                  <a:pt x="254" y="466"/>
                </a:lnTo>
                <a:lnTo>
                  <a:pt x="212" y="419"/>
                </a:lnTo>
                <a:lnTo>
                  <a:pt x="212" y="392"/>
                </a:lnTo>
                <a:lnTo>
                  <a:pt x="226" y="403"/>
                </a:lnTo>
                <a:lnTo>
                  <a:pt x="239" y="413"/>
                </a:lnTo>
                <a:lnTo>
                  <a:pt x="259" y="425"/>
                </a:lnTo>
                <a:lnTo>
                  <a:pt x="281" y="437"/>
                </a:lnTo>
                <a:lnTo>
                  <a:pt x="307" y="449"/>
                </a:lnTo>
                <a:lnTo>
                  <a:pt x="334" y="458"/>
                </a:lnTo>
                <a:lnTo>
                  <a:pt x="348" y="463"/>
                </a:lnTo>
                <a:lnTo>
                  <a:pt x="361" y="466"/>
                </a:lnTo>
                <a:lnTo>
                  <a:pt x="450" y="488"/>
                </a:lnTo>
                <a:lnTo>
                  <a:pt x="453" y="534"/>
                </a:lnTo>
                <a:lnTo>
                  <a:pt x="515" y="531"/>
                </a:lnTo>
                <a:lnTo>
                  <a:pt x="500" y="588"/>
                </a:lnTo>
                <a:lnTo>
                  <a:pt x="572" y="710"/>
                </a:lnTo>
                <a:lnTo>
                  <a:pt x="575" y="713"/>
                </a:lnTo>
                <a:lnTo>
                  <a:pt x="580" y="714"/>
                </a:lnTo>
                <a:lnTo>
                  <a:pt x="584" y="714"/>
                </a:lnTo>
                <a:lnTo>
                  <a:pt x="589" y="714"/>
                </a:lnTo>
                <a:lnTo>
                  <a:pt x="595" y="711"/>
                </a:lnTo>
                <a:lnTo>
                  <a:pt x="601" y="705"/>
                </a:lnTo>
                <a:lnTo>
                  <a:pt x="607" y="695"/>
                </a:lnTo>
                <a:lnTo>
                  <a:pt x="614" y="678"/>
                </a:lnTo>
                <a:lnTo>
                  <a:pt x="627" y="656"/>
                </a:lnTo>
                <a:lnTo>
                  <a:pt x="642" y="632"/>
                </a:lnTo>
                <a:lnTo>
                  <a:pt x="651" y="618"/>
                </a:lnTo>
                <a:lnTo>
                  <a:pt x="661" y="604"/>
                </a:lnTo>
                <a:lnTo>
                  <a:pt x="672" y="592"/>
                </a:lnTo>
                <a:lnTo>
                  <a:pt x="685" y="580"/>
                </a:lnTo>
                <a:lnTo>
                  <a:pt x="699" y="568"/>
                </a:lnTo>
                <a:lnTo>
                  <a:pt x="714" y="559"/>
                </a:lnTo>
                <a:lnTo>
                  <a:pt x="731" y="550"/>
                </a:lnTo>
                <a:lnTo>
                  <a:pt x="747" y="544"/>
                </a:lnTo>
                <a:lnTo>
                  <a:pt x="767" y="540"/>
                </a:lnTo>
                <a:lnTo>
                  <a:pt x="786" y="538"/>
                </a:lnTo>
                <a:lnTo>
                  <a:pt x="798" y="574"/>
                </a:lnTo>
                <a:lnTo>
                  <a:pt x="806" y="604"/>
                </a:lnTo>
                <a:lnTo>
                  <a:pt x="809" y="618"/>
                </a:lnTo>
                <a:lnTo>
                  <a:pt x="809" y="630"/>
                </a:lnTo>
                <a:lnTo>
                  <a:pt x="813" y="632"/>
                </a:lnTo>
                <a:lnTo>
                  <a:pt x="818" y="633"/>
                </a:lnTo>
                <a:lnTo>
                  <a:pt x="822" y="635"/>
                </a:lnTo>
                <a:lnTo>
                  <a:pt x="828" y="633"/>
                </a:lnTo>
                <a:lnTo>
                  <a:pt x="836" y="632"/>
                </a:lnTo>
                <a:lnTo>
                  <a:pt x="842" y="626"/>
                </a:lnTo>
                <a:lnTo>
                  <a:pt x="848" y="618"/>
                </a:lnTo>
                <a:lnTo>
                  <a:pt x="848" y="638"/>
                </a:lnTo>
                <a:lnTo>
                  <a:pt x="850" y="659"/>
                </a:lnTo>
                <a:lnTo>
                  <a:pt x="851" y="683"/>
                </a:lnTo>
                <a:lnTo>
                  <a:pt x="856" y="707"/>
                </a:lnTo>
                <a:lnTo>
                  <a:pt x="860" y="731"/>
                </a:lnTo>
                <a:lnTo>
                  <a:pt x="865" y="742"/>
                </a:lnTo>
                <a:lnTo>
                  <a:pt x="868" y="751"/>
                </a:lnTo>
                <a:lnTo>
                  <a:pt x="874" y="758"/>
                </a:lnTo>
                <a:lnTo>
                  <a:pt x="878" y="763"/>
                </a:lnTo>
                <a:lnTo>
                  <a:pt x="890" y="773"/>
                </a:lnTo>
                <a:lnTo>
                  <a:pt x="904" y="785"/>
                </a:lnTo>
                <a:lnTo>
                  <a:pt x="931" y="811"/>
                </a:lnTo>
                <a:lnTo>
                  <a:pt x="945" y="820"/>
                </a:lnTo>
                <a:lnTo>
                  <a:pt x="955" y="827"/>
                </a:lnTo>
                <a:lnTo>
                  <a:pt x="960" y="830"/>
                </a:lnTo>
                <a:lnTo>
                  <a:pt x="964" y="830"/>
                </a:lnTo>
                <a:lnTo>
                  <a:pt x="967" y="830"/>
                </a:lnTo>
                <a:lnTo>
                  <a:pt x="970" y="829"/>
                </a:lnTo>
                <a:lnTo>
                  <a:pt x="975" y="823"/>
                </a:lnTo>
                <a:lnTo>
                  <a:pt x="976" y="817"/>
                </a:lnTo>
                <a:lnTo>
                  <a:pt x="978" y="809"/>
                </a:lnTo>
                <a:lnTo>
                  <a:pt x="978" y="803"/>
                </a:lnTo>
                <a:lnTo>
                  <a:pt x="978" y="797"/>
                </a:lnTo>
                <a:lnTo>
                  <a:pt x="975" y="791"/>
                </a:lnTo>
                <a:lnTo>
                  <a:pt x="972" y="785"/>
                </a:lnTo>
                <a:lnTo>
                  <a:pt x="967" y="779"/>
                </a:lnTo>
                <a:lnTo>
                  <a:pt x="961" y="772"/>
                </a:lnTo>
                <a:lnTo>
                  <a:pt x="955" y="764"/>
                </a:lnTo>
                <a:lnTo>
                  <a:pt x="941" y="743"/>
                </a:lnTo>
                <a:lnTo>
                  <a:pt x="920" y="705"/>
                </a:lnTo>
                <a:lnTo>
                  <a:pt x="917" y="698"/>
                </a:lnTo>
                <a:lnTo>
                  <a:pt x="914" y="689"/>
                </a:lnTo>
                <a:lnTo>
                  <a:pt x="910" y="671"/>
                </a:lnTo>
                <a:lnTo>
                  <a:pt x="910" y="656"/>
                </a:lnTo>
                <a:lnTo>
                  <a:pt x="908" y="648"/>
                </a:lnTo>
                <a:lnTo>
                  <a:pt x="940" y="687"/>
                </a:lnTo>
                <a:lnTo>
                  <a:pt x="941" y="692"/>
                </a:lnTo>
                <a:lnTo>
                  <a:pt x="943" y="698"/>
                </a:lnTo>
                <a:lnTo>
                  <a:pt x="948" y="702"/>
                </a:lnTo>
                <a:lnTo>
                  <a:pt x="952" y="707"/>
                </a:lnTo>
                <a:lnTo>
                  <a:pt x="957" y="707"/>
                </a:lnTo>
                <a:lnTo>
                  <a:pt x="961" y="708"/>
                </a:lnTo>
                <a:lnTo>
                  <a:pt x="966" y="707"/>
                </a:lnTo>
                <a:lnTo>
                  <a:pt x="972" y="705"/>
                </a:lnTo>
                <a:lnTo>
                  <a:pt x="985" y="698"/>
                </a:lnTo>
                <a:lnTo>
                  <a:pt x="993" y="693"/>
                </a:lnTo>
                <a:lnTo>
                  <a:pt x="999" y="687"/>
                </a:lnTo>
                <a:lnTo>
                  <a:pt x="1003" y="681"/>
                </a:lnTo>
                <a:lnTo>
                  <a:pt x="1008" y="674"/>
                </a:lnTo>
                <a:lnTo>
                  <a:pt x="1014" y="660"/>
                </a:lnTo>
                <a:lnTo>
                  <a:pt x="1017" y="647"/>
                </a:lnTo>
                <a:lnTo>
                  <a:pt x="1017" y="633"/>
                </a:lnTo>
                <a:lnTo>
                  <a:pt x="1017" y="624"/>
                </a:lnTo>
                <a:lnTo>
                  <a:pt x="1017" y="615"/>
                </a:lnTo>
                <a:lnTo>
                  <a:pt x="975" y="588"/>
                </a:lnTo>
                <a:lnTo>
                  <a:pt x="975" y="541"/>
                </a:lnTo>
                <a:lnTo>
                  <a:pt x="1020" y="526"/>
                </a:lnTo>
                <a:lnTo>
                  <a:pt x="1017" y="565"/>
                </a:lnTo>
                <a:lnTo>
                  <a:pt x="1018" y="568"/>
                </a:lnTo>
                <a:lnTo>
                  <a:pt x="1023" y="577"/>
                </a:lnTo>
                <a:lnTo>
                  <a:pt x="1027" y="580"/>
                </a:lnTo>
                <a:lnTo>
                  <a:pt x="1030" y="583"/>
                </a:lnTo>
                <a:lnTo>
                  <a:pt x="1035" y="585"/>
                </a:lnTo>
                <a:lnTo>
                  <a:pt x="1039" y="583"/>
                </a:lnTo>
                <a:lnTo>
                  <a:pt x="1047" y="577"/>
                </a:lnTo>
                <a:lnTo>
                  <a:pt x="1051" y="570"/>
                </a:lnTo>
                <a:lnTo>
                  <a:pt x="1055" y="561"/>
                </a:lnTo>
                <a:lnTo>
                  <a:pt x="1055" y="534"/>
                </a:lnTo>
                <a:lnTo>
                  <a:pt x="1074" y="520"/>
                </a:lnTo>
                <a:lnTo>
                  <a:pt x="1095" y="505"/>
                </a:lnTo>
                <a:lnTo>
                  <a:pt x="1119" y="487"/>
                </a:lnTo>
                <a:lnTo>
                  <a:pt x="1145" y="467"/>
                </a:lnTo>
                <a:lnTo>
                  <a:pt x="1166" y="446"/>
                </a:lnTo>
                <a:lnTo>
                  <a:pt x="1175" y="437"/>
                </a:lnTo>
                <a:lnTo>
                  <a:pt x="1181" y="428"/>
                </a:lnTo>
                <a:lnTo>
                  <a:pt x="1186" y="419"/>
                </a:lnTo>
                <a:lnTo>
                  <a:pt x="1189" y="412"/>
                </a:lnTo>
                <a:lnTo>
                  <a:pt x="1192" y="389"/>
                </a:lnTo>
                <a:lnTo>
                  <a:pt x="1195" y="375"/>
                </a:lnTo>
                <a:lnTo>
                  <a:pt x="1195" y="366"/>
                </a:lnTo>
                <a:lnTo>
                  <a:pt x="1195" y="362"/>
                </a:lnTo>
                <a:lnTo>
                  <a:pt x="1192" y="357"/>
                </a:lnTo>
                <a:lnTo>
                  <a:pt x="1186" y="345"/>
                </a:lnTo>
                <a:lnTo>
                  <a:pt x="1180" y="329"/>
                </a:lnTo>
                <a:lnTo>
                  <a:pt x="1174" y="308"/>
                </a:lnTo>
                <a:lnTo>
                  <a:pt x="1189" y="262"/>
                </a:lnTo>
                <a:lnTo>
                  <a:pt x="1149" y="258"/>
                </a:lnTo>
                <a:lnTo>
                  <a:pt x="1149" y="235"/>
                </a:lnTo>
                <a:lnTo>
                  <a:pt x="1189" y="220"/>
                </a:lnTo>
                <a:lnTo>
                  <a:pt x="1226" y="220"/>
                </a:lnTo>
                <a:lnTo>
                  <a:pt x="1246" y="255"/>
                </a:lnTo>
                <a:lnTo>
                  <a:pt x="1243" y="312"/>
                </a:lnTo>
                <a:lnTo>
                  <a:pt x="1291" y="290"/>
                </a:lnTo>
                <a:lnTo>
                  <a:pt x="1291" y="255"/>
                </a:lnTo>
                <a:lnTo>
                  <a:pt x="1278" y="253"/>
                </a:lnTo>
                <a:lnTo>
                  <a:pt x="1265" y="249"/>
                </a:lnTo>
                <a:lnTo>
                  <a:pt x="1261" y="246"/>
                </a:lnTo>
                <a:lnTo>
                  <a:pt x="1256" y="243"/>
                </a:lnTo>
                <a:lnTo>
                  <a:pt x="1253" y="238"/>
                </a:lnTo>
                <a:lnTo>
                  <a:pt x="1252" y="234"/>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4" name="Freeform 137"/>
          <p:cNvSpPr/>
          <p:nvPr/>
        </p:nvSpPr>
        <p:spPr>
          <a:xfrm>
            <a:off x="5232240" y="463068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5" name="Freeform 138"/>
          <p:cNvSpPr/>
          <p:nvPr/>
        </p:nvSpPr>
        <p:spPr>
          <a:xfrm>
            <a:off x="3905280" y="3479760"/>
            <a:ext cx="1485720" cy="1747800"/>
          </a:xfrm>
          <a:custGeom>
            <a:avLst/>
            <a:gdLst>
              <a:gd name="textAreaLeft" fmla="*/ 0 w 1485720"/>
              <a:gd name="textAreaRight" fmla="*/ 1486080 w 148572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6" name="Freeform 140"/>
          <p:cNvSpPr/>
          <p:nvPr/>
        </p:nvSpPr>
        <p:spPr>
          <a:xfrm>
            <a:off x="5234040" y="4629240"/>
            <a:ext cx="189000" cy="344520"/>
          </a:xfrm>
          <a:custGeom>
            <a:avLst/>
            <a:gdLst>
              <a:gd name="textAreaLeft" fmla="*/ 0 w 189000"/>
              <a:gd name="textAreaRight" fmla="*/ 189360 w 189000"/>
              <a:gd name="textAreaTop" fmla="*/ 0 h 344520"/>
              <a:gd name="textAreaBottom" fmla="*/ 344880 h 344520"/>
            </a:gdLst>
            <a:ahLst/>
            <a:rect l="textAreaLeft" t="textAreaTop" r="textAreaRight" b="textAreaBottom"/>
            <a:pathLst>
              <a:path w="119" h="217">
                <a:moveTo>
                  <a:pt x="119" y="69"/>
                </a:moveTo>
                <a:lnTo>
                  <a:pt x="107" y="22"/>
                </a:lnTo>
                <a:lnTo>
                  <a:pt x="92" y="0"/>
                </a:lnTo>
                <a:lnTo>
                  <a:pt x="73" y="22"/>
                </a:lnTo>
                <a:lnTo>
                  <a:pt x="35" y="57"/>
                </a:lnTo>
                <a:lnTo>
                  <a:pt x="29" y="62"/>
                </a:lnTo>
                <a:lnTo>
                  <a:pt x="18" y="71"/>
                </a:lnTo>
                <a:lnTo>
                  <a:pt x="11" y="77"/>
                </a:lnTo>
                <a:lnTo>
                  <a:pt x="6" y="84"/>
                </a:lnTo>
                <a:lnTo>
                  <a:pt x="2" y="92"/>
                </a:lnTo>
                <a:lnTo>
                  <a:pt x="0" y="99"/>
                </a:lnTo>
                <a:lnTo>
                  <a:pt x="2" y="116"/>
                </a:lnTo>
                <a:lnTo>
                  <a:pt x="6" y="135"/>
                </a:lnTo>
                <a:lnTo>
                  <a:pt x="12" y="156"/>
                </a:lnTo>
                <a:lnTo>
                  <a:pt x="12" y="199"/>
                </a:lnTo>
                <a:lnTo>
                  <a:pt x="17" y="203"/>
                </a:lnTo>
                <a:lnTo>
                  <a:pt x="30" y="211"/>
                </a:lnTo>
                <a:lnTo>
                  <a:pt x="36" y="214"/>
                </a:lnTo>
                <a:lnTo>
                  <a:pt x="42" y="217"/>
                </a:lnTo>
                <a:lnTo>
                  <a:pt x="47" y="217"/>
                </a:lnTo>
                <a:lnTo>
                  <a:pt x="49" y="215"/>
                </a:lnTo>
                <a:lnTo>
                  <a:pt x="50" y="214"/>
                </a:lnTo>
                <a:lnTo>
                  <a:pt x="65" y="159"/>
                </a:lnTo>
                <a:lnTo>
                  <a:pt x="89" y="102"/>
                </a:lnTo>
                <a:lnTo>
                  <a:pt x="119" y="69"/>
                </a:lnTo>
                <a:close/>
              </a:path>
            </a:pathLst>
          </a:custGeom>
          <a:solidFill>
            <a:srgbClr val="59702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7" name="Freeform 141"/>
          <p:cNvSpPr/>
          <p:nvPr/>
        </p:nvSpPr>
        <p:spPr>
          <a:xfrm>
            <a:off x="3906720" y="3478320"/>
            <a:ext cx="1486080" cy="1747800"/>
          </a:xfrm>
          <a:custGeom>
            <a:avLst/>
            <a:gdLst>
              <a:gd name="textAreaLeft" fmla="*/ 0 w 1486080"/>
              <a:gd name="textAreaRight" fmla="*/ 1486440 w 1486080"/>
              <a:gd name="textAreaTop" fmla="*/ 0 h 1747800"/>
              <a:gd name="textAreaBottom" fmla="*/ 1748160 h 1747800"/>
            </a:gdLst>
            <a:ahLst/>
            <a:rect l="textAreaLeft" t="textAreaTop" r="textAreaRight" b="textAreaBottom"/>
            <a:pathLst>
              <a:path w="936" h="1101">
                <a:moveTo>
                  <a:pt x="699" y="65"/>
                </a:moveTo>
                <a:lnTo>
                  <a:pt x="639" y="87"/>
                </a:lnTo>
                <a:lnTo>
                  <a:pt x="597" y="99"/>
                </a:lnTo>
                <a:lnTo>
                  <a:pt x="555" y="84"/>
                </a:lnTo>
                <a:lnTo>
                  <a:pt x="508" y="72"/>
                </a:lnTo>
                <a:lnTo>
                  <a:pt x="505" y="107"/>
                </a:lnTo>
                <a:lnTo>
                  <a:pt x="466" y="92"/>
                </a:lnTo>
                <a:lnTo>
                  <a:pt x="432" y="80"/>
                </a:lnTo>
                <a:lnTo>
                  <a:pt x="383" y="72"/>
                </a:lnTo>
                <a:lnTo>
                  <a:pt x="375" y="18"/>
                </a:lnTo>
                <a:lnTo>
                  <a:pt x="366" y="0"/>
                </a:lnTo>
                <a:lnTo>
                  <a:pt x="301" y="0"/>
                </a:lnTo>
                <a:lnTo>
                  <a:pt x="256" y="3"/>
                </a:lnTo>
                <a:lnTo>
                  <a:pt x="237" y="11"/>
                </a:lnTo>
                <a:lnTo>
                  <a:pt x="164" y="15"/>
                </a:lnTo>
                <a:lnTo>
                  <a:pt x="127" y="65"/>
                </a:lnTo>
                <a:lnTo>
                  <a:pt x="87" y="130"/>
                </a:lnTo>
                <a:lnTo>
                  <a:pt x="11" y="191"/>
                </a:lnTo>
                <a:lnTo>
                  <a:pt x="8" y="202"/>
                </a:lnTo>
                <a:lnTo>
                  <a:pt x="3" y="215"/>
                </a:lnTo>
                <a:lnTo>
                  <a:pt x="2" y="234"/>
                </a:lnTo>
                <a:lnTo>
                  <a:pt x="0" y="256"/>
                </a:lnTo>
                <a:lnTo>
                  <a:pt x="2" y="268"/>
                </a:lnTo>
                <a:lnTo>
                  <a:pt x="3" y="282"/>
                </a:lnTo>
                <a:lnTo>
                  <a:pt x="6" y="295"/>
                </a:lnTo>
                <a:lnTo>
                  <a:pt x="11" y="309"/>
                </a:lnTo>
                <a:lnTo>
                  <a:pt x="15" y="324"/>
                </a:lnTo>
                <a:lnTo>
                  <a:pt x="23" y="341"/>
                </a:lnTo>
                <a:lnTo>
                  <a:pt x="20" y="344"/>
                </a:lnTo>
                <a:lnTo>
                  <a:pt x="18" y="350"/>
                </a:lnTo>
                <a:lnTo>
                  <a:pt x="18" y="357"/>
                </a:lnTo>
                <a:lnTo>
                  <a:pt x="20" y="369"/>
                </a:lnTo>
                <a:lnTo>
                  <a:pt x="23" y="383"/>
                </a:lnTo>
                <a:lnTo>
                  <a:pt x="30" y="402"/>
                </a:lnTo>
                <a:lnTo>
                  <a:pt x="42" y="423"/>
                </a:lnTo>
                <a:lnTo>
                  <a:pt x="44" y="428"/>
                </a:lnTo>
                <a:lnTo>
                  <a:pt x="48" y="438"/>
                </a:lnTo>
                <a:lnTo>
                  <a:pt x="57" y="454"/>
                </a:lnTo>
                <a:lnTo>
                  <a:pt x="63" y="461"/>
                </a:lnTo>
                <a:lnTo>
                  <a:pt x="71" y="469"/>
                </a:lnTo>
                <a:lnTo>
                  <a:pt x="80" y="475"/>
                </a:lnTo>
                <a:lnTo>
                  <a:pt x="92" y="481"/>
                </a:lnTo>
                <a:lnTo>
                  <a:pt x="105" y="485"/>
                </a:lnTo>
                <a:lnTo>
                  <a:pt x="121" y="488"/>
                </a:lnTo>
                <a:lnTo>
                  <a:pt x="139" y="490"/>
                </a:lnTo>
                <a:lnTo>
                  <a:pt x="158" y="488"/>
                </a:lnTo>
                <a:lnTo>
                  <a:pt x="181" y="485"/>
                </a:lnTo>
                <a:lnTo>
                  <a:pt x="206" y="478"/>
                </a:lnTo>
                <a:lnTo>
                  <a:pt x="241" y="473"/>
                </a:lnTo>
                <a:lnTo>
                  <a:pt x="271" y="478"/>
                </a:lnTo>
                <a:lnTo>
                  <a:pt x="321" y="473"/>
                </a:lnTo>
                <a:lnTo>
                  <a:pt x="309" y="493"/>
                </a:lnTo>
                <a:lnTo>
                  <a:pt x="348" y="493"/>
                </a:lnTo>
                <a:lnTo>
                  <a:pt x="351" y="542"/>
                </a:lnTo>
                <a:lnTo>
                  <a:pt x="351" y="553"/>
                </a:lnTo>
                <a:lnTo>
                  <a:pt x="350" y="574"/>
                </a:lnTo>
                <a:lnTo>
                  <a:pt x="350" y="586"/>
                </a:lnTo>
                <a:lnTo>
                  <a:pt x="350" y="595"/>
                </a:lnTo>
                <a:lnTo>
                  <a:pt x="353" y="604"/>
                </a:lnTo>
                <a:lnTo>
                  <a:pt x="354" y="606"/>
                </a:lnTo>
                <a:lnTo>
                  <a:pt x="356" y="607"/>
                </a:lnTo>
                <a:lnTo>
                  <a:pt x="366" y="613"/>
                </a:lnTo>
                <a:lnTo>
                  <a:pt x="378" y="624"/>
                </a:lnTo>
                <a:lnTo>
                  <a:pt x="384" y="630"/>
                </a:lnTo>
                <a:lnTo>
                  <a:pt x="389" y="637"/>
                </a:lnTo>
                <a:lnTo>
                  <a:pt x="392" y="645"/>
                </a:lnTo>
                <a:lnTo>
                  <a:pt x="393" y="654"/>
                </a:lnTo>
                <a:lnTo>
                  <a:pt x="395" y="663"/>
                </a:lnTo>
                <a:lnTo>
                  <a:pt x="396" y="675"/>
                </a:lnTo>
                <a:lnTo>
                  <a:pt x="401" y="701"/>
                </a:lnTo>
                <a:lnTo>
                  <a:pt x="408" y="729"/>
                </a:lnTo>
                <a:lnTo>
                  <a:pt x="404" y="758"/>
                </a:lnTo>
                <a:lnTo>
                  <a:pt x="399" y="784"/>
                </a:lnTo>
                <a:lnTo>
                  <a:pt x="398" y="811"/>
                </a:lnTo>
                <a:lnTo>
                  <a:pt x="399" y="842"/>
                </a:lnTo>
                <a:lnTo>
                  <a:pt x="404" y="878"/>
                </a:lnTo>
                <a:lnTo>
                  <a:pt x="408" y="921"/>
                </a:lnTo>
                <a:lnTo>
                  <a:pt x="443" y="958"/>
                </a:lnTo>
                <a:lnTo>
                  <a:pt x="467" y="987"/>
                </a:lnTo>
                <a:lnTo>
                  <a:pt x="475" y="999"/>
                </a:lnTo>
                <a:lnTo>
                  <a:pt x="478" y="1005"/>
                </a:lnTo>
                <a:lnTo>
                  <a:pt x="475" y="1047"/>
                </a:lnTo>
                <a:lnTo>
                  <a:pt x="470" y="1082"/>
                </a:lnTo>
                <a:lnTo>
                  <a:pt x="532" y="1101"/>
                </a:lnTo>
                <a:lnTo>
                  <a:pt x="589" y="1089"/>
                </a:lnTo>
                <a:lnTo>
                  <a:pt x="619" y="1040"/>
                </a:lnTo>
                <a:lnTo>
                  <a:pt x="689" y="987"/>
                </a:lnTo>
                <a:lnTo>
                  <a:pt x="689" y="925"/>
                </a:lnTo>
                <a:lnTo>
                  <a:pt x="734" y="913"/>
                </a:lnTo>
                <a:lnTo>
                  <a:pt x="734" y="863"/>
                </a:lnTo>
                <a:lnTo>
                  <a:pt x="734" y="818"/>
                </a:lnTo>
                <a:lnTo>
                  <a:pt x="738" y="817"/>
                </a:lnTo>
                <a:lnTo>
                  <a:pt x="749" y="814"/>
                </a:lnTo>
                <a:lnTo>
                  <a:pt x="762" y="808"/>
                </a:lnTo>
                <a:lnTo>
                  <a:pt x="770" y="803"/>
                </a:lnTo>
                <a:lnTo>
                  <a:pt x="778" y="797"/>
                </a:lnTo>
                <a:lnTo>
                  <a:pt x="784" y="790"/>
                </a:lnTo>
                <a:lnTo>
                  <a:pt x="790" y="781"/>
                </a:lnTo>
                <a:lnTo>
                  <a:pt x="796" y="770"/>
                </a:lnTo>
                <a:lnTo>
                  <a:pt x="799" y="756"/>
                </a:lnTo>
                <a:lnTo>
                  <a:pt x="800" y="741"/>
                </a:lnTo>
                <a:lnTo>
                  <a:pt x="800" y="725"/>
                </a:lnTo>
                <a:lnTo>
                  <a:pt x="797" y="705"/>
                </a:lnTo>
                <a:lnTo>
                  <a:pt x="791" y="684"/>
                </a:lnTo>
                <a:lnTo>
                  <a:pt x="788" y="615"/>
                </a:lnTo>
                <a:lnTo>
                  <a:pt x="823" y="577"/>
                </a:lnTo>
                <a:lnTo>
                  <a:pt x="844" y="554"/>
                </a:lnTo>
                <a:lnTo>
                  <a:pt x="866" y="532"/>
                </a:lnTo>
                <a:lnTo>
                  <a:pt x="891" y="503"/>
                </a:lnTo>
                <a:lnTo>
                  <a:pt x="901" y="487"/>
                </a:lnTo>
                <a:lnTo>
                  <a:pt x="912" y="472"/>
                </a:lnTo>
                <a:lnTo>
                  <a:pt x="921" y="455"/>
                </a:lnTo>
                <a:lnTo>
                  <a:pt x="928" y="440"/>
                </a:lnTo>
                <a:lnTo>
                  <a:pt x="934" y="425"/>
                </a:lnTo>
                <a:lnTo>
                  <a:pt x="936" y="410"/>
                </a:lnTo>
                <a:lnTo>
                  <a:pt x="936" y="404"/>
                </a:lnTo>
                <a:lnTo>
                  <a:pt x="934" y="398"/>
                </a:lnTo>
                <a:lnTo>
                  <a:pt x="933" y="392"/>
                </a:lnTo>
                <a:lnTo>
                  <a:pt x="930" y="386"/>
                </a:lnTo>
                <a:lnTo>
                  <a:pt x="915" y="393"/>
                </a:lnTo>
                <a:lnTo>
                  <a:pt x="882" y="407"/>
                </a:lnTo>
                <a:lnTo>
                  <a:pt x="863" y="413"/>
                </a:lnTo>
                <a:lnTo>
                  <a:pt x="847" y="416"/>
                </a:lnTo>
                <a:lnTo>
                  <a:pt x="841" y="417"/>
                </a:lnTo>
                <a:lnTo>
                  <a:pt x="835" y="417"/>
                </a:lnTo>
                <a:lnTo>
                  <a:pt x="832" y="416"/>
                </a:lnTo>
                <a:lnTo>
                  <a:pt x="830" y="413"/>
                </a:lnTo>
                <a:lnTo>
                  <a:pt x="823" y="384"/>
                </a:lnTo>
                <a:lnTo>
                  <a:pt x="818" y="371"/>
                </a:lnTo>
                <a:lnTo>
                  <a:pt x="769" y="309"/>
                </a:lnTo>
                <a:lnTo>
                  <a:pt x="764" y="295"/>
                </a:lnTo>
                <a:lnTo>
                  <a:pt x="762" y="283"/>
                </a:lnTo>
                <a:lnTo>
                  <a:pt x="761" y="271"/>
                </a:lnTo>
                <a:lnTo>
                  <a:pt x="759" y="264"/>
                </a:lnTo>
                <a:lnTo>
                  <a:pt x="756" y="255"/>
                </a:lnTo>
                <a:lnTo>
                  <a:pt x="746" y="234"/>
                </a:lnTo>
                <a:lnTo>
                  <a:pt x="731" y="206"/>
                </a:lnTo>
                <a:lnTo>
                  <a:pt x="684" y="149"/>
                </a:lnTo>
                <a:lnTo>
                  <a:pt x="708" y="131"/>
                </a:lnTo>
                <a:lnTo>
                  <a:pt x="701" y="63"/>
                </a:lnTo>
                <a:lnTo>
                  <a:pt x="699" y="65"/>
                </a:lnTo>
                <a:close/>
              </a:path>
            </a:pathLst>
          </a:custGeom>
          <a:solidFill>
            <a:srgbClr val="9cbc5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8" name="Freeform 144"/>
          <p:cNvSpPr/>
          <p:nvPr/>
        </p:nvSpPr>
        <p:spPr>
          <a:xfrm>
            <a:off x="7130880" y="436392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29" name="Freeform 145"/>
          <p:cNvSpPr/>
          <p:nvPr/>
        </p:nvSpPr>
        <p:spPr>
          <a:xfrm>
            <a:off x="6746760" y="459576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0" name="Freeform 146"/>
          <p:cNvSpPr/>
          <p:nvPr/>
        </p:nvSpPr>
        <p:spPr>
          <a:xfrm>
            <a:off x="7358040" y="5345280"/>
            <a:ext cx="193680" cy="102960"/>
          </a:xfrm>
          <a:custGeom>
            <a:avLst/>
            <a:gdLst>
              <a:gd name="textAreaLeft" fmla="*/ 0 w 193680"/>
              <a:gd name="textAreaRight" fmla="*/ 194040 w 193680"/>
              <a:gd name="textAreaTop" fmla="*/ 0 h 102960"/>
              <a:gd name="textAreaBottom" fmla="*/ 103320 h 10296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1" name="Freeform 147"/>
          <p:cNvSpPr/>
          <p:nvPr/>
        </p:nvSpPr>
        <p:spPr>
          <a:xfrm>
            <a:off x="7931160" y="5345280"/>
            <a:ext cx="181080" cy="185400"/>
          </a:xfrm>
          <a:custGeom>
            <a:avLst/>
            <a:gdLst>
              <a:gd name="textAreaLeft" fmla="*/ 0 w 181080"/>
              <a:gd name="textAreaRight" fmla="*/ 181440 w 181080"/>
              <a:gd name="textAreaTop" fmla="*/ 0 h 185400"/>
              <a:gd name="textAreaBottom" fmla="*/ 185760 h 18540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2" name="Freeform 148"/>
          <p:cNvSpPr/>
          <p:nvPr/>
        </p:nvSpPr>
        <p:spPr>
          <a:xfrm>
            <a:off x="8064360" y="518004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ffffff">
              <a:alpha val="50000"/>
            </a:srgbClr>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3" name="Freeform 150"/>
          <p:cNvSpPr/>
          <p:nvPr/>
        </p:nvSpPr>
        <p:spPr>
          <a:xfrm>
            <a:off x="7130880" y="4362480"/>
            <a:ext cx="433440" cy="220680"/>
          </a:xfrm>
          <a:custGeom>
            <a:avLst/>
            <a:gdLst>
              <a:gd name="textAreaLeft" fmla="*/ 0 w 433440"/>
              <a:gd name="textAreaRight" fmla="*/ 433800 w 433440"/>
              <a:gd name="textAreaTop" fmla="*/ 0 h 220680"/>
              <a:gd name="textAreaBottom" fmla="*/ 221040 h 220680"/>
            </a:gdLst>
            <a:ahLst/>
            <a:rect l="textAreaLeft" t="textAreaTop" r="textAreaRight" b="textAreaBottom"/>
            <a:pathLst>
              <a:path w="273" h="139">
                <a:moveTo>
                  <a:pt x="86" y="66"/>
                </a:moveTo>
                <a:lnTo>
                  <a:pt x="82" y="44"/>
                </a:lnTo>
                <a:lnTo>
                  <a:pt x="68" y="41"/>
                </a:lnTo>
                <a:lnTo>
                  <a:pt x="38" y="35"/>
                </a:lnTo>
                <a:lnTo>
                  <a:pt x="23" y="30"/>
                </a:lnTo>
                <a:lnTo>
                  <a:pt x="9" y="24"/>
                </a:lnTo>
                <a:lnTo>
                  <a:pt x="5" y="21"/>
                </a:lnTo>
                <a:lnTo>
                  <a:pt x="2" y="17"/>
                </a:lnTo>
                <a:lnTo>
                  <a:pt x="0" y="14"/>
                </a:lnTo>
                <a:lnTo>
                  <a:pt x="2" y="9"/>
                </a:lnTo>
                <a:lnTo>
                  <a:pt x="5" y="5"/>
                </a:lnTo>
                <a:lnTo>
                  <a:pt x="9" y="3"/>
                </a:lnTo>
                <a:lnTo>
                  <a:pt x="14" y="2"/>
                </a:lnTo>
                <a:lnTo>
                  <a:pt x="18" y="0"/>
                </a:lnTo>
                <a:lnTo>
                  <a:pt x="32" y="0"/>
                </a:lnTo>
                <a:lnTo>
                  <a:pt x="44" y="3"/>
                </a:lnTo>
                <a:lnTo>
                  <a:pt x="68" y="9"/>
                </a:lnTo>
                <a:lnTo>
                  <a:pt x="79" y="14"/>
                </a:lnTo>
                <a:lnTo>
                  <a:pt x="140" y="9"/>
                </a:lnTo>
                <a:lnTo>
                  <a:pt x="163" y="44"/>
                </a:lnTo>
                <a:lnTo>
                  <a:pt x="208" y="44"/>
                </a:lnTo>
                <a:lnTo>
                  <a:pt x="223" y="89"/>
                </a:lnTo>
                <a:lnTo>
                  <a:pt x="273" y="116"/>
                </a:lnTo>
                <a:lnTo>
                  <a:pt x="268" y="122"/>
                </a:lnTo>
                <a:lnTo>
                  <a:pt x="261" y="128"/>
                </a:lnTo>
                <a:lnTo>
                  <a:pt x="252" y="134"/>
                </a:lnTo>
                <a:lnTo>
                  <a:pt x="240" y="139"/>
                </a:lnTo>
                <a:lnTo>
                  <a:pt x="232" y="139"/>
                </a:lnTo>
                <a:lnTo>
                  <a:pt x="225" y="139"/>
                </a:lnTo>
                <a:lnTo>
                  <a:pt x="217" y="137"/>
                </a:lnTo>
                <a:lnTo>
                  <a:pt x="208" y="134"/>
                </a:lnTo>
                <a:lnTo>
                  <a:pt x="199" y="130"/>
                </a:lnTo>
                <a:lnTo>
                  <a:pt x="190" y="124"/>
                </a:lnTo>
                <a:lnTo>
                  <a:pt x="174" y="112"/>
                </a:lnTo>
                <a:lnTo>
                  <a:pt x="166" y="106"/>
                </a:lnTo>
                <a:lnTo>
                  <a:pt x="164" y="103"/>
                </a:lnTo>
                <a:lnTo>
                  <a:pt x="166" y="101"/>
                </a:lnTo>
                <a:lnTo>
                  <a:pt x="172" y="103"/>
                </a:lnTo>
                <a:lnTo>
                  <a:pt x="186" y="109"/>
                </a:lnTo>
                <a:lnTo>
                  <a:pt x="158" y="136"/>
                </a:lnTo>
                <a:lnTo>
                  <a:pt x="128" y="113"/>
                </a:lnTo>
                <a:lnTo>
                  <a:pt x="94" y="96"/>
                </a:lnTo>
                <a:lnTo>
                  <a:pt x="74" y="109"/>
                </a:lnTo>
                <a:lnTo>
                  <a:pt x="64" y="78"/>
                </a:lnTo>
                <a:lnTo>
                  <a:pt x="86" y="6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4" name="Freeform 151"/>
          <p:cNvSpPr/>
          <p:nvPr/>
        </p:nvSpPr>
        <p:spPr>
          <a:xfrm>
            <a:off x="6746760" y="4594320"/>
            <a:ext cx="873360" cy="693720"/>
          </a:xfrm>
          <a:custGeom>
            <a:avLst/>
            <a:gdLst>
              <a:gd name="textAreaLeft" fmla="*/ 0 w 873360"/>
              <a:gd name="textAreaRight" fmla="*/ 873720 w 873360"/>
              <a:gd name="textAreaTop" fmla="*/ 0 h 693720"/>
              <a:gd name="textAreaBottom" fmla="*/ 694080 h 693720"/>
            </a:gdLst>
            <a:ahLst/>
            <a:rect l="textAreaLeft" t="textAreaTop" r="textAreaRight" b="textAreaBottom"/>
            <a:pathLst>
              <a:path w="550" h="437">
                <a:moveTo>
                  <a:pt x="390" y="92"/>
                </a:moveTo>
                <a:lnTo>
                  <a:pt x="293" y="67"/>
                </a:lnTo>
                <a:lnTo>
                  <a:pt x="298" y="32"/>
                </a:lnTo>
                <a:lnTo>
                  <a:pt x="328" y="32"/>
                </a:lnTo>
                <a:lnTo>
                  <a:pt x="328" y="0"/>
                </a:lnTo>
                <a:lnTo>
                  <a:pt x="271" y="0"/>
                </a:lnTo>
                <a:lnTo>
                  <a:pt x="263" y="3"/>
                </a:lnTo>
                <a:lnTo>
                  <a:pt x="253" y="8"/>
                </a:lnTo>
                <a:lnTo>
                  <a:pt x="227" y="21"/>
                </a:lnTo>
                <a:lnTo>
                  <a:pt x="194" y="42"/>
                </a:lnTo>
                <a:lnTo>
                  <a:pt x="167" y="50"/>
                </a:lnTo>
                <a:lnTo>
                  <a:pt x="129" y="50"/>
                </a:lnTo>
                <a:lnTo>
                  <a:pt x="107" y="82"/>
                </a:lnTo>
                <a:lnTo>
                  <a:pt x="96" y="94"/>
                </a:lnTo>
                <a:lnTo>
                  <a:pt x="90" y="106"/>
                </a:lnTo>
                <a:lnTo>
                  <a:pt x="89" y="110"/>
                </a:lnTo>
                <a:lnTo>
                  <a:pt x="87" y="115"/>
                </a:lnTo>
                <a:lnTo>
                  <a:pt x="86" y="121"/>
                </a:lnTo>
                <a:lnTo>
                  <a:pt x="83" y="125"/>
                </a:lnTo>
                <a:lnTo>
                  <a:pt x="73" y="137"/>
                </a:lnTo>
                <a:lnTo>
                  <a:pt x="60" y="149"/>
                </a:lnTo>
                <a:lnTo>
                  <a:pt x="10" y="149"/>
                </a:lnTo>
                <a:lnTo>
                  <a:pt x="0" y="199"/>
                </a:lnTo>
                <a:lnTo>
                  <a:pt x="10" y="238"/>
                </a:lnTo>
                <a:lnTo>
                  <a:pt x="10" y="296"/>
                </a:lnTo>
                <a:lnTo>
                  <a:pt x="13" y="315"/>
                </a:lnTo>
                <a:lnTo>
                  <a:pt x="16" y="339"/>
                </a:lnTo>
                <a:lnTo>
                  <a:pt x="22" y="362"/>
                </a:lnTo>
                <a:lnTo>
                  <a:pt x="25" y="375"/>
                </a:lnTo>
                <a:lnTo>
                  <a:pt x="27" y="377"/>
                </a:lnTo>
                <a:lnTo>
                  <a:pt x="30" y="378"/>
                </a:lnTo>
                <a:lnTo>
                  <a:pt x="39" y="380"/>
                </a:lnTo>
                <a:lnTo>
                  <a:pt x="49" y="380"/>
                </a:lnTo>
                <a:lnTo>
                  <a:pt x="61" y="378"/>
                </a:lnTo>
                <a:lnTo>
                  <a:pt x="84" y="374"/>
                </a:lnTo>
                <a:lnTo>
                  <a:pt x="95" y="372"/>
                </a:lnTo>
                <a:lnTo>
                  <a:pt x="194" y="348"/>
                </a:lnTo>
                <a:lnTo>
                  <a:pt x="236" y="323"/>
                </a:lnTo>
                <a:lnTo>
                  <a:pt x="248" y="324"/>
                </a:lnTo>
                <a:lnTo>
                  <a:pt x="275" y="330"/>
                </a:lnTo>
                <a:lnTo>
                  <a:pt x="290" y="336"/>
                </a:lnTo>
                <a:lnTo>
                  <a:pt x="306" y="341"/>
                </a:lnTo>
                <a:lnTo>
                  <a:pt x="319" y="348"/>
                </a:lnTo>
                <a:lnTo>
                  <a:pt x="324" y="353"/>
                </a:lnTo>
                <a:lnTo>
                  <a:pt x="328" y="356"/>
                </a:lnTo>
                <a:lnTo>
                  <a:pt x="358" y="393"/>
                </a:lnTo>
                <a:lnTo>
                  <a:pt x="382" y="425"/>
                </a:lnTo>
                <a:lnTo>
                  <a:pt x="387" y="430"/>
                </a:lnTo>
                <a:lnTo>
                  <a:pt x="396" y="434"/>
                </a:lnTo>
                <a:lnTo>
                  <a:pt x="406" y="436"/>
                </a:lnTo>
                <a:lnTo>
                  <a:pt x="417" y="437"/>
                </a:lnTo>
                <a:lnTo>
                  <a:pt x="435" y="437"/>
                </a:lnTo>
                <a:lnTo>
                  <a:pt x="443" y="437"/>
                </a:lnTo>
                <a:lnTo>
                  <a:pt x="482" y="406"/>
                </a:lnTo>
                <a:lnTo>
                  <a:pt x="485" y="401"/>
                </a:lnTo>
                <a:lnTo>
                  <a:pt x="494" y="390"/>
                </a:lnTo>
                <a:lnTo>
                  <a:pt x="504" y="377"/>
                </a:lnTo>
                <a:lnTo>
                  <a:pt x="507" y="371"/>
                </a:lnTo>
                <a:lnTo>
                  <a:pt x="507" y="363"/>
                </a:lnTo>
                <a:lnTo>
                  <a:pt x="507" y="333"/>
                </a:lnTo>
                <a:lnTo>
                  <a:pt x="539" y="283"/>
                </a:lnTo>
                <a:lnTo>
                  <a:pt x="550" y="219"/>
                </a:lnTo>
                <a:lnTo>
                  <a:pt x="535" y="190"/>
                </a:lnTo>
                <a:lnTo>
                  <a:pt x="519" y="166"/>
                </a:lnTo>
                <a:lnTo>
                  <a:pt x="512" y="155"/>
                </a:lnTo>
                <a:lnTo>
                  <a:pt x="504" y="146"/>
                </a:lnTo>
                <a:lnTo>
                  <a:pt x="486" y="131"/>
                </a:lnTo>
                <a:lnTo>
                  <a:pt x="468" y="118"/>
                </a:lnTo>
                <a:lnTo>
                  <a:pt x="447" y="104"/>
                </a:lnTo>
                <a:lnTo>
                  <a:pt x="435" y="54"/>
                </a:lnTo>
                <a:lnTo>
                  <a:pt x="382" y="8"/>
                </a:lnTo>
                <a:lnTo>
                  <a:pt x="385" y="82"/>
                </a:lnTo>
                <a:lnTo>
                  <a:pt x="390" y="9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5" name="Freeform 152"/>
          <p:cNvSpPr/>
          <p:nvPr/>
        </p:nvSpPr>
        <p:spPr>
          <a:xfrm>
            <a:off x="7358040" y="5343480"/>
            <a:ext cx="193680" cy="103320"/>
          </a:xfrm>
          <a:custGeom>
            <a:avLst/>
            <a:gdLst>
              <a:gd name="textAreaLeft" fmla="*/ 0 w 193680"/>
              <a:gd name="textAreaRight" fmla="*/ 194040 w 193680"/>
              <a:gd name="textAreaTop" fmla="*/ 0 h 103320"/>
              <a:gd name="textAreaBottom" fmla="*/ 103680 h 103320"/>
            </a:gdLst>
            <a:ahLst/>
            <a:rect l="textAreaLeft" t="textAreaTop" r="textAreaRight" b="textAreaBottom"/>
            <a:pathLst>
              <a:path w="122" h="65">
                <a:moveTo>
                  <a:pt x="65" y="65"/>
                </a:moveTo>
                <a:lnTo>
                  <a:pt x="35" y="45"/>
                </a:lnTo>
                <a:lnTo>
                  <a:pt x="0" y="15"/>
                </a:lnTo>
                <a:lnTo>
                  <a:pt x="31" y="0"/>
                </a:lnTo>
                <a:lnTo>
                  <a:pt x="73" y="3"/>
                </a:lnTo>
                <a:lnTo>
                  <a:pt x="122" y="10"/>
                </a:lnTo>
                <a:lnTo>
                  <a:pt x="100" y="38"/>
                </a:lnTo>
                <a:lnTo>
                  <a:pt x="65" y="65"/>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6" name="Freeform 153"/>
          <p:cNvSpPr/>
          <p:nvPr/>
        </p:nvSpPr>
        <p:spPr>
          <a:xfrm>
            <a:off x="7931160" y="5343480"/>
            <a:ext cx="181080" cy="185760"/>
          </a:xfrm>
          <a:custGeom>
            <a:avLst/>
            <a:gdLst>
              <a:gd name="textAreaLeft" fmla="*/ 0 w 181080"/>
              <a:gd name="textAreaRight" fmla="*/ 181440 w 181080"/>
              <a:gd name="textAreaTop" fmla="*/ 0 h 185760"/>
              <a:gd name="textAreaBottom" fmla="*/ 186120 h 185760"/>
            </a:gdLst>
            <a:ahLst/>
            <a:rect l="textAreaLeft" t="textAreaTop" r="textAreaRight" b="textAreaBottom"/>
            <a:pathLst>
              <a:path w="114" h="117">
                <a:moveTo>
                  <a:pt x="42" y="117"/>
                </a:moveTo>
                <a:lnTo>
                  <a:pt x="0" y="99"/>
                </a:lnTo>
                <a:lnTo>
                  <a:pt x="42" y="53"/>
                </a:lnTo>
                <a:lnTo>
                  <a:pt x="42" y="3"/>
                </a:lnTo>
                <a:lnTo>
                  <a:pt x="75" y="0"/>
                </a:lnTo>
                <a:lnTo>
                  <a:pt x="114" y="0"/>
                </a:lnTo>
                <a:lnTo>
                  <a:pt x="107" y="53"/>
                </a:lnTo>
                <a:lnTo>
                  <a:pt x="67" y="87"/>
                </a:lnTo>
                <a:lnTo>
                  <a:pt x="42" y="11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7" name="Freeform 154"/>
          <p:cNvSpPr/>
          <p:nvPr/>
        </p:nvSpPr>
        <p:spPr>
          <a:xfrm>
            <a:off x="8064360" y="5178600"/>
            <a:ext cx="169920" cy="133200"/>
          </a:xfrm>
          <a:custGeom>
            <a:avLst/>
            <a:gdLst>
              <a:gd name="textAreaLeft" fmla="*/ 0 w 169920"/>
              <a:gd name="textAreaRight" fmla="*/ 170280 w 169920"/>
              <a:gd name="textAreaTop" fmla="*/ 0 h 133200"/>
              <a:gd name="textAreaBottom" fmla="*/ 133560 h 133200"/>
            </a:gdLst>
            <a:ahLst/>
            <a:rect l="textAreaLeft" t="textAreaTop" r="textAreaRight" b="textAreaBottom"/>
            <a:pathLst>
              <a:path w="107" h="84">
                <a:moveTo>
                  <a:pt x="26" y="77"/>
                </a:moveTo>
                <a:lnTo>
                  <a:pt x="0" y="27"/>
                </a:lnTo>
                <a:lnTo>
                  <a:pt x="26" y="0"/>
                </a:lnTo>
                <a:lnTo>
                  <a:pt x="30" y="3"/>
                </a:lnTo>
                <a:lnTo>
                  <a:pt x="42" y="12"/>
                </a:lnTo>
                <a:lnTo>
                  <a:pt x="57" y="19"/>
                </a:lnTo>
                <a:lnTo>
                  <a:pt x="65" y="22"/>
                </a:lnTo>
                <a:lnTo>
                  <a:pt x="72" y="22"/>
                </a:lnTo>
                <a:lnTo>
                  <a:pt x="86" y="24"/>
                </a:lnTo>
                <a:lnTo>
                  <a:pt x="92" y="25"/>
                </a:lnTo>
                <a:lnTo>
                  <a:pt x="98" y="27"/>
                </a:lnTo>
                <a:lnTo>
                  <a:pt x="102" y="30"/>
                </a:lnTo>
                <a:lnTo>
                  <a:pt x="105" y="35"/>
                </a:lnTo>
                <a:lnTo>
                  <a:pt x="107" y="39"/>
                </a:lnTo>
                <a:lnTo>
                  <a:pt x="107" y="47"/>
                </a:lnTo>
                <a:lnTo>
                  <a:pt x="104" y="53"/>
                </a:lnTo>
                <a:lnTo>
                  <a:pt x="99" y="59"/>
                </a:lnTo>
                <a:lnTo>
                  <a:pt x="95" y="65"/>
                </a:lnTo>
                <a:lnTo>
                  <a:pt x="89" y="71"/>
                </a:lnTo>
                <a:lnTo>
                  <a:pt x="80" y="78"/>
                </a:lnTo>
                <a:lnTo>
                  <a:pt x="75" y="80"/>
                </a:lnTo>
                <a:lnTo>
                  <a:pt x="50" y="84"/>
                </a:lnTo>
                <a:lnTo>
                  <a:pt x="26" y="77"/>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8" name="AutoShape 155"/>
          <p:cNvSpPr/>
          <p:nvPr/>
        </p:nvSpPr>
        <p:spPr>
          <a:xfrm>
            <a:off x="4336920" y="1482840"/>
            <a:ext cx="158436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urope</a:t>
            </a:r>
            <a:endParaRPr b="0" lang="en-US" sz="1400" spc="-1" strike="noStrike">
              <a:solidFill>
                <a:srgbClr val="000000"/>
              </a:solidFill>
              <a:latin typeface="Gulim"/>
            </a:endParaRPr>
          </a:p>
        </p:txBody>
      </p:sp>
      <p:sp>
        <p:nvSpPr>
          <p:cNvPr id="839" name="AutoShape 156"/>
          <p:cNvSpPr/>
          <p:nvPr/>
        </p:nvSpPr>
        <p:spPr>
          <a:xfrm>
            <a:off x="7270920" y="400356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sia</a:t>
            </a:r>
            <a:endParaRPr b="0" lang="en-US" sz="1400" spc="-1" strike="noStrike">
              <a:solidFill>
                <a:srgbClr val="000000"/>
              </a:solidFill>
              <a:latin typeface="Gulim"/>
            </a:endParaRPr>
          </a:p>
        </p:txBody>
      </p:sp>
      <p:sp>
        <p:nvSpPr>
          <p:cNvPr id="840" name="AutoShape 157"/>
          <p:cNvSpPr/>
          <p:nvPr/>
        </p:nvSpPr>
        <p:spPr>
          <a:xfrm>
            <a:off x="3454560" y="5730840"/>
            <a:ext cx="1584000" cy="28728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frica</a:t>
            </a:r>
            <a:endParaRPr b="0" lang="en-US" sz="1400" spc="-1" strike="noStrike">
              <a:solidFill>
                <a:srgbClr val="000000"/>
              </a:solidFill>
              <a:latin typeface="Gulim"/>
            </a:endParaRPr>
          </a:p>
        </p:txBody>
      </p:sp>
      <p:sp>
        <p:nvSpPr>
          <p:cNvPr id="841" name="AutoShape 158"/>
          <p:cNvSpPr/>
          <p:nvPr/>
        </p:nvSpPr>
        <p:spPr>
          <a:xfrm>
            <a:off x="6424560" y="5875200"/>
            <a:ext cx="1584360" cy="287640"/>
          </a:xfrm>
          <a:prstGeom prst="roundRect">
            <a:avLst>
              <a:gd name="adj" fmla="val 13273"/>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ustralia</a:t>
            </a:r>
            <a:endParaRPr b="0" lang="en-US" sz="1400" spc="-1" strike="noStrike">
              <a:solidFill>
                <a:srgbClr val="000000"/>
              </a:solidFill>
              <a:latin typeface="Gulim"/>
            </a:endParaRPr>
          </a:p>
        </p:txBody>
      </p:sp>
      <p:sp>
        <p:nvSpPr>
          <p:cNvPr id="842" name="Oval 159"/>
          <p:cNvSpPr/>
          <p:nvPr/>
        </p:nvSpPr>
        <p:spPr>
          <a:xfrm>
            <a:off x="6497640" y="328284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3" name="Oval 160"/>
          <p:cNvSpPr/>
          <p:nvPr/>
        </p:nvSpPr>
        <p:spPr>
          <a:xfrm>
            <a:off x="5056200" y="2706840"/>
            <a:ext cx="14436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4" name="Oval 161"/>
          <p:cNvSpPr/>
          <p:nvPr/>
        </p:nvSpPr>
        <p:spPr>
          <a:xfrm>
            <a:off x="4840200" y="4219560"/>
            <a:ext cx="144720" cy="14436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45" name="Oval 162"/>
          <p:cNvSpPr/>
          <p:nvPr/>
        </p:nvSpPr>
        <p:spPr>
          <a:xfrm>
            <a:off x="7145280" y="4794120"/>
            <a:ext cx="144360" cy="144720"/>
          </a:xfrm>
          <a:prstGeom prst="ellipse">
            <a:avLst/>
          </a:prstGeom>
          <a:solidFill>
            <a:srgbClr val="ff6600"/>
          </a:solidFill>
          <a:ln w="1908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cxnSp>
        <p:nvCxnSpPr>
          <p:cNvPr id="846" name="AutoShape 163"/>
          <p:cNvCxnSpPr/>
          <p:nvPr/>
        </p:nvCxnSpPr>
        <p:spPr>
          <a:xfrm>
            <a:off x="5128920" y="1769760"/>
            <a:ext cx="1080" cy="927720"/>
          </a:xfrm>
          <a:prstGeom prst="straightConnector1">
            <a:avLst/>
          </a:prstGeom>
          <a:ln w="9360">
            <a:solidFill>
              <a:srgbClr val="000000"/>
            </a:solidFill>
            <a:miter/>
          </a:ln>
        </p:spPr>
      </p:cxnSp>
      <p:cxnSp>
        <p:nvCxnSpPr>
          <p:cNvPr id="847" name="AutoShape 164"/>
          <p:cNvCxnSpPr/>
          <p:nvPr/>
        </p:nvCxnSpPr>
        <p:spPr>
          <a:xfrm>
            <a:off x="6621480" y="3416040"/>
            <a:ext cx="650160" cy="732600"/>
          </a:xfrm>
          <a:prstGeom prst="straightConnector1">
            <a:avLst/>
          </a:prstGeom>
          <a:ln w="9360">
            <a:solidFill>
              <a:srgbClr val="000000"/>
            </a:solidFill>
            <a:miter/>
          </a:ln>
        </p:spPr>
      </p:cxnSp>
      <p:cxnSp>
        <p:nvCxnSpPr>
          <p:cNvPr id="848" name="AutoShape 165"/>
          <p:cNvCxnSpPr/>
          <p:nvPr/>
        </p:nvCxnSpPr>
        <p:spPr>
          <a:xfrm flipH="1">
            <a:off x="7216560" y="4947840"/>
            <a:ext cx="2160" cy="927720"/>
          </a:xfrm>
          <a:prstGeom prst="straightConnector1">
            <a:avLst/>
          </a:prstGeom>
          <a:ln w="9360">
            <a:solidFill>
              <a:srgbClr val="000000"/>
            </a:solidFill>
            <a:miter/>
          </a:ln>
        </p:spPr>
      </p:cxnSp>
      <p:cxnSp>
        <p:nvCxnSpPr>
          <p:cNvPr id="849" name="AutoShape 166"/>
          <p:cNvCxnSpPr/>
          <p:nvPr/>
        </p:nvCxnSpPr>
        <p:spPr>
          <a:xfrm flipH="1">
            <a:off x="4245840" y="4352760"/>
            <a:ext cx="615240" cy="1378800"/>
          </a:xfrm>
          <a:prstGeom prst="straightConnector1">
            <a:avLst/>
          </a:prstGeom>
          <a:ln w="9360">
            <a:solidFill>
              <a:srgbClr val="000000"/>
            </a:solidFill>
            <a:miter/>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p:nvPr>
        </p:nvSpPr>
        <p:spPr>
          <a:xfrm>
            <a:off x="798120" y="1341360"/>
            <a:ext cx="785988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Pictures speak 1,000 words!</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Design Inspiratio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Clarity &amp; Impa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Premium Design</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ubtle Touch</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Visual Appealing</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tylish Design</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Simplicity &amp; Beauty</a:t>
            </a:r>
            <a:endParaRPr b="0" lang="en-US" sz="1400" spc="-1" strike="noStrike">
              <a:solidFill>
                <a:srgbClr val="000000"/>
              </a:solidFill>
              <a:latin typeface="Gulim"/>
            </a:endParaRPr>
          </a:p>
          <a:p>
            <a:pPr marL="343080" indent="-343080">
              <a:lnSpc>
                <a:spcPct val="110000"/>
              </a:lnSpc>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ulim"/>
              </a:rPr>
              <a:t>3D Effect</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p:txBody>
      </p:sp>
      <p:sp>
        <p:nvSpPr>
          <p:cNvPr id="201" name="PlaceHolder 2"/>
          <p:cNvSpPr>
            <a:spLocks noGrp="1"/>
          </p:cNvSpPr>
          <p:nvPr>
            <p:ph type="title"/>
          </p:nvPr>
        </p:nvSpPr>
        <p:spPr>
          <a:xfrm>
            <a:off x="428760" y="21744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94d39"/>
                </a:solidFill>
                <a:latin typeface="Arial Black"/>
              </a:rPr>
              <a:t>Click To Edit Title Style </a:t>
            </a:r>
            <a:endParaRPr b="0" lang="en-US" sz="3200" spc="-1" strike="noStrike">
              <a:solidFill>
                <a:srgbClr val="194d39"/>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0" name="Group 614" descr=""/>
          <p:cNvPicPr/>
          <p:nvPr/>
        </p:nvPicPr>
        <p:blipFill>
          <a:blip r:embed="rId1"/>
          <a:stretch/>
        </p:blipFill>
        <p:spPr>
          <a:xfrm>
            <a:off x="3230640" y="2133720"/>
            <a:ext cx="2884320" cy="3828960"/>
          </a:xfrm>
          <a:prstGeom prst="rect">
            <a:avLst/>
          </a:prstGeom>
          <a:ln w="0">
            <a:noFill/>
          </a:ln>
        </p:spPr>
      </p:pic>
      <p:grpSp>
        <p:nvGrpSpPr>
          <p:cNvPr id="851" name="Group 3"/>
          <p:cNvGrpSpPr/>
          <p:nvPr/>
        </p:nvGrpSpPr>
        <p:grpSpPr>
          <a:xfrm>
            <a:off x="1992240" y="1125360"/>
            <a:ext cx="5027760" cy="648000"/>
            <a:chOff x="1992240" y="1125360"/>
            <a:chExt cx="5027760" cy="648000"/>
          </a:xfrm>
        </p:grpSpPr>
        <p:grpSp>
          <p:nvGrpSpPr>
            <p:cNvPr id="852" name="Group 4"/>
            <p:cNvGrpSpPr/>
            <p:nvPr/>
          </p:nvGrpSpPr>
          <p:grpSpPr>
            <a:xfrm>
              <a:off x="1992240" y="1125360"/>
              <a:ext cx="5027760" cy="648000"/>
              <a:chOff x="1992240" y="1125360"/>
              <a:chExt cx="5027760" cy="648000"/>
            </a:xfrm>
          </p:grpSpPr>
          <p:pic>
            <p:nvPicPr>
              <p:cNvPr id="853" name="AutoShape 278" descr=""/>
              <p:cNvPicPr/>
              <p:nvPr/>
            </p:nvPicPr>
            <p:blipFill>
              <a:blip r:embed="rId2"/>
              <a:stretch/>
            </p:blipFill>
            <p:spPr>
              <a:xfrm>
                <a:off x="1992240" y="1125360"/>
                <a:ext cx="5027760" cy="648000"/>
              </a:xfrm>
              <a:prstGeom prst="rect">
                <a:avLst/>
              </a:prstGeom>
              <a:ln w="0">
                <a:noFill/>
              </a:ln>
            </p:spPr>
          </p:pic>
          <p:sp>
            <p:nvSpPr>
              <p:cNvPr id="854" name="Text Box 6"/>
              <p:cNvSpPr/>
              <p:nvPr/>
            </p:nvSpPr>
            <p:spPr>
              <a:xfrm>
                <a:off x="2154240" y="1234800"/>
                <a:ext cx="4539600" cy="302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55" name="AutoShape 257"/>
            <p:cNvSpPr/>
            <p:nvPr/>
          </p:nvSpPr>
          <p:spPr>
            <a:xfrm>
              <a:off x="2232000" y="1198440"/>
              <a:ext cx="4377960" cy="167760"/>
            </a:xfrm>
            <a:prstGeom prst="roundRect">
              <a:avLst>
                <a:gd name="adj" fmla="val 50000"/>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56" name="Text Box 258"/>
            <p:cNvSpPr/>
            <p:nvPr/>
          </p:nvSpPr>
          <p:spPr>
            <a:xfrm>
              <a:off x="3094200" y="1247760"/>
              <a:ext cx="2615760" cy="45972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Black"/>
                </a:rPr>
                <a:t>TEXT HERE</a:t>
              </a:r>
              <a:endParaRPr b="0" lang="en-US" sz="2400" spc="-1" strike="noStrike">
                <a:solidFill>
                  <a:srgbClr val="000000"/>
                </a:solidFill>
                <a:latin typeface="Gulim"/>
              </a:endParaRPr>
            </a:p>
          </p:txBody>
        </p:sp>
      </p:grpSp>
      <p:grpSp>
        <p:nvGrpSpPr>
          <p:cNvPr id="857" name="Group 9"/>
          <p:cNvGrpSpPr/>
          <p:nvPr/>
        </p:nvGrpSpPr>
        <p:grpSpPr>
          <a:xfrm>
            <a:off x="638280" y="1971720"/>
            <a:ext cx="2079360" cy="1223640"/>
            <a:chOff x="638280" y="1971720"/>
            <a:chExt cx="2079360" cy="1223640"/>
          </a:xfrm>
        </p:grpSpPr>
        <p:grpSp>
          <p:nvGrpSpPr>
            <p:cNvPr id="858" name="Group 10"/>
            <p:cNvGrpSpPr/>
            <p:nvPr/>
          </p:nvGrpSpPr>
          <p:grpSpPr>
            <a:xfrm>
              <a:off x="660240" y="2224080"/>
              <a:ext cx="2047320" cy="971280"/>
              <a:chOff x="660240" y="2224080"/>
              <a:chExt cx="2047320" cy="971280"/>
            </a:xfrm>
          </p:grpSpPr>
          <p:sp>
            <p:nvSpPr>
              <p:cNvPr id="859" name="AutoShape 545"/>
              <p:cNvSpPr/>
              <p:nvPr/>
            </p:nvSpPr>
            <p:spPr>
              <a:xfrm>
                <a:off x="660240" y="22240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60" name="AutoShape 546"/>
              <p:cNvSpPr/>
              <p:nvPr/>
            </p:nvSpPr>
            <p:spPr>
              <a:xfrm>
                <a:off x="660240" y="22442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1" name="Text Box 547"/>
            <p:cNvSpPr/>
            <p:nvPr/>
          </p:nvSpPr>
          <p:spPr>
            <a:xfrm>
              <a:off x="822240" y="25052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62" name="Group 14"/>
            <p:cNvGrpSpPr/>
            <p:nvPr/>
          </p:nvGrpSpPr>
          <p:grpSpPr>
            <a:xfrm>
              <a:off x="638280" y="1971720"/>
              <a:ext cx="2079360" cy="492120"/>
              <a:chOff x="638280" y="1971720"/>
              <a:chExt cx="2079360" cy="492120"/>
            </a:xfrm>
          </p:grpSpPr>
          <p:grpSp>
            <p:nvGrpSpPr>
              <p:cNvPr id="863" name="Group 15"/>
              <p:cNvGrpSpPr/>
              <p:nvPr/>
            </p:nvGrpSpPr>
            <p:grpSpPr>
              <a:xfrm>
                <a:off x="638280" y="1971720"/>
                <a:ext cx="2079360" cy="492120"/>
                <a:chOff x="638280" y="1971720"/>
                <a:chExt cx="2079360" cy="492120"/>
              </a:xfrm>
            </p:grpSpPr>
            <p:pic>
              <p:nvPicPr>
                <p:cNvPr id="864" name="AutoShape 549" descr=""/>
                <p:cNvPicPr/>
                <p:nvPr/>
              </p:nvPicPr>
              <p:blipFill>
                <a:blip r:embed="rId3"/>
                <a:stretch/>
              </p:blipFill>
              <p:spPr>
                <a:xfrm>
                  <a:off x="638280" y="1971720"/>
                  <a:ext cx="2079360" cy="492120"/>
                </a:xfrm>
                <a:prstGeom prst="rect">
                  <a:avLst/>
                </a:prstGeom>
                <a:ln w="0">
                  <a:noFill/>
                </a:ln>
              </p:spPr>
            </p:pic>
            <p:sp>
              <p:nvSpPr>
                <p:cNvPr id="865" name="Text Box 17"/>
                <p:cNvSpPr/>
                <p:nvPr/>
              </p:nvSpPr>
              <p:spPr>
                <a:xfrm>
                  <a:off x="72576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6" name="AutoShape 551"/>
              <p:cNvSpPr/>
              <p:nvPr/>
            </p:nvSpPr>
            <p:spPr>
              <a:xfrm>
                <a:off x="744840" y="203472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67" name="Text Box 552"/>
            <p:cNvSpPr/>
            <p:nvPr/>
          </p:nvSpPr>
          <p:spPr>
            <a:xfrm>
              <a:off x="982440" y="20574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68" name="Group 20"/>
          <p:cNvGrpSpPr/>
          <p:nvPr/>
        </p:nvGrpSpPr>
        <p:grpSpPr>
          <a:xfrm>
            <a:off x="638280" y="3316320"/>
            <a:ext cx="2079360" cy="1223640"/>
            <a:chOff x="638280" y="3316320"/>
            <a:chExt cx="2079360" cy="1223640"/>
          </a:xfrm>
        </p:grpSpPr>
        <p:grpSp>
          <p:nvGrpSpPr>
            <p:cNvPr id="869" name="Group 21"/>
            <p:cNvGrpSpPr/>
            <p:nvPr/>
          </p:nvGrpSpPr>
          <p:grpSpPr>
            <a:xfrm>
              <a:off x="660240" y="3568680"/>
              <a:ext cx="2047320" cy="971280"/>
              <a:chOff x="660240" y="3568680"/>
              <a:chExt cx="2047320" cy="971280"/>
            </a:xfrm>
          </p:grpSpPr>
          <p:sp>
            <p:nvSpPr>
              <p:cNvPr id="870" name="AutoShape 618"/>
              <p:cNvSpPr/>
              <p:nvPr/>
            </p:nvSpPr>
            <p:spPr>
              <a:xfrm>
                <a:off x="660240" y="35686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71" name="AutoShape 619"/>
              <p:cNvSpPr/>
              <p:nvPr/>
            </p:nvSpPr>
            <p:spPr>
              <a:xfrm>
                <a:off x="660240" y="35888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2" name="Text Box 620"/>
            <p:cNvSpPr/>
            <p:nvPr/>
          </p:nvSpPr>
          <p:spPr>
            <a:xfrm>
              <a:off x="822240" y="38498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73" name="Group 25"/>
            <p:cNvGrpSpPr/>
            <p:nvPr/>
          </p:nvGrpSpPr>
          <p:grpSpPr>
            <a:xfrm>
              <a:off x="638280" y="3316320"/>
              <a:ext cx="2079360" cy="492120"/>
              <a:chOff x="638280" y="3316320"/>
              <a:chExt cx="2079360" cy="492120"/>
            </a:xfrm>
          </p:grpSpPr>
          <p:grpSp>
            <p:nvGrpSpPr>
              <p:cNvPr id="874" name="Group 26"/>
              <p:cNvGrpSpPr/>
              <p:nvPr/>
            </p:nvGrpSpPr>
            <p:grpSpPr>
              <a:xfrm>
                <a:off x="638280" y="3316320"/>
                <a:ext cx="2079360" cy="492120"/>
                <a:chOff x="638280" y="3316320"/>
                <a:chExt cx="2079360" cy="492120"/>
              </a:xfrm>
            </p:grpSpPr>
            <p:pic>
              <p:nvPicPr>
                <p:cNvPr id="875" name="AutoShape 622" descr=""/>
                <p:cNvPicPr/>
                <p:nvPr/>
              </p:nvPicPr>
              <p:blipFill>
                <a:blip r:embed="rId4"/>
                <a:stretch/>
              </p:blipFill>
              <p:spPr>
                <a:xfrm>
                  <a:off x="638280" y="3316320"/>
                  <a:ext cx="2079360" cy="492120"/>
                </a:xfrm>
                <a:prstGeom prst="rect">
                  <a:avLst/>
                </a:prstGeom>
                <a:ln w="0">
                  <a:noFill/>
                </a:ln>
              </p:spPr>
            </p:pic>
            <p:sp>
              <p:nvSpPr>
                <p:cNvPr id="876" name="Text Box 28"/>
                <p:cNvSpPr/>
                <p:nvPr/>
              </p:nvSpPr>
              <p:spPr>
                <a:xfrm>
                  <a:off x="72576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7" name="AutoShape 624"/>
              <p:cNvSpPr/>
              <p:nvPr/>
            </p:nvSpPr>
            <p:spPr>
              <a:xfrm>
                <a:off x="744840" y="3377880"/>
                <a:ext cx="170352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78" name="Text Box 625"/>
            <p:cNvSpPr/>
            <p:nvPr/>
          </p:nvSpPr>
          <p:spPr>
            <a:xfrm>
              <a:off x="982440" y="34020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79" name="Group 31"/>
          <p:cNvGrpSpPr/>
          <p:nvPr/>
        </p:nvGrpSpPr>
        <p:grpSpPr>
          <a:xfrm>
            <a:off x="638280" y="4673520"/>
            <a:ext cx="2079360" cy="1223640"/>
            <a:chOff x="638280" y="4673520"/>
            <a:chExt cx="2079360" cy="1223640"/>
          </a:xfrm>
        </p:grpSpPr>
        <p:grpSp>
          <p:nvGrpSpPr>
            <p:cNvPr id="880" name="Group 32"/>
            <p:cNvGrpSpPr/>
            <p:nvPr/>
          </p:nvGrpSpPr>
          <p:grpSpPr>
            <a:xfrm>
              <a:off x="660240" y="4925880"/>
              <a:ext cx="2047320" cy="971280"/>
              <a:chOff x="660240" y="4925880"/>
              <a:chExt cx="2047320" cy="971280"/>
            </a:xfrm>
          </p:grpSpPr>
          <p:sp>
            <p:nvSpPr>
              <p:cNvPr id="881" name="AutoShape 628"/>
              <p:cNvSpPr/>
              <p:nvPr/>
            </p:nvSpPr>
            <p:spPr>
              <a:xfrm>
                <a:off x="660240" y="4925880"/>
                <a:ext cx="204732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82" name="AutoShape 629"/>
              <p:cNvSpPr/>
              <p:nvPr/>
            </p:nvSpPr>
            <p:spPr>
              <a:xfrm>
                <a:off x="660240" y="4946040"/>
                <a:ext cx="204732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3" name="Text Box 630"/>
            <p:cNvSpPr/>
            <p:nvPr/>
          </p:nvSpPr>
          <p:spPr>
            <a:xfrm>
              <a:off x="822240" y="5207040"/>
              <a:ext cx="170460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84" name="Group 36"/>
            <p:cNvGrpSpPr/>
            <p:nvPr/>
          </p:nvGrpSpPr>
          <p:grpSpPr>
            <a:xfrm>
              <a:off x="638280" y="4673520"/>
              <a:ext cx="2079360" cy="492120"/>
              <a:chOff x="638280" y="4673520"/>
              <a:chExt cx="2079360" cy="492120"/>
            </a:xfrm>
          </p:grpSpPr>
          <p:grpSp>
            <p:nvGrpSpPr>
              <p:cNvPr id="885" name="Group 37"/>
              <p:cNvGrpSpPr/>
              <p:nvPr/>
            </p:nvGrpSpPr>
            <p:grpSpPr>
              <a:xfrm>
                <a:off x="638280" y="4673520"/>
                <a:ext cx="2079360" cy="492120"/>
                <a:chOff x="638280" y="4673520"/>
                <a:chExt cx="2079360" cy="492120"/>
              </a:xfrm>
            </p:grpSpPr>
            <p:pic>
              <p:nvPicPr>
                <p:cNvPr id="886" name="AutoShape 632" descr=""/>
                <p:cNvPicPr/>
                <p:nvPr/>
              </p:nvPicPr>
              <p:blipFill>
                <a:blip r:embed="rId5"/>
                <a:stretch/>
              </p:blipFill>
              <p:spPr>
                <a:xfrm>
                  <a:off x="638280" y="4673520"/>
                  <a:ext cx="2079360" cy="492120"/>
                </a:xfrm>
                <a:prstGeom prst="rect">
                  <a:avLst/>
                </a:prstGeom>
                <a:ln w="0">
                  <a:noFill/>
                </a:ln>
              </p:spPr>
            </p:pic>
            <p:sp>
              <p:nvSpPr>
                <p:cNvPr id="887" name="Text Box 39"/>
                <p:cNvSpPr/>
                <p:nvPr/>
              </p:nvSpPr>
              <p:spPr>
                <a:xfrm>
                  <a:off x="72576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8" name="AutoShape 634"/>
              <p:cNvSpPr/>
              <p:nvPr/>
            </p:nvSpPr>
            <p:spPr>
              <a:xfrm>
                <a:off x="744840" y="4734360"/>
                <a:ext cx="170352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89" name="Text Box 635"/>
            <p:cNvSpPr/>
            <p:nvPr/>
          </p:nvSpPr>
          <p:spPr>
            <a:xfrm>
              <a:off x="982440" y="4759200"/>
              <a:ext cx="138564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890" name="Group 42"/>
          <p:cNvGrpSpPr/>
          <p:nvPr/>
        </p:nvGrpSpPr>
        <p:grpSpPr>
          <a:xfrm>
            <a:off x="6410160" y="3316320"/>
            <a:ext cx="2079720" cy="1223640"/>
            <a:chOff x="6410160" y="3316320"/>
            <a:chExt cx="2079720" cy="1223640"/>
          </a:xfrm>
        </p:grpSpPr>
        <p:grpSp>
          <p:nvGrpSpPr>
            <p:cNvPr id="891" name="Group 43"/>
            <p:cNvGrpSpPr/>
            <p:nvPr/>
          </p:nvGrpSpPr>
          <p:grpSpPr>
            <a:xfrm>
              <a:off x="6432480" y="3568680"/>
              <a:ext cx="2047680" cy="971280"/>
              <a:chOff x="6432480" y="3568680"/>
              <a:chExt cx="2047680" cy="971280"/>
            </a:xfrm>
          </p:grpSpPr>
          <p:sp>
            <p:nvSpPr>
              <p:cNvPr id="892" name="AutoShape 648"/>
              <p:cNvSpPr/>
              <p:nvPr/>
            </p:nvSpPr>
            <p:spPr>
              <a:xfrm>
                <a:off x="6432480" y="35686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93" name="AutoShape 649"/>
              <p:cNvSpPr/>
              <p:nvPr/>
            </p:nvSpPr>
            <p:spPr>
              <a:xfrm>
                <a:off x="6432480" y="35888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4" name="Text Box 650"/>
            <p:cNvSpPr/>
            <p:nvPr/>
          </p:nvSpPr>
          <p:spPr>
            <a:xfrm>
              <a:off x="6594480" y="38498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895" name="Group 47"/>
            <p:cNvGrpSpPr/>
            <p:nvPr/>
          </p:nvGrpSpPr>
          <p:grpSpPr>
            <a:xfrm>
              <a:off x="6410160" y="3316320"/>
              <a:ext cx="2079720" cy="492120"/>
              <a:chOff x="6410160" y="3316320"/>
              <a:chExt cx="2079720" cy="492120"/>
            </a:xfrm>
          </p:grpSpPr>
          <p:grpSp>
            <p:nvGrpSpPr>
              <p:cNvPr id="896" name="Group 48"/>
              <p:cNvGrpSpPr/>
              <p:nvPr/>
            </p:nvGrpSpPr>
            <p:grpSpPr>
              <a:xfrm>
                <a:off x="6410160" y="3316320"/>
                <a:ext cx="2079720" cy="492120"/>
                <a:chOff x="6410160" y="3316320"/>
                <a:chExt cx="2079720" cy="492120"/>
              </a:xfrm>
            </p:grpSpPr>
            <p:pic>
              <p:nvPicPr>
                <p:cNvPr id="897" name="AutoShape 652" descr=""/>
                <p:cNvPicPr/>
                <p:nvPr/>
              </p:nvPicPr>
              <p:blipFill>
                <a:blip r:embed="rId6"/>
                <a:stretch/>
              </p:blipFill>
              <p:spPr>
                <a:xfrm>
                  <a:off x="6410160" y="3316320"/>
                  <a:ext cx="2079720" cy="492120"/>
                </a:xfrm>
                <a:prstGeom prst="rect">
                  <a:avLst/>
                </a:prstGeom>
                <a:ln w="0">
                  <a:noFill/>
                </a:ln>
              </p:spPr>
            </p:pic>
            <p:sp>
              <p:nvSpPr>
                <p:cNvPr id="898" name="Text Box 50"/>
                <p:cNvSpPr/>
                <p:nvPr/>
              </p:nvSpPr>
              <p:spPr>
                <a:xfrm>
                  <a:off x="6496920" y="337392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899" name="AutoShape 654"/>
              <p:cNvSpPr/>
              <p:nvPr/>
            </p:nvSpPr>
            <p:spPr>
              <a:xfrm>
                <a:off x="6515640" y="337788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0" name="Text Box 655"/>
            <p:cNvSpPr/>
            <p:nvPr/>
          </p:nvSpPr>
          <p:spPr>
            <a:xfrm>
              <a:off x="6754680" y="34020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grpSp>
        <p:nvGrpSpPr>
          <p:cNvPr id="901" name="Group 53"/>
          <p:cNvGrpSpPr/>
          <p:nvPr/>
        </p:nvGrpSpPr>
        <p:grpSpPr>
          <a:xfrm>
            <a:off x="6410160" y="4673520"/>
            <a:ext cx="2079720" cy="1223640"/>
            <a:chOff x="6410160" y="4673520"/>
            <a:chExt cx="2079720" cy="1223640"/>
          </a:xfrm>
        </p:grpSpPr>
        <p:grpSp>
          <p:nvGrpSpPr>
            <p:cNvPr id="902" name="Group 54"/>
            <p:cNvGrpSpPr/>
            <p:nvPr/>
          </p:nvGrpSpPr>
          <p:grpSpPr>
            <a:xfrm>
              <a:off x="6432480" y="4925880"/>
              <a:ext cx="2047680" cy="971280"/>
              <a:chOff x="6432480" y="4925880"/>
              <a:chExt cx="2047680" cy="971280"/>
            </a:xfrm>
          </p:grpSpPr>
          <p:sp>
            <p:nvSpPr>
              <p:cNvPr id="903" name="AutoShape 658"/>
              <p:cNvSpPr/>
              <p:nvPr/>
            </p:nvSpPr>
            <p:spPr>
              <a:xfrm>
                <a:off x="6432480" y="49258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04" name="AutoShape 659"/>
              <p:cNvSpPr/>
              <p:nvPr/>
            </p:nvSpPr>
            <p:spPr>
              <a:xfrm>
                <a:off x="6432480" y="49460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969696"/>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05" name="Text Box 660"/>
            <p:cNvSpPr/>
            <p:nvPr/>
          </p:nvSpPr>
          <p:spPr>
            <a:xfrm>
              <a:off x="6594480" y="52070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06" name="Group 58"/>
            <p:cNvGrpSpPr/>
            <p:nvPr/>
          </p:nvGrpSpPr>
          <p:grpSpPr>
            <a:xfrm>
              <a:off x="6410160" y="4673520"/>
              <a:ext cx="2079720" cy="492120"/>
              <a:chOff x="6410160" y="4673520"/>
              <a:chExt cx="2079720" cy="492120"/>
            </a:xfrm>
          </p:grpSpPr>
          <p:grpSp>
            <p:nvGrpSpPr>
              <p:cNvPr id="907" name="Group 59"/>
              <p:cNvGrpSpPr/>
              <p:nvPr/>
            </p:nvGrpSpPr>
            <p:grpSpPr>
              <a:xfrm>
                <a:off x="6410160" y="4673520"/>
                <a:ext cx="2079720" cy="492120"/>
                <a:chOff x="6410160" y="4673520"/>
                <a:chExt cx="2079720" cy="492120"/>
              </a:xfrm>
            </p:grpSpPr>
            <p:pic>
              <p:nvPicPr>
                <p:cNvPr id="908" name="AutoShape 662" descr=""/>
                <p:cNvPicPr/>
                <p:nvPr/>
              </p:nvPicPr>
              <p:blipFill>
                <a:blip r:embed="rId7"/>
                <a:stretch/>
              </p:blipFill>
              <p:spPr>
                <a:xfrm>
                  <a:off x="6410160" y="4673520"/>
                  <a:ext cx="2079720" cy="492120"/>
                </a:xfrm>
                <a:prstGeom prst="rect">
                  <a:avLst/>
                </a:prstGeom>
                <a:ln w="0">
                  <a:noFill/>
                </a:ln>
              </p:spPr>
            </p:pic>
            <p:sp>
              <p:nvSpPr>
                <p:cNvPr id="909" name="Text Box 61"/>
                <p:cNvSpPr/>
                <p:nvPr/>
              </p:nvSpPr>
              <p:spPr>
                <a:xfrm>
                  <a:off x="6496920" y="4730400"/>
                  <a:ext cx="1754640" cy="2656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0" name="AutoShape 664"/>
              <p:cNvSpPr/>
              <p:nvPr/>
            </p:nvSpPr>
            <p:spPr>
              <a:xfrm>
                <a:off x="6515640" y="4734360"/>
                <a:ext cx="1703880" cy="7056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11" name="Text Box 665"/>
            <p:cNvSpPr/>
            <p:nvPr/>
          </p:nvSpPr>
          <p:spPr>
            <a:xfrm>
              <a:off x="6754680" y="47592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sp>
        <p:nvSpPr>
          <p:cNvPr id="912" name="Line 667"/>
          <p:cNvSpPr/>
          <p:nvPr/>
        </p:nvSpPr>
        <p:spPr>
          <a:xfrm flipH="1" flipV="1">
            <a:off x="5546880" y="3914280"/>
            <a:ext cx="863280" cy="49320"/>
          </a:xfrm>
          <a:prstGeom prst="line">
            <a:avLst/>
          </a:prstGeom>
          <a:ln w="15840">
            <a:solidFill>
              <a:srgbClr val="000000"/>
            </a:solidFill>
            <a:miter/>
            <a:tailEnd len="lg" type="stealth" w="med"/>
          </a:ln>
        </p:spPr>
        <p:style>
          <a:lnRef idx="0"/>
          <a:fillRef idx="0"/>
          <a:effectRef idx="0"/>
          <a:fontRef idx="minor"/>
        </p:style>
        <p:txBody>
          <a:bodyPr lIns="90000" rIns="90000" tIns="2520" bIns="2520" anchor="t">
            <a:noAutofit/>
          </a:bodyPr>
          <a:p>
            <a:endParaRPr b="0" lang="en-US" sz="1800" spc="-1" strike="noStrike">
              <a:solidFill>
                <a:srgbClr val="000000"/>
              </a:solidFill>
              <a:latin typeface="Gulim"/>
            </a:endParaRPr>
          </a:p>
        </p:txBody>
      </p:sp>
      <p:sp>
        <p:nvSpPr>
          <p:cNvPr id="913" name="Line 668"/>
          <p:cNvSpPr/>
          <p:nvPr/>
        </p:nvSpPr>
        <p:spPr>
          <a:xfrm flipH="1" flipV="1">
            <a:off x="4393800" y="3771720"/>
            <a:ext cx="1995480" cy="15858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4" name="Line 670"/>
          <p:cNvSpPr/>
          <p:nvPr/>
        </p:nvSpPr>
        <p:spPr>
          <a:xfrm>
            <a:off x="2738520" y="2690640"/>
            <a:ext cx="1152360" cy="43200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5" name="Line 671"/>
          <p:cNvSpPr/>
          <p:nvPr/>
        </p:nvSpPr>
        <p:spPr>
          <a:xfrm flipV="1">
            <a:off x="2738520" y="3817800"/>
            <a:ext cx="1000080" cy="16992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16" name="Line 672"/>
          <p:cNvSpPr/>
          <p:nvPr/>
        </p:nvSpPr>
        <p:spPr>
          <a:xfrm flipV="1">
            <a:off x="2738520" y="4417920"/>
            <a:ext cx="1000080" cy="865440"/>
          </a:xfrm>
          <a:prstGeom prst="line">
            <a:avLst/>
          </a:prstGeom>
          <a:ln w="15840">
            <a:solidFill>
              <a:srgbClr val="000000"/>
            </a:solidFill>
            <a:miter/>
            <a:tailEnd len="lg"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pic>
        <p:nvPicPr>
          <p:cNvPr id="917" name="Group 614" descr=""/>
          <p:cNvPicPr/>
          <p:nvPr/>
        </p:nvPicPr>
        <p:blipFill>
          <a:blip r:embed="rId8"/>
          <a:stretch/>
        </p:blipFill>
        <p:spPr>
          <a:xfrm>
            <a:off x="3164040" y="2077920"/>
            <a:ext cx="3187440" cy="3902040"/>
          </a:xfrm>
          <a:prstGeom prst="rect">
            <a:avLst/>
          </a:prstGeom>
          <a:ln w="0">
            <a:noFill/>
          </a:ln>
        </p:spPr>
      </p:pic>
      <p:sp>
        <p:nvSpPr>
          <p:cNvPr id="918" name="Line 666"/>
          <p:cNvSpPr/>
          <p:nvPr/>
        </p:nvSpPr>
        <p:spPr>
          <a:xfrm flipH="1">
            <a:off x="4970160" y="2762280"/>
            <a:ext cx="1439640" cy="73080"/>
          </a:xfrm>
          <a:prstGeom prst="line">
            <a:avLst/>
          </a:prstGeom>
          <a:ln w="15840">
            <a:solidFill>
              <a:srgbClr val="000000"/>
            </a:solidFill>
            <a:miter/>
            <a:tailEnd len="lg" type="stealth"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Gulim"/>
            </a:endParaRPr>
          </a:p>
        </p:txBody>
      </p:sp>
      <p:grpSp>
        <p:nvGrpSpPr>
          <p:cNvPr id="919" name="Group 71"/>
          <p:cNvGrpSpPr/>
          <p:nvPr/>
        </p:nvGrpSpPr>
        <p:grpSpPr>
          <a:xfrm>
            <a:off x="6410160" y="1971720"/>
            <a:ext cx="2079720" cy="1223640"/>
            <a:chOff x="6410160" y="1971720"/>
            <a:chExt cx="2079720" cy="1223640"/>
          </a:xfrm>
        </p:grpSpPr>
        <p:grpSp>
          <p:nvGrpSpPr>
            <p:cNvPr id="920" name="Group 72"/>
            <p:cNvGrpSpPr/>
            <p:nvPr/>
          </p:nvGrpSpPr>
          <p:grpSpPr>
            <a:xfrm>
              <a:off x="6432480" y="2224080"/>
              <a:ext cx="2047680" cy="971280"/>
              <a:chOff x="6432480" y="2224080"/>
              <a:chExt cx="2047680" cy="971280"/>
            </a:xfrm>
          </p:grpSpPr>
          <p:sp>
            <p:nvSpPr>
              <p:cNvPr id="921" name="AutoShape 638"/>
              <p:cNvSpPr/>
              <p:nvPr/>
            </p:nvSpPr>
            <p:spPr>
              <a:xfrm>
                <a:off x="6432480" y="2224080"/>
                <a:ext cx="2047680" cy="951120"/>
              </a:xfrm>
              <a:prstGeom prst="roundRect">
                <a:avLst>
                  <a:gd name="adj" fmla="val 9829"/>
                </a:avLst>
              </a:prstGeom>
              <a:solidFill>
                <a:srgbClr val="808080">
                  <a:alpha val="55000"/>
                </a:srgbClr>
              </a:solidFill>
              <a:ln w="0">
                <a:noFill/>
              </a:ln>
              <a:effectLst>
                <a:outerShdw dist="7632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2" name="AutoShape 639"/>
              <p:cNvSpPr/>
              <p:nvPr/>
            </p:nvSpPr>
            <p:spPr>
              <a:xfrm>
                <a:off x="6432480" y="2244240"/>
                <a:ext cx="2047680" cy="951120"/>
              </a:xfrm>
              <a:prstGeom prst="roundRect">
                <a:avLst>
                  <a:gd name="adj" fmla="val 9829"/>
                </a:avLst>
              </a:prstGeom>
              <a:gradFill rotWithShape="0">
                <a:gsLst>
                  <a:gs pos="0">
                    <a:srgbClr val="ffffff"/>
                  </a:gs>
                  <a:gs pos="100000">
                    <a:srgbClr val="ffffff">
                      <a:alpha val="70196"/>
                    </a:srgbClr>
                  </a:gs>
                </a:gsLst>
                <a:lin ang="5400000"/>
              </a:gradFill>
              <a:ln w="38160">
                <a:solidFill>
                  <a:srgbClr val="103622"/>
                </a:solidFill>
                <a:miter/>
              </a:ln>
              <a:effectLst>
                <a:outerShdw dist="38160" dir="54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3" name="Text Box 640"/>
            <p:cNvSpPr/>
            <p:nvPr/>
          </p:nvSpPr>
          <p:spPr>
            <a:xfrm>
              <a:off x="6594480" y="2505240"/>
              <a:ext cx="1704960" cy="641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lick to add text</a:t>
              </a:r>
              <a:endParaRPr b="0" lang="en-US" sz="1200" spc="-1" strike="noStrike">
                <a:solidFill>
                  <a:srgbClr val="000000"/>
                </a:solidFill>
                <a:latin typeface="Gulim"/>
              </a:endParaRPr>
            </a:p>
          </p:txBody>
        </p:sp>
        <p:grpSp>
          <p:nvGrpSpPr>
            <p:cNvPr id="924" name="Group 76"/>
            <p:cNvGrpSpPr/>
            <p:nvPr/>
          </p:nvGrpSpPr>
          <p:grpSpPr>
            <a:xfrm>
              <a:off x="6410160" y="1971720"/>
              <a:ext cx="2079720" cy="492120"/>
              <a:chOff x="6410160" y="1971720"/>
              <a:chExt cx="2079720" cy="492120"/>
            </a:xfrm>
          </p:grpSpPr>
          <p:grpSp>
            <p:nvGrpSpPr>
              <p:cNvPr id="925" name="Group 77"/>
              <p:cNvGrpSpPr/>
              <p:nvPr/>
            </p:nvGrpSpPr>
            <p:grpSpPr>
              <a:xfrm>
                <a:off x="6410160" y="1971720"/>
                <a:ext cx="2079720" cy="492120"/>
                <a:chOff x="6410160" y="1971720"/>
                <a:chExt cx="2079720" cy="492120"/>
              </a:xfrm>
            </p:grpSpPr>
            <p:pic>
              <p:nvPicPr>
                <p:cNvPr id="926" name="AutoShape 642" descr=""/>
                <p:cNvPicPr/>
                <p:nvPr/>
              </p:nvPicPr>
              <p:blipFill>
                <a:blip r:embed="rId9"/>
                <a:stretch/>
              </p:blipFill>
              <p:spPr>
                <a:xfrm>
                  <a:off x="6410160" y="1971720"/>
                  <a:ext cx="2079720" cy="492120"/>
                </a:xfrm>
                <a:prstGeom prst="rect">
                  <a:avLst/>
                </a:prstGeom>
                <a:ln w="0">
                  <a:noFill/>
                </a:ln>
              </p:spPr>
            </p:pic>
            <p:sp>
              <p:nvSpPr>
                <p:cNvPr id="927" name="Text Box 79"/>
                <p:cNvSpPr/>
                <p:nvPr/>
              </p:nvSpPr>
              <p:spPr>
                <a:xfrm>
                  <a:off x="6496920" y="2030760"/>
                  <a:ext cx="1754640" cy="2635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8" name="AutoShape 644"/>
              <p:cNvSpPr/>
              <p:nvPr/>
            </p:nvSpPr>
            <p:spPr>
              <a:xfrm>
                <a:off x="6515640" y="2034720"/>
                <a:ext cx="1703880" cy="69840"/>
              </a:xfrm>
              <a:prstGeom prst="roundRect">
                <a:avLst>
                  <a:gd name="adj" fmla="val 3486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929" name="Text Box 645"/>
            <p:cNvSpPr/>
            <p:nvPr/>
          </p:nvSpPr>
          <p:spPr>
            <a:xfrm>
              <a:off x="6754680" y="2057400"/>
              <a:ext cx="1386000" cy="398880"/>
            </a:xfrm>
            <a:prstGeom prst="rect">
              <a:avLst/>
            </a:prstGeom>
            <a:noFill/>
            <a:ln w="0">
              <a:noFill/>
            </a:ln>
            <a:effectLst>
              <a:outerShdw dist="17819" dir="2700000" blurRad="0" rotWithShape="0">
                <a:srgbClr val="ffffff">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Black"/>
                </a:rPr>
                <a:t>TEXT</a:t>
              </a:r>
              <a:endParaRPr b="0" lang="en-US" sz="2000" spc="-1" strike="noStrike">
                <a:solidFill>
                  <a:srgbClr val="000000"/>
                </a:solidFill>
                <a:latin typeface="Gulim"/>
              </a:endParaRPr>
            </a:p>
          </p:txBody>
        </p:sp>
      </p:grpSp>
      <p:pic>
        <p:nvPicPr>
          <p:cNvPr id="930" name="Picture 527" descr="그림2"/>
          <p:cNvPicPr/>
          <p:nvPr/>
        </p:nvPicPr>
        <p:blipFill>
          <a:blip r:embed="rId10"/>
          <a:stretch/>
        </p:blipFill>
        <p:spPr>
          <a:xfrm>
            <a:off x="3747960" y="2897280"/>
            <a:ext cx="505080" cy="476280"/>
          </a:xfrm>
          <a:prstGeom prst="rect">
            <a:avLst/>
          </a:prstGeom>
          <a:ln w="0">
            <a:noFill/>
          </a:ln>
        </p:spPr>
      </p:pic>
      <p:pic>
        <p:nvPicPr>
          <p:cNvPr id="931" name="Picture 529" descr="그림2"/>
          <p:cNvPicPr/>
          <p:nvPr/>
        </p:nvPicPr>
        <p:blipFill>
          <a:blip r:embed="rId11"/>
          <a:stretch/>
        </p:blipFill>
        <p:spPr>
          <a:xfrm>
            <a:off x="3603600" y="3616200"/>
            <a:ext cx="504720" cy="476280"/>
          </a:xfrm>
          <a:prstGeom prst="rect">
            <a:avLst/>
          </a:prstGeom>
          <a:ln w="0">
            <a:noFill/>
          </a:ln>
        </p:spPr>
      </p:pic>
      <p:pic>
        <p:nvPicPr>
          <p:cNvPr id="932" name="Picture 530" descr="그림2"/>
          <p:cNvPicPr/>
          <p:nvPr/>
        </p:nvPicPr>
        <p:blipFill>
          <a:blip r:embed="rId12"/>
          <a:stretch/>
        </p:blipFill>
        <p:spPr>
          <a:xfrm>
            <a:off x="5187960" y="3689280"/>
            <a:ext cx="504720" cy="476280"/>
          </a:xfrm>
          <a:prstGeom prst="rect">
            <a:avLst/>
          </a:prstGeom>
          <a:ln w="0">
            <a:noFill/>
          </a:ln>
        </p:spPr>
      </p:pic>
      <p:pic>
        <p:nvPicPr>
          <p:cNvPr id="933" name="Picture 531" descr="그림2"/>
          <p:cNvPicPr/>
          <p:nvPr/>
        </p:nvPicPr>
        <p:blipFill>
          <a:blip r:embed="rId13"/>
          <a:stretch/>
        </p:blipFill>
        <p:spPr>
          <a:xfrm>
            <a:off x="3598920" y="4165560"/>
            <a:ext cx="504720" cy="476280"/>
          </a:xfrm>
          <a:prstGeom prst="rect">
            <a:avLst/>
          </a:prstGeom>
          <a:ln w="0">
            <a:noFill/>
          </a:ln>
        </p:spPr>
      </p:pic>
      <p:pic>
        <p:nvPicPr>
          <p:cNvPr id="934" name="Picture 669" descr="그림2"/>
          <p:cNvPicPr/>
          <p:nvPr/>
        </p:nvPicPr>
        <p:blipFill>
          <a:blip r:embed="rId14"/>
          <a:stretch/>
        </p:blipFill>
        <p:spPr>
          <a:xfrm>
            <a:off x="4130640" y="3475080"/>
            <a:ext cx="504720" cy="476280"/>
          </a:xfrm>
          <a:prstGeom prst="rect">
            <a:avLst/>
          </a:prstGeom>
          <a:ln w="0">
            <a:noFill/>
          </a:ln>
        </p:spPr>
      </p:pic>
      <p:pic>
        <p:nvPicPr>
          <p:cNvPr id="935" name="Picture 526" descr="그림2"/>
          <p:cNvPicPr/>
          <p:nvPr/>
        </p:nvPicPr>
        <p:blipFill>
          <a:blip r:embed="rId15"/>
          <a:stretch/>
        </p:blipFill>
        <p:spPr>
          <a:xfrm>
            <a:off x="4540320" y="2570040"/>
            <a:ext cx="587160" cy="552600"/>
          </a:xfrm>
          <a:prstGeom prst="rect">
            <a:avLst/>
          </a:prstGeom>
          <a:ln w="0">
            <a:noFill/>
          </a:ln>
        </p:spPr>
      </p:pic>
      <p:sp>
        <p:nvSpPr>
          <p:cNvPr id="936"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Rectangle 14"/>
          <p:cNvSpPr/>
          <p:nvPr/>
        </p:nvSpPr>
        <p:spPr>
          <a:xfrm>
            <a:off x="525600" y="3751200"/>
            <a:ext cx="5651280" cy="507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38" name="Rectangle 14"/>
          <p:cNvSpPr/>
          <p:nvPr/>
        </p:nvSpPr>
        <p:spPr>
          <a:xfrm>
            <a:off x="498600" y="4530600"/>
            <a:ext cx="5651280" cy="509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194d39"/>
                </a:solidFill>
                <a:latin typeface="Arial Black"/>
                <a:ea typeface="HY헤드라인M"/>
              </a:rPr>
              <a:t>Thanks</a:t>
            </a:r>
            <a:r>
              <a:rPr b="1" lang="zh-CN" sz="7200" spc="-1" strike="noStrike">
                <a:solidFill>
                  <a:srgbClr val="194d39"/>
                </a:solidFill>
                <a:latin typeface="Arial Black"/>
                <a:ea typeface="HY헤드라인M"/>
              </a:rPr>
              <a:t>！</a:t>
            </a:r>
            <a:endParaRPr b="0" lang="en-US" sz="7200" spc="-1" strike="noStrike">
              <a:solidFill>
                <a:srgbClr val="000000"/>
              </a:solidFill>
              <a:latin typeface="Gulim"/>
            </a:endParaRPr>
          </a:p>
        </p:txBody>
      </p:sp>
      <p:sp>
        <p:nvSpPr>
          <p:cNvPr id="939" name="矩形 5"/>
          <p:cNvSpPr/>
          <p:nvPr/>
        </p:nvSpPr>
        <p:spPr>
          <a:xfrm>
            <a:off x="4643280" y="0"/>
            <a:ext cx="720720" cy="23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下载：</a:t>
            </a:r>
            <a:r>
              <a:rPr b="0" lang="en-US" sz="100" spc="-1" strike="noStrike">
                <a:solidFill>
                  <a:srgbClr val="ffffff"/>
                </a:solidFill>
                <a:latin typeface="Calibri"/>
                <a:ea typeface="宋体"/>
              </a:rPr>
              <a:t>www.1ppt.com/moban/     </a:t>
            </a:r>
            <a:r>
              <a:rPr b="0" lang="zh-CN" sz="100" spc="-1" strike="noStrike">
                <a:solidFill>
                  <a:srgbClr val="ffffff"/>
                </a:solidFill>
                <a:latin typeface="Calibri"/>
                <a:ea typeface="宋体"/>
              </a:rPr>
              <a:t>行业</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hangye/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节日</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模板：</a:t>
            </a:r>
            <a:r>
              <a:rPr b="0" lang="en-US" sz="100" spc="-1" strike="noStrike">
                <a:solidFill>
                  <a:srgbClr val="ffffff"/>
                </a:solidFill>
                <a:latin typeface="Calibri"/>
                <a:ea typeface="宋体"/>
              </a:rPr>
              <a:t>www.1ppt.com/jieri/           PPT</a:t>
            </a:r>
            <a:r>
              <a:rPr b="0" lang="zh-CN" sz="100" spc="-1" strike="noStrike">
                <a:solidFill>
                  <a:srgbClr val="ffffff"/>
                </a:solidFill>
                <a:latin typeface="Calibri"/>
                <a:ea typeface="宋体"/>
              </a:rPr>
              <a:t>素材下载：</a:t>
            </a:r>
            <a:r>
              <a:rPr b="0" lang="en-US" sz="100" spc="-1" strike="noStrike">
                <a:solidFill>
                  <a:srgbClr val="ffffff"/>
                </a:solidFill>
                <a:latin typeface="Calibri"/>
                <a:ea typeface="宋体"/>
              </a:rPr>
              <a:t>www.1ppt.com/sucai/</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背景图片：</a:t>
            </a:r>
            <a:r>
              <a:rPr b="0" lang="en-US" sz="100" spc="-1" strike="noStrike">
                <a:solidFill>
                  <a:srgbClr val="ffffff"/>
                </a:solidFill>
                <a:latin typeface="Calibri"/>
                <a:ea typeface="宋体"/>
              </a:rPr>
              <a:t>www.1ppt.com/beijing/      PPT</a:t>
            </a:r>
            <a:r>
              <a:rPr b="0" lang="zh-CN" sz="100" spc="-1" strike="noStrike">
                <a:solidFill>
                  <a:srgbClr val="ffffff"/>
                </a:solidFill>
                <a:latin typeface="Calibri"/>
                <a:ea typeface="宋体"/>
              </a:rPr>
              <a:t>图表下载：</a:t>
            </a:r>
            <a:r>
              <a:rPr b="0" lang="en-US" sz="100" spc="-1" strike="noStrike">
                <a:solidFill>
                  <a:srgbClr val="ffffff"/>
                </a:solidFill>
                <a:latin typeface="Calibri"/>
                <a:ea typeface="宋体"/>
              </a:rPr>
              <a:t>www.1ppt.com/tubiao/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优秀</a:t>
            </a:r>
            <a:r>
              <a:rPr b="0" lang="en-US" sz="100" spc="-1" strike="noStrike">
                <a:solidFill>
                  <a:srgbClr val="ffffff"/>
                </a:solidFill>
                <a:latin typeface="Calibri"/>
                <a:ea typeface="宋体"/>
              </a:rPr>
              <a:t>PPT</a:t>
            </a:r>
            <a:r>
              <a:rPr b="0" lang="zh-CN" sz="100" spc="-1" strike="noStrike">
                <a:solidFill>
                  <a:srgbClr val="ffffff"/>
                </a:solidFill>
                <a:latin typeface="Calibri"/>
                <a:ea typeface="宋体"/>
              </a:rPr>
              <a:t>下载：</a:t>
            </a:r>
            <a:r>
              <a:rPr b="0" lang="en-US" sz="100" spc="-1" strike="noStrike">
                <a:solidFill>
                  <a:srgbClr val="ffffff"/>
                </a:solidFill>
                <a:latin typeface="Calibri"/>
                <a:ea typeface="宋体"/>
              </a:rPr>
              <a:t>www.1ppt.com/xiazai/        PPT</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powerpoint/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Word</a:t>
            </a:r>
            <a:r>
              <a:rPr b="0" lang="zh-CN" sz="100" spc="-1" strike="noStrike">
                <a:solidFill>
                  <a:srgbClr val="ffffff"/>
                </a:solidFill>
                <a:latin typeface="Calibri"/>
                <a:ea typeface="宋体"/>
              </a:rPr>
              <a:t>教程： </a:t>
            </a:r>
            <a:r>
              <a:rPr b="0" lang="en-US" sz="100" spc="-1" strike="noStrike">
                <a:solidFill>
                  <a:srgbClr val="ffffff"/>
                </a:solidFill>
                <a:latin typeface="Calibri"/>
                <a:ea typeface="宋体"/>
              </a:rPr>
              <a:t>www.1ppt.com/word/              Excel</a:t>
            </a:r>
            <a:r>
              <a:rPr b="0" lang="zh-CN" sz="100" spc="-1" strike="noStrike">
                <a:solidFill>
                  <a:srgbClr val="ffffff"/>
                </a:solidFill>
                <a:latin typeface="Calibri"/>
                <a:ea typeface="宋体"/>
              </a:rPr>
              <a:t>教程：</a:t>
            </a:r>
            <a:r>
              <a:rPr b="0" lang="en-US" sz="100" spc="-1" strike="noStrike">
                <a:solidFill>
                  <a:srgbClr val="ffffff"/>
                </a:solidFill>
                <a:latin typeface="Calibri"/>
                <a:ea typeface="宋体"/>
              </a:rPr>
              <a:t>www.1ppt.com/excel/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资料下载：</a:t>
            </a:r>
            <a:r>
              <a:rPr b="0" lang="en-US" sz="100" spc="-1" strike="noStrike">
                <a:solidFill>
                  <a:srgbClr val="ffffff"/>
                </a:solidFill>
                <a:latin typeface="Calibri"/>
                <a:ea typeface="宋体"/>
              </a:rPr>
              <a:t>www.1ppt.com/ziliao/                PPT</a:t>
            </a:r>
            <a:r>
              <a:rPr b="0" lang="zh-CN" sz="100" spc="-1" strike="noStrike">
                <a:solidFill>
                  <a:srgbClr val="ffffff"/>
                </a:solidFill>
                <a:latin typeface="Calibri"/>
                <a:ea typeface="宋体"/>
              </a:rPr>
              <a:t>课件下载：</a:t>
            </a:r>
            <a:r>
              <a:rPr b="0" lang="en-US" sz="100" spc="-1" strike="noStrike">
                <a:solidFill>
                  <a:srgbClr val="ffffff"/>
                </a:solidFill>
                <a:latin typeface="Calibri"/>
                <a:ea typeface="宋体"/>
              </a:rPr>
              <a:t>www.1ppt.com/kejian/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范文下载：</a:t>
            </a:r>
            <a:r>
              <a:rPr b="0" lang="en-US" sz="100" spc="-1" strike="noStrike">
                <a:solidFill>
                  <a:srgbClr val="ffffff"/>
                </a:solidFill>
                <a:latin typeface="Calibri"/>
                <a:ea typeface="宋体"/>
              </a:rPr>
              <a:t>www.1ppt.com/fanwen/             </a:t>
            </a:r>
            <a:r>
              <a:rPr b="0" lang="zh-CN" sz="100" spc="-1" strike="noStrike">
                <a:solidFill>
                  <a:srgbClr val="ffffff"/>
                </a:solidFill>
                <a:latin typeface="Calibri"/>
                <a:ea typeface="宋体"/>
              </a:rPr>
              <a:t>试卷下载：</a:t>
            </a:r>
            <a:r>
              <a:rPr b="0" lang="en-US" sz="100" spc="-1" strike="noStrike">
                <a:solidFill>
                  <a:srgbClr val="ffffff"/>
                </a:solidFill>
                <a:latin typeface="Calibri"/>
                <a:ea typeface="宋体"/>
              </a:rPr>
              <a:t>www.1ppt.com/shiti/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ea typeface="宋体"/>
              </a:rPr>
              <a:t>教案下载：</a:t>
            </a:r>
            <a:r>
              <a:rPr b="0" lang="en-US" sz="100" spc="-1" strike="noStrike">
                <a:solidFill>
                  <a:srgbClr val="ffffff"/>
                </a:solidFill>
                <a:latin typeface="Calibri"/>
                <a:ea typeface="宋体"/>
              </a:rPr>
              <a:t>www.1ppt.com/jiaoan/  </a:t>
            </a:r>
            <a:endParaRPr b="0" lang="en-US" sz="1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ea typeface="宋体"/>
              </a:rPr>
              <a:t> </a:t>
            </a:r>
            <a:endParaRPr b="0" lang="en-US" sz="100" spc="-1" strike="noStrike">
              <a:solidFill>
                <a:srgbClr val="000000"/>
              </a:solidFill>
              <a:latin typeface="Gulim"/>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84000" y="1413000"/>
            <a:ext cx="8002440" cy="4525920"/>
          </a:xfrm>
          <a:prstGeom prst="rect">
            <a:avLst/>
          </a:prstGeom>
          <a:noFill/>
          <a:ln w="0">
            <a:noFill/>
          </a:ln>
        </p:spPr>
        <p:txBody>
          <a:bodyPr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rPr>
              <a:t>Design Inspiration for Presentation</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rem ipsum dolor sit amet, consectetur adipiscing elit, set eiusmod tempor incidunt et labore et dolore magna aliquam. Ut enim ad minim veniam, quis nostrud exerc. Irure dolor in reprehend incididunt ut labore et dolore magna aliqua.</a:t>
            </a:r>
            <a:br>
              <a:rPr sz="1400"/>
            </a:br>
            <a:r>
              <a:rPr b="0" lang="en-US" sz="1400" spc="-1" strike="noStrike">
                <a:solidFill>
                  <a:srgbClr val="000000"/>
                </a:solidFill>
                <a:latin typeface="Arial"/>
              </a:rPr>
              <a:t> </a:t>
            </a: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itation ullamco laboris nisi ut aliquip ex ea commodo consequat.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t enim ad minim veniam, quis nostrud exerc. Irure dolor in reprehend incididunt ut labore et dolore magna aliqua. Ut enim ad minim veniam, quis nostrud exerci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Black"/>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      </a:t>
            </a:r>
            <a:r>
              <a:rPr b="0" lang="en-US" sz="1400" spc="-1" strike="noStrike">
                <a:solidFill>
                  <a:srgbClr val="000000"/>
                </a:solidFill>
                <a:latin typeface="Arial Black"/>
              </a:rPr>
              <a:t>Each work is featured with simplicity but supreme beauty.</a:t>
            </a:r>
            <a:endParaRPr b="0" lang="en-US" sz="1400" spc="-1" strike="noStrike">
              <a:solidFill>
                <a:srgbClr val="000000"/>
              </a:solidFill>
              <a:latin typeface="Gulim"/>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Gulim"/>
            </a:endParaRPr>
          </a:p>
        </p:txBody>
      </p:sp>
      <p:sp>
        <p:nvSpPr>
          <p:cNvPr id="203" name="PlaceHolder 2"/>
          <p:cNvSpPr>
            <a:spLocks noGrp="1"/>
          </p:cNvSpPr>
          <p:nvPr>
            <p:ph type="title"/>
          </p:nvPr>
        </p:nvSpPr>
        <p:spPr>
          <a:xfrm>
            <a:off x="428760" y="260280"/>
            <a:ext cx="8229600" cy="331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94d39"/>
                </a:solidFill>
                <a:latin typeface="Arial Black"/>
              </a:rPr>
              <a:t>Click To Edit Title Style</a:t>
            </a:r>
            <a:endParaRPr b="0" lang="en-US" sz="3200" spc="-1" strike="noStrike">
              <a:solidFill>
                <a:srgbClr val="194d39"/>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1268280"/>
            <a:ext cx="8229600" cy="4525920"/>
          </a:xfrm>
          <a:prstGeom prst="rect">
            <a:avLst/>
          </a:prstGeom>
          <a:noFill/>
          <a:ln w="0">
            <a:noFill/>
          </a:ln>
        </p:spPr>
        <p:txBody>
          <a:bodyPr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Black"/>
                <a:ea typeface="MS PGothic"/>
              </a:rPr>
              <a:t>Valuable Aids To Creativity!</a:t>
            </a:r>
            <a:endParaRPr b="0" lang="en-US" sz="2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Lorem ipsum dolor sit amet, consectetur adipisicing elit, sed do eiusmod tempor incididunt ut labore et dolore magna aliqua. Ut enim ad minim veniam, quis nostrud exercitation ullamco laboris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nisi ut aliquip ex ea commodo consequat. Duis aute irure dolor in reprehenderit in voluptate velit esse cillum dolore eu fugiat nulla pariatur. Excepteur sint occaecat cupidatat non proident, sunt in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culpa qui officia deserunt mollit anim id est laborum. </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343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MS PGothic"/>
              </a:rPr>
              <a:t>Aenean tortor risus, feugiat at, condimentum sagittis, tempor ut, odio. Amet nisi vitae mi tempus condimentum. Etiam vitae magna eu sapien rhoncus consequat. Curabitur vitae nibh vel</a:t>
            </a:r>
            <a:endParaRPr b="0" lang="en-US" sz="1400" spc="-1" strike="noStrike">
              <a:solidFill>
                <a:srgbClr val="000000"/>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Stylish templates can be a valuable aid to creative professionals.</a:t>
            </a:r>
            <a:endParaRPr b="0" lang="en-US" sz="1400" spc="-1" strike="noStrike">
              <a:solidFill>
                <a:srgbClr val="000000"/>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ea typeface="MS PGothic"/>
              </a:rPr>
              <a:t>      </a:t>
            </a:r>
            <a:r>
              <a:rPr b="0" lang="en-US" sz="1400" spc="-1" strike="noStrike">
                <a:solidFill>
                  <a:srgbClr val="000000"/>
                </a:solidFill>
                <a:latin typeface="Arial Black"/>
                <a:ea typeface="MS PGothic"/>
              </a:rPr>
              <a:t>Each work is featured with simplicity but supreme beauty.</a:t>
            </a:r>
            <a:endParaRPr b="0" lang="en-US" sz="14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2"/>
          <p:cNvSpPr>
            <a:spLocks noGrp="1"/>
          </p:cNvSpPr>
          <p:nvPr>
            <p:ph type="title"/>
          </p:nvPr>
        </p:nvSpPr>
        <p:spPr>
          <a:xfrm>
            <a:off x="428760" y="258480"/>
            <a:ext cx="8229600" cy="331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194d39"/>
                </a:solidFill>
                <a:latin typeface="Arial Black"/>
              </a:rPr>
              <a:t>Click To Edit Title Style</a:t>
            </a:r>
            <a:endParaRPr b="0" lang="en-US" sz="3200" spc="-1" strike="noStrike">
              <a:solidFill>
                <a:srgbClr val="194d39"/>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0" y="404640"/>
            <a:ext cx="9144000" cy="3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Black"/>
              </a:rPr>
              <a:t>Click To Edit Title Style</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7" name="Group 2"/>
          <p:cNvGrpSpPr/>
          <p:nvPr/>
        </p:nvGrpSpPr>
        <p:grpSpPr>
          <a:xfrm>
            <a:off x="1627200" y="1511280"/>
            <a:ext cx="6261120" cy="1122480"/>
            <a:chOff x="1627200" y="1511280"/>
            <a:chExt cx="6261120" cy="1122480"/>
          </a:xfrm>
        </p:grpSpPr>
        <p:pic>
          <p:nvPicPr>
            <p:cNvPr id="208" name="AutoShape 864" descr=""/>
            <p:cNvPicPr/>
            <p:nvPr/>
          </p:nvPicPr>
          <p:blipFill>
            <a:blip r:embed="rId1"/>
            <a:stretch/>
          </p:blipFill>
          <p:spPr>
            <a:xfrm>
              <a:off x="1627200" y="1511280"/>
              <a:ext cx="6261120" cy="1122480"/>
            </a:xfrm>
            <a:prstGeom prst="rect">
              <a:avLst/>
            </a:prstGeom>
            <a:ln w="0">
              <a:noFill/>
            </a:ln>
          </p:spPr>
        </p:pic>
        <p:sp>
          <p:nvSpPr>
            <p:cNvPr id="209" name="Text Box 4"/>
            <p:cNvSpPr/>
            <p:nvPr/>
          </p:nvSpPr>
          <p:spPr>
            <a:xfrm>
              <a:off x="1822320" y="1698480"/>
              <a:ext cx="5699160" cy="55584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10" name="Group 5"/>
          <p:cNvGrpSpPr/>
          <p:nvPr/>
        </p:nvGrpSpPr>
        <p:grpSpPr>
          <a:xfrm>
            <a:off x="2556000" y="1668600"/>
            <a:ext cx="4866840" cy="559800"/>
            <a:chOff x="2556000" y="1668600"/>
            <a:chExt cx="4866840" cy="559800"/>
          </a:xfrm>
        </p:grpSpPr>
        <p:sp>
          <p:nvSpPr>
            <p:cNvPr id="211" name="AutoShape 50"/>
            <p:cNvSpPr/>
            <p:nvPr/>
          </p:nvSpPr>
          <p:spPr>
            <a:xfrm>
              <a:off x="2556000" y="1668600"/>
              <a:ext cx="4866840" cy="55980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12" name="AutoShape 51"/>
            <p:cNvSpPr/>
            <p:nvPr/>
          </p:nvSpPr>
          <p:spPr>
            <a:xfrm>
              <a:off x="2670840" y="1736280"/>
              <a:ext cx="4556160" cy="2631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13932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13" name="TextBox 47"/>
          <p:cNvSpPr/>
          <p:nvPr/>
        </p:nvSpPr>
        <p:spPr>
          <a:xfrm>
            <a:off x="1996920" y="16066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1</a:t>
            </a:r>
            <a:endParaRPr b="0" lang="en-US" sz="4000" spc="-1" strike="noStrike">
              <a:solidFill>
                <a:srgbClr val="000000"/>
              </a:solidFill>
              <a:latin typeface="Gulim"/>
            </a:endParaRPr>
          </a:p>
        </p:txBody>
      </p:sp>
      <p:grpSp>
        <p:nvGrpSpPr>
          <p:cNvPr id="214" name="Group 9"/>
          <p:cNvGrpSpPr/>
          <p:nvPr/>
        </p:nvGrpSpPr>
        <p:grpSpPr>
          <a:xfrm>
            <a:off x="1706400" y="2479680"/>
            <a:ext cx="5929560" cy="784080"/>
            <a:chOff x="1706400" y="2479680"/>
            <a:chExt cx="5929560" cy="784080"/>
          </a:xfrm>
        </p:grpSpPr>
        <p:grpSp>
          <p:nvGrpSpPr>
            <p:cNvPr id="215" name="Group 10"/>
            <p:cNvGrpSpPr/>
            <p:nvPr/>
          </p:nvGrpSpPr>
          <p:grpSpPr>
            <a:xfrm>
              <a:off x="1706400" y="2479680"/>
              <a:ext cx="5929560" cy="784080"/>
              <a:chOff x="1706400" y="2479680"/>
              <a:chExt cx="5929560" cy="784080"/>
            </a:xfrm>
          </p:grpSpPr>
          <p:pic>
            <p:nvPicPr>
              <p:cNvPr id="216" name="AutoShape 864" descr=""/>
              <p:cNvPicPr/>
              <p:nvPr/>
            </p:nvPicPr>
            <p:blipFill>
              <a:blip r:embed="rId2"/>
              <a:stretch/>
            </p:blipFill>
            <p:spPr>
              <a:xfrm>
                <a:off x="1706400" y="2479680"/>
                <a:ext cx="5929560" cy="784080"/>
              </a:xfrm>
              <a:prstGeom prst="rect">
                <a:avLst/>
              </a:prstGeom>
              <a:ln w="0">
                <a:noFill/>
              </a:ln>
            </p:spPr>
          </p:pic>
          <p:sp>
            <p:nvSpPr>
              <p:cNvPr id="217" name="Text Box 12"/>
              <p:cNvSpPr/>
              <p:nvPr/>
            </p:nvSpPr>
            <p:spPr>
              <a:xfrm>
                <a:off x="1889640" y="2610720"/>
                <a:ext cx="5398560" cy="38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18" name="Group 13"/>
            <p:cNvGrpSpPr/>
            <p:nvPr/>
          </p:nvGrpSpPr>
          <p:grpSpPr>
            <a:xfrm>
              <a:off x="2612520" y="2603880"/>
              <a:ext cx="4608360" cy="393120"/>
              <a:chOff x="2612520" y="2603880"/>
              <a:chExt cx="4608360" cy="393120"/>
            </a:xfrm>
          </p:grpSpPr>
          <p:sp>
            <p:nvSpPr>
              <p:cNvPr id="219" name="AutoShape 50"/>
              <p:cNvSpPr/>
              <p:nvPr/>
            </p:nvSpPr>
            <p:spPr>
              <a:xfrm>
                <a:off x="2612520" y="2603880"/>
                <a:ext cx="4608360" cy="393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20" name="AutoShape 51"/>
              <p:cNvSpPr/>
              <p:nvPr/>
            </p:nvSpPr>
            <p:spPr>
              <a:xfrm>
                <a:off x="2762640" y="2625120"/>
                <a:ext cx="4314240" cy="1846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83880" bIns="-60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21" name="TextBox 53"/>
            <p:cNvSpPr/>
            <p:nvPr/>
          </p:nvSpPr>
          <p:spPr>
            <a:xfrm>
              <a:off x="2044440" y="254628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2</a:t>
              </a:r>
              <a:endParaRPr b="0" lang="en-US" sz="4000" spc="-1" strike="noStrike">
                <a:solidFill>
                  <a:srgbClr val="000000"/>
                </a:solidFill>
                <a:latin typeface="Gulim"/>
              </a:endParaRPr>
            </a:p>
          </p:txBody>
        </p:sp>
      </p:grpSp>
      <p:grpSp>
        <p:nvGrpSpPr>
          <p:cNvPr id="222" name="Group 17"/>
          <p:cNvGrpSpPr/>
          <p:nvPr/>
        </p:nvGrpSpPr>
        <p:grpSpPr>
          <a:xfrm>
            <a:off x="1706400" y="3375000"/>
            <a:ext cx="5929560" cy="784080"/>
            <a:chOff x="1706400" y="3375000"/>
            <a:chExt cx="5929560" cy="784080"/>
          </a:xfrm>
        </p:grpSpPr>
        <p:grpSp>
          <p:nvGrpSpPr>
            <p:cNvPr id="223" name="Group 18"/>
            <p:cNvGrpSpPr/>
            <p:nvPr/>
          </p:nvGrpSpPr>
          <p:grpSpPr>
            <a:xfrm>
              <a:off x="1706400" y="3375000"/>
              <a:ext cx="5929560" cy="784080"/>
              <a:chOff x="1706400" y="3375000"/>
              <a:chExt cx="5929560" cy="784080"/>
            </a:xfrm>
          </p:grpSpPr>
          <p:pic>
            <p:nvPicPr>
              <p:cNvPr id="224" name="AutoShape 864" descr=""/>
              <p:cNvPicPr/>
              <p:nvPr/>
            </p:nvPicPr>
            <p:blipFill>
              <a:blip r:embed="rId3"/>
              <a:stretch/>
            </p:blipFill>
            <p:spPr>
              <a:xfrm>
                <a:off x="1706400" y="3375000"/>
                <a:ext cx="5929560" cy="784080"/>
              </a:xfrm>
              <a:prstGeom prst="rect">
                <a:avLst/>
              </a:prstGeom>
              <a:ln w="0">
                <a:noFill/>
              </a:ln>
            </p:spPr>
          </p:pic>
          <p:sp>
            <p:nvSpPr>
              <p:cNvPr id="225" name="Text Box 20"/>
              <p:cNvSpPr/>
              <p:nvPr/>
            </p:nvSpPr>
            <p:spPr>
              <a:xfrm>
                <a:off x="1889640" y="3505320"/>
                <a:ext cx="5398560" cy="3898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26" name="Group 21"/>
            <p:cNvGrpSpPr/>
            <p:nvPr/>
          </p:nvGrpSpPr>
          <p:grpSpPr>
            <a:xfrm>
              <a:off x="2612520" y="3498840"/>
              <a:ext cx="4608360" cy="393120"/>
              <a:chOff x="2612520" y="3498840"/>
              <a:chExt cx="4608360" cy="393120"/>
            </a:xfrm>
          </p:grpSpPr>
          <p:sp>
            <p:nvSpPr>
              <p:cNvPr id="227" name="AutoShape 50"/>
              <p:cNvSpPr/>
              <p:nvPr/>
            </p:nvSpPr>
            <p:spPr>
              <a:xfrm>
                <a:off x="2612520" y="3498840"/>
                <a:ext cx="4608360" cy="3931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28" name="AutoShape 51"/>
              <p:cNvSpPr/>
              <p:nvPr/>
            </p:nvSpPr>
            <p:spPr>
              <a:xfrm>
                <a:off x="2762640" y="3520080"/>
                <a:ext cx="4314240" cy="18468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83880" bIns="-60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29" name="TextBox 59"/>
            <p:cNvSpPr/>
            <p:nvPr/>
          </p:nvSpPr>
          <p:spPr>
            <a:xfrm>
              <a:off x="2044440" y="34412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3</a:t>
              </a:r>
              <a:endParaRPr b="0" lang="en-US" sz="4000" spc="-1" strike="noStrike">
                <a:solidFill>
                  <a:srgbClr val="000000"/>
                </a:solidFill>
                <a:latin typeface="Gulim"/>
              </a:endParaRPr>
            </a:p>
          </p:txBody>
        </p:sp>
      </p:grpSp>
      <p:grpSp>
        <p:nvGrpSpPr>
          <p:cNvPr id="230" name="Group 25"/>
          <p:cNvGrpSpPr/>
          <p:nvPr/>
        </p:nvGrpSpPr>
        <p:grpSpPr>
          <a:xfrm>
            <a:off x="1706400" y="4270320"/>
            <a:ext cx="5929560" cy="782640"/>
            <a:chOff x="1706400" y="4270320"/>
            <a:chExt cx="5929560" cy="782640"/>
          </a:xfrm>
        </p:grpSpPr>
        <p:grpSp>
          <p:nvGrpSpPr>
            <p:cNvPr id="231" name="Group 26"/>
            <p:cNvGrpSpPr/>
            <p:nvPr/>
          </p:nvGrpSpPr>
          <p:grpSpPr>
            <a:xfrm>
              <a:off x="1706400" y="4270320"/>
              <a:ext cx="5929560" cy="782640"/>
              <a:chOff x="1706400" y="4270320"/>
              <a:chExt cx="5929560" cy="782640"/>
            </a:xfrm>
          </p:grpSpPr>
          <p:pic>
            <p:nvPicPr>
              <p:cNvPr id="232" name="AutoShape 864" descr=""/>
              <p:cNvPicPr/>
              <p:nvPr/>
            </p:nvPicPr>
            <p:blipFill>
              <a:blip r:embed="rId4"/>
              <a:stretch/>
            </p:blipFill>
            <p:spPr>
              <a:xfrm>
                <a:off x="1706400" y="4270320"/>
                <a:ext cx="5929560" cy="782640"/>
              </a:xfrm>
              <a:prstGeom prst="rect">
                <a:avLst/>
              </a:prstGeom>
              <a:ln w="0">
                <a:noFill/>
              </a:ln>
            </p:spPr>
          </p:pic>
          <p:sp>
            <p:nvSpPr>
              <p:cNvPr id="233" name="Text Box 28"/>
              <p:cNvSpPr/>
              <p:nvPr/>
            </p:nvSpPr>
            <p:spPr>
              <a:xfrm>
                <a:off x="1889640" y="4399920"/>
                <a:ext cx="5398920" cy="38808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34" name="Group 29"/>
            <p:cNvGrpSpPr/>
            <p:nvPr/>
          </p:nvGrpSpPr>
          <p:grpSpPr>
            <a:xfrm>
              <a:off x="2612520" y="4393080"/>
              <a:ext cx="4608360" cy="391680"/>
              <a:chOff x="2612520" y="4393080"/>
              <a:chExt cx="4608360" cy="391680"/>
            </a:xfrm>
          </p:grpSpPr>
          <p:sp>
            <p:nvSpPr>
              <p:cNvPr id="235" name="AutoShape 50"/>
              <p:cNvSpPr/>
              <p:nvPr/>
            </p:nvSpPr>
            <p:spPr>
              <a:xfrm>
                <a:off x="2612520" y="4393080"/>
                <a:ext cx="4608360" cy="39168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36" name="AutoShape 51"/>
              <p:cNvSpPr/>
              <p:nvPr/>
            </p:nvSpPr>
            <p:spPr>
              <a:xfrm>
                <a:off x="2762640" y="4414320"/>
                <a:ext cx="4314240" cy="183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83880" bIns="-60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37" name="TextBox 65"/>
            <p:cNvSpPr/>
            <p:nvPr/>
          </p:nvSpPr>
          <p:spPr>
            <a:xfrm>
              <a:off x="2044440" y="433584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4</a:t>
              </a:r>
              <a:endParaRPr b="0" lang="en-US" sz="4000" spc="-1" strike="noStrike">
                <a:solidFill>
                  <a:srgbClr val="000000"/>
                </a:solidFill>
                <a:latin typeface="Gulim"/>
              </a:endParaRPr>
            </a:p>
          </p:txBody>
        </p:sp>
      </p:grpSp>
      <p:grpSp>
        <p:nvGrpSpPr>
          <p:cNvPr id="238" name="Group 33"/>
          <p:cNvGrpSpPr/>
          <p:nvPr/>
        </p:nvGrpSpPr>
        <p:grpSpPr>
          <a:xfrm>
            <a:off x="1706400" y="5165640"/>
            <a:ext cx="5929560" cy="784440"/>
            <a:chOff x="1706400" y="5165640"/>
            <a:chExt cx="5929560" cy="784440"/>
          </a:xfrm>
        </p:grpSpPr>
        <p:grpSp>
          <p:nvGrpSpPr>
            <p:cNvPr id="239" name="Group 34"/>
            <p:cNvGrpSpPr/>
            <p:nvPr/>
          </p:nvGrpSpPr>
          <p:grpSpPr>
            <a:xfrm>
              <a:off x="1706400" y="5165640"/>
              <a:ext cx="5929560" cy="784440"/>
              <a:chOff x="1706400" y="5165640"/>
              <a:chExt cx="5929560" cy="784440"/>
            </a:xfrm>
          </p:grpSpPr>
          <p:pic>
            <p:nvPicPr>
              <p:cNvPr id="240" name="AutoShape 864" descr=""/>
              <p:cNvPicPr/>
              <p:nvPr/>
            </p:nvPicPr>
            <p:blipFill>
              <a:blip r:embed="rId5"/>
              <a:stretch/>
            </p:blipFill>
            <p:spPr>
              <a:xfrm>
                <a:off x="1706400" y="5165640"/>
                <a:ext cx="5929560" cy="784440"/>
              </a:xfrm>
              <a:prstGeom prst="rect">
                <a:avLst/>
              </a:prstGeom>
              <a:ln w="0">
                <a:noFill/>
              </a:ln>
            </p:spPr>
          </p:pic>
          <p:sp>
            <p:nvSpPr>
              <p:cNvPr id="241" name="Text Box 36"/>
              <p:cNvSpPr/>
              <p:nvPr/>
            </p:nvSpPr>
            <p:spPr>
              <a:xfrm>
                <a:off x="1889640" y="5298840"/>
                <a:ext cx="5398560" cy="38772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42" name="Group 37"/>
            <p:cNvGrpSpPr/>
            <p:nvPr/>
          </p:nvGrpSpPr>
          <p:grpSpPr>
            <a:xfrm>
              <a:off x="2612520" y="5292000"/>
              <a:ext cx="4608360" cy="391320"/>
              <a:chOff x="2612520" y="5292000"/>
              <a:chExt cx="4608360" cy="391320"/>
            </a:xfrm>
          </p:grpSpPr>
          <p:sp>
            <p:nvSpPr>
              <p:cNvPr id="243" name="AutoShape 50"/>
              <p:cNvSpPr/>
              <p:nvPr/>
            </p:nvSpPr>
            <p:spPr>
              <a:xfrm>
                <a:off x="2612520" y="5292000"/>
                <a:ext cx="4608360" cy="391320"/>
              </a:xfrm>
              <a:prstGeom prst="roundRect">
                <a:avLst>
                  <a:gd name="adj" fmla="val 50000"/>
                </a:avLst>
              </a:prstGeom>
              <a:gradFill rotWithShape="0">
                <a:gsLst>
                  <a:gs pos="0">
                    <a:srgbClr val="9cadc8"/>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HY헤드라인M"/>
                    <a:ea typeface="HY헤드라인M"/>
                  </a:rPr>
                  <a:t>CLICK TO EDIT TITLE STYLE</a:t>
                </a:r>
                <a:endParaRPr b="0" lang="en-US" sz="1800" spc="-1" strike="noStrike">
                  <a:solidFill>
                    <a:srgbClr val="000000"/>
                  </a:solidFill>
                  <a:latin typeface="Gulim"/>
                </a:endParaRPr>
              </a:p>
            </p:txBody>
          </p:sp>
          <p:sp>
            <p:nvSpPr>
              <p:cNvPr id="244" name="AutoShape 51"/>
              <p:cNvSpPr/>
              <p:nvPr/>
            </p:nvSpPr>
            <p:spPr>
              <a:xfrm>
                <a:off x="2762640" y="5313240"/>
                <a:ext cx="4314240" cy="183960"/>
              </a:xfrm>
              <a:prstGeom prst="roundRect">
                <a:avLst>
                  <a:gd name="adj" fmla="val 50000"/>
                </a:avLst>
              </a:prstGeom>
              <a:gradFill rotWithShape="0">
                <a:gsLst>
                  <a:gs pos="0">
                    <a:srgbClr val="ffffff">
                      <a:alpha val="38039"/>
                    </a:srgbClr>
                  </a:gs>
                  <a:gs pos="100000">
                    <a:srgbClr val="767676">
                      <a:alpha val="0"/>
                    </a:srgbClr>
                  </a:gs>
                </a:gsLst>
                <a:lin ang="5400000"/>
              </a:gradFill>
              <a:ln w="0">
                <a:noFill/>
              </a:ln>
            </p:spPr>
            <p:style>
              <a:lnRef idx="0"/>
              <a:fillRef idx="0"/>
              <a:effectRef idx="0"/>
              <a:fontRef idx="minor"/>
            </p:style>
            <p:txBody>
              <a:bodyPr wrap="none" lIns="342000" rIns="90000" tIns="83880" bIns="-60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245" name="TextBox 71"/>
            <p:cNvSpPr/>
            <p:nvPr/>
          </p:nvSpPr>
          <p:spPr>
            <a:xfrm>
              <a:off x="2044440" y="5234760"/>
              <a:ext cx="435240" cy="7034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ea typeface="Times New Roman"/>
                </a:rPr>
                <a:t>5</a:t>
              </a:r>
              <a:endParaRPr b="0" lang="en-US" sz="4000" spc="-1" strike="noStrike">
                <a:solidFill>
                  <a:srgbClr val="000000"/>
                </a:solidFill>
                <a:latin typeface="Gulim"/>
              </a:endParaRPr>
            </a:p>
          </p:txBody>
        </p:sp>
      </p:grpSp>
      <p:sp>
        <p:nvSpPr>
          <p:cNvPr id="246"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4" descr="66"/>
          <p:cNvPicPr/>
          <p:nvPr/>
        </p:nvPicPr>
        <p:blipFill>
          <a:blip r:embed="rId1"/>
          <a:stretch/>
        </p:blipFill>
        <p:spPr>
          <a:xfrm>
            <a:off x="0" y="2421000"/>
            <a:ext cx="9144000" cy="4726080"/>
          </a:xfrm>
          <a:prstGeom prst="rect">
            <a:avLst/>
          </a:prstGeom>
          <a:ln w="0">
            <a:noFill/>
          </a:ln>
        </p:spPr>
      </p:pic>
      <p:sp>
        <p:nvSpPr>
          <p:cNvPr id="248" name="Text Box 6"/>
          <p:cNvSpPr/>
          <p:nvPr/>
        </p:nvSpPr>
        <p:spPr>
          <a:xfrm>
            <a:off x="6636600" y="3427560"/>
            <a:ext cx="114552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03622"/>
                </a:solidFill>
                <a:latin typeface="Times New Roman"/>
              </a:rPr>
              <a:t>TEXT</a:t>
            </a:r>
            <a:endParaRPr b="0" lang="en-US" sz="2800" spc="-1" strike="noStrike">
              <a:solidFill>
                <a:srgbClr val="000000"/>
              </a:solidFill>
              <a:latin typeface="Gulim"/>
            </a:endParaRPr>
          </a:p>
        </p:txBody>
      </p:sp>
      <p:sp>
        <p:nvSpPr>
          <p:cNvPr id="249" name="Text Box 7"/>
          <p:cNvSpPr/>
          <p:nvPr/>
        </p:nvSpPr>
        <p:spPr>
          <a:xfrm>
            <a:off x="6516720" y="3789360"/>
            <a:ext cx="138780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03622"/>
                </a:solidFill>
                <a:latin typeface="Times New Roman"/>
              </a:rPr>
              <a:t>ADD CONTENTS</a:t>
            </a:r>
            <a:endParaRPr b="0" lang="en-US" sz="1200" spc="-1" strike="noStrike">
              <a:solidFill>
                <a:srgbClr val="000000"/>
              </a:solidFill>
              <a:latin typeface="Gulim"/>
            </a:endParaRPr>
          </a:p>
        </p:txBody>
      </p:sp>
      <p:sp>
        <p:nvSpPr>
          <p:cNvPr id="250" name="Oval 12"/>
          <p:cNvSpPr/>
          <p:nvPr/>
        </p:nvSpPr>
        <p:spPr>
          <a:xfrm>
            <a:off x="179280" y="4933800"/>
            <a:ext cx="1500120" cy="10828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51" name="Group 6"/>
          <p:cNvGrpSpPr/>
          <p:nvPr/>
        </p:nvGrpSpPr>
        <p:grpSpPr>
          <a:xfrm>
            <a:off x="237960" y="4237200"/>
            <a:ext cx="1382760" cy="1388880"/>
            <a:chOff x="237960" y="4237200"/>
            <a:chExt cx="1382760" cy="1388880"/>
          </a:xfrm>
        </p:grpSpPr>
        <p:pic>
          <p:nvPicPr>
            <p:cNvPr id="252" name="Oval 13" descr=""/>
            <p:cNvPicPr/>
            <p:nvPr/>
          </p:nvPicPr>
          <p:blipFill>
            <a:blip r:embed="rId2"/>
            <a:stretch/>
          </p:blipFill>
          <p:spPr>
            <a:xfrm>
              <a:off x="237960" y="4237200"/>
              <a:ext cx="1382760" cy="1388880"/>
            </a:xfrm>
            <a:prstGeom prst="rect">
              <a:avLst/>
            </a:prstGeom>
            <a:ln w="0">
              <a:noFill/>
            </a:ln>
          </p:spPr>
        </p:pic>
        <p:sp>
          <p:nvSpPr>
            <p:cNvPr id="253" name="Text Box 8"/>
            <p:cNvSpPr/>
            <p:nvPr/>
          </p:nvSpPr>
          <p:spPr>
            <a:xfrm>
              <a:off x="448920" y="4452840"/>
              <a:ext cx="959040" cy="9583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54" name="Group 9"/>
          <p:cNvGrpSpPr/>
          <p:nvPr/>
        </p:nvGrpSpPr>
        <p:grpSpPr>
          <a:xfrm>
            <a:off x="216000" y="4195800"/>
            <a:ext cx="1427040" cy="1431720"/>
            <a:chOff x="216000" y="4195800"/>
            <a:chExt cx="1427040" cy="1431720"/>
          </a:xfrm>
        </p:grpSpPr>
        <p:sp>
          <p:nvSpPr>
            <p:cNvPr id="255" name="Oval 15"/>
            <p:cNvSpPr/>
            <p:nvPr/>
          </p:nvSpPr>
          <p:spPr>
            <a:xfrm>
              <a:off x="700560" y="4224240"/>
              <a:ext cx="377280" cy="381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56" name="Picture 16" descr="그림1"/>
            <p:cNvPicPr/>
            <p:nvPr/>
          </p:nvPicPr>
          <p:blipFill>
            <a:blip r:embed="rId3"/>
            <a:stretch/>
          </p:blipFill>
          <p:spPr>
            <a:xfrm>
              <a:off x="216000" y="4195800"/>
              <a:ext cx="1427040" cy="1431720"/>
            </a:xfrm>
            <a:prstGeom prst="rect">
              <a:avLst/>
            </a:prstGeom>
            <a:ln w="0">
              <a:noFill/>
            </a:ln>
          </p:spPr>
        </p:pic>
      </p:grpSp>
      <p:grpSp>
        <p:nvGrpSpPr>
          <p:cNvPr id="257" name="Group 12"/>
          <p:cNvGrpSpPr/>
          <p:nvPr/>
        </p:nvGrpSpPr>
        <p:grpSpPr>
          <a:xfrm>
            <a:off x="338400" y="4651200"/>
            <a:ext cx="1181880" cy="605160"/>
            <a:chOff x="338400" y="4651200"/>
            <a:chExt cx="1181880" cy="605160"/>
          </a:xfrm>
        </p:grpSpPr>
        <p:sp>
          <p:nvSpPr>
            <p:cNvPr id="258" name="Text Box 18"/>
            <p:cNvSpPr/>
            <p:nvPr/>
          </p:nvSpPr>
          <p:spPr>
            <a:xfrm>
              <a:off x="425160" y="465120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59" name="Text Box 19"/>
            <p:cNvSpPr/>
            <p:nvPr/>
          </p:nvSpPr>
          <p:spPr>
            <a:xfrm>
              <a:off x="338400" y="501012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60" name="Line 20"/>
          <p:cNvSpPr/>
          <p:nvPr/>
        </p:nvSpPr>
        <p:spPr>
          <a:xfrm flipV="1">
            <a:off x="928800" y="3498840"/>
            <a:ext cx="0" cy="71928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61" name="Text Box 21"/>
          <p:cNvSpPr/>
          <p:nvPr/>
        </p:nvSpPr>
        <p:spPr>
          <a:xfrm>
            <a:off x="136440" y="309564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62" name="Line 24"/>
          <p:cNvSpPr/>
          <p:nvPr/>
        </p:nvSpPr>
        <p:spPr>
          <a:xfrm flipV="1">
            <a:off x="2136600" y="2778120"/>
            <a:ext cx="0" cy="71928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63" name="Oval 27"/>
          <p:cNvSpPr/>
          <p:nvPr/>
        </p:nvSpPr>
        <p:spPr>
          <a:xfrm>
            <a:off x="1332000" y="4268880"/>
            <a:ext cx="1611360" cy="11649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64" name="Group 19"/>
          <p:cNvGrpSpPr/>
          <p:nvPr/>
        </p:nvGrpSpPr>
        <p:grpSpPr>
          <a:xfrm>
            <a:off x="1395360" y="3524400"/>
            <a:ext cx="1481040" cy="1485720"/>
            <a:chOff x="1395360" y="3524400"/>
            <a:chExt cx="1481040" cy="1485720"/>
          </a:xfrm>
        </p:grpSpPr>
        <p:pic>
          <p:nvPicPr>
            <p:cNvPr id="265" name="Oval 29" descr=""/>
            <p:cNvPicPr/>
            <p:nvPr/>
          </p:nvPicPr>
          <p:blipFill>
            <a:blip r:embed="rId4"/>
            <a:stretch/>
          </p:blipFill>
          <p:spPr>
            <a:xfrm>
              <a:off x="1395360" y="3524400"/>
              <a:ext cx="1481040" cy="1485720"/>
            </a:xfrm>
            <a:prstGeom prst="rect">
              <a:avLst/>
            </a:prstGeom>
            <a:ln w="0">
              <a:noFill/>
            </a:ln>
          </p:spPr>
        </p:pic>
        <p:sp>
          <p:nvSpPr>
            <p:cNvPr id="266" name="Text Box 21"/>
            <p:cNvSpPr/>
            <p:nvPr/>
          </p:nvSpPr>
          <p:spPr>
            <a:xfrm>
              <a:off x="1622520" y="3752640"/>
              <a:ext cx="1028520" cy="1029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67" name="Group 22"/>
          <p:cNvGrpSpPr/>
          <p:nvPr/>
        </p:nvGrpSpPr>
        <p:grpSpPr>
          <a:xfrm>
            <a:off x="1366920" y="3498840"/>
            <a:ext cx="1533600" cy="1539720"/>
            <a:chOff x="1366920" y="3498840"/>
            <a:chExt cx="1533600" cy="1539720"/>
          </a:xfrm>
        </p:grpSpPr>
        <p:sp>
          <p:nvSpPr>
            <p:cNvPr id="268" name="Oval 31"/>
            <p:cNvSpPr/>
            <p:nvPr/>
          </p:nvSpPr>
          <p:spPr>
            <a:xfrm>
              <a:off x="1901520" y="3529440"/>
              <a:ext cx="405360" cy="40968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69" name="Picture 32" descr="그림1"/>
            <p:cNvPicPr/>
            <p:nvPr/>
          </p:nvPicPr>
          <p:blipFill>
            <a:blip r:embed="rId5"/>
            <a:stretch/>
          </p:blipFill>
          <p:spPr>
            <a:xfrm>
              <a:off x="1366920" y="3498840"/>
              <a:ext cx="1533600" cy="1539720"/>
            </a:xfrm>
            <a:prstGeom prst="rect">
              <a:avLst/>
            </a:prstGeom>
            <a:ln w="0">
              <a:noFill/>
            </a:ln>
          </p:spPr>
        </p:pic>
      </p:grpSp>
      <p:grpSp>
        <p:nvGrpSpPr>
          <p:cNvPr id="270" name="Group 25"/>
          <p:cNvGrpSpPr/>
          <p:nvPr/>
        </p:nvGrpSpPr>
        <p:grpSpPr>
          <a:xfrm>
            <a:off x="1551240" y="4002120"/>
            <a:ext cx="1230840" cy="605160"/>
            <a:chOff x="1551240" y="4002120"/>
            <a:chExt cx="1230840" cy="605160"/>
          </a:xfrm>
        </p:grpSpPr>
        <p:sp>
          <p:nvSpPr>
            <p:cNvPr id="271" name="Text Box 34"/>
            <p:cNvSpPr/>
            <p:nvPr/>
          </p:nvSpPr>
          <p:spPr>
            <a:xfrm>
              <a:off x="1632960" y="4002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72" name="Text Box 35"/>
            <p:cNvSpPr/>
            <p:nvPr/>
          </p:nvSpPr>
          <p:spPr>
            <a:xfrm>
              <a:off x="1551240" y="4361040"/>
              <a:ext cx="123084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sNTENTS</a:t>
              </a:r>
              <a:endParaRPr b="0" lang="en-US" sz="1000" spc="-1" strike="noStrike">
                <a:solidFill>
                  <a:srgbClr val="000000"/>
                </a:solidFill>
                <a:latin typeface="Gulim"/>
              </a:endParaRPr>
            </a:p>
          </p:txBody>
        </p:sp>
      </p:grpSp>
      <p:sp>
        <p:nvSpPr>
          <p:cNvPr id="273" name="Text Box 36"/>
          <p:cNvSpPr/>
          <p:nvPr/>
        </p:nvSpPr>
        <p:spPr>
          <a:xfrm>
            <a:off x="1344600" y="233028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74" name="Oval 41"/>
          <p:cNvSpPr/>
          <p:nvPr/>
        </p:nvSpPr>
        <p:spPr>
          <a:xfrm>
            <a:off x="2627280" y="3776760"/>
            <a:ext cx="1792440" cy="129528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75" name="Group 30"/>
          <p:cNvGrpSpPr/>
          <p:nvPr/>
        </p:nvGrpSpPr>
        <p:grpSpPr>
          <a:xfrm>
            <a:off x="2693880" y="2951280"/>
            <a:ext cx="1652760" cy="1650960"/>
            <a:chOff x="2693880" y="2951280"/>
            <a:chExt cx="1652760" cy="1650960"/>
          </a:xfrm>
        </p:grpSpPr>
        <p:pic>
          <p:nvPicPr>
            <p:cNvPr id="276" name="Oval 43" descr=""/>
            <p:cNvPicPr/>
            <p:nvPr/>
          </p:nvPicPr>
          <p:blipFill>
            <a:blip r:embed="rId6"/>
            <a:stretch/>
          </p:blipFill>
          <p:spPr>
            <a:xfrm>
              <a:off x="2693880" y="2951280"/>
              <a:ext cx="1652760" cy="1650960"/>
            </a:xfrm>
            <a:prstGeom prst="rect">
              <a:avLst/>
            </a:prstGeom>
            <a:ln w="0">
              <a:noFill/>
            </a:ln>
          </p:spPr>
        </p:pic>
        <p:sp>
          <p:nvSpPr>
            <p:cNvPr id="277" name="Text Box 32"/>
            <p:cNvSpPr/>
            <p:nvPr/>
          </p:nvSpPr>
          <p:spPr>
            <a:xfrm>
              <a:off x="2949480" y="3203640"/>
              <a:ext cx="1146240" cy="1144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78" name="Group 33"/>
          <p:cNvGrpSpPr/>
          <p:nvPr/>
        </p:nvGrpSpPr>
        <p:grpSpPr>
          <a:xfrm>
            <a:off x="2664000" y="2916360"/>
            <a:ext cx="1704960" cy="1708200"/>
            <a:chOff x="2664000" y="2916360"/>
            <a:chExt cx="1704960" cy="1708200"/>
          </a:xfrm>
        </p:grpSpPr>
        <p:sp>
          <p:nvSpPr>
            <p:cNvPr id="279" name="Oval 45"/>
            <p:cNvSpPr/>
            <p:nvPr/>
          </p:nvSpPr>
          <p:spPr>
            <a:xfrm>
              <a:off x="3270600" y="2943720"/>
              <a:ext cx="451080" cy="4550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80" name="Picture 46" descr="그림1"/>
            <p:cNvPicPr/>
            <p:nvPr/>
          </p:nvPicPr>
          <p:blipFill>
            <a:blip r:embed="rId7"/>
            <a:stretch/>
          </p:blipFill>
          <p:spPr>
            <a:xfrm>
              <a:off x="2664000" y="2916360"/>
              <a:ext cx="1704960" cy="1708200"/>
            </a:xfrm>
            <a:prstGeom prst="rect">
              <a:avLst/>
            </a:prstGeom>
            <a:ln w="0">
              <a:noFill/>
            </a:ln>
          </p:spPr>
        </p:pic>
        <p:sp>
          <p:nvSpPr>
            <p:cNvPr id="281" name="Text Box 48"/>
            <p:cNvSpPr/>
            <p:nvPr/>
          </p:nvSpPr>
          <p:spPr>
            <a:xfrm>
              <a:off x="3019320" y="3543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82" name="Text Box 49"/>
            <p:cNvSpPr/>
            <p:nvPr/>
          </p:nvSpPr>
          <p:spPr>
            <a:xfrm>
              <a:off x="2932200" y="3901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sp>
        <p:nvSpPr>
          <p:cNvPr id="283" name="Line 50"/>
          <p:cNvSpPr/>
          <p:nvPr/>
        </p:nvSpPr>
        <p:spPr>
          <a:xfrm flipV="1">
            <a:off x="3522600" y="2184120"/>
            <a:ext cx="0" cy="71892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284" name="Text Box 51"/>
          <p:cNvSpPr/>
          <p:nvPr/>
        </p:nvSpPr>
        <p:spPr>
          <a:xfrm>
            <a:off x="2730600" y="1770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85" name="Line 54"/>
          <p:cNvSpPr/>
          <p:nvPr/>
        </p:nvSpPr>
        <p:spPr>
          <a:xfrm flipV="1">
            <a:off x="5081760" y="1698480"/>
            <a:ext cx="0" cy="719280"/>
          </a:xfrm>
          <a:prstGeom prst="line">
            <a:avLst/>
          </a:prstGeom>
          <a:ln w="9360">
            <a:solidFill>
              <a:srgbClr val="0c3d19"/>
            </a:solidFill>
            <a:prstDash val="dash"/>
            <a:miter/>
            <a:tail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286" name="Group 41"/>
          <p:cNvGrpSpPr/>
          <p:nvPr/>
        </p:nvGrpSpPr>
        <p:grpSpPr>
          <a:xfrm>
            <a:off x="4067280" y="2421000"/>
            <a:ext cx="2028240" cy="2423160"/>
            <a:chOff x="4067280" y="2421000"/>
            <a:chExt cx="2028240" cy="2423160"/>
          </a:xfrm>
        </p:grpSpPr>
        <p:grpSp>
          <p:nvGrpSpPr>
            <p:cNvPr id="287" name="Group 42"/>
            <p:cNvGrpSpPr/>
            <p:nvPr/>
          </p:nvGrpSpPr>
          <p:grpSpPr>
            <a:xfrm>
              <a:off x="4067280" y="2421000"/>
              <a:ext cx="2028240" cy="2423160"/>
              <a:chOff x="4067280" y="2421000"/>
              <a:chExt cx="2028240" cy="2423160"/>
            </a:xfrm>
          </p:grpSpPr>
          <p:sp>
            <p:nvSpPr>
              <p:cNvPr id="288" name="Oval 57"/>
              <p:cNvSpPr/>
              <p:nvPr/>
            </p:nvSpPr>
            <p:spPr>
              <a:xfrm>
                <a:off x="4067280" y="3378600"/>
                <a:ext cx="2028240" cy="1465560"/>
              </a:xfrm>
              <a:prstGeom prst="ellipse">
                <a:avLst/>
              </a:prstGeom>
              <a:gradFill rotWithShape="0">
                <a:gsLst>
                  <a:gs pos="0">
                    <a:srgbClr val="000000">
                      <a:alpha val="15294"/>
                    </a:srgbClr>
                  </a:gs>
                  <a:gs pos="100000">
                    <a:srgbClr val="6c6c6c">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89" name="Group 44"/>
              <p:cNvGrpSpPr/>
              <p:nvPr/>
            </p:nvGrpSpPr>
            <p:grpSpPr>
              <a:xfrm>
                <a:off x="4145760" y="2445480"/>
                <a:ext cx="1864080" cy="1865880"/>
                <a:chOff x="4145760" y="2445480"/>
                <a:chExt cx="1864080" cy="1865880"/>
              </a:xfrm>
            </p:grpSpPr>
            <p:pic>
              <p:nvPicPr>
                <p:cNvPr id="290" name="Oval 58" descr=""/>
                <p:cNvPicPr/>
                <p:nvPr/>
              </p:nvPicPr>
              <p:blipFill>
                <a:blip r:embed="rId8"/>
                <a:stretch/>
              </p:blipFill>
              <p:spPr>
                <a:xfrm>
                  <a:off x="4145760" y="2445480"/>
                  <a:ext cx="1864080" cy="1865880"/>
                </a:xfrm>
                <a:prstGeom prst="rect">
                  <a:avLst/>
                </a:prstGeom>
                <a:ln w="0">
                  <a:noFill/>
                </a:ln>
              </p:spPr>
            </p:pic>
            <p:sp>
              <p:nvSpPr>
                <p:cNvPr id="291" name="Text Box 46"/>
                <p:cNvSpPr/>
                <p:nvPr/>
              </p:nvSpPr>
              <p:spPr>
                <a:xfrm>
                  <a:off x="4431960" y="2729880"/>
                  <a:ext cx="1296720" cy="1297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292" name="Group 47"/>
              <p:cNvGrpSpPr/>
              <p:nvPr/>
            </p:nvGrpSpPr>
            <p:grpSpPr>
              <a:xfrm>
                <a:off x="4140720" y="2421000"/>
                <a:ext cx="1932480" cy="1934640"/>
                <a:chOff x="4140720" y="2421000"/>
                <a:chExt cx="1932480" cy="1934640"/>
              </a:xfrm>
            </p:grpSpPr>
            <p:sp>
              <p:nvSpPr>
                <p:cNvPr id="293" name="Oval 60"/>
                <p:cNvSpPr/>
                <p:nvPr/>
              </p:nvSpPr>
              <p:spPr>
                <a:xfrm>
                  <a:off x="4775040" y="2453760"/>
                  <a:ext cx="510840" cy="516240"/>
                </a:xfrm>
                <a:prstGeom prst="ellipse">
                  <a:avLst/>
                </a:prstGeom>
                <a:gradFill rotWithShape="0">
                  <a:gsLst>
                    <a:gs pos="0">
                      <a:srgbClr val="ffffff"/>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pic>
              <p:nvPicPr>
                <p:cNvPr id="294" name="Picture 61" descr="그림1"/>
                <p:cNvPicPr/>
                <p:nvPr/>
              </p:nvPicPr>
              <p:blipFill>
                <a:blip r:embed="rId9"/>
                <a:stretch/>
              </p:blipFill>
              <p:spPr>
                <a:xfrm>
                  <a:off x="4140720" y="2421000"/>
                  <a:ext cx="1932480" cy="1934640"/>
                </a:xfrm>
                <a:prstGeom prst="rect">
                  <a:avLst/>
                </a:prstGeom>
                <a:ln w="0">
                  <a:noFill/>
                </a:ln>
              </p:spPr>
            </p:pic>
          </p:grpSp>
        </p:grpSp>
        <p:grpSp>
          <p:nvGrpSpPr>
            <p:cNvPr id="295" name="Group 50"/>
            <p:cNvGrpSpPr/>
            <p:nvPr/>
          </p:nvGrpSpPr>
          <p:grpSpPr>
            <a:xfrm>
              <a:off x="4491000" y="3111120"/>
              <a:ext cx="1181880" cy="604800"/>
              <a:chOff x="4491000" y="3111120"/>
              <a:chExt cx="1181880" cy="604800"/>
            </a:xfrm>
          </p:grpSpPr>
          <p:sp>
            <p:nvSpPr>
              <p:cNvPr id="296" name="Text Box 63"/>
              <p:cNvSpPr/>
              <p:nvPr/>
            </p:nvSpPr>
            <p:spPr>
              <a:xfrm>
                <a:off x="4577400" y="3111120"/>
                <a:ext cx="10083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EXT</a:t>
                </a:r>
                <a:endParaRPr b="0" lang="en-US" sz="2400" spc="-1" strike="noStrike">
                  <a:solidFill>
                    <a:srgbClr val="000000"/>
                  </a:solidFill>
                  <a:latin typeface="Gulim"/>
                </a:endParaRPr>
              </a:p>
            </p:txBody>
          </p:sp>
          <p:sp>
            <p:nvSpPr>
              <p:cNvPr id="297" name="Text Box 64"/>
              <p:cNvSpPr/>
              <p:nvPr/>
            </p:nvSpPr>
            <p:spPr>
              <a:xfrm>
                <a:off x="4491000" y="3469680"/>
                <a:ext cx="1181880" cy="246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Times New Roman"/>
                  </a:rPr>
                  <a:t>ADD CONTENTS</a:t>
                </a:r>
                <a:endParaRPr b="0" lang="en-US" sz="1000" spc="-1" strike="noStrike">
                  <a:solidFill>
                    <a:srgbClr val="000000"/>
                  </a:solidFill>
                  <a:latin typeface="Gulim"/>
                </a:endParaRPr>
              </a:p>
            </p:txBody>
          </p:sp>
        </p:grpSp>
      </p:grpSp>
      <p:sp>
        <p:nvSpPr>
          <p:cNvPr id="298" name="Text Box 65"/>
          <p:cNvSpPr/>
          <p:nvPr/>
        </p:nvSpPr>
        <p:spPr>
          <a:xfrm>
            <a:off x="4289400" y="1338120"/>
            <a:ext cx="15872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03622"/>
                </a:solidFill>
                <a:latin typeface="Times New Roman"/>
              </a:rPr>
              <a:t>ADD CONTENTS</a:t>
            </a:r>
            <a:endParaRPr b="0" lang="en-US" sz="1400" spc="-1" strike="noStrike">
              <a:solidFill>
                <a:srgbClr val="000000"/>
              </a:solidFill>
              <a:latin typeface="Gulim"/>
            </a:endParaRPr>
          </a:p>
        </p:txBody>
      </p:sp>
      <p:sp>
        <p:nvSpPr>
          <p:cNvPr id="299"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00" name="Group 2"/>
          <p:cNvGrpSpPr/>
          <p:nvPr/>
        </p:nvGrpSpPr>
        <p:grpSpPr>
          <a:xfrm>
            <a:off x="2627280" y="1773360"/>
            <a:ext cx="5602320" cy="914400"/>
            <a:chOff x="2627280" y="1773360"/>
            <a:chExt cx="5602320" cy="914400"/>
          </a:xfrm>
        </p:grpSpPr>
        <p:pic>
          <p:nvPicPr>
            <p:cNvPr id="301" name="Rectangle 103" descr=""/>
            <p:cNvPicPr/>
            <p:nvPr/>
          </p:nvPicPr>
          <p:blipFill>
            <a:blip r:embed="rId1"/>
            <a:stretch/>
          </p:blipFill>
          <p:spPr>
            <a:xfrm>
              <a:off x="2627280" y="1773360"/>
              <a:ext cx="5602320" cy="914400"/>
            </a:xfrm>
            <a:prstGeom prst="rect">
              <a:avLst/>
            </a:prstGeom>
            <a:ln w="0">
              <a:noFill/>
            </a:ln>
          </p:spPr>
        </p:pic>
        <p:sp>
          <p:nvSpPr>
            <p:cNvPr id="302" name="Text Box 4"/>
            <p:cNvSpPr/>
            <p:nvPr/>
          </p:nvSpPr>
          <p:spPr>
            <a:xfrm rot="10800000">
              <a:off x="2632680" y="177840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03" name="타원 21"/>
          <p:cNvSpPr/>
          <p:nvPr/>
        </p:nvSpPr>
        <p:spPr>
          <a:xfrm>
            <a:off x="500040" y="5286240"/>
            <a:ext cx="4857840" cy="1357560"/>
          </a:xfrm>
          <a:prstGeom prst="ellipse">
            <a:avLst/>
          </a:prstGeom>
          <a:gradFill rotWithShape="0">
            <a:gsLst>
              <a:gs pos="0">
                <a:srgbClr val="000000"/>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04" name="Group 6"/>
          <p:cNvGrpSpPr/>
          <p:nvPr/>
        </p:nvGrpSpPr>
        <p:grpSpPr>
          <a:xfrm>
            <a:off x="2657520" y="2990880"/>
            <a:ext cx="5602320" cy="914400"/>
            <a:chOff x="2657520" y="2990880"/>
            <a:chExt cx="5602320" cy="914400"/>
          </a:xfrm>
        </p:grpSpPr>
        <p:pic>
          <p:nvPicPr>
            <p:cNvPr id="305" name="Rectangle 103" descr=""/>
            <p:cNvPicPr/>
            <p:nvPr/>
          </p:nvPicPr>
          <p:blipFill>
            <a:blip r:embed="rId2"/>
            <a:stretch/>
          </p:blipFill>
          <p:spPr>
            <a:xfrm>
              <a:off x="2657520" y="2990880"/>
              <a:ext cx="5602320" cy="914400"/>
            </a:xfrm>
            <a:prstGeom prst="rect">
              <a:avLst/>
            </a:prstGeom>
            <a:ln w="0">
              <a:noFill/>
            </a:ln>
          </p:spPr>
        </p:pic>
        <p:sp>
          <p:nvSpPr>
            <p:cNvPr id="306" name="Text Box 8"/>
            <p:cNvSpPr/>
            <p:nvPr/>
          </p:nvSpPr>
          <p:spPr>
            <a:xfrm rot="10800000">
              <a:off x="2662560" y="2994480"/>
              <a:ext cx="5592960" cy="90036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07" name="Group 9"/>
          <p:cNvGrpSpPr/>
          <p:nvPr/>
        </p:nvGrpSpPr>
        <p:grpSpPr>
          <a:xfrm>
            <a:off x="2657520" y="4216320"/>
            <a:ext cx="5602320" cy="908280"/>
            <a:chOff x="2657520" y="4216320"/>
            <a:chExt cx="5602320" cy="908280"/>
          </a:xfrm>
        </p:grpSpPr>
        <p:pic>
          <p:nvPicPr>
            <p:cNvPr id="308" name="Rectangle 104" descr=""/>
            <p:cNvPicPr/>
            <p:nvPr/>
          </p:nvPicPr>
          <p:blipFill>
            <a:blip r:embed="rId3"/>
            <a:stretch/>
          </p:blipFill>
          <p:spPr>
            <a:xfrm>
              <a:off x="2657520" y="4216320"/>
              <a:ext cx="5602320" cy="908280"/>
            </a:xfrm>
            <a:prstGeom prst="rect">
              <a:avLst/>
            </a:prstGeom>
            <a:ln w="0">
              <a:noFill/>
            </a:ln>
          </p:spPr>
        </p:pic>
        <p:sp>
          <p:nvSpPr>
            <p:cNvPr id="309" name="Text Box 11"/>
            <p:cNvSpPr/>
            <p:nvPr/>
          </p:nvSpPr>
          <p:spPr>
            <a:xfrm rot="10800000">
              <a:off x="2662560" y="4219200"/>
              <a:ext cx="5592960" cy="900000"/>
            </a:xfrm>
            <a:prstGeom prst="rect">
              <a:avLst/>
            </a:prstGeom>
            <a:noFill/>
            <a:ln w="0">
              <a:noFill/>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grpSp>
        <p:nvGrpSpPr>
          <p:cNvPr id="310" name="Group 12"/>
          <p:cNvGrpSpPr/>
          <p:nvPr/>
        </p:nvGrpSpPr>
        <p:grpSpPr>
          <a:xfrm>
            <a:off x="755640" y="3860640"/>
            <a:ext cx="3673080" cy="1726920"/>
            <a:chOff x="755640" y="3860640"/>
            <a:chExt cx="3673080" cy="1726920"/>
          </a:xfrm>
        </p:grpSpPr>
        <p:sp>
          <p:nvSpPr>
            <p:cNvPr id="311" name="Freeform 106"/>
            <p:cNvSpPr/>
            <p:nvPr/>
          </p:nvSpPr>
          <p:spPr>
            <a:xfrm>
              <a:off x="755640" y="3860640"/>
              <a:ext cx="3673080" cy="1726920"/>
            </a:xfrm>
            <a:custGeom>
              <a:avLst/>
              <a:gdLst>
                <a:gd name="textAreaLeft" fmla="*/ 0 w 3673080"/>
                <a:gd name="textAreaRight" fmla="*/ 3673440 w 3673080"/>
                <a:gd name="textAreaTop" fmla="*/ 0 h 1726920"/>
                <a:gd name="textAreaBottom" fmla="*/ 1727280 h 1726920"/>
              </a:gdLst>
              <a:ahLst/>
              <a:rect l="textAreaLeft" t="textAreaTop" r="textAreaRight" b="textAreaBottom"/>
              <a:pathLst>
                <a:path w="2304" h="1080">
                  <a:moveTo>
                    <a:pt x="2016" y="216"/>
                  </a:moveTo>
                  <a:lnTo>
                    <a:pt x="2304" y="792"/>
                  </a:lnTo>
                  <a:lnTo>
                    <a:pt x="2302" y="806"/>
                  </a:lnTo>
                  <a:lnTo>
                    <a:pt x="2298" y="822"/>
                  </a:lnTo>
                  <a:lnTo>
                    <a:pt x="2290" y="836"/>
                  </a:lnTo>
                  <a:lnTo>
                    <a:pt x="2280" y="850"/>
                  </a:lnTo>
                  <a:lnTo>
                    <a:pt x="2268" y="864"/>
                  </a:lnTo>
                  <a:lnTo>
                    <a:pt x="2252" y="878"/>
                  </a:lnTo>
                  <a:lnTo>
                    <a:pt x="2234" y="892"/>
                  </a:lnTo>
                  <a:lnTo>
                    <a:pt x="2214" y="904"/>
                  </a:lnTo>
                  <a:lnTo>
                    <a:pt x="2190" y="916"/>
                  </a:lnTo>
                  <a:lnTo>
                    <a:pt x="2164" y="930"/>
                  </a:lnTo>
                  <a:lnTo>
                    <a:pt x="2108" y="954"/>
                  </a:lnTo>
                  <a:lnTo>
                    <a:pt x="2040" y="976"/>
                  </a:lnTo>
                  <a:lnTo>
                    <a:pt x="1966" y="996"/>
                  </a:lnTo>
                  <a:lnTo>
                    <a:pt x="1884" y="1014"/>
                  </a:lnTo>
                  <a:lnTo>
                    <a:pt x="1796" y="1030"/>
                  </a:lnTo>
                  <a:lnTo>
                    <a:pt x="1702" y="1046"/>
                  </a:lnTo>
                  <a:lnTo>
                    <a:pt x="1600" y="1058"/>
                  </a:lnTo>
                  <a:lnTo>
                    <a:pt x="1494" y="1068"/>
                  </a:lnTo>
                  <a:lnTo>
                    <a:pt x="1384" y="1074"/>
                  </a:lnTo>
                  <a:lnTo>
                    <a:pt x="1270" y="1078"/>
                  </a:lnTo>
                  <a:lnTo>
                    <a:pt x="1152" y="1080"/>
                  </a:lnTo>
                  <a:lnTo>
                    <a:pt x="1034" y="1078"/>
                  </a:lnTo>
                  <a:lnTo>
                    <a:pt x="920" y="1074"/>
                  </a:lnTo>
                  <a:lnTo>
                    <a:pt x="810" y="1068"/>
                  </a:lnTo>
                  <a:lnTo>
                    <a:pt x="704" y="1058"/>
                  </a:lnTo>
                  <a:lnTo>
                    <a:pt x="602" y="1046"/>
                  </a:lnTo>
                  <a:lnTo>
                    <a:pt x="508" y="1030"/>
                  </a:lnTo>
                  <a:lnTo>
                    <a:pt x="420" y="1014"/>
                  </a:lnTo>
                  <a:lnTo>
                    <a:pt x="338" y="996"/>
                  </a:lnTo>
                  <a:lnTo>
                    <a:pt x="264" y="976"/>
                  </a:lnTo>
                  <a:lnTo>
                    <a:pt x="196" y="954"/>
                  </a:lnTo>
                  <a:lnTo>
                    <a:pt x="140" y="930"/>
                  </a:lnTo>
                  <a:lnTo>
                    <a:pt x="114" y="916"/>
                  </a:lnTo>
                  <a:lnTo>
                    <a:pt x="90" y="904"/>
                  </a:lnTo>
                  <a:lnTo>
                    <a:pt x="70" y="892"/>
                  </a:lnTo>
                  <a:lnTo>
                    <a:pt x="52" y="878"/>
                  </a:lnTo>
                  <a:lnTo>
                    <a:pt x="36" y="864"/>
                  </a:lnTo>
                  <a:lnTo>
                    <a:pt x="24" y="850"/>
                  </a:lnTo>
                  <a:lnTo>
                    <a:pt x="14" y="836"/>
                  </a:lnTo>
                  <a:lnTo>
                    <a:pt x="6" y="822"/>
                  </a:lnTo>
                  <a:lnTo>
                    <a:pt x="2" y="806"/>
                  </a:lnTo>
                  <a:lnTo>
                    <a:pt x="0" y="792"/>
                  </a:lnTo>
                  <a:lnTo>
                    <a:pt x="288" y="216"/>
                  </a:lnTo>
                  <a:lnTo>
                    <a:pt x="290" y="204"/>
                  </a:lnTo>
                  <a:lnTo>
                    <a:pt x="292" y="194"/>
                  </a:lnTo>
                  <a:lnTo>
                    <a:pt x="298" y="184"/>
                  </a:lnTo>
                  <a:lnTo>
                    <a:pt x="306" y="172"/>
                  </a:lnTo>
                  <a:lnTo>
                    <a:pt x="316" y="162"/>
                  </a:lnTo>
                  <a:lnTo>
                    <a:pt x="326" y="152"/>
                  </a:lnTo>
                  <a:lnTo>
                    <a:pt x="340" y="142"/>
                  </a:lnTo>
                  <a:lnTo>
                    <a:pt x="356" y="132"/>
                  </a:lnTo>
                  <a:lnTo>
                    <a:pt x="392" y="114"/>
                  </a:lnTo>
                  <a:lnTo>
                    <a:pt x="436" y="96"/>
                  </a:lnTo>
                  <a:lnTo>
                    <a:pt x="486" y="78"/>
                  </a:lnTo>
                  <a:lnTo>
                    <a:pt x="542" y="64"/>
                  </a:lnTo>
                  <a:lnTo>
                    <a:pt x="602" y="50"/>
                  </a:lnTo>
                  <a:lnTo>
                    <a:pt x="668" y="36"/>
                  </a:lnTo>
                  <a:lnTo>
                    <a:pt x="740" y="26"/>
                  </a:lnTo>
                  <a:lnTo>
                    <a:pt x="816" y="16"/>
                  </a:lnTo>
                  <a:lnTo>
                    <a:pt x="896" y="10"/>
                  </a:lnTo>
                  <a:lnTo>
                    <a:pt x="978" y="4"/>
                  </a:lnTo>
                  <a:lnTo>
                    <a:pt x="1064" y="2"/>
                  </a:lnTo>
                  <a:lnTo>
                    <a:pt x="1152" y="0"/>
                  </a:lnTo>
                  <a:lnTo>
                    <a:pt x="1240" y="2"/>
                  </a:lnTo>
                  <a:lnTo>
                    <a:pt x="1326" y="4"/>
                  </a:lnTo>
                  <a:lnTo>
                    <a:pt x="1408" y="10"/>
                  </a:lnTo>
                  <a:lnTo>
                    <a:pt x="1488" y="16"/>
                  </a:lnTo>
                  <a:lnTo>
                    <a:pt x="1564" y="26"/>
                  </a:lnTo>
                  <a:lnTo>
                    <a:pt x="1636" y="36"/>
                  </a:lnTo>
                  <a:lnTo>
                    <a:pt x="1702" y="50"/>
                  </a:lnTo>
                  <a:lnTo>
                    <a:pt x="1762" y="64"/>
                  </a:lnTo>
                  <a:lnTo>
                    <a:pt x="1818" y="78"/>
                  </a:lnTo>
                  <a:lnTo>
                    <a:pt x="1868" y="96"/>
                  </a:lnTo>
                  <a:lnTo>
                    <a:pt x="1912" y="114"/>
                  </a:lnTo>
                  <a:lnTo>
                    <a:pt x="1948" y="132"/>
                  </a:lnTo>
                  <a:lnTo>
                    <a:pt x="1964" y="142"/>
                  </a:lnTo>
                  <a:lnTo>
                    <a:pt x="1978" y="152"/>
                  </a:lnTo>
                  <a:lnTo>
                    <a:pt x="1988" y="162"/>
                  </a:lnTo>
                  <a:lnTo>
                    <a:pt x="1998" y="172"/>
                  </a:lnTo>
                  <a:lnTo>
                    <a:pt x="2006" y="184"/>
                  </a:lnTo>
                  <a:lnTo>
                    <a:pt x="2012" y="194"/>
                  </a:lnTo>
                  <a:lnTo>
                    <a:pt x="2014" y="204"/>
                  </a:lnTo>
                  <a:lnTo>
                    <a:pt x="2016" y="216"/>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2" name="Freeform 107"/>
            <p:cNvSpPr/>
            <p:nvPr/>
          </p:nvSpPr>
          <p:spPr>
            <a:xfrm>
              <a:off x="1214640" y="3860640"/>
              <a:ext cx="2754720" cy="690480"/>
            </a:xfrm>
            <a:custGeom>
              <a:avLst/>
              <a:gdLst>
                <a:gd name="textAreaLeft" fmla="*/ 0 w 2754720"/>
                <a:gd name="textAreaRight" fmla="*/ 2755080 w 2754720"/>
                <a:gd name="textAreaTop" fmla="*/ 0 h 690480"/>
                <a:gd name="textAreaBottom" fmla="*/ 690840 h 690480"/>
              </a:gdLst>
              <a:ahLst/>
              <a:rect l="textAreaLeft" t="textAreaTop" r="textAreaRight" b="textAreaBottom"/>
              <a:pathLst>
                <a:path w="1728" h="432">
                  <a:moveTo>
                    <a:pt x="1728" y="216"/>
                  </a:moveTo>
                  <a:lnTo>
                    <a:pt x="1728" y="216"/>
                  </a:lnTo>
                  <a:lnTo>
                    <a:pt x="1726" y="228"/>
                  </a:lnTo>
                  <a:lnTo>
                    <a:pt x="1724" y="238"/>
                  </a:lnTo>
                  <a:lnTo>
                    <a:pt x="1718" y="248"/>
                  </a:lnTo>
                  <a:lnTo>
                    <a:pt x="1710" y="260"/>
                  </a:lnTo>
                  <a:lnTo>
                    <a:pt x="1700" y="270"/>
                  </a:lnTo>
                  <a:lnTo>
                    <a:pt x="1690" y="280"/>
                  </a:lnTo>
                  <a:lnTo>
                    <a:pt x="1676" y="290"/>
                  </a:lnTo>
                  <a:lnTo>
                    <a:pt x="1660" y="300"/>
                  </a:lnTo>
                  <a:lnTo>
                    <a:pt x="1624" y="318"/>
                  </a:lnTo>
                  <a:lnTo>
                    <a:pt x="1580" y="336"/>
                  </a:lnTo>
                  <a:lnTo>
                    <a:pt x="1530" y="354"/>
                  </a:lnTo>
                  <a:lnTo>
                    <a:pt x="1474" y="368"/>
                  </a:lnTo>
                  <a:lnTo>
                    <a:pt x="1414" y="382"/>
                  </a:lnTo>
                  <a:lnTo>
                    <a:pt x="1348" y="396"/>
                  </a:lnTo>
                  <a:lnTo>
                    <a:pt x="1276" y="406"/>
                  </a:lnTo>
                  <a:lnTo>
                    <a:pt x="1200" y="416"/>
                  </a:lnTo>
                  <a:lnTo>
                    <a:pt x="1120" y="422"/>
                  </a:lnTo>
                  <a:lnTo>
                    <a:pt x="1038" y="428"/>
                  </a:lnTo>
                  <a:lnTo>
                    <a:pt x="952" y="430"/>
                  </a:lnTo>
                  <a:lnTo>
                    <a:pt x="864" y="432"/>
                  </a:lnTo>
                  <a:lnTo>
                    <a:pt x="776" y="430"/>
                  </a:lnTo>
                  <a:lnTo>
                    <a:pt x="690" y="428"/>
                  </a:lnTo>
                  <a:lnTo>
                    <a:pt x="608" y="422"/>
                  </a:lnTo>
                  <a:lnTo>
                    <a:pt x="528" y="416"/>
                  </a:lnTo>
                  <a:lnTo>
                    <a:pt x="452" y="406"/>
                  </a:lnTo>
                  <a:lnTo>
                    <a:pt x="380" y="396"/>
                  </a:lnTo>
                  <a:lnTo>
                    <a:pt x="314" y="382"/>
                  </a:lnTo>
                  <a:lnTo>
                    <a:pt x="254" y="368"/>
                  </a:lnTo>
                  <a:lnTo>
                    <a:pt x="198" y="354"/>
                  </a:lnTo>
                  <a:lnTo>
                    <a:pt x="148" y="336"/>
                  </a:lnTo>
                  <a:lnTo>
                    <a:pt x="104" y="318"/>
                  </a:lnTo>
                  <a:lnTo>
                    <a:pt x="68" y="300"/>
                  </a:lnTo>
                  <a:lnTo>
                    <a:pt x="52" y="290"/>
                  </a:lnTo>
                  <a:lnTo>
                    <a:pt x="38" y="280"/>
                  </a:lnTo>
                  <a:lnTo>
                    <a:pt x="28" y="270"/>
                  </a:lnTo>
                  <a:lnTo>
                    <a:pt x="18" y="260"/>
                  </a:lnTo>
                  <a:lnTo>
                    <a:pt x="10" y="248"/>
                  </a:lnTo>
                  <a:lnTo>
                    <a:pt x="4" y="238"/>
                  </a:lnTo>
                  <a:lnTo>
                    <a:pt x="2" y="228"/>
                  </a:lnTo>
                  <a:lnTo>
                    <a:pt x="0" y="216"/>
                  </a:lnTo>
                  <a:lnTo>
                    <a:pt x="2" y="204"/>
                  </a:lnTo>
                  <a:lnTo>
                    <a:pt x="4" y="194"/>
                  </a:lnTo>
                  <a:lnTo>
                    <a:pt x="10" y="184"/>
                  </a:lnTo>
                  <a:lnTo>
                    <a:pt x="18" y="172"/>
                  </a:lnTo>
                  <a:lnTo>
                    <a:pt x="28" y="162"/>
                  </a:lnTo>
                  <a:lnTo>
                    <a:pt x="38" y="152"/>
                  </a:lnTo>
                  <a:lnTo>
                    <a:pt x="52" y="142"/>
                  </a:lnTo>
                  <a:lnTo>
                    <a:pt x="68" y="132"/>
                  </a:lnTo>
                  <a:lnTo>
                    <a:pt x="104" y="114"/>
                  </a:lnTo>
                  <a:lnTo>
                    <a:pt x="148" y="96"/>
                  </a:lnTo>
                  <a:lnTo>
                    <a:pt x="198" y="78"/>
                  </a:lnTo>
                  <a:lnTo>
                    <a:pt x="254" y="64"/>
                  </a:lnTo>
                  <a:lnTo>
                    <a:pt x="314" y="50"/>
                  </a:lnTo>
                  <a:lnTo>
                    <a:pt x="380" y="36"/>
                  </a:lnTo>
                  <a:lnTo>
                    <a:pt x="452" y="26"/>
                  </a:lnTo>
                  <a:lnTo>
                    <a:pt x="528" y="16"/>
                  </a:lnTo>
                  <a:lnTo>
                    <a:pt x="608" y="10"/>
                  </a:lnTo>
                  <a:lnTo>
                    <a:pt x="690" y="4"/>
                  </a:lnTo>
                  <a:lnTo>
                    <a:pt x="776" y="2"/>
                  </a:lnTo>
                  <a:lnTo>
                    <a:pt x="864" y="0"/>
                  </a:lnTo>
                  <a:lnTo>
                    <a:pt x="952" y="2"/>
                  </a:lnTo>
                  <a:lnTo>
                    <a:pt x="1038" y="4"/>
                  </a:lnTo>
                  <a:lnTo>
                    <a:pt x="1120" y="10"/>
                  </a:lnTo>
                  <a:lnTo>
                    <a:pt x="1200" y="16"/>
                  </a:lnTo>
                  <a:lnTo>
                    <a:pt x="1276" y="26"/>
                  </a:lnTo>
                  <a:lnTo>
                    <a:pt x="1348" y="36"/>
                  </a:lnTo>
                  <a:lnTo>
                    <a:pt x="1414" y="50"/>
                  </a:lnTo>
                  <a:lnTo>
                    <a:pt x="1474" y="64"/>
                  </a:lnTo>
                  <a:lnTo>
                    <a:pt x="1530" y="78"/>
                  </a:lnTo>
                  <a:lnTo>
                    <a:pt x="1580" y="96"/>
                  </a:lnTo>
                  <a:lnTo>
                    <a:pt x="1624" y="114"/>
                  </a:lnTo>
                  <a:lnTo>
                    <a:pt x="1660" y="132"/>
                  </a:lnTo>
                  <a:lnTo>
                    <a:pt x="1676" y="142"/>
                  </a:lnTo>
                  <a:lnTo>
                    <a:pt x="1690" y="152"/>
                  </a:lnTo>
                  <a:lnTo>
                    <a:pt x="1700" y="162"/>
                  </a:lnTo>
                  <a:lnTo>
                    <a:pt x="1710" y="172"/>
                  </a:lnTo>
                  <a:lnTo>
                    <a:pt x="1718" y="184"/>
                  </a:lnTo>
                  <a:lnTo>
                    <a:pt x="1724" y="194"/>
                  </a:lnTo>
                  <a:lnTo>
                    <a:pt x="1726" y="204"/>
                  </a:lnTo>
                  <a:lnTo>
                    <a:pt x="1728" y="216"/>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13" name="Oval 108"/>
          <p:cNvSpPr/>
          <p:nvPr/>
        </p:nvSpPr>
        <p:spPr>
          <a:xfrm>
            <a:off x="933480" y="3629160"/>
            <a:ext cx="3314520" cy="107604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14" name="Group 16"/>
          <p:cNvGrpSpPr/>
          <p:nvPr/>
        </p:nvGrpSpPr>
        <p:grpSpPr>
          <a:xfrm>
            <a:off x="1366920" y="2852640"/>
            <a:ext cx="2484360" cy="1373400"/>
            <a:chOff x="1366920" y="2852640"/>
            <a:chExt cx="2484360" cy="1373400"/>
          </a:xfrm>
        </p:grpSpPr>
        <p:sp>
          <p:nvSpPr>
            <p:cNvPr id="315" name="Freeform 110"/>
            <p:cNvSpPr/>
            <p:nvPr/>
          </p:nvSpPr>
          <p:spPr>
            <a:xfrm>
              <a:off x="1366920" y="2852640"/>
              <a:ext cx="2484360" cy="1373400"/>
            </a:xfrm>
            <a:custGeom>
              <a:avLst/>
              <a:gdLst>
                <a:gd name="textAreaLeft" fmla="*/ 0 w 2484360"/>
                <a:gd name="textAreaRight" fmla="*/ 2484720 w 2484360"/>
                <a:gd name="textAreaTop" fmla="*/ 0 h 1373400"/>
                <a:gd name="textAreaBottom" fmla="*/ 1373400 h 1373400"/>
              </a:gdLst>
              <a:ahLst/>
              <a:rect l="textAreaLeft" t="textAreaTop" r="textAreaRight" b="textAreaBottom"/>
              <a:pathLst>
                <a:path w="1728" h="936">
                  <a:moveTo>
                    <a:pt x="1440" y="144"/>
                  </a:moveTo>
                  <a:lnTo>
                    <a:pt x="1728" y="720"/>
                  </a:lnTo>
                  <a:lnTo>
                    <a:pt x="1726" y="732"/>
                  </a:lnTo>
                  <a:lnTo>
                    <a:pt x="1724" y="742"/>
                  </a:lnTo>
                  <a:lnTo>
                    <a:pt x="1718" y="752"/>
                  </a:lnTo>
                  <a:lnTo>
                    <a:pt x="1710" y="764"/>
                  </a:lnTo>
                  <a:lnTo>
                    <a:pt x="1700" y="774"/>
                  </a:lnTo>
                  <a:lnTo>
                    <a:pt x="1690" y="784"/>
                  </a:lnTo>
                  <a:lnTo>
                    <a:pt x="1676" y="794"/>
                  </a:lnTo>
                  <a:lnTo>
                    <a:pt x="1660" y="804"/>
                  </a:lnTo>
                  <a:lnTo>
                    <a:pt x="1624" y="822"/>
                  </a:lnTo>
                  <a:lnTo>
                    <a:pt x="1580" y="840"/>
                  </a:lnTo>
                  <a:lnTo>
                    <a:pt x="1530" y="858"/>
                  </a:lnTo>
                  <a:lnTo>
                    <a:pt x="1474" y="872"/>
                  </a:lnTo>
                  <a:lnTo>
                    <a:pt x="1414" y="886"/>
                  </a:lnTo>
                  <a:lnTo>
                    <a:pt x="1348" y="900"/>
                  </a:lnTo>
                  <a:lnTo>
                    <a:pt x="1276" y="910"/>
                  </a:lnTo>
                  <a:lnTo>
                    <a:pt x="1200" y="920"/>
                  </a:lnTo>
                  <a:lnTo>
                    <a:pt x="1120" y="926"/>
                  </a:lnTo>
                  <a:lnTo>
                    <a:pt x="1038" y="932"/>
                  </a:lnTo>
                  <a:lnTo>
                    <a:pt x="952" y="934"/>
                  </a:lnTo>
                  <a:lnTo>
                    <a:pt x="864" y="936"/>
                  </a:lnTo>
                  <a:lnTo>
                    <a:pt x="776" y="934"/>
                  </a:lnTo>
                  <a:lnTo>
                    <a:pt x="690" y="932"/>
                  </a:lnTo>
                  <a:lnTo>
                    <a:pt x="608" y="926"/>
                  </a:lnTo>
                  <a:lnTo>
                    <a:pt x="528" y="920"/>
                  </a:lnTo>
                  <a:lnTo>
                    <a:pt x="452" y="910"/>
                  </a:lnTo>
                  <a:lnTo>
                    <a:pt x="380" y="900"/>
                  </a:lnTo>
                  <a:lnTo>
                    <a:pt x="314" y="886"/>
                  </a:lnTo>
                  <a:lnTo>
                    <a:pt x="254" y="872"/>
                  </a:lnTo>
                  <a:lnTo>
                    <a:pt x="198" y="858"/>
                  </a:lnTo>
                  <a:lnTo>
                    <a:pt x="148" y="840"/>
                  </a:lnTo>
                  <a:lnTo>
                    <a:pt x="104" y="822"/>
                  </a:lnTo>
                  <a:lnTo>
                    <a:pt x="68" y="804"/>
                  </a:lnTo>
                  <a:lnTo>
                    <a:pt x="52" y="794"/>
                  </a:lnTo>
                  <a:lnTo>
                    <a:pt x="38" y="784"/>
                  </a:lnTo>
                  <a:lnTo>
                    <a:pt x="28" y="774"/>
                  </a:lnTo>
                  <a:lnTo>
                    <a:pt x="18" y="764"/>
                  </a:lnTo>
                  <a:lnTo>
                    <a:pt x="10" y="752"/>
                  </a:lnTo>
                  <a:lnTo>
                    <a:pt x="4" y="742"/>
                  </a:lnTo>
                  <a:lnTo>
                    <a:pt x="2" y="732"/>
                  </a:lnTo>
                  <a:lnTo>
                    <a:pt x="0" y="720"/>
                  </a:lnTo>
                  <a:lnTo>
                    <a:pt x="288" y="144"/>
                  </a:lnTo>
                  <a:lnTo>
                    <a:pt x="288" y="136"/>
                  </a:lnTo>
                  <a:lnTo>
                    <a:pt x="290" y="130"/>
                  </a:lnTo>
                  <a:lnTo>
                    <a:pt x="294" y="122"/>
                  </a:lnTo>
                  <a:lnTo>
                    <a:pt x="300" y="114"/>
                  </a:lnTo>
                  <a:lnTo>
                    <a:pt x="314" y="102"/>
                  </a:lnTo>
                  <a:lnTo>
                    <a:pt x="334" y="88"/>
                  </a:lnTo>
                  <a:lnTo>
                    <a:pt x="358" y="76"/>
                  </a:lnTo>
                  <a:lnTo>
                    <a:pt x="386" y="64"/>
                  </a:lnTo>
                  <a:lnTo>
                    <a:pt x="420" y="52"/>
                  </a:lnTo>
                  <a:lnTo>
                    <a:pt x="456" y="42"/>
                  </a:lnTo>
                  <a:lnTo>
                    <a:pt x="498" y="32"/>
                  </a:lnTo>
                  <a:lnTo>
                    <a:pt x="542" y="24"/>
                  </a:lnTo>
                  <a:lnTo>
                    <a:pt x="590" y="18"/>
                  </a:lnTo>
                  <a:lnTo>
                    <a:pt x="640" y="12"/>
                  </a:lnTo>
                  <a:lnTo>
                    <a:pt x="692" y="6"/>
                  </a:lnTo>
                  <a:lnTo>
                    <a:pt x="748" y="2"/>
                  </a:lnTo>
                  <a:lnTo>
                    <a:pt x="806" y="0"/>
                  </a:lnTo>
                  <a:lnTo>
                    <a:pt x="864" y="0"/>
                  </a:lnTo>
                  <a:lnTo>
                    <a:pt x="922" y="0"/>
                  </a:lnTo>
                  <a:lnTo>
                    <a:pt x="980" y="2"/>
                  </a:lnTo>
                  <a:lnTo>
                    <a:pt x="1036" y="6"/>
                  </a:lnTo>
                  <a:lnTo>
                    <a:pt x="1088" y="12"/>
                  </a:lnTo>
                  <a:lnTo>
                    <a:pt x="1138" y="18"/>
                  </a:lnTo>
                  <a:lnTo>
                    <a:pt x="1186" y="24"/>
                  </a:lnTo>
                  <a:lnTo>
                    <a:pt x="1230" y="32"/>
                  </a:lnTo>
                  <a:lnTo>
                    <a:pt x="1272" y="42"/>
                  </a:lnTo>
                  <a:lnTo>
                    <a:pt x="1308" y="52"/>
                  </a:lnTo>
                  <a:lnTo>
                    <a:pt x="1342" y="64"/>
                  </a:lnTo>
                  <a:lnTo>
                    <a:pt x="1370" y="76"/>
                  </a:lnTo>
                  <a:lnTo>
                    <a:pt x="1394" y="88"/>
                  </a:lnTo>
                  <a:lnTo>
                    <a:pt x="1414" y="102"/>
                  </a:lnTo>
                  <a:lnTo>
                    <a:pt x="1428" y="114"/>
                  </a:lnTo>
                  <a:lnTo>
                    <a:pt x="1434" y="122"/>
                  </a:lnTo>
                  <a:lnTo>
                    <a:pt x="1438" y="130"/>
                  </a:lnTo>
                  <a:lnTo>
                    <a:pt x="1440" y="136"/>
                  </a:lnTo>
                  <a:lnTo>
                    <a:pt x="1440" y="144"/>
                  </a:lnTo>
                  <a:close/>
                </a:path>
              </a:pathLst>
            </a:custGeom>
            <a:gradFill rotWithShape="0">
              <a:gsLst>
                <a:gs pos="0">
                  <a:srgbClr val="ffffff"/>
                </a:gs>
                <a:gs pos="100000">
                  <a:srgbClr val="767676"/>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16" name="Freeform 111"/>
            <p:cNvSpPr/>
            <p:nvPr/>
          </p:nvSpPr>
          <p:spPr>
            <a:xfrm>
              <a:off x="1780920" y="2852640"/>
              <a:ext cx="1656000" cy="422280"/>
            </a:xfrm>
            <a:custGeom>
              <a:avLst/>
              <a:gdLst>
                <a:gd name="textAreaLeft" fmla="*/ 0 w 1656000"/>
                <a:gd name="textAreaRight" fmla="*/ 1656360 w 1656000"/>
                <a:gd name="textAreaTop" fmla="*/ 0 h 422280"/>
                <a:gd name="textAreaBottom" fmla="*/ 422640 h 422280"/>
              </a:gdLst>
              <a:ahLst/>
              <a:rect l="textAreaLeft" t="textAreaTop" r="textAreaRight" b="textAreaBottom"/>
              <a:pathLst>
                <a:path w="1152" h="288">
                  <a:moveTo>
                    <a:pt x="1152" y="144"/>
                  </a:moveTo>
                  <a:lnTo>
                    <a:pt x="1152" y="144"/>
                  </a:lnTo>
                  <a:lnTo>
                    <a:pt x="1152" y="152"/>
                  </a:lnTo>
                  <a:lnTo>
                    <a:pt x="1150" y="158"/>
                  </a:lnTo>
                  <a:lnTo>
                    <a:pt x="1146" y="166"/>
                  </a:lnTo>
                  <a:lnTo>
                    <a:pt x="1140" y="174"/>
                  </a:lnTo>
                  <a:lnTo>
                    <a:pt x="1126" y="186"/>
                  </a:lnTo>
                  <a:lnTo>
                    <a:pt x="1106" y="200"/>
                  </a:lnTo>
                  <a:lnTo>
                    <a:pt x="1082" y="212"/>
                  </a:lnTo>
                  <a:lnTo>
                    <a:pt x="1054" y="224"/>
                  </a:lnTo>
                  <a:lnTo>
                    <a:pt x="1020" y="236"/>
                  </a:lnTo>
                  <a:lnTo>
                    <a:pt x="984" y="246"/>
                  </a:lnTo>
                  <a:lnTo>
                    <a:pt x="942" y="256"/>
                  </a:lnTo>
                  <a:lnTo>
                    <a:pt x="898" y="264"/>
                  </a:lnTo>
                  <a:lnTo>
                    <a:pt x="850" y="270"/>
                  </a:lnTo>
                  <a:lnTo>
                    <a:pt x="800" y="276"/>
                  </a:lnTo>
                  <a:lnTo>
                    <a:pt x="748" y="282"/>
                  </a:lnTo>
                  <a:lnTo>
                    <a:pt x="692" y="286"/>
                  </a:lnTo>
                  <a:lnTo>
                    <a:pt x="634" y="288"/>
                  </a:lnTo>
                  <a:lnTo>
                    <a:pt x="576" y="288"/>
                  </a:lnTo>
                  <a:lnTo>
                    <a:pt x="518" y="288"/>
                  </a:lnTo>
                  <a:lnTo>
                    <a:pt x="460" y="286"/>
                  </a:lnTo>
                  <a:lnTo>
                    <a:pt x="404" y="282"/>
                  </a:lnTo>
                  <a:lnTo>
                    <a:pt x="352" y="276"/>
                  </a:lnTo>
                  <a:lnTo>
                    <a:pt x="302" y="270"/>
                  </a:lnTo>
                  <a:lnTo>
                    <a:pt x="254" y="264"/>
                  </a:lnTo>
                  <a:lnTo>
                    <a:pt x="210" y="256"/>
                  </a:lnTo>
                  <a:lnTo>
                    <a:pt x="168" y="246"/>
                  </a:lnTo>
                  <a:lnTo>
                    <a:pt x="132" y="236"/>
                  </a:lnTo>
                  <a:lnTo>
                    <a:pt x="98" y="224"/>
                  </a:lnTo>
                  <a:lnTo>
                    <a:pt x="70" y="212"/>
                  </a:lnTo>
                  <a:lnTo>
                    <a:pt x="46" y="200"/>
                  </a:lnTo>
                  <a:lnTo>
                    <a:pt x="26" y="186"/>
                  </a:lnTo>
                  <a:lnTo>
                    <a:pt x="12" y="174"/>
                  </a:lnTo>
                  <a:lnTo>
                    <a:pt x="6" y="166"/>
                  </a:lnTo>
                  <a:lnTo>
                    <a:pt x="2" y="158"/>
                  </a:lnTo>
                  <a:lnTo>
                    <a:pt x="0" y="152"/>
                  </a:lnTo>
                  <a:lnTo>
                    <a:pt x="0" y="144"/>
                  </a:lnTo>
                  <a:lnTo>
                    <a:pt x="0" y="136"/>
                  </a:lnTo>
                  <a:lnTo>
                    <a:pt x="2" y="130"/>
                  </a:lnTo>
                  <a:lnTo>
                    <a:pt x="6" y="122"/>
                  </a:lnTo>
                  <a:lnTo>
                    <a:pt x="12" y="114"/>
                  </a:lnTo>
                  <a:lnTo>
                    <a:pt x="26" y="102"/>
                  </a:lnTo>
                  <a:lnTo>
                    <a:pt x="46" y="88"/>
                  </a:lnTo>
                  <a:lnTo>
                    <a:pt x="70" y="76"/>
                  </a:lnTo>
                  <a:lnTo>
                    <a:pt x="98" y="64"/>
                  </a:lnTo>
                  <a:lnTo>
                    <a:pt x="132" y="52"/>
                  </a:lnTo>
                  <a:lnTo>
                    <a:pt x="168" y="42"/>
                  </a:lnTo>
                  <a:lnTo>
                    <a:pt x="210" y="32"/>
                  </a:lnTo>
                  <a:lnTo>
                    <a:pt x="254" y="24"/>
                  </a:lnTo>
                  <a:lnTo>
                    <a:pt x="302" y="18"/>
                  </a:lnTo>
                  <a:lnTo>
                    <a:pt x="352" y="12"/>
                  </a:lnTo>
                  <a:lnTo>
                    <a:pt x="404" y="6"/>
                  </a:lnTo>
                  <a:lnTo>
                    <a:pt x="460" y="2"/>
                  </a:lnTo>
                  <a:lnTo>
                    <a:pt x="518" y="0"/>
                  </a:lnTo>
                  <a:lnTo>
                    <a:pt x="576" y="0"/>
                  </a:lnTo>
                  <a:lnTo>
                    <a:pt x="634" y="0"/>
                  </a:lnTo>
                  <a:lnTo>
                    <a:pt x="692" y="2"/>
                  </a:lnTo>
                  <a:lnTo>
                    <a:pt x="748" y="6"/>
                  </a:lnTo>
                  <a:lnTo>
                    <a:pt x="800" y="12"/>
                  </a:lnTo>
                  <a:lnTo>
                    <a:pt x="850" y="18"/>
                  </a:lnTo>
                  <a:lnTo>
                    <a:pt x="898" y="24"/>
                  </a:lnTo>
                  <a:lnTo>
                    <a:pt x="942" y="32"/>
                  </a:lnTo>
                  <a:lnTo>
                    <a:pt x="984" y="42"/>
                  </a:lnTo>
                  <a:lnTo>
                    <a:pt x="1020" y="52"/>
                  </a:lnTo>
                  <a:lnTo>
                    <a:pt x="1054" y="64"/>
                  </a:lnTo>
                  <a:lnTo>
                    <a:pt x="1082" y="76"/>
                  </a:lnTo>
                  <a:lnTo>
                    <a:pt x="1106" y="88"/>
                  </a:lnTo>
                  <a:lnTo>
                    <a:pt x="1126" y="102"/>
                  </a:lnTo>
                  <a:lnTo>
                    <a:pt x="1140" y="114"/>
                  </a:lnTo>
                  <a:lnTo>
                    <a:pt x="1146" y="122"/>
                  </a:lnTo>
                  <a:lnTo>
                    <a:pt x="1150" y="130"/>
                  </a:lnTo>
                  <a:lnTo>
                    <a:pt x="1152" y="136"/>
                  </a:lnTo>
                  <a:lnTo>
                    <a:pt x="1152" y="144"/>
                  </a:lnTo>
                  <a:close/>
                </a:path>
              </a:pathLst>
            </a:custGeom>
            <a:gradFill rotWithShape="0">
              <a:gsLst>
                <a:gs pos="0">
                  <a:srgbClr val="767676">
                    <a:alpha val="0"/>
                  </a:srgbClr>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
        <p:nvSpPr>
          <p:cNvPr id="317" name="Oval 112"/>
          <p:cNvSpPr/>
          <p:nvPr/>
        </p:nvSpPr>
        <p:spPr>
          <a:xfrm>
            <a:off x="1473120" y="2631960"/>
            <a:ext cx="2235240" cy="727200"/>
          </a:xfrm>
          <a:prstGeom prst="ellipse">
            <a:avLst/>
          </a:prstGeom>
          <a:gradFill rotWithShape="0">
            <a:gsLst>
              <a:gs pos="0">
                <a:srgbClr val="000000">
                  <a:alpha val="50196"/>
                </a:srgbClr>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18" name="Freeform 113"/>
          <p:cNvSpPr/>
          <p:nvPr/>
        </p:nvSpPr>
        <p:spPr>
          <a:xfrm>
            <a:off x="1893960" y="1341360"/>
            <a:ext cx="1430280" cy="1657440"/>
          </a:xfrm>
          <a:custGeom>
            <a:avLst/>
            <a:gdLst>
              <a:gd name="textAreaLeft" fmla="*/ 0 w 1430280"/>
              <a:gd name="textAreaRight" fmla="*/ 1430640 w 1430280"/>
              <a:gd name="textAreaTop" fmla="*/ 0 h 1657440"/>
              <a:gd name="textAreaBottom" fmla="*/ 1657800 h 1657440"/>
            </a:gdLst>
            <a:ahLst/>
            <a:rect l="textAreaLeft" t="textAreaTop" r="textAreaRight" b="textAreaBottom"/>
            <a:pathLst>
              <a:path w="576" h="648">
                <a:moveTo>
                  <a:pt x="576" y="576"/>
                </a:moveTo>
                <a:lnTo>
                  <a:pt x="576" y="576"/>
                </a:lnTo>
                <a:lnTo>
                  <a:pt x="574" y="584"/>
                </a:lnTo>
                <a:lnTo>
                  <a:pt x="570" y="590"/>
                </a:lnTo>
                <a:lnTo>
                  <a:pt x="564" y="598"/>
                </a:lnTo>
                <a:lnTo>
                  <a:pt x="554" y="604"/>
                </a:lnTo>
                <a:lnTo>
                  <a:pt x="542" y="610"/>
                </a:lnTo>
                <a:lnTo>
                  <a:pt x="526" y="616"/>
                </a:lnTo>
                <a:lnTo>
                  <a:pt x="492" y="626"/>
                </a:lnTo>
                <a:lnTo>
                  <a:pt x="450" y="636"/>
                </a:lnTo>
                <a:lnTo>
                  <a:pt x="400" y="642"/>
                </a:lnTo>
                <a:lnTo>
                  <a:pt x="346" y="646"/>
                </a:lnTo>
                <a:lnTo>
                  <a:pt x="288" y="648"/>
                </a:lnTo>
                <a:lnTo>
                  <a:pt x="230" y="646"/>
                </a:lnTo>
                <a:lnTo>
                  <a:pt x="176" y="642"/>
                </a:lnTo>
                <a:lnTo>
                  <a:pt x="126" y="636"/>
                </a:lnTo>
                <a:lnTo>
                  <a:pt x="84" y="626"/>
                </a:lnTo>
                <a:lnTo>
                  <a:pt x="50" y="616"/>
                </a:lnTo>
                <a:lnTo>
                  <a:pt x="34" y="610"/>
                </a:lnTo>
                <a:lnTo>
                  <a:pt x="22" y="604"/>
                </a:lnTo>
                <a:lnTo>
                  <a:pt x="12" y="598"/>
                </a:lnTo>
                <a:lnTo>
                  <a:pt x="6" y="590"/>
                </a:lnTo>
                <a:lnTo>
                  <a:pt x="2" y="584"/>
                </a:lnTo>
                <a:lnTo>
                  <a:pt x="0" y="576"/>
                </a:lnTo>
                <a:lnTo>
                  <a:pt x="288" y="0"/>
                </a:lnTo>
                <a:lnTo>
                  <a:pt x="576" y="576"/>
                </a:lnTo>
                <a:close/>
              </a:path>
            </a:pathLst>
          </a:custGeom>
          <a:gradFill rotWithShape="0">
            <a:gsLst>
              <a:gs pos="0">
                <a:srgbClr val="374517"/>
              </a:gs>
              <a:gs pos="100000">
                <a:srgbClr val="9cbc55"/>
              </a:gs>
            </a:gsLst>
            <a:lin ang="0"/>
          </a:gradFill>
          <a:ln w="0">
            <a:noFill/>
          </a:ln>
          <a:effectLst>
            <a:outerShdw dist="153753" dir="2700000" blurRad="0" rotWithShape="0">
              <a:srgbClr val="000000">
                <a:alpha val="17000"/>
              </a:srgbClr>
            </a:outerShdw>
          </a:effectLst>
        </p:spPr>
        <p:style>
          <a:lnRef idx="0"/>
          <a:fillRef idx="0"/>
          <a:effectRef idx="0"/>
          <a:fontRef idx="minor"/>
        </p:style>
        <p:txBody>
          <a:bodyPr wrap="none" lIns="72000" rIns="72000" tIns="0" bIns="0" anchor="ctr">
            <a:noAutofit/>
          </a:bodyPr>
          <a:p>
            <a:endParaRPr b="0" lang="en-US" sz="1800" spc="-1" strike="noStrike">
              <a:solidFill>
                <a:srgbClr val="000000"/>
              </a:solidFill>
              <a:latin typeface="Gulim"/>
            </a:endParaRPr>
          </a:p>
        </p:txBody>
      </p:sp>
      <p:sp>
        <p:nvSpPr>
          <p:cNvPr id="319" name="Text Box 114"/>
          <p:cNvSpPr/>
          <p:nvPr/>
        </p:nvSpPr>
        <p:spPr>
          <a:xfrm>
            <a:off x="2109240" y="2398680"/>
            <a:ext cx="95040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Premium</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esign</a:t>
            </a:r>
            <a:endParaRPr b="0" lang="en-US" sz="1400" spc="-1" strike="noStrike">
              <a:solidFill>
                <a:srgbClr val="000000"/>
              </a:solidFill>
              <a:latin typeface="Gulim"/>
            </a:endParaRPr>
          </a:p>
        </p:txBody>
      </p:sp>
      <p:sp>
        <p:nvSpPr>
          <p:cNvPr id="320" name="Text Box 115"/>
          <p:cNvSpPr/>
          <p:nvPr/>
        </p:nvSpPr>
        <p:spPr>
          <a:xfrm>
            <a:off x="2045880" y="3286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Diversity</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of Culture</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21" name="Text Box 116"/>
          <p:cNvSpPr/>
          <p:nvPr/>
        </p:nvSpPr>
        <p:spPr>
          <a:xfrm>
            <a:off x="2044440" y="4618080"/>
            <a:ext cx="1116360" cy="88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Appeal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a:t>
            </a:r>
            <a:endParaRPr b="0" lang="en-US" sz="12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ual Appeal</a:t>
            </a:r>
            <a:endParaRPr b="0" lang="en-US" sz="1200" spc="-1" strike="noStrike">
              <a:solidFill>
                <a:srgbClr val="000000"/>
              </a:solidFill>
              <a:latin typeface="Gulim"/>
            </a:endParaRPr>
          </a:p>
        </p:txBody>
      </p:sp>
      <p:sp>
        <p:nvSpPr>
          <p:cNvPr id="322" name="Text Box 117"/>
          <p:cNvSpPr/>
          <p:nvPr/>
        </p:nvSpPr>
        <p:spPr>
          <a:xfrm>
            <a:off x="4032360" y="3070080"/>
            <a:ext cx="4105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Sleek Diagram &amp; Chart</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mense visual appeal Premade PowerPoint Templat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ional quality templates in a couple of clicks away</a:t>
            </a:r>
            <a:r>
              <a:rPr b="0" lang="en-US" sz="1200" spc="-1" strike="noStrike">
                <a:solidFill>
                  <a:srgbClr val="234867"/>
                </a:solidFill>
                <a:latin typeface="Arial"/>
              </a:rPr>
              <a:t>!</a:t>
            </a:r>
            <a:endParaRPr b="0" lang="en-US" sz="1200" spc="-1" strike="noStrike">
              <a:solidFill>
                <a:srgbClr val="000000"/>
              </a:solidFill>
              <a:latin typeface="Gulim"/>
            </a:endParaRPr>
          </a:p>
        </p:txBody>
      </p:sp>
      <p:sp>
        <p:nvSpPr>
          <p:cNvPr id="323" name="Text Box 118"/>
          <p:cNvSpPr/>
          <p:nvPr/>
        </p:nvSpPr>
        <p:spPr>
          <a:xfrm>
            <a:off x="3720960" y="1846440"/>
            <a:ext cx="453564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Eye-Catching Visual</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 the touch of art - PowerPoint Templates, PPT Slides,</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PT Diagrams For Your Presentation</a:t>
            </a:r>
            <a:endParaRPr b="0" lang="en-US" sz="1200" spc="-1" strike="noStrike">
              <a:solidFill>
                <a:srgbClr val="000000"/>
              </a:solidFill>
              <a:latin typeface="Gulim"/>
            </a:endParaRPr>
          </a:p>
        </p:txBody>
      </p:sp>
      <p:sp>
        <p:nvSpPr>
          <p:cNvPr id="324" name="Text Box 119"/>
          <p:cNvSpPr/>
          <p:nvPr/>
        </p:nvSpPr>
        <p:spPr>
          <a:xfrm>
            <a:off x="4535640" y="4294080"/>
            <a:ext cx="3708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Ready to Use</a:t>
            </a:r>
            <a:endParaRPr b="0" lang="en-US" sz="18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cription offers you all designs you'll ever need to make your PowerPoint </a:t>
            </a:r>
            <a:endParaRPr b="0" lang="en-US" sz="1200" spc="-1" strike="noStrike">
              <a:solidFill>
                <a:srgbClr val="000000"/>
              </a:solidFill>
              <a:latin typeface="Gulim"/>
            </a:endParaRPr>
          </a:p>
        </p:txBody>
      </p:sp>
      <p:sp>
        <p:nvSpPr>
          <p:cNvPr id="325"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AutoShape 105"/>
          <p:cNvSpPr/>
          <p:nvPr/>
        </p:nvSpPr>
        <p:spPr>
          <a:xfrm>
            <a:off x="76212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7" name="AutoShape 106"/>
          <p:cNvSpPr/>
          <p:nvPr/>
        </p:nvSpPr>
        <p:spPr>
          <a:xfrm>
            <a:off x="335448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8" name="AutoShape 107"/>
          <p:cNvSpPr/>
          <p:nvPr/>
        </p:nvSpPr>
        <p:spPr>
          <a:xfrm>
            <a:off x="5946840" y="5772240"/>
            <a:ext cx="2411280" cy="765000"/>
          </a:xfrm>
          <a:prstGeom prst="roundRect">
            <a:avLst>
              <a:gd name="adj" fmla="val 14014"/>
            </a:avLst>
          </a:prstGeom>
          <a:gradFill rotWithShape="0">
            <a:gsLst>
              <a:gs pos="0">
                <a:srgbClr val="000000">
                  <a:alpha val="20000"/>
                </a:srgbClr>
              </a:gs>
              <a:gs pos="100000">
                <a:srgbClr val="000000">
                  <a:alpha val="0"/>
                </a:srgbClr>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9" name="Line 108"/>
          <p:cNvSpPr/>
          <p:nvPr/>
        </p:nvSpPr>
        <p:spPr>
          <a:xfrm>
            <a:off x="4541760" y="1668600"/>
            <a:ext cx="0" cy="1295280"/>
          </a:xfrm>
          <a:prstGeom prst="line">
            <a:avLst/>
          </a:prstGeom>
          <a:ln w="19080">
            <a:solidFill>
              <a:srgbClr val="194d3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Gulim"/>
            </a:endParaRPr>
          </a:p>
        </p:txBody>
      </p:sp>
      <p:sp>
        <p:nvSpPr>
          <p:cNvPr id="330" name="Freeform 109"/>
          <p:cNvSpPr/>
          <p:nvPr/>
        </p:nvSpPr>
        <p:spPr>
          <a:xfrm>
            <a:off x="1986120" y="1920960"/>
            <a:ext cx="5148000" cy="1042920"/>
          </a:xfrm>
          <a:custGeom>
            <a:avLst/>
            <a:gdLst>
              <a:gd name="textAreaLeft" fmla="*/ 0 w 5148000"/>
              <a:gd name="textAreaRight" fmla="*/ 5148360 w 5148000"/>
              <a:gd name="textAreaTop" fmla="*/ 0 h 1042920"/>
              <a:gd name="textAreaBottom" fmla="*/ 1043280 h 1042920"/>
            </a:gdLst>
            <a:ahLst/>
            <a:rect l="textAreaLeft" t="textAreaTop" r="textAreaRight" b="textAreaBottom"/>
            <a:pathLst>
              <a:path w="3289" h="113">
                <a:moveTo>
                  <a:pt x="0" y="113"/>
                </a:moveTo>
                <a:lnTo>
                  <a:pt x="0" y="0"/>
                </a:lnTo>
                <a:lnTo>
                  <a:pt x="3289" y="0"/>
                </a:lnTo>
                <a:lnTo>
                  <a:pt x="3289" y="113"/>
                </a:lnTo>
              </a:path>
            </a:pathLst>
          </a:custGeom>
          <a:noFill/>
          <a:ln w="19080">
            <a:solidFill>
              <a:srgbClr val="194d3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331" name="AutoShape 110"/>
          <p:cNvSpPr/>
          <p:nvPr/>
        </p:nvSpPr>
        <p:spPr>
          <a:xfrm>
            <a:off x="762120" y="2963880"/>
            <a:ext cx="2411280" cy="2808360"/>
          </a:xfrm>
          <a:custGeom>
            <a:avLst/>
            <a:gdLst>
              <a:gd name="textAreaLeft" fmla="*/ 38880 w 2411280"/>
              <a:gd name="textAreaRight" fmla="*/ 2372400 w 2411280"/>
              <a:gd name="textAreaTop" fmla="*/ 38880 h 2808360"/>
              <a:gd name="textAreaBottom" fmla="*/ 2769480 h 2808360"/>
            </a:gdLst>
            <a:ahLst/>
            <a:rect l="textAreaLeft" t="textAreaTop" r="textAreaRight" b="textAreaBottom"/>
            <a:pathLst>
              <a:path w="21600" h="25156">
                <a:moveTo>
                  <a:pt x="1194" y="0"/>
                </a:moveTo>
                <a:arcTo wR="1194" hR="1194" stAng="16200000" swAng="-5400000"/>
                <a:lnTo>
                  <a:pt x="0" y="23962"/>
                </a:lnTo>
                <a:arcTo wR="1194" hR="1194" stAng="10800000" swAng="-5400000"/>
                <a:lnTo>
                  <a:pt x="20406" y="25156"/>
                </a:lnTo>
                <a:arcTo wR="1194" hR="1194" stAng="5400000" swAng="-5400000"/>
                <a:lnTo>
                  <a:pt x="21600" y="1194"/>
                </a:lnTo>
                <a:arcTo wR="1194" hR="1194" stAng="0" swAng="-5400000"/>
                <a:close/>
              </a:path>
            </a:pathLst>
          </a:custGeom>
          <a:gradFill rotWithShape="0">
            <a:gsLst>
              <a:gs pos="0">
                <a:srgbClr val="66993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32" name="Group 8"/>
          <p:cNvGrpSpPr/>
          <p:nvPr/>
        </p:nvGrpSpPr>
        <p:grpSpPr>
          <a:xfrm>
            <a:off x="3279600" y="981000"/>
            <a:ext cx="2736720" cy="1019160"/>
            <a:chOff x="3279600" y="981000"/>
            <a:chExt cx="2736720" cy="1019160"/>
          </a:xfrm>
        </p:grpSpPr>
        <p:pic>
          <p:nvPicPr>
            <p:cNvPr id="333" name="AutoShape 111" descr=""/>
            <p:cNvPicPr/>
            <p:nvPr/>
          </p:nvPicPr>
          <p:blipFill>
            <a:blip r:embed="rId1"/>
            <a:stretch/>
          </p:blipFill>
          <p:spPr>
            <a:xfrm>
              <a:off x="3279600" y="981000"/>
              <a:ext cx="2736720" cy="1019160"/>
            </a:xfrm>
            <a:prstGeom prst="rect">
              <a:avLst/>
            </a:prstGeom>
            <a:ln w="0">
              <a:noFill/>
            </a:ln>
          </p:spPr>
        </p:pic>
        <p:sp>
          <p:nvSpPr>
            <p:cNvPr id="334" name="Text Box 10"/>
            <p:cNvSpPr/>
            <p:nvPr/>
          </p:nvSpPr>
          <p:spPr>
            <a:xfrm>
              <a:off x="3389040" y="1089000"/>
              <a:ext cx="234324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35" name="AutoShape 112"/>
          <p:cNvSpPr/>
          <p:nvPr/>
        </p:nvSpPr>
        <p:spPr>
          <a:xfrm>
            <a:off x="3389400" y="1092240"/>
            <a:ext cx="2340000" cy="32364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6" name="Text Box 113"/>
          <p:cNvSpPr/>
          <p:nvPr/>
        </p:nvSpPr>
        <p:spPr>
          <a:xfrm>
            <a:off x="3389400" y="1198440"/>
            <a:ext cx="2305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Black"/>
              </a:rPr>
              <a:t>Stylish Design</a:t>
            </a:r>
            <a:endParaRPr b="0" lang="en-US" sz="2000" spc="-1" strike="noStrike">
              <a:solidFill>
                <a:srgbClr val="000000"/>
              </a:solidFill>
              <a:latin typeface="Gulim"/>
            </a:endParaRPr>
          </a:p>
        </p:txBody>
      </p:sp>
      <p:grpSp>
        <p:nvGrpSpPr>
          <p:cNvPr id="337" name="Group 13"/>
          <p:cNvGrpSpPr/>
          <p:nvPr/>
        </p:nvGrpSpPr>
        <p:grpSpPr>
          <a:xfrm>
            <a:off x="749160" y="2962440"/>
            <a:ext cx="2597040" cy="1019160"/>
            <a:chOff x="749160" y="2962440"/>
            <a:chExt cx="2597040" cy="1019160"/>
          </a:xfrm>
        </p:grpSpPr>
        <p:pic>
          <p:nvPicPr>
            <p:cNvPr id="338" name="AutoShape 114" descr=""/>
            <p:cNvPicPr/>
            <p:nvPr/>
          </p:nvPicPr>
          <p:blipFill>
            <a:blip r:embed="rId2"/>
            <a:stretch/>
          </p:blipFill>
          <p:spPr>
            <a:xfrm>
              <a:off x="749160" y="2962440"/>
              <a:ext cx="2597040" cy="1019160"/>
            </a:xfrm>
            <a:prstGeom prst="rect">
              <a:avLst/>
            </a:prstGeom>
            <a:ln w="0">
              <a:noFill/>
            </a:ln>
          </p:spPr>
        </p:pic>
        <p:sp>
          <p:nvSpPr>
            <p:cNvPr id="339" name="Text Box 15"/>
            <p:cNvSpPr/>
            <p:nvPr/>
          </p:nvSpPr>
          <p:spPr>
            <a:xfrm>
              <a:off x="865080" y="3070440"/>
              <a:ext cx="2200320" cy="61740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40" name="AutoShape 115"/>
          <p:cNvSpPr/>
          <p:nvPr/>
        </p:nvSpPr>
        <p:spPr>
          <a:xfrm>
            <a:off x="87012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1" name="Text Box 116"/>
          <p:cNvSpPr/>
          <p:nvPr/>
        </p:nvSpPr>
        <p:spPr>
          <a:xfrm>
            <a:off x="797040" y="3784680"/>
            <a:ext cx="2340000" cy="13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about giving you the variety you need to meet the design on your mind. </a:t>
            </a:r>
            <a:endParaRPr b="0" lang="en-US" sz="1200" spc="-1" strike="noStrike">
              <a:solidFill>
                <a:srgbClr val="000000"/>
              </a:solidFill>
              <a:latin typeface="Gulim"/>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reate powerpoint templates based on new visual trends that’s fresh, relevant and always on the cutting edge.</a:t>
            </a:r>
            <a:endParaRPr b="0" lang="en-US" sz="1200" spc="-1" strike="noStrike">
              <a:solidFill>
                <a:srgbClr val="000000"/>
              </a:solidFill>
              <a:latin typeface="Gulim"/>
            </a:endParaRPr>
          </a:p>
        </p:txBody>
      </p:sp>
      <p:sp>
        <p:nvSpPr>
          <p:cNvPr id="342" name="Text Box 117"/>
          <p:cNvSpPr/>
          <p:nvPr/>
        </p:nvSpPr>
        <p:spPr>
          <a:xfrm>
            <a:off x="83340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More choices and</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visual trends</a:t>
            </a:r>
            <a:endParaRPr b="0" lang="en-US" sz="1400" spc="-1" strike="noStrike">
              <a:solidFill>
                <a:srgbClr val="000000"/>
              </a:solidFill>
              <a:latin typeface="Gulim"/>
            </a:endParaRPr>
          </a:p>
        </p:txBody>
      </p:sp>
      <p:sp>
        <p:nvSpPr>
          <p:cNvPr id="343" name="AutoShape 118"/>
          <p:cNvSpPr/>
          <p:nvPr/>
        </p:nvSpPr>
        <p:spPr>
          <a:xfrm>
            <a:off x="335448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66993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44" name="Group 20"/>
          <p:cNvGrpSpPr/>
          <p:nvPr/>
        </p:nvGrpSpPr>
        <p:grpSpPr>
          <a:xfrm>
            <a:off x="3346560" y="2962440"/>
            <a:ext cx="2597040" cy="1019160"/>
            <a:chOff x="3346560" y="2962440"/>
            <a:chExt cx="2597040" cy="1019160"/>
          </a:xfrm>
        </p:grpSpPr>
        <p:pic>
          <p:nvPicPr>
            <p:cNvPr id="345" name="AutoShape 119" descr=""/>
            <p:cNvPicPr/>
            <p:nvPr/>
          </p:nvPicPr>
          <p:blipFill>
            <a:blip r:embed="rId3"/>
            <a:stretch/>
          </p:blipFill>
          <p:spPr>
            <a:xfrm>
              <a:off x="3346560" y="2962440"/>
              <a:ext cx="2597040" cy="1019160"/>
            </a:xfrm>
            <a:prstGeom prst="rect">
              <a:avLst/>
            </a:prstGeom>
            <a:ln w="0">
              <a:noFill/>
            </a:ln>
          </p:spPr>
        </p:pic>
        <p:sp>
          <p:nvSpPr>
            <p:cNvPr id="346" name="Text Box 22"/>
            <p:cNvSpPr/>
            <p:nvPr/>
          </p:nvSpPr>
          <p:spPr>
            <a:xfrm>
              <a:off x="3459240" y="3068640"/>
              <a:ext cx="220032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47" name="AutoShape 120"/>
          <p:cNvSpPr/>
          <p:nvPr/>
        </p:nvSpPr>
        <p:spPr>
          <a:xfrm>
            <a:off x="346248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Text Box 121"/>
          <p:cNvSpPr/>
          <p:nvPr/>
        </p:nvSpPr>
        <p:spPr>
          <a:xfrm>
            <a:off x="3389400" y="3784680"/>
            <a:ext cx="234000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erTemplates provides the themes that surrounds you every day. We cover a wide range of subjects including business, IT, lifestyle, nature, travel, technology, school, culture and much more   for you to choose from and about 200 are added  every month.</a:t>
            </a:r>
            <a:endParaRPr b="0" lang="en-US" sz="1200" spc="-1" strike="noStrike">
              <a:solidFill>
                <a:srgbClr val="000000"/>
              </a:solidFill>
              <a:latin typeface="Gulim"/>
            </a:endParaRPr>
          </a:p>
        </p:txBody>
      </p:sp>
      <p:sp>
        <p:nvSpPr>
          <p:cNvPr id="349" name="Text Box 122"/>
          <p:cNvSpPr/>
          <p:nvPr/>
        </p:nvSpPr>
        <p:spPr>
          <a:xfrm>
            <a:off x="3456000" y="3170160"/>
            <a:ext cx="2232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A wide range of subjects</a:t>
            </a:r>
            <a:endParaRPr b="0" lang="en-US" sz="1400" spc="-1" strike="noStrike">
              <a:solidFill>
                <a:srgbClr val="000000"/>
              </a:solidFill>
              <a:latin typeface="Gulim"/>
            </a:endParaRPr>
          </a:p>
        </p:txBody>
      </p:sp>
      <p:sp>
        <p:nvSpPr>
          <p:cNvPr id="350" name="AutoShape 123"/>
          <p:cNvSpPr/>
          <p:nvPr/>
        </p:nvSpPr>
        <p:spPr>
          <a:xfrm>
            <a:off x="5946840" y="2963880"/>
            <a:ext cx="2411280" cy="2808360"/>
          </a:xfrm>
          <a:custGeom>
            <a:avLst/>
            <a:gdLst>
              <a:gd name="textAreaLeft" fmla="*/ 36000 w 2411280"/>
              <a:gd name="textAreaRight" fmla="*/ 2375280 w 2411280"/>
              <a:gd name="textAreaTop" fmla="*/ 36000 h 2808360"/>
              <a:gd name="textAreaBottom" fmla="*/ 2772360 h 2808360"/>
            </a:gdLst>
            <a:ahLst/>
            <a:rect l="textAreaLeft" t="textAreaTop" r="textAreaRight" b="textAreaBottom"/>
            <a:pathLst>
              <a:path w="21600" h="25156">
                <a:moveTo>
                  <a:pt x="1109" y="0"/>
                </a:moveTo>
                <a:arcTo wR="1109" hR="1109" stAng="16200000" swAng="-5400000"/>
                <a:lnTo>
                  <a:pt x="0" y="24047"/>
                </a:lnTo>
                <a:arcTo wR="1109" hR="1109" stAng="10800000" swAng="-5400000"/>
                <a:lnTo>
                  <a:pt x="20491" y="25156"/>
                </a:lnTo>
                <a:arcTo wR="1109" hR="1109" stAng="5400000" swAng="-5400000"/>
                <a:lnTo>
                  <a:pt x="21600" y="1109"/>
                </a:lnTo>
                <a:arcTo wR="1109" hR="1109" stAng="0" swAng="-5400000"/>
                <a:close/>
              </a:path>
            </a:pathLst>
          </a:custGeom>
          <a:gradFill rotWithShape="0">
            <a:gsLst>
              <a:gs pos="0">
                <a:srgbClr val="669933"/>
              </a:gs>
              <a:gs pos="100000">
                <a:srgbClr val="ffffff"/>
              </a:gs>
            </a:gsLst>
            <a:lin ang="5400000"/>
          </a:gradFill>
          <a:ln w="19080">
            <a:solidFill>
              <a:srgbClr val="ffffff"/>
            </a:solidFill>
            <a:miter/>
          </a:ln>
        </p:spPr>
        <p:style>
          <a:lnRef idx="0"/>
          <a:fillRef idx="0"/>
          <a:effectRef idx="0"/>
          <a:fontRef idx="minor"/>
        </p:style>
        <p:txBody>
          <a:bodyPr wrap="none" lIns="342000" rIns="9000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51" name="Group 27"/>
          <p:cNvGrpSpPr/>
          <p:nvPr/>
        </p:nvGrpSpPr>
        <p:grpSpPr>
          <a:xfrm>
            <a:off x="5937120" y="2962440"/>
            <a:ext cx="2597040" cy="1019160"/>
            <a:chOff x="5937120" y="2962440"/>
            <a:chExt cx="2597040" cy="1019160"/>
          </a:xfrm>
        </p:grpSpPr>
        <p:pic>
          <p:nvPicPr>
            <p:cNvPr id="352" name="AutoShape 124" descr=""/>
            <p:cNvPicPr/>
            <p:nvPr/>
          </p:nvPicPr>
          <p:blipFill>
            <a:blip r:embed="rId4"/>
            <a:stretch/>
          </p:blipFill>
          <p:spPr>
            <a:xfrm>
              <a:off x="5937120" y="2962440"/>
              <a:ext cx="2597040" cy="1019160"/>
            </a:xfrm>
            <a:prstGeom prst="rect">
              <a:avLst/>
            </a:prstGeom>
            <a:ln w="0">
              <a:noFill/>
            </a:ln>
          </p:spPr>
        </p:pic>
        <p:sp>
          <p:nvSpPr>
            <p:cNvPr id="353" name="Text Box 29"/>
            <p:cNvSpPr/>
            <p:nvPr/>
          </p:nvSpPr>
          <p:spPr>
            <a:xfrm>
              <a:off x="6051600" y="3068640"/>
              <a:ext cx="2199960" cy="617760"/>
            </a:xfrm>
            <a:prstGeom prst="rect">
              <a:avLst/>
            </a:prstGeom>
            <a:noFill/>
            <a:ln w="0">
              <a:noFill/>
            </a:ln>
          </p:spPr>
          <p:style>
            <a:lnRef idx="0"/>
            <a:fillRef idx="0"/>
            <a:effectRef idx="0"/>
            <a:fontRef idx="minor"/>
          </p:style>
          <p:txBody>
            <a:bodyPr wrap="none" lIns="72000" rIns="72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
        <p:nvSpPr>
          <p:cNvPr id="354" name="AutoShape 125"/>
          <p:cNvSpPr/>
          <p:nvPr/>
        </p:nvSpPr>
        <p:spPr>
          <a:xfrm>
            <a:off x="6054840" y="3071880"/>
            <a:ext cx="2195280" cy="323640"/>
          </a:xfrm>
          <a:prstGeom prst="roundRect">
            <a:avLst>
              <a:gd name="adj" fmla="val 25981"/>
            </a:avLst>
          </a:prstGeom>
          <a:gradFill rotWithShape="0">
            <a:gsLst>
              <a:gs pos="0">
                <a:srgbClr val="ffffff">
                  <a:alpha val="50196"/>
                </a:srgbClr>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Text Box 126"/>
          <p:cNvSpPr/>
          <p:nvPr/>
        </p:nvSpPr>
        <p:spPr>
          <a:xfrm>
            <a:off x="5981760" y="3784680"/>
            <a:ext cx="2340000" cy="2101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werPoint is a complete presentation graphics package. It gives you everything you need to produce a professional-looking presentation. PowerPoint offers word processing, outlining, drawing, graphing, and presentation management tools- all designed to be easy to use and learn.</a:t>
            </a:r>
            <a:endParaRPr b="0" lang="en-US" sz="1200" spc="-1" strike="noStrike">
              <a:solidFill>
                <a:srgbClr val="000000"/>
              </a:solidFill>
              <a:latin typeface="Gulim"/>
            </a:endParaRPr>
          </a:p>
        </p:txBody>
      </p:sp>
      <p:sp>
        <p:nvSpPr>
          <p:cNvPr id="356" name="Text Box 127"/>
          <p:cNvSpPr/>
          <p:nvPr/>
        </p:nvSpPr>
        <p:spPr>
          <a:xfrm>
            <a:off x="6018120" y="3130560"/>
            <a:ext cx="2232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PowerPoint Presentation</a:t>
            </a:r>
            <a:endParaRPr b="0" lang="en-US" sz="1400" spc="-1" strike="noStrike">
              <a:solidFill>
                <a:srgbClr val="000000"/>
              </a:solidFill>
              <a:latin typeface="Gulim"/>
            </a:endParaRPr>
          </a:p>
        </p:txBody>
      </p:sp>
      <p:sp>
        <p:nvSpPr>
          <p:cNvPr id="357" name="AutoShape 128"/>
          <p:cNvSpPr/>
          <p:nvPr/>
        </p:nvSpPr>
        <p:spPr>
          <a:xfrm>
            <a:off x="33559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129"/>
          <p:cNvSpPr/>
          <p:nvPr/>
        </p:nvSpPr>
        <p:spPr>
          <a:xfrm>
            <a:off x="338940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Text Box 130"/>
          <p:cNvSpPr/>
          <p:nvPr/>
        </p:nvSpPr>
        <p:spPr>
          <a:xfrm>
            <a:off x="3389400" y="2193840"/>
            <a:ext cx="23050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Eye-Catching</a:t>
            </a:r>
            <a:endParaRPr b="0" lang="en-US" sz="1400" spc="-1" strike="noStrike">
              <a:solidFill>
                <a:srgbClr val="000000"/>
              </a:solidFill>
              <a:latin typeface="Gulim"/>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Visual</a:t>
            </a:r>
            <a:endParaRPr b="0" lang="en-US" sz="1400" spc="-1" strike="noStrike">
              <a:solidFill>
                <a:srgbClr val="000000"/>
              </a:solidFill>
              <a:latin typeface="Gulim"/>
            </a:endParaRPr>
          </a:p>
        </p:txBody>
      </p:sp>
      <p:sp>
        <p:nvSpPr>
          <p:cNvPr id="360" name="AutoShape 131"/>
          <p:cNvSpPr/>
          <p:nvPr/>
        </p:nvSpPr>
        <p:spPr>
          <a:xfrm>
            <a:off x="76212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132"/>
          <p:cNvSpPr/>
          <p:nvPr/>
        </p:nvSpPr>
        <p:spPr>
          <a:xfrm>
            <a:off x="79524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Text Box 133"/>
          <p:cNvSpPr/>
          <p:nvPr/>
        </p:nvSpPr>
        <p:spPr>
          <a:xfrm>
            <a:off x="79524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Immense Visual Appeal</a:t>
            </a:r>
            <a:endParaRPr b="0" lang="en-US" sz="1400" spc="-1" strike="noStrike">
              <a:solidFill>
                <a:srgbClr val="000000"/>
              </a:solidFill>
              <a:latin typeface="Gulim"/>
            </a:endParaRPr>
          </a:p>
        </p:txBody>
      </p:sp>
      <p:sp>
        <p:nvSpPr>
          <p:cNvPr id="363" name="AutoShape 134"/>
          <p:cNvSpPr/>
          <p:nvPr/>
        </p:nvSpPr>
        <p:spPr>
          <a:xfrm>
            <a:off x="5948280" y="2098800"/>
            <a:ext cx="2409840" cy="684000"/>
          </a:xfrm>
          <a:prstGeom prst="roundRect">
            <a:avLst>
              <a:gd name="adj" fmla="val 16667"/>
            </a:avLst>
          </a:prstGeom>
          <a:gradFill rotWithShape="0">
            <a:gsLst>
              <a:gs pos="0">
                <a:srgbClr val="b2b2b2"/>
              </a:gs>
              <a:gs pos="100000">
                <a:srgbClr val="878787"/>
              </a:gs>
            </a:gsLst>
            <a:lin ang="5400000"/>
          </a:grad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135"/>
          <p:cNvSpPr/>
          <p:nvPr/>
        </p:nvSpPr>
        <p:spPr>
          <a:xfrm>
            <a:off x="5981760" y="2135160"/>
            <a:ext cx="2340000" cy="324000"/>
          </a:xfrm>
          <a:prstGeom prst="roundRect">
            <a:avLst>
              <a:gd name="adj" fmla="val 25981"/>
            </a:avLst>
          </a:prstGeom>
          <a:gradFill rotWithShape="0">
            <a:gsLst>
              <a:gs pos="0">
                <a:srgbClr val="ffffff"/>
              </a:gs>
              <a:gs pos="100000">
                <a:srgbClr val="ffffff">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5" name="Text Box 136"/>
          <p:cNvSpPr/>
          <p:nvPr/>
        </p:nvSpPr>
        <p:spPr>
          <a:xfrm>
            <a:off x="5981760" y="2193840"/>
            <a:ext cx="2305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leek Diagram &amp; Chart</a:t>
            </a:r>
            <a:endParaRPr b="0" lang="en-US" sz="1400" spc="-1" strike="noStrike">
              <a:solidFill>
                <a:srgbClr val="000000"/>
              </a:solidFill>
              <a:latin typeface="Gulim"/>
            </a:endParaRPr>
          </a:p>
        </p:txBody>
      </p:sp>
      <p:sp>
        <p:nvSpPr>
          <p:cNvPr id="366" name="Rectangle 6"/>
          <p:cNvSpPr/>
          <p:nvPr/>
        </p:nvSpPr>
        <p:spPr>
          <a:xfrm>
            <a:off x="428760" y="44280"/>
            <a:ext cx="8229600" cy="331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94d39"/>
                </a:solidFill>
                <a:latin typeface="Arial Black"/>
                <a:ea typeface="HY헤드라인M"/>
              </a:rPr>
              <a:t>Click To Edit Title Style </a:t>
            </a:r>
            <a:endParaRPr b="0" lang="en-US" sz="3200" spc="-1" strike="noStrike">
              <a:solidFill>
                <a:srgbClr val="000000"/>
              </a:solidFill>
              <a:latin typeface="Gulim"/>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14T08:20:06Z</dcterms:created>
  <dc:creator>jeon</dc:creator>
  <dc:description/>
  <cp:keywords/>
  <dc:language>en-US</dc:language>
  <cp:lastModifiedBy>Administrator</cp:lastModifiedBy>
  <cp:lastPrinted>1899-12-30T00:00:00Z</cp:lastPrinted>
  <dcterms:modified xsi:type="dcterms:W3CDTF">2015-03-12T01:15:50Z</dcterms:modified>
  <cp:revision>100</cp:revision>
  <dc:subject/>
  <dc:title>鞀澕鞚措摐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089</vt:lpwstr>
  </property>
</Properties>
</file>