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354E-5AC7-46DF-914E-1FF952819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75BE-36EF-49E9-A098-482661E2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4FE7-B164-4AD0-817C-BFA58D8BD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5484-044B-4611-99C0-D688DEF7C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6A69-3ED2-43F6-83C5-566ACD85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63BB-FEF7-4696-B1A8-21BFA704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FF44-006B-4BC9-85D8-AB3C04F2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1604-F59A-4533-88D4-B6EA0331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F2DA-3223-47A6-A3FB-4F56A4F5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EDE4-8DE7-445D-8C86-9F116323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2E6F-FC96-419D-84A4-CA4C285C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50FF-9C8D-4289-BFC8-85509141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6C82-D5EB-443B-ABEA-818A259B2D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5214960" y="1285920"/>
            <a:ext cx="52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572080" y="179856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5"/>
          <p:cNvSpPr/>
          <p:nvPr/>
        </p:nvSpPr>
        <p:spPr>
          <a:xfrm flipV="1">
            <a:off x="5357880" y="1789200"/>
            <a:ext cx="2500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64296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0696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2836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26406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28364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7835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306900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55695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556956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60696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25689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/>
          <p:cNvSpPr/>
          <p:nvPr/>
        </p:nvSpPr>
        <p:spPr>
          <a:xfrm>
            <a:off x="4426560" y="150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449784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34261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23547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506952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585504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55695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349776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29977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492660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32119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128304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521208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706968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3-11T01:45:50Z</dcterms:modified>
  <cp:revision>185</cp:revision>
  <dc:subject/>
  <dc:title>幻灯片 1</dc:title>
</cp:coreProperties>
</file>