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B361-711E-4EF4-828B-7F17961D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7929-CCC9-4FBC-8BCF-1BCE6E40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A8B-355E-4144-9E04-C32802BA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AFC-4DEE-4CE7-947F-120F08A9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A0DB-AC79-4C56-858B-9194A93E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F67C-24FD-40EF-9D35-B754F27D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29B0-84E7-40F3-BD6D-58868CB7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BE81-26AE-4224-AB53-82A60FC0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AA16-EC61-48E6-B209-C6AE476D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956A-B732-4B91-B0A5-0615D1E6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F582-279E-4324-B6F3-388BD4B8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7C9-5752-49E8-B70A-98E93F77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77D2-FB3B-4BD8-94CF-38A5C5C0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5FD5-2367-4D9C-932B-016BDCF9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7463-D694-46F3-9135-FBCC33CE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72E2-14EF-4F3B-B619-87F7CABD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1C6D-532B-4D2F-BA05-5AD8A311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766-4870-4A89-B818-DCADB410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A93-9D26-485C-97E3-503399A0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3E6-3C82-4FD3-B227-9B3742C2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5228-8202-4689-B372-D7DA499D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E75-1C97-4D92-BEF0-39679FC6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72D-30E8-4879-83D0-FA7750DB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57B-1A0F-4E22-AB9C-818C139C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F3DF-BA60-4DA9-95A0-8B822B77E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D00F-179D-40F9-A8AA-5C812F0AC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249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993300"/>
                </a:solidFill>
                <a:latin typeface="汉仪方隶简"/>
                <a:ea typeface="汉仪方隶简"/>
              </a:rPr>
              <a:t>京剧及欣赏</a:t>
            </a:r>
            <a:endParaRPr b="0" lang="en-US" sz="7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京剧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国最主要的戏曲剧种，流行于全国各地，其前身是徽调和汉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京剧后定为我国国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京剧的形成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原有南方演出的三庆、四喜、春台、和春四大微调班社进入北京，同来自湖北的汉调艺人合作，接受了其他剧种的表演方法，演变，而形成早期京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有的京剧是有许多的表演艺术家经过不断的创作丰富而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京剧音乐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音乐属于皮黄腔系，唱腔以徽调的二黄和汉调的西皮为主所以叫“皮黄腔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唱腔伴奏乐器以京胡、京二胡、月琴、三弦为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usice4"/>
          <p:cNvPicPr/>
          <p:nvPr/>
        </p:nvPicPr>
        <p:blipFill>
          <a:blip r:embed="rId1"/>
          <a:stretch/>
        </p:blipFill>
        <p:spPr>
          <a:xfrm>
            <a:off x="7978680" y="5565600"/>
            <a:ext cx="11653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京剧表演角色分类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人物男、女、老、少、俊、丑、正、雅分成生、旦、净、丑四大角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种角色都有其不同的脸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4"/>
          <p:cNvPicPr/>
          <p:nvPr/>
        </p:nvPicPr>
        <p:blipFill>
          <a:blip r:embed="rId1"/>
          <a:stretch/>
        </p:blipFill>
        <p:spPr>
          <a:xfrm>
            <a:off x="6022800" y="4560840"/>
            <a:ext cx="31212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京剧欣赏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-----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智斗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智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沙家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现代京剧）第四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内容介词：新四军家属阿庆嫂，在沙家浜以开茶馆为名从事党的地下交通站工作，原是土匪头子的胡传魁，曾因抗日被日本鬼子追击得走投无路，阿庆嫂因其抗日而掩护他，救了他的命。不料后来胡传魁投降日寇，成为伪军“忠义救国军”的司令，驻扎到沙家浜专事围剿新四军伤病员。日寇为了他，给他派了个参谋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地豪绅刁老太爷的儿子汉奸翻泽官刁德一为控制这支军队，执行围剿任务。来到了茶馆，刁德一看到胡传魁与阿庆嫂这么热情打招呼，顿生疑心，就旁敲侧击地盘误码阿庆嫂打听有关新四军伤病员的消息。可是阿庆嫂察颜观色、严密防备、机智伶俐、以守为攻，说出来的话无懈可击、滴水不漏，使刁德一一无所获，讨了个没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295280" y="2590920"/>
            <a:ext cx="7524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、剧中人物各有哪些特点（从语言中提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、当时社会历史背景（人物所处环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、京剧音乐唱腔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860840" y="9907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Times New Roman"/>
              </a:rPr>
              <a:t>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京剧 欣赏</cp:keywords>
  <dc:language>en-US</dc:language>
  <cp:lastModifiedBy>admin</cp:lastModifiedBy>
  <dcterms:modified xsi:type="dcterms:W3CDTF">2015-03-24T01:48:18Z</dcterms:modified>
  <cp:revision>2</cp:revision>
  <dc:subject/>
  <dc:title>京剧及欣赏</dc:title>
</cp:coreProperties>
</file>