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1170-AFD1-48CC-95B3-5FCF3CF05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8E61-DC14-4FEB-8293-91D04777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4B11-1017-4507-BCF8-CF5EC2505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6924-034C-41BE-A691-6EA29DBB0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0D8C-3A2B-42B4-9D87-BC1628AB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56FD-A6CF-4150-8232-8646CB24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ECF2-93AB-4E8A-9741-7EE7EB2B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9481-7A92-4575-AAA5-3154AB26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7330-DE55-48B4-A499-1682C052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71D9-7479-4D6A-88C8-9847FF2D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9A9C-29C6-435B-B1E8-EC822CEF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A982-FFDA-464D-A349-813DEE8F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1CC1-1530-4EA5-9FC6-B1F0419EE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" descr="图片1.jpg"/>
          <p:cNvPicPr/>
          <p:nvPr/>
        </p:nvPicPr>
        <p:blipFill>
          <a:blip r:embed="rId1"/>
          <a:stretch/>
        </p:blipFill>
        <p:spPr>
          <a:xfrm>
            <a:off x="-146160" y="0"/>
            <a:ext cx="929016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08:14:55Z</dcterms:created>
  <dc:creator>chinaz</dc:creator>
  <dc:description/>
  <dc:language>en-US</dc:language>
  <cp:lastModifiedBy>Administrator</cp:lastModifiedBy>
  <dcterms:modified xsi:type="dcterms:W3CDTF">2015-03-31T00:58:56Z</dcterms:modified>
  <cp:revision>3</cp:revision>
  <dc:subject/>
  <dc:title>幻灯片 1</dc:title>
</cp:coreProperties>
</file>