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png" ContentType="image/png"/>
  <Override PartName="/ppt/media/chimes.wav" ContentType="audio/x-wav"/>
  <Override PartName="/ppt/media/image21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6.png" ContentType="image/png"/>
  <Override PartName="/ppt/media/image8.png" ContentType="image/png"/>
  <Override PartName="/ppt/media/image9.jpeg" ContentType="image/jpeg"/>
  <Override PartName="/ppt/media/type.wav" ContentType="audio/x-wav"/>
  <Override PartName="/ppt/media/image26.gif" ContentType="image/gif"/>
  <Override PartName="/ppt/media/image20.jpeg" ContentType="image/jpeg"/>
  <Override PartName="/ppt/media/clap.wav" ContentType="audio/x-wav"/>
  <Override PartName="/ppt/media/image27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9.gif" ContentType="image/gif"/>
  <Override PartName="/ppt/media/image13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camera.wav" ContentType="audio/x-wav"/>
  <Override PartName="/ppt/media/cashreg.wav" ContentType="audio/x-wav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36C-3954-43F8-888E-A442DE80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DA8-9B6C-4516-8D34-2347BA0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83F-F9CB-4752-AAE6-208EFE56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64E-D80B-406E-8EE0-0EC32FF0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F12D-FDB9-4CFC-BADA-0AF5C20B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3A76-EE5F-4F16-8885-32B2A27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3FF-A7A4-413C-871D-5F128ECC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4C0B-5C20-4EDA-975F-F33661E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CE16-79DE-4C0F-A729-1674631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DF9C-14CB-4F4C-B609-0C88AA4C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B99A-BBD2-41DC-A253-95240A9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8AF-84FD-41B9-A6A4-D7524DEF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297E-88E7-4CEB-B8D4-11D3C2DE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3E11-6311-44BC-AC47-372AE9C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A87-A96F-438E-A4CE-9DE2475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E52-C149-45E9-83A7-024535B9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2D5-84F6-411F-AEAF-E3030150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1CCBA-3BB6-4DA0-90B5-08FA5F9C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B085-C127-4D89-8B77-82E184E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E6C8-F5AD-4DDF-B5F1-6575DA98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B9B3-AF9F-46FB-ABCB-71EFEF4C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DE5F-D2E0-40F9-87A7-9BA3A3ED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D54-0AB3-4FF2-80B8-9074701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17F2-2F28-4D52-90E2-BF280B7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6226-1A32-48A1-AB2D-FCC85EAC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5975-7323-4B42-9225-99087DA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73A8-7FEE-4090-86F9-5654801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32EA-E0FA-439D-B02E-4EEFEFF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E414-060D-4A8C-A74C-E4CEA544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9DC7-0318-4B53-9C88-5B0A2F33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ABD3-3472-4346-9B2E-947E16F4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20A2-9C54-4E34-A353-A604F0D5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A042-9E08-4ADF-A38F-CEA0A363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57B-E811-4773-9EF1-254E8EF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03221-834E-4614-9C78-A8618FFA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DEE6-32C3-4600-846D-50D5369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3B90-A2EA-4F9F-AA03-A5255A67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9039B-3688-4149-B2B6-9D30B1E9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D90D-8F7A-4ECE-9B01-F46AC21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8C58-2BD2-44DD-BBFF-EE0507E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6689-94C6-4C8E-83B7-77E74BE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C6530-AFEB-4542-B336-0939D76B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9498-D1C4-48F6-B32B-1582E27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862-6CED-4CF5-A327-A3132D0E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9EE-C73F-4A3A-90D9-B618D15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FD3-F3B9-4212-9E76-F32EF440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4F-BE2A-473E-93E4-8A5D6971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171-632E-4D7A-9107-1DC2ACA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BCA-CFD8-4AC3-8808-2521D2B364A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D080-0952-46D3-B370-047E7C2C4FD4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CEA-3946-4AEE-ABDA-5980964E57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0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11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12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3FBF-CE72-4B00-B87D-3631F2A0E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image" Target="../media/image25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6443640" y="1773360"/>
            <a:ext cx="792000" cy="2557440"/>
            <a:chOff x="6443640" y="1773360"/>
            <a:chExt cx="792000" cy="2557440"/>
          </a:xfrm>
        </p:grpSpPr>
        <p:sp>
          <p:nvSpPr>
            <p:cNvPr id="483" name=""/>
            <p:cNvSpPr/>
            <p:nvPr/>
          </p:nvSpPr>
          <p:spPr>
            <a:xfrm>
              <a:off x="6443640" y="39639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43640" y="359892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43640" y="323388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43640" y="2868480"/>
              <a:ext cx="790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43640" y="250344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43640" y="213840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443640" y="1773360"/>
              <a:ext cx="790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43640" y="1773360"/>
              <a:ext cx="790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43640" y="4329000"/>
              <a:ext cx="790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4364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34560" y="1773360"/>
              <a:ext cx="1080" cy="2555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539640" y="189000"/>
            <a:ext cx="8209080" cy="916920"/>
            <a:chOff x="539640" y="189000"/>
            <a:chExt cx="8209080" cy="916920"/>
          </a:xfrm>
        </p:grpSpPr>
        <p:sp>
          <p:nvSpPr>
            <p:cNvPr id="495" name="DownRibbonSharp"/>
            <p:cNvSpPr/>
            <p:nvPr/>
          </p:nvSpPr>
          <p:spPr>
            <a:xfrm>
              <a:off x="539640" y="189000"/>
              <a:ext cx="8209080" cy="762120"/>
            </a:xfrm>
            <a:custGeom>
              <a:avLst/>
              <a:gdLst>
                <a:gd name="textAreaLeft" fmla="*/ 2052000 w 8209080"/>
                <a:gd name="textAreaRight" fmla="*/ 6157080 w 820908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0000" y="189000"/>
              <a:ext cx="46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期中考光荣榜</a:t>
              </a:r>
              <a:endParaRPr b="0" lang="en-US" sz="5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24000" y="2452320"/>
            <a:ext cx="86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班级优秀生名单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177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李慧林、沈福涛、赵一楠、张晴、刘秀成、冯春良、陈飞、吕桂蕾、赵映源、魏立江、赵文笑、吴淑敏、陈金、张爱婧、吴娟、叶青娜、赵晨晖、刘本栋、赵叶青、王浩、李浩然、许长富、王倩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3419640" y="5661000"/>
            <a:ext cx="91440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611280" y="290520"/>
            <a:ext cx="8208720" cy="762120"/>
            <a:chOff x="611280" y="290520"/>
            <a:chExt cx="8208720" cy="762120"/>
          </a:xfrm>
        </p:grpSpPr>
        <p:sp>
          <p:nvSpPr>
            <p:cNvPr id="501" name="DownRibbonSharp"/>
            <p:cNvSpPr/>
            <p:nvPr/>
          </p:nvSpPr>
          <p:spPr>
            <a:xfrm>
              <a:off x="611280" y="290520"/>
              <a:ext cx="8208720" cy="76212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11280" y="290520"/>
              <a:ext cx="46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进步标兵</a:t>
              </a:r>
              <a:endParaRPr b="0" lang="en-US" sz="36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419640" y="1773360"/>
            <a:ext cx="345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1444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66"/>
                </a:solidFill>
                <a:latin typeface="Arial"/>
                <a:ea typeface="黑体"/>
              </a:rPr>
              <a:t>学习状况急需稳定的学生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03280" y="119700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267200"/>
            <a:ext cx="638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晨晖、朱聪颖 、赵一楠 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魏丽江、吕桂蕾、赵叶青、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王倩 、王壮 、许长远、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周泉成、 李晨旭、 陈飞、 赵华磊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76360" y="3932280"/>
            <a:ext cx="60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89040" y="4003920"/>
            <a:ext cx="409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叶青娜 、刘秀成  、赵文笑、  张爱婧 、王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吕梦雨 、 李文谱 、 赵振 、 刘高利 、李浩然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赵娟 、吴胜杰  、许树昕 、 刘墩慧  、王梦雨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 advTm="30000">
    <p:pull dir="ru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63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学习习惯好：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勤向老师提问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  <a:ea typeface="黑体"/>
              </a:rPr>
              <a:t>同学间讨论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11280" y="579600"/>
            <a:ext cx="8208720" cy="761760"/>
            <a:chOff x="611280" y="579600"/>
            <a:chExt cx="8208720" cy="761760"/>
          </a:xfrm>
        </p:grpSpPr>
        <p:sp>
          <p:nvSpPr>
            <p:cNvPr id="511" name="DownRibbonSharp"/>
            <p:cNvSpPr/>
            <p:nvPr/>
          </p:nvSpPr>
          <p:spPr>
            <a:xfrm>
              <a:off x="611280" y="579600"/>
              <a:ext cx="8208720" cy="761760"/>
            </a:xfrm>
            <a:custGeom>
              <a:avLst/>
              <a:gdLst>
                <a:gd name="textAreaLeft" fmla="*/ 2052000 w 8208720"/>
                <a:gd name="textAreaRight" fmla="*/ 6156720 w 8208720"/>
                <a:gd name="textAreaTop" fmla="*/ 9504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0" y="0"/>
                  </a:lnTo>
                  <a:lnTo>
                    <a:pt x="8100" y="2700"/>
                  </a:lnTo>
                  <a:lnTo>
                    <a:pt x="13500" y="2700"/>
                  </a:lnTo>
                  <a:lnTo>
                    <a:pt x="13500" y="0"/>
                  </a:lnTo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2700"/>
                  </a:moveTo>
                  <a:lnTo>
                    <a:pt x="5400" y="2700"/>
                  </a:lnTo>
                  <a:lnTo>
                    <a:pt x="5400" y="18900"/>
                  </a:lnTo>
                </a:path>
                <a:path fill="none" w="21600" h="21600">
                  <a:moveTo>
                    <a:pt x="5400" y="2700"/>
                  </a:moveTo>
                  <a:lnTo>
                    <a:pt x="8100" y="0"/>
                  </a:lnTo>
                </a:path>
                <a:path fill="none" w="21600" h="21600">
                  <a:moveTo>
                    <a:pt x="13500" y="2700"/>
                  </a:moveTo>
                  <a:lnTo>
                    <a:pt x="16200" y="2700"/>
                  </a:lnTo>
                  <a:lnTo>
                    <a:pt x="16200" y="18900"/>
                  </a:lnTo>
                </a:path>
                <a:path fill="none" w="21600" h="21600">
                  <a:moveTo>
                    <a:pt x="16200" y="2700"/>
                  </a:moveTo>
                  <a:lnTo>
                    <a:pt x="13500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11280" y="579600"/>
              <a:ext cx="4608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ff3300"/>
                  </a:solidFill>
                  <a:latin typeface="Arial"/>
                  <a:ea typeface="华文行楷"/>
                </a:rPr>
                <a:t>榜样在身边</a:t>
              </a:r>
              <a:endParaRPr b="0" lang="en-US" sz="4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对小科不够重视，平时记录，背诵不自觉，导致优秀人数较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47640" y="224964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地理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生物：优秀分（）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47640" y="458136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语文：虽然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以上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；           但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117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分就有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32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 Black"/>
                <a:ea typeface="黑体"/>
              </a:rPr>
              <a:t>成绩中看问题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1014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偏科现象不同程度存在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6920" y="350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、单科拔尖人数太少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ffff"/>
                </a:solidFill>
                <a:latin typeface="Arial Black"/>
                <a:ea typeface="华文行楷"/>
              </a:rPr>
              <a:t>期中反思</a:t>
            </a:r>
            <a:endParaRPr b="0" lang="en-US" sz="5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课堂效率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作业订正、纠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复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读背情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向老师提问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、对部分男生情绪的稳定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Arial Black"/>
              </a:rPr>
              <a:t>考后显露出的问题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在这次考试后，我们发现很多同学的总分高不了，究其原因，偏科太厉害！尤其要引起重视的是英语、数学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由于各个方面的原因，很多同学都在这些科目中出现“瘸腿”现象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试卷答题过程中暴露出来的不规范性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基础掌握不扎实。基础题失分太多或答不完全，不审题，做题马虎导致失分过多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老师反复强调的知识点没落实到位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部分同学态度不端正，上课不够专心，出现开小差、想心思、玩手机，自己做自己的事情，完全不顾老师所讲的内容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-4572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有些学生作业马虎、差错多，选择题乱猜，计算题只写一个答案；学生没有养成提前预习和适时复习的习惯，导致绩效不高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竞争意识不强，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自我学习的效率不高，无法迅速进入学习的状态。放松学习，临考试才匆忙复习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行为懒散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考试心理状态调整不好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学习不扎实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不能落实到实处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成绩背后的问题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对老师有抵触情绪现象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不能合理安排时间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个别同学没有明确的目标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基础太差，学习习惯不好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学生自觉性差，个别同学有严重违纪行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有个别同学上课打瞌睡、看课外书，影响课堂效果；有的想提高成绩，但方法不对又不积极主动问老师和同学，时间一长就有放弃的心理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6920" y="4581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曹庄中学 七（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5</a:t>
            </a:r>
            <a:r>
              <a:rPr b="1" lang="zh-CN" sz="40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 班家长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4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1187280" y="1601640"/>
            <a:ext cx="4249800" cy="52563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2720520" y="2205000"/>
            <a:ext cx="152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时关注孩子学习、生活情况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注意思想动态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6760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对子女的期望水平适中， 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观察学生变化（交友、着装、      学习态度），碰到孩子的新问题，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ts val="4997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"/>
          <p:cNvSpPr/>
          <p:nvPr/>
        </p:nvSpPr>
        <p:spPr>
          <a:xfrm>
            <a:off x="1654560" y="33336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有问题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1704240"/>
            <a:ext cx="83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1706400"/>
            <a:ext cx="8280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、药物、香烟酒类，甚至不明巨款或当票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、电话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吸烟喝酒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324000" y="393372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8360" y="1700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要教育孩子怎样做人，关心孩子的思想动态使孩子有正确的思想导向、明确的奋斗目标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14130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要尽量控制孩子的零用钱和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学、回家的时间，教育孩子少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工作再忙也要抽点时间来多了解孩子在校的表现和学习成绩情况。因为孩子是自己身上的肉呀，我们的一切工作难道不是为了孩子将来的美好前途吗？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1268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最好能经常与学校、老师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得联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6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50920" y="692280"/>
            <a:ext cx="83041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、不以成绩论英雄，您的子女学习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成绩好，并不意味着思想好、能力高，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您的子女学习成绩落后，并不意味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思想差、能力低。现在的社会需要各种各样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的人才。只要有能力，任何一个学生都能在社会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1417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科学地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0920" y="4797360"/>
            <a:ext cx="84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抓好子女在家的行为习惯。如良好的休息、科学的学习、适量的劳动（劳动是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0930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116000" y="1844640"/>
            <a:ext cx="914400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在外留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回家很迟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带同学住宿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打电话时间长，次数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受伤回家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、超消费要问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   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0920" y="260280"/>
            <a:ext cx="43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需要注意十问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超出友谊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成绩突然下降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穿奇装异服，爱好打扮，沉默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老是玩电脑，手机，看闲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需要注意十问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095480"/>
            <a:ext cx="8229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少一点打骂，多一点信任理解，少一点猜疑，那么我们的孩子都有可能成为栋梁之材。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您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37663" fill="hold"/>
                                        <p:tgtEl>
                                          <p:spTgt spid="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89536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1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加强老师、家长、学校与学生之间的联系，相互交流学生在校及在家的情况，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2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、便于老师更有针对性的实施教育，家长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6" name="">
            <a:hlinkClick r:id="rId3" action="ppaction://hlinksldjump"/>
          </p:cNvPr>
          <p:cNvSpPr/>
          <p:nvPr/>
        </p:nvSpPr>
        <p:spPr>
          <a:xfrm>
            <a:off x="1258920" y="306864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32000" y="4508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32000" y="1557360"/>
            <a:ext cx="38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、班主任发言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13372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竞争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1619280" y="1052640"/>
            <a:ext cx="6192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刚刚过去的学习情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期中考试成绩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雨林木风</cp:lastModifiedBy>
  <dcterms:modified xsi:type="dcterms:W3CDTF">2012-11-22T12:13:21Z</dcterms:modified>
  <cp:revision>252</cp:revision>
  <dc:subject/>
  <dc:title>热烈欢迎各位家长</dc:title>
</cp:coreProperties>
</file>