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AFB-C9E3-47AE-BD2A-D57F9A19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32E-EAD1-4701-A854-BD99B00F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2214C-5E15-4656-A5C2-6643934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24BEF-0907-4AC2-A4AF-6857EA11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8A37-346C-484C-9E15-EADC4AD6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8215-5655-4492-98A1-B8DC123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D1A2C-D458-4D6B-8D18-6068E51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B5822-ADD2-432F-B679-C50F303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90D88-B7C3-4CCB-A4CE-BA57069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C094-C461-42FF-BFDC-AE519002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C6CF-AD74-4502-9501-76B4FC7B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B9D0B-1C98-406F-83BA-92A6AC5B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D5C-18EC-4EAA-A048-175DDFFD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BF068-48D1-414E-BC20-0179F8F0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94C0-290F-433C-9D42-22820F82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B4D2D-85AC-4AB2-B069-6B0FF557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79B6A-F665-44FA-8171-1DEDB71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1D39E-BCCF-4E17-8009-6D08AFC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3690A-74B2-43B1-9FDC-AA38902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A6B8A-C87C-4C00-B235-59AB2C3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66FDB-CD10-4B65-A4AA-68806F5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F151-3037-4533-B802-5478AF3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D6F8B-7CC1-4E00-9BF7-63C6409A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655-1D1F-4A21-AD33-279201B4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5086B-14AD-4F91-8BC6-9E87D766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C356-F82E-48CA-A6D1-35D62046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6ED36-15B8-46CF-A0FB-B4492C37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CB4D-0733-4A15-A62A-20EE9F73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9AF24-ACAC-4160-A481-FC4D1957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86CEF-58B8-4CE2-93F9-8973107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4F785-5B3B-4C6C-BB48-EBF4E07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F92F-28CE-4D2E-B55C-66C413E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866CE-14F7-4F49-B7DB-7CA7343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9CF82-83C9-4A35-95C9-9576B31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225-5764-45F6-8349-448509E2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FF897-11AA-4408-93DC-76FF11E0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B016-91A4-4902-890F-605FD47E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C1A8-E6EF-424B-91D3-B505DBEE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88DC0-491D-4EC8-882A-74D24D1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588D9-D395-4412-B7F3-85859502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9D002-A79E-4555-9732-E8D14CA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5327A-F16A-4909-AC9E-07FC47E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9532E-5925-4CED-861A-02EECD1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4E209-F9C5-4C38-A438-2C852EDF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7818E-0CFD-4EDD-A156-8FE5A89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5949-18D2-4673-9E3C-3AA749C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4C97A-2755-47D6-85C3-2997525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F2CA4-7DFC-41AE-B73B-563B4AF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085F0-7C6B-4D36-A684-8EE4983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5DB09-4B18-4CC4-AA40-F273B74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D470B-A01C-4D0B-8BED-A39C53F7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5ED54-05AB-483B-9D1C-F92B00A6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A76C1-DBA8-4EF6-B645-BD52D4C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985CE-F109-4518-A448-A2D72B0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4A5A4-F91D-47C6-999E-2BB1D00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FC258-C60E-4417-802F-E3DF581E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4AD8-2B9A-456C-A2F4-0DB000C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4CE7E-B299-4B2A-92E7-FED74DE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ADF5B-280D-4BB7-BA6F-FB58AE7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F467A-D41A-4383-8F8A-0461D38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EE343-3FA1-4F8F-8D45-025CA5B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21F1F-0C16-4CD9-8A3A-0D98416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2B494-54E4-4141-876F-494A3EB5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57B0B-1097-4EF8-BFBA-BA3EAC2E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8398-8EF8-41CD-B9D9-D30FBE25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6BA-BB37-4944-B35B-2B90F04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4C09-5FC6-4939-BF41-DFA7B61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AF6-3B81-4AE3-B4F2-DD46009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9BB-A1C0-4A41-BE7E-828C1D24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F0B9-D8F6-48E3-870A-9E9544E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A2B-6CDE-4B91-9B0F-BA7A210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8877-8B98-443D-85DB-8D4C4FD3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BE5C-A5E1-420C-BE95-D01DB445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FB3F-C97C-4719-9F83-D93C9662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FD7F-6EA3-49FE-849C-9B117D27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71EA-172B-409F-BC70-FC47D0E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0A6B-0461-4853-9D82-19BC0E2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D6D2-2C56-4DD3-9FF6-57D9336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9B5B-DBF8-4216-AB6A-88F6CD9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7A8-BA5C-49AD-A922-B7808F6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E452-5C70-484B-816F-C5B1670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E555-1690-4126-80BA-A39A405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C4B0-3335-4EE9-9EA0-E68C823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37AD-6368-4B55-9A30-E23BDFB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4345-0EA5-417F-9068-194FBBF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A215-6C55-4D1A-BDEB-93D22182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2753-A9CE-40BB-96EA-4223C40A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73CE-EB26-4BEA-8AB1-FBF2378F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C4B9-BFCD-48E8-917E-09FE928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6D4C-A1D8-4150-8D72-9A26C0D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A97-3703-4C3A-ADFB-960133B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38DB-C1AF-424F-A0E9-A98C7C2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B1B4-76FE-4E71-AE23-E2FFE820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27F8D-75F8-4484-B219-F16CFF0F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3130-4A33-4658-8E06-D7D301D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8A65-06CF-4907-92EE-CDCA39F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4ADB-CFC2-4C46-B8E8-38D9926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ABD4-60F7-4613-BFEA-EC89ED3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7D6D-652B-4850-9CE4-0BE16092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98B7-915E-48F7-8CC2-0EFE8543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EC71A-2FBE-4AEE-A3DC-96DACC58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310-D59F-4867-BF9F-292711A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020D-5595-4498-B444-96DBC990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A0C4-2157-478F-8D25-8B334EAC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21D7-7920-4A42-9A47-A474D918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9F0F-F230-475D-A76B-457655CC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044E-0E76-4761-A514-73EFADA1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4A79-8CCE-464C-A22F-8A992D8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5551-729B-4634-88BA-01781E0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A07AE-36AF-4172-9CF7-C5C6109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88B1-6509-4CBD-BCA9-9FCAA42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C104-45DD-4A86-85B2-02F6FE32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5C2-E517-41D9-B380-81A06D29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C486-D509-4F8E-9A68-7911437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9ECD-E9CD-4F39-8F01-8A80FE2E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BD62-88E4-42EC-AA60-9E3E58D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F545-4CB1-4BC0-90E7-80CFCFA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2F49-DAFC-44A0-9482-4D0FB760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618ED-E209-4520-A8C0-2683203D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D8F6-F73D-4D95-9FA9-4D0D5FD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98AA-908D-4492-9618-791F7DD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E48A3-DC37-4262-BFE4-3CE2AB6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3F12-91C3-435C-B2EC-2D9E537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DB2-DAF2-48E4-AF58-589F5426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C7EF-3C3B-451B-9EC0-259F6F9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5F67-55EE-4CAB-AFA7-E859B525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54E4B-4CD7-4350-9630-F341C89B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63E1-DA53-4048-AF41-5DF1C166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682A-557E-46C0-A88C-C5196C21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F1C0-C2C8-4932-9090-429025F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F4EA-D329-4EF3-BB34-AE8DE334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DF8D-0F9D-49BF-B4AC-FC64FB43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3A16C-8F15-45C3-9C6F-058EC23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20F9-F3FC-4CFA-9544-0A36919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EFF-0687-4024-84AF-0FA703A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A080-857E-4FCA-BEF7-DF011903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AA961-7DD9-4093-9217-2FA8AF1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45E99-D334-480A-BEB2-4E2F066A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A8919-20E8-4098-AD4A-D9534F4A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EA56-5B9F-4774-8006-95C4A8BE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544EE-3417-4F9D-9E5E-AFDA4F32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8F370-EB9A-4CD9-B3D6-3C4E039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9704-B6C7-4BAC-8265-89454B8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9D06-2474-4933-9250-A0E576D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024F8-CD85-4EAF-B219-4EDC6C4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E0A-CD78-495F-B56E-1057AE2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D483-FCA9-4F32-85B8-DFBEE10E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4F214-D5A3-427B-8FA1-23F78A9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20A7-1A56-4053-80E6-86A73ED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2852-FA96-4249-A182-6A2265D3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5527-2B15-4C65-B1DA-77F19154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EE6D-9BF6-401C-9FD6-EF2FAD7C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BE7E-778D-4EED-9984-493FE883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A02F-D24E-47D6-8A29-DCE590A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F48F3-94D3-4017-B797-2BBBBAB7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D1681-FF36-4F05-9CF0-28C91CA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0AE-DC91-46E8-8FA3-4638B7E374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B1DF-A321-42F3-A6D7-F298A251B9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BF0-1024-4132-9C28-933D78111C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105-FE31-4D5F-A50D-D99735B48D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7D6-8543-4B5F-8E4D-D19E1CD893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0C7-9DD9-47B9-A1B5-0586EBAE3D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999-8490-4757-AEED-AC457896C3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E03-0FFA-48A8-8358-340CE21E7B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6A9-5758-4DE5-B055-45E4674037F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B42-6559-40E5-9C5A-94CB3C813F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BA3-323A-4BFC-A13A-EF4351B53F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F0B-E234-49B8-80EF-E324C3128D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1E3-9790-4EED-8992-1110A5EFC9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6F5-3291-465B-A73E-0C5DE141FE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FFB-ED82-4BBA-8F9F-5C7D724033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9178-83FC-46B1-8228-B2B173B86A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262-53E2-45CD-897E-9CBD2DB686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5577-69D5-4F1F-A48D-CDD326C771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839-D605-4F26-98B1-FC9A7B0EB9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25A-2733-43B1-9507-200B8852D3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CAF8-5557-424F-935B-608A02CC76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DCD-D7F7-42B4-BC5C-DE672E72C2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852-C6EF-4119-9E41-B405390568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DD6-0FE2-45FA-9240-1F6F361D97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A84-377A-4B9C-B535-5E1B7712EC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229C-AE05-4903-9FCF-EC743F9D28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0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14840" y="647640"/>
            <a:ext cx="2178000" cy="122400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534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08000" y="647640"/>
            <a:ext cx="2173320" cy="122400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535" name="Picture 4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365200" y="647640"/>
            <a:ext cx="2165400" cy="12160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536" name="Picture 5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6875640" y="647640"/>
            <a:ext cx="2171520" cy="122400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sp>
        <p:nvSpPr>
          <p:cNvPr id="537" name="TextBox 5"/>
          <p:cNvSpPr/>
          <p:nvPr/>
        </p:nvSpPr>
        <p:spPr>
          <a:xfrm>
            <a:off x="1066680" y="29368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Balham"/>
              </a:rPr>
              <a:t>论文题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"/>
          <p:cNvSpPr/>
          <p:nvPr/>
        </p:nvSpPr>
        <p:spPr>
          <a:xfrm>
            <a:off x="4645080" y="3411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Raleway"/>
              </a:rPr>
              <a:t>答辩人：</a:t>
            </a:r>
            <a:r>
              <a:rPr b="0" lang="zh-CN" sz="1800" spc="-1" strike="noStrike">
                <a:solidFill>
                  <a:srgbClr val="ffffff"/>
                </a:solidFill>
                <a:latin typeface="Raleway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2" descr=""/>
          <p:cNvPicPr/>
          <p:nvPr/>
        </p:nvPicPr>
        <p:blipFill>
          <a:blip r:embed="rId5"/>
          <a:stretch/>
        </p:blipFill>
        <p:spPr>
          <a:xfrm>
            <a:off x="3952800" y="3657600"/>
            <a:ext cx="1166760" cy="1174680"/>
          </a:xfrm>
          <a:prstGeom prst="rect">
            <a:avLst/>
          </a:prstGeom>
          <a:ln w="0">
            <a:noFill/>
          </a:ln>
        </p:spPr>
      </p:pic>
      <p:sp>
        <p:nvSpPr>
          <p:cNvPr id="540" name="矩形 10"/>
          <p:cNvSpPr/>
          <p:nvPr/>
        </p:nvSpPr>
        <p:spPr>
          <a:xfrm>
            <a:off x="1723680" y="202392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北大研究生答辩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2"/>
          <p:cNvSpPr/>
          <p:nvPr/>
        </p:nvSpPr>
        <p:spPr>
          <a:xfrm>
            <a:off x="0" y="4703760"/>
            <a:ext cx="611280" cy="287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36828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77880" y="627120"/>
            <a:ext cx="7566120" cy="374472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6550200" y="18720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lham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2340000" y="1782720"/>
            <a:ext cx="43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1989000" y="1782720"/>
            <a:ext cx="5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6CF-AE5D-40D8-BE75-0B10D98F0E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"/>
          <p:cNvSpPr/>
          <p:nvPr/>
        </p:nvSpPr>
        <p:spPr>
          <a:xfrm rot="5400000">
            <a:off x="28440" y="141120"/>
            <a:ext cx="609480" cy="288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3"/>
          <p:cNvSpPr/>
          <p:nvPr/>
        </p:nvSpPr>
        <p:spPr>
          <a:xfrm>
            <a:off x="169920" y="2476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415800" y="343080"/>
            <a:ext cx="35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"/>
          <p:cNvSpPr/>
          <p:nvPr/>
        </p:nvSpPr>
        <p:spPr>
          <a:xfrm>
            <a:off x="5724360" y="0"/>
            <a:ext cx="2590920" cy="4017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5724360" y="3938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320760" y="148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7"/>
          <p:cNvSpPr/>
          <p:nvPr/>
        </p:nvSpPr>
        <p:spPr>
          <a:xfrm>
            <a:off x="5249880" y="1347840"/>
            <a:ext cx="1440000" cy="143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5548680" y="1882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Impact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0"/>
          <p:cNvSpPr/>
          <p:nvPr/>
        </p:nvSpPr>
        <p:spPr>
          <a:xfrm>
            <a:off x="7093080" y="1992240"/>
            <a:ext cx="1224000" cy="1224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1"/>
          <p:cNvSpPr/>
          <p:nvPr/>
        </p:nvSpPr>
        <p:spPr>
          <a:xfrm>
            <a:off x="7336440" y="24192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12"/>
          <p:cNvSpPr/>
          <p:nvPr/>
        </p:nvSpPr>
        <p:spPr>
          <a:xfrm>
            <a:off x="5867280" y="3003480"/>
            <a:ext cx="1225800" cy="1224000"/>
          </a:xfrm>
          <a:prstGeom prst="ellips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3"/>
          <p:cNvSpPr/>
          <p:nvPr/>
        </p:nvSpPr>
        <p:spPr>
          <a:xfrm>
            <a:off x="6091920" y="3430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324000" y="1482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5"/>
          <p:cNvSpPr/>
          <p:nvPr/>
        </p:nvSpPr>
        <p:spPr>
          <a:xfrm>
            <a:off x="1692360" y="1482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6"/>
          <p:cNvSpPr/>
          <p:nvPr/>
        </p:nvSpPr>
        <p:spPr>
          <a:xfrm>
            <a:off x="324000" y="1992240"/>
            <a:ext cx="494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ahoma"/>
              </a:rPr>
              <a:t>2011 was a year of recovery, consolidation and change for BP. The board set ou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ahoma"/>
              </a:rPr>
              <a:t> priorities for the compa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Tahoma"/>
              </a:rPr>
              <a:t>Safet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ahoma"/>
              </a:rPr>
              <a:t> must be enhanced and embedd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Tahoma"/>
              </a:rPr>
              <a:t>Tru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ahoma"/>
              </a:rPr>
              <a:t> must be regain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204a"/>
                </a:solidFill>
                <a:latin typeface="Calibri"/>
                <a:ea typeface="Tahoma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ahoma"/>
              </a:rPr>
              <a:t> must be created through a clear strategic pl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4"/>
          <p:cNvSpPr/>
          <p:nvPr/>
        </p:nvSpPr>
        <p:spPr>
          <a:xfrm>
            <a:off x="6083280" y="0"/>
            <a:ext cx="2592360" cy="19954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6056280" y="21258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</a:rPr>
              <a:t>SNS Using  BO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8" descr=""/>
          <p:cNvPicPr/>
          <p:nvPr/>
        </p:nvPicPr>
        <p:blipFill>
          <a:blip r:embed="rId1"/>
          <a:stretch/>
        </p:blipFill>
        <p:spPr>
          <a:xfrm>
            <a:off x="860400" y="1301760"/>
            <a:ext cx="40719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7"/>
          <p:cNvSpPr/>
          <p:nvPr/>
        </p:nvSpPr>
        <p:spPr>
          <a:xfrm>
            <a:off x="755640" y="771480"/>
            <a:ext cx="2592360" cy="460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755640" y="824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14" descr=""/>
          <p:cNvPicPr/>
          <p:nvPr/>
        </p:nvPicPr>
        <p:blipFill>
          <a:blip r:embed="rId1"/>
          <a:srcRect l="22396" t="0" r="10986" b="0"/>
          <a:stretch/>
        </p:blipFill>
        <p:spPr>
          <a:xfrm>
            <a:off x="4000680" y="0"/>
            <a:ext cx="514188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矩形 15"/>
          <p:cNvSpPr/>
          <p:nvPr/>
        </p:nvSpPr>
        <p:spPr>
          <a:xfrm>
            <a:off x="4000680" y="3940200"/>
            <a:ext cx="931680" cy="50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7"/>
          <p:cNvSpPr/>
          <p:nvPr/>
        </p:nvSpPr>
        <p:spPr>
          <a:xfrm>
            <a:off x="2814480" y="3940200"/>
            <a:ext cx="1186200" cy="504720"/>
          </a:xfrm>
          <a:prstGeom prst="rect">
            <a:avLst/>
          </a:prstGeom>
          <a:noFill/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3971880" y="39402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Raleway"/>
              </a:rPr>
              <a:t>37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Raleway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8"/>
          <p:cNvSpPr/>
          <p:nvPr/>
        </p:nvSpPr>
        <p:spPr>
          <a:xfrm>
            <a:off x="2795760" y="3903840"/>
            <a:ext cx="130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aleway"/>
              </a:rPr>
              <a:t>Many Foreign Companies have branch in Ch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826920" y="179244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3"/>
          <p:cNvSpPr/>
          <p:nvPr/>
        </p:nvSpPr>
        <p:spPr>
          <a:xfrm rot="5400000">
            <a:off x="28440" y="141120"/>
            <a:ext cx="609480" cy="288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169920" y="2476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415800" y="343080"/>
            <a:ext cx="35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DD YOUR MAIN 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5724360" y="0"/>
            <a:ext cx="2590920" cy="4017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5724360" y="3938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"/>
          <p:cNvSpPr/>
          <p:nvPr/>
        </p:nvSpPr>
        <p:spPr>
          <a:xfrm>
            <a:off x="385920" y="1276200"/>
            <a:ext cx="3681360" cy="3456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9"/>
          <p:cNvSpPr/>
          <p:nvPr/>
        </p:nvSpPr>
        <p:spPr>
          <a:xfrm>
            <a:off x="379440" y="1708200"/>
            <a:ext cx="216000" cy="5745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0"/>
          <p:cNvSpPr/>
          <p:nvPr/>
        </p:nvSpPr>
        <p:spPr>
          <a:xfrm>
            <a:off x="379440" y="2716200"/>
            <a:ext cx="216000" cy="5763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1"/>
          <p:cNvSpPr/>
          <p:nvPr/>
        </p:nvSpPr>
        <p:spPr>
          <a:xfrm>
            <a:off x="379440" y="3724200"/>
            <a:ext cx="216000" cy="57492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582480" y="1644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 POINT 1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596880" y="19764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4"/>
          <p:cNvSpPr/>
          <p:nvPr/>
        </p:nvSpPr>
        <p:spPr>
          <a:xfrm>
            <a:off x="587520" y="2671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 POINT 2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5"/>
          <p:cNvSpPr/>
          <p:nvPr/>
        </p:nvSpPr>
        <p:spPr>
          <a:xfrm>
            <a:off x="601560" y="30034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6"/>
          <p:cNvSpPr/>
          <p:nvPr/>
        </p:nvSpPr>
        <p:spPr>
          <a:xfrm>
            <a:off x="587520" y="36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 POINT 3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7"/>
          <p:cNvSpPr/>
          <p:nvPr/>
        </p:nvSpPr>
        <p:spPr>
          <a:xfrm>
            <a:off x="601560" y="3983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18" descr=""/>
          <p:cNvPicPr/>
          <p:nvPr/>
        </p:nvPicPr>
        <p:blipFill>
          <a:blip r:embed="rId1"/>
          <a:stretch/>
        </p:blipFill>
        <p:spPr>
          <a:xfrm>
            <a:off x="4211640" y="1274760"/>
            <a:ext cx="2293920" cy="16905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22" descr=""/>
          <p:cNvPicPr/>
          <p:nvPr/>
        </p:nvPicPr>
        <p:blipFill>
          <a:blip r:embed="rId2"/>
          <a:stretch/>
        </p:blipFill>
        <p:spPr>
          <a:xfrm>
            <a:off x="6661080" y="1274760"/>
            <a:ext cx="2293920" cy="169056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23" descr=""/>
          <p:cNvPicPr/>
          <p:nvPr/>
        </p:nvPicPr>
        <p:blipFill>
          <a:blip r:embed="rId3"/>
          <a:stretch/>
        </p:blipFill>
        <p:spPr>
          <a:xfrm>
            <a:off x="4211640" y="3041640"/>
            <a:ext cx="2293920" cy="169056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24" descr=""/>
          <p:cNvPicPr/>
          <p:nvPr/>
        </p:nvPicPr>
        <p:blipFill>
          <a:blip r:embed="rId4"/>
          <a:stretch/>
        </p:blipFill>
        <p:spPr>
          <a:xfrm>
            <a:off x="6661080" y="3041640"/>
            <a:ext cx="2293920" cy="16905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5"/>
          <p:cNvSpPr/>
          <p:nvPr/>
        </p:nvSpPr>
        <p:spPr>
          <a:xfrm>
            <a:off x="6661080" y="1274760"/>
            <a:ext cx="2293920" cy="16905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SSIBLE CH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6"/>
          <p:cNvSpPr/>
          <p:nvPr/>
        </p:nvSpPr>
        <p:spPr>
          <a:xfrm>
            <a:off x="4221000" y="3035160"/>
            <a:ext cx="2294280" cy="168912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SSIBLE CH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3"/>
          <p:cNvSpPr/>
          <p:nvPr/>
        </p:nvSpPr>
        <p:spPr>
          <a:xfrm rot="5400000">
            <a:off x="28440" y="141120"/>
            <a:ext cx="609480" cy="288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169920" y="2476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415800" y="343080"/>
            <a:ext cx="35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6"/>
          <p:cNvSpPr/>
          <p:nvPr/>
        </p:nvSpPr>
        <p:spPr>
          <a:xfrm>
            <a:off x="5724360" y="0"/>
            <a:ext cx="2590920" cy="4017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5724360" y="393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</a:rPr>
              <a:t>WHO are the students</a:t>
            </a:r>
            <a:r>
              <a:rPr b="0" lang="zh-CN" sz="1800" spc="-1" strike="noStrike">
                <a:solidFill>
                  <a:srgbClr val="262626"/>
                </a:solidFill>
                <a:latin typeface="Balham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7"/>
          <p:cNvGrpSpPr/>
          <p:nvPr/>
        </p:nvGrpSpPr>
        <p:grpSpPr>
          <a:xfrm>
            <a:off x="517680" y="1347840"/>
            <a:ext cx="4968720" cy="639720"/>
            <a:chOff x="517680" y="1347840"/>
            <a:chExt cx="4968720" cy="639720"/>
          </a:xfrm>
        </p:grpSpPr>
        <p:pic>
          <p:nvPicPr>
            <p:cNvPr id="601" name="图片 1" descr=""/>
            <p:cNvPicPr/>
            <p:nvPr/>
          </p:nvPicPr>
          <p:blipFill>
            <a:blip r:embed="rId1"/>
            <a:stretch/>
          </p:blipFill>
          <p:spPr>
            <a:xfrm>
              <a:off x="51768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图片 8" descr=""/>
            <p:cNvPicPr/>
            <p:nvPr/>
          </p:nvPicPr>
          <p:blipFill>
            <a:blip r:embed="rId2"/>
            <a:stretch/>
          </p:blipFill>
          <p:spPr>
            <a:xfrm>
              <a:off x="105876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图片 9" descr=""/>
            <p:cNvPicPr/>
            <p:nvPr/>
          </p:nvPicPr>
          <p:blipFill>
            <a:blip r:embed="rId3"/>
            <a:stretch/>
          </p:blipFill>
          <p:spPr>
            <a:xfrm>
              <a:off x="159984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图片 10" descr=""/>
            <p:cNvPicPr/>
            <p:nvPr/>
          </p:nvPicPr>
          <p:blipFill>
            <a:blip r:embed="rId4"/>
            <a:stretch/>
          </p:blipFill>
          <p:spPr>
            <a:xfrm>
              <a:off x="214092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图片 11" descr=""/>
            <p:cNvPicPr/>
            <p:nvPr/>
          </p:nvPicPr>
          <p:blipFill>
            <a:blip r:embed="rId5"/>
            <a:stretch/>
          </p:blipFill>
          <p:spPr>
            <a:xfrm>
              <a:off x="268200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图片 12" descr=""/>
            <p:cNvPicPr/>
            <p:nvPr/>
          </p:nvPicPr>
          <p:blipFill>
            <a:blip r:embed="rId6"/>
            <a:stretch/>
          </p:blipFill>
          <p:spPr>
            <a:xfrm>
              <a:off x="430560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图片 13" descr=""/>
            <p:cNvPicPr/>
            <p:nvPr/>
          </p:nvPicPr>
          <p:blipFill>
            <a:blip r:embed="rId7"/>
            <a:stretch/>
          </p:blipFill>
          <p:spPr>
            <a:xfrm>
              <a:off x="322308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图片 14" descr=""/>
            <p:cNvPicPr/>
            <p:nvPr/>
          </p:nvPicPr>
          <p:blipFill>
            <a:blip r:embed="rId8"/>
            <a:stretch/>
          </p:blipFill>
          <p:spPr>
            <a:xfrm>
              <a:off x="484668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图片 15" descr=""/>
            <p:cNvPicPr/>
            <p:nvPr/>
          </p:nvPicPr>
          <p:blipFill>
            <a:blip r:embed="rId9"/>
            <a:stretch/>
          </p:blipFill>
          <p:spPr>
            <a:xfrm>
              <a:off x="3764160" y="1347840"/>
              <a:ext cx="63972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Group 17"/>
          <p:cNvGrpSpPr/>
          <p:nvPr/>
        </p:nvGrpSpPr>
        <p:grpSpPr>
          <a:xfrm>
            <a:off x="517680" y="1876320"/>
            <a:ext cx="4968720" cy="639720"/>
            <a:chOff x="517680" y="1876320"/>
            <a:chExt cx="4968720" cy="639720"/>
          </a:xfrm>
        </p:grpSpPr>
        <p:pic>
          <p:nvPicPr>
            <p:cNvPr id="611" name="图片 16" descr=""/>
            <p:cNvPicPr/>
            <p:nvPr/>
          </p:nvPicPr>
          <p:blipFill>
            <a:blip r:embed="rId10"/>
            <a:stretch/>
          </p:blipFill>
          <p:spPr>
            <a:xfrm>
              <a:off x="51768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17" descr=""/>
            <p:cNvPicPr/>
            <p:nvPr/>
          </p:nvPicPr>
          <p:blipFill>
            <a:blip r:embed="rId11"/>
            <a:stretch/>
          </p:blipFill>
          <p:spPr>
            <a:xfrm>
              <a:off x="105876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18" descr=""/>
            <p:cNvPicPr/>
            <p:nvPr/>
          </p:nvPicPr>
          <p:blipFill>
            <a:blip r:embed="rId12"/>
            <a:stretch/>
          </p:blipFill>
          <p:spPr>
            <a:xfrm>
              <a:off x="159984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图片 19" descr=""/>
            <p:cNvPicPr/>
            <p:nvPr/>
          </p:nvPicPr>
          <p:blipFill>
            <a:blip r:embed="rId13"/>
            <a:stretch/>
          </p:blipFill>
          <p:spPr>
            <a:xfrm>
              <a:off x="214092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图片 20" descr=""/>
            <p:cNvPicPr/>
            <p:nvPr/>
          </p:nvPicPr>
          <p:blipFill>
            <a:blip r:embed="rId14"/>
            <a:stretch/>
          </p:blipFill>
          <p:spPr>
            <a:xfrm>
              <a:off x="268200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图片 21" descr=""/>
            <p:cNvPicPr/>
            <p:nvPr/>
          </p:nvPicPr>
          <p:blipFill>
            <a:blip r:embed="rId15"/>
            <a:stretch/>
          </p:blipFill>
          <p:spPr>
            <a:xfrm>
              <a:off x="430560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图片 22" descr=""/>
            <p:cNvPicPr/>
            <p:nvPr/>
          </p:nvPicPr>
          <p:blipFill>
            <a:blip r:embed="rId16"/>
            <a:stretch/>
          </p:blipFill>
          <p:spPr>
            <a:xfrm>
              <a:off x="322308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图片 23" descr=""/>
            <p:cNvPicPr/>
            <p:nvPr/>
          </p:nvPicPr>
          <p:blipFill>
            <a:blip r:embed="rId17"/>
            <a:stretch/>
          </p:blipFill>
          <p:spPr>
            <a:xfrm>
              <a:off x="484668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图片 24" descr=""/>
            <p:cNvPicPr/>
            <p:nvPr/>
          </p:nvPicPr>
          <p:blipFill>
            <a:blip r:embed="rId18"/>
            <a:stretch/>
          </p:blipFill>
          <p:spPr>
            <a:xfrm>
              <a:off x="3764160" y="1876320"/>
              <a:ext cx="63972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27"/>
          <p:cNvGrpSpPr/>
          <p:nvPr/>
        </p:nvGrpSpPr>
        <p:grpSpPr>
          <a:xfrm>
            <a:off x="517680" y="2403360"/>
            <a:ext cx="4968720" cy="641520"/>
            <a:chOff x="517680" y="2403360"/>
            <a:chExt cx="4968720" cy="641520"/>
          </a:xfrm>
        </p:grpSpPr>
        <p:pic>
          <p:nvPicPr>
            <p:cNvPr id="621" name="图片 25" descr=""/>
            <p:cNvPicPr/>
            <p:nvPr/>
          </p:nvPicPr>
          <p:blipFill>
            <a:blip r:embed="rId19"/>
            <a:stretch/>
          </p:blipFill>
          <p:spPr>
            <a:xfrm>
              <a:off x="51768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图片 26" descr=""/>
            <p:cNvPicPr/>
            <p:nvPr/>
          </p:nvPicPr>
          <p:blipFill>
            <a:blip r:embed="rId20"/>
            <a:stretch/>
          </p:blipFill>
          <p:spPr>
            <a:xfrm>
              <a:off x="105876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图片 27" descr=""/>
            <p:cNvPicPr/>
            <p:nvPr/>
          </p:nvPicPr>
          <p:blipFill>
            <a:blip r:embed="rId21"/>
            <a:stretch/>
          </p:blipFill>
          <p:spPr>
            <a:xfrm>
              <a:off x="159984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28" descr=""/>
            <p:cNvPicPr/>
            <p:nvPr/>
          </p:nvPicPr>
          <p:blipFill>
            <a:blip r:embed="rId22"/>
            <a:stretch/>
          </p:blipFill>
          <p:spPr>
            <a:xfrm>
              <a:off x="214092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图片 29" descr=""/>
            <p:cNvPicPr/>
            <p:nvPr/>
          </p:nvPicPr>
          <p:blipFill>
            <a:blip r:embed="rId23"/>
            <a:stretch/>
          </p:blipFill>
          <p:spPr>
            <a:xfrm>
              <a:off x="268200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图片 30" descr=""/>
            <p:cNvPicPr/>
            <p:nvPr/>
          </p:nvPicPr>
          <p:blipFill>
            <a:blip r:embed="rId24"/>
            <a:stretch/>
          </p:blipFill>
          <p:spPr>
            <a:xfrm>
              <a:off x="430560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图片 31" descr=""/>
            <p:cNvPicPr/>
            <p:nvPr/>
          </p:nvPicPr>
          <p:blipFill>
            <a:blip r:embed="rId25"/>
            <a:stretch/>
          </p:blipFill>
          <p:spPr>
            <a:xfrm>
              <a:off x="322308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图片 32" descr=""/>
            <p:cNvPicPr/>
            <p:nvPr/>
          </p:nvPicPr>
          <p:blipFill>
            <a:blip r:embed="rId26"/>
            <a:stretch/>
          </p:blipFill>
          <p:spPr>
            <a:xfrm>
              <a:off x="484668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33" descr=""/>
            <p:cNvPicPr/>
            <p:nvPr/>
          </p:nvPicPr>
          <p:blipFill>
            <a:blip r:embed="rId27"/>
            <a:stretch/>
          </p:blipFill>
          <p:spPr>
            <a:xfrm>
              <a:off x="3764160" y="2403360"/>
              <a:ext cx="63972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Group 37"/>
          <p:cNvGrpSpPr/>
          <p:nvPr/>
        </p:nvGrpSpPr>
        <p:grpSpPr>
          <a:xfrm>
            <a:off x="520560" y="2933640"/>
            <a:ext cx="4967280" cy="639720"/>
            <a:chOff x="520560" y="2933640"/>
            <a:chExt cx="4967280" cy="639720"/>
          </a:xfrm>
        </p:grpSpPr>
        <p:pic>
          <p:nvPicPr>
            <p:cNvPr id="631" name="图片 34" descr=""/>
            <p:cNvPicPr/>
            <p:nvPr/>
          </p:nvPicPr>
          <p:blipFill>
            <a:blip r:embed="rId28"/>
            <a:stretch/>
          </p:blipFill>
          <p:spPr>
            <a:xfrm>
              <a:off x="52056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图片 35" descr=""/>
            <p:cNvPicPr/>
            <p:nvPr/>
          </p:nvPicPr>
          <p:blipFill>
            <a:blip r:embed="rId29"/>
            <a:stretch/>
          </p:blipFill>
          <p:spPr>
            <a:xfrm>
              <a:off x="106128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图片 36" descr=""/>
            <p:cNvPicPr/>
            <p:nvPr/>
          </p:nvPicPr>
          <p:blipFill>
            <a:blip r:embed="rId30"/>
            <a:stretch/>
          </p:blipFill>
          <p:spPr>
            <a:xfrm>
              <a:off x="160236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图片 37" descr=""/>
            <p:cNvPicPr/>
            <p:nvPr/>
          </p:nvPicPr>
          <p:blipFill>
            <a:blip r:embed="rId31"/>
            <a:stretch/>
          </p:blipFill>
          <p:spPr>
            <a:xfrm>
              <a:off x="214344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图片 38" descr=""/>
            <p:cNvPicPr/>
            <p:nvPr/>
          </p:nvPicPr>
          <p:blipFill>
            <a:blip r:embed="rId32"/>
            <a:stretch/>
          </p:blipFill>
          <p:spPr>
            <a:xfrm>
              <a:off x="268416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9" descr=""/>
            <p:cNvPicPr/>
            <p:nvPr/>
          </p:nvPicPr>
          <p:blipFill>
            <a:blip r:embed="rId33"/>
            <a:stretch/>
          </p:blipFill>
          <p:spPr>
            <a:xfrm>
              <a:off x="430740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40" descr=""/>
            <p:cNvPicPr/>
            <p:nvPr/>
          </p:nvPicPr>
          <p:blipFill>
            <a:blip r:embed="rId34"/>
            <a:stretch/>
          </p:blipFill>
          <p:spPr>
            <a:xfrm>
              <a:off x="322524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图片 41" descr=""/>
            <p:cNvPicPr/>
            <p:nvPr/>
          </p:nvPicPr>
          <p:blipFill>
            <a:blip r:embed="rId35"/>
            <a:stretch/>
          </p:blipFill>
          <p:spPr>
            <a:xfrm>
              <a:off x="484812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图片 42" descr=""/>
            <p:cNvPicPr/>
            <p:nvPr/>
          </p:nvPicPr>
          <p:blipFill>
            <a:blip r:embed="rId36"/>
            <a:stretch/>
          </p:blipFill>
          <p:spPr>
            <a:xfrm>
              <a:off x="3766320" y="2933640"/>
              <a:ext cx="63972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矩形 46"/>
          <p:cNvSpPr/>
          <p:nvPr/>
        </p:nvSpPr>
        <p:spPr>
          <a:xfrm>
            <a:off x="2143080" y="1911240"/>
            <a:ext cx="200808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7"/>
          <p:cNvSpPr/>
          <p:nvPr/>
        </p:nvSpPr>
        <p:spPr>
          <a:xfrm>
            <a:off x="1989000" y="1846440"/>
            <a:ext cx="22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f3f3f"/>
                </a:solidFill>
                <a:latin typeface="Elephant"/>
              </a:rPr>
              <a:t>79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48"/>
          <p:cNvSpPr/>
          <p:nvPr/>
        </p:nvSpPr>
        <p:spPr>
          <a:xfrm>
            <a:off x="2199960" y="260352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VERSITY LEVEL RESPON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49"/>
          <p:cNvSpPr/>
          <p:nvPr/>
        </p:nvSpPr>
        <p:spPr>
          <a:xfrm>
            <a:off x="601560" y="3911760"/>
            <a:ext cx="2514600" cy="28872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1"/>
          <p:cNvSpPr/>
          <p:nvPr/>
        </p:nvSpPr>
        <p:spPr>
          <a:xfrm>
            <a:off x="3116160" y="3909960"/>
            <a:ext cx="2247840" cy="28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0"/>
          <p:cNvSpPr/>
          <p:nvPr/>
        </p:nvSpPr>
        <p:spPr>
          <a:xfrm>
            <a:off x="615960" y="386712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3"/>
          <p:cNvSpPr/>
          <p:nvPr/>
        </p:nvSpPr>
        <p:spPr>
          <a:xfrm>
            <a:off x="3159000" y="386712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等腰三角形 52"/>
          <p:cNvSpPr/>
          <p:nvPr/>
        </p:nvSpPr>
        <p:spPr>
          <a:xfrm rot="10800000">
            <a:off x="758880" y="4196880"/>
            <a:ext cx="141120" cy="127080"/>
          </a:xfrm>
          <a:prstGeom prst="triangle">
            <a:avLst>
              <a:gd name="adj" fmla="val 50000"/>
            </a:avLst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等腰三角形 55"/>
          <p:cNvSpPr/>
          <p:nvPr/>
        </p:nvSpPr>
        <p:spPr>
          <a:xfrm rot="10800000">
            <a:off x="3348000" y="4196880"/>
            <a:ext cx="139680" cy="1256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4"/>
          <p:cNvSpPr/>
          <p:nvPr/>
        </p:nvSpPr>
        <p:spPr>
          <a:xfrm>
            <a:off x="539640" y="42926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alibri"/>
              </a:rPr>
              <a:t>2012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57"/>
          <p:cNvSpPr/>
          <p:nvPr/>
        </p:nvSpPr>
        <p:spPr>
          <a:xfrm>
            <a:off x="3108240" y="42926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alibri"/>
              </a:rPr>
              <a:t>2013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8"/>
          <p:cNvSpPr/>
          <p:nvPr/>
        </p:nvSpPr>
        <p:spPr>
          <a:xfrm>
            <a:off x="6156360" y="1419120"/>
            <a:ext cx="1008000" cy="20811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0"/>
          <p:cNvSpPr/>
          <p:nvPr/>
        </p:nvSpPr>
        <p:spPr>
          <a:xfrm>
            <a:off x="7380360" y="987480"/>
            <a:ext cx="1008000" cy="251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59"/>
          <p:cNvSpPr/>
          <p:nvPr/>
        </p:nvSpPr>
        <p:spPr>
          <a:xfrm>
            <a:off x="6073920" y="3753000"/>
            <a:ext cx="26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47% of the respondents are male and 52% are 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61"/>
          <p:cNvSpPr/>
          <p:nvPr/>
        </p:nvSpPr>
        <p:spPr>
          <a:xfrm>
            <a:off x="6521400" y="4443480"/>
            <a:ext cx="18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* Note: 1% refused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五角星 1"/>
          <p:cNvSpPr/>
          <p:nvPr/>
        </p:nvSpPr>
        <p:spPr>
          <a:xfrm rot="20877600">
            <a:off x="-934920" y="-3363480"/>
            <a:ext cx="10671120" cy="10671120"/>
          </a:xfrm>
          <a:prstGeom prst="pi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3564000" y="1995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0Z</dcterms:created>
  <dc:creator>果冻</dc:creator>
  <dc:description/>
  <cp:keywords/>
  <dc:language>en-US</dc:language>
  <cp:lastModifiedBy>微软用户</cp:lastModifiedBy>
  <cp:lastPrinted>1899-12-30T00:00:00Z</cp:lastPrinted>
  <dcterms:modified xsi:type="dcterms:W3CDTF">2014-12-02T08:13:10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