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E090F-E63C-4BF0-984F-1EE98477F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C414D-9834-49CF-AF00-09C395CD0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5685-D9FD-4DD9-B788-79F0114D09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8E9B-8F01-4459-8731-5C7064EE8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A455-9D47-43BB-AA36-EEE7DF98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7435-BB62-4E05-A437-25004817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27171-4FA3-4AAE-892D-3A79105BA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51D85-D606-4FCA-B926-2945EF8B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627C-1672-4E1F-BA1A-14DF7DCD7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EC7A-A5B0-4AF3-B135-A0A61680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630F-90A3-4A87-8E0E-23C2BA52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DFF5-236D-41B8-BE38-F2EC65F1B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C8EE-D6F5-4259-8D38-64EF5113FA0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6"/>
          <p:cNvSpPr/>
          <p:nvPr/>
        </p:nvSpPr>
        <p:spPr>
          <a:xfrm>
            <a:off x="281160" y="52848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内容占位符 3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45336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"/>
          <p:cNvPicPr/>
          <p:nvPr/>
        </p:nvPicPr>
        <p:blipFill>
          <a:blip r:embed="rId2"/>
          <a:srcRect l="0" t="91256" r="0" b="0"/>
          <a:stretch/>
        </p:blipFill>
        <p:spPr>
          <a:xfrm>
            <a:off x="-22320" y="0"/>
            <a:ext cx="9166320" cy="6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2T11:51:18Z</dcterms:created>
  <dc:creator>涛涛作品</dc:creator>
  <dc:description>忆清明2013年清明节涛涛作品</dc:description>
  <dc:language>en-US</dc:language>
  <cp:lastModifiedBy>admin</cp:lastModifiedBy>
  <dcterms:modified xsi:type="dcterms:W3CDTF">2015-03-12T01:06:56Z</dcterms:modified>
  <cp:revision>8</cp:revision>
  <dc:subject/>
  <dc:title>PowerPoint 演示文稿</dc:title>
</cp:coreProperties>
</file>