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F42-482B-48F3-A875-737C54A2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9C2-57EA-4283-9988-E9069323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ED0-D405-4E5B-AD72-5CB2C441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F7D-B814-4029-95A4-23FDBBF6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974B-7B71-4DFC-81C8-E76DBFAE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4E6F-6057-4055-86D0-B7FFDAC4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8C60-E40B-40D0-9E1B-94AC46B8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D6F1-6F79-4161-A52C-DE9279B3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DD37-0CA4-48DF-AB1B-0E82DBEA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EB35-C0DC-4CAC-8381-2928A3CA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FFBC-282E-481D-8EDD-39865170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388-B147-4216-A79D-9CE8CDD4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F872-13B0-442C-B17B-E51BE5C9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82B0-C3B9-40FF-BB9A-92A8B97B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A99E-DB17-46B6-BBAF-E4857799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8EBF-A9B8-4F70-B549-735CEDFC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4488-6721-4B06-A3E5-26ED76A3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3B2F6-8DD0-47E8-B6E8-85172F06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A6A9D-17D7-487E-98C2-80508FD1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3A47F-FA3E-4E80-87AD-46A316F1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6CC09-9E6F-48E1-A554-1CF21354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A9FA9-AD57-4A04-8291-4BF29E4C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478-9FBB-418F-B181-4D2F5ED6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EEE0A-C8E0-4B39-BE94-06CEFEDF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14286-922B-41DA-B532-6A148CA5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4C079-CBF4-4892-AA5A-EB3CBC0D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3B334-8080-4843-BBB3-28AE6AC4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1A6BF-A72A-4870-9D63-5982A8A3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9708E-01E8-4832-838A-A9934C66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1C4CA-D1FD-46BA-BF5E-EF326497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EC373-541E-4BE4-ADF8-0E44D45E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633DB-A315-4CC2-94FB-3C674E8C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5CA69-F4DE-401C-98AA-13DEC629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FD2-2AE8-461F-8235-D2DA2121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D13EA-B73B-4384-9B02-93FB9EB4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6F355-F7CA-4660-87EF-B8475C99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BE1CE-CCC9-4691-9338-52000038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9C4A6-0B95-4EBE-AE59-8B8F3F65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17DE2-8884-4477-A074-64A82075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F5AE0-6C0B-43FB-A973-35214BC4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115D5-71E0-4E08-B911-6E01E10D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0677F-A661-42BC-9670-A79C6181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F269C-033A-4C81-9143-D5B0BDBC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000B8-EEC0-4001-A12E-7E7D7393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83F-A4DF-4224-A22A-0A41F33E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1C341-30A2-427D-84AB-9C122AD6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5C817-20CD-4CD6-BA55-09657859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20C95-BC1C-4F94-843E-0570EB60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DD823-809A-4D21-BAC6-C3EA5977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11AB0-99E8-4EFB-AD2A-BE8C3598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6F749-361E-4E3C-95DF-4A8EB575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60578-B8D1-488C-9210-F24F0283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62472-3212-435A-BC8C-162D9BAE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C226B-29AF-4E13-8E2F-E57785DC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E5188-A76D-4ACC-A652-D010AF9A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0CC-A38B-45AE-9D1D-F5C5AD9E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49A93-2335-4760-9E12-7BFDAF47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64F8F-1A12-47CB-8B86-2C1C418A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606EE-E8D3-414B-A602-2D3772A8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233C1-AF9F-4E7B-9095-B86CFD39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D586F-C89F-4524-BB81-6C15C910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CA67F-6178-4956-A6D7-1154C009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D0220-64C1-4A6A-93EE-A0C0E3AB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6DCDD-A241-4D45-9088-7B6D9962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D9725-5AC6-4A59-8B8A-C482AA4B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036C6-72C5-4236-B56F-C7967052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97C-0771-454C-B774-E94A9C28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E0C69-3C70-4141-B25B-ABD46AAD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4B01D-57D3-4A11-9B82-609FD968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18B94-0E2A-402D-ADA1-CA0DAF1E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1CB-7A33-49A6-A818-A36E137F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888-7136-4718-8029-DB0C24E8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D61C-9E39-41A2-BE02-4FAC1311F0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DB9B-444B-44FA-ABB0-D629B529DE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AF78-BD80-42B4-8E80-989BEF4B7A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8AA9-8DC2-4033-9507-AAB96D3378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820B-27FA-43C4-9C83-119DE4B19A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CBCB-AB60-4A03-8D24-AA06ADE41F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5"/>
          <p:cNvSpPr/>
          <p:nvPr/>
        </p:nvSpPr>
        <p:spPr>
          <a:xfrm>
            <a:off x="540720" y="3876840"/>
            <a:ext cx="252684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划我的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5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叶（张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7093080" y="6308640"/>
            <a:ext cx="1839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 rot="2353800">
            <a:off x="1949760" y="15033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9"/>
          <p:cNvSpPr/>
          <p:nvPr/>
        </p:nvSpPr>
        <p:spPr>
          <a:xfrm>
            <a:off x="836640" y="1571760"/>
            <a:ext cx="616428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  <a:ea typeface="华文琥珀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著作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越对手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项目售前售后的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实战技巧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  <a:ea typeface="华文琥珀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教学研究论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  <a:ea typeface="华文琥珀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份工作（大学教师，职业技能内训讲师，网络营销顾问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  <a:ea typeface="华文琥珀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爱好（读书、写博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病毒式营销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  <a:ea typeface="华文琥珀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份收获（家庭的爱、新朋友，商业新视野、现金流、珍惜健康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3471120" y="1000080"/>
            <a:ext cx="21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关于秋叶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3"/>
          <p:cNvSpPr/>
          <p:nvPr/>
        </p:nvSpPr>
        <p:spPr>
          <a:xfrm>
            <a:off x="357120" y="4108320"/>
            <a:ext cx="2143080" cy="103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5670720" y="410544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5686560" y="880920"/>
            <a:ext cx="2143080" cy="965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06440" y="85716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362320" y="111276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rc 8"/>
          <p:cNvSpPr/>
          <p:nvPr/>
        </p:nvSpPr>
        <p:spPr>
          <a:xfrm flipH="1" flipV="1" rot="5400000">
            <a:off x="2913120" y="1244520"/>
            <a:ext cx="419040" cy="216000"/>
          </a:xfrm>
          <a:custGeom>
            <a:avLst/>
            <a:gdLst>
              <a:gd name="textAreaLeft" fmla="*/ 360 w 419040"/>
              <a:gd name="textAreaRight" fmla="*/ 419760 w 41904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67"/>
                  <a:pt x="-22337" y="21734"/>
                  <a:pt x="-22337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67"/>
                  <a:pt x="-22337" y="21734"/>
                  <a:pt x="-22337" y="21801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56832" dir="3796358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>
            <a:off x="2333520" y="439416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rc 10"/>
          <p:cNvSpPr/>
          <p:nvPr/>
        </p:nvSpPr>
        <p:spPr>
          <a:xfrm rot="9670200">
            <a:off x="2984040" y="4421160"/>
            <a:ext cx="206640" cy="355680"/>
          </a:xfrm>
          <a:custGeom>
            <a:avLst/>
            <a:gdLst>
              <a:gd name="textAreaLeft" fmla="*/ 0 w 206640"/>
              <a:gd name="textAreaRight" fmla="*/ 207000 w 20664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eeece1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1"/>
          <p:cNvSpPr/>
          <p:nvPr/>
        </p:nvSpPr>
        <p:spPr>
          <a:xfrm>
            <a:off x="4948200" y="4405320"/>
            <a:ext cx="9604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2"/>
          <p:cNvSpPr/>
          <p:nvPr/>
        </p:nvSpPr>
        <p:spPr>
          <a:xfrm>
            <a:off x="4965840" y="114624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rc 13"/>
          <p:cNvSpPr/>
          <p:nvPr/>
        </p:nvSpPr>
        <p:spPr>
          <a:xfrm rot="5400000">
            <a:off x="5486040" y="4489200"/>
            <a:ext cx="365400" cy="254160"/>
          </a:xfrm>
          <a:custGeom>
            <a:avLst/>
            <a:gdLst>
              <a:gd name="textAreaLeft" fmla="*/ 0 w 365400"/>
              <a:gd name="textAreaRight" fmla="*/ 365760 w 3654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  <a:effectLst>
            <a:outerShdw dist="56832" dir="160364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14"/>
          <p:cNvSpPr/>
          <p:nvPr/>
        </p:nvSpPr>
        <p:spPr>
          <a:xfrm>
            <a:off x="5592600" y="1185840"/>
            <a:ext cx="273240" cy="347760"/>
          </a:xfrm>
          <a:custGeom>
            <a:avLst/>
            <a:gdLst>
              <a:gd name="textAreaLeft" fmla="*/ 0 w 273240"/>
              <a:gd name="textAreaRight" fmla="*/ 273600 w 273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c0504d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2292480" y="11494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6"/>
          <p:cNvSpPr/>
          <p:nvPr/>
        </p:nvSpPr>
        <p:spPr>
          <a:xfrm>
            <a:off x="4857840" y="444492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2252520" y="44402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8"/>
          <p:cNvSpPr/>
          <p:nvPr/>
        </p:nvSpPr>
        <p:spPr>
          <a:xfrm>
            <a:off x="4867200" y="11905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474840" y="903240"/>
            <a:ext cx="1746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成三件有挑战性的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0"/>
          <p:cNvSpPr/>
          <p:nvPr/>
        </p:nvSpPr>
        <p:spPr>
          <a:xfrm>
            <a:off x="5950080" y="414180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家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注孩子的成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纪念结婚十周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417600" y="418140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锻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控制体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持体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2"/>
          <p:cNvSpPr/>
          <p:nvPr/>
        </p:nvSpPr>
        <p:spPr>
          <a:xfrm>
            <a:off x="5950080" y="903240"/>
            <a:ext cx="18572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读、写作、思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更多的朋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4"/>
          <p:cNvSpPr/>
          <p:nvPr/>
        </p:nvSpPr>
        <p:spPr>
          <a:xfrm>
            <a:off x="2643120" y="1504800"/>
            <a:ext cx="3041640" cy="302112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5" descr="aa"/>
          <p:cNvPicPr/>
          <p:nvPr/>
        </p:nvPicPr>
        <p:blipFill>
          <a:blip r:embed="rId1"/>
          <a:stretch/>
        </p:blipFill>
        <p:spPr>
          <a:xfrm>
            <a:off x="2643120" y="1500120"/>
            <a:ext cx="3051360" cy="3044880"/>
          </a:xfrm>
          <a:prstGeom prst="rect">
            <a:avLst/>
          </a:prstGeom>
          <a:ln w="0">
            <a:noFill/>
          </a:ln>
        </p:spPr>
      </p:pic>
      <p:sp>
        <p:nvSpPr>
          <p:cNvPr id="273" name="Arc 26"/>
          <p:cNvSpPr/>
          <p:nvPr/>
        </p:nvSpPr>
        <p:spPr>
          <a:xfrm>
            <a:off x="4138560" y="1500120"/>
            <a:ext cx="1220760" cy="152100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521000"/>
              <a:gd name="textAreaBottom" fmla="*/ 1521360 h 1521000"/>
            </a:gdLst>
            <a:ahLst/>
            <a:rect l="textAreaLeft" t="textAreaTop" r="textAreaRight" b="textAreaBottom"/>
            <a:pathLst>
              <a:path fill="none" w="1736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</a:path>
              <a:path stroke="0" w="1736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0504d">
              <a:alpha val="70000"/>
            </a:srgbClr>
          </a:solidFill>
          <a:ln w="93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rc 27"/>
          <p:cNvSpPr/>
          <p:nvPr/>
        </p:nvSpPr>
        <p:spPr>
          <a:xfrm rot="5400000">
            <a:off x="3819240" y="2417760"/>
            <a:ext cx="2221200" cy="1519200"/>
          </a:xfrm>
          <a:custGeom>
            <a:avLst/>
            <a:gdLst>
              <a:gd name="textAreaLeft" fmla="*/ 0 w 2221200"/>
              <a:gd name="textAreaRight" fmla="*/ 2221560 w 2221200"/>
              <a:gd name="textAreaTop" fmla="*/ 0 h 1519200"/>
              <a:gd name="textAreaBottom" fmla="*/ 1519560 h 1519200"/>
            </a:gdLst>
            <a:ahLst/>
            <a:rect l="textAreaLeft" t="textAreaTop" r="textAreaRight" b="textAreaBottom"/>
            <a:pathLst>
              <a:path fill="none" w="31543" h="21600">
                <a:moveTo>
                  <a:pt x="0" y="4768"/>
                </a:moveTo>
                <a:cubicBezTo>
                  <a:pt x="3837" y="1682"/>
                  <a:pt x="8613" y="-1"/>
                  <a:pt x="13537" y="0"/>
                </a:cubicBezTo>
                <a:cubicBezTo>
                  <a:pt x="20780" y="0"/>
                  <a:pt x="27542" y="3631"/>
                  <a:pt x="31543" y="9669"/>
                </a:cubicBezTo>
              </a:path>
              <a:path stroke="0" w="31543" h="21600">
                <a:moveTo>
                  <a:pt x="0" y="4768"/>
                </a:moveTo>
                <a:cubicBezTo>
                  <a:pt x="3837" y="1682"/>
                  <a:pt x="8613" y="-1"/>
                  <a:pt x="13537" y="0"/>
                </a:cubicBezTo>
                <a:cubicBezTo>
                  <a:pt x="20780" y="0"/>
                  <a:pt x="27542" y="3631"/>
                  <a:pt x="31543" y="9669"/>
                </a:cubicBezTo>
                <a:lnTo>
                  <a:pt x="13537" y="21600"/>
                </a:lnTo>
                <a:lnTo>
                  <a:pt x="0" y="4768"/>
                </a:lnTo>
                <a:close/>
              </a:path>
            </a:pathLst>
          </a:custGeom>
          <a:solidFill>
            <a:srgbClr val="92d05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rc 28"/>
          <p:cNvSpPr/>
          <p:nvPr/>
        </p:nvSpPr>
        <p:spPr>
          <a:xfrm flipH="1" flipV="1" rot="5400000">
            <a:off x="1928520" y="2233800"/>
            <a:ext cx="3025800" cy="1579320"/>
          </a:xfrm>
          <a:custGeom>
            <a:avLst/>
            <a:gdLst>
              <a:gd name="textAreaLeft" fmla="*/ -360 w 3025800"/>
              <a:gd name="textAreaRight" fmla="*/ 3025800 w 3025800"/>
              <a:gd name="textAreaTop" fmla="*/ -360 h 1579320"/>
              <a:gd name="textAreaBottom" fmla="*/ 1579320 h 1579320"/>
            </a:gdLst>
            <a:ahLst/>
            <a:rect l="textAreaLeft" t="textAreaTop" r="textAreaRight" b="textAreaBottom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29"/>
          <p:cNvGrpSpPr/>
          <p:nvPr/>
        </p:nvGrpSpPr>
        <p:grpSpPr>
          <a:xfrm>
            <a:off x="2631600" y="3036240"/>
            <a:ext cx="1740240" cy="1641240"/>
            <a:chOff x="2631600" y="3036240"/>
            <a:chExt cx="1740240" cy="1641240"/>
          </a:xfrm>
        </p:grpSpPr>
        <p:sp>
          <p:nvSpPr>
            <p:cNvPr id="277" name="AutoShape 30"/>
            <p:cNvSpPr/>
            <p:nvPr/>
          </p:nvSpPr>
          <p:spPr>
            <a:xfrm flipV="1" rot="19510800">
              <a:off x="3038400" y="2996640"/>
              <a:ext cx="342360" cy="153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31"/>
            <p:cNvSpPr/>
            <p:nvPr/>
          </p:nvSpPr>
          <p:spPr>
            <a:xfrm flipV="1" rot="18694800">
              <a:off x="3192120" y="3200400"/>
              <a:ext cx="342360" cy="1532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32"/>
            <p:cNvSpPr/>
            <p:nvPr/>
          </p:nvSpPr>
          <p:spPr>
            <a:xfrm flipV="1" rot="18399600">
              <a:off x="3304800" y="3294360"/>
              <a:ext cx="342360" cy="1532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33"/>
            <p:cNvSpPr/>
            <p:nvPr/>
          </p:nvSpPr>
          <p:spPr>
            <a:xfrm flipV="1" rot="17867400">
              <a:off x="3442680" y="3402360"/>
              <a:ext cx="342360" cy="1532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rc 34"/>
          <p:cNvSpPr/>
          <p:nvPr/>
        </p:nvSpPr>
        <p:spPr>
          <a:xfrm rot="9670200">
            <a:off x="3984120" y="2982600"/>
            <a:ext cx="820800" cy="1519200"/>
          </a:xfrm>
          <a:custGeom>
            <a:avLst/>
            <a:gdLst>
              <a:gd name="textAreaLeft" fmla="*/ 0 w 820800"/>
              <a:gd name="textAreaRight" fmla="*/ 821160 w 820800"/>
              <a:gd name="textAreaTop" fmla="*/ 0 h 1519200"/>
              <a:gd name="textAreaBottom" fmla="*/ 1519560 h 1519200"/>
            </a:gdLst>
            <a:ahLst/>
            <a:rect l="textAreaLeft" t="textAreaTop" r="textAreaRight" b="textAreaBottom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35"/>
          <p:cNvSpPr/>
          <p:nvPr/>
        </p:nvSpPr>
        <p:spPr>
          <a:xfrm>
            <a:off x="3646440" y="2513160"/>
            <a:ext cx="1035000" cy="103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2676600" y="278928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4871880" y="29685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4195800" y="1913040"/>
            <a:ext cx="8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4195800" y="38750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40"/>
          <p:cNvGrpSpPr/>
          <p:nvPr/>
        </p:nvGrpSpPr>
        <p:grpSpPr>
          <a:xfrm>
            <a:off x="3976200" y="1507680"/>
            <a:ext cx="1662480" cy="1392480"/>
            <a:chOff x="3976200" y="1507680"/>
            <a:chExt cx="1662480" cy="1392480"/>
          </a:xfrm>
        </p:grpSpPr>
        <p:grpSp>
          <p:nvGrpSpPr>
            <p:cNvPr id="288" name="Group 41"/>
            <p:cNvGrpSpPr/>
            <p:nvPr/>
          </p:nvGrpSpPr>
          <p:grpSpPr>
            <a:xfrm>
              <a:off x="4327560" y="1514520"/>
              <a:ext cx="1311120" cy="1385640"/>
              <a:chOff x="4327560" y="1514520"/>
              <a:chExt cx="1311120" cy="1385640"/>
            </a:xfrm>
          </p:grpSpPr>
          <p:sp>
            <p:nvSpPr>
              <p:cNvPr id="289" name="AutoShape 42"/>
              <p:cNvSpPr/>
              <p:nvPr/>
            </p:nvSpPr>
            <p:spPr>
              <a:xfrm flipV="1" rot="8983800">
                <a:off x="5076720" y="1692000"/>
                <a:ext cx="271800" cy="122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AutoShape 43"/>
              <p:cNvSpPr/>
              <p:nvPr/>
            </p:nvSpPr>
            <p:spPr>
              <a:xfrm flipV="1" rot="8167800">
                <a:off x="4967280" y="1520640"/>
                <a:ext cx="271800" cy="1222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AutoShape 44"/>
              <p:cNvSpPr/>
              <p:nvPr/>
            </p:nvSpPr>
            <p:spPr>
              <a:xfrm flipV="1" rot="7872600">
                <a:off x="4883760" y="1438560"/>
                <a:ext cx="271800" cy="122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45"/>
              <p:cNvSpPr/>
              <p:nvPr/>
            </p:nvSpPr>
            <p:spPr>
              <a:xfrm flipV="1" rot="7340400">
                <a:off x="4780800" y="1344240"/>
                <a:ext cx="271800" cy="122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46"/>
            <p:cNvGrpSpPr/>
            <p:nvPr/>
          </p:nvGrpSpPr>
          <p:grpSpPr>
            <a:xfrm>
              <a:off x="3976200" y="1507680"/>
              <a:ext cx="1600920" cy="963000"/>
              <a:chOff x="3976200" y="1507680"/>
              <a:chExt cx="1600920" cy="963000"/>
            </a:xfrm>
          </p:grpSpPr>
          <p:sp>
            <p:nvSpPr>
              <p:cNvPr id="294" name="AutoShape 47"/>
              <p:cNvSpPr/>
              <p:nvPr/>
            </p:nvSpPr>
            <p:spPr>
              <a:xfrm flipV="1" rot="7630800">
                <a:off x="4871880" y="1380600"/>
                <a:ext cx="271440" cy="122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AutoShape 48"/>
              <p:cNvSpPr/>
              <p:nvPr/>
            </p:nvSpPr>
            <p:spPr>
              <a:xfrm flipV="1" rot="6814800">
                <a:off x="4705200" y="1265400"/>
                <a:ext cx="271440" cy="122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AutoShape 49"/>
              <p:cNvSpPr/>
              <p:nvPr/>
            </p:nvSpPr>
            <p:spPr>
              <a:xfrm flipV="1" rot="6519600">
                <a:off x="4596840" y="1221120"/>
                <a:ext cx="271440" cy="122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AutoShape 50"/>
              <p:cNvSpPr/>
              <p:nvPr/>
            </p:nvSpPr>
            <p:spPr>
              <a:xfrm flipV="1" rot="5987400">
                <a:off x="4465800" y="1172520"/>
                <a:ext cx="271440" cy="122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Text Box 10"/>
          <p:cNvSpPr/>
          <p:nvPr/>
        </p:nvSpPr>
        <p:spPr>
          <a:xfrm>
            <a:off x="580320" y="142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目标要平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14" descr="xin_4620405021404718819572.jpg"/>
          <p:cNvPicPr/>
          <p:nvPr/>
        </p:nvPicPr>
        <p:blipFill>
          <a:blip r:embed="rId1"/>
          <a:stretch/>
        </p:blipFill>
        <p:spPr>
          <a:xfrm>
            <a:off x="785880" y="278604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10"/>
          <p:cNvSpPr/>
          <p:nvPr/>
        </p:nvSpPr>
        <p:spPr>
          <a:xfrm>
            <a:off x="580320" y="142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目标要具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图片 6" descr="小米粥 健康食品.jpg"/>
          <p:cNvPicPr/>
          <p:nvPr/>
        </p:nvPicPr>
        <p:blipFill>
          <a:blip r:embed="rId2"/>
          <a:srcRect l="0" t="0" r="0" b="12003"/>
          <a:stretch/>
        </p:blipFill>
        <p:spPr>
          <a:xfrm>
            <a:off x="4286160" y="3184560"/>
            <a:ext cx="2160720" cy="14587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302" name="图片 7" descr="燕麦 健康食品.jpg"/>
          <p:cNvPicPr/>
          <p:nvPr/>
        </p:nvPicPr>
        <p:blipFill>
          <a:blip r:embed="rId3"/>
          <a:srcRect l="0" t="0" r="1235" b="0"/>
          <a:stretch/>
        </p:blipFill>
        <p:spPr>
          <a:xfrm>
            <a:off x="4286160" y="1473120"/>
            <a:ext cx="2160720" cy="14590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303" name="图片 8" descr="土豆 健康食品.jpg"/>
          <p:cNvPicPr/>
          <p:nvPr/>
        </p:nvPicPr>
        <p:blipFill>
          <a:blip r:embed="rId4"/>
          <a:srcRect l="0" t="11571" r="0" b="20316"/>
          <a:stretch/>
        </p:blipFill>
        <p:spPr>
          <a:xfrm>
            <a:off x="6661080" y="3184560"/>
            <a:ext cx="2160720" cy="14587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304" name="图片 9" descr="荞麦 健康食品.jpg"/>
          <p:cNvPicPr/>
          <p:nvPr/>
        </p:nvPicPr>
        <p:blipFill>
          <a:blip r:embed="rId5"/>
          <a:srcRect l="0" t="5374" r="0" b="4597"/>
          <a:stretch/>
        </p:blipFill>
        <p:spPr>
          <a:xfrm>
            <a:off x="6661080" y="1473120"/>
            <a:ext cx="2160720" cy="14590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05" name="TextBox 12"/>
          <p:cNvSpPr/>
          <p:nvPr/>
        </p:nvSpPr>
        <p:spPr>
          <a:xfrm>
            <a:off x="2500200" y="5191200"/>
            <a:ext cx="35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每天锻炼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5286240" y="95724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多吃五谷杂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图片 27" descr="0010590135.jpg"/>
          <p:cNvPicPr/>
          <p:nvPr/>
        </p:nvPicPr>
        <p:blipFill>
          <a:blip r:embed="rId1"/>
          <a:srcRect l="0" t="0" r="0" b="26396"/>
          <a:stretch/>
        </p:blipFill>
        <p:spPr>
          <a:xfrm>
            <a:off x="0" y="571680"/>
            <a:ext cx="5735520" cy="42861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10"/>
          <p:cNvSpPr/>
          <p:nvPr/>
        </p:nvSpPr>
        <p:spPr>
          <a:xfrm>
            <a:off x="726480" y="142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目标要有挑战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5" descr="shuofuli_0.jpg"/>
          <p:cNvPicPr/>
          <p:nvPr/>
        </p:nvPicPr>
        <p:blipFill>
          <a:blip r:embed="rId2"/>
          <a:stretch/>
        </p:blipFill>
        <p:spPr>
          <a:xfrm>
            <a:off x="7302600" y="2859120"/>
            <a:ext cx="1901880" cy="2346120"/>
          </a:xfrm>
          <a:prstGeom prst="rect">
            <a:avLst/>
          </a:prstGeom>
          <a:ln w="0">
            <a:noFill/>
          </a:ln>
        </p:spPr>
      </p:pic>
      <p:sp>
        <p:nvSpPr>
          <p:cNvPr id="310" name="TextBox 25"/>
          <p:cNvSpPr/>
          <p:nvPr/>
        </p:nvSpPr>
        <p:spPr>
          <a:xfrm>
            <a:off x="2214720" y="135720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书销量双双突破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万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册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图片 4" descr="超越对手封面.jpg"/>
          <p:cNvPicPr/>
          <p:nvPr/>
        </p:nvPicPr>
        <p:blipFill>
          <a:blip r:embed="rId3"/>
          <a:stretch/>
        </p:blipFill>
        <p:spPr>
          <a:xfrm>
            <a:off x="6450120" y="792000"/>
            <a:ext cx="20415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0"/>
          <p:cNvSpPr/>
          <p:nvPr/>
        </p:nvSpPr>
        <p:spPr>
          <a:xfrm>
            <a:off x="726480" y="142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目标要有趣味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4"/>
          <p:cNvSpPr/>
          <p:nvPr/>
        </p:nvSpPr>
        <p:spPr>
          <a:xfrm>
            <a:off x="3143160" y="78588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天，带全家去看海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http://blog.syracuse.com/dailydose/2008/06/travel.jpg"/>
          <p:cNvPicPr/>
          <p:nvPr/>
        </p:nvPicPr>
        <p:blipFill>
          <a:blip r:embed="rId1"/>
          <a:stretch/>
        </p:blipFill>
        <p:spPr>
          <a:xfrm>
            <a:off x="920880" y="835200"/>
            <a:ext cx="2717640" cy="1815840"/>
          </a:xfrm>
          <a:prstGeom prst="rect">
            <a:avLst/>
          </a:prstGeom>
          <a:ln w="0">
            <a:noFill/>
          </a:ln>
        </p:spPr>
      </p:pic>
      <p:sp>
        <p:nvSpPr>
          <p:cNvPr id="315" name="TextBox 26"/>
          <p:cNvSpPr/>
          <p:nvPr/>
        </p:nvSpPr>
        <p:spPr>
          <a:xfrm>
            <a:off x="5072040" y="385776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天，和朋友去做一次远足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6" descr="http://www.bulldogblog.net/articles/wp-content/uploads/2009/03/vacation-travel.jpg"/>
          <p:cNvPicPr/>
          <p:nvPr/>
        </p:nvPicPr>
        <p:blipFill>
          <a:blip r:embed="rId2"/>
          <a:stretch/>
        </p:blipFill>
        <p:spPr>
          <a:xfrm>
            <a:off x="2206800" y="2408400"/>
            <a:ext cx="2725560" cy="1809720"/>
          </a:xfrm>
          <a:prstGeom prst="rect">
            <a:avLst/>
          </a:prstGeom>
          <a:ln w="0">
            <a:noFill/>
          </a:ln>
        </p:spPr>
      </p:pic>
      <p:sp>
        <p:nvSpPr>
          <p:cNvPr id="317" name="TextBox 28"/>
          <p:cNvSpPr/>
          <p:nvPr/>
        </p:nvSpPr>
        <p:spPr>
          <a:xfrm>
            <a:off x="4286160" y="21812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夏天，和老婆去纪念锡婚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http://shisymbolinternational.files.wordpress.com/2009/09/travel-outdoors.jpg"/>
          <p:cNvPicPr/>
          <p:nvPr/>
        </p:nvPicPr>
        <p:blipFill>
          <a:blip r:embed="rId3"/>
          <a:stretch/>
        </p:blipFill>
        <p:spPr>
          <a:xfrm>
            <a:off x="3565440" y="4194000"/>
            <a:ext cx="2646360" cy="18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0"/>
          <p:cNvSpPr/>
          <p:nvPr/>
        </p:nvSpPr>
        <p:spPr>
          <a:xfrm>
            <a:off x="799200" y="1429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目标要有经济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8"/>
          <p:cNvSpPr/>
          <p:nvPr/>
        </p:nvSpPr>
        <p:spPr>
          <a:xfrm>
            <a:off x="1714680" y="342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在，就得为明年努力留够口粮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http://pinellasnewsboy.com/files/2009/05/money-bags.jpg"/>
          <p:cNvPicPr/>
          <p:nvPr/>
        </p:nvPicPr>
        <p:blipFill>
          <a:blip r:embed="rId1"/>
          <a:stretch/>
        </p:blipFill>
        <p:spPr>
          <a:xfrm>
            <a:off x="5572080" y="4287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0" descr="http://www.grecotel.com/ContentDocuments/ContentAreas/378/Travel-Agents.jpg"/>
          <p:cNvPicPr/>
          <p:nvPr/>
        </p:nvPicPr>
        <p:blipFill>
          <a:blip r:embed="rId1"/>
          <a:stretch/>
        </p:blipFill>
        <p:spPr>
          <a:xfrm>
            <a:off x="3444840" y="3492360"/>
            <a:ext cx="5632560" cy="26593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0"/>
          <p:cNvSpPr/>
          <p:nvPr/>
        </p:nvSpPr>
        <p:spPr>
          <a:xfrm>
            <a:off x="580320" y="142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目标要现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4"/>
          <p:cNvSpPr/>
          <p:nvPr/>
        </p:nvSpPr>
        <p:spPr>
          <a:xfrm>
            <a:off x="1357200" y="78588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使你很有钱，家里马桶是这样的配套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http://www.acf-fr.org/i/08-01-17_money8.jpg"/>
          <p:cNvPicPr/>
          <p:nvPr/>
        </p:nvPicPr>
        <p:blipFill>
          <a:blip r:embed="rId2"/>
          <a:stretch/>
        </p:blipFill>
        <p:spPr>
          <a:xfrm>
            <a:off x="1596960" y="1139760"/>
            <a:ext cx="3279960" cy="2743200"/>
          </a:xfrm>
          <a:prstGeom prst="rect">
            <a:avLst/>
          </a:prstGeom>
          <a:ln w="0">
            <a:noFill/>
          </a:ln>
        </p:spPr>
      </p:pic>
      <p:sp>
        <p:nvSpPr>
          <p:cNvPr id="326" name="TextBox 30"/>
          <p:cNvSpPr/>
          <p:nvPr/>
        </p:nvSpPr>
        <p:spPr>
          <a:xfrm>
            <a:off x="4929120" y="303840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这个，连想，也不要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形标注 32"/>
          <p:cNvSpPr/>
          <p:nvPr/>
        </p:nvSpPr>
        <p:spPr>
          <a:xfrm>
            <a:off x="7643880" y="4214880"/>
            <a:ext cx="1071360" cy="785880"/>
          </a:xfrm>
          <a:prstGeom prst="wedgeEllipseCallout">
            <a:avLst>
              <a:gd name="adj1" fmla="val -68958"/>
              <a:gd name="adj2" fmla="val 1252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海藻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6271560" y="5172120"/>
            <a:ext cx="683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欣赏这世界和自己，让我拥有最好的一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7348320" y="5634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0:36:25Z</dcterms:created>
  <dc:creator>锐普</dc:creator>
  <dc:description/>
  <dc:language>en-US</dc:language>
  <cp:lastModifiedBy>Administrator</cp:lastModifiedBy>
  <dcterms:modified xsi:type="dcterms:W3CDTF">2015-03-27T00:41:02Z</dcterms:modified>
  <cp:revision>23</cp:revision>
  <dc:subject/>
  <dc:title>设计</dc:title>
</cp:coreProperties>
</file>