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12B-D03F-479C-BE4F-540CD5EF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F42-8AC2-4A69-8080-0EE4655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34CF5-105A-4CB3-8739-1BE22DEF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DC9C8-AF79-45EA-BCE5-CBEA455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CBDB0-26BE-4449-A931-B68E5DCE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50352-48B6-4423-ABE0-F4A732F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B31EE-455A-48BC-A450-B74F074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130B2-80EA-4159-AA20-AAC33026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13241-8A2C-41D6-822A-698935F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CB098-1B46-436C-95E6-6142244A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734E6-A86F-4435-AE02-25159582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7654-C115-4847-8B32-3438E5AF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8CF-9662-4189-A367-45EEF939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DE1AC-79FF-4205-8446-99C494C6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166C7-0DF6-4962-9CE6-A0E674DA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7E83F-76E2-493D-95F9-BBD2632A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30444-E507-4DDC-9660-DE48CBD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DD90A-0090-42C4-B866-76C728B5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60671-F07B-45A1-87A4-D8E60C2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C9F51-418C-44CB-AE90-2143059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81591-4F08-47AC-A73B-DD88D48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E73D9-154A-40CD-9F90-EF6CBD55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60C7E-E09A-4C35-8C67-5D05895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443-674A-4262-BC0C-240EA848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C7B4B-C352-48A8-AB56-94426C3D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438FD-3C63-48E2-AC40-D146CC2D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C27A-742A-4212-A65D-5166906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391A-7EB4-4B00-8004-A839F1B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59F33-2F0D-4DEA-B833-C25840E4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BF68E-1B55-4CA0-9CB1-BE700BD3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986B9-3B78-40DB-BC59-E23FD6A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B501A-C38B-4400-8458-C2BC1AF0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5EB2E-C31B-4DD6-81E3-4DAB6F3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407B8-BEC6-4518-8D16-A969D31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34BE-9CA8-4076-9491-AD7783D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027EC-F45F-4F72-A061-29BFCC19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0E401-E420-4BDC-AAA5-EF4C808C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EE3E5-965E-4855-BB6E-86A82DB2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E156C-7866-4B30-B0B8-4ADA99CF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3B598-3C70-494B-AD4A-3E322CB8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861A2-1CFC-49F8-B898-5D875D3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9FAA0-2CEC-4FFC-B0B9-96CCAE3A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2AAF6-9FC6-4887-871B-F7D5C63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CEECC-5F07-4BC5-B068-BC710DC6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FB880-279C-42C0-AFA8-8715F68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C895-E662-47CF-A000-2FF4511C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50943-2A0C-4167-9B12-12D769D0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3060E-4606-41CF-B2B8-D4889DD2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9E524-3131-4910-9AE0-F08290A7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382D4-EBC3-4C3A-99FC-56775AF9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9EC58-0A43-470A-971E-8DFBC62D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A6861-802E-464E-87DA-25B283B9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1D699-5761-4B05-B434-56E821A7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E5030-E9C8-4458-87B9-C7EA85E9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F487A-CDDF-46F5-9D8E-226AC275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AEABA-4A13-4727-8450-0A4BDCC1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CB48-0534-4BAF-A74B-A6B4869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A9A4D-BD3C-4C8F-BFCC-0FF1B99F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69F64-3197-46CF-9A9A-A65F099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B2A9B-8FE2-46F3-8A48-B369578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6ECF2-83C8-4CC7-AE58-0F3D2A5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70A7E-2A8B-4E81-A3FC-7ABF1560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ED90D-8CA1-4EB7-A869-6A7E7EAF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0807B-6963-4D69-9BD9-A7B78488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0DC4-7612-4AAE-B933-3EDF075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340-5C5F-402A-A1BF-086FF90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1D2-0356-4C77-931D-2AE8252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6620-AAFF-4785-B64F-5BB592F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E8D-90B9-4538-B492-D24FEAE8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9FE2-98D6-4387-B0CC-965DC9D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4346-5185-4373-A8DE-6D1F8CB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FAA7-151B-4D2D-AA10-46D7FC16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BD9-6CD0-4891-AC22-BC51D6B4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0EA-06AC-4CD3-9A42-078C51B3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1102-119D-464F-8173-319DA2C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97C8-39A9-44AF-AA8B-469E9E0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8757-B7E3-406D-878A-A90A586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C66E-453F-40DA-B98D-6F8FFEF4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FC7E-1AEA-431E-98A2-E40E4ECC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ADB-3974-412A-AE23-5EE3A4C8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AF0D-50F0-43D3-A146-DDC53559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C84F-E589-4758-AA47-DEEC156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5E99-CDBB-4C07-B483-0BBF87F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5D77-AA37-4645-B0A4-536C414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A051-0B52-49EA-ACBB-5DB0CF1F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E61C-2ED8-486A-8995-C317EB45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7BA1-9E48-47EB-BD11-9FD0C746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220A-7269-44EC-881E-8A8E2D0B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7011-426C-4935-8CAF-5F5A928D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1DF5-F8BB-4C37-9E84-DD1D77D8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47E-D2D7-4AAA-AB9E-2A07D24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1A93-BA88-4497-B816-C932673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CC2C-F8B8-4395-A19D-19165AA1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615C-4235-414D-9822-8D70B8D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34A6-9160-4DB8-BD53-7E58DD3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F2F5-5DF1-42AA-A5CC-2EFC589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3470-68E1-4BBA-8304-0721F7B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6F9D-47B2-4F60-BAFD-40B1F353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041F-3312-46A5-9E49-7802EECB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F8FF-FED4-4C72-8D66-D6BC428A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56B0-2177-484D-B390-5BA82EF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8C2-0421-4563-B1B0-5C489239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16EB-E400-439E-B58D-1A0AC8F6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667C-F793-44CB-968E-8F26F454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2486-ED57-4976-9507-B61269DB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E0C9-0ABE-4684-9BFC-CAA7146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F99A-7E7F-4FCE-A893-1DAC609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345F-3FF8-4F96-B8E5-28935A3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E61B-592A-41EE-83F3-B368F35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9B00-2758-4762-8F58-DC813E0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297E-9984-49AE-B832-E38AE497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D5FF-1BA3-43F1-B6D5-457F5603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1CE-A00C-434A-88F4-C8F2B6B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362BB-05AC-419E-B1B0-3F6DEE76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E12C0-4210-4222-9FE5-9C494021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3EB4-0CB7-4B42-B0A5-A1F8F69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AA814-194F-4721-8C5B-866B5A3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0EFC-64A6-4EEC-83DF-584332AA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2277-AF84-45EB-938F-94847310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AE7C-9FDB-490D-88DF-1E7140B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93FC-9EF5-4425-94EB-ECBCC0B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87438-1E8B-48DC-9E8B-B5C41A1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DC14E-CC57-4CCB-A2B4-0D74768D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A93-67F4-404A-80F4-46A673F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A443-289A-40F2-8990-09C02C1D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5DD3-F4CE-4365-AC57-756C6B32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BBA8E-1260-4226-98AE-54637F4E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C81F-FB19-4223-B52C-3A89C788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1FE9-4034-4CBD-B1ED-602AF1E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8CE6-C478-42F4-A319-EAAF6E9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7D20A-409C-41E0-BCCA-0FACA1E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DA69-CE9D-47CD-BF35-E192AC9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05B4-6E8B-4FD9-AC9F-87263855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9FFB6-22D7-411C-A6D9-11EA637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481-01CF-4F2A-BB5C-001555E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9148-B3FA-4143-AE59-328FFEB4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260E-376B-46C9-9709-7D1196C5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F57E0-67E0-4BDF-8610-D8931084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E6D1F-3E86-4391-889C-F53B4E34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809D-F646-46F6-9633-BCD0CF00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4A79-43CE-4CFC-BEEF-5BC3E5A6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85AA-B3EC-4F9A-BC2B-FAC24A09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F2A2B-E07B-446C-B7F8-E35B807D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1C38D-F993-4D15-9D03-AA65DC4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9B0A-197E-4A19-9568-70EDD0B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4F7-DBC1-4228-9A12-23B1ADF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00AEC-E1B6-4315-8C62-E23F3BB0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2233C-2BD1-4259-B7B8-CC9A2F7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224C4-627E-4936-9B32-B92AFFE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8D463-CFFF-4872-A9D0-02EDC01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50521-17A4-4724-B7A2-610F23D1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BDA8-E6A7-46D7-86AA-C8AD2E8C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BDC9-5B23-4DEE-94E8-66FE36E2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D04F0-0A89-4838-9146-4C19165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4A16C-6E52-40B5-A721-597D5E3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801D6-CC4B-4EF0-AA5E-C9C40F6B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1B1-746B-481B-AEE2-CBEDC009DF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03B9-50B3-4331-809F-3B59A2FCE3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CF89-9B82-4B12-9E18-2A285990EF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7F45-BA33-498B-B914-59927B9F2D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D0FE-2F99-437D-9579-E1F08B0AFC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B977-B769-4141-9204-C846EB001A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AD79-843E-4C65-A825-BF197700D2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42B8-59A9-4873-88D8-D715E11715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279-4799-4628-BE8C-5DFEAA9EB5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6EF7-BE3C-48B4-84FC-957847CCD0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69C-04A9-41C1-8E9F-BB875C7F56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92E6-6B56-40E8-A293-971FAA4CA6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E0B-38B8-4C85-A7E5-1AF37E6A8C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7" descr=""/>
          <p:cNvPicPr/>
          <p:nvPr/>
        </p:nvPicPr>
        <p:blipFill>
          <a:blip r:embed="rId2"/>
          <a:stretch/>
        </p:blipFill>
        <p:spPr>
          <a:xfrm>
            <a:off x="1109520" y="4956120"/>
            <a:ext cx="72961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2"/>
          <p:cNvSpPr/>
          <p:nvPr/>
        </p:nvSpPr>
        <p:spPr>
          <a:xfrm>
            <a:off x="0" y="-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4"/>
          <p:cNvSpPr txBox="1"/>
          <p:nvPr/>
        </p:nvSpPr>
        <p:spPr>
          <a:xfrm>
            <a:off x="3132000" y="51577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8" name="WordArt 5"/>
          <p:cNvSpPr txBox="1"/>
          <p:nvPr/>
        </p:nvSpPr>
        <p:spPr>
          <a:xfrm>
            <a:off x="3610080" y="6014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admin</cp:lastModifiedBy>
  <dcterms:modified xsi:type="dcterms:W3CDTF">2015-03-19T01:48:02Z</dcterms:modified>
  <cp:revision>353</cp:revision>
  <dc:subject/>
  <dc:title>锐得PPT模板</dc:title>
</cp:coreProperties>
</file>