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7C1-9800-46F0-AA92-10455E47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BE6-F720-4084-A3C5-FBA6468B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BE0-D2C3-4938-A3D5-D5EFF300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D35-DE25-4B0F-8CA1-66A9F269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39B-A94D-4A6F-B9AC-23EE7A4B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B10-03BD-4B42-9A36-1A143A9C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F80-F212-40B9-8060-CC0DF5BF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99D-D0BD-4B21-A74C-4F701C06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EB7-CF67-4A6D-ACEA-89BD1AA1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9C9-69D1-4FA0-A5D2-7D06E00D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CDD-D8D3-42B9-A56B-E203D83D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789A-FD6E-46DB-A6D1-D87BF95B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F488-98E8-4407-BD10-F551AFE8ED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做一片</a:t>
            </a:r>
            <a:r>
              <a:rPr b="1" lang="zh-CN" sz="6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美</a:t>
            </a:r>
            <a:r>
              <a:rPr b="1" lang="zh-CN" sz="6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叶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609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苏教版三年级上册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8820000" y="6138720"/>
            <a:ext cx="324000" cy="719280"/>
          </a:xfrm>
          <a:prstGeom prst="octagon">
            <a:avLst>
              <a:gd name="adj" fmla="val 29287"/>
            </a:avLst>
          </a:prstGeom>
          <a:solidFill>
            <a:srgbClr val="caf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1066680"/>
            <a:ext cx="7632720" cy="764280"/>
          </a:xfrm>
          <a:prstGeom prst="rect">
            <a:avLst/>
          </a:prstGeom>
          <a:solidFill>
            <a:srgbClr val="ccffc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绿叶为大树而生。春天的时候，叶子嫩绿；夏天的时候，叶子肥美；秋叶变黄；冬日飘零——回归大树地下的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39621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我们每个人都像</a:t>
            </a:r>
            <a:r>
              <a:rPr b="1" lang="zh-CN" sz="54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叶子</a:t>
            </a:r>
            <a:r>
              <a:rPr b="1" lang="zh-CN" sz="44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，为生活的大树输送着营养，让它茁壮、葱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495320"/>
            <a:ext cx="8153280" cy="2133720"/>
          </a:xfrm>
          <a:prstGeom prst="rect">
            <a:avLst/>
          </a:prstGeom>
          <a:gradFill rotWithShape="0">
            <a:gsLst>
              <a:gs pos="0">
                <a:srgbClr val="ffffff">
                  <a:alpha val="37254"/>
                </a:srgbClr>
              </a:gs>
              <a:gs pos="100000">
                <a:srgbClr val="99cc00">
                  <a:alpha val="90196"/>
                </a:srgbClr>
              </a:gs>
            </a:gsLst>
            <a:lin ang="5400000"/>
          </a:gra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为了我们的大树，做一片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美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叶子吧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！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30481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了我们的三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，我打算（        ），让自己成为班里最美的一片叶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320" y="274320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了我们的（    ），我打算（       ），让自己成为（    ）最美的一片叶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做一片</a:t>
            </a:r>
            <a:r>
              <a:rPr b="1" lang="zh-CN" sz="6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美</a:t>
            </a:r>
            <a:r>
              <a:rPr b="1" lang="zh-CN" sz="6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叶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609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苏教版三年级上册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rǔ zhī zhěnɡ tǐ  cōnɡ    fènɡ </a:t>
            </a:r>
            <a:br>
              <a:rPr sz="3600"/>
            </a:br>
            <a:r>
              <a:rPr b="1" lang="zh-CN" sz="6000" spc="-1" strike="noStrike">
                <a:solidFill>
                  <a:srgbClr val="800080"/>
                </a:solidFill>
                <a:latin typeface="Arial"/>
                <a:ea typeface="楷体_GB2312"/>
              </a:rPr>
              <a:t>乳</a:t>
            </a:r>
            <a:r>
              <a:rPr b="1" lang="zh-CN" sz="6000" spc="-1" strike="noStrike">
                <a:solidFill>
                  <a:srgbClr val="990000"/>
                </a:solidFill>
                <a:latin typeface="Arial"/>
                <a:ea typeface="楷体_GB2312"/>
              </a:rPr>
              <a:t>汁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800080"/>
                </a:solidFill>
                <a:latin typeface="Arial"/>
                <a:ea typeface="楷体_GB2312"/>
              </a:rPr>
              <a:t>整</a:t>
            </a:r>
            <a:r>
              <a:rPr b="1" lang="zh-CN" sz="6000" spc="-1" strike="noStrike">
                <a:solidFill>
                  <a:srgbClr val="990000"/>
                </a:solidFill>
                <a:latin typeface="Arial"/>
                <a:ea typeface="楷体_GB2312"/>
              </a:rPr>
              <a:t>体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800080"/>
                </a:solidFill>
                <a:latin typeface="Arial"/>
                <a:ea typeface="楷体_GB2312"/>
              </a:rPr>
              <a:t>葱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翠  </a:t>
            </a:r>
            <a:r>
              <a:rPr b="1" lang="zh-CN" sz="6000" spc="-1" strike="noStrike">
                <a:solidFill>
                  <a:srgbClr val="990000"/>
                </a:solidFill>
                <a:latin typeface="Arial"/>
                <a:ea typeface="楷体_GB2312"/>
              </a:rPr>
              <a:t>奉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献 </a:t>
            </a:r>
            <a:br>
              <a:rPr sz="60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zhì  shū      zhuó        </a:t>
            </a:r>
            <a:br>
              <a:rPr sz="36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位</a:t>
            </a:r>
            <a:r>
              <a:rPr b="1" lang="zh-CN" sz="6000" spc="-1" strike="noStrike">
                <a:solidFill>
                  <a:srgbClr val="990000"/>
                </a:solidFill>
                <a:latin typeface="Arial"/>
                <a:ea typeface="楷体_GB2312"/>
              </a:rPr>
              <a:t>置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990000"/>
                </a:solidFill>
                <a:latin typeface="Arial"/>
                <a:ea typeface="楷体_GB2312"/>
              </a:rPr>
              <a:t>输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送  </a:t>
            </a:r>
            <a:r>
              <a:rPr b="1" lang="zh-CN" sz="6000" spc="-1" strike="noStrike">
                <a:solidFill>
                  <a:srgbClr val="990000"/>
                </a:solidFill>
                <a:latin typeface="Arial"/>
                <a:ea typeface="楷体_GB2312"/>
              </a:rPr>
              <a:t>茁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壮  之</a:t>
            </a:r>
            <a:r>
              <a:rPr b="1" lang="zh-CN" sz="6000" spc="-1" strike="noStrike">
                <a:solidFill>
                  <a:srgbClr val="990000"/>
                </a:solidFill>
                <a:latin typeface="Arial"/>
                <a:ea typeface="楷体_GB2312"/>
              </a:rPr>
              <a:t>间</a:t>
            </a:r>
            <a:br>
              <a:rPr sz="60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tài    yì </a:t>
            </a:r>
            <a:br>
              <a:rPr sz="36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形</a:t>
            </a:r>
            <a:r>
              <a:rPr b="1" lang="zh-CN" sz="6000" spc="-1" strike="noStrike">
                <a:solidFill>
                  <a:srgbClr val="990000"/>
                </a:solidFill>
                <a:latin typeface="Arial"/>
                <a:ea typeface="楷体_GB2312"/>
              </a:rPr>
              <a:t>态各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960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355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树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一朵绿色的云，从大地上升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43200" y="3352320"/>
            <a:ext cx="6400800" cy="350532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99cc00">
                  <a:alpha val="78039"/>
                </a:srgbClr>
              </a:gs>
            </a:gsLst>
            <a:lin ang="5400000"/>
          </a:gra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走近树的时候，我发现，枝头的每一片叶子都很美。每一片叶子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形态各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—你找不到两片相同的叶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172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4114800" cy="6400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4920" y="388800"/>
            <a:ext cx="8610480" cy="616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57200" y="109440"/>
            <a:ext cx="8534520" cy="644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33520" y="53352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28600" y="320760"/>
            <a:ext cx="8686800" cy="6080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380880" y="304920"/>
            <a:ext cx="8382240" cy="5946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685800" y="533520"/>
            <a:ext cx="7848720" cy="556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1981080" y="228600"/>
            <a:ext cx="4876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5406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树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有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有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还有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真是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1" lang="zh-CN" sz="3600" spc="-1" strike="noStrike">
                <a:solidFill>
                  <a:srgbClr val="009999"/>
                </a:solidFill>
                <a:latin typeface="Arial Narrow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997360"/>
            <a:ext cx="74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3581280"/>
            <a:ext cx="88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形态各异    像小鱼     像手掌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像小船     太神奇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540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树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还有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真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997360"/>
            <a:ext cx="74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048120"/>
            <a:ext cx="7448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彩缤纷     红得像火   绿得似翡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黄如金   太美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通通     绿油油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灿灿     太诱人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820000" y="6138720"/>
            <a:ext cx="324000" cy="719280"/>
          </a:xfrm>
          <a:prstGeom prst="octagon">
            <a:avLst>
              <a:gd name="adj" fmla="val 29287"/>
            </a:avLst>
          </a:prstGeom>
          <a:solidFill>
            <a:srgbClr val="caf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048120"/>
            <a:ext cx="7632720" cy="764280"/>
          </a:xfrm>
          <a:prstGeom prst="rect">
            <a:avLst/>
          </a:prstGeom>
          <a:solidFill>
            <a:srgbClr val="ccffc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绿叶为大树而生。春天的时候，叶子嫩绿；夏天的时候，叶子肥美；秋叶变黄；冬日飘零——回归大树地下的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76360" y="3657600"/>
            <a:ext cx="5562360" cy="3124080"/>
          </a:xfrm>
          <a:prstGeom prst="rect">
            <a:avLst/>
          </a:prstGeom>
          <a:gradFill rotWithShape="0">
            <a:gsLst>
              <a:gs pos="0">
                <a:srgbClr val="ffffff">
                  <a:alpha val="37254"/>
                </a:srgbClr>
              </a:gs>
              <a:gs pos="100000">
                <a:srgbClr val="99cc00">
                  <a:alpha val="90196"/>
                </a:srgbClr>
              </a:gs>
            </a:gsLst>
            <a:lin ang="5400000"/>
          </a:gra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无数片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不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叶子做着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相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工作，把阳光变成生命的乳汁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楷体_GB2312"/>
              </a:rPr>
              <a:t>奉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给大树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成书城</cp:lastModifiedBy>
  <dcterms:modified xsi:type="dcterms:W3CDTF">2011-09-06T06:35:05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