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B5EB-5AB6-4F38-88B7-D1278525599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48D-E754-41DB-AC28-635B3A782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C1B-CE7B-43AA-BFEF-C7CE50F2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B35A-E2F2-4C19-B9A2-4D53205BB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E2F-6860-40D0-ABB7-26D0028B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85CC-4A6E-477B-96D6-D3C6619B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3D4F-CA9A-477E-84A2-63948174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D4E8-649E-4FFD-8101-43F9085A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8EDC-0A21-44D4-97F4-C21096F4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871D-8E48-41CA-A611-B82CA6B0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A661-D943-4D20-B4F1-E36D4407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73EA-A365-4B08-9AFC-505B4C9F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64EE-A71F-4BF2-9861-C685D477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554C-9D08-4B63-BF48-9D823899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BBA5-981A-4BBE-8DB2-9BBF486B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48CB-3F91-404F-9679-59320C0A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3677-5257-4397-AB86-510B2F90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5B0F-574B-44F9-9E19-BE6B73B2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FE1-8DBF-4784-9CA8-B2A0AB99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D1B1-6DC5-45BE-B7B7-744F1CD9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7326-81AD-4A16-886E-86A399D25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FACE-CDA3-4465-B018-E4904514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A5F-80E3-4EB6-8D42-BDB542D2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36D7-5AF9-45AD-A13B-B1A7C6EC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08C-17E9-45FB-A6C9-0BA68AEFD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ED43-E147-43BE-B133-DAADE679AA67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C4F6-FF57-4B41-B8FD-80EF1D6BC890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ahoma"/>
                <a:ea typeface="华文行楷"/>
              </a:rPr>
              <a:t>交通安全教育 主题班会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2133720"/>
            <a:ext cx="2819520" cy="1904760"/>
          </a:xfrm>
          <a:prstGeom prst="flowChartMultidocumen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  <a:hlinkClick r:id="rId1" action="ppaction://hlinksldjump"/>
              </a:rPr>
              <a:t>交通带来的繁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371600" y="4419720"/>
            <a:ext cx="2819520" cy="1904760"/>
          </a:xfrm>
          <a:prstGeom prst="flowChartMultidocumen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f89f7"/>
                </a:solidFill>
                <a:uFillTx/>
                <a:latin typeface="Tahoma"/>
                <a:hlinkClick r:id="rId2" action="ppaction://hlinksldjump"/>
              </a:rPr>
              <a:t>酒后驾车案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4419720"/>
            <a:ext cx="2819520" cy="1904760"/>
          </a:xfrm>
          <a:prstGeom prst="flowChartMultidocumen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</a:rPr>
              <a:t>酒后驾车公益广告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2133720"/>
            <a:ext cx="2819520" cy="1904760"/>
          </a:xfrm>
          <a:prstGeom prst="flowChartMultidocument">
            <a:avLst/>
          </a:pr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6f89f7"/>
                </a:solidFill>
                <a:uFillTx/>
                <a:latin typeface="Tahoma"/>
                <a:hlinkClick r:id="rId3" action="ppaction://hlinksldjump"/>
              </a:rPr>
              <a:t>安全警示录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1828800"/>
            <a:ext cx="79246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_x000b__x000c_"/>
              </a:rPr>
              <a:t>生命在闪耀中现出绚烂，在平凡中现出真实。 ——伯 克 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_x000b__x000c_"/>
              </a:rPr>
              <a:t>寿命的缩短与思想的虚耗成正比。 ——达尔文 </a:t>
            </a:r>
            <a:br>
              <a:rPr sz="2400"/>
            </a:b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_x000b__x000c_"/>
              </a:rPr>
              <a:t>生命不可能有两次，但许多人连一次也不善于度过。 ——吕凯特 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ahoma"/>
                <a:ea typeface="_x000b__x000c_"/>
              </a:rPr>
              <a:t>如能善于利用，生命乃悠长。 ——塞涅卡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286000" y="533520"/>
            <a:ext cx="46483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幼圆"/>
              </a:rPr>
              <a:t>珍惜生命的名人名言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476760" cy="4842000"/>
          </a:xfrm>
          <a:prstGeom prst="rect">
            <a:avLst/>
          </a:prstGeom>
          <a:ln w="0">
            <a:noFill/>
          </a:ln>
        </p:spPr>
      </p:pic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13495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4" y="10800"/>
                </a:lnTo>
                <a:lnTo>
                  <a:pt x="18804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2" y="10800"/>
                </a:lnTo>
                <a:close/>
              </a:path>
              <a:path fill="darkenLess" w="26990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0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4" y="17989"/>
                </a:lnTo>
                <a:lnTo>
                  <a:pt x="18804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09480" y="1600200"/>
          <a:ext cx="5791320" cy="3282840"/>
        </p:xfrm>
        <a:graphic>
          <a:graphicData uri="http://schemas.openxmlformats.org/drawingml/2006/table">
            <a:tbl>
              <a:tblPr/>
              <a:tblGrid>
                <a:gridCol w="1158840"/>
                <a:gridCol w="1157400"/>
                <a:gridCol w="1158840"/>
                <a:gridCol w="1157400"/>
                <a:gridCol w="1158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交通死亡人数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10.4372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7702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6600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1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汽车保有量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2400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2.36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亿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7000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4800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18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死亡率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43.5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人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/</a:t>
                      </a:r>
                      <a:r>
                        <a:rPr b="1" i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1.7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人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1.1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人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1.37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人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/</a:t>
                      </a: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万车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中国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美国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日本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4aae"/>
                          </a:solidFill>
                          <a:latin typeface="Tahoma"/>
                          <a:ea typeface="宋体,arial"/>
                        </a:rPr>
                        <a:t>德国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4aae"/>
                </a:solidFill>
                <a:latin typeface="Tahoma"/>
                <a:ea typeface="华文行楷"/>
              </a:rPr>
              <a:t>2003</a:t>
            </a:r>
            <a:r>
              <a:rPr b="1" i="1" lang="zh-CN" sz="3600" spc="-1" strike="noStrike">
                <a:solidFill>
                  <a:srgbClr val="004aae"/>
                </a:solidFill>
                <a:latin typeface="Tahoma"/>
                <a:ea typeface="华文行楷"/>
              </a:rPr>
              <a:t>汽车大国交通死亡人数对比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50292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,arial"/>
              </a:rPr>
              <a:t>　　中国“万车死亡率”，是发达国家的几十倍，中国的机动车辆相比较而言，看起来更加危险……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宋体,arial"/>
              </a:rPr>
              <a:t>　　交通事故已超过战争，成仅次于疾病的人类生命的杀手，并给成千上万个家庭带来难以愈合的创伤……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477120" y="1600200"/>
            <a:ext cx="2286000" cy="2743200"/>
          </a:xfrm>
          <a:prstGeom prst="rect">
            <a:avLst/>
          </a:prstGeom>
          <a:ln w="0">
            <a:noFill/>
          </a:ln>
        </p:spPr>
      </p:pic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8001000" y="6095880"/>
            <a:ext cx="762120" cy="60984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6990" h="21600">
                <a:moveTo>
                  <a:pt x="0" y="0"/>
                </a:moveTo>
                <a:lnTo>
                  <a:pt x="26990" y="0"/>
                </a:lnTo>
                <a:lnTo>
                  <a:pt x="26990" y="21600"/>
                </a:lnTo>
                <a:lnTo>
                  <a:pt x="0" y="21600"/>
                </a:lnTo>
                <a:close/>
              </a:path>
              <a:path fill="lightenLess" w="26990" h="21600">
                <a:moveTo>
                  <a:pt x="0" y="0"/>
                </a:moveTo>
                <a:lnTo>
                  <a:pt x="26990" y="0"/>
                </a:lnTo>
                <a:lnTo>
                  <a:pt x="25590" y="1400"/>
                </a:lnTo>
                <a:lnTo>
                  <a:pt x="1400" y="1400"/>
                </a:lnTo>
                <a:close/>
              </a:path>
              <a:path fill="darken" w="26990" h="21600">
                <a:moveTo>
                  <a:pt x="26990" y="0"/>
                </a:moveTo>
                <a:lnTo>
                  <a:pt x="26990" y="21600"/>
                </a:lnTo>
                <a:lnTo>
                  <a:pt x="25590" y="20200"/>
                </a:lnTo>
                <a:lnTo>
                  <a:pt x="25590" y="1400"/>
                </a:lnTo>
                <a:close/>
              </a:path>
              <a:path fill="darkenLess" w="26990" h="21600">
                <a:moveTo>
                  <a:pt x="26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0" y="20200"/>
                </a:lnTo>
                <a:close/>
              </a:path>
              <a:path fill="lighten" w="26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0" h="21600">
                <a:moveTo>
                  <a:pt x="13495" y="3837"/>
                </a:moveTo>
                <a:lnTo>
                  <a:pt x="16072" y="6448"/>
                </a:ln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lnTo>
                  <a:pt x="20458" y="10800"/>
                </a:lnTo>
                <a:lnTo>
                  <a:pt x="18804" y="10800"/>
                </a:lnTo>
                <a:lnTo>
                  <a:pt x="18804" y="17989"/>
                </a:lnTo>
                <a:lnTo>
                  <a:pt x="8186" y="17989"/>
                </a:lnTo>
                <a:lnTo>
                  <a:pt x="8186" y="10800"/>
                </a:lnTo>
                <a:lnTo>
                  <a:pt x="6532" y="10800"/>
                </a:lnTo>
                <a:close/>
              </a:path>
              <a:path fill="darkenLess" w="26990" h="21600">
                <a:moveTo>
                  <a:pt x="16072" y="6448"/>
                </a:moveTo>
                <a:lnTo>
                  <a:pt x="16072" y="4707"/>
                </a:lnTo>
                <a:lnTo>
                  <a:pt x="17847" y="4707"/>
                </a:lnTo>
                <a:lnTo>
                  <a:pt x="17847" y="8224"/>
                </a:lnTo>
                <a:close/>
              </a:path>
              <a:path fill="darkenLess" w="26990" h="21600">
                <a:moveTo>
                  <a:pt x="12573" y="14299"/>
                </a:moveTo>
                <a:lnTo>
                  <a:pt x="14418" y="14299"/>
                </a:lnTo>
                <a:lnTo>
                  <a:pt x="14418" y="17989"/>
                </a:lnTo>
                <a:lnTo>
                  <a:pt x="18804" y="17989"/>
                </a:lnTo>
                <a:lnTo>
                  <a:pt x="18804" y="10800"/>
                </a:lnTo>
                <a:lnTo>
                  <a:pt x="8186" y="10800"/>
                </a:lnTo>
                <a:lnTo>
                  <a:pt x="8186" y="17989"/>
                </a:lnTo>
                <a:lnTo>
                  <a:pt x="12573" y="17989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ahoma"/>
                <a:ea typeface="华文行楷"/>
              </a:rPr>
              <a:t>酒后驾车案例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　　今夏杭州高温，随温度升高的，有啤酒销量，有酒后驾车事故数量。交警说，每年酒后驾车最高发的季节是夏季和春节，遗憾的是，交警部门再三提醒，悲剧仍再三上演，且很多事故都导致多人伤亡，造成严重伤害。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2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月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12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日（大年初四）凌晨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：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40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，庆春东路上，一辆海南马自达轿车突然撞到路中间的隔离墩，隔离栏钢管刺进车头，穿透仪表盘直插司机胸膛，司机张某当场死亡。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　　事发前，张某和朋友聚会（共六人，三男三女），共喝下了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斤白酒和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瓶啤酒。事后经血液化验显示，张某当时血液中酒精浓度为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1.97mg/ml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，属于严重的醉酒后驾车。一场延续到凌晨的朋友欢聚，在寒夜的哭声中终止。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　　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6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月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日凌晨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3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点左右，一辆丰田轿车在曙光路友谊新村门口附近，撞了一位在机动车道上的行人，行人送医院抢救无效死亡。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　　事故发生时，肇事司机刘某从东坡路附近一家酒吧开车出来，经曙光路回家，受害人孙某，在杭州当歌手。事故发生时，她正在从歌厅回友谊新村租房的路上。车祸中，肇事司机和受害人都是年轻女子，一个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23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岁，一个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26</a:t>
            </a:r>
            <a:r>
              <a:rPr b="1" i="1" lang="zh-CN" sz="1800" spc="-1" strike="noStrike">
                <a:solidFill>
                  <a:srgbClr val="40458c"/>
                </a:solidFill>
                <a:latin typeface="Tahoma"/>
              </a:rPr>
              <a:t>岁。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523880" y="1320840"/>
            <a:ext cx="5943600" cy="5537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2895480" y="228600"/>
            <a:ext cx="3581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交通标志</a:t>
            </a:r>
            <a:endParaRPr b="0" lang="en-US" sz="24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1096920"/>
            <a:ext cx="7010280" cy="5761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447920" y="228600"/>
            <a:ext cx="3047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交通标志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7391520" y="55627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11572" y="3837"/>
                </a:moveTo>
                <a:lnTo>
                  <a:pt x="14149" y="6448"/>
                </a:ln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lnTo>
                  <a:pt x="18535" y="10800"/>
                </a:lnTo>
                <a:lnTo>
                  <a:pt x="16882" y="10800"/>
                </a:lnTo>
                <a:lnTo>
                  <a:pt x="16882" y="17989"/>
                </a:lnTo>
                <a:lnTo>
                  <a:pt x="6263" y="17989"/>
                </a:lnTo>
                <a:lnTo>
                  <a:pt x="6263" y="10800"/>
                </a:lnTo>
                <a:lnTo>
                  <a:pt x="4610" y="10800"/>
                </a:lnTo>
                <a:close/>
              </a:path>
              <a:path fill="darkenLess" w="23145" h="21600">
                <a:moveTo>
                  <a:pt x="14149" y="6448"/>
                </a:move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close/>
              </a:path>
              <a:path fill="darkenLess" w="23145" h="21600">
                <a:moveTo>
                  <a:pt x="10650" y="14299"/>
                </a:moveTo>
                <a:lnTo>
                  <a:pt x="12495" y="14299"/>
                </a:lnTo>
                <a:lnTo>
                  <a:pt x="12495" y="17989"/>
                </a:lnTo>
                <a:lnTo>
                  <a:pt x="16882" y="17989"/>
                </a:lnTo>
                <a:lnTo>
                  <a:pt x="16882" y="10800"/>
                </a:lnTo>
                <a:lnTo>
                  <a:pt x="6263" y="10800"/>
                </a:lnTo>
                <a:lnTo>
                  <a:pt x="6263" y="17989"/>
                </a:lnTo>
                <a:lnTo>
                  <a:pt x="10650" y="17989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4:21:01Z</dcterms:created>
  <dc:creator>jiaoshi01</dc:creator>
  <dc:description/>
  <dc:language>en-US</dc:language>
  <cp:lastModifiedBy>User</cp:lastModifiedBy>
  <dcterms:modified xsi:type="dcterms:W3CDTF">2010-09-18T13:50:38Z</dcterms:modified>
  <cp:revision>3</cp:revision>
  <dc:subject/>
  <dc:title>交通安全教育 主题班会</dc:title>
</cp:coreProperties>
</file>