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E9C-6236-4410-AB46-794A5396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EE9-47DE-4CF3-94AD-48C0D044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EDC-425F-422E-9CDF-8A80F103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91C-12FC-4252-89C1-B8A486E8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D93C-0BCB-40EB-935A-300734AC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53F6-2A3C-49D3-8967-A952657C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64E-E3E2-4E8A-B309-24455C62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146-8C4F-4052-BBC0-560AB559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CD95-DC3E-4036-A275-D8A5C9CB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85E-95A1-4C9E-B4E0-A30D1DC6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766-690C-450A-BC2C-F594A8BC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AB77-C0F4-43F9-8FE4-CB5B49CA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E43B-AEB6-4860-ADA0-E8E4DF8D57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学  生  冬   季</a:t>
            </a:r>
            <a:br>
              <a:rPr sz="7200"/>
            </a:b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安  全   教   育</a:t>
            </a:r>
            <a:br>
              <a:rPr sz="7200"/>
            </a:b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主  题   班   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九、乘车安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  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）上车前先看清公共汽车是哪一路，因为公共汽车停靠站，往往是几路公共汽车同一个站台，慌忙上车，容易乘错车。</a:t>
            </a:r>
            <a:br>
              <a:rPr sz="2800"/>
            </a:b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）待车子停稳后再上车或下车，上车时将书包置于胸前，以免书包被挤掉，或被车门轧住。</a:t>
            </a:r>
            <a:br>
              <a:rPr sz="2800"/>
            </a:b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）上车后不要挤在车门边，往里边走，见空处站稳，并抓住扶手，头、手、身体不能伸向窗外，否则容易发生伤害事故。</a:t>
            </a:r>
            <a:br>
              <a:rPr sz="2800"/>
            </a:b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）乘车要尊老爱幼讲礼貌，见老弱病残及孕妇要主动让座。</a:t>
            </a:r>
            <a:br>
              <a:rPr sz="2800"/>
            </a:b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）乘车时不要看书，否则会损害眼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819160" y="2057400"/>
            <a:ext cx="46479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500" spc="-1" strike="noStrike">
                <a:solidFill>
                  <a:srgbClr val="ff0000"/>
                </a:solidFill>
                <a:latin typeface="Arial"/>
              </a:rPr>
              <a:t>谢谢！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交通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、过公路直行。</a:t>
            </a:r>
            <a:br>
              <a:rPr sz="3200"/>
            </a:b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    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、不要并排骑自行车。</a:t>
            </a:r>
            <a:br>
              <a:rPr sz="3200"/>
            </a:b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    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、乘车。</a:t>
            </a:r>
            <a:br>
              <a:rPr sz="3200"/>
            </a:b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    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、上下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交通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、行走安全：行人须在人行道内行走，没有人行道靠右边行走；穿越马路须走人行横道；通过有效通信号控制的人行道，须遵守信号的规定；通过没有交通信号控制的人行道，要左顾右盼，注意来往车辆，不准追逐，奔跑；没有行人横道的，须直行通过，不准在车辆临近时突然横穿；有人行过街天桥或地道的，须走人行过街天桥或地道；不准爬越马路边和路中的护栏、隔离栏，不准在道路上扒车、追车、强行拦车或抛物击车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、骑自行车（电动车、摩托车）安全：不满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周岁不能在道路上骑电动车、摩托车；不打伞骑车；不脱手骑车；不骑车带人；不骑“病”车；不骑快车；不与机动车抢道；不平行骑车；不在恶劣天气骑车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、乘车安全：乘公共汽车要停稳后上下车，在车上要抓好扶手，头、手等身体部位不能伸出窗外，管好身边物品，防止扒窃；乘高速汽车要系安全带；不乘超载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火灾中的逃生与自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  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火灾中如何自救与逃生是师生学习消防知识的一个重点，尤其是在房间中的火场逃生，具体要做到“三要三不要”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、要镇静分析，不要盲目行动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明确自己的房间，回忆房子和房间的位置走向，分析周围的火情，不要盲目开门开窗，可用手先摸一摸房门，如果很热，千万不要开门，不然会助长火势或“引火入室”；也不要盲目乱跑、跳楼，这样有可能造成不应有的伤亡，在火势未蔓延前，可朝逆风方向快速离开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、要选好逃生办法，不要惊慌失措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如必须从烟火中冲出房间，要用湿毛巾、衣服等包住头脸，尤其是口鼻部，低姿行进，以免受呛窒息。如房门口虽已有火，但火势不大，就从房门口冲出；如果房门口火势太猛，要从窗口逃生，并保证双脚落地，不出现意外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、火场人员要尽量有序迅速撤离火场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不要大声喊叫，避免烟雾进入口腔，造成窒息中毒。如火场逃生之路均被大火切断，应退居室内关闭门窗，有条件的可向门窗上浇水，延缓火势蔓延，同时向窗外扔小的物品或打手电求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饮食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不买不吃不新鲜和腐烂变质的食品；不吃被卫生部门禁止上市的海产品；不买无证摊贩处食品；不买无商标或无出厂日期、无生产单位、无保质期等标签不完整的食品；不吃有毒食品（如野生蘑菇、不明野菜等）；不喝未经消毒、煮沸的水，不喝存放时间过长的、过时的纯净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安全用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不靠近有电线断落地周围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米内，不随意拆卸、安装电源线路、插座等电器；不用尖锐物品扎、刺电线；不在雷鸣电闪时使用电器；不用金属体去试探插座、灯口的内部，更不能用指头戳插座孔、灯口；不用湿手接触开关、插座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六、行走的安全常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每位同学必须牢记如下行走安全常识：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指挥灯信号绿灯亮时，准许行人通行；黄灯亮时，不准行人通行，但已进入人行道的行人，可以继续通行；红灯亮时，不准行人通行；黄灯闪烁时，行人须在确保安全的原则下通行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人行横道信号灯绿灯亮时，准许行人通过人行横道；绿灯闪烁时，不准行人进入人行横道，但已进入人行横道的可以继续通行；红灯亮时，不准行人进入人行横道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行人必须遵守的规定行人须在人行道内行走，没有人行道靠右边行走；穿越马路须走人行横道；通过有交通信号控制的人行横道，须遵守信号的规定；通过没有交通信号控制的人行道，要左顾右盼，注意车辆来往，不准追逐，奔跑；没有人行横道的，须直行通过，不准在车辆临近时突然横穿；有人行过街天桥或地道的，须走人行过街天桥或地道；不准爬马路边和路中的护栏、隔离栏，不准在道路上推扒车、追车、强行拦车或抛物击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 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行走时，哪些情况最危险呢？</a:t>
            </a:r>
            <a:br>
              <a:rPr sz="3600"/>
            </a:b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）横穿马路很容易出危险。</a:t>
            </a:r>
            <a:br>
              <a:rPr sz="3200"/>
            </a:b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）三五成群横着走在非人行道上，这样最容易发生交通事故。</a:t>
            </a:r>
            <a:br>
              <a:rPr sz="3200"/>
            </a:b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）上、下班高峰过后，马路上车辆稀少，因为路中车少人稀思想麻痹。麻痹加麻痹就等于危险。</a:t>
            </a:r>
            <a:br>
              <a:rPr sz="3200"/>
            </a:b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）行走时一心两用，边走边看书，或边走边想问题，或边走边聊天，边走边玩……这样做，可能车子不来撞你，你倒自己去撞车子，因此也十分危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八、骑车安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）不满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周岁的孩子，不能在道路上骑车。这是交通         规则规定的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）不打伞骑车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）不脱手骑车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）不骑车带人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）不骑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病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车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）不骑快车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）不与机动车抢道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）不平行骑车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 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最后还要注意，在恶劣的天气如雷雨、台风、下雪、或积雪未化、道路结冰等情况下，也不要骑车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8-24T01:05:2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