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8.png" ContentType="image/png"/>
  <Override PartName="/ppt/media/image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27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31.png" ContentType="image/png"/>
  <Override PartName="/ppt/media/image8.png" ContentType="image/png"/>
  <Override PartName="/ppt/media/image33.png" ContentType="image/png"/>
  <Override PartName="/ppt/media/image11.jpeg" ContentType="image/jpeg"/>
  <Override PartName="/ppt/media/image9.jpeg" ContentType="image/jpeg"/>
  <Override PartName="/ppt/media/image10.gif" ContentType="image/gif"/>
  <Override PartName="/ppt/media/image30.png" ContentType="image/png"/>
  <Override PartName="/ppt/media/image1.jpeg" ContentType="image/jpeg"/>
  <Override PartName="/ppt/media/image22.jpeg" ContentType="image/jpeg"/>
  <Override PartName="/ppt/media/image14.gif" ContentType="image/gif"/>
  <Override PartName="/ppt/media/image16.jpeg" ContentType="image/jpeg"/>
  <Override PartName="/ppt/media/image17.jpeg" ContentType="image/jpeg"/>
  <Override PartName="/ppt/media/image3.gif" ContentType="image/gif"/>
  <Override PartName="/ppt/media/image26.png" ContentType="image/png"/>
  <Override PartName="/ppt/media/image18.jpeg" ContentType="image/jpeg"/>
  <Override PartName="/ppt/media/image19.gif" ContentType="image/gif"/>
  <Override PartName="/ppt/media/image13.png" ContentType="image/png"/>
  <Override PartName="/ppt/media/image20.gif" ContentType="image/gif"/>
  <Override PartName="/ppt/media/image21.jpeg" ContentType="image/jpeg"/>
  <Override PartName="/ppt/media/image24.jpeg" ContentType="image/jpeg"/>
  <Override PartName="/ppt/media/image3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28AD-68ED-4A6A-B78C-54C0D6D4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13A5-F876-4145-8611-B270C562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6364-42D4-45B2-9BD4-DEE867169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5F42-A9B0-45C6-A96C-C7CB101A7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1532-98D1-4CCD-9C3A-EF07F955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C70A-AF2E-4644-875B-6C2E75A9B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F3AC-E97E-4741-80D6-17FD8C52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3C2D-EB8F-44AD-9DE2-EF16C65F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982C-13C2-43AD-B68D-845FE42C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425F-0A50-404C-A9E2-73A881A7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C200-8737-498C-8203-38FA9049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FEA4-1FC5-4F41-BA9A-81A1FAE8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0367-EB3F-4A29-8F9B-7EE103EF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5984-23DC-4A68-8133-183F8925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9D4B-3E5E-40B7-A288-7CF5A552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47FB-3637-4A96-B141-15E1F18A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B820-FBF6-489F-AD1E-130EDCA9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2969-FCCF-4C64-8B19-B399EEDB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23EA-0903-48C5-BA10-2C288886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A4F7-BA9D-4505-961F-B1EB5928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D0C7-C49A-4A3E-AADE-BD0CFD7F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3495-A8CE-4717-B955-A08D523F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D14F-D289-4A9F-8888-54F3C561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5CB2-04CD-4B91-8115-57BAD82D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02F3-9D85-45FB-8303-AD3AC9E2F4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4C01-462F-45A2-848C-19F8505B4A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95280" y="4221000"/>
            <a:ext cx="1440000" cy="2421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2916360" y="692280"/>
            <a:ext cx="3160440" cy="246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003366"/>
                </a:solidFill>
                <a:effectLst>
                  <a:outerShdw dist="153753" dir="2700000" blurRad="0" rotWithShape="0">
                    <a:srgbClr val="875b0d">
                      <a:alpha val="69000"/>
                    </a:srgbClr>
                  </a:outerShdw>
                </a:effectLst>
                <a:latin typeface="隶书"/>
              </a:rPr>
              <a:t>欢迎光临</a:t>
            </a:r>
            <a:endParaRPr b="1" lang="en-US" sz="4800" spc="1" strike="noStrike">
              <a:ln w="12600">
                <a:solidFill>
                  <a:srgbClr val="800080"/>
                </a:solidFill>
                <a:miter/>
              </a:ln>
              <a:solidFill>
                <a:srgbClr val="003366"/>
              </a:solidFill>
              <a:effectLst>
                <a:outerShdw dist="153753" dir="2700000" blurRad="0" rotWithShape="0">
                  <a:srgbClr val="875b0d">
                    <a:alpha val="69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003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642080" y="5157720"/>
            <a:ext cx="459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48360" y="-36720"/>
            <a:ext cx="3095640" cy="70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没有碰上过许多的挫折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从心里说亦算是幸运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今天我再漫漫而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欣赏看看周遭气氛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存在原是要挥着热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这一分亲切感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存在迎着你行近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常伴你是我真挚的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全因这诚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可跟你共接近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冰冷全溶化了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换上了你我开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全因这诚恳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今天我共你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成真良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无限干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带着热诚由我的心中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66960" y="4324320"/>
            <a:ext cx="47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初中诚信教育主题班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5296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0000" y="404640"/>
            <a:ext cx="44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这是当日拍摄的事故发生现场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摄）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左右，上海闵行区莲花南路罗阳路口一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层在建商品楼一分钟内发生倒塌事故， 开发商为了节约成本不顾当地的建筑环境，使用了不合适当却便宜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管桩，造成了这次的事帮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4292640"/>
            <a:ext cx="403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购房者闻讯后赶到事故现场，强烈要求退房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88000" cy="3911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3813120"/>
            <a:ext cx="4788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788000" y="0"/>
            <a:ext cx="4356000" cy="544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716360" y="537372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三鹿董事长田文华被判处刑罚处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524720" y="5791320"/>
            <a:ext cx="14670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724360" y="4167360"/>
            <a:ext cx="3699000" cy="2690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403280" y="3573360"/>
            <a:ext cx="61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不讲诚信，难以在社会立足，其结果是既伤害别人，也伤害自己（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P116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03280" y="1341360"/>
            <a:ext cx="60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Arial"/>
                <a:ea typeface="隶书"/>
              </a:rPr>
              <a:t>不诚信的危害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7640" y="2708280"/>
            <a:ext cx="4681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失信于人，产生信任危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195640" y="476280"/>
            <a:ext cx="59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果这个社会失去了诚信，将会是什么样子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4360" y="260280"/>
            <a:ext cx="20952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隶书"/>
              </a:rPr>
              <a:t>畅所欲言</a:t>
            </a:r>
            <a:endParaRPr b="1" lang="en-US" sz="4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18446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经济和社会秩序的混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如：制假售劣、欠债赖账、商业欺诈、偷税漏税、走私骗汇、合同欺诈等现象屡禁不止，不仅损害了各方面的经济利益，造成重大的经济损失，而且，严重地干扰了市场发展的正常秩序，激发其他社会矛盾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78936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导致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人与人之间相互信任度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形成防范多于信任，对他人和社会的戒备心增强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对社会的不安全感增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例如到商场购物，得当心买到伪劣商品；与陌生人接触，得小心上当受骗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87280" y="422100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53006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在缺乏诚信的社会里，我们活得太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没有诚实就没有信任，我们时时处在怀疑和提防中，看谁都是没安好心，谁都是处心积虑。于是我们在算计和被算计中挣扎，为了保护自己而弄得筋疲力尽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164360" y="1052640"/>
            <a:ext cx="18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曾子杀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48360" y="5013360"/>
            <a:ext cx="187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举木为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3141720"/>
            <a:ext cx="6877080" cy="3716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7708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263700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前，上海市民章铸和罗凤仙夫妇，因为受炒股一夜暴富神话的蛊惑，被人诈骗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多万。事实上已经破产了的他们，通过十年含辛茹苦艰苦奋斗，终于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次还清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位债主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万的债务，兑现了“今生今世，一定要把这笔欠款还清”的誓言。为了还清债款，他们摆地摊，搞贩运……连挣带省，把每一笔攒下的钱，按借款比例分成若干份，两人挨家挨户把钱送上门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春天，真人真事的电视剧《天经地义》在上海开拍。在有人感叹人们道德丧失的今天，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次还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万所折射出的普通民众间的诚信与宽容，不正是对它的彰显与弘扬吗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59280" cy="2492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932360" y="0"/>
            <a:ext cx="4211640" cy="3379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932360" y="3381480"/>
            <a:ext cx="4211640" cy="3476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3492360" y="6210360"/>
            <a:ext cx="890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26028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海尔有一个很著名的广告语，叫作“真诚到永远”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海尔总裁张瑞敏解释说：一个企业要永续经营，首先要得到社会的承认、用户的承认。企业对用户真诚到永远，才有用户、社会对企业的回报，才能保证企业向前发展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迄今，海尔先后在欧洲、美国、亚洲等地区建立了自己的生产基地，并在海外建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设计中心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贸易中心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个营销网点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3357720"/>
            <a:ext cx="88930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7164360" y="1182600"/>
            <a:ext cx="153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0" y="1844640"/>
            <a:ext cx="66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上世纪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代温州皮鞋又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晨昏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假冒伪劣的品质引起全国消费者的公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至于很多商场贴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店无温州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安民告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198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在杭州武林广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5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双温州劣质皮鞋被市民扔进熊熊大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把火烧醒了温州人的诚信意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温州人用诚信重新拾起了温州皮鞋失落的尊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国十大鞋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温州皮鞋有三大品牌名列其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200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温州人又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这个倍感屈辱的日子确定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诚信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7920"/>
            <a:ext cx="43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温州皮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起落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443640" y="514368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46200" y="2205000"/>
            <a:ext cx="669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为人诚实，言而有信，能得到别人的信任，也是自身道德的升华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1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3500280"/>
            <a:ext cx="597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做老实人办老实事，是人们崇尚的行为准则，实实在在做事是个人得以立足、事业得以成功的保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1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6922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讲诚信的好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9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619280" y="1341360"/>
            <a:ext cx="61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5084640"/>
            <a:ext cx="2411280" cy="1773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556000" y="18900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讲诚信的原因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40000" y="907920"/>
            <a:ext cx="6119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人一旦许下诺言，就要忠实地履行承诺，如果不兑现自己的承诺，失信于人，就会产生信任危机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不讲诚信的人可以欺人一时，但不能欺人一世，一旦被识破，就难以在社会上立足，其结果既伤害别人，也伤害自己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1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68360" y="3500280"/>
            <a:ext cx="6697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为人诚实，言而有信，能得到别人的信任，也是自身道德的升华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1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40000" y="2276640"/>
            <a:ext cx="62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95640" y="4508640"/>
            <a:ext cx="59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做老实人办老实事，是人们崇尚的行为准则，实实在在做事是个人得以立足、事业得以成功的保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1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24000" y="1197000"/>
            <a:ext cx="216000" cy="136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9640" y="3645000"/>
            <a:ext cx="216000" cy="136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1280" y="1268280"/>
            <a:ext cx="13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不讲诚信的危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378936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讲诚信的好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68360" y="260280"/>
            <a:ext cx="47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有一个年青人走在漫长的人生道路上，到了一个渡口的时候，他已经拥有了“健康”、“美貌”、“诚信”、“机敏”、“才学”、“金钱”、“荣誉”这七个背包。船到江心的时候，突然，风起浪涌，小船上下颠动起来，艄公说：“船小负载重，客官必须丢弃一个背包，方可安渡难关”。年青人哪个都不舍得丢，思索了一会，他把“诚信”丢进了水里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43280" y="2997360"/>
            <a:ext cx="20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623736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问：如果你是那个青年，你会扔掉哪个背包？说说你的看法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50920" y="0"/>
            <a:ext cx="187308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说一说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59" name=""/>
          <p:cNvSpPr/>
          <p:nvPr/>
        </p:nvSpPr>
        <p:spPr>
          <a:xfrm>
            <a:off x="2374920" y="76500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认为拥有诚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将会有怎样的收获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40000" y="184464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友谊、获得别人的帮助、信任、事业的成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3265560"/>
            <a:ext cx="368604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87280" y="1197000"/>
            <a:ext cx="684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诚信的基本要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对人守信、对事负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1844640"/>
            <a:ext cx="81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恪守信用落实到具体行动上，即表现为一种积极负责的态度。“做老实人，办老实事”是人们崇尚的行为准则，实实在在做事是个人得以立足、事业得以成功的保证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。（践约守信是我们诚实做人的核心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4149720"/>
            <a:ext cx="88200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我们所做的大事、小事，都要认真面对，在做人方面实质上没有大事小事之分。生活是点点滴滴的小事构成的，诚信做人就体现在一点一滴的小事之中。我们做大事的同时也要拘小节，把做事与做人有机地统一起来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（做人诚信，无大小事之分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42920" y="3645000"/>
            <a:ext cx="410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3068640"/>
            <a:ext cx="82087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不轻易许下诺言，要学会拒绝；一旦有所承诺，就要努力兑现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（慎重许诺、坚决履行诺言，是我们负责任的表现。 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516720" y="5124600"/>
            <a:ext cx="237636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95280" y="0"/>
            <a:ext cx="22320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说一说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69" name=""/>
          <p:cNvSpPr/>
          <p:nvPr/>
        </p:nvSpPr>
        <p:spPr>
          <a:xfrm>
            <a:off x="4140360" y="1413000"/>
            <a:ext cx="4392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不撒谎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考试不作弊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不抄袭作业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借东西要及时还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捡到东西要交还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不弄虚作假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答应别人的事要做到…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3068640"/>
            <a:ext cx="3267000" cy="3459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059280" y="33336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怎样做个诚信少年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24000" y="981000"/>
            <a:ext cx="88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校正在开展的“诚信校园，从我做起”活动，你应该怎么做呢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、来到教室，数学课代表正在收作业，可是我还有几道题做不到，同桌的作业本就在旁边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、课间操到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实在不愿去做操，想起上周有位同学就是假装肚子疼骗过了老师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、英语考试，有位家长来敲门，老师去开门了，这是一个机会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、我向学校图书室借的一本课外书明天就要到期了，可是我还没看完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、课间同学向我请教一道数学难题，我已经给他讲了两遍可他仍然没弄懂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24000" y="0"/>
            <a:ext cx="223200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隶书"/>
              </a:rPr>
              <a:t>试一试</a:t>
            </a:r>
            <a:endParaRPr b="1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056360" y="5191200"/>
            <a:ext cx="20876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2257560" cy="2708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2411280" y="1484280"/>
            <a:ext cx="4313520" cy="21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9000"/>
                    </a:srgbClr>
                  </a:outerShdw>
                </a:effectLst>
                <a:latin typeface="华文行楷"/>
              </a:rPr>
              <a:t>谢谢光临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9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278383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43280" y="98100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个年青人带着剩下的六个背包，来到了一个人才招聘会的现场。同学们，假如你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校招聘教师的校长，你想不想让他成为你学校的一位教师，或者你是负责招聘的某单位主管，你会不会聘请他为你们单位的员工？ 请说明你的理由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4762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现场招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424836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50760" y="-105480"/>
            <a:ext cx="7454880" cy="447300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诚者，乃做人之本，人无信，不知其可 也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         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孔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0" y="4581360"/>
            <a:ext cx="23893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627280" y="404640"/>
            <a:ext cx="5472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君子一言，驷马难追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遵守诺言就像保卫你的荣誉一样——巴尔扎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民无信不立。 ——孔子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言不信者，行不果。 ——墨子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诚实是人生的命脉，是一切价值的根基。 ——德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没有诚信，何来尊严？ ——西塞罗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····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370440" y="549360"/>
            <a:ext cx="1826280" cy="299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名人名言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0" y="4221000"/>
            <a:ext cx="21970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619280" y="1916280"/>
            <a:ext cx="5905440" cy="2881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08000" y="148428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什么是诚信呢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63640" y="24210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诚”——内诚于己，诚实无期、诚实做人、诚实做事、实事求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92360" y="3645000"/>
            <a:ext cx="745164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信”——外信于人、有信用、讲信誉、守信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1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第一段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3666960"/>
            <a:ext cx="242100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24000" y="206064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校生活及社会生活中也有许多不诚信的事例 并谈谈对这些不诚信行为的感受看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42920" y="3213000"/>
            <a:ext cx="655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260280"/>
            <a:ext cx="1655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说一说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5322960"/>
            <a:ext cx="183528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00000" y="141300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校：撒谎、拾东西不还、迟到、抄袭作业、考试作弊、答应别人的事没有做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·····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2852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社会：制假售假、欠债不还、偷税漏税、豆腐渣工程、虚假广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·····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724360" y="3782880"/>
            <a:ext cx="278640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23:27:44Z</dcterms:created>
  <dc:creator>微软用户</dc:creator>
  <dc:description/>
  <dc:language>en-US</dc:language>
  <cp:lastModifiedBy>微软用户</cp:lastModifiedBy>
  <dcterms:modified xsi:type="dcterms:W3CDTF">2015-11-25T08:09:36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