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BDDF-075B-47DC-B049-ACDEFE8E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9389-74E4-41B0-BA1E-33EBDDB3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4623-DD63-4E2A-BE53-CF6176D7F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95BF-7E2A-4C08-8316-AFF6A6380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5FB1-5003-44C9-A360-3EFCE64E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F957-D33C-42DB-B276-1A77454A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A1DC-D0C7-4E19-A5CE-9A8C9B52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8526-1878-4771-B878-3F6F5CBF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E41F-B442-4221-98F3-F6FC7E2F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7285-9B77-4A00-9176-51307DAF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6B56-146C-4030-8F52-9D741B87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09F1-C7A3-411E-B964-2C7D30E3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D4E8-C8AB-4399-B77B-3842D32441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i.baidu.com/&#23547;&#26790;&#30333;&#34676;&#34678;/album/item/0666cd3c6e1d761cbba167e4.html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enwen.soso.com/z/Search.e?sp=S&#32654;&#24503;&amp;ch=w.search.yjjlink&amp;cid=w.search.yjjlink" TargetMode="External"/><Relationship Id="rId4" Type="http://schemas.openxmlformats.org/officeDocument/2006/relationships/hyperlink" Target="http://wenwen.soso.com/z/Search.e?sp=S&#20010;&#20154;&#19982;&#31038;&#20250;&amp;ch=w.search.yjjlink&amp;cid=w.search.yjjlink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170609_1024_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81080" y="762120"/>
            <a:ext cx="5639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76212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诚信考试主题班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371600" y="2133720"/>
            <a:ext cx="5443560" cy="2915640"/>
            <a:chOff x="1371600" y="2133720"/>
            <a:chExt cx="5443560" cy="2915640"/>
          </a:xfrm>
        </p:grpSpPr>
        <p:grpSp>
          <p:nvGrpSpPr>
            <p:cNvPr id="47" name=""/>
            <p:cNvGrpSpPr/>
            <p:nvPr/>
          </p:nvGrpSpPr>
          <p:grpSpPr>
            <a:xfrm>
              <a:off x="1371600" y="2133720"/>
              <a:ext cx="5443560" cy="830160"/>
              <a:chOff x="1371600" y="2133720"/>
              <a:chExt cx="5443560" cy="830160"/>
            </a:xfrm>
          </p:grpSpPr>
          <p:pic>
            <p:nvPicPr>
              <p:cNvPr id="4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32040" y="2209320"/>
                <a:ext cx="4983120" cy="67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371600" y="2133720"/>
                <a:ext cx="830160" cy="83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>
                <a:off x="2215800" y="2324880"/>
                <a:ext cx="4446720" cy="38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Arial"/>
                  </a:rPr>
                  <a:t>树诚信学风</a:t>
                </a:r>
                <a:r>
                  <a:rPr b="1" lang="zh-CN" sz="18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1371600" y="3182040"/>
              <a:ext cx="5443560" cy="831240"/>
              <a:chOff x="1371600" y="3182040"/>
              <a:chExt cx="5443560" cy="831240"/>
            </a:xfrm>
          </p:grpSpPr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832040" y="3257640"/>
                <a:ext cx="4983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371600" y="3182040"/>
                <a:ext cx="830160" cy="83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2215800" y="3385080"/>
                <a:ext cx="4446720" cy="38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Arial"/>
                  </a:rPr>
                  <a:t>做诚信学子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1371600" y="4219200"/>
              <a:ext cx="5443560" cy="830160"/>
              <a:chOff x="1371600" y="4219200"/>
              <a:chExt cx="5443560" cy="830160"/>
            </a:xfrm>
          </p:grpSpPr>
          <p:pic>
            <p:nvPicPr>
              <p:cNvPr id="5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832040" y="4294800"/>
                <a:ext cx="4983120" cy="67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371600" y="4219200"/>
                <a:ext cx="830160" cy="83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2215800" y="4423320"/>
                <a:ext cx="4446720" cy="38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Arial"/>
                  </a:rPr>
                  <a:t>提高自身素养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"/>
          <p:cNvSpPr/>
          <p:nvPr/>
        </p:nvSpPr>
        <p:spPr>
          <a:xfrm>
            <a:off x="5410080" y="55627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浏阳市北盛中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00400" y="1752480"/>
            <a:ext cx="5791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人而无信，不知其可也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孔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言无常信，行无常贞，惟利所在，无所不倾，若是则可谓小人矣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荀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信犹五行之土，无定位，无成名，而水金木无不待是以生者。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朱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若有人兮天一方，忠为衣兮信为裳。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卢照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你必须以诚待人，别人才会以诚相报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李嘉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371600" y="304920"/>
            <a:ext cx="2743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名言赏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strips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6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6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447920" y="2133720"/>
            <a:ext cx="46479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0" rIns="378000" tIns="298800" bIns="334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想必大家现在或多或少的都有一些感触吧，那让我们再次谈谈你对诚信考试以及所获得的感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048120" y="53352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诚信小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1371600"/>
            <a:ext cx="6858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顾客走进一家汽车维修店，自称是某运输公司的汽车司机。“在我的帐单上多写点零件，我回公司报销后，有你一份好处。”他对店主说。但店主拒绝了这样的要求。顾客纠缠说：“我的生意不算小，会常来的，你肯定能赚很多钱！”店主告诉他，这事无论如何也不会做。顾客气急败坏的嚷道：“谁都会这么干的，我看你是太傻了。”店主火了，他要那个顾客马上离开，到别处谈这种生意去这时顾客露出微笑并满怀敬佩的握住店主的手：“我就是那家运输公司的老板，我一直在寻找一个固定的、信得过的维修店，你还让我到哪里去谈这笔生意呢？” 面对诱惑，不怦然心动，不为其所惑，虽平淡如行云，质朴如流水，却让人领略到一种山高海深。这是一种闪光的品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诚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762120" y="304920"/>
            <a:ext cx="35049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什么是诚信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1371600"/>
            <a:ext cx="487656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诚信包括“诚”和“信”两个方面。“诚”是讲诚实，诚恳。诚实，指言行与内心思想一致，不虚假；守信用，指信守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诺言，说到做到，不失信。“信”是讲信用，信任。诚信是做人的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美德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“诚信”是处理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个人与社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个人与个人之间相互关系的基本道德规范。诚信是立身的根本，人无信则不立。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46483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诚信和做人永远是形影不离。因此我们当代学生一定要懂得诚信，学会诚信做人，学会</a:t>
            </a:r>
            <a:r>
              <a:rPr b="1" lang="zh-CN" sz="2400" spc="-1" strike="noStrike" u="sng">
                <a:solidFill>
                  <a:srgbClr val="0066ff"/>
                </a:solidFill>
                <a:uFillTx/>
                <a:latin typeface="Arial"/>
              </a:rPr>
              <a:t>诚信考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170609_1024_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371600" y="304920"/>
            <a:ext cx="594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学生考试作弊的八大典型心理：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12193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依赖心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16002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功利心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2514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虚荣心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2895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盲从心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38098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投机心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43434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讲义气心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52480" y="50292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冒险心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76920" y="54864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不平衡心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57200" y="228600"/>
            <a:ext cx="3809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为什么要诚信考试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11430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于朋友（同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大家因为缘分聚到了这所学校，这个班级，很难得。每个人内心都有善念，而且做了好事之后大家会心情舒畅，这是做人的规律。每个人也都渴望自己能够受到更多同学（朋友）的认可，渴望结交到知心朋友。想说的是想达到这一点，不是钱或者其他东西能够买到或者交换的到的，必须让自己的修养有所提高。所谓的群众的眼光是雪亮的就是这个道理！规范自己的行为，从点滴小事着手！相反，没有做到诚信考试，其他同学会以一种什么眼光看待你们？假设说你不在乎这些，那你在乎的是什么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4267080"/>
            <a:ext cx="4800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于自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大道理几乎每个人都听过，但是自己的理解有多少就不好说了。“人做事，天在看”，“做事要不愧自己的良心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..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可是我们在平时的生活中却没有做到！我想正是因为这样，我们才不断的通过学习来提高自己的思想认识，提高自身修养，去扬长避短。这是我们要弘扬的！考试不诚信？自己拍拍自己的内心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73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3200400" y="2362320"/>
            <a:ext cx="2209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讨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981080" y="1371600"/>
            <a:ext cx="571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838080"/>
            <a:ext cx="8381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762120"/>
            <a:ext cx="6019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05120" y="1676520"/>
            <a:ext cx="5943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不断强化良好的自我意识，塑造诚信人格；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明确学习目标，提高学习动力，学会学习，注意平时积累；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注意对考试认知的调整，理智看待考试极其结果；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做好考试期间良好心理的维护和保健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133720" y="762120"/>
            <a:ext cx="4343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怎样做到诚信考试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图片1"/>
          <p:cNvPicPr/>
          <p:nvPr/>
        </p:nvPicPr>
        <p:blipFill>
          <a:blip r:embed="rId1"/>
          <a:stretch/>
        </p:blipFill>
        <p:spPr>
          <a:xfrm>
            <a:off x="0" y="-14760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523880" y="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考场规则知多少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8580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考生应提前五分钟进考场，按监考人员指定位置就坐。考生迟到二十分钟取消本次考试资格，做旷考处理。考试进行三十分钟后，考生方可离开考场。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考生参加考试，必须携带“学生证”或其他规定的有效证件进入考场，否则不得参加考试。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考生不得自带草稿纸，闭卷考试只准携带规定的文具入座，开卷考试除文具用品外只准携带教师规定的书籍、手册，其他任何书籍、笔记等均需按监考人员指定的地方集中放置。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考生必须服从监考人员的管理和指挥，否则监考人员有权取消其考试资格，该门课程作零分处理。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考生应该在规定的时间内独立答题，若试卷字迹不清楚或有错漏等其他情况，可举手询问，但不得要求监考人员对题意作任何解释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图片1"/>
          <p:cNvPicPr/>
          <p:nvPr/>
        </p:nvPicPr>
        <p:blipFill>
          <a:blip r:embed="rId1"/>
          <a:stretch/>
        </p:blipFill>
        <p:spPr>
          <a:xfrm>
            <a:off x="0" y="-14760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304920"/>
            <a:ext cx="9144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在考试过程中，考生不得任意起立或离开座位，有特殊情况必须离开考场的，必须获得监考人员允许。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考生答卷完毕，须将整份试卷同时交出，交卷后立即离开考场，不得在考场附近逗留或高声交谈。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考试结束时间一到，考生应立即停止答卷，不得拖延交卷，将卷面向下放置在桌面上，并离开考场。凡经监考人员催促任不交卷者，监考人员可声明改卷无效，成绩以零分计。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考生因病或其他原因不能参加考试时，必须在考前向教务处提出书面申请，经系部签署意见，经教务处批准后，方可缓考。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无故旷考者，取消一次补考机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zyj</cp:lastModifiedBy>
  <dcterms:modified xsi:type="dcterms:W3CDTF">2014-11-27T11:40:55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  <property fmtid="{D5CDD505-2E9C-101B-9397-08002B2CF9AE}" pid="3" name="Version">
    <vt:r8>1</vt:r8>
  </property>
</Properties>
</file>