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01-2CE8-4A14-9E1D-2CAEA6E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A23-147A-403F-994C-17A2123F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CC3-C9E5-43FF-A10C-8956FC8C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23B-81A4-4D31-BA44-05A39345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631-D607-43E0-9309-61D8E6F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DC3-09DD-4932-A5CB-5A0DDB16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FA0-C800-41F2-8510-371E674F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D17-239B-47EF-84BA-53BD721C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44A-C8C4-45ED-8824-85ED5DA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175-7F27-4645-86B2-4851777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B81-FDEA-43DA-9929-FA9B9AC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8D6-BFDB-4062-96DD-450F136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66D9-17F0-4D91-B243-39008370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331631cd2c1a3c8e2fe0b6d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3348000" y="2781360"/>
            <a:ext cx="29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3072960" y="4941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东坡下载站编辑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640" y="1484280"/>
            <a:ext cx="61200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珍惜粮食 文明用餐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伸伸手，为他人，大家开心我开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4" descr="2.jpg"/>
          <p:cNvPicPr/>
          <p:nvPr/>
        </p:nvPicPr>
        <p:blipFill>
          <a:blip r:embed="rId2"/>
          <a:stretch/>
        </p:blipFill>
        <p:spPr>
          <a:xfrm>
            <a:off x="500040" y="1571760"/>
            <a:ext cx="7858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" descr="10.jpg"/>
          <p:cNvPicPr/>
          <p:nvPr/>
        </p:nvPicPr>
        <p:blipFill>
          <a:blip r:embed="rId2"/>
          <a:stretch/>
        </p:blipFill>
        <p:spPr>
          <a:xfrm>
            <a:off x="500040" y="1428840"/>
            <a:ext cx="8072640" cy="5000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857160" y="788400"/>
            <a:ext cx="72151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米线，很简单，坚持养成好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57160" y="788040"/>
            <a:ext cx="72151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坐坐好，微微笑，开开心心用佳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" descr="6.jpg"/>
          <p:cNvPicPr/>
          <p:nvPr/>
        </p:nvPicPr>
        <p:blipFill>
          <a:blip r:embed="rId2"/>
          <a:stretch/>
        </p:blipFill>
        <p:spPr>
          <a:xfrm>
            <a:off x="571680" y="1523880"/>
            <a:ext cx="77151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添饭之前给信号，说声谢谢有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5" descr="7.jpg"/>
          <p:cNvPicPr/>
          <p:nvPr/>
        </p:nvPicPr>
        <p:blipFill>
          <a:blip r:embed="rId2"/>
          <a:stretch/>
        </p:blipFill>
        <p:spPr>
          <a:xfrm>
            <a:off x="500040" y="1357200"/>
            <a:ext cx="7786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餐盘一定轻摆放，上下对齐真漂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4" descr="9.jpg"/>
          <p:cNvPicPr/>
          <p:nvPr/>
        </p:nvPicPr>
        <p:blipFill>
          <a:blip r:embed="rId2"/>
          <a:stretch/>
        </p:blipFill>
        <p:spPr>
          <a:xfrm>
            <a:off x="500040" y="1523880"/>
            <a:ext cx="77868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20073121643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康布丁体W12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康布丁体W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康布丁体W12"/>
              </a:rPr>
              <a:t>文明用膳”儿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9844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饭菜已摆好，用餐讲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让同学坐，自己再坐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要高声语，碗筷别乱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细嚼又慢咽，偏食可不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饭菜不浪费，文明用餐好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00000" y="1805760"/>
            <a:ext cx="721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让我们做一个珍惜粮食，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用餐的少先队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826920" y="2637000"/>
            <a:ext cx="721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411280" y="2421000"/>
            <a:ext cx="3603600" cy="24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康布丁体W12"/>
              </a:rPr>
              <a:t>Bye-by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康布丁体W12"/>
              <a:ea typeface="华康布丁体W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图片2"/>
          <p:cNvPicPr/>
          <p:nvPr/>
        </p:nvPicPr>
        <p:blipFill>
          <a:blip r:embed="rId1"/>
          <a:stretch/>
        </p:blipFill>
        <p:spPr>
          <a:xfrm>
            <a:off x="-118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问 卷 调 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773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一：你吃早餐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早餐一般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二：你喜欢吃馒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933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三：你知道馒头是怎么做出来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095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588000" y="907920"/>
            <a:ext cx="2160720" cy="200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59640" y="1484280"/>
            <a:ext cx="218124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59640" y="2060640"/>
            <a:ext cx="2098440" cy="21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84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四：对于吃剩的馒头，你的处理方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馒头是怎么“炼”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619280" cy="12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4360" y="3213000"/>
            <a:ext cx="1655640" cy="151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4360" y="1341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59280" y="3213000"/>
            <a:ext cx="1582920" cy="148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484360" y="314172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0" y="3141720"/>
            <a:ext cx="1547640" cy="152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0" y="5445000"/>
            <a:ext cx="1547640" cy="102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195640" y="5299200"/>
            <a:ext cx="1800000" cy="134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1773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1773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17733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263700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860640"/>
            <a:ext cx="505080" cy="289080"/>
          </a:xfrm>
          <a:prstGeom prst="leftArrow">
            <a:avLst>
              <a:gd name="adj1" fmla="val 50000"/>
              <a:gd name="adj2" fmla="val 43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86064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78936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479736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5877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图片2"/>
          <p:cNvPicPr/>
          <p:nvPr/>
        </p:nvPicPr>
        <p:blipFill>
          <a:blip r:embed="rId1"/>
          <a:stretch/>
        </p:blipFill>
        <p:spPr>
          <a:xfrm>
            <a:off x="-757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你觉得吃到馒头容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628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时间周期长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馒头取材于面粉，面粉来自于小麦。秋播，冬生，春熟，夏收，结束了小麦的轮回，接着进入加工厂，磨成面粉，然后来到食堂，经历一系列的变化，最后，在热气腾腾的蒸锅里，“破茧成蝶”成了白白胖胖的馒头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劳动强度大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田间地头，馒头开始了它漫长的“演变”：耕种，管理，收割，脱粒，晾晒，入仓，运输，加工，制作，最后一站是教室。可真是“谁知盘中餐，粒粒皆辛苦”啊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653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参与人员多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农民伯伯、收割机师傅、运输司机、加工厂工人、炊事员、值日学生等。一个小小馒头，竟然凝聚了这么多劳动者的付出，真是来之不易啊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你怎么看待浪费粮食的行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2343240" cy="1727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763640" y="3933720"/>
            <a:ext cx="43210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浪费一种可耻的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1989000"/>
            <a:ext cx="60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锄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锄禾日当午，汗滴禾下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知盘中餐，粒粒皆辛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539640" y="8355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请问同学们在学校食堂就餐时，见到过哪些不文明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88000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3024000" cy="208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284720" y="3933720"/>
            <a:ext cx="3024000" cy="21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51640" y="1989000"/>
            <a:ext cx="1368360" cy="1800360"/>
          </a:xfrm>
          <a:prstGeom prst="wedgeRoundRectCallout">
            <a:avLst>
              <a:gd name="adj1" fmla="val -45013"/>
              <a:gd name="adj2" fmla="val 69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你认为这些行为对吗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98864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对照一下，我们自己哪些方面做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得好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哪些地方需要注意？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们应该怎样做到文明用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857160" y="788400"/>
            <a:ext cx="72151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排好队，进餐厅，人人都是小标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1.jpg"/>
          <p:cNvPicPr/>
          <p:nvPr/>
        </p:nvPicPr>
        <p:blipFill>
          <a:blip r:embed="rId2"/>
          <a:stretch/>
        </p:blipFill>
        <p:spPr>
          <a:xfrm>
            <a:off x="500040" y="1523880"/>
            <a:ext cx="77868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3:02:07Z</dcterms:created>
  <dc:creator>番茄花园</dc:creator>
  <dc:description/>
  <dc:language>en-US</dc:language>
  <cp:lastModifiedBy>Sky123.Org</cp:lastModifiedBy>
  <dcterms:modified xsi:type="dcterms:W3CDTF">2015-10-10T02:45:27Z</dcterms:modified>
  <cp:revision>34</cp:revision>
  <dc:subject/>
  <dc:title>文明用餐 保持好心情</dc:title>
</cp:coreProperties>
</file>