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F4F-E969-466C-BD8F-1103983C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52F-B19F-4227-88F5-EFFE2642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74A-39A4-4BF9-8E6D-5B8DC08A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CA3-F997-45EA-B5F8-E25E8147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12F8-E403-44BF-B360-B8886D26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BA10-C751-4BCE-8BF3-5377C15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CB53-F0B1-4300-A6BA-CC091012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DCE0-E796-43C0-ADBC-7FDA74B6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0C04-F5E8-40A8-82B3-27E9D58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5827-6818-4BEF-BD07-C0371A8B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D27D-65A4-45C1-9DCD-FC8FDD1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630-B1FF-4227-AE10-FB4B3A8C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C270-5319-445C-97A3-9D0545BC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8ACF-B260-47F9-A1EB-D08B500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FD6F-616B-48AE-9451-22D61ED9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0232-AA5F-41F1-A0A7-DB62A66F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157F-F698-44E6-9F1A-C345DC86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D6C-FBB4-4FBB-83DC-EF5F3D26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0AC-DE1C-4E3F-9F86-4548691D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CDF-977A-41E1-AF52-CE681A1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393-EA1B-46C3-BA8F-01252BD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4F8-007C-40B9-AFF8-860189A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EDA-AA10-4A51-96F0-3560C08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B1A-0C09-4EC2-A01A-DFF63F9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DFF-74EA-4324-B611-BEFA5B1E71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3C78-0A11-4BE7-BCAD-DAC3BCDCE6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62064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弘扬爱国主义思想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71640" y="2637000"/>
            <a:ext cx="590400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做新时代有为青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941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八年级十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49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62864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主持人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同学们，看完了神舟七号发射上天的精彩镜头，现在，你们有何感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57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933720"/>
            <a:ext cx="7543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请谈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神舟七号发射成功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234936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国庆谈爱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7893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宋体"/>
              </a:rPr>
              <a:t>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同学们知道今年的国庆是第几个周年吗？也请大家说说自己在国庆节期间都做过什么有意义的事情、有什么特别的感想，并谈谈自己对国庆与爱国的理解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360" y="476280"/>
            <a:ext cx="3492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二环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测测你爱国的程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对以下句子的认同程度能否测出一个人是否爱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爱我自己的国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为自己是一个中国人自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中国人挺了不起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某种程度上，我的情感与国家紧密相连，受国家大事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会唱中华人民共和国国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升旗是一件很神圣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7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7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7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7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0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</a:rPr>
              <a:t>你能想到哪些爱国名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破则家亡，国兴则家昌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家兴亡、匹夫有责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死国生，我死犹荣，身虽死精神长生，成功成仁，实现大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赵博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你的，我的祖国！都是你的，我的这心、这灵魂；假如我不爱你，我的祖国，我能爱哪一个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裴多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城虽乐，不如回故乡；乐园虽好，非久留之地。归去来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华罗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中国人民的儿子。我深情地爱着我的祖国和人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3645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请同学们朗诵下列关于爱国的诗歌</a:t>
            </a: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260280"/>
            <a:ext cx="3168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三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00" y="1413000"/>
            <a:ext cx="540072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深情朗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333360"/>
            <a:ext cx="3914640" cy="65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祖国啊 我亲爱的祖国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舒婷） </a:t>
            </a:r>
            <a:br>
              <a:rPr sz="2800"/>
            </a:br>
            <a:br>
              <a:rPr sz="2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河边上破旧的老水车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百年来纺着疲惫的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额上熏黑的矿灯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照你在历史的隧洞里蜗行摸索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干瘪的稻穗；是失修的路基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淤滩上的驳船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把纤绳深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勒进你的肩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！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贫困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悲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祖祖辈辈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痛苦的希望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“飞天”袖间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千百年来未落到地面的花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125360"/>
            <a:ext cx="3915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簇新的理想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刚从神话的蛛网里挣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雪被下古莲的胚芽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挂着眼泪的笑窝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新刷出的雪白的起跑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绯红的黎明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正在喷薄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十亿分之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你九百六十万平方的总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你以伤痕累累的乳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喂养了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迷惘的我，深思的我，沸腾的我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那就从我的血肉之躯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去取得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你的富饶，你的荣光，你的自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亲爱的祖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班会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环节：神舟七号发射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环节：国庆中畅谈爱国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环节：深情朗诵爱国诗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环节：爱国典范的展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环节：中学生要如何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六环节：演唱爱国歌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束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804960"/>
            <a:ext cx="84978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我的祖国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br>
              <a:rPr sz="4800"/>
            </a:b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的祖国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昂首高吭的雄鸡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唤醒拂晓的沉默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冲天腾飞的巨龙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叱咤时代的风云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威风凛凛的雄狮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舞动神州的雄风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人类智慧的起源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点燃文明的星火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有一个神圣的名字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！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啊，我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6920" y="836640"/>
            <a:ext cx="2663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爱国典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84600" cy="263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2505240"/>
            <a:ext cx="3953160" cy="4352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415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133880" y="1428840"/>
            <a:ext cx="5010120" cy="5429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124000" y="44280"/>
            <a:ext cx="1859040" cy="24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211640" y="-27000"/>
            <a:ext cx="2376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影片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面请同学们欣赏董存瑞舍身炸堡碉的电影片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2565360"/>
            <a:ext cx="7924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	</a:t>
            </a: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在日常生活中，我们中学生该如何爱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476280"/>
            <a:ext cx="36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87640" y="2060640"/>
            <a:ext cx="532944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学生如何爱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492280"/>
            <a:ext cx="831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最重要的是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其次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做对国家有害的事情，以后到了社会，也将是一个守法的好国民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32000" y="692280"/>
            <a:ext cx="691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中学生如何弘扬爱国精神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?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640" y="2924280"/>
            <a:ext cx="74167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演唱爱国歌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持人：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下面请几位同学为我们展示自己的精彩才艺—演唱一首爱国主题歌曲，让我们在激荡人心的歌声中结束我们这次的主题班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面有几首歌曲可供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爱我中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260280"/>
            <a:ext cx="251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六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我的中国心（张明敏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河山只在我梦里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祖国已多年未亲近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是不管怎样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洋装虽然穿在身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心依然是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祖先早已把我的一切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烙上中国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＊＊＊＊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609300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60930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龙的传人（王力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长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黄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看见长江美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梦里常神游长江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听见黄河壮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汹涌在梦里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条龙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中国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群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们全都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脚底下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眼睛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头发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皮肤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年前宁静的一个夜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全家人到纽约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野火呀娆不尽在心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夜每天对家的思念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别人士地上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巨龙你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的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616572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614988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爱我中华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宋祖英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手：宋祖英    专辑：大地飞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我中华 健儿奋起步伐 爱我中华 建设我们的国家 爱我中华 中华雄姿英发 爱我中华 五十六族兄弟姐妹 五十六种语言汇成一句话 爱我中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罗赛 赛罗赛 赛罗赛罗赛 爱我中华 嗨 嗨罗嗨罗嗨 嗨 嗨罗嗨罗嗨 嗨 嗨罗嗨罗 爱我中华 五十六个星座 五十六只花 五十六族兄弟姐妹是一家 五十六种语言汇成一句话 爱我中华 爱我中华 爱我中华 嗨 依罗依罗嗨 嗨 依罗嗨罗嗨 嗨 依罗嗨罗 依罗嗨罗 爱我中华 五十六个星座 五十六只花 五十六族兄弟姐妹是一家 五十六种语言汇成一句话 爱我中华 爱我中华 爱我中华 爱我中华 健儿奋起步伐 爱我中华 建设我们的国家 爱我中华 中华雄姿英发 爱我中华 五十六族兄弟姐妹 五十六种语言汇成一句话 爱我中华 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630864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62946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地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过程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下面让我们一起来看看我国的神舟七号卫星是怎样发射上天的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==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40464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一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484360" y="3141720"/>
            <a:ext cx="39607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47640" y="1700280"/>
            <a:ext cx="5904000" cy="196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班会结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4647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62800" y="981000"/>
            <a:ext cx="10335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0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2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分发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2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出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5029200" cy="37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20880" y="1844640"/>
            <a:ext cx="3472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神舟七号于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00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日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时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分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04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秒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8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毫秒从酒泉卫星发射中心起飞，航天员包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翟志刚、刘伯明、景海鹏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三名宇航员，他们中的一人将在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日下午进行中国第一次出舱活动，取回实验样本，出舱活动进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分钟左右，这是一个很大的进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太空行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成功返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06480"/>
            <a:ext cx="8459640" cy="595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03:38Z</dcterms:created>
  <dc:creator>flz</dc:creator>
  <dc:description/>
  <dc:language>en-US</dc:language>
  <cp:lastModifiedBy>李红斌</cp:lastModifiedBy>
  <dcterms:modified xsi:type="dcterms:W3CDTF">2012-09-23T08:18:40Z</dcterms:modified>
  <cp:revision>51</cp:revision>
  <dc:subject/>
  <dc:title>PowerPoint 演示文稿</dc:title>
</cp:coreProperties>
</file>