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29-0152-445E-891B-1842C3C6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110-31D6-4F1F-B06B-62D6442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7F4-39A3-411F-921B-5A067D9F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40E-6E47-4C61-A11F-D8DDFAF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F22-0DA9-478F-AEBD-70B01A83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C23-B29A-455B-8D95-8D3E3E85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481-FA2B-4BC1-AC1B-925D2078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589-32DE-4E51-ADD9-998E589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9497-1C02-4433-A836-3C352460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44FF-CCCD-41BD-A7C0-64608D7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4CEE-1AC0-4EC2-AA01-D211630F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F25-7737-46A8-BC23-AEFAB8C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190B-6C57-4CDD-B442-B442ADE7B8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cc3399"/>
                </a:solidFill>
                <a:latin typeface="Times New Roman"/>
                <a:ea typeface="隶书"/>
              </a:rPr>
              <a:t>做习惯的主人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主题班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黑体"/>
                <a:ea typeface="黑体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习惯治疗卡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填写此卡，尽量详细，针对具体的问题来解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391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————月————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良学习习惯：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怎样改进：——————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邀请———做我的评判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提醒我要和坏习惯绝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星期后，我的表现怎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———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明的学习习惯治疗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09120" y="8380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良学习习惯：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不按时完成作业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上自习课的时候说：“晚上回家再做吧。”等回到家，吃完晚饭的时候，做了一会儿就想看电视，又说：“明天早上做吧！”结果总是推脱，最后到了交作业的时候，才发现自己还没完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样改进？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把每天的作业记在记事本上，回家之后，先做作业，再看电视，让父母监督，再没有做完作业之前，不许睡觉，老师上完一课我就立即做完这一课作业，让自己的同桌监督自己完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邀请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黑体"/>
                <a:ea typeface="黑体"/>
              </a:rPr>
              <a:t>晓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我的评判人，提醒我要和怀习惯绝交，一星期后，我的表现怎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6094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066680"/>
            <a:ext cx="822960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给分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100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不是表扬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表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评判人签名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小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期：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2005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年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9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月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7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6094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当自己在改进不良学习习惯的时候，要取得家人和好朋友的帮助，让他们来做你的坚强的精神后盾。在自己无法坚持的时候，跟家人和好朋友及时地沟通，大家一起想办法。当自己取得进步的时候，也反馈给他们，让自己亲近的人能看见你的进步，也可以提高你的自信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08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真诚待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21400" y="151992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诚实守信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16440" y="1519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认真负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61160" y="1553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自信自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7920" y="2485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遵守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讲究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4336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友善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15000" y="248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合理消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54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主动学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680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独立思考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50280" y="342828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勇于实践</a:t>
            </a: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31000" y="3432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总结反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21640" y="225360"/>
            <a:ext cx="489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人格化好习惯的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指标 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7280" y="1295280"/>
            <a:ext cx="5331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北京有一家外资企业招工，对学历、外语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身高、相貌的要求都很高，但薪酬挺高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所以有很多高素质人才都来应聘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这一些年轻人，过五关斩六将 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到了最后一关：总经理面试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　 这些年轻人想，这很简单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只不过是走走过场罢了，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.number one."/>
                <a:ea typeface="方正综艺简体"/>
              </a:rPr>
              <a:t>     准十拿九稳了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68360" y="1406880"/>
            <a:ext cx="6850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新舒体简体"/>
              </a:rPr>
              <a:t>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    一见面，总经理说：“很抱歉，年轻人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我有点急事，要出去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分钟，你们能不能等我？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说：“没问题，您去吧，我们等您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老板走了，年轻人一个个踌躇满志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得意非凡，闲不着，围着老板的大写字台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只见上面文件一摞，信一摞，资料一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年轻人你看这一摞，我看这一摞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看完了还交换：哎哟，这个好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.number one."/>
                <a:ea typeface="方正新舒体简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55343" b="0"/>
          <a:stretch/>
        </p:blipFill>
        <p:spPr>
          <a:xfrm>
            <a:off x="0" y="0"/>
            <a:ext cx="345744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17" b="0"/>
          <a:stretch/>
        </p:blipFill>
        <p:spPr>
          <a:xfrm>
            <a:off x="1403280" y="0"/>
            <a:ext cx="774072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7400" y="1494000"/>
            <a:ext cx="342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分钟后，总经理回来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说：“面试已经结束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“没有啊？我们还在等您啊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老板说：“我不在的这一段时间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你们的表现就是面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.number one."/>
                <a:ea typeface="方正准圆简体"/>
              </a:rPr>
              <a:t>很遗憾，你们没有一个人被录取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319800">
            <a:off x="539640" y="1268280"/>
            <a:ext cx="7345440" cy="4608720"/>
          </a:xfrm>
          <a:prstGeom prst="rect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20596200">
            <a:off x="801000" y="692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.number one."/>
                <a:ea typeface="华文彩云"/>
              </a:rPr>
              <a:t>温馨提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669000">
            <a:off x="2574360" y="2133360"/>
            <a:ext cx="2923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习惯是一个人的资本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好习惯，你一辈子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都有用不完的利息，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你有了坏习惯，你一辈子有</a:t>
            </a:r>
            <a:br>
              <a:rPr sz="4000"/>
            </a:br>
            <a:r>
              <a:rPr b="1" lang="zh-CN" sz="4000" spc="-1" strike="noStrike">
                <a:solidFill>
                  <a:srgbClr val="9966ff"/>
                </a:solidFill>
                <a:latin typeface=".number one."/>
                <a:ea typeface="方正水柱简体"/>
              </a:rPr>
              <a:t>偿还不了的债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想管住自己为什么管不住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不长记性，总是重复在同一个错误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原谅自己，在没有办法改变的时候就放弃了，然后给自己找各种各样的理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志薄弱，下决心要控制自己，可是总是在最后的关头又坚持不住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143000"/>
            <a:ext cx="815328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得住自己，你是习惯的主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管不住自己，你是习惯的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做主人，还是做奴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全在于自己的选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改掉坏习惯的方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交一些能够管住自己的朋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座右铭，挂字画等来提醒约束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写日记来管住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学习习惯测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学过的功课，是不是加以复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预习要学的功课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课的时候，注意力是否集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回答老师的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上自习课的时候是否自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不懂的功课，是否向别人请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不是按时完成作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是否喜欢参加讨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3:22:44Z</dcterms:created>
  <dc:creator>min78</dc:creator>
  <dc:description/>
  <dc:language>en-US</dc:language>
  <cp:lastModifiedBy>dxm</cp:lastModifiedBy>
  <dcterms:modified xsi:type="dcterms:W3CDTF">2007-10-24T06:44:32Z</dcterms:modified>
  <cp:revision>10</cp:revision>
  <dc:subject/>
  <dc:title>做习惯的主人</dc:title>
</cp:coreProperties>
</file>