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44A-2D12-4306-A385-AEB581B6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BAB-E124-4C13-A203-BD40F949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7AC-E786-46B4-A83C-FF4C085F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FA7-AB01-441D-AFE2-A303EE67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7F7B-96AB-44B7-A903-B06731AD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D549-E6A5-4702-BF0E-D5CBB8D4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66A-DEB6-485E-A4BC-C00007C3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D76D-F92A-4FCC-818E-06C95DFB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449B-3E2A-43A3-B683-A682B1E2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9206-4EE5-436B-B304-200D8AE4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34D-7B00-43D8-80CE-68F4DCF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FF2-E461-4ABD-B58A-5C1BDFE8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FEB-8245-49F9-87BB-1B5A087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7174-BB73-42FC-BF50-08D820A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DCDB-6126-450B-A54A-3C5D9FA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B4A-5AAB-441F-87A6-04F917B0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181F-78AE-4CD1-9739-E4886413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07F-A5BE-42A1-8660-D2A494EA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DDB-1383-4FBB-81A2-930AF6A6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7D6-7575-4561-B840-F580874B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4FA-7BC0-4688-8CD9-3D2F69D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A98-A1BF-48CC-A98D-42237AD7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F61-7DAD-470D-9073-662B0B4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401-AAE5-44FC-B16D-B7F6472D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516-5C8E-403C-8A59-C284E8191F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3EC1-7F0E-4633-8FA1-737AEECD51E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2819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8000" spc="-1" strike="noStrike">
                <a:solidFill>
                  <a:srgbClr val="0000ff"/>
                </a:solidFill>
                <a:latin typeface="Tahoma"/>
              </a:rPr>
              <a:t>老师你好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419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一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&lt;23&gt;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班教师节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我有时在校园里碰到老师觉得有些不好意思，就低着头从他身边走过，没有和他打招呼，这是对老师不礼貌的表现，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楷体"/>
              </a:rPr>
              <a:t>以后我在校园里一定主动向老师问好，不管他是不是我们班的任课老师，都要有礼貌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7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7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327636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  <a:ea typeface="楷体"/>
              </a:rPr>
              <a:t>尊敬老师，就请将教师节的心态放诸每一个平凡的日子里。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7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7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诸多尊敬在许多人那里只能持续一天，而且形式大于内容，更看重的是给教师办个什么样的庆贺会，甚至送了什么样的重礼。心灵深处的尊重往往靠器物的价值来衡量，这显然有悖于“尊师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的真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楷体"/>
                <a:ea typeface="楷体"/>
              </a:rPr>
              <a:t>尊敬老师，就请用一颗平常心来看待老师。</a:t>
            </a: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7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7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十年树木，百年树人”。相比其他行业，老师身上肩负的责任更为重大。教师的职业很神圣，但教师首先是一个人，教师也有常人的缺点毛病，教师也会犯错，因此，在教师犯错的时候，我们应用平常的心态来对待教师。时刻记着教师只是一个凡人，而不是一个圣人。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  <a:ea typeface="楷体"/>
              </a:rPr>
              <a:t>信任老师，努力学好每一科。尽自己的全力获得好成绩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7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7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不信任老师就像一个杯子盛满了东西，再也不能接受新事物。而说人学习好的基础是虚心，这样才可以敞开怀抱接受新事物了。所以我说成就要从信任老师起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楷体"/>
              </a:rPr>
              <a:t>我们的老师多年教学的经验，他们的要求都有目的。他们出的习题都有目的，但他不会和你讲，你只管依教奉行，百分百的完成，你一定会有出于意料的收获。除了学习我更应该说的是老师于我们日常的教导、要求都是他人生和教学积累的智慧的总结，有的同学自认为有个性，很有自尊，对老师的话听不入耳，甚至反感，却不知这正是你下滑的时候，有心的同学细心品味老师的话，反复思索老师的话，因而时时进步，因为他信任老师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誓词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  <a:ea typeface="楷体"/>
              </a:rPr>
              <a:t>尊敬老师，听老师的话，按老师的教导办事，做老师的好学生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楷体"/>
              </a:rPr>
              <a:t>热烈欢迎各位老师的到来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寄语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楷体"/>
              </a:rPr>
              <a:t>一个人，无论地位有多高，成就有多大，如果饮水思源，他就不会忘记老师在他的成长道路上所花费的巨大心血。“国家兴亡，系于教育；教育兴亡，系于教师。”是教师让我们告别愚昧，是教师让我们挥别贫穷，是教师让人们智慧起来，是教师让民族振兴起来。因此，尊敬老师是一个民族文明的标志，是提高国民素质的关键，是经济腾飞的基础，是国家兴旺的根本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寄语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楷体"/>
              </a:rPr>
              <a:t>老师们的无私奉献、不图回报、爱岗敬业、安贫乐道、甘作人梯、愿作牛马的精神是永远值得我们学习和爱戴的。所以我们要尊敬老师，热爱老师！但尊师重教不是一句口号，而是实实在在的行动。不仅仅是教师节才有的专利，而是落实到日常生活中。许多同学在教师节给老师送上贺卡以表心愿，其实，尊师不在于这些，而在于我们同学的头脑中，是否时刻都有这样一个意识，在于是否将这种意识溶于自己的每一言、每一行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寄语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真切的希望各位同学能将今天所说的一切化为实际行动，用你们的一言一行来表达对老师的尊敬与爱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来自偶然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像一颗尘土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有谁看出我的脆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来自何方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情归何处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谁在下一刻呼唤我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天地虽宽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这条路却难走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看遍这人间坎坷辛苦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爱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泪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要苍天知道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不认输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有你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伴我一生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让我有勇气作我自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命运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花开花落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一样会珍惜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来自偶然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像一颗尘土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有谁看出我的脆弱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来自何方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情归何处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谁在下一刻呼唤我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天地虽宽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这条路却难走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看遍这人间坎坷辛苦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泪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要苍天知道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不认输</a:t>
            </a:r>
            <a:br>
              <a:rPr sz="32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谢有你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伴我一生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让我有勇气作我自己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谢命运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花开花落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一样会珍惜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有你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伴我一生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让我有勇气作我自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命运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花开花落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一样会珍惜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尊师重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每天清晨，同学在校园遇见老师亲切地问一声：老师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早上好！ 教师节，同学们会向老师送一张精美的贺卡。这一声声亲切的问候，一张张美丽的贺卡，都折射出中华民族优秀传统在当今时代所绽放出的绚丽色彩。有人说教师是人类灵魂的工程师。是的，当我们刚入学还不懂事的时候，是老师从细小的事情入手，耐心地指导我们如何做人、如何做事。当我们犯了错误的时候，或是彷徨无奈的时候，又是老师循循善诱地启迪我们，仿佛是在我们的心灵深处点燃了一盏明亮的灯，把我们的人生引向光明的彼岸。如果说学校是知识的源泉，那么在我们学习知识的过程中最离不开的就是老师了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666880"/>
            <a:ext cx="777240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楷体"/>
              </a:rPr>
              <a:t>    </a:t>
            </a: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楷体"/>
              </a:rPr>
              <a:t>祝各位老师节日快乐，家庭幸福！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为什么要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为什么要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毛主席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在给他的老师徐特立老先生的生日贺信中说道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：“你是我二十年以前的老师，现在仍然是我的老师，将来必定还是我的老师。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杨时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程门立雪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杨时在洛阳求教于程颐。杨时那个时候大概已经四十岁了。一天他去拜见程颐时，恰巧程颐正在坐着打盹，杨时就和游酢恭敬的站在旁边，一直没有走开。等到程颐醒来的时候，门外的雪已经有一尺深了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为什么要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尊师重教，是中华民族传统美德的重要规范。其本质是尊重知识、尊重教育、尊重人才。对青少年进行尊师重教教育，这是人类生存、发展和社会文明进步的需要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楷体"/>
              </a:rPr>
              <a:t>问题一：你以前有过那些不尊敬老师的行为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楷体"/>
              </a:rPr>
              <a:t>问题二：你打算今后怎样尊敬老师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7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7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7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当我犯了错误，受了老师的批评，总是不服气，有时还要顶撞老师。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楷体"/>
              </a:rPr>
              <a:t>其实我错了，老师批评我，教育我，都在教我做人的道理。以后我一定虚心接收老师的批评教育，并积极改正错误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7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7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有时上课不认真听讲，经常开小差。有时还要讲话，影响课堂纪律和老师的讲课，这是对老师劳动不尊重的表现。</a:t>
            </a: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们应该上课专心听讲，独立思考，积极举手发言，认真完成作业，这是老师最大的欣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7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7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5:13Z</dcterms:created>
  <dc:creator>home</dc:creator>
  <dc:description/>
  <dc:language>en-US</dc:language>
  <cp:lastModifiedBy>T-Mac</cp:lastModifiedBy>
  <dcterms:modified xsi:type="dcterms:W3CDTF">2012-09-10T05:00:3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