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gif" ContentType="image/gif"/>
  <Override PartName="/ppt/media/image3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18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6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8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3033-2CE5-4BE5-ACB6-60B60C625B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93B1-C606-4555-A0B0-B09846236D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CD62-CDA5-4855-9188-26A0A51E9B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3061-7B30-4B08-B9A3-66183FBE60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4007-43FE-481C-8103-AFECB84946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F201-0A8B-460E-AA3E-081A6FBC74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8748-479C-4360-B9AE-6CF033E177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C005-1BE1-45ED-8E03-E2D1A6C327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E6CC-E614-4A3A-9239-223EED78B0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BF2-4DD2-4855-8F5A-CBCAE776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237-8EF6-460A-9C8B-5AC20F28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E2D-AC48-4BEB-891D-D6A74687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3E9-9E9F-4F8C-848C-04656757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BAC8-750F-42B1-8CDF-8A81BE7B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8E90-4C98-4FDC-9665-42B43837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CF56-DEC2-4670-A253-BD153B0A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2C01-B617-4FE9-8FEE-A9ABC9F6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DA65-5856-4247-AEC6-9AD35E75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1E87-4E12-4417-839B-D12C832D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1F4E-CF7E-4A48-9EBF-DE8B8A56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9B6-A7F9-4DC1-B276-7F220793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A084-CD2F-4C52-A2EB-479F172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8263-1640-42F6-91A1-8B61D049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A17B-FA4C-4DC0-AF21-81BD02B7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5812-90B0-4444-BE61-7986A6B2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B748-57AB-4DC8-846A-23372D91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D79A-19B4-4294-8011-A27B605D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E8A2-865B-4DE5-80DA-AB245B1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87C2-C463-4A94-A8A6-2CFC3F3B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BA75-2E18-41A7-9FAA-FEC7C47C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09D2-57A7-4BC6-9F72-51D500D5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391-0433-490F-A606-77F07894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CEC4-4B17-496A-B0FF-01CA87F6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4561-CB08-4B3F-8FFE-3F3739F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E784-9393-46BE-8408-EA1C5088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208E-8FC6-4185-B466-0DD54022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5D88-F4E1-4792-9E0A-E340CD9C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33A9-2F1B-4A06-84E6-9832F32E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6285-6AF1-41B8-B12C-C64FDA74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1DCA-8F68-4AAF-ABE2-78B1689C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13AD0-8A7E-4ABB-B4EA-702BBCD8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0E33-4EAC-4060-A29F-9A029DA3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0A1-DC86-40F8-9F4C-700C11D7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1B55-D682-4362-92C3-A6D3CEAF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B8F9-FCE0-4F3B-A5A8-F71F2549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3069-9692-4F36-B32D-243E3528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9708-5A4F-4E67-90D9-F5D714EC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7AEE-9437-4AAC-A01E-4DD29692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6716-8AFF-444E-AADB-D145F05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714E-B7CA-4590-A4CD-2DF385B7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9D64-5990-453D-8E39-D64415B7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040B-1E75-40AB-8849-309BD008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1B48-94C6-484D-B9C0-F4C37DA5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9C1-2DC0-4269-B210-253C167B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AB6B-D121-46B6-B981-5AE83A80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B386-E0BF-4EE7-AA0C-9D51DB51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9ED0-5B3F-47EE-BF15-15AF04B9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BD7E-A939-41FC-86A3-613A9F1C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0EB2-3382-40CC-84D4-A365F4F2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C407C-925E-4B01-A639-294370A7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1F617-7393-4B2A-BEF9-9D52EF36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96F4-8719-4A1F-A7AC-FA9CB63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07C1C-AFAE-45E6-8D3A-676DCC04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08F3C-FF3E-41D3-BDC4-4414BD53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C5D-FE4B-4861-89C8-130147F3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8FF58-C07A-4EA4-AECE-720ACCE2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951-C9A7-413B-9A38-8319DBAE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99D-D5EA-4A54-AAA7-A608E56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DD7-5A47-45DA-82D4-B9ED1F8A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ACCD-01D4-469E-BABC-B0113BE952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B645-DFC7-48A1-8402-5EEA9F9222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>
                <a:gd name="textAreaLeft" fmla="*/ 0 w 3571920"/>
                <a:gd name="textAreaRight" fmla="*/ 3572280 w 357192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7792560" y="4317840"/>
            <a:ext cx="982800" cy="1161360"/>
            <a:chOff x="7792560" y="4317840"/>
            <a:chExt cx="982800" cy="1161360"/>
          </a:xfrm>
        </p:grpSpPr>
        <p:sp>
          <p:nvSpPr>
            <p:cNvPr id="94" name="未知"/>
            <p:cNvSpPr/>
            <p:nvPr/>
          </p:nvSpPr>
          <p:spPr>
            <a:xfrm rot="7320000">
              <a:off x="7788600" y="4653000"/>
              <a:ext cx="998640" cy="46800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 rot="7320000">
              <a:off x="7770240" y="4634640"/>
              <a:ext cx="995400" cy="46332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 rot="7320000">
              <a:off x="7931880" y="4615920"/>
              <a:ext cx="660600" cy="42300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3000"/>
                <a:gd name="textAreaBottom" fmla="*/ 423360 h 4230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92560" y="4317840"/>
              <a:ext cx="982800" cy="1161360"/>
              <a:chOff x="7792560" y="4317840"/>
              <a:chExt cx="982800" cy="1161360"/>
            </a:xfrm>
          </p:grpSpPr>
          <p:sp>
            <p:nvSpPr>
              <p:cNvPr id="98" name="未知"/>
              <p:cNvSpPr/>
              <p:nvPr/>
            </p:nvSpPr>
            <p:spPr>
              <a:xfrm rot="7320000">
                <a:off x="7916760" y="5056920"/>
                <a:ext cx="93600" cy="97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rot="7320000">
                <a:off x="7754400" y="4649400"/>
                <a:ext cx="1058760" cy="4975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7520"/>
                  <a:gd name="textAreaBottom" fmla="*/ 497880 h 4975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 rot="7320000">
                <a:off x="8039880" y="4756680"/>
                <a:ext cx="749160" cy="28152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 rot="7320000">
                <a:off x="8513280" y="4554720"/>
                <a:ext cx="100080" cy="1886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 rot="7320000">
                <a:off x="8150400" y="4754880"/>
                <a:ext cx="306360" cy="1663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该资料由书利华教育网【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www.ShuLiHua.net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520C-FAD5-4A79-B3B8-FD51F3C93EE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0EFA-D742-4925-B2FA-C20313BEE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E9A6-49BE-40B1-AE28-754A07FC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.xml"/><Relationship Id="rId3" Type="http://schemas.openxmlformats.org/officeDocument/2006/relationships/image" Target="../media/image22.gif"/><Relationship Id="rId4" Type="http://schemas.openxmlformats.org/officeDocument/2006/relationships/slide" Target="slide1.xml"/><Relationship Id="rId5" Type="http://schemas.openxmlformats.org/officeDocument/2006/relationships/image" Target="../media/image22.gif"/><Relationship Id="rId6" Type="http://schemas.openxmlformats.org/officeDocument/2006/relationships/slide" Target="slide1.xml"/><Relationship Id="rId7" Type="http://schemas.openxmlformats.org/officeDocument/2006/relationships/image" Target="../media/image22.gif"/><Relationship Id="rId8" Type="http://schemas.openxmlformats.org/officeDocument/2006/relationships/slide" Target="slide1.xml"/><Relationship Id="rId9" Type="http://schemas.openxmlformats.org/officeDocument/2006/relationships/image" Target="../media/image22.gif"/><Relationship Id="rId10" Type="http://schemas.openxmlformats.org/officeDocument/2006/relationships/slide" Target="slide1.xml"/><Relationship Id="rId11" Type="http://schemas.openxmlformats.org/officeDocument/2006/relationships/image" Target="../media/image22.gif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Idioms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38120" y="1079640"/>
            <a:ext cx="85406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  <a:ea typeface="黑体"/>
              </a:rPr>
              <a:t>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中国历来有“礼仪之邦”之称，历代的读书人都很注重道德和情操的培养，讲礼貌不仅仅是一个形式，更要内化为个人素质，要晓之以“礼”，才能导之以行，诚信是明礼基础上进一步的要求，是对人的道德的要求，是平等交往的基础，人无信而不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156120" y="625320"/>
            <a:ext cx="50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宋体"/>
                <a:ea typeface="华文琥珀"/>
              </a:rPr>
              <a:t>尊敬师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83040" y="2117880"/>
            <a:ext cx="507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隶书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华文隶书"/>
              </a:rPr>
              <a:t>尊敬师长是中华民族的优良传统，也是我们应当具备的优良品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14400" y="1440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彩云"/>
              </a:rPr>
              <a:t>伟人的故事：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9520" y="133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  <a:ea typeface="华文彩云"/>
              </a:rPr>
              <a:t>《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程门立雪</a:t>
            </a:r>
            <a:r>
              <a:rPr b="1" lang="en-US" sz="8000" spc="-1" strike="noStrike">
                <a:solidFill>
                  <a:srgbClr val="ffff00"/>
                </a:solidFill>
                <a:latin typeface="Arial"/>
                <a:ea typeface="华文彩云"/>
              </a:rPr>
              <a:t>》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9600" y="271440"/>
            <a:ext cx="6138720" cy="4995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15120" y="811080"/>
            <a:ext cx="100332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身边的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91960" y="67788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宋体"/>
                <a:ea typeface="华文隶书"/>
              </a:rPr>
              <a:t>从所闻所见中，你有怎样的感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6360" y="154764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  <a:ea typeface="华文行楷"/>
              </a:rPr>
              <a:t>你是如何去尊敬老师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14195957839"/>
          <p:cNvPicPr/>
          <p:nvPr/>
        </p:nvPicPr>
        <p:blipFill>
          <a:blip r:embed="rId1"/>
          <a:stretch/>
        </p:blipFill>
        <p:spPr>
          <a:xfrm>
            <a:off x="-12600" y="3240"/>
            <a:ext cx="9142200" cy="6831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063800" y="528480"/>
            <a:ext cx="707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华文琥珀"/>
              </a:rPr>
              <a:t>如果，人人能互相尊重，互相信任，互相帮组，互相理解，团结起来，共建我们的祖国；那么，我们的中华民族就一定能成为世界上最文明、最高尚、最强大、最富强的民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1180066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0060_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86280" y="533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0060_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6858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0060_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81280" y="4572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0060_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10160" y="6858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0060_GI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114800" y="53352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/>
          <p:cNvSpPr/>
          <p:nvPr/>
        </p:nvSpPr>
        <p:spPr>
          <a:xfrm>
            <a:off x="279360" y="3975120"/>
            <a:ext cx="8699400" cy="1373760"/>
          </a:xfrm>
          <a:prstGeom prst="rect">
            <a:avLst/>
          </a:prstGeom>
          <a:solidFill>
            <a:srgbClr val="0066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文明礼仪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是一粒最有生命力的种子，它会在我们的精神世界里发芽、开花、结果，指导我们的人生观、世界观，让把文明之花播撒到生活中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WordArt 9" descr=""/>
          <p:cNvPicPr/>
          <p:nvPr/>
        </p:nvPicPr>
        <p:blipFill>
          <a:blip r:embed="rId12"/>
          <a:stretch/>
        </p:blipFill>
        <p:spPr>
          <a:xfrm>
            <a:off x="-4680" y="208080"/>
            <a:ext cx="17110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9360" y="-9360"/>
            <a:ext cx="9417240" cy="6862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45800" y="417240"/>
            <a:ext cx="4725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omic Sans MS"/>
              </a:rPr>
              <a:t>孝敬父母、尊敬师长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533760" y="5705640"/>
            <a:ext cx="507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东坡下载站编辑整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back_26"/>
          <p:cNvPicPr/>
          <p:nvPr/>
        </p:nvPicPr>
        <p:blipFill>
          <a:blip r:embed="rId1"/>
          <a:stretch/>
        </p:blipFill>
        <p:spPr>
          <a:xfrm>
            <a:off x="0" y="-1587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>
            <a:hlinkClick r:id="rId2" action="ppaction://hlinksldjump"/>
          </p:cNvPr>
          <p:cNvSpPr/>
          <p:nvPr/>
        </p:nvSpPr>
        <p:spPr>
          <a:xfrm>
            <a:off x="3112920" y="43210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3756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BD06663_"/>
          <p:cNvPicPr/>
          <p:nvPr/>
        </p:nvPicPr>
        <p:blipFill>
          <a:blip r:embed="rId3"/>
          <a:stretch/>
        </p:blipFill>
        <p:spPr>
          <a:xfrm>
            <a:off x="7315200" y="1143000"/>
            <a:ext cx="1547640" cy="3429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1295280" y="4038480"/>
            <a:ext cx="2703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4883040" y="4038480"/>
            <a:ext cx="1073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252440" y="348948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7" descr="47"/>
          <p:cNvPicPr/>
          <p:nvPr/>
        </p:nvPicPr>
        <p:blipFill>
          <a:blip r:embed="rId4"/>
          <a:stretch/>
        </p:blipFill>
        <p:spPr>
          <a:xfrm>
            <a:off x="5743440" y="0"/>
            <a:ext cx="3400560" cy="958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Kittysma"/>
          <p:cNvPicPr/>
          <p:nvPr/>
        </p:nvPicPr>
        <p:blipFill>
          <a:blip r:embed="rId5"/>
          <a:stretch/>
        </p:blipFill>
        <p:spPr>
          <a:xfrm>
            <a:off x="8077320" y="5762520"/>
            <a:ext cx="1066680" cy="1095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32"/>
          <p:cNvPicPr/>
          <p:nvPr/>
        </p:nvPicPr>
        <p:blipFill>
          <a:blip r:embed="rId6"/>
          <a:stretch/>
        </p:blipFill>
        <p:spPr>
          <a:xfrm>
            <a:off x="282600" y="614520"/>
            <a:ext cx="1396800" cy="814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63600" y="1200240"/>
            <a:ext cx="733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ff"/>
                </a:solidFill>
                <a:latin typeface="宋体"/>
                <a:ea typeface="华文琥珀"/>
              </a:rPr>
              <a:t>公民基本道德规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66640" y="2517840"/>
            <a:ext cx="7275600" cy="33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爱国守法    明礼诚信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团结友善    勤俭自强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敬业奉献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824040" y="566640"/>
            <a:ext cx="7495920" cy="5724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177920" y="723960"/>
            <a:ext cx="35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宋体"/>
                <a:ea typeface="华文行楷"/>
              </a:rPr>
              <a:t>明礼，作为公民基本道德规范的一条是做人的起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_副本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68160" y="14061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华文琥珀"/>
              </a:rPr>
              <a:t>孝敬父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7440" y="2838600"/>
            <a:ext cx="507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隶书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华文隶书"/>
              </a:rPr>
              <a:t>孝敬父母是我们做人的起码的道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2603520" y="1152360"/>
            <a:ext cx="601992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日，是我们母亲的节日——母亲节。你是如何为你的母亲庆祝这个节日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蔡国庆、陈红 - 常回家看看" descr=""/>
          <p:cNvPicPr/>
          <p:nvPr/>
        </p:nvPicPr>
        <p:blipFill>
          <a:blip r:embed="rId2"/>
          <a:stretch/>
        </p:blipFill>
        <p:spPr>
          <a:xfrm>
            <a:off x="6792840" y="5362560"/>
            <a:ext cx="841320" cy="6843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ld"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78229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793800" y="527040"/>
            <a:ext cx="7496280" cy="5715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906480" y="812880"/>
            <a:ext cx="42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宋体"/>
                <a:ea typeface="方正舒体"/>
              </a:rPr>
              <a:t>听完这首动听的乐曲，是否也会在你的心房有一点触动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3520" y="3139920"/>
            <a:ext cx="507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方正舒体"/>
              </a:rPr>
              <a:t>如果说孝敬父母，我们必须做到哪些方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7240" y="1441440"/>
            <a:ext cx="7081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听父母的话，接受劝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对父母有礼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体贴父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珍惜父母的劳动成果，不向父母要超越家庭经济条件的东西，不为难父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像孝敬父母那样孝敬祖父、祖母、外祖父、外祖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10813698_131316624000_2" descr=""/>
          <p:cNvPicPr/>
          <p:nvPr/>
        </p:nvPicPr>
        <p:blipFill>
          <a:blip r:embed="rId1"/>
          <a:stretch/>
        </p:blipFill>
        <p:spPr>
          <a:xfrm>
            <a:off x="-30240" y="-4680"/>
            <a:ext cx="9134640" cy="68785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905200" y="598320"/>
            <a:ext cx="4832280" cy="350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也许是大洋彼岸的一只鸿雁，也许是近在咫尺的一个口信。也许是一顶纯黑的博士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也许是作业簿上的一个红五分。也许是一桌山珍海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也许是一只野果一朵小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也许是花团锦簇的盛世华衣，也许是一双洁净的旧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也许是数万计的金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也许只是含者体温的一枚硬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——</a:t>
            </a: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但在“孝”的天平上等价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          ——</a:t>
            </a:r>
            <a:r>
              <a:rPr b="0" lang="zh-CN" sz="2800" spc="-1" strike="noStrike">
                <a:solidFill>
                  <a:srgbClr val="9900ff"/>
                </a:solidFill>
                <a:latin typeface="华文琥珀"/>
                <a:ea typeface="华文琥珀"/>
              </a:rPr>
              <a:t>毕淑敏《孝心无价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31T16:33:40Z</dcterms:created>
  <dc:creator>Lenovo</dc:creator>
  <dc:description/>
  <cp:keywords/>
  <dc:language>en-US</dc:language>
  <cp:lastModifiedBy>Sky123.Org</cp:lastModifiedBy>
  <cp:lastPrinted>1899-12-30T00:00:00Z</cp:lastPrinted>
  <dcterms:modified xsi:type="dcterms:W3CDTF">2015-09-07T06:50:56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602</vt:lpwstr>
  </property>
</Properties>
</file>