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13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175-CAAB-4577-9018-7AB6FD0E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954-C7D8-4A32-A89E-2D945D0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A89-E0A3-49B6-A570-84650D70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655-0DE3-415A-8F86-20EBD2EC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35B-ACDE-407A-9128-3AF0447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0F2-0DBC-4773-909D-8A10C3C4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E70-1609-41F2-9093-31E171B2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818-62BC-47EC-9985-D7806545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66F-F908-484C-9026-C8A917AD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7ED-9DC5-4966-8B4E-0A4A54F3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AAA-9A4F-4CCC-85D8-A73F851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66B-E345-4E58-A815-C709464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4541-1E53-4D2B-8224-6D1F9A9C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news.163.com/10/0617/18/69DBNSTK000146BC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ike.baidu.com/view/17491.htm" TargetMode="External"/><Relationship Id="rId3" Type="http://schemas.openxmlformats.org/officeDocument/2006/relationships/hyperlink" Target="http://baike.baidu.com/view/328330.htm" TargetMode="External"/><Relationship Id="rId4" Type="http://schemas.openxmlformats.org/officeDocument/2006/relationships/hyperlink" Target="http://baike.baidu.com/view/61891.htm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720" y="4941720"/>
            <a:ext cx="4859280" cy="64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二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773360"/>
            <a:ext cx="5832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尊师重教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70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毛泽东向教师敬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毛泽东同志来到阔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故乡韶山，他特意邀请自己在私塾读书时的教师毛禹珠一起用饭，席间热情为老师敬酒。毛禹珠不胜荣幸感慨地说：“主席敬酒，岂敢岂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主席却笑盈盈地回答：“敬老尊贤应该应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3419640" cy="3745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周恩来不忘师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，南开大学老校长张伯岑突患脑血栓逝世，周总理参加了治丧委员会并送了花圈，挽联上写着：“张伯岑老师千古，学生周恩来敬挽。”张伯岑病故后，周恩来一直惦记着张家的生活，自然灾害时期，周恩来把自己的购物证给张伯岑夫人，还派人给张夫人送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，并嘱咐交际处对张夫人及其子女的生活要倍加关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01920" y="1557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384360" cy="41259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鲁迅尊敬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227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迅对启蒙老师寿镜吾一直很尊敬。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到南京读书，每当放假回绍兴时，总要抽空看望寿先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在东渡日本留学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间，他经常写信向寿老师汇报自己在异国的学习情况。一次，他奉母命从日本回绍兴办婚事，仅在家中停留了四天，但他仍在百忙中抽时间专程探望了年逾花甲的寿先生。鲁迅在日本还拜章太炎先生为师学文字学。章太炎先生逝世后，他连续撰文两篇纪念</a:t>
            </a: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300720" y="1989000"/>
            <a:ext cx="2843280" cy="35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907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江泽民在百忙中看望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36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江泽民同志尽管工作很忙，但一直惦记着曾教育过自己的老师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上午，江泽民同志乘车到当年的母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海交通大学去看望老师，紧紧握住严竣教授的手说：“严老师您好！”并询问了教师们的身体状况、工作和生活情况。学校的钟教授住院期间，他多次到医院看望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当江泽民同志得知老师沈教授去世的消息，心情十分悲痛，当即请沈教授的妹妹转达他对老师亲属的亲切慰问。江泽民同志访美时，在百忙中，带着珍贵礼物，亲自登门去看望拜见他的老师顾教授及师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00880" y="1268280"/>
            <a:ext cx="3543120" cy="476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尊师重教亘古不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识为人类开辟了认识世界、通往宇宙之路，而教师则带领我们打开了知识的大门。教师的工作没有轰轰烈烈的场面，只是在一方小小的讲台上默默无闻地耕耘、浇灌，平凡而艰辛，却蕴含着伟大，创造着神奇。人的成长成才离不开教师。一个没有教师、没有知识的社会，不过是一片贫瘠的荒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5035680"/>
            <a:ext cx="121896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014.gif (5950 bytes)"/>
          <p:cNvPicPr/>
          <p:nvPr/>
        </p:nvPicPr>
        <p:blipFill>
          <a:blip r:embed="rId4"/>
          <a:stretch/>
        </p:blipFill>
        <p:spPr>
          <a:xfrm>
            <a:off x="468360" y="2908440"/>
            <a:ext cx="57636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013.gif (6388 bytes)"/>
          <p:cNvPicPr/>
          <p:nvPr/>
        </p:nvPicPr>
        <p:blipFill>
          <a:blip r:embed="rId5"/>
          <a:stretch/>
        </p:blipFill>
        <p:spPr>
          <a:xfrm>
            <a:off x="395280" y="5035680"/>
            <a:ext cx="719280" cy="144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943360"/>
            <a:ext cx="3097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见到老师不打招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5216400"/>
            <a:ext cx="2519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给老师起绰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2943360"/>
            <a:ext cx="3456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配合值日教师检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4784760"/>
            <a:ext cx="34574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正确面对生活老师的管理和批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89000"/>
            <a:ext cx="568800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尊师重教  重在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尊敬老师，要对老师有礼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62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有过这些不尊敬老师的行为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60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尊重老师要听从老师的教诲，与老师配合，把成绩提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0640"/>
            <a:ext cx="883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师对学生的要求并不高，最大的要求是在培养学生健全人格的前提下，不断提高学生的学习成绩，让大家能考上一间理想的大学，为以后的发展奠定坚实的基础。当老师对我们严要求时，我们应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67280" y="4221000"/>
            <a:ext cx="1009440" cy="144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19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014.gif (5950 bytes)"/>
          <p:cNvPicPr/>
          <p:nvPr/>
        </p:nvPicPr>
        <p:blipFill>
          <a:blip r:embed="rId4"/>
          <a:stretch/>
        </p:blipFill>
        <p:spPr>
          <a:xfrm>
            <a:off x="468360" y="2133720"/>
            <a:ext cx="5763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013.gif (6388 bytes)"/>
          <p:cNvPicPr/>
          <p:nvPr/>
        </p:nvPicPr>
        <p:blipFill>
          <a:blip r:embed="rId5"/>
          <a:stretch/>
        </p:blipFill>
        <p:spPr>
          <a:xfrm>
            <a:off x="324000" y="4437000"/>
            <a:ext cx="718920" cy="144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6000" y="2133720"/>
            <a:ext cx="30970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交或不按时交作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4365720"/>
            <a:ext cx="27352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抄袭作业或考试作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4437000"/>
            <a:ext cx="3924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上课不认真听课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276640"/>
            <a:ext cx="34574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早晚读不大声读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76320"/>
            <a:ext cx="8763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尊重老师最重要的是尊重老师的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98100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有过这些不尊重老师劳动的行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2560" y="3068280"/>
            <a:ext cx="7885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从个人而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会学生做人；教会学生知识和技能；使学生健康成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从社会而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传递人类文明；为国家培养建设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59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教师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55736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寸粉笔，三尺讲台系国运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颗丹心，一生秉烛铸灵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360" y="936720"/>
            <a:ext cx="3419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师称谓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仿宋_GB2312"/>
                <a:ea typeface="黑体"/>
              </a:rPr>
              <a:t>老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黑体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原是宋元时代对地方小学教师的称谓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代文学家元好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示侄孙伯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云：“伯安入小学，颖悟非凡貌。属句有夙性，说字惊老师。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后专指学生对教师的尊称，一直沿用至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850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师节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尊师重教是中国的优良传统，早在公元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的西周时期，就提出“弟子事师，敬同于父”。教师节，就旨在肯定教师为教育事业所做的贡献。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985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年，第六届全国人大常委会第九次会议同意了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国务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关于建立教师节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议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会议决定将每年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定为教师节。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985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，是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中国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第一个教师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12536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６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６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３１年５月，教育家、南京中央大学教授爽秋、程其保等发起，拟定每年６月６日为教师节。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８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２７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３９年，国民党政府教育部决定以中国教育家孔子的诞辰８月２７日为教师节。 　　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５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５１年，中华人民共和国教育部、中华全国总工会共同商定，将教师节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一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际劳动节合并一起。 　　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９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１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８５年１月２１日，六届全国人大第九次会议正式通过国务院关于建立教师节的议案，并决定９月１０日为我国的教师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00360" y="18900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国教师节的演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00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美国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定为教师节。这是中美建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前的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7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由美国两院法定通过的。 </a:t>
            </a:r>
            <a:br>
              <a:rPr sz="3000"/>
            </a:b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德国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定为教师节。各地开展尊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敬师活动。 </a:t>
            </a:r>
            <a:br>
              <a:rPr sz="3000"/>
            </a:b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印度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定为教师节，而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的印度儿童节同时定为印度儿童教育工作者的节日。</a:t>
            </a:r>
            <a:br>
              <a:rPr sz="3000"/>
            </a:b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朝鲜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为纪念金日成主席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77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发表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会主义教育提纲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将这天定为教师节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3280" y="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5e"/>
                    </a:gs>
                    <a:gs pos="50000">
                      <a:srgbClr val="ff33cc"/>
                    </a:gs>
                    <a:gs pos="100000">
                      <a:srgbClr val="75175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国外的教师节 你了解多少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5e"/>
                  </a:gs>
                  <a:gs pos="50000">
                    <a:srgbClr val="ff33cc"/>
                  </a:gs>
                  <a:gs pos="100000">
                    <a:srgbClr val="75175e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ut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5472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黑体"/>
              </a:rPr>
              <a:t>为什么要尊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尊师重教，是中华民族传统美德的重要规范。其本质是尊重知识、尊重教育、尊重人才。对青少年进行尊师重教教育，这是人类生存、发展和社会文明进步的需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87280" y="4292640"/>
            <a:ext cx="6769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分享名人尊师的故事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6626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的学生子贡，聪颖好学。一次一鲁国大夫在人前贬低孔子抬高子贡，子贡非常气愤。他当即以房子为喻，说老师的围墙高十数丈，屋内富丽堂皇，不是一般人看得到的；而自己不过只有肩高的围墙，一眼就可望尽。他还把老师孔子比作太阳和月亮，说他光彩照人不是常人所能超越的。孔子死后，子贡悲痛万分，在孔子墓旁结庐而居，一直守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629928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649116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373720"/>
            <a:ext cx="4248360" cy="792000"/>
          </a:xfrm>
          <a:prstGeom prst="wedgeEllipseCallout">
            <a:avLst>
              <a:gd name="adj1" fmla="val -61958"/>
              <a:gd name="adj2" fmla="val 3517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看来，重道必先尊师实在是千古不变的真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1600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6227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颢、程颐兄弟俩都是宋代极有学问的人。进士杨时，为了丰富自己的学问，毅然放弃了高官厚禄，跑到河南颍昌拜程颢为师，虚心求教后来程颢死，他自己也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岁，但仍然立志求学，刻苦钻研，又跑到洛阳去拜程颢的弟弟程颐为师。一天他便和他的朋友游酢一块儿到程家去拜见程颐，正遇上程老先生闭目养神，坐着假睡。这时候，外面开始下雪。这两人求师心切，便恭恭敬敬侍立一旁，不言不动，如此等了大半天，程颐才慢慢睁开眼睛，见杨时、游酢站在面前，吃了一惊，说道：“啊，啊！你们两位还在这儿没走？” 这时候，门外的雪已经积了一尺多厚了，而杨时和游酢并没有一丝疲倦和不耐烦的神情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0360" y="1125360"/>
            <a:ext cx="3249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700360" cy="566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427640" cy="765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程门立雪  绝对经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9:46:54Z</dcterms:created>
  <dc:creator>未知用户</dc:creator>
  <dc:description/>
  <dc:language>en-US</dc:language>
  <cp:lastModifiedBy>DFJY</cp:lastModifiedBy>
  <dcterms:modified xsi:type="dcterms:W3CDTF">2013-09-11T02:51:59Z</dcterms:modified>
  <cp:revision>21</cp:revision>
  <dc:subject/>
  <dc:title>幻灯片 1</dc:title>
</cp:coreProperties>
</file>