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png" ContentType="image/png"/>
  <Override PartName="/ppt/media/image15.jpeg" ContentType="image/jpeg"/>
  <Override PartName="/ppt/media/image14.jpeg" ContentType="image/jpeg"/>
  <Override PartName="/ppt/media/image2.jpeg" ContentType="image/jpe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B2A3-6DD8-4E5E-8AA8-351C35C22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468B-5113-4201-9CD8-F076F4E6D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5F18869-B36F-4271-8254-51AFB022A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703008C-9514-4F28-8768-A2FC484DC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FA77456-3A8D-404E-84D7-DF2620B03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E52957F-E923-4122-B6F9-1F0EA1A40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558C733-11D8-4F26-82F2-0087EC41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D0DFEF4-294B-4271-8189-D87245912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EDA1881-1FFA-4FB1-80CE-26CDCD3B7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2B6354E-6F3F-4EA6-B92D-07BEE61A0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5B42FF0-A6E4-469F-823B-59B34B415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3F60-2F84-4B07-ADBD-B5498A8D3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E593-84E7-4764-A758-010354172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98282-7089-4450-896D-848B82948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3C4D4-6FAA-49A4-840B-3304E3278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AFA6B-CFDD-40F0-BE0E-3A3FE94BB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EC149-03FE-4B2B-8BDA-0ADBF488E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6FBCB-9C71-4FEE-957D-B8B783BD1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B310A-F8DC-4614-B358-01FE1B6E9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F6A9D-58DB-4DD2-AA9B-4F8A75F52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D85E-A169-43D4-A115-56794F473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BD591-090B-4190-9DD9-803FA5D35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68FE7-FA13-43E7-BACB-934DE7E2E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D4FDD-25D7-432E-9F9A-7C346F352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D5716-F337-4026-B11A-ECAD6801B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38D3C-95E0-4ED4-BB9D-8F2816589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EBDC9-11D4-4080-B3B8-DE227F3B0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45240-C854-4CD2-8E9C-CC2E86D95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5E232-8F55-49D0-8DB9-8C4826A6E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0CB32-BADF-48B3-A911-A4E830078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C9789-DCDF-411A-B01F-CC7840C1E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2122-D732-4567-93F4-D7B9446A0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8A8C9-787A-4696-9C6C-47771F663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ED89A-219F-43F8-BBD7-801333D79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C94FC-4708-4A62-93E4-20AB703F0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FF095-4809-4AE7-9443-23994D4ED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79750-483C-4135-8189-DE5AD82C8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C4A17-7698-485C-9E8D-D46083B3D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0D5A3-33FF-4966-B915-C09262CE5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FC3C-951D-4852-9259-C3B4CAF0D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D0BD0F6-C597-4166-A987-50CD8D9A4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4884-8359-4154-BB32-BCB4BAD1D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2D000BD-BB1A-4934-A56F-2BC6A7633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E1F000D-E614-46E5-A4C0-F2980B540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A4348E8-55CB-4F7C-8862-BE0D14D27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276E025-D508-491F-B728-B71193CF6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54739D4-7F0D-43D9-BF81-84AB9E008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EB17130-D862-442F-B90E-30D6B4170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C79A793-6DD4-4133-951F-3AFB6EBBA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F36BD8A-3134-428D-9B11-6160401DD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22331CD-39E6-4C1D-9600-74C7B6ED4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E7F1EDE-DBA8-44DC-9000-59628EBB6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6B6E-002C-454D-82A7-4D1B2D3F2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D922C5B-2996-491F-A430-18D523D21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56E3-8E0A-4297-ADAA-B5003C404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03D8-7489-4382-8D92-67137F208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CB4AB36-4346-4AE4-B911-E0AF8769A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C05F966-4693-4747-BB6E-8610DA9EF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A498F08-129F-4822-88BF-A4FA4DB97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6B236E0-6242-431D-84E8-780B891EF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CA80466-4938-4479-ACA5-C769DB066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C1AF-C128-4ACF-B66E-1DD8F9E78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E85B1C6-BB10-457E-B977-D7ABF6CB1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3370BE8-08F9-4BC7-A536-BD76FD1A3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D2897F8-4EA9-42D3-BA9C-AE1569B54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7E17BB4-9E09-4211-8BD6-AE4DF01DB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02346C3-B06B-4D0F-AE56-90A657FD0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319A65B-FFC1-465E-8CFD-C2A477E00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3BC9A09-C413-4778-A75C-49DD74B37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AA8FF9E-1FA0-43BF-AE1B-FCBBF7D59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046811A-EF4F-4D76-8ABB-AF50A5B5C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F259EA5-0F93-458C-9D87-B9BF0FF26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2C6D5-8B92-47C3-89E8-A3B4BD314ED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8D949-3D40-4E5A-9D6E-D39D3F1F5DA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20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9933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ff993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9933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9933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ff993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9933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ff9933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9933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9933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dt" idx="23"/>
          </p:nvPr>
        </p:nvSpPr>
        <p:spPr>
          <a:xfrm>
            <a:off x="70099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ff6600"/>
                </a:solidFill>
                <a:latin typeface="华文新魏"/>
                <a:ea typeface="华文新魏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DEC2C-6D9F-4ED1-B45E-331C1B4CCF77}" type="datetime">
              <a:rPr b="1" lang="zh-CN" sz="1400" spc="-1" strike="noStrike">
                <a:solidFill>
                  <a:srgbClr val="ff6600"/>
                </a:solidFill>
                <a:latin typeface="华文新魏"/>
                <a:ea typeface="华文新魏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649116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9999"/>
                </a:solidFill>
                <a:latin typeface="Arial"/>
              </a:rPr>
              <a:t>罗维：</a:t>
            </a:r>
            <a:r>
              <a:rPr b="0" i="1" lang="en-US" sz="1800" spc="-1" strike="noStrike">
                <a:solidFill>
                  <a:srgbClr val="ff9999"/>
                </a:solidFill>
                <a:latin typeface="Arial"/>
              </a:rPr>
              <a:t>1511025898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2526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2526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5d8b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d5d8b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99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5d8b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d5d8b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66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5d8b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d5d8b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5d8b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d5d8b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66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5d8b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d5d8b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d5d8b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5d8b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d5d8b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d5d8b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5d8b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d5d8b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3EBA6-60EC-44D2-B87D-CDBB35FF7D5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FC368-DCE7-46CB-9DF0-18317E42FD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2526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2526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6619C-4BC1-49E0-9282-FC9740BF0CE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A3123-77BD-47C6-AF9E-40FAA5E726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5d8b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d5d8b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d5d8b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5d5d8b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5d8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d5d8b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SzPct val="75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d5d8b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d5d8b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d5d8b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d5d8b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5d5d8b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d5d8b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d5d8b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5d5d8b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d5d8b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d5d8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20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9933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ff993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9933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9933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ff993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9933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ff9933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9933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9933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70099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ff6600"/>
                </a:solidFill>
                <a:latin typeface="华文新魏"/>
                <a:ea typeface="华文新魏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F18BA-C92D-43BF-AE8D-2B90CB48EF4D}" type="datetime">
              <a:rPr b="1" lang="zh-CN" sz="1400" spc="-1" strike="noStrike">
                <a:solidFill>
                  <a:srgbClr val="ff6600"/>
                </a:solidFill>
                <a:latin typeface="华文新魏"/>
                <a:ea typeface="华文新魏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49116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9999"/>
                </a:solidFill>
                <a:latin typeface="Arial"/>
              </a:rPr>
              <a:t>罗维：</a:t>
            </a:r>
            <a:r>
              <a:rPr b="0" i="1" lang="en-US" sz="1800" spc="-1" strike="noStrike">
                <a:solidFill>
                  <a:srgbClr val="ff9999"/>
                </a:solidFill>
                <a:latin typeface="Arial"/>
              </a:rPr>
              <a:t>1511025898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7AB33-2878-4D42-B005-8112B4993CA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F5A32-BB8D-4E03-9CC1-C294EF9CBAF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20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9933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ff993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9933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9933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ff9933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9933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ff9933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9933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9933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4"/>
          </p:nvPr>
        </p:nvSpPr>
        <p:spPr>
          <a:xfrm>
            <a:off x="70099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ff6600"/>
                </a:solidFill>
                <a:latin typeface="华文新魏"/>
                <a:ea typeface="华文新魏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3A260-490A-47E2-ADE7-D9DBEDD2AFEC}" type="datetime">
              <a:rPr b="1" lang="zh-CN" sz="1400" spc="-1" strike="noStrike">
                <a:solidFill>
                  <a:srgbClr val="ff6600"/>
                </a:solidFill>
                <a:latin typeface="华文新魏"/>
                <a:ea typeface="华文新魏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649116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9999"/>
                </a:solidFill>
                <a:latin typeface="Arial"/>
              </a:rPr>
              <a:t>罗维：</a:t>
            </a:r>
            <a:r>
              <a:rPr b="0" i="1" lang="en-US" sz="1800" spc="-1" strike="noStrike">
                <a:solidFill>
                  <a:srgbClr val="ff9999"/>
                </a:solidFill>
                <a:latin typeface="Arial"/>
              </a:rPr>
              <a:t>1511025898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9BC8F-F1BF-4BA8-8ED8-8A9C56B2534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2526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25269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5d8b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d5d8b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99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5d8b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d5d8b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66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5d8b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d5d8b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5d8b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d5d8b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66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5d8b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d5d8b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5d5d8b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5d8b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d5d8b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5d5d8b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d5d8b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d5d8b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46E7D-E45B-4712-9B30-9460B651D72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1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1A06A-B7F4-4FDE-B502-4EB233456D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2526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25269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dt" idx="2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0C45F-D2F1-4A4D-94FE-0DB298032F5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ftr" idx="2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sldNum" idx="2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232DA-B1BF-4006-8C1D-575C27829E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C:\Users\acer\Desktop\&#20570;&#26102;&#38388;&#30340;&#20027;&#20154;\&#20013;&#21326;&#25104;&#35821;&#25925;&#20107; &#22218;&#33828;&#26144;&#38634;.flv" TargetMode="External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7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6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8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8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8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1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C:\Users\acer\Desktop\&#20570;&#26102;&#38388;&#30340;&#20027;&#20154;\&#23459;&#35475;&#38899;&#20048;1.m4a" TargetMode="External"/><Relationship Id="rId3" Type="http://schemas.openxmlformats.org/officeDocument/2006/relationships/hyperlink" Target="C:\Users\acer\Desktop\&#20570;&#26102;&#38388;&#30340;&#20027;&#20154;\&#23459;&#35475;&#38899;&#20048;1.m4a" TargetMode="External"/><Relationship Id="rId4" Type="http://schemas.openxmlformats.org/officeDocument/2006/relationships/hyperlink" Target="C:\Users\acer\Desktop\&#20570;&#26102;&#38388;&#30340;&#20027;&#20154;\&#23459;&#35475;&#38899;&#20048;1.m4a" TargetMode="External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169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 u="sng">
                <a:solidFill>
                  <a:srgbClr val="ff3399"/>
                </a:solidFill>
                <a:uFillTx/>
                <a:latin typeface="Arial"/>
              </a:rPr>
              <a:t>做时间的主人</a:t>
            </a:r>
            <a:endParaRPr b="0" lang="en-US" sz="6600" spc="-1" strike="noStrike">
              <a:solidFill>
                <a:srgbClr val="a25269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2268360" y="3573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5d8b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—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2015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届高一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(15)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班</a:t>
            </a:r>
            <a:endParaRPr b="0" lang="en-US" sz="3200" spc="-1" strike="noStrike">
              <a:solidFill>
                <a:srgbClr val="5d5d8b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周恩来进卫生间后，有时坐在抽水马桶上就按电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电铃按钮在马桶旁的小条几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把值班秘书叫进来，向他报告电话记录、待批阅的紧急文件和一天的工作安排等。有时候，他叫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多半是周恩来熟悉的老部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到卫生间来汇报工作，交谈的时间是几分钟，也可长达几十分钟。所以，日子一长，西花厅的工作人员赋予卫生间一个雅号，叫做“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第二办公室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假如“老资格”的周恩来办公室工作人员将卫生间戏称为“第二办公室”的话，那么卧室就被称之为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“第三办公室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周恩来起床后便到“第二办公室”开始了一天的工作日程，但周恩来是在卧室的床上结束一天工作的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2438280" y="380880"/>
            <a:ext cx="3694320" cy="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囊萤映雪的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故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3"/>
          <a:stretch/>
        </p:blipFill>
        <p:spPr>
          <a:xfrm>
            <a:off x="230040" y="2135160"/>
            <a:ext cx="3581640" cy="374184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4"/>
          <a:stretch/>
        </p:blipFill>
        <p:spPr>
          <a:xfrm>
            <a:off x="4191120" y="2133720"/>
            <a:ext cx="444024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1763640" y="0"/>
            <a:ext cx="73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你知道哪些关于时间的名言，读给大家听听吧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916360" y="1484280"/>
            <a:ext cx="6048360" cy="10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三更灯火五更鸡，正是男儿读书时，黑发不知勤学早，白首方悔读书迟。                 ——颜真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cc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2"/>
          <a:stretch/>
        </p:blipFill>
        <p:spPr>
          <a:xfrm>
            <a:off x="179280" y="1628640"/>
            <a:ext cx="2519640" cy="482472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3"/>
          <a:stretch/>
        </p:blipFill>
        <p:spPr>
          <a:xfrm>
            <a:off x="0" y="-12600"/>
            <a:ext cx="1541520" cy="143352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3059280" y="3357720"/>
            <a:ext cx="590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放弃时间的人，时间也放弃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                                       ——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莎士比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916360" y="5013360"/>
            <a:ext cx="62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盛年不重来，一日难再晨。及时当勉励，岁月不待人。      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————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陶渊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Picture 3" descr="D:\Backup\我的文档\My Pictures\b0b92baa9d16f7979f064eed319c2a3b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9" name="TextBox 1"/>
          <p:cNvSpPr/>
          <p:nvPr/>
        </p:nvSpPr>
        <p:spPr>
          <a:xfrm>
            <a:off x="2405880" y="485640"/>
            <a:ext cx="4514760" cy="53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时间的价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想知道一整年的价值，就去问读过书的学生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想知道一个月的价值，就去问曾经早产的母亲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想知道一礼拜的价值，就去问周报的编辑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想知道一小时的价值，就去问在等待见面的情侣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想知道一分钟的价值，就去问刚错过火车的人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想知道一秒钟的价值，就去问闪过一场车祸的人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想知道百分之一秒的价值，就去问奥运的银牌得主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华文彩云"/>
              </a:rPr>
              <a:t>时间是公平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  <a:ea typeface="幼圆"/>
              </a:rPr>
              <a:t>   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  <a:ea typeface="幼圆"/>
              </a:rPr>
              <a:t>时间给我们每个人都是公平的，没有人会多一分钟，也没有人会少一分钟，关键在于我们能否把握住我们拥有的时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1617840" y="2278080"/>
            <a:ext cx="7850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Bodoni MT Black"/>
                <a:ea typeface="幼圆"/>
              </a:rPr>
              <a:t>如何做时间的主人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908000" y="2421000"/>
            <a:ext cx="892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一：有计划的做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313080" y="214200"/>
            <a:ext cx="4859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25269"/>
                </a:solidFill>
                <a:latin typeface="Arial"/>
              </a:rPr>
              <a:t>    </a:t>
            </a:r>
            <a:r>
              <a:rPr b="1" lang="zh-CN" sz="2600" spc="-1" strike="noStrike">
                <a:solidFill>
                  <a:srgbClr val="5d5d8b"/>
                </a:solidFill>
                <a:latin typeface="Arial"/>
              </a:rPr>
              <a:t>时间“四象限”法</a:t>
            </a:r>
            <a:br>
              <a:rPr sz="2600"/>
            </a:br>
            <a:r>
              <a:rPr b="1" lang="zh-CN" sz="2600" spc="-1" strike="noStrike">
                <a:solidFill>
                  <a:srgbClr val="5d5d8b"/>
                </a:solidFill>
                <a:latin typeface="Arial"/>
              </a:rPr>
              <a:t>实施顺序：</a:t>
            </a:r>
            <a:r>
              <a:rPr b="1" lang="zh-CN" sz="2600" spc="-1" strike="noStrike">
                <a:solidFill>
                  <a:srgbClr val="ff0000"/>
                </a:solidFill>
                <a:latin typeface="Arial"/>
              </a:rPr>
              <a:t>一→二→四→三</a:t>
            </a:r>
            <a:endParaRPr b="0" lang="en-US" sz="2600" spc="-1" strike="noStrike">
              <a:solidFill>
                <a:srgbClr val="a25269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03640" y="1197000"/>
            <a:ext cx="3983040" cy="34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d5d8b"/>
              </a:solidFill>
              <a:latin typeface="Arial"/>
            </a:endParaRPr>
          </a:p>
        </p:txBody>
      </p:sp>
      <p:pic>
        <p:nvPicPr>
          <p:cNvPr id="448" name="Picture 5" descr="未命名"/>
          <p:cNvPicPr/>
          <p:nvPr/>
        </p:nvPicPr>
        <p:blipFill>
          <a:blip r:embed="rId2"/>
          <a:stretch/>
        </p:blipFill>
        <p:spPr>
          <a:xfrm>
            <a:off x="0" y="1214280"/>
            <a:ext cx="9144000" cy="5410440"/>
          </a:xfrm>
          <a:prstGeom prst="rect">
            <a:avLst/>
          </a:prstGeom>
          <a:ln w="0">
            <a:noFill/>
          </a:ln>
        </p:spPr>
      </p:pic>
      <p:sp>
        <p:nvSpPr>
          <p:cNvPr id="449" name="Text Box 5"/>
          <p:cNvSpPr/>
          <p:nvPr/>
        </p:nvSpPr>
        <p:spPr>
          <a:xfrm>
            <a:off x="4716360" y="170028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一象限是既重要又急迫的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6"/>
          <p:cNvSpPr/>
          <p:nvPr/>
        </p:nvSpPr>
        <p:spPr>
          <a:xfrm>
            <a:off x="971640" y="172728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象限是重要但不紧急的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7"/>
          <p:cNvSpPr/>
          <p:nvPr/>
        </p:nvSpPr>
        <p:spPr>
          <a:xfrm>
            <a:off x="4572000" y="393372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四象限是紧急但不重要的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8"/>
          <p:cNvSpPr/>
          <p:nvPr/>
        </p:nvSpPr>
        <p:spPr>
          <a:xfrm>
            <a:off x="1042920" y="401004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三象限属于不紧急也不重要的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动作按钮: 后退或前一项 11"/>
          <p:cNvSpPr/>
          <p:nvPr/>
        </p:nvSpPr>
        <p:spPr>
          <a:xfrm>
            <a:off x="7286760" y="6215040"/>
            <a:ext cx="1042920" cy="285840"/>
          </a:xfrm>
          <a:custGeom>
            <a:avLst/>
            <a:gdLst>
              <a:gd name="textAreaLeft" fmla="*/ 17640 w 1042920"/>
              <a:gd name="textAreaRight" fmla="*/ 1025280 w 1042920"/>
              <a:gd name="textAreaTop" fmla="*/ 17640 h 285840"/>
              <a:gd name="textAreaBottom" fmla="*/ 268200 h 285840"/>
            </a:gdLst>
            <a:ahLst/>
            <a:rect l="textAreaLeft" t="textAreaTop" r="textAreaRight" b="textAreaBottom"/>
            <a:pathLst>
              <a:path w="78738" h="21600">
                <a:moveTo>
                  <a:pt x="0" y="0"/>
                </a:moveTo>
                <a:lnTo>
                  <a:pt x="78738" y="0"/>
                </a:lnTo>
                <a:lnTo>
                  <a:pt x="78738" y="21600"/>
                </a:lnTo>
                <a:lnTo>
                  <a:pt x="0" y="21600"/>
                </a:lnTo>
                <a:close/>
              </a:path>
              <a:path fill="lightenLess" w="78738" h="21600">
                <a:moveTo>
                  <a:pt x="0" y="0"/>
                </a:moveTo>
                <a:lnTo>
                  <a:pt x="78738" y="0"/>
                </a:lnTo>
                <a:lnTo>
                  <a:pt x="77388" y="1350"/>
                </a:lnTo>
                <a:lnTo>
                  <a:pt x="1350" y="1350"/>
                </a:lnTo>
                <a:close/>
              </a:path>
              <a:path fill="darken" w="78738" h="21600">
                <a:moveTo>
                  <a:pt x="78738" y="0"/>
                </a:moveTo>
                <a:lnTo>
                  <a:pt x="78738" y="21600"/>
                </a:lnTo>
                <a:lnTo>
                  <a:pt x="77388" y="20250"/>
                </a:lnTo>
                <a:lnTo>
                  <a:pt x="77388" y="1350"/>
                </a:lnTo>
                <a:close/>
              </a:path>
              <a:path fill="darkenLess" w="78738" h="21600">
                <a:moveTo>
                  <a:pt x="7873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77388" y="20250"/>
                </a:lnTo>
                <a:close/>
              </a:path>
              <a:path fill="lighten" w="7873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78738" h="21600">
                <a:moveTo>
                  <a:pt x="32325" y="10800"/>
                </a:moveTo>
                <a:lnTo>
                  <a:pt x="46413" y="3756"/>
                </a:lnTo>
                <a:lnTo>
                  <a:pt x="46413" y="17844"/>
                </a:lnTo>
                <a:close/>
              </a:path>
            </a:pathLst>
          </a:custGeom>
          <a:solidFill>
            <a:srgbClr val="daeade"/>
          </a:solidFill>
          <a:ln w="9360">
            <a:solidFill>
              <a:srgbClr val="5d5d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547640" y="1844640"/>
            <a:ext cx="7396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二：高效率的学习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3" descr="D:\Backup\我的文档\My Pictures\905b5bacee8b31c6ca130c68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286680"/>
          </a:xfrm>
          <a:prstGeom prst="rect">
            <a:avLst/>
          </a:prstGeom>
          <a:ln w="0">
            <a:noFill/>
          </a:ln>
        </p:spPr>
      </p:pic>
      <p:sp>
        <p:nvSpPr>
          <p:cNvPr id="457" name="TextBox 1"/>
          <p:cNvSpPr/>
          <p:nvPr/>
        </p:nvSpPr>
        <p:spPr>
          <a:xfrm>
            <a:off x="428760" y="500040"/>
            <a:ext cx="8429400" cy="39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按规律学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分清轻重缓急后，还要注意按照规律来学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按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遗忘规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间隔学习：遗忘规律是先快后慢，所以要不同学科内容间隔复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、过度学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复习量达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5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时，记忆效果最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按生物节律安排学习内容：精神好时完成难度大的内容，轻微疲劳时完成学习难度小的内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动作按钮: 后退或前一项 3"/>
          <p:cNvSpPr/>
          <p:nvPr/>
        </p:nvSpPr>
        <p:spPr>
          <a:xfrm>
            <a:off x="7815240" y="5857920"/>
            <a:ext cx="1328760" cy="357120"/>
          </a:xfrm>
          <a:custGeom>
            <a:avLst/>
            <a:gdLst>
              <a:gd name="textAreaLeft" fmla="*/ 22320 w 1328760"/>
              <a:gd name="textAreaRight" fmla="*/ 1306440 w 1328760"/>
              <a:gd name="textAreaTop" fmla="*/ 22320 h 357120"/>
              <a:gd name="textAreaBottom" fmla="*/ 334800 h 357120"/>
            </a:gdLst>
            <a:ahLst/>
            <a:rect l="textAreaLeft" t="textAreaTop" r="textAreaRight" b="textAreaBottom"/>
            <a:pathLst>
              <a:path w="80309" h="21600">
                <a:moveTo>
                  <a:pt x="0" y="0"/>
                </a:moveTo>
                <a:lnTo>
                  <a:pt x="80309" y="0"/>
                </a:lnTo>
                <a:lnTo>
                  <a:pt x="80309" y="21600"/>
                </a:lnTo>
                <a:lnTo>
                  <a:pt x="0" y="21600"/>
                </a:lnTo>
                <a:close/>
              </a:path>
              <a:path fill="lightenLess" w="80309" h="21600">
                <a:moveTo>
                  <a:pt x="0" y="0"/>
                </a:moveTo>
                <a:lnTo>
                  <a:pt x="80309" y="0"/>
                </a:lnTo>
                <a:lnTo>
                  <a:pt x="78959" y="1350"/>
                </a:lnTo>
                <a:lnTo>
                  <a:pt x="1350" y="1350"/>
                </a:lnTo>
                <a:close/>
              </a:path>
              <a:path fill="darken" w="80309" h="21600">
                <a:moveTo>
                  <a:pt x="80309" y="0"/>
                </a:moveTo>
                <a:lnTo>
                  <a:pt x="80309" y="21600"/>
                </a:lnTo>
                <a:lnTo>
                  <a:pt x="78959" y="20250"/>
                </a:lnTo>
                <a:lnTo>
                  <a:pt x="78959" y="1350"/>
                </a:lnTo>
                <a:close/>
              </a:path>
              <a:path fill="darkenLess" w="80309" h="21600">
                <a:moveTo>
                  <a:pt x="80309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78959" y="20250"/>
                </a:lnTo>
                <a:close/>
              </a:path>
              <a:path fill="lighten" w="80309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80309" h="21600">
                <a:moveTo>
                  <a:pt x="33111" y="10800"/>
                </a:moveTo>
                <a:lnTo>
                  <a:pt x="47198" y="3756"/>
                </a:lnTo>
                <a:lnTo>
                  <a:pt x="47198" y="17844"/>
                </a:lnTo>
                <a:close/>
              </a:path>
            </a:pathLst>
          </a:custGeom>
          <a:solidFill>
            <a:srgbClr val="daeade"/>
          </a:solidFill>
          <a:ln w="9360">
            <a:solidFill>
              <a:srgbClr val="5d5d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47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时间是</a:t>
            </a:r>
            <a:r>
              <a:rPr b="0" lang="en-US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······</a:t>
            </a:r>
            <a:endParaRPr b="0" lang="en-US" sz="5400" spc="-1" strike="noStrike">
              <a:solidFill>
                <a:srgbClr val="a25269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2"/>
          <a:stretch/>
        </p:blipFill>
        <p:spPr>
          <a:xfrm>
            <a:off x="179280" y="3933720"/>
            <a:ext cx="3529080" cy="173988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19280" cy="150984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4"/>
          <a:stretch/>
        </p:blipFill>
        <p:spPr>
          <a:xfrm>
            <a:off x="0" y="1484280"/>
            <a:ext cx="4896000" cy="229572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5"/>
          <a:srcRect l="50271" t="-492" r="0" b="0"/>
          <a:stretch/>
        </p:blipFill>
        <p:spPr>
          <a:xfrm>
            <a:off x="4788000" y="765000"/>
            <a:ext cx="2778120" cy="580572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6"/>
          <a:stretch/>
        </p:blipFill>
        <p:spPr>
          <a:xfrm>
            <a:off x="7054920" y="333360"/>
            <a:ext cx="2089080" cy="37148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547640" y="2278080"/>
            <a:ext cx="6818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三：有效利用时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3222720" y="393372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660066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090960" y="766800"/>
            <a:ext cx="55148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新宋体"/>
                <a:ea typeface="新宋体"/>
              </a:rPr>
              <a:t>1.</a:t>
            </a:r>
            <a:r>
              <a:rPr b="1" lang="zh-CN" sz="4000" spc="-1" strike="noStrike">
                <a:solidFill>
                  <a:srgbClr val="0000ff"/>
                </a:solidFill>
                <a:latin typeface="新宋体"/>
                <a:ea typeface="新宋体"/>
              </a:rPr>
              <a:t>容易流失的时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新宋体"/>
                <a:ea typeface="新宋体"/>
              </a:rPr>
              <a:t>2.</a:t>
            </a:r>
            <a:r>
              <a:rPr b="1" lang="zh-CN" sz="4000" spc="-1" strike="noStrike">
                <a:solidFill>
                  <a:srgbClr val="0000ff"/>
                </a:solidFill>
                <a:latin typeface="新宋体"/>
                <a:ea typeface="新宋体"/>
              </a:rPr>
              <a:t>属于正常的学习时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新宋体"/>
                <a:ea typeface="新宋体"/>
              </a:rPr>
              <a:t>3.</a:t>
            </a:r>
            <a:r>
              <a:rPr b="1" lang="zh-CN" sz="4000" spc="-1" strike="noStrike">
                <a:solidFill>
                  <a:srgbClr val="0000ff"/>
                </a:solidFill>
                <a:latin typeface="新宋体"/>
                <a:ea typeface="新宋体"/>
              </a:rPr>
              <a:t>课外的时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20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分析下我们的时间</a:t>
            </a: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．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容易流失的时间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。 什么是容易流失的时间，包括早读前，中午放学后，第九节下课至晚课前。这都是同学们容易浪费的时间。有的同学总是觉得时间不够，自习，晚自修，总有做不完的作业。没有自己的复习时间。早上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：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0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上早读，提早十分钟到课室。中午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12:15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放学，不急于去饭堂，留十几分钟给自己。晚课提早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分钟回教室。这些都是同学们平时本来容易做到，但又忽略的。如果每天能够节约那些容易流失的时间，用来做作业，复习，自习和晚课就不用浪费了。每天持之以恒，相信效果很快在同学们身上体现出来。 </a:t>
            </a:r>
            <a:endParaRPr b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3360" y="6442200"/>
            <a:ext cx="2853000" cy="36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20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我们的时间</a:t>
            </a: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．</a:t>
            </a:r>
            <a:r>
              <a:rPr b="1" lang="zh-CN" sz="28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属于正常的学习时间</a:t>
            </a:r>
            <a:r>
              <a:rPr b="1" lang="zh-CN" sz="2800" spc="-1" strike="noStrike">
                <a:solidFill>
                  <a:srgbClr val="ff9933"/>
                </a:solidFill>
                <a:latin typeface="Arial"/>
              </a:rPr>
              <a:t>。 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何谓正常的学习时间，是指每天的上课，自习，晚自习，这些时间要充分利用。认真听好每一节课，领悟老师讲课的内容。自习课全情投入复习，或做今天所要完成的作业。晚自习要做到安静复习，把今天所学的内容复习一遍。预习明天的课程，多做一些课外的习题，增强自己的解题能力。有些同学一整晚都没事可做，用来看报纸，开小差，玩手机。这些，都阻碍学习的进步。本来属于同学们的学习时间，都不好好利用，成绩又怎么能够提高呢？ </a:t>
            </a:r>
            <a:endParaRPr b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66680" y="6494400"/>
            <a:ext cx="2246400" cy="36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20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我们的时间</a:t>
            </a: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、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课外的时间。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 这些时间就真的要同学们充分自觉了。什么是课外的时间？星期六，星期天，节假日。在家里要有一定的时间看书，有的同学连星期天都回来学校复习，而有的同学一放假就把学习全抛在脑后，书本也不带回去看，完全沉浸在电脑游戏之中。这样，成绩不是和别人的距离越来越大吗？ 总之，学习要持之以恒，谁能够合理利用时间，抓住时间的步伐，谁就能够在高考中取得好成绩。</a:t>
            </a:r>
            <a:endParaRPr b="1" lang="en-US" sz="28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14480" y="6559560"/>
            <a:ext cx="2514600" cy="36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336699"/>
                </a:solidFill>
                <a:uFillTx/>
                <a:latin typeface="Arial"/>
                <a:ea typeface="方正卡通简体"/>
                <a:hlinkClick r:id="rId2"/>
              </a:rPr>
              <a:t> </a:t>
            </a:r>
            <a:r>
              <a:rPr b="0" lang="en-US" sz="7200" spc="-1" strike="noStrike" u="sng">
                <a:solidFill>
                  <a:srgbClr val="336699"/>
                </a:solidFill>
                <a:uFillTx/>
                <a:latin typeface="宋体"/>
                <a:ea typeface="方正卡通简体"/>
                <a:hlinkClick r:id="rId3"/>
              </a:rPr>
              <a:t> </a:t>
            </a:r>
            <a:r>
              <a:rPr b="0" lang="zh-CN" sz="6000" spc="-1" strike="noStrike" u="sng">
                <a:solidFill>
                  <a:srgbClr val="336699"/>
                </a:solidFill>
                <a:uFillTx/>
                <a:latin typeface="华文琥珀"/>
                <a:ea typeface="华文琥珀"/>
                <a:hlinkClick r:id="rId4"/>
              </a:rPr>
              <a:t>班级宣言</a:t>
            </a:r>
            <a:endParaRPr b="0" lang="en-US" sz="6000" spc="-1" strike="noStrike">
              <a:solidFill>
                <a:srgbClr val="a25269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788000" y="1341000"/>
            <a:ext cx="421776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我们要做时间的主人</a:t>
            </a:r>
            <a:endParaRPr b="0" lang="en-US" sz="2800" spc="-1" strike="noStrike">
              <a:solidFill>
                <a:srgbClr val="5d5d8b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从今天起</a:t>
            </a:r>
            <a:endParaRPr b="0" lang="en-US" sz="2800" spc="-1" strike="noStrike">
              <a:solidFill>
                <a:srgbClr val="5d5d8b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守时   惜时</a:t>
            </a:r>
            <a:endParaRPr b="0" lang="en-US" sz="2800" spc="-1" strike="noStrike">
              <a:solidFill>
                <a:srgbClr val="5d5d8b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善用时间  做好计划</a:t>
            </a:r>
            <a:endParaRPr b="0" lang="en-US" sz="2800" spc="-1" strike="noStrike">
              <a:solidFill>
                <a:srgbClr val="5d5d8b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不再懒散</a:t>
            </a:r>
            <a:endParaRPr b="0" lang="en-US" sz="2800" spc="-1" strike="noStrike">
              <a:solidFill>
                <a:srgbClr val="5d5d8b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不再闲聊</a:t>
            </a:r>
            <a:endParaRPr b="0" lang="en-US" sz="2800" spc="-1" strike="noStrike">
              <a:solidFill>
                <a:srgbClr val="5d5d8b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不再拖拉</a:t>
            </a:r>
            <a:endParaRPr b="0" lang="en-US" sz="2800" spc="-1" strike="noStrike">
              <a:solidFill>
                <a:srgbClr val="5d5d8b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珍惜人生韶华</a:t>
            </a:r>
            <a:endParaRPr b="0" lang="en-US" sz="2800" spc="-1" strike="noStrike">
              <a:solidFill>
                <a:srgbClr val="5d5d8b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绘出人生美丽图画！</a:t>
            </a:r>
            <a:endParaRPr b="0" lang="en-US" sz="2800" spc="-1" strike="noStrike">
              <a:solidFill>
                <a:srgbClr val="5d5d8b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d5d8b"/>
              </a:solidFill>
              <a:latin typeface="Arial"/>
            </a:endParaRPr>
          </a:p>
        </p:txBody>
      </p:sp>
      <p:pic>
        <p:nvPicPr>
          <p:cNvPr id="474" name="Picture 4" descr="D:\Documents and Settings\ACER\My Documents\My Pictures\4B257574667.gif"/>
          <p:cNvPicPr/>
          <p:nvPr/>
        </p:nvPicPr>
        <p:blipFill>
          <a:blip r:embed="rId5"/>
          <a:stretch/>
        </p:blipFill>
        <p:spPr>
          <a:xfrm>
            <a:off x="0" y="-449280"/>
            <a:ext cx="9144000" cy="906480"/>
          </a:xfrm>
          <a:prstGeom prst="rect">
            <a:avLst/>
          </a:prstGeom>
          <a:ln w="0">
            <a:noFill/>
          </a:ln>
        </p:spPr>
      </p:pic>
      <p:sp>
        <p:nvSpPr>
          <p:cNvPr id="475" name="Rectangle 9"/>
          <p:cNvSpPr/>
          <p:nvPr/>
        </p:nvSpPr>
        <p:spPr>
          <a:xfrm>
            <a:off x="4572000" y="2446200"/>
            <a:ext cx="280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3"/>
          <p:cNvSpPr/>
          <p:nvPr/>
        </p:nvSpPr>
        <p:spPr>
          <a:xfrm>
            <a:off x="108000" y="1413000"/>
            <a:ext cx="4938840" cy="48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我们伤心过、徘徊过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但是我们从未放弃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对理想的追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我们被嘲笑过、质疑过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但是从未停止前进的步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我们一直在努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我们一直在战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500720" y="1484280"/>
            <a:ext cx="0" cy="4537080"/>
          </a:xfrm>
          <a:prstGeom prst="line">
            <a:avLst/>
          </a:prstGeom>
          <a:ln w="9360">
            <a:solidFill>
              <a:srgbClr val="5d5d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 txBox="1"/>
          <p:nvPr/>
        </p:nvSpPr>
        <p:spPr>
          <a:xfrm>
            <a:off x="2700360" y="1544760"/>
            <a:ext cx="490536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99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6000"/>
                    </a:srgbClr>
                  </a:outerShdw>
                </a:effectLst>
                <a:latin typeface="宋体"/>
              </a:rPr>
              <a:t>光阴的故事</a:t>
            </a:r>
            <a:endParaRPr b="0" lang="en-US" sz="1800" spc="-1" strike="noStrike">
              <a:ln w="9360">
                <a:solidFill>
                  <a:srgbClr val="99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6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>
            <a:off x="971640" y="620640"/>
            <a:ext cx="6337080" cy="453564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2553480" y="530064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工人说：时间就是财富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" descr=""/>
          <p:cNvPicPr/>
          <p:nvPr/>
        </p:nvPicPr>
        <p:blipFill>
          <a:blip r:embed="rId2"/>
          <a:stretch/>
        </p:blipFill>
        <p:spPr>
          <a:xfrm>
            <a:off x="1258920" y="765000"/>
            <a:ext cx="5977080" cy="456408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2913840" y="551664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农民说：时间就是粮食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" descr=""/>
          <p:cNvPicPr/>
          <p:nvPr/>
        </p:nvPicPr>
        <p:blipFill>
          <a:blip r:embed="rId2"/>
          <a:stretch/>
        </p:blipFill>
        <p:spPr>
          <a:xfrm>
            <a:off x="826920" y="549360"/>
            <a:ext cx="7417080" cy="476244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2913840" y="551664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医生说：时间就是生命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324000" y="692280"/>
            <a:ext cx="235404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76000"/>
                    </a:srgbClr>
                  </a:outerShdw>
                </a:effectLst>
                <a:latin typeface="宋体"/>
              </a:rPr>
              <a:t>活动探究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76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23" name=""/>
          <p:cNvSpPr/>
          <p:nvPr/>
        </p:nvSpPr>
        <p:spPr>
          <a:xfrm>
            <a:off x="900000" y="3068640"/>
            <a:ext cx="727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4800" spc="-1" strike="noStrike">
                <a:solidFill>
                  <a:srgbClr val="a25269"/>
                </a:solidFill>
                <a:latin typeface="Arial"/>
              </a:rPr>
              <a:t> </a:t>
            </a:r>
            <a:r>
              <a:rPr b="0" lang="zh-CN" sz="4800" spc="-1" strike="noStrike">
                <a:solidFill>
                  <a:srgbClr val="3399ff"/>
                </a:solidFill>
                <a:latin typeface="Arial"/>
              </a:rPr>
              <a:t>给你一分钟的时间，尝试看看，你能做些什么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108000" y="679320"/>
            <a:ext cx="914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我们来看“一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------</a:t>
            </a:r>
            <a:r>
              <a:rPr b="1" lang="zh-CN" sz="32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一分钟在生产上可以发挥多大的作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一分钟，先进的运煤机可以运煤</a:t>
            </a:r>
            <a:r>
              <a:rPr b="1" lang="en-US" sz="32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21</a:t>
            </a:r>
            <a:r>
              <a:rPr b="1" lang="zh-CN" sz="32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一分钟，太阳能水泵可以抽水</a:t>
            </a:r>
            <a:r>
              <a:rPr b="1" lang="en-US" sz="32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380</a:t>
            </a:r>
            <a:r>
              <a:rPr b="1" lang="zh-CN" sz="32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一分钟，核动力潜艇可以在水下航行</a:t>
            </a:r>
            <a:r>
              <a:rPr b="1" lang="en-US" sz="32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120</a:t>
            </a:r>
            <a:r>
              <a:rPr b="1" lang="zh-CN" sz="32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一分钟，大炮能发射</a:t>
            </a:r>
            <a:r>
              <a:rPr b="1" lang="en-US" sz="32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80</a:t>
            </a:r>
            <a:r>
              <a:rPr b="1" lang="zh-CN" sz="32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发炮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一分钟，一台大和面机和面</a:t>
            </a:r>
            <a:r>
              <a:rPr b="1" lang="en-US" sz="32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200</a:t>
            </a:r>
            <a:r>
              <a:rPr b="1" lang="zh-CN" sz="32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斤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一分钟，一条彩电生产线可以组装一台半彩色电视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-249480" y="380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a50021"/>
                </a:solidFill>
                <a:latin typeface="Arial"/>
              </a:rPr>
              <a:t>   </a:t>
            </a:r>
            <a:r>
              <a:rPr b="1" lang="zh-CN" sz="6000" spc="-1" strike="noStrike">
                <a:solidFill>
                  <a:srgbClr val="a50021"/>
                </a:solidFill>
                <a:latin typeface="Arial"/>
              </a:rPr>
              <a:t>珍惜时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2076480"/>
            <a:ext cx="815328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经意间，时间正一分一秒地从我们身边流逝。时间是不等人的。想挤出时间不容易，但失去时间却很容易。无论迎着多少无奈，无论听着多少感慨，它从不因势而变，因人而异。凡是在事业上取得成功的人，没有一个不是珍惜时间的典范。请看名人珍惜时间的故事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/>
          </p:nvPr>
        </p:nvSpPr>
        <p:spPr>
          <a:xfrm>
            <a:off x="609480" y="350640"/>
            <a:ext cx="8229600" cy="59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法拉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年以后，为了节省时间，把整个身心都用在科学创造上，严格控制自己，拒绝参加一切与科学无关的活动，甚至辞去皇家学院主席的职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居里夫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为了不使来访者拖延拜访的时间，会客室里从来不放坐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76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岁的爱因斯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病倒了，有位老朋友问他想要什么东西，他说，我只希望还有若干小时的时间，让我把一些稿子整理好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周恩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党内做工作最多的人，也是最忙的人。为了争分夺秒，他开辟了“第二办公室”和“第三办公室”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dministrator</dc:creator>
  <dc:description/>
  <dc:language>en-US</dc:language>
  <cp:lastModifiedBy>xiang</cp:lastModifiedBy>
  <dcterms:modified xsi:type="dcterms:W3CDTF">2013-05-24T02:26:06Z</dcterms:modified>
  <cp:revision>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656</vt:lpwstr>
  </property>
</Properties>
</file>