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%E4%BA%A1%E7%81%B5%E5%BA%8F%E6%9B%B2.wav" ContentType="audio/x-wav"/>
  <Override PartName="/ppt/media/image6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819000" y="685440"/>
            <a:ext cx="522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77C6-772E-4CBF-BA1B-8635A58033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处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宝库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190B-6F8C-44F5-B76F-50431B1AB7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D3-416B-41CA-913F-B2F47761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69F-2E16-4705-B8C8-9A05196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1263-9EBC-4519-B387-023B4CC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9E8DD-9187-4EC9-8F84-BC99682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52E24-8D13-449B-AE27-6DAF9D3F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111B8-AEE5-4C1E-B159-26B3590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CBFB-6C44-4A4D-AC92-DE385D3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5C155-20E8-4858-B1E1-8535DC3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39AD-A31B-48B2-AB16-BE2F6B4D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73CD-AB37-4764-8B62-9AC37D9F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CF5F-8B56-47A4-A391-11ACE139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F0188-D406-4F53-B273-068E22DD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896-4098-4D01-8E36-42CC946D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5DA21-CEBE-4230-A2E2-84152BD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53CA9-065E-4B04-9513-67C971AA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12D49-9638-4727-BFC3-7B91D5C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55B1-1AA5-4E62-BBBC-FAF0D5A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23A8B-A932-4E1A-B3A1-487FB148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C3857-3257-480D-A0B4-3BDDC2F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B95BD-1A27-48EB-9E40-2D3BF71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880CB-A55D-4B3D-BD1E-2CF9F00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F80B-9EA8-4C9A-A407-DBF5525C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9D084-C800-445E-A405-9DA4CCCC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819-DDC6-4E86-B61B-268EFF6E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2E2E9-E82E-482C-860C-E75FA9C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49731-3609-465A-904F-F948110E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46D5E-C2FE-4CB3-8DFF-E3F079B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5758F-CD8F-4253-B824-7F1D5BC0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88AF-0CD3-43CF-B028-90B886D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FC27-A608-4E4A-9DEF-BE4E022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EC51-F8A8-4159-BE5A-3553702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0BC65-3809-44CF-9E5D-44096E86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EF7FC-531E-487D-BD38-0945774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4118-C1F6-4A06-9D54-CB689F1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E39-1C77-4C7B-82DF-8D863CF1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3D234-7500-4C1D-AD33-F961E8E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AFDCC-F4AD-4E24-A70F-004C2D8D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77F2B-8173-470B-BE0C-ABE2FC2A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0755D-829C-40DE-9B8F-7381E734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0ACF-2CA6-4D70-B3CA-E2F874A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79E1-93FE-4A6F-A949-8824B7D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E5F83-E6FF-4B37-B8BC-3F72CFBA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C9240-BFC1-4466-9EEC-29C8582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4AD7B-8640-4CA3-A961-0540227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654B2-DCED-4E2E-9C9A-0EAE88F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EB06-B87D-42CF-8BEA-4BC9B6D4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303E7-6093-43F9-9E76-4BC6DE0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5BC35-283B-4243-9A8C-1BB610C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C0C3A-EB53-43B8-883C-D5969F7E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BCF0B-AA2E-4971-A7A5-F8C62673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7CEA5-8349-40AD-8F6B-963DA80C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0357D-FB4A-4575-9B77-988867C8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899A0-83A6-4C67-864C-CB754DC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78C80-5CA1-45A0-9C25-A39FF31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16F08-2DB1-4E0D-B23D-3125F0D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E47F2-1280-4466-9A84-E0C6DBE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28FF-BFC4-41E5-94F9-0E42AD6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A490C-EBD9-4DF5-8576-92A383B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549B3-8AE7-484E-99B5-9CF97AB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248BA-6939-4A96-B282-84633E3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70B30-C5A7-4122-95F8-34AA2DE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964DB-1373-46C1-BE76-21671DA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6B051-9A40-4DA5-82D7-D3CA5EE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143EF-FCFE-4908-A46D-2CA0EAF6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BFD-5B3F-491A-A536-A1AE1B9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97E-CC01-43BE-A3A0-B190A26A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0D7-CD66-4CC2-839F-658DB1A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F30-C21C-4A34-B2B5-166584F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56-5D30-4BB1-8D69-2442D444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0D8D-FB7B-4FB0-BA91-96D9FB5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376-7E9B-473B-844A-E0EBEE3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DC9-7E42-46A8-A6FC-3574735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35D-6C7F-4C3B-8E85-AB5A6EE1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3396-E4F8-4EB4-A265-FE0F89AD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E82F-2A92-4503-8DC5-156BD76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0FA5-7E56-4496-86DD-B92A626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6118-5722-45BB-8427-0A1FBD4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D0EF-7EFB-4555-9523-03E4471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6BCE-47A8-4157-A77F-A57660E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105-0138-4164-9674-A6E72D90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5441-1944-4612-9596-6416FC8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41DB-BE12-4D9E-9185-74FD8B2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FEF7-5F4B-4C20-84EB-86D732A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D06A-932A-4872-83C6-A08DF5B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036F-2386-44FF-8ADD-9C90333C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DD27-AD8F-46DB-A4D5-F3C61CC6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37E1-2DA7-44EE-AE73-9009E570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4F9A-1A6B-410D-9C80-FF64646C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19CB-1557-4E86-BFE2-D325AC6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1A7D-7E33-4F34-841E-2691C65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142-4537-4403-B6CD-7BAEE3D9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AD52-22DE-4BF4-9789-2E8F450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AB21-1BCD-4A56-9590-FC9BDF5E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9526-28CF-44AD-9078-E5BE86C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C3BD-A16E-45C3-AB02-14C1ADC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D71E-0627-4FAB-9B1C-EDFA80B0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C6F2-1A20-47A8-AACE-CA498AE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96F2-BBE3-403E-AA0B-D24541E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DFEB-4B06-4A6C-A69D-03C6C59A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2F48-14EC-4DD6-AFF2-DB0B70F7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4C1E-251F-4886-9FA6-89273E9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577-FB86-43D3-BBC1-07BCAC8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899A-964B-45C3-AD3C-B77860A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B62F-DE5C-44F2-8032-C4322D5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984D-4270-4AFD-961C-E0E9C90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30DA-55BC-4437-87A1-419785B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9D6E-561C-4F74-B9DA-B6FCE06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A76B-1F4F-46DD-B3DD-CA94A8C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6476-D89E-4FB8-B9BD-97C609F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09E6-759F-4382-8049-191B7FB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59BD-0C60-4432-A738-15436B8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6657-242B-474E-9CA8-03C1B67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3AA-D550-4E68-B111-64AE2DD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E66A-B7D6-4F44-A162-1C2A01FA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88D6-BAF0-4E06-A504-B2056948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A551-4847-4D01-9863-1F58E2D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EE00E-51FD-4790-B0C6-2C4EA575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9186-9495-4DBD-B00F-D84786A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1E4BB-BB51-4870-920A-4ABB3142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9B696-01A9-42F8-B6AC-17BFF01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AEF40-27FD-4E1B-822E-51715AAD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539F7-E309-4E42-86C1-351DF97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87C6-D9F4-40D6-A982-98140E9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696-7471-4AFC-843F-AC629DD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41AA-B447-4946-A228-78D65F5F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21832-6508-4223-BE2E-B30E6E9A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A8AF-7B34-440A-9EAA-7CD98303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19424-C454-4543-8930-A2B1FE4A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D5A2-FFA8-415F-A141-5560C1F9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7CE2-027A-4606-9CDA-CE9D8EA1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3C53-1153-4688-9839-5676A7B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7810-57A1-4620-A39F-3D6833D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FDFA-ADFC-40D2-846A-467D5EA9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1C76D-6511-4CF8-BA41-6FA6A50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0CB-B3C5-4C37-88CB-B7507F5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99E33-16BB-4DAE-9DC3-6F36733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B593-AB59-4A14-8D3D-FA6AB7F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E4A9-B18B-4423-9992-FDDEDEA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CB6C-81D3-4092-AA94-6D1850FE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975B-3C13-4FFD-875E-91A4D661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40486-9331-4D88-B416-E3B6A187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F4D6-E859-4F82-B4E2-C58CE80E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A432-31D3-499C-8C60-5C2FB0E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2995-D91D-4FF5-B9BF-CDF22B6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7BD2-A12C-4776-BF25-A34C287A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1FE-D430-4F8E-B1F6-44B6E75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4278-4718-4C3B-A0CC-3C27035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0534-2C7D-441B-9C71-F0314EC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F223-69E1-4B83-8534-2CD4661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343E9-6A30-463E-B300-AAAB97D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9919-1A31-4551-AB98-FA5B7B3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09FB-809E-427B-AFAD-501D5A0E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FBAF5-6EC8-4CEE-887A-F46F802D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C310-8584-4369-9390-9C2EFEC2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B2FD4-CAB8-44AE-B9BC-0A2BB41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2D018-F415-4171-AE70-8F411091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BEE-88B6-4B68-860A-0AACA24BF3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15F4-8E03-4F64-BF07-6B071DE47172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F77-AF4F-471E-8950-2E42EDB5F516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DA1-1309-4946-BD43-7BB61D0D6A1E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CB1F-A2FC-48A7-8EF1-F45B4C39B794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0DA-09BE-42B6-9AA0-A382043277B8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48B-02A7-4185-BFAC-A948464F45DA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051-8308-489E-913C-C0000BF325D0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C3B6-6045-4219-8A45-9D5E15B72BC2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EAC-0D02-41D2-A004-8586A8C5F8DC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61D1-F701-4DAC-A253-0A84D7F97708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2056-D047-492E-A48E-A224DF6EA3C1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45B0-D641-4BBC-9CD0-154867104381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3A5-8036-424D-BF75-908ED693F375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F7E-19DB-422D-9557-239DD0CD31E9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55D2-D195-47EF-BA0A-22655EDFDF07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08F-D6ED-47A7-AA4E-2A68EF702FFB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4798-C6EA-4776-939F-5D17234FAB09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7DCF-D3F2-41BF-9EC3-15DF238C77AF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CB9-B815-4469-877F-C015F439810A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6731-9DDC-4CE1-AF74-0BF005590CB6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792-D9E9-4566-AB74-8BF08816307B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EAE-AA19-4C05-B02A-A0AE45DAA1DF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 fontScale="95000"/>
          </a:bodyPr>
          <a:p>
            <a:pPr marL="378360" indent="-3783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20440" indent="-315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263600" indent="-2516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69040" indent="-2520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274120" indent="-2520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501-4875-4AF5-8719-25671F0435D4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961-4011-466D-A8B4-6D306A4E76DA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hyperlink" Target="http://www.pptbz.com/pptshucai/" TargetMode="External"/><Relationship Id="rId15" Type="http://schemas.openxmlformats.org/officeDocument/2006/relationships/hyperlink" Target="http://www.pptbz.com/pptpic/" TargetMode="External"/><Relationship Id="rId16" Type="http://schemas.openxmlformats.org/officeDocument/2006/relationships/hyperlink" Target="http://www.pptbz.com/pptpic/" TargetMode="External"/><Relationship Id="rId17" Type="http://schemas.openxmlformats.org/officeDocument/2006/relationships/hyperlink" Target="http://www.pptbz.com/pptpic/" TargetMode="External"/><Relationship Id="rId18" Type="http://schemas.openxmlformats.org/officeDocument/2006/relationships/hyperlink" Target="http://www.pptbz.com/kejian/" TargetMode="External"/><Relationship Id="rId19" Type="http://schemas.openxmlformats.org/officeDocument/2006/relationships/hyperlink" Target="http://www.pptbz.com/kejian/" TargetMode="External"/><Relationship Id="rId20" Type="http://schemas.openxmlformats.org/officeDocument/2006/relationships/hyperlink" Target="http://www.pptbz.com/kejian/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hyperlink" Target="http://www.pptbz.com/" TargetMode="External"/><Relationship Id="rId26" Type="http://schemas.openxmlformats.org/officeDocument/2006/relationships/hyperlink" Target="http://www.pptbz.com/" TargetMode="External"/><Relationship Id="rId27" Type="http://schemas.openxmlformats.org/officeDocument/2006/relationships/hyperlink" Target="http://www.pptbz.com/" TargetMode="External"/><Relationship Id="rId28" Type="http://schemas.openxmlformats.org/officeDocument/2006/relationships/audio" Target="../media/&#20129;&#28789;&#24207;&#26354;.wav"/><Relationship Id="rId2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4" descr=""/>
          <p:cNvPicPr/>
          <p:nvPr/>
        </p:nvPicPr>
        <p:blipFill>
          <a:blip r:embed="rId2"/>
          <a:stretch/>
        </p:blipFill>
        <p:spPr>
          <a:xfrm>
            <a:off x="9061560" y="2637000"/>
            <a:ext cx="1379520" cy="12747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5" descr=""/>
          <p:cNvPicPr/>
          <p:nvPr/>
        </p:nvPicPr>
        <p:blipFill>
          <a:blip r:embed="rId3"/>
          <a:stretch/>
        </p:blipFill>
        <p:spPr>
          <a:xfrm>
            <a:off x="5396040" y="969840"/>
            <a:ext cx="3868560" cy="460872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7" descr=""/>
          <p:cNvPicPr/>
          <p:nvPr/>
        </p:nvPicPr>
        <p:blipFill>
          <a:blip r:embed="rId4"/>
          <a:stretch/>
        </p:blipFill>
        <p:spPr>
          <a:xfrm>
            <a:off x="0" y="620640"/>
            <a:ext cx="1457280" cy="18939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8" descr=""/>
          <p:cNvPicPr/>
          <p:nvPr/>
        </p:nvPicPr>
        <p:blipFill>
          <a:blip r:embed="rId5"/>
          <a:stretch/>
        </p:blipFill>
        <p:spPr>
          <a:xfrm>
            <a:off x="8086680" y="-100080"/>
            <a:ext cx="2354400" cy="309744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" descr=""/>
          <p:cNvPicPr/>
          <p:nvPr/>
        </p:nvPicPr>
        <p:blipFill>
          <a:blip r:embed="rId6"/>
          <a:stretch/>
        </p:blipFill>
        <p:spPr>
          <a:xfrm>
            <a:off x="6804000" y="1957320"/>
            <a:ext cx="25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9" descr=""/>
          <p:cNvPicPr/>
          <p:nvPr/>
        </p:nvPicPr>
        <p:blipFill>
          <a:blip r:embed="rId7"/>
          <a:stretch/>
        </p:blipFill>
        <p:spPr>
          <a:xfrm>
            <a:off x="0" y="4167360"/>
            <a:ext cx="5221440" cy="2646360"/>
          </a:xfrm>
          <a:prstGeom prst="rect">
            <a:avLst/>
          </a:prstGeom>
          <a:ln w="0">
            <a:noFill/>
          </a:ln>
        </p:spPr>
      </p:pic>
      <p:pic>
        <p:nvPicPr>
          <p:cNvPr id="546" name="TextBox 10" descr=""/>
          <p:cNvPicPr/>
          <p:nvPr/>
        </p:nvPicPr>
        <p:blipFill>
          <a:blip r:embed="rId8"/>
          <a:stretch/>
        </p:blipFill>
        <p:spPr>
          <a:xfrm>
            <a:off x="1901880" y="1285920"/>
            <a:ext cx="35240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5"/>
          <p:cNvSpPr/>
          <p:nvPr/>
        </p:nvSpPr>
        <p:spPr>
          <a:xfrm>
            <a:off x="748332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426-C6A7-47CD-BDD2-F29394285B9B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1" descr=""/>
          <p:cNvPicPr/>
          <p:nvPr/>
        </p:nvPicPr>
        <p:blipFill>
          <a:blip r:embed="rId1"/>
          <a:stretch/>
        </p:blipFill>
        <p:spPr>
          <a:xfrm>
            <a:off x="0" y="1357200"/>
            <a:ext cx="10441080" cy="4633920"/>
          </a:xfrm>
          <a:prstGeom prst="rect">
            <a:avLst/>
          </a:prstGeom>
          <a:ln w="0">
            <a:noFill/>
          </a:ln>
        </p:spPr>
      </p:pic>
      <p:sp>
        <p:nvSpPr>
          <p:cNvPr id="549" name="Line 7"/>
          <p:cNvSpPr/>
          <p:nvPr/>
        </p:nvSpPr>
        <p:spPr>
          <a:xfrm>
            <a:off x="0" y="5943600"/>
            <a:ext cx="104410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33"/>
          <p:cNvSpPr/>
          <p:nvPr/>
        </p:nvSpPr>
        <p:spPr>
          <a:xfrm>
            <a:off x="-23760" y="1257480"/>
            <a:ext cx="1043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36"/>
          <p:cNvSpPr/>
          <p:nvPr/>
        </p:nvSpPr>
        <p:spPr>
          <a:xfrm>
            <a:off x="0" y="5956200"/>
            <a:ext cx="104410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3"/>
          <p:cNvSpPr/>
          <p:nvPr/>
        </p:nvSpPr>
        <p:spPr>
          <a:xfrm>
            <a:off x="0" y="0"/>
            <a:ext cx="10441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5" descr="热气球"/>
          <p:cNvPicPr/>
          <p:nvPr/>
        </p:nvPicPr>
        <p:blipFill>
          <a:blip r:embed="rId2"/>
          <a:stretch/>
        </p:blipFill>
        <p:spPr>
          <a:xfrm>
            <a:off x="8180280" y="361800"/>
            <a:ext cx="1631880" cy="1987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8"/>
          <p:cNvSpPr/>
          <p:nvPr/>
        </p:nvSpPr>
        <p:spPr>
          <a:xfrm>
            <a:off x="3411360" y="549360"/>
            <a:ext cx="591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3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3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3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00" y="130320"/>
            <a:ext cx="3407040" cy="9950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8" descr="07.png"/>
          <p:cNvPicPr/>
          <p:nvPr/>
        </p:nvPicPr>
        <p:blipFill>
          <a:blip r:embed="rId5"/>
          <a:stretch/>
        </p:blipFill>
        <p:spPr>
          <a:xfrm>
            <a:off x="2975040" y="0"/>
            <a:ext cx="1123920" cy="977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美女跳舞2"/>
          <p:cNvPicPr/>
          <p:nvPr/>
        </p:nvPicPr>
        <p:blipFill>
          <a:blip r:embed="rId6"/>
          <a:stretch/>
        </p:blipFill>
        <p:spPr>
          <a:xfrm>
            <a:off x="204840" y="1341360"/>
            <a:ext cx="2622600" cy="5248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0" descr="绿风车棍子"/>
          <p:cNvPicPr/>
          <p:nvPr/>
        </p:nvPicPr>
        <p:blipFill>
          <a:blip r:embed="rId7"/>
          <a:stretch/>
        </p:blipFill>
        <p:spPr>
          <a:xfrm>
            <a:off x="9661680" y="4219560"/>
            <a:ext cx="80640" cy="1657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9" descr="绿风车"/>
          <p:cNvPicPr/>
          <p:nvPr/>
        </p:nvPicPr>
        <p:blipFill>
          <a:blip r:embed="rId8"/>
          <a:stretch/>
        </p:blipFill>
        <p:spPr>
          <a:xfrm>
            <a:off x="8962920" y="3722760"/>
            <a:ext cx="1390680" cy="12207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4"/>
          <p:cNvSpPr/>
          <p:nvPr/>
        </p:nvSpPr>
        <p:spPr>
          <a:xfrm>
            <a:off x="3000240" y="2476440"/>
            <a:ext cx="6085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pptbz.com/pptshucai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</a:t>
            </a:r>
            <a:r>
              <a:rPr b="0" lang="zh-CN" sz="1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背景图片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pptbz.com/pptpic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</a:t>
            </a:r>
            <a:r>
              <a:rPr b="0" lang="zh-CN" sz="1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课件下载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pptbz.com/kejian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图片 55" descr=""/>
          <p:cNvPicPr/>
          <p:nvPr/>
        </p:nvPicPr>
        <p:blipFill>
          <a:blip r:embed="rId21"/>
          <a:stretch/>
        </p:blipFill>
        <p:spPr>
          <a:xfrm rot="2305200">
            <a:off x="2619360" y="2370240"/>
            <a:ext cx="522360" cy="4572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6" descr=""/>
          <p:cNvPicPr/>
          <p:nvPr/>
        </p:nvPicPr>
        <p:blipFill>
          <a:blip r:embed="rId22"/>
          <a:stretch/>
        </p:blipFill>
        <p:spPr>
          <a:xfrm rot="2305200">
            <a:off x="2619360" y="2951280"/>
            <a:ext cx="522360" cy="45720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7" descr=""/>
          <p:cNvPicPr/>
          <p:nvPr/>
        </p:nvPicPr>
        <p:blipFill>
          <a:blip r:embed="rId23"/>
          <a:stretch/>
        </p:blipFill>
        <p:spPr>
          <a:xfrm rot="2305200">
            <a:off x="2619360" y="3527280"/>
            <a:ext cx="522360" cy="45720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58" descr=""/>
          <p:cNvPicPr/>
          <p:nvPr/>
        </p:nvPicPr>
        <p:blipFill>
          <a:blip r:embed="rId24"/>
          <a:stretch/>
        </p:blipFill>
        <p:spPr>
          <a:xfrm rot="2305200">
            <a:off x="2619360" y="4105440"/>
            <a:ext cx="522360" cy="4572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22"/>
          <p:cNvSpPr/>
          <p:nvPr/>
        </p:nvSpPr>
        <p:spPr>
          <a:xfrm>
            <a:off x="2926800" y="6165720"/>
            <a:ext cx="657036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ppt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宝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_www.pptbz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9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2:39:33Z</dcterms:created>
  <dc:creator>ppt宝藏</dc:creator>
  <dc:description/>
  <dc:language>en-US</dc:language>
  <cp:lastModifiedBy>Windows 用户</cp:lastModifiedBy>
  <dcterms:modified xsi:type="dcterms:W3CDTF">2014-12-29T07:08:54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5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背景 节日 节庆 喜庆 庆祝 祝贺 祝福 祝愿 中秋 八月十五 月饼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中秋节庆动画模板</vt:lpwstr>
  </property>
  <property fmtid="{D5CDD505-2E9C-101B-9397-08002B2CF9AE}" pid="11" name="模板ID">
    <vt:lpwstr>A30220121126B32</vt:lpwstr>
  </property>
  <property fmtid="{D5CDD505-2E9C-101B-9397-08002B2CF9AE}" pid="12" name="模板缩略图">
    <vt:lpwstr>A30220121126B32.png</vt:lpwstr>
  </property>
  <property fmtid="{D5CDD505-2E9C-101B-9397-08002B2CF9AE}" pid="13" name="相关案例">
    <vt:lpwstr>854</vt:lpwstr>
  </property>
  <property fmtid="{D5CDD505-2E9C-101B-9397-08002B2CF9AE}" pid="14" name="缩略图标题">
    <vt:lpwstr>中秋节庆动画模板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21126B3201</vt:lpwstr>
  </property>
  <property fmtid="{D5CDD505-2E9C-101B-9397-08002B2CF9AE}" pid="17" name="附件缩略图">
    <vt:lpwstr>A30220121126B3201.png</vt:lpwstr>
  </property>
  <property fmtid="{D5CDD505-2E9C-101B-9397-08002B2CF9AE}" pid="18" name="附件路径">
    <vt:lpwstr>A30220121126B3201.dotx</vt:lpwstr>
  </property>
</Properties>
</file>