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%E4%BA%A1%E7%81%B5%E5%BA%8F%E6%9B%B2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64801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625320" y="685440"/>
            <a:ext cx="5607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DB51D9BA-6093-477F-AD08-D436B5EB1A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625320" y="685800"/>
            <a:ext cx="560736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处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宝库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EC6B30F-CA90-43CE-B17B-9E036A9833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992-1F07-4B6A-A12D-55FCB64F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5D8-2B51-4638-94FC-5A5C97C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7337-4D0E-46F1-96D8-26DC7E8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C3EE8-E1F4-44D0-96D5-07F8AF3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F3C3D-0138-4B44-9BA7-8E9FE78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E8A2F-95BA-471F-AC78-976FAF5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C2F60-AE3B-4682-8E94-83E8AA8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1780B-2FBC-42DD-955B-A34D570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B3A57-D110-4C77-A835-DE3A6CFF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BF1D-C0B3-459B-B71B-DFF19708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3AA1E-344F-43EE-BE63-7B0D6B26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02C46-3A00-4986-9591-EE8C1AD0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7E3-4060-4A2B-9D06-8DB190DB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D1247-AD26-4401-B7AE-E100C26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7E20B-4373-4B22-9DBA-5A6FD78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67D43-562C-4570-979A-AC9CBFE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24830-F04E-4B52-A5EA-BCAF1E7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F743-FC47-431D-8A0C-E2CCEA2F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F2A1F-75AE-44B3-8142-FE3570CB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A9C46-0AA2-4B24-B6DB-99ABCB6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1F776-3606-4C1F-B044-B5BD5754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D0BEE-D6F0-4981-A439-12DE2FD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EAD97-029A-43FB-BE8B-77CFAD22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0D6-9163-4837-8D47-8DE141D5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84B2A-6D09-4614-9E22-FE7BFFF6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3ECFA-7A50-4C9F-A0BF-88650AD7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271D-A154-499C-8D8E-C792590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CF82C-A479-436D-A692-3F732CA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A58B5-DA4E-4608-B3A7-07D8D114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A6D4-3445-47D5-B0F6-4891A531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EBB8-29B1-4023-BBDE-CCA8822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BD84E-52F4-49E0-8EF8-AF87207F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4DB10-03FD-4EBB-A8A4-B2A957B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ED13-5E91-466F-AEB2-BEBC2B2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A70-06F4-49D2-AB5B-A2583C29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40979-DCA6-434C-BD3A-B7B8D8D1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A607-DB25-4015-9B0A-5D62234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8E244-E17D-4683-B762-0C006C2F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9AE85-8D99-442A-BD00-799D4D1F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89F50-84BC-4180-984B-4D43FA3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1CC64-3703-48CC-B72F-C1FC3534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739F6-61C0-440A-81EF-C887CBD2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ADAF5-8C7D-4A27-AF54-040151D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AE4EE-ABAB-44F8-BC83-177F374F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B2BDB-5CB3-4CB4-B54F-011B951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4AFA-E8CC-4C28-8D03-3F1B824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5F858-E998-4284-8857-BA552AC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86F63-24A9-432B-94B9-8205421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C439F-CB03-4223-95DB-5B060C6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E4ED0-0CA6-4524-9711-B0CD992E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BE010-14B4-45D2-A43F-0D4CFFE1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7654E-9D4C-4D5E-8F4B-E86E0776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0FA5A-F013-496A-92AE-01FAAEA6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25C85-BE70-4F58-8B43-352CD87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B54B8-1EA6-4B69-8205-82121750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04CBF-6C2D-4626-9784-3BA0ACAC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9732-9358-47E8-BD42-D68857B2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ACBCF-6A42-4D41-B589-5D8A52E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0B2CF-A5E9-4819-AB9C-FCC79F1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C8644-E261-4A24-BE2C-B644AFA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509D6-0E4C-4C52-9214-2E161BF6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6AC49-E7C7-4DEF-A2AD-CEE577D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BC3D9-A8BF-428E-AF40-B6A8A482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53E51-E607-4E80-A435-E0CE4FDC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4CF0-879C-4BE7-BFED-5D2046F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0705-6F90-4ADE-9DBC-F581EB58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C584-D39B-46F7-B3B0-D0AA7774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9BDB-416F-408C-B9E5-2C88B2F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4EF-9F74-464C-A801-E0C32183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67D1-95AD-4497-A055-A5ABE65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4F75-6E3F-40DA-ADE1-6F8181C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E734-2C65-4A61-A2B9-A16FB506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9B58-462C-4BB6-8BD3-D849B252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5531-4224-4C1E-AF25-D51439CD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4F6F-5938-4319-826B-5B51F197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050F-9E2E-4D84-A7F6-322A449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B6B6-CBD6-4B24-A4E9-B0CCA36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6F6B-96CE-44AB-A352-D42A937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1F29-E996-4B99-B321-794EE03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222-7E2E-4FFD-8220-931E0140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FB67-B851-43A5-87D5-B0B70D40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713E-CEF6-4889-99C9-52B8D89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832E-6CF1-4318-8C89-A74CA19F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2B2B-271D-467C-A731-4BCC60E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AF5A-2B02-4334-9ED9-E4F1B7BB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3984-8307-41E5-B455-56B39F82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8EAF-C366-4A10-86B1-A144A4C5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1E0A3-5C92-472C-BD21-9DF0040C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ECB8-5083-4AB4-AF50-9DB17A03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515A-5C3B-43E7-8A71-FE852E9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3A8-6DBD-4AE7-B6EA-6796FBC0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3A5A-CEE1-4043-AF31-F1927D9F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7443-091F-403D-BA21-1AD70599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BEA2-DE40-4273-A0F5-4350802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319A-CA13-481E-A041-B01D54E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E7D8-F1BA-4C31-B703-A4BA4EA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CA2A-3E05-46BE-98FD-104AE9B1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A3DB-E1CB-47E8-8CA8-404663F5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7D4E-3F12-4563-AAF3-36DE28B5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EDFE-5EE5-4A1E-A640-21CA0639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FE29-64B6-4C6F-A863-24467199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67A-049D-4A3F-A43D-F6B23B5F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E28A-968C-45D9-B1E7-65CF63E7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75A2-8828-4D65-9377-9F15A591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4492-4771-466F-95D5-6AD4309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854F-E965-4FD7-AF38-14B08408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B8D5-A950-49B4-82D6-40FE37DB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5418-F55F-4A86-BB4E-4920D6CB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4627-CD1E-4315-A6BC-A2646A4E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14BF5-3478-4F38-A7C8-B5DD76E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438E-C34E-486B-B146-82F9AA4B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EFC6-387C-43F7-8590-83FEFD57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234-5897-47B3-8C09-9C0E026B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143D-4B56-43F9-A3C4-F80244A8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2FD2-4605-4727-A764-7CD9D7F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6A86-59CF-4537-A2DB-70715772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3268-CA5D-423C-A539-CCFB916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45DB-8054-41A1-A0CF-9AA03FEF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50E79-1D6E-4B7A-B58E-8EF79616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ED42-F7D1-4558-8017-0867A7FF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A63B5-F574-47B6-B915-091CA42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BDC4-8EDE-40BF-AC2A-F616B5B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69FF-283E-490B-BB73-37370B9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3E6-2E8F-48D5-AEEC-4DABE3B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F4BF-7EDA-4745-97DB-BB18CEC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3EB2-973B-41EE-B257-7F26839A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795E-500B-493D-A3C4-B646A6F1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DCB8-3F60-49D3-9410-06F330BB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DCED-BD96-4825-9FA9-21C19FB7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69FA-3ED8-423C-9DEE-61E5820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2588-E453-4F9E-ABF9-9CAFFC6A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D67F9-EC45-4D67-81E6-AC94563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0267-1136-4AF9-A4A7-EBC93E8B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DB29-F84E-4B69-94FA-6289EB8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F52-36C4-43A2-94FA-1431D92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8D07-23E0-42A3-948F-D9DA1C8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2033-3024-4C54-AC43-06FC663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6231-1DE9-4D45-9384-D4372E8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FE64-A2A1-4CA5-949C-5D4047E3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8A09-8EEA-4DA0-B1E0-26015A1C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A8C5-2EA6-4C41-8F89-8BD7CFE5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CF7A-C318-45C0-B96B-AC80E1D4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39676-80D5-40B1-ACD7-A09A15F7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FF96-AA92-465F-9F6D-9BE10D0C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CDEC-C5DC-498F-8542-6C72A7F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E8-A7C0-4094-B9E9-F37D0E7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EB77-B453-49B2-8C4D-A54AAD4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1308-E61C-40B3-B242-038DDB1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E251-14FB-4612-BD5F-802555E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839F3-E4F0-48F4-A10B-74F6B61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4F920-D133-41FC-ACC6-8DCEAD83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BA727-41A2-444D-B786-95EB02CB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4B7A6-A43C-4586-9A94-861C9537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A563B-C29C-4A21-A790-62A41496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C329-4C13-4DB4-993B-3BD7823E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17921-E37F-44DA-8B7E-94F88F27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3DBD371-42F7-47D4-BCB0-775AD34C2437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4C9C421F-6CB9-43B8-8043-65DE611EAA96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8BDB21F-50AE-478B-84CC-3CE8380B921B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2D23B06-8C1C-4028-9AF3-D33DCED0CBD4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43DDF5D-E4EC-40BC-A559-232A6D4FF9DF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4B6BB59-1E75-49A2-85D1-09CAD213C60C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699A911-BD81-4212-AA40-628A9FCBBCE3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2FD21C2-72F2-48BE-B32F-C1EF8C929695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179D5CE-8AE5-4AD2-AD14-7D16F676A2B1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9BF9558-3B92-4781-AACD-2DA19FD3286F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789F4C6-E46C-4AC2-A0A8-BE0F5B56368C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A213FF5-4DA1-4730-8989-DB148B8251CE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D606801B-A5AB-402B-8FBC-382A72DD4498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29D8F05-DFC6-4193-A8D4-BD9FA76C64F8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2E50CED-E6EB-42BC-9CB0-753EE9640545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2D4B475-A0FE-443D-8A92-939E9B2287EF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895D11D-48C1-4F41-B288-5A7EB03E9CB5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C8398D94-29E2-428F-A004-09C62D932FDE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A42FC43-8116-44D5-9D6A-CA4C142AE407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69C0D78-9460-4776-95DF-88837D5EB339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34C0EE3-9C46-4D04-8C43-85AAC1E42ECD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73825AF-76E5-4A91-BDA3-DA04CCE4B47E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C76D300B-D64F-41F8-AA9E-9AF58F8B2BAA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92000"/>
          </a:bodyPr>
          <a:p>
            <a:pPr marL="220320" indent="-220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8800" indent="-183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7280" indent="-14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33920" indent="-14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328760" indent="-147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24000" y="3672000"/>
            <a:ext cx="15127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0A0C194D-59AA-4A20-808C-5850F375F90E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14360" y="3672000"/>
            <a:ext cx="205092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64292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F8AA099-6BBC-45B3-9D31-EE21BAEAC547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hyperlink" Target="http://www.pptbz.com/pptshucai/" TargetMode="External"/><Relationship Id="rId15" Type="http://schemas.openxmlformats.org/officeDocument/2006/relationships/hyperlink" Target="http://www.pptbz.com/pptpic/" TargetMode="External"/><Relationship Id="rId16" Type="http://schemas.openxmlformats.org/officeDocument/2006/relationships/hyperlink" Target="http://www.pptbz.com/pptpic/" TargetMode="External"/><Relationship Id="rId17" Type="http://schemas.openxmlformats.org/officeDocument/2006/relationships/hyperlink" Target="http://www.pptbz.com/pptpic/" TargetMode="External"/><Relationship Id="rId18" Type="http://schemas.openxmlformats.org/officeDocument/2006/relationships/hyperlink" Target="http://www.pptbz.com/kejian/" TargetMode="External"/><Relationship Id="rId19" Type="http://schemas.openxmlformats.org/officeDocument/2006/relationships/hyperlink" Target="http://www.pptbz.com/kejian/" TargetMode="External"/><Relationship Id="rId20" Type="http://schemas.openxmlformats.org/officeDocument/2006/relationships/hyperlink" Target="http://www.pptbz.com/kejian/" TargetMode="External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hyperlink" Target="http://www.pptbz.com/" TargetMode="External"/><Relationship Id="rId26" Type="http://schemas.openxmlformats.org/officeDocument/2006/relationships/hyperlink" Target="http://www.pptbz.com/" TargetMode="External"/><Relationship Id="rId27" Type="http://schemas.openxmlformats.org/officeDocument/2006/relationships/hyperlink" Target="http://www.pptbz.com/" TargetMode="External"/><Relationship Id="rId28" Type="http://schemas.openxmlformats.org/officeDocument/2006/relationships/audio" Target="../media/&#20129;&#28789;&#24207;&#26354;.wav"/><Relationship Id="rId2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0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6480000" cy="111276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>
            <a:off x="184320" y="1254240"/>
            <a:ext cx="914400" cy="13046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5" descr=""/>
          <p:cNvPicPr/>
          <p:nvPr/>
        </p:nvPicPr>
        <p:blipFill>
          <a:blip r:embed="rId4"/>
          <a:stretch/>
        </p:blipFill>
        <p:spPr>
          <a:xfrm>
            <a:off x="6480" y="3124080"/>
            <a:ext cx="6480000" cy="844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6" descr=""/>
          <p:cNvPicPr/>
          <p:nvPr/>
        </p:nvPicPr>
        <p:blipFill>
          <a:blip r:embed="rId5"/>
          <a:stretch/>
        </p:blipFill>
        <p:spPr>
          <a:xfrm>
            <a:off x="5473800" y="1219320"/>
            <a:ext cx="861840" cy="1438200"/>
          </a:xfrm>
          <a:prstGeom prst="rect">
            <a:avLst/>
          </a:prstGeom>
          <a:ln w="0">
            <a:noFill/>
          </a:ln>
        </p:spPr>
      </p:pic>
      <p:sp>
        <p:nvSpPr>
          <p:cNvPr id="545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图片 12" descr=""/>
          <p:cNvPicPr/>
          <p:nvPr/>
        </p:nvPicPr>
        <p:blipFill>
          <a:blip r:embed="rId6"/>
          <a:stretch/>
        </p:blipFill>
        <p:spPr>
          <a:xfrm>
            <a:off x="4200480" y="698400"/>
            <a:ext cx="1303560" cy="2305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13" descr=""/>
          <p:cNvPicPr/>
          <p:nvPr/>
        </p:nvPicPr>
        <p:blipFill>
          <a:blip r:embed="rId7"/>
          <a:stretch/>
        </p:blipFill>
        <p:spPr>
          <a:xfrm>
            <a:off x="2011320" y="719280"/>
            <a:ext cx="21337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5"/>
          <p:cNvSpPr/>
          <p:nvPr/>
        </p:nvSpPr>
        <p:spPr>
          <a:xfrm>
            <a:off x="4643280" y="3672000"/>
            <a:ext cx="1513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algn="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6A7C891-7FE4-4682-95AD-19B07F6F48BB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图片 1" descr=""/>
          <p:cNvPicPr/>
          <p:nvPr/>
        </p:nvPicPr>
        <p:blipFill>
          <a:blip r:embed="rId1"/>
          <a:stretch/>
        </p:blipFill>
        <p:spPr>
          <a:xfrm>
            <a:off x="0" y="784080"/>
            <a:ext cx="6480000" cy="2676600"/>
          </a:xfrm>
          <a:prstGeom prst="rect">
            <a:avLst/>
          </a:prstGeom>
          <a:ln w="0">
            <a:noFill/>
          </a:ln>
        </p:spPr>
      </p:pic>
      <p:sp>
        <p:nvSpPr>
          <p:cNvPr id="550" name="Line 7"/>
          <p:cNvSpPr/>
          <p:nvPr/>
        </p:nvSpPr>
        <p:spPr>
          <a:xfrm>
            <a:off x="0" y="3432240"/>
            <a:ext cx="6480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-32040" bIns="-320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-14400" y="727200"/>
            <a:ext cx="64771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-32040" bIns="-320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0" y="3440160"/>
            <a:ext cx="6480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-32040" bIns="-320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43"/>
          <p:cNvSpPr/>
          <p:nvPr/>
        </p:nvSpPr>
        <p:spPr>
          <a:xfrm>
            <a:off x="0" y="0"/>
            <a:ext cx="648000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5" descr="热气球"/>
          <p:cNvPicPr/>
          <p:nvPr/>
        </p:nvPicPr>
        <p:blipFill>
          <a:blip r:embed="rId2"/>
          <a:stretch/>
        </p:blipFill>
        <p:spPr>
          <a:xfrm>
            <a:off x="5076720" y="209520"/>
            <a:ext cx="1013040" cy="1147680"/>
          </a:xfrm>
          <a:prstGeom prst="rect">
            <a:avLst/>
          </a:prstGeom>
          <a:ln w="0">
            <a:noFill/>
          </a:ln>
        </p:spPr>
      </p:pic>
      <p:sp>
        <p:nvSpPr>
          <p:cNvPr id="555" name="TextBox 8"/>
          <p:cNvSpPr/>
          <p:nvPr/>
        </p:nvSpPr>
        <p:spPr>
          <a:xfrm>
            <a:off x="2117880" y="317520"/>
            <a:ext cx="3673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14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14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" y="74520"/>
            <a:ext cx="2112840" cy="57636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8" descr="07.png"/>
          <p:cNvPicPr/>
          <p:nvPr/>
        </p:nvPicPr>
        <p:blipFill>
          <a:blip r:embed="rId5"/>
          <a:stretch/>
        </p:blipFill>
        <p:spPr>
          <a:xfrm>
            <a:off x="1846440" y="0"/>
            <a:ext cx="696600" cy="565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美女跳舞2"/>
          <p:cNvPicPr/>
          <p:nvPr/>
        </p:nvPicPr>
        <p:blipFill>
          <a:blip r:embed="rId6"/>
          <a:stretch/>
        </p:blipFill>
        <p:spPr>
          <a:xfrm>
            <a:off x="127080" y="774720"/>
            <a:ext cx="1628640" cy="30304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0" descr="绿风车棍子"/>
          <p:cNvPicPr/>
          <p:nvPr/>
        </p:nvPicPr>
        <p:blipFill>
          <a:blip r:embed="rId7"/>
          <a:stretch/>
        </p:blipFill>
        <p:spPr>
          <a:xfrm>
            <a:off x="5996160" y="2436840"/>
            <a:ext cx="50760" cy="9572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9" descr="绿风车"/>
          <p:cNvPicPr/>
          <p:nvPr/>
        </p:nvPicPr>
        <p:blipFill>
          <a:blip r:embed="rId8"/>
          <a:stretch/>
        </p:blipFill>
        <p:spPr>
          <a:xfrm>
            <a:off x="5562720" y="2151000"/>
            <a:ext cx="863640" cy="70344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1862280" y="1430280"/>
            <a:ext cx="3776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pptbz.com/pptshuc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背景图片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pptbz.com/pptpic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课件下载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pptbz.com/kej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55" descr=""/>
          <p:cNvPicPr/>
          <p:nvPr/>
        </p:nvPicPr>
        <p:blipFill>
          <a:blip r:embed="rId21"/>
          <a:stretch/>
        </p:blipFill>
        <p:spPr>
          <a:xfrm rot="2305200">
            <a:off x="1625400" y="1368360"/>
            <a:ext cx="323640" cy="265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6" descr=""/>
          <p:cNvPicPr/>
          <p:nvPr/>
        </p:nvPicPr>
        <p:blipFill>
          <a:blip r:embed="rId22"/>
          <a:stretch/>
        </p:blipFill>
        <p:spPr>
          <a:xfrm rot="2305200">
            <a:off x="1625760" y="1704960"/>
            <a:ext cx="323640" cy="2635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57" descr=""/>
          <p:cNvPicPr/>
          <p:nvPr/>
        </p:nvPicPr>
        <p:blipFill>
          <a:blip r:embed="rId23"/>
          <a:stretch/>
        </p:blipFill>
        <p:spPr>
          <a:xfrm rot="2305200">
            <a:off x="1625400" y="2036880"/>
            <a:ext cx="323640" cy="264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8" descr=""/>
          <p:cNvPicPr/>
          <p:nvPr/>
        </p:nvPicPr>
        <p:blipFill>
          <a:blip r:embed="rId24"/>
          <a:stretch/>
        </p:blipFill>
        <p:spPr>
          <a:xfrm rot="2305200">
            <a:off x="1625400" y="2370240"/>
            <a:ext cx="323640" cy="26496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2"/>
          <p:cNvSpPr/>
          <p:nvPr/>
        </p:nvSpPr>
        <p:spPr>
          <a:xfrm>
            <a:off x="1794960" y="3560760"/>
            <a:ext cx="4005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17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ppt</a:t>
            </a:r>
            <a:r>
              <a:rPr b="0" lang="zh-CN" sz="17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宝藏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_www.pptbz.co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9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5:44:44Z</dcterms:created>
  <dc:creator>ppt宝藏</dc:creator>
  <dc:description/>
  <dc:language>en-US</dc:language>
  <cp:lastModifiedBy>Windows 用户</cp:lastModifiedBy>
  <dcterms:modified xsi:type="dcterms:W3CDTF">2014-12-29T07:08:29Z</dcterms:modified>
  <cp:revision>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1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背景 节日 节庆 喜庆 庆祝 祝贺 祝福 祝愿 中秋 八月十五 月饼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中秋节庆模板</vt:lpwstr>
  </property>
  <property fmtid="{D5CDD505-2E9C-101B-9397-08002B2CF9AE}" pid="11" name="模板ID">
    <vt:lpwstr>A30220121126B34</vt:lpwstr>
  </property>
  <property fmtid="{D5CDD505-2E9C-101B-9397-08002B2CF9AE}" pid="12" name="模板缩略图">
    <vt:lpwstr>A30220121126B34.png</vt:lpwstr>
  </property>
  <property fmtid="{D5CDD505-2E9C-101B-9397-08002B2CF9AE}" pid="13" name="相关案例">
    <vt:lpwstr>854</vt:lpwstr>
  </property>
  <property fmtid="{D5CDD505-2E9C-101B-9397-08002B2CF9AE}" pid="14" name="缩略图标题">
    <vt:lpwstr>中秋节庆模板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21126B3401</vt:lpwstr>
  </property>
  <property fmtid="{D5CDD505-2E9C-101B-9397-08002B2CF9AE}" pid="17" name="附件缩略图">
    <vt:lpwstr>A30220121126B3401.png</vt:lpwstr>
  </property>
  <property fmtid="{D5CDD505-2E9C-101B-9397-08002B2CF9AE}" pid="18" name="附件路径">
    <vt:lpwstr>A30220121126B3401.dotx</vt:lpwstr>
  </property>
</Properties>
</file>