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%E4%BA%A1%E7%81%B5%E5%BA%8F%E6%9B%B2.wav" ContentType="audio/x-wav"/>
  <Override PartName="/ppt/media/image6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</p:sldIdLst>
  <p:sldSz cx="5759450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36720" y="685440"/>
            <a:ext cx="4984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D57148A5-DE13-4A37-8D8A-60D7C3F65A9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36720" y="685800"/>
            <a:ext cx="498456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处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资源宝库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DEE2916E-ACEA-49A7-8125-C35A136D8D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E93-74B3-4895-8C38-C04C3F24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DB3-07F5-484D-A51A-0D1DEBEA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12515-ABEA-4DC1-9D16-88825F2E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7A3FD-0869-444E-A376-0E151CFF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51C98-0E1B-4F72-98CF-76E4C683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31E85-C141-4E82-A561-FA810170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1E03E-9D3B-42E0-B436-65D40391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93707-B51B-4761-B4A4-E2982FE9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E8427-EE75-43B0-A0DB-66BCAD2B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5E654-4467-41C4-A0D4-4F065B9B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8BFC7-19C0-4A35-94CE-20B037F0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9DF7C-A2AC-4321-A9F0-2AC2E6D0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D91-C4AD-4A74-B9AE-8BFF7BF6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FD1A3-F7FB-4B57-A515-EA943CC3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12530-6AEC-40F8-B528-AFADC90B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64934-88B5-4395-8142-90E8D281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8B945-27CA-40A8-ACAA-48149C39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BB253-C474-46F3-AB34-18AF297D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5B674-9CC9-4BA8-AC51-4E7E189B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96758-304B-4B19-9668-6362C9E5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C755E-CEB6-4C56-B62B-0E07B1C6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8F74F-59F2-4306-BE82-72AB5278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14052-BAF8-426E-BCCD-BF10196E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738-31AD-435F-8BF9-76254E50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29104-A590-4F9D-964E-676351B1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321ED-02B8-422F-A242-818B7077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47065-5F73-433A-965C-DB26A195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B14FF-A1AC-48EC-869D-B0731CDB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382EB-F009-47A1-9DC3-6EE6884B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ACBB6-8770-4939-BF6D-9B725793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69070-CC8B-4747-A7BD-16B45FF4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D482F-81DA-406F-9460-02F71CFE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55612-8D1D-4C0F-9F40-1D24DA74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8DB0C-9150-432C-83F1-DF0059CF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4231-61D3-45AF-B2B8-5F3F46BD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04893-7CB3-490F-8B90-BAF22B71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D4F30-BF6E-47C8-9B37-1CD8F5A1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398AB-CA60-4AE7-9A3D-A9597663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16415-AAF6-4BC7-9C59-E810A692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89755-BC4F-4C33-89C1-FE1B1CCC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14608-7B6D-4979-893A-B4E47FED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15CDE-1A80-452A-8051-858AA026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79518-BDE9-4531-87FE-C3A88337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B6EDB-4292-4C94-8DF9-48ADA9E9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1F617-4D5A-47EF-9A33-E0A284AD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136D-54CB-4194-833D-B61A97C0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9F41B-1919-4DD7-B83B-F9D3A21B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35499-7BCA-4CFD-AC25-ADF9ECD9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079B9-294E-4131-9DA4-9E113E0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52F31-6708-4E04-AE23-477AA58A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02671-BAB2-4C37-AC5E-97BAED68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D502A-9C8F-4BE6-B9FB-158D9AE1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D7EBF-5AB7-4D68-8C75-457E169C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96F1E-5EF5-46A0-B163-B740FA3F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9C159-B6A4-41F3-BEA4-49440004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9C519-07F0-43A8-9DE5-3AD177A5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AE5E-42E0-45B8-8A34-03F12CF5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60F9F-F9F6-4DE6-88B2-CBF2B39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D5291-385A-4200-A50F-62BB51F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327B4-C272-4ED3-8B2B-3539FD1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77F98-8F04-46B7-B6FA-80BCA80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1C8D7-5234-4CE7-8835-54B863FB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035A1-32DC-4C9B-B3D7-C1A3F69B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004C6-E319-4981-A64A-33952CAF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A782-5F33-4843-BF84-B03633E1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ECEB-4CE9-4887-8F1D-ADB00760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DF6B-197E-4E08-BF12-B04982C6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22CF-3212-420C-A52B-FCAEBF8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1F5-31D1-4805-9B9E-37760C8B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9BC1-B1DF-42CE-A0BC-A773C7A0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8D3A-CB2C-449C-B8FA-DDFAE6AF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A444-FDB5-4502-8692-DC9C5532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19CE-43CE-4918-9C6B-0C35F8DB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4D15-76F8-43F9-A763-43B7A907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CC58-6D2F-4866-8C7A-042D3E2F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1387-07A2-4806-A1A0-858E1EF3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665C-3803-4FDC-8AA0-05A2673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C181-3BFD-42D5-B5DD-FC4F2384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B039-9A25-4725-8F9B-F04405E6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851-C394-400D-B174-61B26967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3996-4C76-4DAB-B930-51FB41B4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37714-EAC7-498E-9900-7E02FFDB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65EE7-63E3-4D9D-B93A-2CFFB708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669BF-B0BA-42DF-A504-CFF9242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E55F-02DF-4853-9419-AC69A5A7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9713-C02D-4A9C-BF1C-6BE98B02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098F-37CE-4784-8F94-2523CE8E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38D01-751C-4EEA-8D11-6BA9FEB1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49AD-45E2-44FD-B3D6-C963BDF6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DAB9-8399-4FDD-B0CE-6C4D05D2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AB9-D852-4A88-B067-95D6D6F7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E20BA-3B4E-4726-AADF-7CF1514F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8A1D0-9D6A-490D-AB3E-531958A9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E5C95-96BC-4733-A551-9217739F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ABF3B-8154-4596-A590-D82C4E17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6CE4-C6F5-46FD-9D1F-41312904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031BC-4583-466F-9D62-030EB995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8C30D-41A8-41BD-A8A6-9969A812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414B2-18E7-415D-A463-8A0418F9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374D3-2A51-4D2D-9DA4-194CA26A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D0CFB-4C06-47A5-AE71-32D102C2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ADF-64FB-4D71-9AD6-D70C0FC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5C4EB-9B7B-46C0-80FE-D169B662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5F1F-79FA-48A9-9F74-12846EFC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B45F9-F9B6-4B06-B5F3-5F705C6A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E7DE6-FE89-4416-8030-5E57C3B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87882-C3E0-4E20-99E4-2141A271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4D9E4-E78A-47F3-A9FC-091FFF41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CBC8E-B0AF-4838-B9DF-815D05CA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F45B1-740A-4F45-B05D-8BF270E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A1E86-C540-421F-9AB1-03E9E506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4CDA-7A1F-43C1-BDC2-681A0D4F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A54-2EEC-451A-8D7E-EAD4F3F3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E6C50-D379-4878-BEF9-04DEBADA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6D1D-77AD-4B1C-B0A2-25FFFEEB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13F0F-84F8-4D6A-BF10-47F107B1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6E117-98B6-4965-872E-ED66E27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C8415-8302-4C6A-B31E-A98A4483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B61E7-6CEB-48C3-9554-42F2F129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E98DC-95EB-4D93-85DA-6CC7F953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5AA1-AD4E-42D5-A630-E6CF31A8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21258-AB13-459A-8EC4-24D1D880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8C928-3FC8-4D4E-AE91-3D21D41B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48F-9842-4AE1-A3B6-D24A4F67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8370C-48BB-4F68-9228-ECB3614B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7E8C1-83C4-4DED-9E12-429B833F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A37F4-39B1-48B4-9348-1DEB9912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B9BA2-EE2F-4CD7-9F0A-C9675CD1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76745-347A-41DE-ABB3-B15EFCBA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BC996-E223-4D72-BDAB-7EBECB42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FC517-523C-41B3-9360-F8E8E772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7B5FF-51B5-4ADE-8C03-676A3959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D243B-3FD4-44DD-BBBA-4DDA3742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A6940-51E4-4AD2-B879-2A33B513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4BE-68EB-4FBB-9CDA-1CF1ED3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07835-20CC-4455-8E04-2D986B6C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18D46-F2FA-4F60-BCDE-5EFE624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0422B-A5FE-456D-A4C3-0D20ED74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208C5-23EE-435E-A009-0C1D9294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289F9-C41F-4A0E-9406-C76DE400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5AE74-464C-47C3-A185-589276FA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3487A-954E-42E4-80FF-E9B04027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C5E6B-8605-4941-B340-2E318D63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A381F-7CA2-4A44-B723-38D226A1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27097-928F-4C4A-98D7-84710352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81F-F619-4F84-A3BD-B9386D5C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44E17-7EE4-4DC0-952B-BDA1B69E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8E027-0DE4-46F3-9B09-1F5048C5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59AB2-941F-4D83-B625-E8D3C3AE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81F44-3623-46DD-A1F6-5E58731A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E05E0-F189-4319-993C-E0141D26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75908-331B-426B-B749-AAC968DB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E3C38-8D1C-4B99-BE49-0AF51F89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CFD56-3D38-4A46-9F59-C8547F19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2C8E5-DA09-42CE-B80E-75F12BF7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D63AF-C470-4A9E-9061-D6AA7E85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838A098A-59CA-4D68-99D4-A9EF772FB696}" type="slidenum">
              <a:rPr b="0" lang="zh-CN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8D09326F-15FD-417A-871A-27FA1439E9FD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1A35FAF5-EFB9-417D-B99A-5E157D62FB20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601E0AC1-5092-4B2A-9047-B20FD02E30C4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D31B2497-99B4-4A84-87C5-F0B2144FC408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DBBA8E64-DF80-4C15-9587-5B1257A4CE48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3457E7BB-7805-4D7C-A958-8B3DC0769EA6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4DCE81F7-CBD9-4836-8904-0E5946412756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BA2E9EE4-57E5-40FD-AF7A-AF4F138DC5A8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FC8B46BC-FF8D-475D-9E6B-8363762699A3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63AA75E8-B1C7-40B7-BF43-2CEAC4523195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3967AE2D-9ECE-4B1B-8F47-CEDAA6D22137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EFF81C15-37D0-4A0C-8381-473F522461A1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74A59D40-EA93-43ED-932C-8EBFFD3AE398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05DD4946-EFD5-4B05-96CD-12D44308BF2B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ED257EE8-0A19-4DD2-A50E-CCDBAB052919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40DD3EFF-AA2A-444B-AFEC-2A8D4B6F899F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FA057EB4-1409-422B-9FCD-09BBA7EEE62C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89E6F47A-F916-49F7-B2B2-3E179C88A321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C9AB263C-603A-4E74-B6A2-A0C5FDD34B1A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A5A1DE6F-AED4-4021-916C-A28D75FCAEF6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41FD44CA-7F4C-4020-8E38-097D16B999F3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2C0DC5A7-F44F-412F-8A04-C430FE462031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4920" indent="-214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620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14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4040" indent="-143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90600" indent="-142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28692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B10B1E5B-A97E-47B0-901D-38597B2F7919}" type="datetime">
              <a:rPr b="0" lang="zh-CN" sz="8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968120" y="3672000"/>
            <a:ext cx="182412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12884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2008CA81-E921-47A0-A1CD-D86E2EDCC3FA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hyperlink" Target="http://www.pptbz.com/" TargetMode="External"/><Relationship Id="rId10" Type="http://schemas.openxmlformats.org/officeDocument/2006/relationships/hyperlink" Target="http://www.pptbz.com/" TargetMode="External"/><Relationship Id="rId11" Type="http://schemas.openxmlformats.org/officeDocument/2006/relationships/hyperlink" Target="http://www.pptbz.com/" TargetMode="External"/><Relationship Id="rId12" Type="http://schemas.openxmlformats.org/officeDocument/2006/relationships/hyperlink" Target="http://www.pptbz.com/pptshucai/" TargetMode="External"/><Relationship Id="rId13" Type="http://schemas.openxmlformats.org/officeDocument/2006/relationships/hyperlink" Target="http://www.pptbz.com/pptshucai/" TargetMode="External"/><Relationship Id="rId14" Type="http://schemas.openxmlformats.org/officeDocument/2006/relationships/hyperlink" Target="http://www.pptbz.com/pptshucai/" TargetMode="External"/><Relationship Id="rId15" Type="http://schemas.openxmlformats.org/officeDocument/2006/relationships/hyperlink" Target="http://www.pptbz.com/pptpic/" TargetMode="External"/><Relationship Id="rId16" Type="http://schemas.openxmlformats.org/officeDocument/2006/relationships/hyperlink" Target="http://www.pptbz.com/pptpic/" TargetMode="External"/><Relationship Id="rId17" Type="http://schemas.openxmlformats.org/officeDocument/2006/relationships/hyperlink" Target="http://www.pptbz.com/pptpic/" TargetMode="External"/><Relationship Id="rId18" Type="http://schemas.openxmlformats.org/officeDocument/2006/relationships/hyperlink" Target="http://www.pptbz.com/kejian/" TargetMode="External"/><Relationship Id="rId19" Type="http://schemas.openxmlformats.org/officeDocument/2006/relationships/hyperlink" Target="http://www.pptbz.com/kejian/" TargetMode="External"/><Relationship Id="rId20" Type="http://schemas.openxmlformats.org/officeDocument/2006/relationships/hyperlink" Target="http://www.pptbz.com/kejian/" TargetMode="External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hyperlink" Target="http://www.pptbz.com/" TargetMode="External"/><Relationship Id="rId26" Type="http://schemas.openxmlformats.org/officeDocument/2006/relationships/hyperlink" Target="http://www.pptbz.com/" TargetMode="External"/><Relationship Id="rId27" Type="http://schemas.openxmlformats.org/officeDocument/2006/relationships/hyperlink" Target="http://www.pptbz.com/" TargetMode="External"/><Relationship Id="rId28" Type="http://schemas.openxmlformats.org/officeDocument/2006/relationships/audio" Target="../media/&#20129;&#28789;&#24207;&#26354;.wav"/><Relationship Id="rId2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D:\wang\昵图下截\1282790395433_zcool.com.cn\82122768.jpg"/>
          <p:cNvPicPr/>
          <p:nvPr/>
        </p:nvPicPr>
        <p:blipFill>
          <a:blip r:embed="rId1"/>
          <a:srcRect l="3601" t="0" r="0" b="0"/>
          <a:stretch/>
        </p:blipFill>
        <p:spPr>
          <a:xfrm>
            <a:off x="0" y="-27000"/>
            <a:ext cx="5778360" cy="398772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3" descr=""/>
          <p:cNvPicPr/>
          <p:nvPr/>
        </p:nvPicPr>
        <p:blipFill>
          <a:blip r:embed="rId2"/>
          <a:stretch/>
        </p:blipFill>
        <p:spPr>
          <a:xfrm>
            <a:off x="3106800" y="1405080"/>
            <a:ext cx="1463760" cy="245268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4" descr=""/>
          <p:cNvPicPr/>
          <p:nvPr/>
        </p:nvPicPr>
        <p:blipFill>
          <a:blip r:embed="rId3"/>
          <a:stretch/>
        </p:blipFill>
        <p:spPr>
          <a:xfrm rot="1107000">
            <a:off x="1224000" y="181080"/>
            <a:ext cx="506520" cy="35856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5" descr=""/>
          <p:cNvPicPr/>
          <p:nvPr/>
        </p:nvPicPr>
        <p:blipFill>
          <a:blip r:embed="rId4"/>
          <a:stretch/>
        </p:blipFill>
        <p:spPr>
          <a:xfrm>
            <a:off x="4176720" y="2844720"/>
            <a:ext cx="754200" cy="86364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6" descr=""/>
          <p:cNvPicPr/>
          <p:nvPr/>
        </p:nvPicPr>
        <p:blipFill>
          <a:blip r:embed="rId5"/>
          <a:stretch/>
        </p:blipFill>
        <p:spPr>
          <a:xfrm>
            <a:off x="0" y="2406600"/>
            <a:ext cx="1698480" cy="15573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8" descr=""/>
          <p:cNvPicPr/>
          <p:nvPr/>
        </p:nvPicPr>
        <p:blipFill>
          <a:blip r:embed="rId6"/>
          <a:stretch/>
        </p:blipFill>
        <p:spPr>
          <a:xfrm rot="2697000">
            <a:off x="1824120" y="186840"/>
            <a:ext cx="336600" cy="2397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9" descr=""/>
          <p:cNvPicPr/>
          <p:nvPr/>
        </p:nvPicPr>
        <p:blipFill>
          <a:blip r:embed="rId7"/>
          <a:stretch/>
        </p:blipFill>
        <p:spPr>
          <a:xfrm rot="399600">
            <a:off x="2344680" y="195120"/>
            <a:ext cx="222480" cy="15876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7" descr=""/>
          <p:cNvPicPr/>
          <p:nvPr/>
        </p:nvPicPr>
        <p:blipFill>
          <a:blip r:embed="rId8"/>
          <a:stretch/>
        </p:blipFill>
        <p:spPr>
          <a:xfrm>
            <a:off x="463680" y="865080"/>
            <a:ext cx="2779560" cy="1871640"/>
          </a:xfrm>
          <a:prstGeom prst="rect">
            <a:avLst/>
          </a:prstGeom>
          <a:ln w="0">
            <a:noFill/>
          </a:ln>
        </p:spPr>
      </p:pic>
      <p:sp>
        <p:nvSpPr>
          <p:cNvPr id="548" name="直接连接符 11"/>
          <p:cNvSpPr/>
          <p:nvPr/>
        </p:nvSpPr>
        <p:spPr>
          <a:xfrm>
            <a:off x="2808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组合 12"/>
          <p:cNvGrpSpPr/>
          <p:nvPr/>
        </p:nvGrpSpPr>
        <p:grpSpPr>
          <a:xfrm>
            <a:off x="1512720" y="1044720"/>
            <a:ext cx="943200" cy="1511280"/>
            <a:chOff x="1512720" y="1044720"/>
            <a:chExt cx="943200" cy="1511280"/>
          </a:xfrm>
        </p:grpSpPr>
        <p:sp>
          <p:nvSpPr>
            <p:cNvPr id="550" name="直接连接符 13"/>
            <p:cNvSpPr/>
            <p:nvPr/>
          </p:nvSpPr>
          <p:spPr>
            <a:xfrm>
              <a:off x="24559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直接连接符 14"/>
            <p:cNvSpPr/>
            <p:nvPr/>
          </p:nvSpPr>
          <p:spPr>
            <a:xfrm>
              <a:off x="213840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接连接符 15"/>
            <p:cNvSpPr/>
            <p:nvPr/>
          </p:nvSpPr>
          <p:spPr>
            <a:xfrm>
              <a:off x="181440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接连接符 16"/>
            <p:cNvSpPr/>
            <p:nvPr/>
          </p:nvSpPr>
          <p:spPr>
            <a:xfrm>
              <a:off x="15127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直接连接符 17"/>
          <p:cNvSpPr/>
          <p:nvPr/>
        </p:nvSpPr>
        <p:spPr>
          <a:xfrm>
            <a:off x="1152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灯片编号占位符 5"/>
          <p:cNvSpPr/>
          <p:nvPr/>
        </p:nvSpPr>
        <p:spPr>
          <a:xfrm>
            <a:off x="4129200" y="3672000"/>
            <a:ext cx="13446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ctr">
            <a:noAutofit/>
          </a:bodyPr>
          <a:p>
            <a:pPr algn="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6FC8E5E5-55FD-4889-B4D4-B6AC55772B48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图片 1" descr=""/>
          <p:cNvPicPr/>
          <p:nvPr/>
        </p:nvPicPr>
        <p:blipFill>
          <a:blip r:embed="rId1"/>
          <a:stretch/>
        </p:blipFill>
        <p:spPr>
          <a:xfrm>
            <a:off x="0" y="784080"/>
            <a:ext cx="5761080" cy="2676600"/>
          </a:xfrm>
          <a:prstGeom prst="rect">
            <a:avLst/>
          </a:prstGeom>
          <a:ln w="0">
            <a:noFill/>
          </a:ln>
        </p:spPr>
      </p:pic>
      <p:sp>
        <p:nvSpPr>
          <p:cNvPr id="557" name="Line 7"/>
          <p:cNvSpPr/>
          <p:nvPr/>
        </p:nvSpPr>
        <p:spPr>
          <a:xfrm>
            <a:off x="0" y="3432240"/>
            <a:ext cx="576108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760" rIns="59760" tIns="-29880" bIns="-2988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Line 33"/>
          <p:cNvSpPr/>
          <p:nvPr/>
        </p:nvSpPr>
        <p:spPr>
          <a:xfrm>
            <a:off x="-12600" y="727200"/>
            <a:ext cx="57578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760" rIns="59760" tIns="-29880" bIns="-2988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36"/>
          <p:cNvSpPr/>
          <p:nvPr/>
        </p:nvSpPr>
        <p:spPr>
          <a:xfrm>
            <a:off x="0" y="3440160"/>
            <a:ext cx="576108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760" rIns="59760" tIns="-29880" bIns="-2988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43"/>
          <p:cNvSpPr/>
          <p:nvPr/>
        </p:nvSpPr>
        <p:spPr>
          <a:xfrm>
            <a:off x="0" y="0"/>
            <a:ext cx="576108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760" rIns="59760" tIns="29880" bIns="29880" anchor="ctr">
            <a:noAutofit/>
          </a:bodyPr>
          <a:p>
            <a:pPr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35" descr="热气球"/>
          <p:cNvPicPr/>
          <p:nvPr/>
        </p:nvPicPr>
        <p:blipFill>
          <a:blip r:embed="rId2"/>
          <a:stretch/>
        </p:blipFill>
        <p:spPr>
          <a:xfrm>
            <a:off x="4513320" y="209520"/>
            <a:ext cx="900000" cy="11476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8"/>
          <p:cNvSpPr/>
          <p:nvPr/>
        </p:nvSpPr>
        <p:spPr>
          <a:xfrm>
            <a:off x="1882800" y="317520"/>
            <a:ext cx="3265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i="1" lang="en-US" sz="13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1300" spc="-1" strike="noStrike">
                <a:solidFill>
                  <a:srgbClr val="ff0000"/>
                </a:solidFill>
                <a:latin typeface="黑体"/>
                <a:ea typeface="黑体"/>
              </a:rPr>
              <a:t>宝藏致力于优秀的</a:t>
            </a:r>
            <a:r>
              <a:rPr b="1" i="1" lang="en-US" sz="13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1300" spc="-1" strike="noStrike">
                <a:solidFill>
                  <a:srgbClr val="ff0000"/>
                </a:solidFill>
                <a:latin typeface="黑体"/>
                <a:ea typeface="黑体"/>
              </a:rPr>
              <a:t>分享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图片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320" y="74520"/>
            <a:ext cx="1879560" cy="5763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8" descr="07.png"/>
          <p:cNvPicPr/>
          <p:nvPr/>
        </p:nvPicPr>
        <p:blipFill>
          <a:blip r:embed="rId5"/>
          <a:stretch/>
        </p:blipFill>
        <p:spPr>
          <a:xfrm>
            <a:off x="1641600" y="0"/>
            <a:ext cx="620640" cy="5652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美女跳舞2"/>
          <p:cNvPicPr/>
          <p:nvPr/>
        </p:nvPicPr>
        <p:blipFill>
          <a:blip r:embed="rId6"/>
          <a:stretch/>
        </p:blipFill>
        <p:spPr>
          <a:xfrm>
            <a:off x="112680" y="774720"/>
            <a:ext cx="1447920" cy="3030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0" descr="绿风车棍子"/>
          <p:cNvPicPr/>
          <p:nvPr/>
        </p:nvPicPr>
        <p:blipFill>
          <a:blip r:embed="rId7"/>
          <a:stretch/>
        </p:blipFill>
        <p:spPr>
          <a:xfrm>
            <a:off x="5330880" y="2436840"/>
            <a:ext cx="44280" cy="957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9" descr="绿风车"/>
          <p:cNvPicPr/>
          <p:nvPr/>
        </p:nvPicPr>
        <p:blipFill>
          <a:blip r:embed="rId8"/>
          <a:stretch/>
        </p:blipFill>
        <p:spPr>
          <a:xfrm>
            <a:off x="4946760" y="2151000"/>
            <a:ext cx="766800" cy="703440"/>
          </a:xfrm>
          <a:prstGeom prst="rect">
            <a:avLst/>
          </a:prstGeom>
          <a:ln w="0">
            <a:noFill/>
          </a:ln>
        </p:spPr>
      </p:pic>
      <p:sp>
        <p:nvSpPr>
          <p:cNvPr id="568" name="TextBox 4"/>
          <p:cNvSpPr/>
          <p:nvPr/>
        </p:nvSpPr>
        <p:spPr>
          <a:xfrm>
            <a:off x="1655640" y="1430280"/>
            <a:ext cx="335772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模板下载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pptbz.com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PT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素材下载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pptbz.com/pptsh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背景图片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www.pptbz.com/pptpic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课件下载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www.pptbz.com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图片 55" descr=""/>
          <p:cNvPicPr/>
          <p:nvPr/>
        </p:nvPicPr>
        <p:blipFill>
          <a:blip r:embed="rId21"/>
          <a:stretch/>
        </p:blipFill>
        <p:spPr>
          <a:xfrm rot="2305200">
            <a:off x="1444680" y="1368000"/>
            <a:ext cx="288720" cy="26532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56" descr=""/>
          <p:cNvPicPr/>
          <p:nvPr/>
        </p:nvPicPr>
        <p:blipFill>
          <a:blip r:embed="rId22"/>
          <a:stretch/>
        </p:blipFill>
        <p:spPr>
          <a:xfrm rot="2305200">
            <a:off x="1444320" y="1704600"/>
            <a:ext cx="288720" cy="26352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57" descr=""/>
          <p:cNvPicPr/>
          <p:nvPr/>
        </p:nvPicPr>
        <p:blipFill>
          <a:blip r:embed="rId23"/>
          <a:stretch/>
        </p:blipFill>
        <p:spPr>
          <a:xfrm rot="2305200">
            <a:off x="1444680" y="2036520"/>
            <a:ext cx="288720" cy="26496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58" descr=""/>
          <p:cNvPicPr/>
          <p:nvPr/>
        </p:nvPicPr>
        <p:blipFill>
          <a:blip r:embed="rId24"/>
          <a:stretch/>
        </p:blipFill>
        <p:spPr>
          <a:xfrm rot="2305200">
            <a:off x="1444680" y="2369880"/>
            <a:ext cx="288720" cy="264960"/>
          </a:xfrm>
          <a:prstGeom prst="rect">
            <a:avLst/>
          </a:prstGeom>
          <a:ln w="0">
            <a:noFill/>
          </a:ln>
        </p:spPr>
      </p:pic>
      <p:sp>
        <p:nvSpPr>
          <p:cNvPr id="573" name="TextBox 22"/>
          <p:cNvSpPr/>
          <p:nvPr/>
        </p:nvSpPr>
        <p:spPr>
          <a:xfrm>
            <a:off x="1627200" y="3560760"/>
            <a:ext cx="375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760" rIns="59760" tIns="29880" bIns="29880" anchor="t">
            <a:spAutoFit/>
          </a:bodyPr>
          <a:p>
            <a:pPr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Calibri"/>
              </a:rPr>
              <a:t>更多精美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ff0000"/>
                </a:solidFill>
                <a:latin typeface="Calibri"/>
              </a:rPr>
              <a:t>下载请点击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宝藏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_www.pptbz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2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 repeatCount="indefinite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9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3:37:39Z</dcterms:created>
  <dc:creator>ppt宝藏</dc:creator>
  <dc:description/>
  <dc:language>en-US</dc:language>
  <cp:lastModifiedBy>Windows 用户</cp:lastModifiedBy>
  <dcterms:modified xsi:type="dcterms:W3CDTF">2014-12-29T07:08:13Z</dcterms:modified>
  <cp:revision>6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P等级">
    <vt:lpwstr>3</vt:lpwstr>
  </property>
  <property fmtid="{D5CDD505-2E9C-101B-9397-08002B2CF9AE}" pid="3" name="价格">
    <vt:lpwstr>10</vt:lpwstr>
  </property>
  <property fmtid="{D5CDD505-2E9C-101B-9397-08002B2CF9AE}" pid="4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5" name="使用软件">
    <vt:lpwstr>ppt</vt:lpwstr>
  </property>
  <property fmtid="{D5CDD505-2E9C-101B-9397-08002B2CF9AE}" pid="6" name="关键字">
    <vt:lpwstr>PPT背景模板 PPT 格式 背景 节日 节庆 喜庆 庆祝 祝贺 祝福 祝愿 中秋 八月十五 月饼 V3</vt:lpwstr>
  </property>
  <property fmtid="{D5CDD505-2E9C-101B-9397-08002B2CF9AE}" pid="7" name="操作代码">
    <vt:lpwstr>2</vt:lpwstr>
  </property>
  <property fmtid="{D5CDD505-2E9C-101B-9397-08002B2CF9AE}" pid="8" name="是否可购买">
    <vt:lpwstr>2</vt:lpwstr>
  </property>
  <property fmtid="{D5CDD505-2E9C-101B-9397-08002B2CF9AE}" pid="9" name="显示VIP等级">
    <vt:lpwstr>3</vt:lpwstr>
  </property>
  <property fmtid="{D5CDD505-2E9C-101B-9397-08002B2CF9AE}" pid="10" name="标题">
    <vt:lpwstr>中秋节庆模板</vt:lpwstr>
  </property>
  <property fmtid="{D5CDD505-2E9C-101B-9397-08002B2CF9AE}" pid="11" name="模板ID">
    <vt:lpwstr>A30220121126B35</vt:lpwstr>
  </property>
  <property fmtid="{D5CDD505-2E9C-101B-9397-08002B2CF9AE}" pid="12" name="模板缩略图">
    <vt:lpwstr>A30220121126B35.png</vt:lpwstr>
  </property>
  <property fmtid="{D5CDD505-2E9C-101B-9397-08002B2CF9AE}" pid="13" name="相关案例">
    <vt:lpwstr>854</vt:lpwstr>
  </property>
  <property fmtid="{D5CDD505-2E9C-101B-9397-08002B2CF9AE}" pid="14" name="缩略图标题">
    <vt:lpwstr>中秋节庆模板</vt:lpwstr>
  </property>
  <property fmtid="{D5CDD505-2E9C-101B-9397-08002B2CF9AE}" pid="15" name="适用软件">
    <vt:lpwstr>PowerPoint 2007及以上版本</vt:lpwstr>
  </property>
  <property fmtid="{D5CDD505-2E9C-101B-9397-08002B2CF9AE}" pid="16" name="附件ID">
    <vt:lpwstr>A30220121126B3501</vt:lpwstr>
  </property>
  <property fmtid="{D5CDD505-2E9C-101B-9397-08002B2CF9AE}" pid="17" name="附件缩略图">
    <vt:lpwstr>A30220121126B3501.png</vt:lpwstr>
  </property>
  <property fmtid="{D5CDD505-2E9C-101B-9397-08002B2CF9AE}" pid="18" name="附件路径">
    <vt:lpwstr>A30220121126B3501.dotx</vt:lpwstr>
  </property>
</Properties>
</file>