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769C-A06B-4CB0-9AB0-6FE7142505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49BA-BC55-4128-81B0-DC3A13C22B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C07-485A-4C28-B734-6383D2EE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C26-6B45-412B-81E4-CD8E38FD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5AC-6AA8-4E5C-8F6C-0D783972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926-1411-4BBF-ABB8-321BD623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F6B-5234-493D-B391-E59B1744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464-07B6-432D-936F-78BB2A7D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32A-408E-448C-92B8-99B2747D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821-99F5-4631-A078-44B20D08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215-E75A-4393-848B-13980FC3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B29-1029-4E5B-A0EA-11B0D58D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A4F-A914-4DA9-AB50-90314043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026-05E8-446E-AD5C-5F7B5795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8B49-0F57-4F1C-8F33-4888DF090EDA}" type="slidenum"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3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1.png"/><Relationship Id="rId26" Type="http://schemas.openxmlformats.org/officeDocument/2006/relationships/image" Target="../media/image20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4.png"/><Relationship Id="rId32" Type="http://schemas.openxmlformats.org/officeDocument/2006/relationships/image" Target="../media/image24.png"/><Relationship Id="rId33" Type="http://schemas.openxmlformats.org/officeDocument/2006/relationships/image" Target="../media/image25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21.png"/><Relationship Id="rId37" Type="http://schemas.openxmlformats.org/officeDocument/2006/relationships/image" Target="../media/image20.png"/><Relationship Id="rId38" Type="http://schemas.openxmlformats.org/officeDocument/2006/relationships/image" Target="../media/image26.png"/><Relationship Id="rId39" Type="http://schemas.openxmlformats.org/officeDocument/2006/relationships/image" Target="../media/image24.png"/><Relationship Id="rId40" Type="http://schemas.openxmlformats.org/officeDocument/2006/relationships/image" Target="../media/image20.png"/><Relationship Id="rId41" Type="http://schemas.openxmlformats.org/officeDocument/2006/relationships/image" Target="../media/image20.png"/><Relationship Id="rId42" Type="http://schemas.openxmlformats.org/officeDocument/2006/relationships/image" Target="../media/image20.png"/><Relationship Id="rId43" Type="http://schemas.openxmlformats.org/officeDocument/2006/relationships/image" Target="../media/image24.png"/><Relationship Id="rId44" Type="http://schemas.openxmlformats.org/officeDocument/2006/relationships/image" Target="../media/image20.png"/><Relationship Id="rId45" Type="http://schemas.openxmlformats.org/officeDocument/2006/relationships/image" Target="../media/image20.png"/><Relationship Id="rId46" Type="http://schemas.openxmlformats.org/officeDocument/2006/relationships/image" Target="../media/image20.png"/><Relationship Id="rId47" Type="http://schemas.openxmlformats.org/officeDocument/2006/relationships/image" Target="../media/image21.png"/><Relationship Id="rId48" Type="http://schemas.openxmlformats.org/officeDocument/2006/relationships/image" Target="../media/image20.png"/><Relationship Id="rId49" Type="http://schemas.openxmlformats.org/officeDocument/2006/relationships/image" Target="../media/image22.png"/><Relationship Id="rId50" Type="http://schemas.openxmlformats.org/officeDocument/2006/relationships/image" Target="../media/image23.png"/><Relationship Id="rId51" Type="http://schemas.openxmlformats.org/officeDocument/2006/relationships/image" Target="../media/image20.png"/><Relationship Id="rId52" Type="http://schemas.openxmlformats.org/officeDocument/2006/relationships/image" Target="../media/image20.png"/><Relationship Id="rId53" Type="http://schemas.openxmlformats.org/officeDocument/2006/relationships/image" Target="../media/image20.png"/><Relationship Id="rId54" Type="http://schemas.openxmlformats.org/officeDocument/2006/relationships/image" Target="../media/image24.png"/><Relationship Id="rId55" Type="http://schemas.openxmlformats.org/officeDocument/2006/relationships/image" Target="../media/image24.png"/><Relationship Id="rId56" Type="http://schemas.openxmlformats.org/officeDocument/2006/relationships/image" Target="../media/image10.png"/><Relationship Id="rId57" Type="http://schemas.openxmlformats.org/officeDocument/2006/relationships/image" Target="../media/image11.png"/><Relationship Id="rId58" Type="http://schemas.openxmlformats.org/officeDocument/2006/relationships/image" Target="../media/image20.png"/><Relationship Id="rId59" Type="http://schemas.openxmlformats.org/officeDocument/2006/relationships/image" Target="../media/image20.png"/><Relationship Id="rId60" Type="http://schemas.openxmlformats.org/officeDocument/2006/relationships/image" Target="../media/image22.png"/><Relationship Id="rId61" Type="http://schemas.openxmlformats.org/officeDocument/2006/relationships/image" Target="../media/image22.png"/><Relationship Id="rId62" Type="http://schemas.openxmlformats.org/officeDocument/2006/relationships/image" Target="../media/image20.png"/><Relationship Id="rId63" Type="http://schemas.openxmlformats.org/officeDocument/2006/relationships/image" Target="../media/image20.png"/><Relationship Id="rId64" Type="http://schemas.openxmlformats.org/officeDocument/2006/relationships/image" Target="../media/image20.png"/><Relationship Id="rId65" Type="http://schemas.openxmlformats.org/officeDocument/2006/relationships/image" Target="../media/image20.png"/><Relationship Id="rId66" Type="http://schemas.openxmlformats.org/officeDocument/2006/relationships/image" Target="../media/image22.png"/><Relationship Id="rId67" Type="http://schemas.openxmlformats.org/officeDocument/2006/relationships/image" Target="../media/image20.png"/><Relationship Id="rId68" Type="http://schemas.openxmlformats.org/officeDocument/2006/relationships/image" Target="../media/image20.png"/><Relationship Id="rId69" Type="http://schemas.openxmlformats.org/officeDocument/2006/relationships/image" Target="../media/image20.png"/><Relationship Id="rId70" Type="http://schemas.openxmlformats.org/officeDocument/2006/relationships/image" Target="../media/image20.png"/><Relationship Id="rId71" Type="http://schemas.openxmlformats.org/officeDocument/2006/relationships/image" Target="../media/image27.png"/><Relationship Id="rId72" Type="http://schemas.openxmlformats.org/officeDocument/2006/relationships/image" Target="../media/image27.png"/><Relationship Id="rId73" Type="http://schemas.openxmlformats.org/officeDocument/2006/relationships/image" Target="../media/image27.png"/><Relationship Id="rId74" Type="http://schemas.openxmlformats.org/officeDocument/2006/relationships/image" Target="../media/image27.png"/><Relationship Id="rId75" Type="http://schemas.openxmlformats.org/officeDocument/2006/relationships/image" Target="../media/image27.png"/><Relationship Id="rId76" Type="http://schemas.openxmlformats.org/officeDocument/2006/relationships/image" Target="../media/image27.png"/><Relationship Id="rId77" Type="http://schemas.openxmlformats.org/officeDocument/2006/relationships/image" Target="../media/image27.png"/><Relationship Id="rId78" Type="http://schemas.openxmlformats.org/officeDocument/2006/relationships/image" Target="../media/image27.png"/><Relationship Id="rId79" Type="http://schemas.openxmlformats.org/officeDocument/2006/relationships/image" Target="../media/image27.png"/><Relationship Id="rId80" Type="http://schemas.openxmlformats.org/officeDocument/2006/relationships/image" Target="../media/image27.png"/><Relationship Id="rId81" Type="http://schemas.openxmlformats.org/officeDocument/2006/relationships/image" Target="../media/image27.png"/><Relationship Id="rId82" Type="http://schemas.openxmlformats.org/officeDocument/2006/relationships/image" Target="../media/image27.png"/><Relationship Id="rId83" Type="http://schemas.openxmlformats.org/officeDocument/2006/relationships/image" Target="../media/image27.png"/><Relationship Id="rId84" Type="http://schemas.openxmlformats.org/officeDocument/2006/relationships/image" Target="../media/image27.png"/><Relationship Id="rId85" Type="http://schemas.openxmlformats.org/officeDocument/2006/relationships/image" Target="../media/image27.png"/><Relationship Id="rId86" Type="http://schemas.openxmlformats.org/officeDocument/2006/relationships/image" Target="../media/image27.png"/><Relationship Id="rId87" Type="http://schemas.openxmlformats.org/officeDocument/2006/relationships/image" Target="../media/image28.png"/><Relationship Id="rId88" Type="http://schemas.openxmlformats.org/officeDocument/2006/relationships/slideLayout" Target="../slideLayouts/slideLayout1.xml"/><Relationship Id="rId8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椭圆 41"/>
          <p:cNvGrpSpPr/>
          <p:nvPr/>
        </p:nvGrpSpPr>
        <p:grpSpPr>
          <a:xfrm>
            <a:off x="6913440" y="92160"/>
            <a:ext cx="1157400" cy="1163520"/>
            <a:chOff x="6913440" y="92160"/>
            <a:chExt cx="1157400" cy="1163520"/>
          </a:xfrm>
        </p:grpSpPr>
        <p:pic>
          <p:nvPicPr>
            <p:cNvPr id="49" name="椭圆 41" descr=""/>
            <p:cNvPicPr/>
            <p:nvPr/>
          </p:nvPicPr>
          <p:blipFill>
            <a:blip r:embed="rId1"/>
            <a:stretch/>
          </p:blipFill>
          <p:spPr>
            <a:xfrm>
              <a:off x="6913440" y="92160"/>
              <a:ext cx="11574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086600" y="268200"/>
              <a:ext cx="8128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图片 3" descr=""/>
          <p:cNvPicPr/>
          <p:nvPr/>
        </p:nvPicPr>
        <p:blipFill>
          <a:blip r:embed="rId2"/>
          <a:srcRect l="6248" t="5472" r="0" b="464"/>
          <a:stretch/>
        </p:blipFill>
        <p:spPr>
          <a:xfrm>
            <a:off x="324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7" descr=""/>
          <p:cNvPicPr/>
          <p:nvPr/>
        </p:nvPicPr>
        <p:blipFill>
          <a:blip r:embed="rId3"/>
          <a:stretch/>
        </p:blipFill>
        <p:spPr>
          <a:xfrm rot="1231200">
            <a:off x="4224240" y="-340920"/>
            <a:ext cx="2316240" cy="16383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9" descr=""/>
          <p:cNvPicPr/>
          <p:nvPr/>
        </p:nvPicPr>
        <p:blipFill>
          <a:blip r:embed="rId4"/>
          <a:stretch/>
        </p:blipFill>
        <p:spPr>
          <a:xfrm>
            <a:off x="6446880" y="-27000"/>
            <a:ext cx="931680" cy="6588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0" descr=""/>
          <p:cNvPicPr/>
          <p:nvPr/>
        </p:nvPicPr>
        <p:blipFill>
          <a:blip r:embed="rId5"/>
          <a:stretch/>
        </p:blipFill>
        <p:spPr>
          <a:xfrm>
            <a:off x="3325680" y="3728880"/>
            <a:ext cx="316080" cy="136872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11" descr=""/>
          <p:cNvPicPr/>
          <p:nvPr/>
        </p:nvPicPr>
        <p:blipFill>
          <a:blip r:embed="rId6"/>
          <a:stretch/>
        </p:blipFill>
        <p:spPr>
          <a:xfrm>
            <a:off x="622440" y="1395360"/>
            <a:ext cx="2041560" cy="52675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2" descr=""/>
          <p:cNvPicPr/>
          <p:nvPr/>
        </p:nvPicPr>
        <p:blipFill>
          <a:blip r:embed="rId7"/>
          <a:stretch/>
        </p:blipFill>
        <p:spPr>
          <a:xfrm rot="21274800">
            <a:off x="7535880" y="-103320"/>
            <a:ext cx="1674720" cy="11858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8"/>
          <a:srcRect l="0" t="0" r="0" b="7358"/>
          <a:stretch/>
        </p:blipFill>
        <p:spPr>
          <a:xfrm>
            <a:off x="4332240" y="2543040"/>
            <a:ext cx="4637160" cy="43419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0" descr=""/>
          <p:cNvPicPr/>
          <p:nvPr/>
        </p:nvPicPr>
        <p:blipFill>
          <a:blip r:embed="rId9"/>
          <a:stretch/>
        </p:blipFill>
        <p:spPr>
          <a:xfrm>
            <a:off x="2881440" y="765000"/>
            <a:ext cx="753840" cy="9194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1" descr=""/>
          <p:cNvPicPr/>
          <p:nvPr/>
        </p:nvPicPr>
        <p:blipFill>
          <a:blip r:embed="rId10"/>
          <a:stretch/>
        </p:blipFill>
        <p:spPr>
          <a:xfrm>
            <a:off x="3470400" y="1557360"/>
            <a:ext cx="703080" cy="7192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2" descr=""/>
          <p:cNvPicPr/>
          <p:nvPr/>
        </p:nvPicPr>
        <p:blipFill>
          <a:blip r:embed="rId11"/>
          <a:stretch/>
        </p:blipFill>
        <p:spPr>
          <a:xfrm>
            <a:off x="2494080" y="1981080"/>
            <a:ext cx="1141200" cy="25178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3" descr=""/>
          <p:cNvPicPr/>
          <p:nvPr/>
        </p:nvPicPr>
        <p:blipFill>
          <a:blip r:embed="rId12"/>
          <a:stretch/>
        </p:blipFill>
        <p:spPr>
          <a:xfrm>
            <a:off x="3390840" y="2776680"/>
            <a:ext cx="849240" cy="8715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6" descr=""/>
          <p:cNvPicPr/>
          <p:nvPr/>
        </p:nvPicPr>
        <p:blipFill>
          <a:blip r:embed="rId13"/>
          <a:stretch/>
        </p:blipFill>
        <p:spPr>
          <a:xfrm rot="21126000">
            <a:off x="6508440" y="5187960"/>
            <a:ext cx="855720" cy="17859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4" descr=""/>
          <p:cNvPicPr/>
          <p:nvPr/>
        </p:nvPicPr>
        <p:blipFill>
          <a:blip r:embed="rId14"/>
          <a:stretch/>
        </p:blipFill>
        <p:spPr>
          <a:xfrm>
            <a:off x="6929280" y="5873760"/>
            <a:ext cx="331920" cy="10000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5" descr=""/>
          <p:cNvPicPr/>
          <p:nvPr/>
        </p:nvPicPr>
        <p:blipFill>
          <a:blip r:embed="rId15"/>
          <a:stretch/>
        </p:blipFill>
        <p:spPr>
          <a:xfrm>
            <a:off x="6292800" y="5467320"/>
            <a:ext cx="1114560" cy="9939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36" descr=""/>
          <p:cNvPicPr/>
          <p:nvPr/>
        </p:nvPicPr>
        <p:blipFill>
          <a:blip r:embed="rId16"/>
          <a:stretch/>
        </p:blipFill>
        <p:spPr>
          <a:xfrm>
            <a:off x="4694400" y="2617920"/>
            <a:ext cx="793440" cy="8823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7" descr=""/>
          <p:cNvPicPr/>
          <p:nvPr/>
        </p:nvPicPr>
        <p:blipFill>
          <a:blip r:embed="rId17"/>
          <a:stretch/>
        </p:blipFill>
        <p:spPr>
          <a:xfrm>
            <a:off x="5159520" y="3232080"/>
            <a:ext cx="2555640" cy="22845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"/>
          <p:cNvPicPr/>
          <p:nvPr/>
        </p:nvPicPr>
        <p:blipFill>
          <a:blip r:embed="rId18"/>
          <a:stretch/>
        </p:blipFill>
        <p:spPr>
          <a:xfrm>
            <a:off x="5835600" y="4654440"/>
            <a:ext cx="871560" cy="9637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38" descr=""/>
          <p:cNvPicPr/>
          <p:nvPr/>
        </p:nvPicPr>
        <p:blipFill>
          <a:blip r:embed="rId19"/>
          <a:stretch/>
        </p:blipFill>
        <p:spPr>
          <a:xfrm>
            <a:off x="7896240" y="4894200"/>
            <a:ext cx="353880" cy="20131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9" descr=""/>
          <p:cNvPicPr/>
          <p:nvPr/>
        </p:nvPicPr>
        <p:blipFill>
          <a:blip r:embed="rId20"/>
          <a:stretch/>
        </p:blipFill>
        <p:spPr>
          <a:xfrm>
            <a:off x="7426440" y="4465800"/>
            <a:ext cx="871560" cy="9619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8" descr=""/>
          <p:cNvPicPr/>
          <p:nvPr/>
        </p:nvPicPr>
        <p:blipFill>
          <a:blip r:embed="rId21"/>
          <a:stretch/>
        </p:blipFill>
        <p:spPr>
          <a:xfrm>
            <a:off x="6138720" y="488880"/>
            <a:ext cx="1328760" cy="941400"/>
          </a:xfrm>
          <a:prstGeom prst="rect">
            <a:avLst/>
          </a:prstGeom>
          <a:ln w="0">
            <a:noFill/>
          </a:ln>
        </p:spPr>
      </p:pic>
      <p:grpSp>
        <p:nvGrpSpPr>
          <p:cNvPr id="71" name="椭圆 43"/>
          <p:cNvGrpSpPr/>
          <p:nvPr/>
        </p:nvGrpSpPr>
        <p:grpSpPr>
          <a:xfrm>
            <a:off x="7412040" y="1023840"/>
            <a:ext cx="79200" cy="85680"/>
            <a:chOff x="7412040" y="1023840"/>
            <a:chExt cx="79200" cy="85680"/>
          </a:xfrm>
        </p:grpSpPr>
        <p:pic>
          <p:nvPicPr>
            <p:cNvPr id="72" name="椭圆 43" descr=""/>
            <p:cNvPicPr/>
            <p:nvPr/>
          </p:nvPicPr>
          <p:blipFill>
            <a:blip r:embed="rId22"/>
            <a:stretch/>
          </p:blipFill>
          <p:spPr>
            <a:xfrm>
              <a:off x="7412040" y="1023840"/>
              <a:ext cx="7920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431120" y="10429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椭圆 44"/>
          <p:cNvGrpSpPr/>
          <p:nvPr/>
        </p:nvGrpSpPr>
        <p:grpSpPr>
          <a:xfrm>
            <a:off x="7491240" y="950760"/>
            <a:ext cx="79560" cy="86040"/>
            <a:chOff x="7491240" y="950760"/>
            <a:chExt cx="79560" cy="86040"/>
          </a:xfrm>
        </p:grpSpPr>
        <p:pic>
          <p:nvPicPr>
            <p:cNvPr id="75" name="椭圆 44" descr=""/>
            <p:cNvPicPr/>
            <p:nvPr/>
          </p:nvPicPr>
          <p:blipFill>
            <a:blip r:embed="rId23"/>
            <a:stretch/>
          </p:blipFill>
          <p:spPr>
            <a:xfrm>
              <a:off x="7491240" y="950760"/>
              <a:ext cx="79560" cy="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505640" y="96984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椭圆 45"/>
          <p:cNvGrpSpPr/>
          <p:nvPr/>
        </p:nvGrpSpPr>
        <p:grpSpPr>
          <a:xfrm>
            <a:off x="7461360" y="974880"/>
            <a:ext cx="79200" cy="85680"/>
            <a:chOff x="7461360" y="974880"/>
            <a:chExt cx="79200" cy="85680"/>
          </a:xfrm>
        </p:grpSpPr>
        <p:pic>
          <p:nvPicPr>
            <p:cNvPr id="78" name="椭圆 45" descr=""/>
            <p:cNvPicPr/>
            <p:nvPr/>
          </p:nvPicPr>
          <p:blipFill>
            <a:blip r:embed="rId24"/>
            <a:stretch/>
          </p:blipFill>
          <p:spPr>
            <a:xfrm>
              <a:off x="7461360" y="974880"/>
              <a:ext cx="7920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477200" y="9907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椭圆 46"/>
          <p:cNvGrpSpPr/>
          <p:nvPr/>
        </p:nvGrpSpPr>
        <p:grpSpPr>
          <a:xfrm>
            <a:off x="7394400" y="1023840"/>
            <a:ext cx="79560" cy="85680"/>
            <a:chOff x="7394400" y="1023840"/>
            <a:chExt cx="79560" cy="85680"/>
          </a:xfrm>
        </p:grpSpPr>
        <p:pic>
          <p:nvPicPr>
            <p:cNvPr id="81" name="椭圆 46" descr=""/>
            <p:cNvPicPr/>
            <p:nvPr/>
          </p:nvPicPr>
          <p:blipFill>
            <a:blip r:embed="rId25"/>
            <a:stretch/>
          </p:blipFill>
          <p:spPr>
            <a:xfrm>
              <a:off x="7394400" y="1023840"/>
              <a:ext cx="795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410600" y="10429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椭圆 47"/>
          <p:cNvGrpSpPr/>
          <p:nvPr/>
        </p:nvGrpSpPr>
        <p:grpSpPr>
          <a:xfrm>
            <a:off x="7461360" y="1047600"/>
            <a:ext cx="79200" cy="86040"/>
            <a:chOff x="7461360" y="1047600"/>
            <a:chExt cx="79200" cy="86040"/>
          </a:xfrm>
        </p:grpSpPr>
        <p:pic>
          <p:nvPicPr>
            <p:cNvPr id="84" name="椭圆 47" descr=""/>
            <p:cNvPicPr/>
            <p:nvPr/>
          </p:nvPicPr>
          <p:blipFill>
            <a:blip r:embed="rId26"/>
            <a:stretch/>
          </p:blipFill>
          <p:spPr>
            <a:xfrm>
              <a:off x="7461360" y="1047600"/>
              <a:ext cx="79200" cy="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477200" y="106380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椭圆 48"/>
          <p:cNvGrpSpPr/>
          <p:nvPr/>
        </p:nvGrpSpPr>
        <p:grpSpPr>
          <a:xfrm>
            <a:off x="7412040" y="1036800"/>
            <a:ext cx="79200" cy="79200"/>
            <a:chOff x="7412040" y="1036800"/>
            <a:chExt cx="79200" cy="79200"/>
          </a:xfrm>
        </p:grpSpPr>
        <p:pic>
          <p:nvPicPr>
            <p:cNvPr id="87" name="椭圆 48" descr=""/>
            <p:cNvPicPr/>
            <p:nvPr/>
          </p:nvPicPr>
          <p:blipFill>
            <a:blip r:embed="rId27"/>
            <a:stretch/>
          </p:blipFill>
          <p:spPr>
            <a:xfrm>
              <a:off x="7412040" y="1036800"/>
              <a:ext cx="7920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431120" y="105084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椭圆 49"/>
          <p:cNvGrpSpPr/>
          <p:nvPr/>
        </p:nvGrpSpPr>
        <p:grpSpPr>
          <a:xfrm>
            <a:off x="7412040" y="1047600"/>
            <a:ext cx="68400" cy="68400"/>
            <a:chOff x="7412040" y="1047600"/>
            <a:chExt cx="68400" cy="68400"/>
          </a:xfrm>
        </p:grpSpPr>
        <p:pic>
          <p:nvPicPr>
            <p:cNvPr id="90" name="椭圆 49" descr=""/>
            <p:cNvPicPr/>
            <p:nvPr/>
          </p:nvPicPr>
          <p:blipFill>
            <a:blip r:embed="rId28"/>
            <a:stretch/>
          </p:blipFill>
          <p:spPr>
            <a:xfrm>
              <a:off x="7412040" y="1047600"/>
              <a:ext cx="68400" cy="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429680" y="1060560"/>
              <a:ext cx="3492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椭圆 50"/>
          <p:cNvGrpSpPr/>
          <p:nvPr/>
        </p:nvGrpSpPr>
        <p:grpSpPr>
          <a:xfrm>
            <a:off x="7461360" y="1023840"/>
            <a:ext cx="79200" cy="85680"/>
            <a:chOff x="7461360" y="1023840"/>
            <a:chExt cx="79200" cy="85680"/>
          </a:xfrm>
        </p:grpSpPr>
        <p:pic>
          <p:nvPicPr>
            <p:cNvPr id="93" name="椭圆 50" descr=""/>
            <p:cNvPicPr/>
            <p:nvPr/>
          </p:nvPicPr>
          <p:blipFill>
            <a:blip r:embed="rId29"/>
            <a:stretch/>
          </p:blipFill>
          <p:spPr>
            <a:xfrm>
              <a:off x="7461360" y="1023840"/>
              <a:ext cx="7920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477200" y="10429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椭圆 51" hidden="1"/>
          <p:cNvSpPr/>
          <p:nvPr/>
        </p:nvSpPr>
        <p:spPr>
          <a:xfrm>
            <a:off x="7488360" y="1019160"/>
            <a:ext cx="66600" cy="7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椭圆 52"/>
          <p:cNvGrpSpPr/>
          <p:nvPr/>
        </p:nvGrpSpPr>
        <p:grpSpPr>
          <a:xfrm>
            <a:off x="7461360" y="1047600"/>
            <a:ext cx="79200" cy="86040"/>
            <a:chOff x="7461360" y="1047600"/>
            <a:chExt cx="79200" cy="86040"/>
          </a:xfrm>
        </p:grpSpPr>
        <p:pic>
          <p:nvPicPr>
            <p:cNvPr id="97" name="椭圆 52" descr=""/>
            <p:cNvPicPr/>
            <p:nvPr/>
          </p:nvPicPr>
          <p:blipFill>
            <a:blip r:embed="rId30"/>
            <a:stretch/>
          </p:blipFill>
          <p:spPr>
            <a:xfrm>
              <a:off x="7461360" y="1047600"/>
              <a:ext cx="79200" cy="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477200" y="106380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椭圆 53"/>
          <p:cNvGrpSpPr/>
          <p:nvPr/>
        </p:nvGrpSpPr>
        <p:grpSpPr>
          <a:xfrm>
            <a:off x="7461360" y="1023840"/>
            <a:ext cx="61920" cy="66600"/>
            <a:chOff x="7461360" y="1023840"/>
            <a:chExt cx="61920" cy="66600"/>
          </a:xfrm>
        </p:grpSpPr>
        <p:pic>
          <p:nvPicPr>
            <p:cNvPr id="100" name="椭圆 53" descr=""/>
            <p:cNvPicPr/>
            <p:nvPr/>
          </p:nvPicPr>
          <p:blipFill>
            <a:blip r:embed="rId31"/>
            <a:stretch/>
          </p:blipFill>
          <p:spPr>
            <a:xfrm>
              <a:off x="7461360" y="1023840"/>
              <a:ext cx="6192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475400" y="1039680"/>
              <a:ext cx="3492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椭圆 54"/>
          <p:cNvGrpSpPr/>
          <p:nvPr/>
        </p:nvGrpSpPr>
        <p:grpSpPr>
          <a:xfrm>
            <a:off x="7461360" y="938160"/>
            <a:ext cx="61920" cy="68400"/>
            <a:chOff x="7461360" y="938160"/>
            <a:chExt cx="61920" cy="68400"/>
          </a:xfrm>
        </p:grpSpPr>
        <p:pic>
          <p:nvPicPr>
            <p:cNvPr id="103" name="椭圆 54" descr=""/>
            <p:cNvPicPr/>
            <p:nvPr/>
          </p:nvPicPr>
          <p:blipFill>
            <a:blip r:embed="rId32"/>
            <a:stretch/>
          </p:blipFill>
          <p:spPr>
            <a:xfrm>
              <a:off x="7461360" y="938160"/>
              <a:ext cx="61920" cy="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475400" y="955800"/>
              <a:ext cx="3492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椭圆 55"/>
          <p:cNvGrpSpPr/>
          <p:nvPr/>
        </p:nvGrpSpPr>
        <p:grpSpPr>
          <a:xfrm>
            <a:off x="7559640" y="1023840"/>
            <a:ext cx="73080" cy="85680"/>
            <a:chOff x="7559640" y="1023840"/>
            <a:chExt cx="73080" cy="85680"/>
          </a:xfrm>
        </p:grpSpPr>
        <p:pic>
          <p:nvPicPr>
            <p:cNvPr id="106" name="椭圆 55" descr=""/>
            <p:cNvPicPr/>
            <p:nvPr/>
          </p:nvPicPr>
          <p:blipFill>
            <a:blip r:embed="rId33"/>
            <a:stretch/>
          </p:blipFill>
          <p:spPr>
            <a:xfrm>
              <a:off x="7559640" y="1023840"/>
              <a:ext cx="730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572240" y="1042920"/>
              <a:ext cx="460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椭圆 56"/>
          <p:cNvGrpSpPr/>
          <p:nvPr/>
        </p:nvGrpSpPr>
        <p:grpSpPr>
          <a:xfrm>
            <a:off x="7632720" y="950760"/>
            <a:ext cx="79200" cy="86040"/>
            <a:chOff x="7632720" y="950760"/>
            <a:chExt cx="79200" cy="86040"/>
          </a:xfrm>
        </p:grpSpPr>
        <p:pic>
          <p:nvPicPr>
            <p:cNvPr id="109" name="椭圆 56" descr=""/>
            <p:cNvPicPr/>
            <p:nvPr/>
          </p:nvPicPr>
          <p:blipFill>
            <a:blip r:embed="rId34"/>
            <a:stretch/>
          </p:blipFill>
          <p:spPr>
            <a:xfrm>
              <a:off x="7632720" y="950760"/>
              <a:ext cx="79200" cy="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647120" y="96984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椭圆 57"/>
          <p:cNvGrpSpPr/>
          <p:nvPr/>
        </p:nvGrpSpPr>
        <p:grpSpPr>
          <a:xfrm>
            <a:off x="7601040" y="974880"/>
            <a:ext cx="79200" cy="85680"/>
            <a:chOff x="7601040" y="974880"/>
            <a:chExt cx="79200" cy="85680"/>
          </a:xfrm>
        </p:grpSpPr>
        <p:pic>
          <p:nvPicPr>
            <p:cNvPr id="112" name="椭圆 57" descr=""/>
            <p:cNvPicPr/>
            <p:nvPr/>
          </p:nvPicPr>
          <p:blipFill>
            <a:blip r:embed="rId35"/>
            <a:stretch/>
          </p:blipFill>
          <p:spPr>
            <a:xfrm>
              <a:off x="7601040" y="974880"/>
              <a:ext cx="7920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618320" y="99072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椭圆 58"/>
          <p:cNvGrpSpPr/>
          <p:nvPr/>
        </p:nvGrpSpPr>
        <p:grpSpPr>
          <a:xfrm>
            <a:off x="7534440" y="1023840"/>
            <a:ext cx="79200" cy="85680"/>
            <a:chOff x="7534440" y="1023840"/>
            <a:chExt cx="79200" cy="85680"/>
          </a:xfrm>
        </p:grpSpPr>
        <p:pic>
          <p:nvPicPr>
            <p:cNvPr id="115" name="椭圆 58" descr=""/>
            <p:cNvPicPr/>
            <p:nvPr/>
          </p:nvPicPr>
          <p:blipFill>
            <a:blip r:embed="rId36"/>
            <a:stretch/>
          </p:blipFill>
          <p:spPr>
            <a:xfrm>
              <a:off x="7534440" y="1023840"/>
              <a:ext cx="7920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551720" y="10429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椭圆 59"/>
          <p:cNvGrpSpPr/>
          <p:nvPr/>
        </p:nvGrpSpPr>
        <p:grpSpPr>
          <a:xfrm>
            <a:off x="7601040" y="1047600"/>
            <a:ext cx="79200" cy="86040"/>
            <a:chOff x="7601040" y="1047600"/>
            <a:chExt cx="79200" cy="86040"/>
          </a:xfrm>
        </p:grpSpPr>
        <p:pic>
          <p:nvPicPr>
            <p:cNvPr id="118" name="椭圆 59" descr=""/>
            <p:cNvPicPr/>
            <p:nvPr/>
          </p:nvPicPr>
          <p:blipFill>
            <a:blip r:embed="rId37"/>
            <a:stretch/>
          </p:blipFill>
          <p:spPr>
            <a:xfrm>
              <a:off x="7601040" y="1047600"/>
              <a:ext cx="79200" cy="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618320" y="106380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椭圆 60"/>
          <p:cNvGrpSpPr/>
          <p:nvPr/>
        </p:nvGrpSpPr>
        <p:grpSpPr>
          <a:xfrm>
            <a:off x="7559640" y="1036800"/>
            <a:ext cx="73080" cy="79200"/>
            <a:chOff x="7559640" y="1036800"/>
            <a:chExt cx="73080" cy="79200"/>
          </a:xfrm>
        </p:grpSpPr>
        <p:pic>
          <p:nvPicPr>
            <p:cNvPr id="121" name="椭圆 60" descr=""/>
            <p:cNvPicPr/>
            <p:nvPr/>
          </p:nvPicPr>
          <p:blipFill>
            <a:blip r:embed="rId38"/>
            <a:stretch/>
          </p:blipFill>
          <p:spPr>
            <a:xfrm>
              <a:off x="7559640" y="103680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572240" y="1050840"/>
              <a:ext cx="460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椭圆 61"/>
          <p:cNvGrpSpPr/>
          <p:nvPr/>
        </p:nvGrpSpPr>
        <p:grpSpPr>
          <a:xfrm>
            <a:off x="7559640" y="1047600"/>
            <a:ext cx="60480" cy="68400"/>
            <a:chOff x="7559640" y="1047600"/>
            <a:chExt cx="60480" cy="68400"/>
          </a:xfrm>
        </p:grpSpPr>
        <p:pic>
          <p:nvPicPr>
            <p:cNvPr id="124" name="椭圆 61" descr=""/>
            <p:cNvPicPr/>
            <p:nvPr/>
          </p:nvPicPr>
          <p:blipFill>
            <a:blip r:embed="rId39"/>
            <a:stretch/>
          </p:blipFill>
          <p:spPr>
            <a:xfrm>
              <a:off x="7559640" y="1047600"/>
              <a:ext cx="60480" cy="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7569360" y="1060560"/>
              <a:ext cx="3492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椭圆 62"/>
          <p:cNvGrpSpPr/>
          <p:nvPr/>
        </p:nvGrpSpPr>
        <p:grpSpPr>
          <a:xfrm>
            <a:off x="7601040" y="1023840"/>
            <a:ext cx="79200" cy="85680"/>
            <a:chOff x="7601040" y="1023840"/>
            <a:chExt cx="79200" cy="85680"/>
          </a:xfrm>
        </p:grpSpPr>
        <p:pic>
          <p:nvPicPr>
            <p:cNvPr id="127" name="椭圆 62" descr=""/>
            <p:cNvPicPr/>
            <p:nvPr/>
          </p:nvPicPr>
          <p:blipFill>
            <a:blip r:embed="rId40"/>
            <a:stretch/>
          </p:blipFill>
          <p:spPr>
            <a:xfrm>
              <a:off x="7601040" y="1023840"/>
              <a:ext cx="7920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618320" y="104292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椭圆 63"/>
          <p:cNvGrpSpPr/>
          <p:nvPr/>
        </p:nvGrpSpPr>
        <p:grpSpPr>
          <a:xfrm>
            <a:off x="7620120" y="1011240"/>
            <a:ext cx="79200" cy="85680"/>
            <a:chOff x="7620120" y="1011240"/>
            <a:chExt cx="79200" cy="85680"/>
          </a:xfrm>
        </p:grpSpPr>
        <p:pic>
          <p:nvPicPr>
            <p:cNvPr id="130" name="椭圆 63" descr=""/>
            <p:cNvPicPr/>
            <p:nvPr/>
          </p:nvPicPr>
          <p:blipFill>
            <a:blip r:embed="rId41"/>
            <a:stretch/>
          </p:blipFill>
          <p:spPr>
            <a:xfrm>
              <a:off x="7620120" y="1011240"/>
              <a:ext cx="7920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639200" y="1030320"/>
              <a:ext cx="457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椭圆 64"/>
          <p:cNvGrpSpPr/>
          <p:nvPr/>
        </p:nvGrpSpPr>
        <p:grpSpPr>
          <a:xfrm>
            <a:off x="7601040" y="1047600"/>
            <a:ext cx="79200" cy="86040"/>
            <a:chOff x="7601040" y="1047600"/>
            <a:chExt cx="79200" cy="86040"/>
          </a:xfrm>
        </p:grpSpPr>
        <p:pic>
          <p:nvPicPr>
            <p:cNvPr id="133" name="椭圆 64" descr=""/>
            <p:cNvPicPr/>
            <p:nvPr/>
          </p:nvPicPr>
          <p:blipFill>
            <a:blip r:embed="rId42"/>
            <a:stretch/>
          </p:blipFill>
          <p:spPr>
            <a:xfrm>
              <a:off x="7601040" y="1047600"/>
              <a:ext cx="79200" cy="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618320" y="106380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椭圆 65" hidden="1"/>
          <p:cNvSpPr/>
          <p:nvPr/>
        </p:nvSpPr>
        <p:spPr>
          <a:xfrm>
            <a:off x="7608960" y="1031760"/>
            <a:ext cx="49320" cy="5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椭圆 66"/>
          <p:cNvGrpSpPr/>
          <p:nvPr/>
        </p:nvGrpSpPr>
        <p:grpSpPr>
          <a:xfrm>
            <a:off x="7601040" y="938160"/>
            <a:ext cx="61920" cy="68400"/>
            <a:chOff x="7601040" y="938160"/>
            <a:chExt cx="61920" cy="68400"/>
          </a:xfrm>
        </p:grpSpPr>
        <p:pic>
          <p:nvPicPr>
            <p:cNvPr id="137" name="椭圆 66" descr=""/>
            <p:cNvPicPr/>
            <p:nvPr/>
          </p:nvPicPr>
          <p:blipFill>
            <a:blip r:embed="rId43"/>
            <a:stretch/>
          </p:blipFill>
          <p:spPr>
            <a:xfrm>
              <a:off x="7601040" y="938160"/>
              <a:ext cx="61920" cy="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615080" y="955800"/>
              <a:ext cx="3672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椭圆 67"/>
          <p:cNvGrpSpPr/>
          <p:nvPr/>
        </p:nvGrpSpPr>
        <p:grpSpPr>
          <a:xfrm>
            <a:off x="7480440" y="1023840"/>
            <a:ext cx="79200" cy="85680"/>
            <a:chOff x="7480440" y="1023840"/>
            <a:chExt cx="79200" cy="85680"/>
          </a:xfrm>
        </p:grpSpPr>
        <p:pic>
          <p:nvPicPr>
            <p:cNvPr id="140" name="椭圆 67" descr=""/>
            <p:cNvPicPr/>
            <p:nvPr/>
          </p:nvPicPr>
          <p:blipFill>
            <a:blip r:embed="rId44"/>
            <a:stretch/>
          </p:blipFill>
          <p:spPr>
            <a:xfrm>
              <a:off x="7480440" y="1023840"/>
              <a:ext cx="7920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497720" y="10429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椭圆 68"/>
          <p:cNvGrpSpPr/>
          <p:nvPr/>
        </p:nvGrpSpPr>
        <p:grpSpPr>
          <a:xfrm>
            <a:off x="7559640" y="950760"/>
            <a:ext cx="79560" cy="86040"/>
            <a:chOff x="7559640" y="950760"/>
            <a:chExt cx="79560" cy="86040"/>
          </a:xfrm>
        </p:grpSpPr>
        <p:pic>
          <p:nvPicPr>
            <p:cNvPr id="143" name="椭圆 68" descr=""/>
            <p:cNvPicPr/>
            <p:nvPr/>
          </p:nvPicPr>
          <p:blipFill>
            <a:blip r:embed="rId45"/>
            <a:stretch/>
          </p:blipFill>
          <p:spPr>
            <a:xfrm>
              <a:off x="7559640" y="950760"/>
              <a:ext cx="79560" cy="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72240" y="96984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椭圆 69"/>
          <p:cNvGrpSpPr/>
          <p:nvPr/>
        </p:nvGrpSpPr>
        <p:grpSpPr>
          <a:xfrm>
            <a:off x="7527960" y="974880"/>
            <a:ext cx="79200" cy="85680"/>
            <a:chOff x="7527960" y="974880"/>
            <a:chExt cx="79200" cy="85680"/>
          </a:xfrm>
        </p:grpSpPr>
        <p:pic>
          <p:nvPicPr>
            <p:cNvPr id="146" name="椭圆 69" descr=""/>
            <p:cNvPicPr/>
            <p:nvPr/>
          </p:nvPicPr>
          <p:blipFill>
            <a:blip r:embed="rId46"/>
            <a:stretch/>
          </p:blipFill>
          <p:spPr>
            <a:xfrm>
              <a:off x="7527960" y="974880"/>
              <a:ext cx="7920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543800" y="9907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椭圆 70"/>
          <p:cNvGrpSpPr/>
          <p:nvPr/>
        </p:nvGrpSpPr>
        <p:grpSpPr>
          <a:xfrm>
            <a:off x="7461360" y="1023840"/>
            <a:ext cx="79200" cy="85680"/>
            <a:chOff x="7461360" y="1023840"/>
            <a:chExt cx="79200" cy="85680"/>
          </a:xfrm>
        </p:grpSpPr>
        <p:pic>
          <p:nvPicPr>
            <p:cNvPr id="149" name="椭圆 70" descr=""/>
            <p:cNvPicPr/>
            <p:nvPr/>
          </p:nvPicPr>
          <p:blipFill>
            <a:blip r:embed="rId47"/>
            <a:stretch/>
          </p:blipFill>
          <p:spPr>
            <a:xfrm>
              <a:off x="7461360" y="1023840"/>
              <a:ext cx="7920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477200" y="10429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椭圆 71"/>
          <p:cNvGrpSpPr/>
          <p:nvPr/>
        </p:nvGrpSpPr>
        <p:grpSpPr>
          <a:xfrm>
            <a:off x="7527960" y="1047600"/>
            <a:ext cx="79200" cy="86040"/>
            <a:chOff x="7527960" y="1047600"/>
            <a:chExt cx="79200" cy="86040"/>
          </a:xfrm>
        </p:grpSpPr>
        <p:pic>
          <p:nvPicPr>
            <p:cNvPr id="152" name="椭圆 71" descr=""/>
            <p:cNvPicPr/>
            <p:nvPr/>
          </p:nvPicPr>
          <p:blipFill>
            <a:blip r:embed="rId48"/>
            <a:stretch/>
          </p:blipFill>
          <p:spPr>
            <a:xfrm>
              <a:off x="7527960" y="1047600"/>
              <a:ext cx="79200" cy="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543800" y="106380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椭圆 72"/>
          <p:cNvGrpSpPr/>
          <p:nvPr/>
        </p:nvGrpSpPr>
        <p:grpSpPr>
          <a:xfrm>
            <a:off x="7480440" y="1036800"/>
            <a:ext cx="79200" cy="79200"/>
            <a:chOff x="7480440" y="1036800"/>
            <a:chExt cx="79200" cy="79200"/>
          </a:xfrm>
        </p:grpSpPr>
        <p:pic>
          <p:nvPicPr>
            <p:cNvPr id="155" name="椭圆 72" descr=""/>
            <p:cNvPicPr/>
            <p:nvPr/>
          </p:nvPicPr>
          <p:blipFill>
            <a:blip r:embed="rId49"/>
            <a:stretch/>
          </p:blipFill>
          <p:spPr>
            <a:xfrm>
              <a:off x="7480440" y="1036800"/>
              <a:ext cx="7920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497720" y="105084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椭圆 73"/>
          <p:cNvGrpSpPr/>
          <p:nvPr/>
        </p:nvGrpSpPr>
        <p:grpSpPr>
          <a:xfrm>
            <a:off x="7480440" y="1047600"/>
            <a:ext cx="66600" cy="68400"/>
            <a:chOff x="7480440" y="1047600"/>
            <a:chExt cx="66600" cy="68400"/>
          </a:xfrm>
        </p:grpSpPr>
        <p:pic>
          <p:nvPicPr>
            <p:cNvPr id="158" name="椭圆 73" descr=""/>
            <p:cNvPicPr/>
            <p:nvPr/>
          </p:nvPicPr>
          <p:blipFill>
            <a:blip r:embed="rId50"/>
            <a:stretch/>
          </p:blipFill>
          <p:spPr>
            <a:xfrm>
              <a:off x="7480440" y="1047600"/>
              <a:ext cx="66600" cy="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494480" y="1060560"/>
              <a:ext cx="3672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椭圆 74"/>
          <p:cNvGrpSpPr/>
          <p:nvPr/>
        </p:nvGrpSpPr>
        <p:grpSpPr>
          <a:xfrm>
            <a:off x="7527960" y="1023840"/>
            <a:ext cx="79200" cy="85680"/>
            <a:chOff x="7527960" y="1023840"/>
            <a:chExt cx="79200" cy="85680"/>
          </a:xfrm>
        </p:grpSpPr>
        <p:pic>
          <p:nvPicPr>
            <p:cNvPr id="161" name="椭圆 74" descr=""/>
            <p:cNvPicPr/>
            <p:nvPr/>
          </p:nvPicPr>
          <p:blipFill>
            <a:blip r:embed="rId51"/>
            <a:stretch/>
          </p:blipFill>
          <p:spPr>
            <a:xfrm>
              <a:off x="7527960" y="1023840"/>
              <a:ext cx="7920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543800" y="10429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椭圆 75"/>
          <p:cNvGrpSpPr/>
          <p:nvPr/>
        </p:nvGrpSpPr>
        <p:grpSpPr>
          <a:xfrm>
            <a:off x="7547040" y="1011240"/>
            <a:ext cx="79200" cy="85680"/>
            <a:chOff x="7547040" y="1011240"/>
            <a:chExt cx="79200" cy="85680"/>
          </a:xfrm>
        </p:grpSpPr>
        <p:pic>
          <p:nvPicPr>
            <p:cNvPr id="164" name="椭圆 75" descr=""/>
            <p:cNvPicPr/>
            <p:nvPr/>
          </p:nvPicPr>
          <p:blipFill>
            <a:blip r:embed="rId52"/>
            <a:stretch/>
          </p:blipFill>
          <p:spPr>
            <a:xfrm>
              <a:off x="7547040" y="1011240"/>
              <a:ext cx="7920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564320" y="1030320"/>
              <a:ext cx="460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椭圆 76"/>
          <p:cNvGrpSpPr/>
          <p:nvPr/>
        </p:nvGrpSpPr>
        <p:grpSpPr>
          <a:xfrm>
            <a:off x="7527960" y="1047600"/>
            <a:ext cx="79200" cy="86040"/>
            <a:chOff x="7527960" y="1047600"/>
            <a:chExt cx="79200" cy="86040"/>
          </a:xfrm>
        </p:grpSpPr>
        <p:pic>
          <p:nvPicPr>
            <p:cNvPr id="167" name="椭圆 76" descr=""/>
            <p:cNvPicPr/>
            <p:nvPr/>
          </p:nvPicPr>
          <p:blipFill>
            <a:blip r:embed="rId53"/>
            <a:stretch/>
          </p:blipFill>
          <p:spPr>
            <a:xfrm>
              <a:off x="7527960" y="1047600"/>
              <a:ext cx="79200" cy="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543800" y="106380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椭圆 77"/>
          <p:cNvGrpSpPr/>
          <p:nvPr/>
        </p:nvGrpSpPr>
        <p:grpSpPr>
          <a:xfrm>
            <a:off x="7527960" y="1023840"/>
            <a:ext cx="61920" cy="66600"/>
            <a:chOff x="7527960" y="1023840"/>
            <a:chExt cx="61920" cy="66600"/>
          </a:xfrm>
        </p:grpSpPr>
        <p:pic>
          <p:nvPicPr>
            <p:cNvPr id="170" name="椭圆 77" descr=""/>
            <p:cNvPicPr/>
            <p:nvPr/>
          </p:nvPicPr>
          <p:blipFill>
            <a:blip r:embed="rId54"/>
            <a:stretch/>
          </p:blipFill>
          <p:spPr>
            <a:xfrm>
              <a:off x="7527960" y="1023840"/>
              <a:ext cx="6192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42360" y="1039680"/>
              <a:ext cx="3492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椭圆 78"/>
          <p:cNvGrpSpPr/>
          <p:nvPr/>
        </p:nvGrpSpPr>
        <p:grpSpPr>
          <a:xfrm>
            <a:off x="7527960" y="938160"/>
            <a:ext cx="61920" cy="68400"/>
            <a:chOff x="7527960" y="938160"/>
            <a:chExt cx="61920" cy="68400"/>
          </a:xfrm>
        </p:grpSpPr>
        <p:pic>
          <p:nvPicPr>
            <p:cNvPr id="173" name="椭圆 78" descr=""/>
            <p:cNvPicPr/>
            <p:nvPr/>
          </p:nvPicPr>
          <p:blipFill>
            <a:blip r:embed="rId55"/>
            <a:stretch/>
          </p:blipFill>
          <p:spPr>
            <a:xfrm>
              <a:off x="7527960" y="938160"/>
              <a:ext cx="61920" cy="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542360" y="955800"/>
              <a:ext cx="3492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图片 79" descr=""/>
          <p:cNvPicPr/>
          <p:nvPr/>
        </p:nvPicPr>
        <p:blipFill>
          <a:blip r:embed="rId56"/>
          <a:stretch/>
        </p:blipFill>
        <p:spPr>
          <a:xfrm>
            <a:off x="2489040" y="1987560"/>
            <a:ext cx="1141560" cy="25160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80" descr=""/>
          <p:cNvPicPr/>
          <p:nvPr/>
        </p:nvPicPr>
        <p:blipFill>
          <a:blip r:embed="rId57"/>
          <a:stretch/>
        </p:blipFill>
        <p:spPr>
          <a:xfrm>
            <a:off x="3386160" y="2784600"/>
            <a:ext cx="849240" cy="871560"/>
          </a:xfrm>
          <a:prstGeom prst="rect">
            <a:avLst/>
          </a:prstGeom>
          <a:ln w="0">
            <a:noFill/>
          </a:ln>
        </p:spPr>
      </p:pic>
      <p:grpSp>
        <p:nvGrpSpPr>
          <p:cNvPr id="177" name="椭圆 81"/>
          <p:cNvGrpSpPr/>
          <p:nvPr/>
        </p:nvGrpSpPr>
        <p:grpSpPr>
          <a:xfrm>
            <a:off x="4687920" y="5510160"/>
            <a:ext cx="79200" cy="85680"/>
            <a:chOff x="4687920" y="5510160"/>
            <a:chExt cx="79200" cy="85680"/>
          </a:xfrm>
        </p:grpSpPr>
        <p:pic>
          <p:nvPicPr>
            <p:cNvPr id="178" name="椭圆 81" descr=""/>
            <p:cNvPicPr/>
            <p:nvPr/>
          </p:nvPicPr>
          <p:blipFill>
            <a:blip r:embed="rId58"/>
            <a:stretch/>
          </p:blipFill>
          <p:spPr>
            <a:xfrm>
              <a:off x="4687920" y="5510160"/>
              <a:ext cx="7920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700520" y="552780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椭圆 82"/>
          <p:cNvGrpSpPr/>
          <p:nvPr/>
        </p:nvGrpSpPr>
        <p:grpSpPr>
          <a:xfrm>
            <a:off x="6162840" y="6662880"/>
            <a:ext cx="79200" cy="85680"/>
            <a:chOff x="6162840" y="6662880"/>
            <a:chExt cx="79200" cy="85680"/>
          </a:xfrm>
        </p:grpSpPr>
        <p:pic>
          <p:nvPicPr>
            <p:cNvPr id="181" name="椭圆 82" descr=""/>
            <p:cNvPicPr/>
            <p:nvPr/>
          </p:nvPicPr>
          <p:blipFill>
            <a:blip r:embed="rId59"/>
            <a:stretch/>
          </p:blipFill>
          <p:spPr>
            <a:xfrm>
              <a:off x="6162840" y="6662880"/>
              <a:ext cx="7920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176880" y="668016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椭圆 83"/>
          <p:cNvGrpSpPr/>
          <p:nvPr/>
        </p:nvGrpSpPr>
        <p:grpSpPr>
          <a:xfrm>
            <a:off x="5803920" y="6492960"/>
            <a:ext cx="79200" cy="79200"/>
            <a:chOff x="5803920" y="6492960"/>
            <a:chExt cx="79200" cy="79200"/>
          </a:xfrm>
        </p:grpSpPr>
        <p:pic>
          <p:nvPicPr>
            <p:cNvPr id="184" name="椭圆 83" descr=""/>
            <p:cNvPicPr/>
            <p:nvPr/>
          </p:nvPicPr>
          <p:blipFill>
            <a:blip r:embed="rId60"/>
            <a:stretch/>
          </p:blipFill>
          <p:spPr>
            <a:xfrm>
              <a:off x="5803920" y="6492960"/>
              <a:ext cx="7920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818320" y="6507000"/>
              <a:ext cx="460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椭圆 84"/>
          <p:cNvGrpSpPr/>
          <p:nvPr/>
        </p:nvGrpSpPr>
        <p:grpSpPr>
          <a:xfrm>
            <a:off x="6692760" y="6334200"/>
            <a:ext cx="79560" cy="79200"/>
            <a:chOff x="6692760" y="6334200"/>
            <a:chExt cx="79560" cy="79200"/>
          </a:xfrm>
        </p:grpSpPr>
        <p:pic>
          <p:nvPicPr>
            <p:cNvPr id="187" name="椭圆 84" descr=""/>
            <p:cNvPicPr/>
            <p:nvPr/>
          </p:nvPicPr>
          <p:blipFill>
            <a:blip r:embed="rId61"/>
            <a:stretch/>
          </p:blipFill>
          <p:spPr>
            <a:xfrm>
              <a:off x="6692760" y="6334200"/>
              <a:ext cx="7956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708600" y="6348240"/>
              <a:ext cx="478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椭圆 85"/>
          <p:cNvGrpSpPr/>
          <p:nvPr/>
        </p:nvGrpSpPr>
        <p:grpSpPr>
          <a:xfrm>
            <a:off x="7358040" y="6156360"/>
            <a:ext cx="79560" cy="85680"/>
            <a:chOff x="7358040" y="6156360"/>
            <a:chExt cx="79560" cy="85680"/>
          </a:xfrm>
        </p:grpSpPr>
        <p:pic>
          <p:nvPicPr>
            <p:cNvPr id="190" name="椭圆 85" descr=""/>
            <p:cNvPicPr/>
            <p:nvPr/>
          </p:nvPicPr>
          <p:blipFill>
            <a:blip r:embed="rId62"/>
            <a:stretch/>
          </p:blipFill>
          <p:spPr>
            <a:xfrm>
              <a:off x="7358040" y="6156360"/>
              <a:ext cx="795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373880" y="6175440"/>
              <a:ext cx="460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椭圆 86"/>
          <p:cNvGrpSpPr/>
          <p:nvPr/>
        </p:nvGrpSpPr>
        <p:grpSpPr>
          <a:xfrm>
            <a:off x="7821720" y="5815080"/>
            <a:ext cx="79200" cy="85680"/>
            <a:chOff x="7821720" y="5815080"/>
            <a:chExt cx="79200" cy="85680"/>
          </a:xfrm>
        </p:grpSpPr>
        <p:pic>
          <p:nvPicPr>
            <p:cNvPr id="193" name="椭圆 86" descr=""/>
            <p:cNvPicPr/>
            <p:nvPr/>
          </p:nvPicPr>
          <p:blipFill>
            <a:blip r:embed="rId63"/>
            <a:stretch/>
          </p:blipFill>
          <p:spPr>
            <a:xfrm>
              <a:off x="7821720" y="5815080"/>
              <a:ext cx="7920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839000" y="5830920"/>
              <a:ext cx="460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椭圆 87"/>
          <p:cNvGrpSpPr/>
          <p:nvPr/>
        </p:nvGrpSpPr>
        <p:grpSpPr>
          <a:xfrm>
            <a:off x="8753400" y="6576840"/>
            <a:ext cx="79560" cy="86040"/>
            <a:chOff x="8753400" y="6576840"/>
            <a:chExt cx="79560" cy="86040"/>
          </a:xfrm>
        </p:grpSpPr>
        <p:pic>
          <p:nvPicPr>
            <p:cNvPr id="196" name="椭圆 87" descr=""/>
            <p:cNvPicPr/>
            <p:nvPr/>
          </p:nvPicPr>
          <p:blipFill>
            <a:blip r:embed="rId64"/>
            <a:stretch/>
          </p:blipFill>
          <p:spPr>
            <a:xfrm>
              <a:off x="8753400" y="6576840"/>
              <a:ext cx="79560" cy="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8769240" y="659448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椭圆 88"/>
          <p:cNvGrpSpPr/>
          <p:nvPr/>
        </p:nvGrpSpPr>
        <p:grpSpPr>
          <a:xfrm>
            <a:off x="8528040" y="5108400"/>
            <a:ext cx="79560" cy="86040"/>
            <a:chOff x="8528040" y="5108400"/>
            <a:chExt cx="79560" cy="86040"/>
          </a:xfrm>
        </p:grpSpPr>
        <p:pic>
          <p:nvPicPr>
            <p:cNvPr id="199" name="椭圆 88" descr=""/>
            <p:cNvPicPr/>
            <p:nvPr/>
          </p:nvPicPr>
          <p:blipFill>
            <a:blip r:embed="rId65"/>
            <a:stretch/>
          </p:blipFill>
          <p:spPr>
            <a:xfrm>
              <a:off x="8528040" y="5108400"/>
              <a:ext cx="79560" cy="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8543880" y="5124600"/>
              <a:ext cx="460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椭圆 89"/>
          <p:cNvGrpSpPr/>
          <p:nvPr/>
        </p:nvGrpSpPr>
        <p:grpSpPr>
          <a:xfrm>
            <a:off x="8290080" y="5499000"/>
            <a:ext cx="79200" cy="79560"/>
            <a:chOff x="8290080" y="5499000"/>
            <a:chExt cx="79200" cy="79560"/>
          </a:xfrm>
        </p:grpSpPr>
        <p:pic>
          <p:nvPicPr>
            <p:cNvPr id="202" name="椭圆 89" descr=""/>
            <p:cNvPicPr/>
            <p:nvPr/>
          </p:nvPicPr>
          <p:blipFill>
            <a:blip r:embed="rId66"/>
            <a:stretch/>
          </p:blipFill>
          <p:spPr>
            <a:xfrm>
              <a:off x="8290080" y="5499000"/>
              <a:ext cx="7920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304120" y="551340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椭圆 90"/>
          <p:cNvGrpSpPr/>
          <p:nvPr/>
        </p:nvGrpSpPr>
        <p:grpSpPr>
          <a:xfrm>
            <a:off x="5321160" y="4906800"/>
            <a:ext cx="79560" cy="86040"/>
            <a:chOff x="5321160" y="4906800"/>
            <a:chExt cx="79560" cy="86040"/>
          </a:xfrm>
        </p:grpSpPr>
        <p:pic>
          <p:nvPicPr>
            <p:cNvPr id="205" name="椭圆 90" descr=""/>
            <p:cNvPicPr/>
            <p:nvPr/>
          </p:nvPicPr>
          <p:blipFill>
            <a:blip r:embed="rId67"/>
            <a:stretch/>
          </p:blipFill>
          <p:spPr>
            <a:xfrm>
              <a:off x="5321160" y="4906800"/>
              <a:ext cx="79560" cy="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340240" y="4923000"/>
              <a:ext cx="460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椭圆 91"/>
          <p:cNvGrpSpPr/>
          <p:nvPr/>
        </p:nvGrpSpPr>
        <p:grpSpPr>
          <a:xfrm>
            <a:off x="6162840" y="4432320"/>
            <a:ext cx="79200" cy="84240"/>
            <a:chOff x="6162840" y="4432320"/>
            <a:chExt cx="79200" cy="84240"/>
          </a:xfrm>
        </p:grpSpPr>
        <p:pic>
          <p:nvPicPr>
            <p:cNvPr id="208" name="椭圆 91" descr=""/>
            <p:cNvPicPr/>
            <p:nvPr/>
          </p:nvPicPr>
          <p:blipFill>
            <a:blip r:embed="rId68"/>
            <a:stretch/>
          </p:blipFill>
          <p:spPr>
            <a:xfrm>
              <a:off x="6162840" y="4432320"/>
              <a:ext cx="79200" cy="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176880" y="444816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椭圆 92"/>
          <p:cNvGrpSpPr/>
          <p:nvPr/>
        </p:nvGrpSpPr>
        <p:grpSpPr>
          <a:xfrm>
            <a:off x="4552920" y="5267160"/>
            <a:ext cx="79560" cy="86040"/>
            <a:chOff x="4552920" y="5267160"/>
            <a:chExt cx="79560" cy="86040"/>
          </a:xfrm>
        </p:grpSpPr>
        <p:pic>
          <p:nvPicPr>
            <p:cNvPr id="211" name="椭圆 92" descr=""/>
            <p:cNvPicPr/>
            <p:nvPr/>
          </p:nvPicPr>
          <p:blipFill>
            <a:blip r:embed="rId69"/>
            <a:stretch/>
          </p:blipFill>
          <p:spPr>
            <a:xfrm>
              <a:off x="4552920" y="5267160"/>
              <a:ext cx="79560" cy="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568760" y="5283360"/>
              <a:ext cx="460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椭圆 93"/>
          <p:cNvGrpSpPr/>
          <p:nvPr/>
        </p:nvGrpSpPr>
        <p:grpSpPr>
          <a:xfrm>
            <a:off x="4962600" y="4919760"/>
            <a:ext cx="79200" cy="85680"/>
            <a:chOff x="4962600" y="4919760"/>
            <a:chExt cx="79200" cy="85680"/>
          </a:xfrm>
        </p:grpSpPr>
        <p:pic>
          <p:nvPicPr>
            <p:cNvPr id="214" name="椭圆 93" descr=""/>
            <p:cNvPicPr/>
            <p:nvPr/>
          </p:nvPicPr>
          <p:blipFill>
            <a:blip r:embed="rId70"/>
            <a:stretch/>
          </p:blipFill>
          <p:spPr>
            <a:xfrm>
              <a:off x="4962600" y="4919760"/>
              <a:ext cx="7920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979880" y="493704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椭圆 94"/>
          <p:cNvGrpSpPr/>
          <p:nvPr/>
        </p:nvGrpSpPr>
        <p:grpSpPr>
          <a:xfrm>
            <a:off x="5022720" y="2766960"/>
            <a:ext cx="85680" cy="92160"/>
            <a:chOff x="5022720" y="2766960"/>
            <a:chExt cx="85680" cy="92160"/>
          </a:xfrm>
        </p:grpSpPr>
        <p:pic>
          <p:nvPicPr>
            <p:cNvPr id="217" name="椭圆 94" descr=""/>
            <p:cNvPicPr/>
            <p:nvPr/>
          </p:nvPicPr>
          <p:blipFill>
            <a:blip r:embed="rId71"/>
            <a:stretch/>
          </p:blipFill>
          <p:spPr>
            <a:xfrm>
              <a:off x="5022720" y="2766960"/>
              <a:ext cx="8568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041800" y="2786040"/>
              <a:ext cx="5076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椭圆 97"/>
          <p:cNvGrpSpPr/>
          <p:nvPr/>
        </p:nvGrpSpPr>
        <p:grpSpPr>
          <a:xfrm>
            <a:off x="5022720" y="2766960"/>
            <a:ext cx="85680" cy="92160"/>
            <a:chOff x="5022720" y="2766960"/>
            <a:chExt cx="85680" cy="92160"/>
          </a:xfrm>
        </p:grpSpPr>
        <p:pic>
          <p:nvPicPr>
            <p:cNvPr id="220" name="椭圆 97" descr=""/>
            <p:cNvPicPr/>
            <p:nvPr/>
          </p:nvPicPr>
          <p:blipFill>
            <a:blip r:embed="rId72"/>
            <a:stretch/>
          </p:blipFill>
          <p:spPr>
            <a:xfrm>
              <a:off x="5022720" y="2766960"/>
              <a:ext cx="8568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041800" y="2786040"/>
              <a:ext cx="5076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椭圆 98"/>
          <p:cNvGrpSpPr/>
          <p:nvPr/>
        </p:nvGrpSpPr>
        <p:grpSpPr>
          <a:xfrm>
            <a:off x="5022720" y="2766960"/>
            <a:ext cx="85680" cy="92160"/>
            <a:chOff x="5022720" y="2766960"/>
            <a:chExt cx="85680" cy="92160"/>
          </a:xfrm>
        </p:grpSpPr>
        <p:pic>
          <p:nvPicPr>
            <p:cNvPr id="223" name="椭圆 98" descr=""/>
            <p:cNvPicPr/>
            <p:nvPr/>
          </p:nvPicPr>
          <p:blipFill>
            <a:blip r:embed="rId73"/>
            <a:stretch/>
          </p:blipFill>
          <p:spPr>
            <a:xfrm>
              <a:off x="5022720" y="2766960"/>
              <a:ext cx="8568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041800" y="2786040"/>
              <a:ext cx="5076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椭圆 99"/>
          <p:cNvGrpSpPr/>
          <p:nvPr/>
        </p:nvGrpSpPr>
        <p:grpSpPr>
          <a:xfrm>
            <a:off x="5022720" y="2766960"/>
            <a:ext cx="85680" cy="92160"/>
            <a:chOff x="5022720" y="2766960"/>
            <a:chExt cx="85680" cy="92160"/>
          </a:xfrm>
        </p:grpSpPr>
        <p:pic>
          <p:nvPicPr>
            <p:cNvPr id="226" name="椭圆 99" descr=""/>
            <p:cNvPicPr/>
            <p:nvPr/>
          </p:nvPicPr>
          <p:blipFill>
            <a:blip r:embed="rId74"/>
            <a:stretch/>
          </p:blipFill>
          <p:spPr>
            <a:xfrm>
              <a:off x="5022720" y="2766960"/>
              <a:ext cx="8568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041800" y="2786040"/>
              <a:ext cx="5076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椭圆 100"/>
          <p:cNvGrpSpPr/>
          <p:nvPr/>
        </p:nvGrpSpPr>
        <p:grpSpPr>
          <a:xfrm>
            <a:off x="4979880" y="2724120"/>
            <a:ext cx="85680" cy="92160"/>
            <a:chOff x="4979880" y="2724120"/>
            <a:chExt cx="85680" cy="92160"/>
          </a:xfrm>
        </p:grpSpPr>
        <p:pic>
          <p:nvPicPr>
            <p:cNvPr id="229" name="椭圆 100" descr=""/>
            <p:cNvPicPr/>
            <p:nvPr/>
          </p:nvPicPr>
          <p:blipFill>
            <a:blip r:embed="rId75"/>
            <a:stretch/>
          </p:blipFill>
          <p:spPr>
            <a:xfrm>
              <a:off x="4979880" y="2724120"/>
              <a:ext cx="8568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998960" y="2741760"/>
              <a:ext cx="5256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椭圆 101"/>
          <p:cNvGrpSpPr/>
          <p:nvPr/>
        </p:nvGrpSpPr>
        <p:grpSpPr>
          <a:xfrm>
            <a:off x="4979880" y="2724120"/>
            <a:ext cx="85680" cy="92160"/>
            <a:chOff x="4979880" y="2724120"/>
            <a:chExt cx="85680" cy="92160"/>
          </a:xfrm>
        </p:grpSpPr>
        <p:pic>
          <p:nvPicPr>
            <p:cNvPr id="232" name="椭圆 101" descr=""/>
            <p:cNvPicPr/>
            <p:nvPr/>
          </p:nvPicPr>
          <p:blipFill>
            <a:blip r:embed="rId76"/>
            <a:stretch/>
          </p:blipFill>
          <p:spPr>
            <a:xfrm>
              <a:off x="4979880" y="2724120"/>
              <a:ext cx="8568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998960" y="2741760"/>
              <a:ext cx="5256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椭圆 102"/>
          <p:cNvGrpSpPr/>
          <p:nvPr/>
        </p:nvGrpSpPr>
        <p:grpSpPr>
          <a:xfrm>
            <a:off x="4979880" y="2724120"/>
            <a:ext cx="85680" cy="92160"/>
            <a:chOff x="4979880" y="2724120"/>
            <a:chExt cx="85680" cy="92160"/>
          </a:xfrm>
        </p:grpSpPr>
        <p:pic>
          <p:nvPicPr>
            <p:cNvPr id="235" name="椭圆 102" descr=""/>
            <p:cNvPicPr/>
            <p:nvPr/>
          </p:nvPicPr>
          <p:blipFill>
            <a:blip r:embed="rId77"/>
            <a:stretch/>
          </p:blipFill>
          <p:spPr>
            <a:xfrm>
              <a:off x="4979880" y="2724120"/>
              <a:ext cx="8568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998960" y="2741760"/>
              <a:ext cx="5256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椭圆 103"/>
          <p:cNvGrpSpPr/>
          <p:nvPr/>
        </p:nvGrpSpPr>
        <p:grpSpPr>
          <a:xfrm>
            <a:off x="4979880" y="2724120"/>
            <a:ext cx="85680" cy="92160"/>
            <a:chOff x="4979880" y="2724120"/>
            <a:chExt cx="85680" cy="92160"/>
          </a:xfrm>
        </p:grpSpPr>
        <p:pic>
          <p:nvPicPr>
            <p:cNvPr id="238" name="椭圆 103" descr=""/>
            <p:cNvPicPr/>
            <p:nvPr/>
          </p:nvPicPr>
          <p:blipFill>
            <a:blip r:embed="rId78"/>
            <a:stretch/>
          </p:blipFill>
          <p:spPr>
            <a:xfrm>
              <a:off x="4979880" y="2724120"/>
              <a:ext cx="8568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4998960" y="2741760"/>
              <a:ext cx="5256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椭圆 104"/>
          <p:cNvGrpSpPr/>
          <p:nvPr/>
        </p:nvGrpSpPr>
        <p:grpSpPr>
          <a:xfrm>
            <a:off x="4932360" y="2676600"/>
            <a:ext cx="84240" cy="90360"/>
            <a:chOff x="4932360" y="2676600"/>
            <a:chExt cx="84240" cy="90360"/>
          </a:xfrm>
        </p:grpSpPr>
        <p:pic>
          <p:nvPicPr>
            <p:cNvPr id="241" name="椭圆 104" descr=""/>
            <p:cNvPicPr/>
            <p:nvPr/>
          </p:nvPicPr>
          <p:blipFill>
            <a:blip r:embed="rId79"/>
            <a:stretch/>
          </p:blipFill>
          <p:spPr>
            <a:xfrm>
              <a:off x="4932360" y="2676600"/>
              <a:ext cx="84240" cy="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4948200" y="2693880"/>
              <a:ext cx="5256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椭圆 105"/>
          <p:cNvGrpSpPr/>
          <p:nvPr/>
        </p:nvGrpSpPr>
        <p:grpSpPr>
          <a:xfrm>
            <a:off x="4932360" y="2676600"/>
            <a:ext cx="84240" cy="90360"/>
            <a:chOff x="4932360" y="2676600"/>
            <a:chExt cx="84240" cy="90360"/>
          </a:xfrm>
        </p:grpSpPr>
        <p:pic>
          <p:nvPicPr>
            <p:cNvPr id="244" name="椭圆 105" descr=""/>
            <p:cNvPicPr/>
            <p:nvPr/>
          </p:nvPicPr>
          <p:blipFill>
            <a:blip r:embed="rId80"/>
            <a:stretch/>
          </p:blipFill>
          <p:spPr>
            <a:xfrm>
              <a:off x="4932360" y="2676600"/>
              <a:ext cx="84240" cy="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948200" y="2693880"/>
              <a:ext cx="5256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椭圆 106"/>
          <p:cNvGrpSpPr/>
          <p:nvPr/>
        </p:nvGrpSpPr>
        <p:grpSpPr>
          <a:xfrm>
            <a:off x="4932360" y="2676600"/>
            <a:ext cx="84240" cy="90360"/>
            <a:chOff x="4932360" y="2676600"/>
            <a:chExt cx="84240" cy="90360"/>
          </a:xfrm>
        </p:grpSpPr>
        <p:pic>
          <p:nvPicPr>
            <p:cNvPr id="247" name="椭圆 106" descr=""/>
            <p:cNvPicPr/>
            <p:nvPr/>
          </p:nvPicPr>
          <p:blipFill>
            <a:blip r:embed="rId81"/>
            <a:stretch/>
          </p:blipFill>
          <p:spPr>
            <a:xfrm>
              <a:off x="4932360" y="2676600"/>
              <a:ext cx="84240" cy="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948200" y="2693880"/>
              <a:ext cx="5256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椭圆 107"/>
          <p:cNvGrpSpPr/>
          <p:nvPr/>
        </p:nvGrpSpPr>
        <p:grpSpPr>
          <a:xfrm>
            <a:off x="4932360" y="2676600"/>
            <a:ext cx="84240" cy="90360"/>
            <a:chOff x="4932360" y="2676600"/>
            <a:chExt cx="84240" cy="90360"/>
          </a:xfrm>
        </p:grpSpPr>
        <p:pic>
          <p:nvPicPr>
            <p:cNvPr id="250" name="椭圆 107" descr=""/>
            <p:cNvPicPr/>
            <p:nvPr/>
          </p:nvPicPr>
          <p:blipFill>
            <a:blip r:embed="rId82"/>
            <a:stretch/>
          </p:blipFill>
          <p:spPr>
            <a:xfrm>
              <a:off x="4932360" y="2676600"/>
              <a:ext cx="84240" cy="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948200" y="2693880"/>
              <a:ext cx="5256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椭圆 108"/>
          <p:cNvGrpSpPr/>
          <p:nvPr/>
        </p:nvGrpSpPr>
        <p:grpSpPr>
          <a:xfrm>
            <a:off x="4876920" y="2627280"/>
            <a:ext cx="85680" cy="92160"/>
            <a:chOff x="4876920" y="2627280"/>
            <a:chExt cx="85680" cy="92160"/>
          </a:xfrm>
        </p:grpSpPr>
        <p:pic>
          <p:nvPicPr>
            <p:cNvPr id="253" name="椭圆 108" descr=""/>
            <p:cNvPicPr/>
            <p:nvPr/>
          </p:nvPicPr>
          <p:blipFill>
            <a:blip r:embed="rId83"/>
            <a:stretch/>
          </p:blipFill>
          <p:spPr>
            <a:xfrm>
              <a:off x="4876920" y="2627280"/>
              <a:ext cx="8568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894200" y="2643120"/>
              <a:ext cx="5256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椭圆 109"/>
          <p:cNvGrpSpPr/>
          <p:nvPr/>
        </p:nvGrpSpPr>
        <p:grpSpPr>
          <a:xfrm>
            <a:off x="4876920" y="2627280"/>
            <a:ext cx="85680" cy="92160"/>
            <a:chOff x="4876920" y="2627280"/>
            <a:chExt cx="85680" cy="92160"/>
          </a:xfrm>
        </p:grpSpPr>
        <p:pic>
          <p:nvPicPr>
            <p:cNvPr id="256" name="椭圆 109" descr=""/>
            <p:cNvPicPr/>
            <p:nvPr/>
          </p:nvPicPr>
          <p:blipFill>
            <a:blip r:embed="rId84"/>
            <a:stretch/>
          </p:blipFill>
          <p:spPr>
            <a:xfrm>
              <a:off x="4876920" y="2627280"/>
              <a:ext cx="8568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894200" y="2643120"/>
              <a:ext cx="5256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椭圆 110"/>
          <p:cNvGrpSpPr/>
          <p:nvPr/>
        </p:nvGrpSpPr>
        <p:grpSpPr>
          <a:xfrm>
            <a:off x="4876920" y="2627280"/>
            <a:ext cx="85680" cy="92160"/>
            <a:chOff x="4876920" y="2627280"/>
            <a:chExt cx="85680" cy="92160"/>
          </a:xfrm>
        </p:grpSpPr>
        <p:pic>
          <p:nvPicPr>
            <p:cNvPr id="259" name="椭圆 110" descr=""/>
            <p:cNvPicPr/>
            <p:nvPr/>
          </p:nvPicPr>
          <p:blipFill>
            <a:blip r:embed="rId85"/>
            <a:stretch/>
          </p:blipFill>
          <p:spPr>
            <a:xfrm>
              <a:off x="4876920" y="2627280"/>
              <a:ext cx="8568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894200" y="2643120"/>
              <a:ext cx="5256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椭圆 111"/>
          <p:cNvGrpSpPr/>
          <p:nvPr/>
        </p:nvGrpSpPr>
        <p:grpSpPr>
          <a:xfrm>
            <a:off x="4876920" y="2627280"/>
            <a:ext cx="85680" cy="92160"/>
            <a:chOff x="4876920" y="2627280"/>
            <a:chExt cx="85680" cy="92160"/>
          </a:xfrm>
        </p:grpSpPr>
        <p:pic>
          <p:nvPicPr>
            <p:cNvPr id="262" name="椭圆 111" descr=""/>
            <p:cNvPicPr/>
            <p:nvPr/>
          </p:nvPicPr>
          <p:blipFill>
            <a:blip r:embed="rId86"/>
            <a:stretch/>
          </p:blipFill>
          <p:spPr>
            <a:xfrm>
              <a:off x="4876920" y="2627280"/>
              <a:ext cx="8568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894200" y="2643120"/>
              <a:ext cx="5256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17"/>
          <p:cNvGrpSpPr/>
          <p:nvPr/>
        </p:nvGrpSpPr>
        <p:grpSpPr>
          <a:xfrm>
            <a:off x="9180000" y="1143000"/>
            <a:ext cx="916560" cy="1278000"/>
            <a:chOff x="9180000" y="1143000"/>
            <a:chExt cx="916560" cy="1278000"/>
          </a:xfrm>
        </p:grpSpPr>
        <p:pic>
          <p:nvPicPr>
            <p:cNvPr id="265" name="图片 95" descr=""/>
            <p:cNvPicPr/>
            <p:nvPr/>
          </p:nvPicPr>
          <p:blipFill>
            <a:blip r:embed="rId87"/>
            <a:stretch/>
          </p:blipFill>
          <p:spPr>
            <a:xfrm rot="19229400">
              <a:off x="9313560" y="1274400"/>
              <a:ext cx="649080" cy="65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矩形 96"/>
            <p:cNvSpPr/>
            <p:nvPr/>
          </p:nvSpPr>
          <p:spPr>
            <a:xfrm>
              <a:off x="9486720" y="1793880"/>
              <a:ext cx="3394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2 0.44282 L -3.58974E-006 1.48148E-006 E">
                                      <p:cBhvr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241 0.00902 C 0.00193 0.01805 0.00113 0.04166 -0.0008 0.0625 C -0.00272 0.08333 -0.00448 0.10972 -0.00913 0.13402 C -0.01378 0.15833 -0.0181 0.17847 -0.02836 0.20763 C -0.03862 0.2368 -0.06218 0.28842 -0.07099 0.30949 E">
                                      <p:cBhvr>
                                        <p:cTn id="100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7.69231E-007 4.44444E-006 C -0.00657 0.01643 -0.00545 0.03217 -0.0149 0.05463 C -0.02436 0.07685 -0.04006 0.10185 -0.05689 0.13379 C -0.07372 0.1655 -0.0726 0.16527 -0.11522 0.24606 C -0.15801 0.32662 -0.27179 0.54004 -0.31298 0.61736 E">
                                      <p:cBhvr>
                                        <p:cTn id="10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577 0.01944 C -0.00609 0.02824 -0.00737 0.05208 -0.00802 0.07292 C -0.00866 0.09375 -0.00978 0.11967 -0.00994 0.14514 C -0.0101 0.1706 -0.00882 0.16088 -0.00898 0.22569 C -0.00914 0.29051 -0.01058 0.46991 -0.0109 0.53403 E">
                                      <p:cBhvr>
                                        <p:cTn id="10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256 0.01643 C -0.00881 0.03241 -0.01073 0.04954 -0.01698 0.06921 C -0.02323 0.08889 -0.03189 0.11273 -0.04054 0.13518 C -0.0492 0.15764 -0.05304 0.16458 -0.06939 0.20463 C -0.08573 0.24467 -0.1242 0.33981 -0.13862 0.37546 E">
                                      <p:cBhvr>
                                        <p:cTn id="11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16 -0.01736 C -0.00641 -0.00139 -0.01266 0.01458 -0.01458 0.03541 C -0.0165 0.05625 -0.0125 0.08287 -0.0117 0.10787 C -0.01089 0.13287 -0.01266 0.14606 -0.00977 0.18564 C -0.00689 0.22523 0.00241 0.31203 0.00561 0.34537 E">
                                      <p:cBhvr>
                                        <p:cTn id="11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35897E-006 -4.44444E-006 C -0.00272 0.01783 -0.00416 0.04329 -0.00625 0.05926 C -0.00817 0.075 -0.00977 0.08334 -0.01185 0.09514 C -0.01394 0.10672 -0.01298 0.10301 -0.01843 0.1294 C -0.02387 0.15602 -0.025 0.15579 -0.04423 0.2544 C -0.06346 0.35278 -0.11506 0.62362 -0.13349 0.72107 E">
                                      <p:cBhvr>
                                        <p:cTn id="122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337 -0.00023 C -0.00112 0.01041 -0.01554 0.04305 -0.02388 0.06342 C -0.03221 0.08379 -0.03622 0.09861 -0.04695 0.12176 C -0.05769 0.1449 -0.04647 0.11342 -0.0883 0.20231 C -0.13013 0.2912 -0.25432 0.56065 -0.29791 0.65509 E">
                                      <p:cBhvr>
                                        <p:cTn id="12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0256E-006 4.81481E-006 C -0.00081 0.00925 -0.00321 0.03495 -0.00513 0.05578 C -0.00706 0.07662 -0.00657 0.07199 -0.01154 0.125 C -0.01651 0.178 -0.02709 0.28379 -0.03494 0.37384 C -0.04279 0.46388 -0.05401 0.60486 -0.05898 0.6655 E">
                                      <p:cBhvr>
                                        <p:cTn id="12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5641E-006 3.7037E-006 C -0.00625 0.01597 -0.00929 0.03194 -0.01442 0.05277 C -0.01955 0.07361 -0.02436 0.09976 -0.03093 0.12453 C -0.0375 0.1493 -0.03974 0.15856 -0.054 0.20092 C -0.06827 0.24328 -0.10352 0.34166 -0.1165 0.3787 E">
                                      <p:cBhvr>
                                        <p:cTn id="13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1.02564E-006 1.85185E-006 C 0.0008 0.00856 0.00321 0.03171 0.00465 0.05116 C 0.00609 0.0706 0.00561 0.09282 0.00849 0.11643 C 0.01138 0.14004 0.00657 0.13426 0.02196 0.19282 C 0.03734 0.25139 0.08446 0.41065 0.1008 0.46782 E">
                                      <p:cBhvr>
                                        <p:cTn id="13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5641E-006 4.44444E-006 C -0.00625 0.01597 -0.00737 0.0324 -0.01442 0.05277 C -0.02147 0.07314 -0.02997 0.09791 -0.04247 0.12222 C -0.05497 0.14652 -0.05513 0.12777 -0.08958 0.19861 C -0.12404 0.26944 -0.21586 0.47453 -0.2492 0.54722 E">
                                      <p:cBhvr>
                                        <p:cTn id="13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02564E-006 3.7037E-007 C -0.00625 0.01597 -0.01026 0.03218 -0.01442 0.05278 C -0.01859 0.07338 -0.02243 0.09884 -0.02516 0.12315 C -0.02788 0.14745 -0.02131 0.08796 -0.03077 0.19884 C -0.04022 0.30972 -0.07131 0.66574 -0.08189 0.78843 E">
                                      <p:cBhvr>
                                        <p:cTn id="14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24 0.00902 C -0.00385 0.025 -0.00561 0.04189 -0.01202 0.0618 C -0.01843 0.08171 -0.02516 0.10463 -0.03638 0.12916 C -0.0476 0.1537 -0.04535 0.13726 -0.07965 0.20972 C -0.11394 0.28217 -0.20833 0.49004 -0.24215 0.56388 E">
                                      <p:cBhvr>
                                        <p:cTn id="15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577 0.01944 C -0.00561 0.0287 -0.00513 0.05463 -0.00513 0.07569 C -0.00513 0.09676 -0.00689 0.11921 -0.00609 0.14653 C -0.00529 0.17384 -0.00449 0.14514 -0.00032 0.23958 C 0.00385 0.33403 0.01491 0.61458 0.01891 0.71319 E">
                                      <p:cBhvr>
                                        <p:cTn id="15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 repeatCount="indefinite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07692E-006 -3.33333E-006 C -0.00048 0.01713 -0.00032 0.03403 -0.00096 0.05718 C -0.0016 0.08033 -0.00304 0.10973 -0.00416 0.13936 C -0.00513 0.16898 -0.00464 0.14885 -0.00737 0.23565 C -0.01009 0.32269 -0.01795 0.57246 -0.02067 0.66088 E">
                                      <p:cBhvr>
                                        <p:cTn id="161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 repeatCount="indefinite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61538E-006 4.44444E-006 C -0.00625 0.01597 -0.0125 0.03194 -0.01443 0.05277 C -0.01635 0.07361 -0.01459 0.09652 -0.01154 0.125 C -0.0085 0.15347 -0.01138 0.13564 0.00432 0.22361 C 0.02003 0.31157 0.06666 0.56342 0.08317 0.65277 E">
                                      <p:cBhvr>
                                        <p:cTn id="16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16 -0.01736 C -0.00641 -0.00139 -0.00898 0.01319 -0.01459 0.03541 C -0.0202 0.05764 -0.02228 0.07129 -0.03382 0.1162 C -0.04536 0.16111 -0.05641 0.19143 -0.08382 0.30463 C -0.11122 0.41828 -0.17436 0.69398 -0.19824 0.79676 E">
                                      <p:cBhvr>
                                        <p:cTn id="17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02564E-006 -4.44444E-006 C -0.00064 0.00926 -0.00417 0.03357 -0.00369 0.05556 C -0.00321 0.07755 -0.00481 0.08727 0.00304 0.13195 C 0.0109 0.17662 0.02195 0.21042 0.04343 0.32362 C 0.0649 0.43681 0.11346 0.70926 0.13189 0.81112 E">
                                      <p:cBhvr>
                                        <p:cTn id="182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 repeatCount="indefinite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.00336 -0.00023 C -0.00289 0.01574 -0.00465 0.03333 -0.01106 0.05254 C -0.01747 0.07176 -0.02805 0.08819 -0.03542 0.11481 C -0.04279 0.14143 -0.03622 0.09537 -0.05561 0.21203 C -0.075 0.3287 -0.13173 0.68912 -0.15177 0.81481 E">
                                      <p:cBhvr>
                                        <p:cTn id="18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 repeatCount="indefinite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82051E-006 4.44444E-006 C -0.00625 0.01597 -0.0125 0.03194 -0.01443 0.05277 C -0.01635 0.07361 -0.02116 0.07314 -0.01154 0.125 C -0.00193 0.17685 0.02756 0.29074 0.04311 0.36388 C 0.05865 0.43703 0.07355 0.52222 0.08157 0.56388 E">
                                      <p:cBhvr>
                                        <p:cTn id="19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5.12821E-007 4.81481E-006 C 0.00032 0.00925 0.00048 0.03472 0.0016 0.05578 C 0.00272 0.07685 0.00112 0.09259 0.00641 0.12662 C 0.0117 0.16064 0.01779 0.18148 0.03333 0.25995 C 0.04888 0.33842 0.0859 0.52708 0.09968 0.59745 E">
                                      <p:cBhvr>
                                        <p:cTn id="197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 repeatCount="indefinite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2.82051E-006 3.7037E-006 C -0.00161 0.00972 -0.00786 0.02615 -0.00978 0.05787 C -0.0117 0.08958 -0.01154 0.15486 -0.0117 0.18981 C -0.01186 0.22476 -0.0125 0.23796 -0.01074 0.26759 C -0.00898 0.29722 -0.00305 0.34676 -0.00112 0.36759 E">
                                      <p:cBhvr>
                                        <p:cTn id="202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 repeatCount="indefinite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5897E-006 1.85185E-006 C -0.00625 0.01597 -0.01058 0.03171 -0.01443 0.05278 C -0.01827 0.07384 -0.02052 0.10185 -0.02324 0.12616 C -0.02597 0.15046 -0.03045 0.12083 -0.03077 0.19861 C -0.03109 0.27639 -0.02629 0.51065 -0.02516 0.59282 E">
                                      <p:cBhvr>
                                        <p:cTn id="207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35897E-006 3.7037E-007 C 0.00016 0.01898 0.00064 0.08056 0.0008 0.11343 C 0.00096 0.1463 0.00064 0.17361 0.0008 0.19676 C 0.00096 0.21991 -0.00065 0.21944 0.00176 0.25231 C 0.00416 0.28518 0.0125 0.36458 0.01522 0.39398 E">
                                      <p:cBhvr>
                                        <p:cTn id="209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 repeatCount="indefinite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0024 0.00902 C 0.00256 0.01689 0.00256 0.04305 0.00352 0.05694 C 0.00448 0.07083 0.00609 0.07916 0.00833 0.09305 C 0.01057 0.10694 0.01234 0.11921 0.01698 0.14027 C 0.02163 0.16134 0.01698 0.15717 0.03621 0.21944 C 0.05544 0.28171 0.11234 0.45254 0.13237 0.51388 E">
                                      <p:cBhvr>
                                        <p:cTn id="21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 repeatCount="indefinite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577 0.01944 C -0.00577 0.02847 -0.00641 0.05278 -0.00577 0.0743 C -0.00513 0.09583 -0.00513 0.10625 -0.00192 0.1493 C 0.00128 0.19236 0.01699 0.23102 0.01346 0.33264 C 0.00994 0.43426 -0.01555 0.66991 -0.02308 0.7588 E">
                                      <p:cBhvr>
                                        <p:cTn id="21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 repeatCount="indefinite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256 0.01643 C -0.00881 0.03241 -0.01185 0.04815 -0.01698 0.06921 C -0.02211 0.09028 -0.02788 0.11944 -0.03333 0.14352 C -0.03878 0.16759 -0.02371 0.11528 -0.04968 0.21296 C -0.07564 0.31065 -0.16009 0.62199 -0.1891 0.72963 E">
                                      <p:cBhvr>
                                        <p:cTn id="22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 repeatCount="indefinite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2.5641E-006 4.44444E-006 C -0.00625 0.01597 -0.00833 0.02777 -0.01442 0.05277 C -0.02051 0.07777 -0.02339 0.10069 -0.0367 0.15 C -0.05 0.1993 -0.0766 0.29027 -0.09439 0.34861 C -0.11218 0.40694 -0.13317 0.46851 -0.14343 0.5 E">
                                      <p:cBhvr>
                                        <p:cTn id="229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016 -0.01736 C -0.00641 -0.00139 -0.01089 0.01412 -0.01458 0.03541 C -0.01827 0.05671 -0.02003 0.08564 -0.02275 0.11064 C -0.02548 0.13564 -0.02516 0.11041 -0.03141 0.18564 C -0.03766 0.26088 -0.05416 0.48356 -0.06025 0.56203 E">
                                      <p:cBhvr>
                                        <p:cTn id="2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 repeatCount="indefinite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4.10256E-006 -4.44444E-006 C -0.00625 0.01598 -0.00898 0.03172 -0.01443 0.05278 C -0.01988 0.07385 -0.02404 0.09885 -0.03302 0.12639 C -0.04199 0.15394 -0.02645 0.14491 -0.06859 0.21806 C -0.11074 0.29121 -0.24071 0.49306 -0.2859 0.56528 E">
                                      <p:cBhvr>
                                        <p:cTn id="23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.00337 -0.00023 C -0.00288 0.01574 -0.00464 0.03171 -0.01105 0.05254 C -0.01746 0.07338 -0.0133 0.08495 -0.03509 0.12453 C -0.05689 0.16412 -0.09423 0.21898 -0.14182 0.28981 C -0.18942 0.36065 -0.28349 0.49537 -0.32067 0.54953 E">
                                      <p:cBhvr>
                                        <p:cTn id="244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 repeatCount="indefinite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0256E-006 4.44444E-006 C -0.00064 0.00902 -0.00224 0.03425 -0.00352 0.05416 C -0.0048 0.07407 -0.00689 0.10208 -0.00737 0.11944 C -0.00785 0.1368 -0.00625 0.13773 -0.00641 0.15833 C -0.00657 0.17893 -0.00336 0.16689 -0.00833 0.24305 C -0.0133 0.31921 -0.03044 0.53773 -0.03621 0.61527 E">
                                      <p:cBhvr>
                                        <p:cTn id="249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2.30769E-006 4.81481E-006 C -0.00048 0.00902 -0.00305 0.03217 -0.00289 0.05439 C -0.00273 0.07662 -0.00337 0.08171 0.00096 0.13356 C 0.00529 0.18541 0.01298 0.2868 0.02307 0.3655 C 0.03317 0.44421 0.05352 0.55578 0.06154 0.60578 E">
                                      <p:cBhvr>
                                        <p:cTn id="25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 repeatCount="indefinite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4.10256E-006 3.7037E-006 C -0.00625 0.01597 -0.01025 0.03217 -0.01442 0.05277 C -0.01859 0.07338 -0.01955 0.09282 -0.02468 0.12314 C -0.0298 0.15347 -0.03637 0.17476 -0.04487 0.23426 C -0.05336 0.29375 -0.06923 0.42893 -0.07564 0.48009 E">
                                      <p:cBhvr>
                                        <p:cTn id="25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 repeatCount="indefinite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82051E-006 1.85185E-006 C -0.00625 0.01597 -0.00897 0.03241 -0.01442 0.05278 C -0.01987 0.07315 -0.02644 0.09907 -0.03253 0.12199 C -0.03862 0.14491 -0.02644 0.12662 -0.0508 0.19004 C -0.07516 0.25347 -0.15208 0.4375 -0.17868 0.50254 E">
                                      <p:cBhvr>
                                        <p:cTn id="26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2.82051E-006 3.7037E-007 C -0.00625 0.01597 -0.01041 0.03148 -0.01442 0.05278 C -0.01843 0.07407 -0.01795 0.09815 -0.02388 0.12731 C -0.0298 0.15648 -0.03141 0.16319 -0.04984 0.22731 C -0.06827 0.29143 -0.11682 0.45278 -0.13445 0.51204 E">
                                      <p:cBhvr>
                                        <p:cTn id="269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 repeatCount="indefinite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0141 0.02037 L -1.53846E-006 -3.7037E-006 E">
                                      <p:cBhvr>
                                        <p:cTn id="29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3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323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325" dur="500" fill="hold"/>
                                        <p:tgtEl>
                                          <p:spTgt spid="6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8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7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7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6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6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autoRev="1" nodeType="with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1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7" autoRev="1" nodeType="withEffect" fill="hold" presetClass="emph" presetID="6" repeatCount="3000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58" dur="1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9" autoRev="1" nodeType="withEffect" fill="hold" presetClass="emph" presetID="6" repeatCount="3000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60" dur="1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autoRev="1" nodeType="withEffect" fill="hold" presetClass="emph" presetID="6" repeatCount="3000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366" dur="15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 repeatCount="indefinite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 repeatCount="indefinite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 repeatCount="indefinite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 repeatCount="indefinite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 repeatCount="indefinite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 repeatCount="indefinite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 repeatCount="indefinite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 repeatCount="indefinite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 repeatCount="indefinite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 repeatCount="indefinite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 repeatCount="indefinite">
                                  <p:stCondLst>
                                    <p:cond delay="385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01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 repeatCount="indefinite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03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0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07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0" repeatCount="indefinite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09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11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0" repeatCount="indefinite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13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0" repeatCount="indefinite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15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17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path" presetID="0" repeatCount="indefinite">
                                  <p:stCondLst>
                                    <p:cond delay="355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19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0" repeatCount="indefinite">
                                  <p:stCondLst>
                                    <p:cond delay="3850"/>
                                  </p:stCondLst>
                                  <p:childTnLst>
                                    <p:animMotion origin="layout" path="M -0.00128 0.00416 L 0.00032 0.38705 E">
                                      <p:cBhvr>
                                        <p:cTn id="421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 repeatCount="indefinite">
                                  <p:stCondLst>
                                    <p:cond delay="365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0" repeatCount="indefinite">
                                  <p:stCondLst>
                                    <p:cond delay="365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26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 repeatCount="indefinite">
                                  <p:stCondLst>
                                    <p:cond delay="385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 repeatCount="indefinite">
                                  <p:stCondLst>
                                    <p:cond delay="385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3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01121E-006 -5.20231E-007 C -0.05253 0.00555 -0.19232 -0.01919 -0.3153 0.03353 C -0.43827 0.08624 -0.45317 0.14543 -0.48952 0.17503 E">
                                      <p:cBhvr>
                                        <p:cTn id="433" dur="3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35" dur="1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0.49119 0.17662 C -0.51859 0.14815 -0.5867 -0.00254 -0.65529 0.00649 C -0.72388 0.01551 -0.82452 0.18866 -0.90273 0.23056 C -0.98093 0.27246 -1.07837 0.25255 -1.12452 0.25834 E">
                                      <p:cBhvr>
                                        <p:cTn id="437" dur="4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4.16667E-006 2.22222E-006 L 0.0507 0.00023 E">
                                      <p:cBhvr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0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33333E-006 -3.33333E-006 L 0.02761 0.04723 E">
                                      <p:cBhvr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path" presetID="0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33333E-006 -3.33333E-006 L 0.04323 0.02616 E">
                                      <p:cBhvr>
                                        <p:cTn id="451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path" presetID="0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33333E-006 -1.85185E-006 L 0.01181 0.06852 E">
                                      <p:cBhvr>
                                        <p:cTn id="453" dur="5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713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713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713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713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path" presetID="0">
                                  <p:stCondLst>
                                    <p:cond delay="7130"/>
                                  </p:stCondLst>
                                  <p:childTnLst>
                                    <p:animMotion origin="layout" path="M -4.16667E-006 2.22222E-006 L 0.0507 0.00023 E">
                                      <p:cBhvr>
                                        <p:cTn id="475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0">
                                  <p:stCondLst>
                                    <p:cond delay="7130"/>
                                  </p:stCondLst>
                                  <p:childTnLst>
                                    <p:animMotion origin="layout" path="M -3.33333E-006 -3.33333E-006 L 0.02761 0.04723 E">
                                      <p:cBhvr>
                                        <p:cTn id="477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7130"/>
                                  </p:stCondLst>
                                  <p:childTnLst>
                                    <p:animMotion origin="layout" path="M -3.33333E-006 -3.33333E-006 L 0.04323 0.02616 E">
                                      <p:cBhvr>
                                        <p:cTn id="479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0">
                                  <p:stCondLst>
                                    <p:cond delay="7130"/>
                                  </p:stCondLst>
                                  <p:childTnLst>
                                    <p:animMotion origin="layout" path="M -3.33333E-006 -1.85185E-006 L 0.01181 0.06852 E">
                                      <p:cBhvr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713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713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713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713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716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716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716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716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0">
                                  <p:stCondLst>
                                    <p:cond delay="7160"/>
                                  </p:stCondLst>
                                  <p:childTnLst>
                                    <p:animMotion origin="layout" path="M -4.16667E-006 2.22222E-006 L 0.0507 0.00023 E">
                                      <p:cBhvr>
                                        <p:cTn id="503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0">
                                  <p:stCondLst>
                                    <p:cond delay="7160"/>
                                  </p:stCondLst>
                                  <p:childTnLst>
                                    <p:animMotion origin="layout" path="M -3.33333E-006 -3.33333E-006 L 0.02761 0.04723 E">
                                      <p:cBhvr>
                                        <p:cTn id="505" dur="5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0">
                                  <p:stCondLst>
                                    <p:cond delay="7160"/>
                                  </p:stCondLst>
                                  <p:childTnLst>
                                    <p:animMotion origin="layout" path="M -3.33333E-006 -3.33333E-006 L 0.04323 0.02616 E">
                                      <p:cBhvr>
                                        <p:cTn id="507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0">
                                  <p:stCondLst>
                                    <p:cond delay="7160"/>
                                  </p:stCondLst>
                                  <p:childTnLst>
                                    <p:animMotion origin="layout" path="M -3.33333E-006 -1.85185E-006 L 0.01181 0.06852 E">
                                      <p:cBhvr>
                                        <p:cTn id="509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716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716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716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716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4.16667E-006 2.22222E-006 L 0.0507 0.00023 E">
                                      <p:cBhvr>
                                        <p:cTn id="531" dur="5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3.33333E-006 -3.33333E-006 L 0.02761 0.04723 E">
                                      <p:cBhvr>
                                        <p:cTn id="533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3.33333E-006 -3.33333E-006 L 0.04323 0.02616 E">
                                      <p:cBhvr>
                                        <p:cTn id="535" dur="5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3.33333E-006 -1.85185E-006 L 0.01181 0.06852 E">
                                      <p:cBhvr>
                                        <p:cTn id="537" dur="5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ppt宝藏</dc:creator>
  <dc:description/>
  <dc:language>en-US</dc:language>
  <cp:lastModifiedBy>clf2015</cp:lastModifiedBy>
  <dcterms:modified xsi:type="dcterms:W3CDTF">2015-09-01T06:46:34Z</dcterms:modified>
  <cp:revision>22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IP等级">
    <vt:lpwstr>2</vt:lpwstr>
  </property>
  <property fmtid="{D5CDD505-2E9C-101B-9397-08002B2CF9AE}" pid="3" name="_模板ID">
    <vt:lpwstr/>
  </property>
  <property fmtid="{D5CDD505-2E9C-101B-9397-08002B2CF9AE}" pid="4" name="价格">
    <vt:lpwstr>55</vt:lpwstr>
  </property>
  <property fmtid="{D5CDD505-2E9C-101B-9397-08002B2CF9AE}" pid="5" name="使用说明">
    <vt:lpwstr>请使用PPT打开</vt:lpwstr>
  </property>
  <property fmtid="{D5CDD505-2E9C-101B-9397-08002B2CF9AE}" pid="6" name="使用软件">
    <vt:lpwstr>ppt</vt:lpwstr>
  </property>
  <property fmtid="{D5CDD505-2E9C-101B-9397-08002B2CF9AE}" pid="7" name="关键字">
    <vt:lpwstr>背景 文本框 文字 白色 橙色 蝴蝶 黄色 中秋 形状 排版 线条 排列 说明 版式 灰 并列 列表 其他关系 V2 PPT动画模板 开场动画 内容动画</vt:lpwstr>
  </property>
  <property fmtid="{D5CDD505-2E9C-101B-9397-08002B2CF9AE}" pid="8" name="操作代码">
    <vt:lpwstr>1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中秋节动画</vt:lpwstr>
  </property>
  <property fmtid="{D5CDD505-2E9C-101B-9397-08002B2CF9AE}" pid="12" name="模板ID">
    <vt:lpwstr>A60620130813A07</vt:lpwstr>
  </property>
  <property fmtid="{D5CDD505-2E9C-101B-9397-08002B2CF9AE}" pid="13" name="模板缩略图">
    <vt:lpwstr>A60620130813A07.png</vt:lpwstr>
  </property>
  <property fmtid="{D5CDD505-2E9C-101B-9397-08002B2CF9AE}" pid="14" name="相关案例">
    <vt:lpwstr>854</vt:lpwstr>
  </property>
  <property fmtid="{D5CDD505-2E9C-101B-9397-08002B2CF9AE}" pid="15" name="缩略图标题">
    <vt:lpwstr>A60620130813A0701.mp4</vt:lpwstr>
  </property>
  <property fmtid="{D5CDD505-2E9C-101B-9397-08002B2CF9AE}" pid="16" name="适用软件">
    <vt:lpwstr>PowerPoint 2007 及以上版本</vt:lpwstr>
  </property>
  <property fmtid="{D5CDD505-2E9C-101B-9397-08002B2CF9AE}" pid="17" name="附件ID">
    <vt:lpwstr>A60620130813A0701</vt:lpwstr>
  </property>
  <property fmtid="{D5CDD505-2E9C-101B-9397-08002B2CF9AE}" pid="18" name="附件缩略图">
    <vt:lpwstr>A60620130813A0701.png</vt:lpwstr>
  </property>
  <property fmtid="{D5CDD505-2E9C-101B-9397-08002B2CF9AE}" pid="19" name="附件路径">
    <vt:lpwstr>A60620130813A0701.pptx</vt:lpwstr>
  </property>
</Properties>
</file>