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8320" y="685440"/>
            <a:ext cx="5121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F5ED-F09F-42A3-8B6D-625D0FECD0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868320" y="685800"/>
            <a:ext cx="512136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出处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资源宝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14A5-B46D-4353-8416-7324D4274E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5E5-8A9B-45DD-8C01-A029ADC4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9AF-5FBF-41E0-BC8E-3A17E29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C72-8063-4F90-8A8A-101B5A8A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70A-3A9B-488F-B7D1-3243D2AE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7C4-891A-493F-913C-C0D69FF2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879-E755-47D6-BF6E-5323BC8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30A-830F-4680-B34D-67ED13F5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280-2536-4884-96EB-3341B74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9F3-8FE3-4812-8C34-C7FEC645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9D4-F982-4DB3-98DB-D2BFC4E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C68-6257-4F0B-ACEB-13FEA668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A6A-8EA0-45AB-955D-6C354AB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4330-4FE9-40A5-9D84-E90D762F9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rcRect l="0" t="0" r="0" b="6885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4"/>
          <p:cNvSpPr/>
          <p:nvPr/>
        </p:nvSpPr>
        <p:spPr>
          <a:xfrm>
            <a:off x="4870440" y="9477360"/>
            <a:ext cx="215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 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4" descr=""/>
          <p:cNvPicPr/>
          <p:nvPr/>
        </p:nvPicPr>
        <p:blipFill>
          <a:blip r:embed="rId2"/>
          <a:srcRect l="20556" t="0" r="0" b="8203"/>
          <a:stretch/>
        </p:blipFill>
        <p:spPr>
          <a:xfrm>
            <a:off x="0" y="4124160"/>
            <a:ext cx="4583160" cy="2008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" descr=""/>
          <p:cNvPicPr/>
          <p:nvPr/>
        </p:nvPicPr>
        <p:blipFill>
          <a:blip r:embed="rId3"/>
          <a:stretch/>
        </p:blipFill>
        <p:spPr>
          <a:xfrm>
            <a:off x="1476360" y="973080"/>
            <a:ext cx="6437160" cy="4803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8" descr=""/>
          <p:cNvPicPr/>
          <p:nvPr/>
        </p:nvPicPr>
        <p:blipFill>
          <a:blip r:embed="rId4"/>
          <a:stretch/>
        </p:blipFill>
        <p:spPr>
          <a:xfrm>
            <a:off x="4495680" y="1203480"/>
            <a:ext cx="2362320" cy="1444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9" descr=""/>
          <p:cNvPicPr/>
          <p:nvPr/>
        </p:nvPicPr>
        <p:blipFill>
          <a:blip r:embed="rId5"/>
          <a:stretch/>
        </p:blipFill>
        <p:spPr>
          <a:xfrm>
            <a:off x="6299280" y="181080"/>
            <a:ext cx="1882800" cy="3490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" descr=""/>
          <p:cNvPicPr/>
          <p:nvPr/>
        </p:nvPicPr>
        <p:blipFill>
          <a:blip r:embed="rId6"/>
          <a:stretch/>
        </p:blipFill>
        <p:spPr>
          <a:xfrm>
            <a:off x="7481880" y="1052640"/>
            <a:ext cx="1627200" cy="16858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3" descr=""/>
          <p:cNvPicPr/>
          <p:nvPr/>
        </p:nvPicPr>
        <p:blipFill>
          <a:blip r:embed="rId7"/>
          <a:srcRect l="0" t="0" r="72738" b="8204"/>
          <a:stretch/>
        </p:blipFill>
        <p:spPr>
          <a:xfrm>
            <a:off x="7570800" y="4130640"/>
            <a:ext cx="1573200" cy="2008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"/>
          <p:cNvPicPr/>
          <p:nvPr/>
        </p:nvPicPr>
        <p:blipFill>
          <a:blip r:embed="rId8"/>
          <a:stretch/>
        </p:blipFill>
        <p:spPr>
          <a:xfrm>
            <a:off x="-122400" y="1219320"/>
            <a:ext cx="1567080" cy="804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7"/>
          <p:cNvSpPr/>
          <p:nvPr/>
        </p:nvSpPr>
        <p:spPr>
          <a:xfrm>
            <a:off x="3847680" y="2590920"/>
            <a:ext cx="31006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中秋八月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美景伴人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愿皎月添你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桂香增你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玉兔伴你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嫦娥共你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祝愿佳节快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花好月圆合家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11" descr=""/>
          <p:cNvPicPr/>
          <p:nvPr/>
        </p:nvPicPr>
        <p:blipFill>
          <a:blip r:embed="rId9"/>
          <a:stretch/>
        </p:blipFill>
        <p:spPr>
          <a:xfrm>
            <a:off x="1187280" y="396720"/>
            <a:ext cx="2468880" cy="243684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2"/>
          <p:cNvGrpSpPr/>
          <p:nvPr/>
        </p:nvGrpSpPr>
        <p:grpSpPr>
          <a:xfrm>
            <a:off x="1630440" y="2206800"/>
            <a:ext cx="2160360" cy="1433160"/>
            <a:chOff x="1630440" y="2206800"/>
            <a:chExt cx="2160360" cy="1433160"/>
          </a:xfrm>
        </p:grpSpPr>
        <p:pic>
          <p:nvPicPr>
            <p:cNvPr id="60" name="图片 12" descr=""/>
            <p:cNvPicPr/>
            <p:nvPr/>
          </p:nvPicPr>
          <p:blipFill>
            <a:blip r:embed="rId10"/>
            <a:stretch/>
          </p:blipFill>
          <p:spPr>
            <a:xfrm>
              <a:off x="1630440" y="2206800"/>
              <a:ext cx="216036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1"/>
            <p:cNvSpPr/>
            <p:nvPr/>
          </p:nvSpPr>
          <p:spPr>
            <a:xfrm>
              <a:off x="1888920" y="2851200"/>
              <a:ext cx="142884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4.16667E-006 -6.33437E-007 E">
                                      <p:cBhvr>
                                        <p:cTn id="8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3.61111E-006 9.13811E-007 E">
                                      <p:cBhvr>
                                        <p:cTn id="10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209 -0.00026 L 2.77778E-006 -2.25337E-006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4" dur="2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6" dur="2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3200"/>
                                  </p:stCondLst>
                                  <p:childTnLst>
                                    <p:animRot by="120000">
                                      <p:cBhvr>
                                        <p:cTn id="4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2">
                                  <p:stCondLst>
                                    <p:cond delay="3400"/>
                                  </p:stCondLst>
                                  <p:childTnLst>
                                    <p:animRot by="120000">
                                      <p:cBhvr>
                                        <p:cTn id="5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3500"/>
                                  </p:stCondLst>
                                  <p:iterate type="wd">
                                    <p:tmAbs val="4.99999988824129"/>
                                  </p:iterate>
                                  <p:childTnLst>
                                    <p:animMotion origin="layout" path="M -0.16336 -0.71796 C -0.14461 -0.73378 -0.10937 -0.81162 -0.05069 -0.81059 C 0.00799 -0.80955 0.1632 -0.70394 0.18907 -0.71121 C 0.21494 -0.71796 0.14775 -0.85054 0.10487 -0.8534 C 0.06198 -0.85625 -0.00746 -0.73975 -0.06822 -0.72781 C -0.12899 -0.71536 -0.23732 -0.75376 -0.26024 -0.77971 C -0.28316 -0.80566 -0.23958 -0.86741 -0.20625 -0.88402 C -0.17291 -0.90062 -0.121 -0.88454 -0.06024 -0.87935 C 0.000530000000000003 -0.87416 0.11598 -0.8905 0.15886 -0.8534 C 0.20174 -0.81629 0.26806 -0.64608 0.19688 -0.65672 C 0.1257 -0.6671 -0.17986 -0.89777 -0.26822 -0.91723 C -0.35659 -0.93669 -0.33263 -0.81136 -0.33316 -0.7727 C -0.33368 -0.7343 -0.30416 -0.69875 -0.27135 -0.68474 C -0.23854 -0.67177 -0.17847 -0.69071 -0.13645 -0.69227 C -0.09444 -0.69486 -0.10503 -0.71536 -0.01875 -0.69642 C 0.06754 -0.67774 0.34046 -0.55838 0.38108 -0.57862 C 0.42171 -0.5986 0.25886 -0.78282 0.22553 -0.81759 C 0.19219 -0.85236 0.19028 -0.80799 0.18108 -0.78697 C 0.17188 -0.76596 0.19931 -0.71925 0.16997 -0.69201 C 0.14063 -0.66476 0.05365 -0.61002 0.00487 -0.62351 C -0.04392 -0.637 -0.08142 -0.76544 -0.12326 -0.77322 C -0.1651 -0.78101 -0.23611 -0.64816 -0.246 -0.67099 C -0.2559 -0.69382 -0.20816 -0.96627 -0.18211 -0.91074 C -0.15607 -0.85522 -0.1085 -0.45693 -0.08941 -0.33757 E">
                                      <p:cBhvr>
                                        <p:cTn id="62" dur="2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35:34Z</dcterms:created>
  <dc:creator>ppt宝藏</dc:creator>
  <dc:description/>
  <dc:language>en-US</dc:language>
  <cp:lastModifiedBy>clf2015</cp:lastModifiedBy>
  <dcterms:modified xsi:type="dcterms:W3CDTF">2015-09-01T06:47:46Z</dcterms:modified>
  <cp:revision>13</cp:revision>
  <dc:subject/>
  <dc:title>www.pptbz.com</dc:title>
</cp:coreProperties>
</file>