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C4B-78CA-454F-A517-AF8BC41F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A8B-4B1E-4216-8EF9-2A599C5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6459A-3093-4406-AAD9-52EA4A15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9C5A7-663F-4C10-A558-8B07A608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1B988-E87D-4712-88DD-15ED0529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23FAF-596B-4D32-AEA5-96121E2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B81A-D995-467B-B463-6C61128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04F85-8ACD-40CB-A855-27D04345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2225-733E-46C7-8A1F-DD98A22B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63624-61A0-4FDE-B7D1-E25A4B53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E7239-FCED-4E89-B14C-1DC23714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78419-7B38-489A-A030-190905B1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95A-3513-481E-B451-50350B2A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0B6CC-B6F7-43E0-B0A7-43944A2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14BCD-5D99-4744-83AB-4CD26270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78E57-EC3D-4870-92CD-5188D7C3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82801-6302-4898-96E1-9967E92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C3424-9008-47B5-A2B5-E0E1ABC7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8E9C4-E014-4962-82CF-0DDFE27A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7E9B4-449E-403A-A2F2-45295126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0DCE3-7A94-4B4C-8753-87D2E6B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06458-C876-44AD-BDB8-B83E03F5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0BFC3-9E41-4E5F-B712-B40B1F2C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290-AB68-448D-A42D-0B6BC08A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A865F-5608-4890-BAD4-A0BDFC15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D799D-1549-4102-8896-577E2A1D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C4C83-5082-488E-A34F-2F89F9C8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33AA1-2BDD-451C-B191-7A5F95DE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450CC-ABE1-49DD-ACD9-4F8B8844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F2081-79A5-4679-A484-6773384D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4FC8F-8B39-4523-9E4C-D6F52DD9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F236E-B72C-4633-8A34-B909904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FE286-6895-4B31-BC39-F06EB434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829D9-AABF-4E44-9D11-0143897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5F018-8C4F-46A1-9CC6-3B7031AB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C7D94-23FB-4A9B-A12D-D01031A2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092BD-D679-46C5-B678-C8508DE7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ABE26-258F-4AB9-B99C-3F9BB9BE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1DC7E-2BE4-40C5-84AF-213DDA3D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E2815-80F3-4FC6-8167-2D856C37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255BD-80F4-4C4D-BA77-AFA14A77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CFBD1-F435-44B7-9D14-C2CC9D9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21B92-DDD8-471B-AAC0-07484F8F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FE730-E145-48F9-AA63-DEEE33B8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A0101-8812-4DD8-930C-17BFC57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06D2D-23B1-45D4-B500-3888F5FE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2DC7C-724E-442C-9A61-20EFA237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19FA5-A198-4986-A7FE-D201869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31F50-8EF7-47D9-B405-5A2AFA91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DD586-B4AF-431E-A1B2-AEDB2F52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C21C5-79EA-4CBF-A758-85D5C9F4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E42EE-040E-463A-AFC5-225E0D50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49203-A099-4737-8DE1-D2108E07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76087-D861-40F8-8733-4C7C88DD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46922-E96E-4E3B-BE0E-FB7F030E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F7055-B893-4A18-A252-D8FBD9B2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4522D-31C9-43AE-B2CA-A31CB594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6614A-46AA-4D0C-B14A-8B1F949A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FD8E5-9479-4050-A82A-F4C48405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139BC-AB48-499D-9E5C-74C9DEB2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7FFC3-6A75-4742-BA74-786F508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C8A09-F385-4759-85DE-E861C5B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DF6A8-58CC-45FB-8CD8-C775AD0B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3A47C-905D-496C-8709-6C85973F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E33B5-0BD6-4852-AFF0-0F6CF9C9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482E4-A655-4893-9F17-38E9638E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E8AC8-4E95-4B4E-A515-49B2C49B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2F324-77FD-47C7-AC40-0ECF34AA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1AC07-0480-4C86-97F3-27F9536E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DAB68-B328-4AC3-A873-C5CFE2F8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CEE87-2620-442E-A86D-E7879FD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FB4F7-6AEA-4D8A-A8ED-1A32405E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711D5-E229-4F0A-94B9-6E41E6E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CF78A-74C3-4D3B-BBEB-74738C0A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1CB63-4C0E-43FA-8689-9FE5381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BFB77-978B-4898-A6D8-41961D59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FB537-743E-4F73-BCBB-BD0115BD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F5F9B-82BB-4722-9531-A460A215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9F8F2-58CB-401F-BB85-E2EDBDA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2BF22-B83E-43EA-8AC1-875C861D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13DDF-5EFF-4031-B1D8-F98C12C8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229AF-C21D-44CE-BBAB-2172AFAF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BD0F5-A738-4960-8292-0055C0EA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8B072-2299-4073-8230-1EFEC27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8BA90-2598-46B8-B408-01780D90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0FBD1-700D-4A60-AFC0-9E9D3555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E2E2E-5E7A-49A8-9FD7-26DDC267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2EBC9-6135-40A2-9D9A-8A4125E1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4667F-CD8E-40C2-90CE-74359DE1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696CB-4657-4365-B324-7E76B490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66CC0-7094-47E6-A9DC-351A3FB0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164F3-5C8C-4416-A087-4DAE9475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BE89D-B411-497F-9369-DA884DAE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47219-35AC-4A56-975A-732E1CBA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FA3E6-A554-4F11-8EEC-88233C46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B81CF-68F3-49F3-BB8B-37C785F7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F0E3F-BF2C-43C7-BFDA-EB25677F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83C1B-FF96-4511-9994-DBF671DA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D75D0-1598-4755-B091-5C9873F2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42237-27B2-4533-A7CC-BC8084BA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A799C-7425-44D3-B537-E4FF717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BC4E3-8094-4FE9-93A5-2F3E1599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BBBFE-0DE7-47FA-BDA1-5202812F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799BC-79B2-4831-9B87-4775155A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DB76A-D968-4FB7-AB54-241866D1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14D3C-F71D-4DF7-96EE-DDCBC325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2EA1D-3FBB-40FB-8ECA-DD18A5D8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C7117-1B15-4034-ACD5-1065C07C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4C6D5-A81D-45D0-B3C2-7476845A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E26B4-257E-4C1A-B0C6-AAC47B3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3827F-4316-42FA-89BD-CB0BFA7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53B-1835-42B9-84BC-533AD1F9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3BE3B-EECF-4025-8190-2A3ABB7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C83C4-AD4A-45FD-B62A-1CDEDD9D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55391-F385-4A2E-84FE-D9636D1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7AB79-B557-4044-8649-5D6BAA6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C40BF-FF6D-4EEB-9D6C-42D0CB85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9DE9F-F724-4A47-9E1C-D2CED3D4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D5BD1-9C5A-40AF-81EF-FB8CFC96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61222-04D8-480A-9B9B-46DBC615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6336E-4E02-4643-9D4E-AE5EC0C4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C6FB1-030B-46F5-A03E-5B014AF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5D49DB-CA69-4B09-A2EC-4FAAE8EF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2CB39-D939-47F0-8F18-D0349FB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6D3C5-93F2-4321-9233-7ABAA01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0F0D2-3D34-4ECB-BB62-041AED3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A6199-8CC1-438A-9CF5-E1847C0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66747-6D73-43B8-BBD7-DC3E65D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4F2D4-12F1-4159-BF87-F990AFDF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C3F82-38A8-4B67-9FC6-08A51228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A6FF4-B07F-424F-895B-CFEA6DB3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73938-3D69-46C3-B42E-9B963397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B8FF1-6156-47B2-9471-7828EAFE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E4F244-E55C-48C5-8303-2F60B356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CA1DE-231F-44FB-AFCE-78BA3EF2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FE4AB-3667-42C8-9B5B-506F78E6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BCED1-6B9E-42EF-85F4-9AD61292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409A3-B015-46C0-88E0-3F370FB2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7E726-D32B-4670-B618-D945262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E0BE2-86F7-4A88-8743-36F51391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215CA-6666-4FE3-A964-3A71C27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71BFE-0FF7-4FB6-A131-23D280C7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5B30D-B69C-47D6-ABE7-8A979BBB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0851C-E6B4-4635-B62D-1B2B9ECF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D556CC-7A2D-4985-A7EF-A72FB2D8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4E298-83A7-403B-9FFD-3BAB3CDA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B799BF-E710-4FF3-8D1A-9AF9209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91C432-9B36-40DF-AE94-F438A25F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3589DE-FBA4-4146-B5E2-78378F14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3434FB8-E5BA-4C0D-A24F-F676B968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22D192-1B0A-4C96-AF36-F99198E4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D04A29-B4AB-4BE7-AFD3-3C4CBF9C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951F8A-7E14-49E7-AD5F-BE1D0205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EEF2D2-8C23-420D-9707-5CC7130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A257C8-5A23-4AE4-8A04-22E01D02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0F704E-3927-4B02-B6F4-9F3B44A2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70671-A688-43E0-AD05-FD8CF310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320A4C-3826-493E-B625-51C441D1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0360D-A882-493F-A00C-2F90115C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8EDE3-2377-46B9-BFD3-9C8496E4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A1034-7ABF-4506-8891-EC1D6E56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94AD4D-64D8-40C0-96B3-0284C0EB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B53112-3A3F-4CD0-813A-1A4D86B5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8593B2-BF11-453D-9268-759E5C2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7E93A-7E86-4809-84F1-A2F05EB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6093D-ACA9-4528-B59E-371E5171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076799-F6D0-490D-84AE-90D4223A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9B52-75EC-4422-A034-24B34A97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A8BD8-30B0-46EC-B941-8D2C6645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C140D-4D59-46FD-991C-3FDA4788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B456C-A8EF-4091-B206-4961CE96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CB7E89-AC5A-48C6-A020-53003B4F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97792C-EA88-4F43-AA79-8AA43202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DFD47D-0C5C-4F12-B129-665B695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3BBDB2-8CF2-4343-B66C-9812DC76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1BD74F-D0FD-48C5-A3E0-152A60D7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49CFDF-2702-4C5D-9881-7ED821E7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BA1131-CDD2-4BBD-92A6-65E9D2E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CE3B-1E5D-4BD4-8ED9-0617BEC7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7A1646-D575-4517-912F-919A5D0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0C582-787F-4246-A565-BB4C77E2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0BC613-E65F-49BF-BD83-6AAEAB2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FFEA91-8DAD-4E55-AD57-05AD60F2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FF8950-FA7B-47B6-84CF-64F8D1B1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F7B2-43A4-4C2A-A20E-D0381282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7232-89DF-4FA5-834F-C2E7153B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684E-1033-427B-8966-55FC5634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23B-466C-4257-9201-AF9AFE28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3B43-BAC1-4BEE-8E5C-66B0B799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6A20-075B-401F-9F15-BF4D9EE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80DE-7A49-49CA-A80D-2710D1C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884E-D22A-40FB-873A-A1A68CBD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53AC-93FA-4195-9C7F-DAF50E15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EBE53-8CE8-4807-9D28-6B49BE6C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782C-5844-4250-AF06-04B6937F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0E08-20EA-4EF6-B141-50BD5879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D40A-6317-459A-B0FA-1907EBFF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2609-1D1D-4B5E-9681-0CB57634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4DC-9477-4CF0-B722-F0B50933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45A3-BD1D-44AB-B6FA-9FB53A72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FBDB-AC20-4F3E-A6C8-573BF207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FCA6A-207D-49A3-8B4E-D25C7BED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4A11-39FF-4A1E-A395-323565E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48FC-84DF-4DC1-B2AD-B08DD4F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E9C96-0BD6-4309-A869-3CA3649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4935-811A-4D2C-AB85-A155DADF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BD32-0C6A-409E-B817-348A566B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67BC-2B4C-41E6-A06F-A11F0FA8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E0FC8-67C5-41FF-B3F1-90A0C8C5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14C-958C-4A40-BEFC-458AF3C6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4074-22E3-4454-B6EB-8CB3E38C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B530B-8C3E-4331-805B-D471728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6EB16-1F06-466D-A96E-D445BEFF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5696-AD89-49BE-B459-EBD232D2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67DE-6A71-41F7-86B3-A9944C5B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A147-1E6F-49BC-AE44-A3FE28AB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AC01-DAB7-43C1-A79F-E83FCFB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ABE90-CF13-4B00-9306-BF0B530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BFE22-1C57-4FC5-955D-1BD92B76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D9E69-5337-4EF9-A7DF-FE0EE9AF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E75-F1E8-4208-BF7A-20393121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2AB9-2BE0-486B-9B01-F33B6026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367EE-5EB1-4127-9382-435D24F8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BC1EF-DF21-469F-A4B1-27F1B72D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6C2E-22CC-4FD8-93D6-B4E80CF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F4F4-8CC0-4173-93D8-854F0321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D01D-523B-4FD1-BCB3-781B74C5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9A5A3-A31B-47C0-A18D-C4E067B8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BD3E2-1845-4E75-B374-31A1378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286C-7393-4963-9EF4-31224810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E00F1-EDD9-4AC4-A1E4-291AD04F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E2E-38D4-46F2-AA95-C9ED77F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BC0C-8B0D-4117-9C07-B6A756DD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54C4-EF50-41C0-9C94-C6776C46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F3F61-A571-4AD2-A17E-ED869E66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4BC0-EEA0-40C7-A31F-D585CBA7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A52D6-B80B-4195-8806-3F61FB2A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8C9B0-1ECD-4693-951B-1718E4A8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7675-8C8F-438C-A5BD-B2657C76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49900-94E2-4010-B0EF-132E03FE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4756B-9AAF-4057-B533-E18BAE74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CE444-E161-4067-8B2D-0AB11A0E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2A6-5B75-47E4-B4B3-A6A8BE42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632E5-8B4B-4B35-A985-981A625F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4A350-0BA5-46F7-A199-113B165A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E1848-69C7-4E0E-8BA5-F39CFDA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AAD67-3E67-4C44-9030-D9A8E89E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C1283-5312-4298-88F9-9748247F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4F24D-7C23-4D49-885A-D6018BA9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A0104-488A-4922-B6A3-95C3DB4C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493A9-409E-40F0-9FEE-FDDC57B8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C5B8E-7CB1-4F47-BAFB-2C284601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A2844-B4F3-4B0E-AB09-20D0A46D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920-FAAE-4D60-BF26-33F50D6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14ED-016D-4105-9894-5F308691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06A83-075C-4E39-B6C9-B0A21F9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2ECD7-3BCC-4B71-A033-4D74CB1D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AA47-C40C-4C8E-AEEE-4958CDB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0A3AB-20CD-4651-AF71-92BFAD8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BD98C-9B29-4726-B42B-82033D2F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71C7-47BD-49B5-93F5-088E5475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4E435-A909-4506-9418-ADC29602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BFB01-08F4-4114-B2F2-30A350E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C10FB-2708-4AF4-BCF6-32956153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AA87-DD9F-4863-A9D0-F0DA0AE2C4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7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8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3D8B-8FE1-4C02-9FD7-0C7676E9AE0B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CB98-5A01-4D67-B76E-310C5DD062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4191-348E-4CB3-B75E-F375EAE51C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3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3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5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41D4-991B-45EE-B14E-DBB9CB6E3D5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2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4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3DB-2FD4-42D5-BFD2-9DDE28694CFA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4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4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4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92D3-5B49-4111-824E-AFB641C6A2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B24E-CEBB-47F7-B383-395B1D2CA1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0D97-4734-4A2D-A989-78190345CD7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073-2702-46D3-80FC-7BF43EA4F2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8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8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18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D15B-587A-4894-BE9B-636CE43980E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2154-F8BA-4449-AE3E-9DA1950635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4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4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4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CD25-A2B7-4255-8796-0EF334A19B9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6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6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3878-4340-424A-B334-47D5D859EE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dt" idx="6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 type="sldNum" idx="6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344A-2887-49CE-8007-2C82ABE261C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93C2-288E-4E02-9A13-AF56B2978E3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FEEE-2674-4637-87F3-396D3F7FE78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5C9C-24CA-4E55-BF09-DD77CDA788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0582-F885-4DEE-8FBF-059EABA0F2F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1836-4DB7-4101-8838-238602C26F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633D-B831-419A-977B-733206CE5F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0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0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2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707-E0EA-423E-A443-E4B3C25B76CC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增强班级凝聚力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536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坡头区一中高一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班主题班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"/>
          <p:cNvSpPr/>
          <p:nvPr/>
        </p:nvSpPr>
        <p:spPr>
          <a:xfrm>
            <a:off x="6732720" y="551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主持人：郑易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641" fill="hold"/>
                                        <p:tgtEl>
                                          <p:spTgt spid="1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755640" y="62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小游戏——解结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476360" y="162864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以组为单位，小组所有的同学手拉手围成一个  圈，然后转动，转动后把手放开，所有成员在组内游走，主持人喊停后就停止游走，站在原地，找回原来在你左手边和右手边的同学，以原来的牵手方式牵回手，全部同学牵好后就开始解结。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钟为限，超过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钟没解开的当作失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6836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玩法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1403280" y="981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四、班会总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2916360" y="134136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ahoma"/>
              </a:rPr>
              <a:t>结束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059280" y="4076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感谢你的参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4764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197080" y="363600"/>
            <a:ext cx="37893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班会流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、 介绍班会背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、 讲解班会目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、 展开具体内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四、 班长发言总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1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1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11280" y="54936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一、   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班会背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84360" y="155736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个班级，如果有了很强的凝聚力，那么它将会无往不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团结是最重要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试想，当一个班级的同学，如果各自干各自的，不能做到统一规划，那么后果将是完全失败。反之，如果一个班级的同学团结一心，努力奋斗，一切以班级利益为最终准则，那么这个班级将是成功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  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在新的学期里，加强同学之间的相互了解，提高所有班级成员的凝聚力，增强集体荣誉感，不仅能让同学们在运动会中取得好成绩，更能产生一种“共以五班为荣”的向心力。因此借本次的主题班会，增强班级的凝聚力，共同为班级荣誉奋斗，为自己而奋斗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 班会目的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2506320" y="1628640"/>
            <a:ext cx="61707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提高对“班级凝聚力的积极作用”     的认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增强“热爱班级”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增进学生彼此间的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提供学生展示自己的舞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/>
          <p:nvPr/>
        </p:nvSpPr>
        <p:spPr>
          <a:xfrm>
            <a:off x="324000" y="1052640"/>
            <a:ext cx="8496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班级就像一个大家庭，同学们如兄弟姐妹般互相关心着、帮助着，互相鼓舞着、照顾着，一起长大了，成熟了，便离开这个家庭，走向了社会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-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著名教育改革家魏书生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具体内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㈠班级凝聚力的积极作用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0" lang="zh-CN" sz="2300" spc="-1" strike="noStrike">
                <a:solidFill>
                  <a:srgbClr val="007a77"/>
                </a:solidFill>
                <a:latin typeface="Arial"/>
              </a:rPr>
              <a:t>众所周知，班级凝聚力对班级学习风气影响最为强烈，一个班级如果具有很强的凝聚力，在学习上就很容易形成奋发向上、互帮互学的良好氛围，对学生的学习起到很大的促进作用。</a:t>
            </a:r>
            <a:endParaRPr b="0" lang="en-US" sz="23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300" spc="-1" strike="noStrike">
                <a:solidFill>
                  <a:srgbClr val="007a77"/>
                </a:solidFill>
                <a:latin typeface="Arial"/>
              </a:rPr>
              <a:t>良好的班集体对于培养学生远大理想，爱国情感，增强自我教育和发展个性的心理品质是有极其重要意义。</a:t>
            </a:r>
            <a:endParaRPr b="0" lang="en-US" sz="23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300" spc="-1" strike="noStrike">
                <a:solidFill>
                  <a:srgbClr val="007a77"/>
                </a:solidFill>
                <a:latin typeface="Arial"/>
              </a:rPr>
              <a:t>它是一种吸引力、向心力、亲和力，更是一种推进班风建设的动力，它从多个侧面和层面展示着一个班级的生机。</a:t>
            </a:r>
            <a:endParaRPr b="0" lang="en-US" sz="23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300" spc="-1" strike="noStrike">
                <a:solidFill>
                  <a:srgbClr val="007a77"/>
                </a:solidFill>
                <a:latin typeface="Arial"/>
              </a:rPr>
              <a:t>一个班级，是不能没有凝聚力的。如果像一盘散沙，这个班级也就没有了它本身的意义。也就是说，班级需要凝聚力。同学们互相帮助，这是一种凝聚力的体现。</a:t>
            </a:r>
            <a:endParaRPr b="0" lang="en-US" sz="23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㈡互动活动：（体验团结力量大，增进彼此的了解）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说明：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一系列活动以组间竞赛的形式展开 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~2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号为第一组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2~4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号为第二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组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4~6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号为第三组。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611280" y="47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小活动——你对同学知多少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5640" y="1628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随机请第一组一位同学，然后每一组依次随机抽取另一名同学，看他对这名同学有多少的了解（名字、爱好、优点等），每答对一个同学增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（答不出，指定同学做自我介绍，该组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）。随机请第二组一位同学，重复上述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755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小活动——优点大轰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900000" y="1700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随机在同学中选几名同学，然后被选出来的同学把自己的同桌或其他同学的优点、曾经对自己的帮助等等的好说出来，进行优点大轰炸，并表达自己对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感谢之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4:25:33Z</dcterms:created>
  <dc:creator>番茄花园</dc:creator>
  <dc:description/>
  <dc:language>en-US</dc:language>
  <cp:lastModifiedBy>番茄花园</cp:lastModifiedBy>
  <dcterms:modified xsi:type="dcterms:W3CDTF">2011-03-18T15:46:10Z</dcterms:modified>
  <cp:revision>65</cp:revision>
  <dc:subject/>
  <dc:title>增强班级凝聚力</dc:title>
</cp:coreProperties>
</file>